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0.png" ContentType="image/png"/>
  <Override PartName="/ppt/media/image6.jpeg" ContentType="image/jpeg"/>
  <Override PartName="/ppt/media/image27.jpeg" ContentType="image/jpeg"/>
  <Override PartName="/ppt/media/image9.jpeg" ContentType="image/jpeg"/>
  <Override PartName="/ppt/media/image11.jpeg" ContentType="image/jpeg"/>
  <Override PartName="/ppt/media/image8.jpeg" ContentType="image/jpeg"/>
  <Override PartName="/ppt/media/image28.png" ContentType="image/png"/>
  <Override PartName="/ppt/media/image7.jpeg" ContentType="image/jpeg"/>
  <Override PartName="/ppt/media/image18.png" ContentType="image/png"/>
  <Override PartName="/ppt/media/image13.png" ContentType="image/png"/>
  <Override PartName="/ppt/media/image5.jpeg" ContentType="image/jpeg"/>
  <Override PartName="/ppt/media/image4.jpeg" ContentType="image/jpeg"/>
  <Override PartName="/ppt/media/image25.jpeg" ContentType="image/jpeg"/>
  <Override PartName="/ppt/media/image26.png" ContentType="image/png"/>
  <Override PartName="/ppt/media/image22.jpeg" ContentType="image/jpeg"/>
  <Override PartName="/ppt/media/image1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AB52-4221-4548-B6D2-81D1052A800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F88E-2FC5-4F30-AAE9-3D30F909DC8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7F75-A58E-4AED-850C-772D86C8AE9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2670-A24C-445E-9406-A7028159BF9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C13E-4ACF-4EDB-A3A5-391D1F747AD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496A-65DE-4A11-8134-4D657819962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A2210-AAC8-4DE4-8B69-FCE0F260401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EF20-EC62-4762-8DAF-61132986BDB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3290-CCDE-4631-8A5C-369A82B6971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C7C6-A6E3-4914-A251-ECA3A86B12E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71372-DD03-4BD6-9010-E22443EC9CB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6754-0A0B-4780-AA04-1F71D2C8833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2A92-B2D8-468B-A37F-E9468AB8F9B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7F62-4661-4B48-A100-FD3D7AF4C35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3B23-CEFE-4AD0-8F37-5005460B1C8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A54B-2C28-422C-A59E-FF428F1C3CA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FC241-C690-4BC5-9F58-434E25046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7081D-C73C-46EA-B518-48F860973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EA345-960E-4A35-AC4F-6C5CE0991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F96D6-1549-42A2-8FE6-16E5BE49E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AC6D2-E775-4C0A-A8A0-96405A214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4E8AF-E066-4F01-B4DA-8E3542A2B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7EA43-953E-4C42-9ACA-B4103B5D7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4B38F-0F25-4BFF-AA4E-AA697B1E8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8D455-C849-4DED-9050-E53D5038D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595DF-1ED5-403C-BBD9-E2FFDCB49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ED5DD-9BF9-4CD7-A2B6-175865CB4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B9845-A144-4B32-B6C8-71B35DA4A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702E-89E7-445F-829A-4980A08A90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168560" y="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5.8 VIRGINIA</a:t>
            </a:r>
            <a:br>
              <a:rPr sz="3500"/>
            </a:br>
            <a:r>
              <a:rPr b="1" lang="es-VE" sz="1500" spc="-1" strike="noStrike">
                <a:solidFill>
                  <a:srgbClr val="11488b"/>
                </a:solidFill>
                <a:latin typeface="Arial"/>
                <a:ea typeface="Arial"/>
              </a:rPr>
              <a:t>Martes, 23 de Agosto, 2011 a las 17:51:04 UTC </a:t>
            </a:r>
            <a:endParaRPr b="0" lang="en-US" sz="1500" spc="-1" strike="noStrike">
              <a:solidFill>
                <a:srgbClr val="000000"/>
              </a:solidFill>
              <a:latin typeface="Arial"/>
            </a:endParaRPr>
          </a:p>
        </p:txBody>
      </p:sp>
      <p:sp>
        <p:nvSpPr>
          <p:cNvPr id="51" name="TextBox 14"/>
          <p:cNvSpPr/>
          <p:nvPr/>
        </p:nvSpPr>
        <p:spPr>
          <a:xfrm>
            <a:off x="228600" y="2414520"/>
            <a:ext cx="36529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No hubo reportes de muertes, solamente reportes aislados de heridas menor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Tráfico aéreo y ferroviario fueron interrumpidos a lo largo del Atlántico Noreste y Atlántico Med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os plantas nucleares localizadas en Virginia fueron sacadas de línea después del terremoto.</a:t>
            </a:r>
            <a:endParaRPr b="0" lang="en-US" sz="1600" spc="-1" strike="noStrike">
              <a:solidFill>
                <a:srgbClr val="000000"/>
              </a:solidFill>
              <a:latin typeface="Arial"/>
            </a:endParaRPr>
          </a:p>
        </p:txBody>
      </p:sp>
      <p:pic>
        <p:nvPicPr>
          <p:cNvPr id="52" name="Picture 10" descr="regional.jpg"/>
          <p:cNvPicPr/>
          <p:nvPr/>
        </p:nvPicPr>
        <p:blipFill>
          <a:blip r:embed="rId2"/>
          <a:stretch/>
        </p:blipFill>
        <p:spPr>
          <a:xfrm>
            <a:off x="5486400" y="363600"/>
            <a:ext cx="3529080" cy="2079720"/>
          </a:xfrm>
          <a:prstGeom prst="rect">
            <a:avLst/>
          </a:prstGeom>
          <a:ln w="0">
            <a:noFill/>
          </a:ln>
        </p:spPr>
      </p:pic>
      <p:pic>
        <p:nvPicPr>
          <p:cNvPr id="53" name="Picture 14" descr="APsmall.jpg"/>
          <p:cNvPicPr/>
          <p:nvPr/>
        </p:nvPicPr>
        <p:blipFill>
          <a:blip r:embed="rId3"/>
          <a:stretch/>
        </p:blipFill>
        <p:spPr>
          <a:xfrm>
            <a:off x="4013280" y="2808360"/>
            <a:ext cx="4991040" cy="3919320"/>
          </a:xfrm>
          <a:prstGeom prst="rect">
            <a:avLst/>
          </a:prstGeom>
          <a:ln w="0">
            <a:noFill/>
          </a:ln>
        </p:spPr>
      </p:pic>
      <p:sp>
        <p:nvSpPr>
          <p:cNvPr id="54" name="TextBox 15"/>
          <p:cNvSpPr/>
          <p:nvPr/>
        </p:nvSpPr>
        <p:spPr>
          <a:xfrm>
            <a:off x="228600" y="5027760"/>
            <a:ext cx="373392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Una banda policial es vista en frente de la Catedral Nacional en Washington después que un pedazo de espiral de la parte izquierda se cayera durante los movimientos telúricos en el área de Washington. El terremoto de magnitud 5.8 centrado en Virginia forzó evacuaciones de todos los monumentos en el Centro Comercial Nacional en Washington agitando los nervios desde Georgia hasta Massachuset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a:t>
            </a:r>
            <a:r>
              <a:rPr b="0" i="1" lang="es-VE" sz="1200" spc="-1" strike="noStrike">
                <a:solidFill>
                  <a:srgbClr val="000000"/>
                </a:solidFill>
                <a:latin typeface="Arial"/>
              </a:rPr>
              <a:t>AP Photo/Pablo Martinez Monsivais</a:t>
            </a:r>
            <a:r>
              <a:rPr b="0" lang="es-VE" sz="1200" spc="-1" strike="noStrike">
                <a:solidFill>
                  <a:srgbClr val="000000"/>
                </a:solidFill>
                <a:latin typeface="Arial"/>
              </a:rPr>
              <a:t>)</a:t>
            </a:r>
            <a:endParaRPr b="0" lang="en-US" sz="1200" spc="-1" strike="noStrike">
              <a:solidFill>
                <a:srgbClr val="000000"/>
              </a:solidFill>
              <a:latin typeface="Arial"/>
            </a:endParaRPr>
          </a:p>
        </p:txBody>
      </p:sp>
      <p:sp>
        <p:nvSpPr>
          <p:cNvPr id="55" name="TextBox 9"/>
          <p:cNvSpPr/>
          <p:nvPr/>
        </p:nvSpPr>
        <p:spPr>
          <a:xfrm>
            <a:off x="228600" y="1190520"/>
            <a:ext cx="49528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Un terremoto en el centro de Virginia fue sentido a lo largo ancho de la Costa Este el Martes, causando ligeros daños y forzando a cientos de miles de personas a evacuar edificios en Nueva York, Washington y otras ciudades</a:t>
            </a:r>
            <a:endParaRPr b="0" lang="en-US" sz="1600" spc="-1" strike="noStrike">
              <a:solidFill>
                <a:srgbClr val="000000"/>
              </a:solidFill>
              <a:latin typeface="Arial"/>
            </a:endParaRPr>
          </a:p>
        </p:txBody>
      </p:sp>
      <p:sp>
        <p:nvSpPr>
          <p:cNvPr id="56" name="Rectangle 7"/>
          <p:cNvSpPr/>
          <p:nvPr/>
        </p:nvSpPr>
        <p:spPr>
          <a:xfrm>
            <a:off x="5257800" y="2427120"/>
            <a:ext cx="3809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9"/>
          <p:cNvSpPr/>
          <p:nvPr/>
        </p:nvSpPr>
        <p:spPr>
          <a:xfrm>
            <a:off x="3505320" y="6327720"/>
            <a:ext cx="56102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rPr>
              <a:t>Las flechas muestran el movimiento de la Placa de Norteamérica mientras se aleja (a una velocidad de 1.5 – 2 cm/año) desde la dorsal meso-oceánica del Atlántico..  </a:t>
            </a:r>
            <a:endParaRPr b="0" lang="en-US" sz="1100" spc="-1" strike="noStrike">
              <a:solidFill>
                <a:srgbClr val="000000"/>
              </a:solidFill>
              <a:latin typeface="Arial"/>
            </a:endParaRPr>
          </a:p>
        </p:txBody>
      </p:sp>
      <p:pic>
        <p:nvPicPr>
          <p:cNvPr id="128" name="Picture 18" descr="IRIS_TMlogo.png"/>
          <p:cNvPicPr/>
          <p:nvPr/>
        </p:nvPicPr>
        <p:blipFill>
          <a:blip r:embed="rId1"/>
          <a:stretch/>
        </p:blipFill>
        <p:spPr>
          <a:xfrm>
            <a:off x="239760" y="76320"/>
            <a:ext cx="903240" cy="927000"/>
          </a:xfrm>
          <a:prstGeom prst="rect">
            <a:avLst/>
          </a:prstGeom>
          <a:ln w="0">
            <a:noFill/>
          </a:ln>
        </p:spPr>
      </p:pic>
      <p:grpSp>
        <p:nvGrpSpPr>
          <p:cNvPr id="129" name="Group 9"/>
          <p:cNvGrpSpPr/>
          <p:nvPr/>
        </p:nvGrpSpPr>
        <p:grpSpPr>
          <a:xfrm>
            <a:off x="3581280" y="1295280"/>
            <a:ext cx="5662440" cy="4992840"/>
            <a:chOff x="3581280" y="1295280"/>
            <a:chExt cx="5662440" cy="4992840"/>
          </a:xfrm>
        </p:grpSpPr>
        <p:pic>
          <p:nvPicPr>
            <p:cNvPr id="130" name="Picture 10" descr="JV1.tiff"/>
            <p:cNvPicPr/>
            <p:nvPr/>
          </p:nvPicPr>
          <p:blipFill>
            <a:blip r:embed="rId2"/>
            <a:stretch/>
          </p:blipFill>
          <p:spPr>
            <a:xfrm>
              <a:off x="3581280" y="1600200"/>
              <a:ext cx="5365800" cy="4687920"/>
            </a:xfrm>
            <a:prstGeom prst="rect">
              <a:avLst/>
            </a:prstGeom>
            <a:ln w="0">
              <a:noFill/>
            </a:ln>
          </p:spPr>
        </p:pic>
        <p:sp>
          <p:nvSpPr>
            <p:cNvPr id="131" name="Right Arrow 11"/>
            <p:cNvSpPr/>
            <p:nvPr/>
          </p:nvSpPr>
          <p:spPr>
            <a:xfrm rot="13450800">
              <a:off x="6559200" y="592488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ight Arrow 12"/>
            <p:cNvSpPr/>
            <p:nvPr/>
          </p:nvSpPr>
          <p:spPr>
            <a:xfrm rot="13450800">
              <a:off x="6032520" y="5883120"/>
              <a:ext cx="250560" cy="136440"/>
            </a:xfrm>
            <a:prstGeom prst="rightArrow">
              <a:avLst>
                <a:gd name="adj1" fmla="val 50000"/>
                <a:gd name="adj2" fmla="val 4648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ight Arrow 13"/>
            <p:cNvSpPr/>
            <p:nvPr/>
          </p:nvSpPr>
          <p:spPr>
            <a:xfrm rot="13450800">
              <a:off x="5508360" y="582444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ight Arrow 14"/>
            <p:cNvSpPr/>
            <p:nvPr/>
          </p:nvSpPr>
          <p:spPr>
            <a:xfrm rot="13450800">
              <a:off x="4981320" y="576576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ight Arrow 15"/>
            <p:cNvSpPr/>
            <p:nvPr/>
          </p:nvSpPr>
          <p:spPr>
            <a:xfrm rot="13450800">
              <a:off x="7110000" y="590256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ight Arrow 16"/>
            <p:cNvSpPr/>
            <p:nvPr/>
          </p:nvSpPr>
          <p:spPr>
            <a:xfrm rot="13450800">
              <a:off x="7625880" y="522468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ight Arrow 17"/>
            <p:cNvSpPr/>
            <p:nvPr/>
          </p:nvSpPr>
          <p:spPr>
            <a:xfrm rot="13450800">
              <a:off x="7073640" y="522468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ight Arrow 19"/>
            <p:cNvSpPr/>
            <p:nvPr/>
          </p:nvSpPr>
          <p:spPr>
            <a:xfrm rot="13450800">
              <a:off x="6559200" y="522468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ight Arrow 20"/>
            <p:cNvSpPr/>
            <p:nvPr/>
          </p:nvSpPr>
          <p:spPr>
            <a:xfrm rot="13450800">
              <a:off x="6080040" y="519552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ight Arrow 21"/>
            <p:cNvSpPr/>
            <p:nvPr/>
          </p:nvSpPr>
          <p:spPr>
            <a:xfrm rot="13450800">
              <a:off x="5590800" y="518508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ight Arrow 22"/>
            <p:cNvSpPr/>
            <p:nvPr/>
          </p:nvSpPr>
          <p:spPr>
            <a:xfrm rot="13450800">
              <a:off x="5104800" y="510084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ight Arrow 23"/>
            <p:cNvSpPr/>
            <p:nvPr/>
          </p:nvSpPr>
          <p:spPr>
            <a:xfrm rot="13450800">
              <a:off x="4439880" y="557676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ight Arrow 24"/>
            <p:cNvSpPr/>
            <p:nvPr/>
          </p:nvSpPr>
          <p:spPr>
            <a:xfrm rot="13450800">
              <a:off x="3899880" y="539460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ight Arrow 25"/>
            <p:cNvSpPr/>
            <p:nvPr/>
          </p:nvSpPr>
          <p:spPr>
            <a:xfrm rot="13450800">
              <a:off x="4546080" y="491184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ight Arrow 26"/>
            <p:cNvSpPr/>
            <p:nvPr/>
          </p:nvSpPr>
          <p:spPr>
            <a:xfrm rot="13450800">
              <a:off x="4034880" y="472284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ight Arrow 27"/>
            <p:cNvSpPr/>
            <p:nvPr/>
          </p:nvSpPr>
          <p:spPr>
            <a:xfrm rot="13450800">
              <a:off x="8075520" y="4533480"/>
              <a:ext cx="247320" cy="134640"/>
            </a:xfrm>
            <a:prstGeom prst="rightArrow">
              <a:avLst>
                <a:gd name="adj1" fmla="val 50000"/>
                <a:gd name="adj2" fmla="val 46535"/>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ight Arrow 28"/>
            <p:cNvSpPr/>
            <p:nvPr/>
          </p:nvSpPr>
          <p:spPr>
            <a:xfrm rot="13450800">
              <a:off x="7575480" y="456228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ight Arrow 29"/>
            <p:cNvSpPr/>
            <p:nvPr/>
          </p:nvSpPr>
          <p:spPr>
            <a:xfrm rot="13450800">
              <a:off x="7110000" y="457992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ight Arrow 30"/>
            <p:cNvSpPr/>
            <p:nvPr/>
          </p:nvSpPr>
          <p:spPr>
            <a:xfrm rot="13450800">
              <a:off x="6641640" y="460872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ight Arrow 31"/>
            <p:cNvSpPr/>
            <p:nvPr/>
          </p:nvSpPr>
          <p:spPr>
            <a:xfrm rot="13450800">
              <a:off x="6168960" y="457020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Arrow 32"/>
            <p:cNvSpPr/>
            <p:nvPr/>
          </p:nvSpPr>
          <p:spPr>
            <a:xfrm rot="13450800">
              <a:off x="5716080" y="4533480"/>
              <a:ext cx="247320" cy="134640"/>
            </a:xfrm>
            <a:prstGeom prst="rightArrow">
              <a:avLst>
                <a:gd name="adj1" fmla="val 50000"/>
                <a:gd name="adj2" fmla="val 46535"/>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ight Arrow 33"/>
            <p:cNvSpPr/>
            <p:nvPr/>
          </p:nvSpPr>
          <p:spPr>
            <a:xfrm rot="13450800">
              <a:off x="5217840" y="442872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ight Arrow 34"/>
            <p:cNvSpPr/>
            <p:nvPr/>
          </p:nvSpPr>
          <p:spPr>
            <a:xfrm rot="13450800">
              <a:off x="4749480" y="428436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ight Arrow 35"/>
            <p:cNvSpPr/>
            <p:nvPr/>
          </p:nvSpPr>
          <p:spPr>
            <a:xfrm rot="13450800">
              <a:off x="4331520" y="4152600"/>
              <a:ext cx="247320" cy="134640"/>
            </a:xfrm>
            <a:prstGeom prst="rightArrow">
              <a:avLst>
                <a:gd name="adj1" fmla="val 50000"/>
                <a:gd name="adj2" fmla="val 46535"/>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ight Arrow 36"/>
            <p:cNvSpPr/>
            <p:nvPr/>
          </p:nvSpPr>
          <p:spPr>
            <a:xfrm rot="13450800">
              <a:off x="3857400" y="396360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ight Arrow 37"/>
            <p:cNvSpPr/>
            <p:nvPr/>
          </p:nvSpPr>
          <p:spPr>
            <a:xfrm rot="13450800">
              <a:off x="3649320" y="459720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ight Arrow 38"/>
            <p:cNvSpPr/>
            <p:nvPr/>
          </p:nvSpPr>
          <p:spPr>
            <a:xfrm rot="13450800">
              <a:off x="3722400" y="601488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ight Arrow 39"/>
            <p:cNvSpPr/>
            <p:nvPr/>
          </p:nvSpPr>
          <p:spPr>
            <a:xfrm rot="13450800">
              <a:off x="8502840" y="439092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ight Arrow 40"/>
            <p:cNvSpPr/>
            <p:nvPr/>
          </p:nvSpPr>
          <p:spPr>
            <a:xfrm rot="13450800">
              <a:off x="8411760" y="379260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ight Arrow 41"/>
            <p:cNvSpPr/>
            <p:nvPr/>
          </p:nvSpPr>
          <p:spPr>
            <a:xfrm rot="13450800">
              <a:off x="7966080" y="387000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ight Arrow 42"/>
            <p:cNvSpPr/>
            <p:nvPr/>
          </p:nvSpPr>
          <p:spPr>
            <a:xfrm rot="13450800">
              <a:off x="7547040" y="391932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ight Arrow 43"/>
            <p:cNvSpPr/>
            <p:nvPr/>
          </p:nvSpPr>
          <p:spPr>
            <a:xfrm rot="13450800">
              <a:off x="7076880" y="391968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ight Arrow 44"/>
            <p:cNvSpPr/>
            <p:nvPr/>
          </p:nvSpPr>
          <p:spPr>
            <a:xfrm rot="13450800">
              <a:off x="6641640" y="394488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ight Arrow 45"/>
            <p:cNvSpPr/>
            <p:nvPr/>
          </p:nvSpPr>
          <p:spPr>
            <a:xfrm rot="13450800">
              <a:off x="6225840" y="389736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ight Arrow 46"/>
            <p:cNvSpPr/>
            <p:nvPr/>
          </p:nvSpPr>
          <p:spPr>
            <a:xfrm rot="13450800">
              <a:off x="5768640" y="382428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ight Arrow 47"/>
            <p:cNvSpPr/>
            <p:nvPr/>
          </p:nvSpPr>
          <p:spPr>
            <a:xfrm rot="13450800">
              <a:off x="5383080" y="375588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ight Arrow 48"/>
            <p:cNvSpPr/>
            <p:nvPr/>
          </p:nvSpPr>
          <p:spPr>
            <a:xfrm rot="13450800">
              <a:off x="4950720" y="364968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ight Arrow 49"/>
            <p:cNvSpPr/>
            <p:nvPr/>
          </p:nvSpPr>
          <p:spPr>
            <a:xfrm rot="13450800">
              <a:off x="4511520" y="3506400"/>
              <a:ext cx="250560" cy="136440"/>
            </a:xfrm>
            <a:prstGeom prst="rightArrow">
              <a:avLst>
                <a:gd name="adj1" fmla="val 50000"/>
                <a:gd name="adj2" fmla="val 4648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ight Arrow 50"/>
            <p:cNvSpPr/>
            <p:nvPr/>
          </p:nvSpPr>
          <p:spPr>
            <a:xfrm rot="13450800">
              <a:off x="4122360" y="333324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ight Arrow 51"/>
            <p:cNvSpPr/>
            <p:nvPr/>
          </p:nvSpPr>
          <p:spPr>
            <a:xfrm rot="13450800">
              <a:off x="3722040" y="312408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ight Arrow 52"/>
            <p:cNvSpPr/>
            <p:nvPr/>
          </p:nvSpPr>
          <p:spPr>
            <a:xfrm rot="13086000">
              <a:off x="8289720" y="316080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ight Arrow 53"/>
            <p:cNvSpPr/>
            <p:nvPr/>
          </p:nvSpPr>
          <p:spPr>
            <a:xfrm rot="13450800">
              <a:off x="7875360" y="320508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ight Arrow 54"/>
            <p:cNvSpPr/>
            <p:nvPr/>
          </p:nvSpPr>
          <p:spPr>
            <a:xfrm rot="13450800">
              <a:off x="7466040" y="324756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ight Arrow 55"/>
            <p:cNvSpPr/>
            <p:nvPr/>
          </p:nvSpPr>
          <p:spPr>
            <a:xfrm rot="13450800">
              <a:off x="7077240" y="325728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ight Arrow 56"/>
            <p:cNvSpPr/>
            <p:nvPr/>
          </p:nvSpPr>
          <p:spPr>
            <a:xfrm rot="13450800">
              <a:off x="6686640" y="326664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ight Arrow 57"/>
            <p:cNvSpPr/>
            <p:nvPr/>
          </p:nvSpPr>
          <p:spPr>
            <a:xfrm rot="13450800">
              <a:off x="6288120" y="324756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ight Arrow 58"/>
            <p:cNvSpPr/>
            <p:nvPr/>
          </p:nvSpPr>
          <p:spPr>
            <a:xfrm rot="13450800">
              <a:off x="5883120" y="319680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ight Arrow 59"/>
            <p:cNvSpPr/>
            <p:nvPr/>
          </p:nvSpPr>
          <p:spPr>
            <a:xfrm rot="13450800">
              <a:off x="5509800" y="312408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ight Arrow 60"/>
            <p:cNvSpPr/>
            <p:nvPr/>
          </p:nvSpPr>
          <p:spPr>
            <a:xfrm rot="13450800">
              <a:off x="5128560" y="301608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ight Arrow 61"/>
            <p:cNvSpPr/>
            <p:nvPr/>
          </p:nvSpPr>
          <p:spPr>
            <a:xfrm rot="13450800">
              <a:off x="4747680" y="287496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ight Arrow 62"/>
            <p:cNvSpPr/>
            <p:nvPr/>
          </p:nvSpPr>
          <p:spPr>
            <a:xfrm rot="13087200">
              <a:off x="4357440" y="268596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ight Arrow 63"/>
            <p:cNvSpPr/>
            <p:nvPr/>
          </p:nvSpPr>
          <p:spPr>
            <a:xfrm rot="13078800">
              <a:off x="3996720" y="248904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ight Arrow 64"/>
            <p:cNvSpPr/>
            <p:nvPr/>
          </p:nvSpPr>
          <p:spPr>
            <a:xfrm rot="12843600">
              <a:off x="3687480" y="231444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ight Arrow 65"/>
            <p:cNvSpPr/>
            <p:nvPr/>
          </p:nvSpPr>
          <p:spPr>
            <a:xfrm rot="13086000">
              <a:off x="7437240" y="254952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ight Arrow 66"/>
            <p:cNvSpPr/>
            <p:nvPr/>
          </p:nvSpPr>
          <p:spPr>
            <a:xfrm rot="13086000">
              <a:off x="7073640" y="260460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ight Arrow 67"/>
            <p:cNvSpPr/>
            <p:nvPr/>
          </p:nvSpPr>
          <p:spPr>
            <a:xfrm rot="13086000">
              <a:off x="6725880" y="260460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ight Arrow 68"/>
            <p:cNvSpPr/>
            <p:nvPr/>
          </p:nvSpPr>
          <p:spPr>
            <a:xfrm rot="13086000">
              <a:off x="6373800" y="258264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ight Arrow 69"/>
            <p:cNvSpPr/>
            <p:nvPr/>
          </p:nvSpPr>
          <p:spPr>
            <a:xfrm rot="13086000">
              <a:off x="6024600" y="252576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ight Arrow 70"/>
            <p:cNvSpPr/>
            <p:nvPr/>
          </p:nvSpPr>
          <p:spPr>
            <a:xfrm rot="13086000">
              <a:off x="5684400" y="2460240"/>
              <a:ext cx="247320" cy="134640"/>
            </a:xfrm>
            <a:prstGeom prst="rightArrow">
              <a:avLst>
                <a:gd name="adj1" fmla="val 50000"/>
                <a:gd name="adj2" fmla="val 46535"/>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ight Arrow 71"/>
            <p:cNvSpPr/>
            <p:nvPr/>
          </p:nvSpPr>
          <p:spPr>
            <a:xfrm rot="13086000">
              <a:off x="5331960" y="236988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ight Arrow 72"/>
            <p:cNvSpPr/>
            <p:nvPr/>
          </p:nvSpPr>
          <p:spPr>
            <a:xfrm rot="13086000">
              <a:off x="4980960" y="224136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ight Arrow 73"/>
            <p:cNvSpPr/>
            <p:nvPr/>
          </p:nvSpPr>
          <p:spPr>
            <a:xfrm rot="13086000">
              <a:off x="4630680" y="2086920"/>
              <a:ext cx="250560" cy="136440"/>
            </a:xfrm>
            <a:prstGeom prst="rightArrow">
              <a:avLst>
                <a:gd name="adj1" fmla="val 50000"/>
                <a:gd name="adj2" fmla="val 4648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ight Arrow 74"/>
            <p:cNvSpPr/>
            <p:nvPr/>
          </p:nvSpPr>
          <p:spPr>
            <a:xfrm rot="13086000">
              <a:off x="4333680" y="190764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ight Arrow 75"/>
            <p:cNvSpPr/>
            <p:nvPr/>
          </p:nvSpPr>
          <p:spPr>
            <a:xfrm rot="13086000">
              <a:off x="7696440" y="1869120"/>
              <a:ext cx="250560" cy="136440"/>
            </a:xfrm>
            <a:prstGeom prst="rightArrow">
              <a:avLst>
                <a:gd name="adj1" fmla="val 50000"/>
                <a:gd name="adj2" fmla="val 4648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ight Arrow 76"/>
            <p:cNvSpPr/>
            <p:nvPr/>
          </p:nvSpPr>
          <p:spPr>
            <a:xfrm rot="13086000">
              <a:off x="7950240" y="177264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ight Arrow 77"/>
            <p:cNvSpPr/>
            <p:nvPr/>
          </p:nvSpPr>
          <p:spPr>
            <a:xfrm rot="13086000">
              <a:off x="7411680" y="1915560"/>
              <a:ext cx="247320" cy="134640"/>
            </a:xfrm>
            <a:prstGeom prst="rightArrow">
              <a:avLst>
                <a:gd name="adj1" fmla="val 50000"/>
                <a:gd name="adj2" fmla="val 46535"/>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ight Arrow 78"/>
            <p:cNvSpPr/>
            <p:nvPr/>
          </p:nvSpPr>
          <p:spPr>
            <a:xfrm rot="13086000">
              <a:off x="7074000" y="192888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ight Arrow 79"/>
            <p:cNvSpPr/>
            <p:nvPr/>
          </p:nvSpPr>
          <p:spPr>
            <a:xfrm rot="13086000">
              <a:off x="6732720" y="191592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ight Arrow 80"/>
            <p:cNvSpPr/>
            <p:nvPr/>
          </p:nvSpPr>
          <p:spPr>
            <a:xfrm rot="13086000">
              <a:off x="6428880" y="1874520"/>
              <a:ext cx="247320" cy="134640"/>
            </a:xfrm>
            <a:prstGeom prst="rightArrow">
              <a:avLst>
                <a:gd name="adj1" fmla="val 50000"/>
                <a:gd name="adj2" fmla="val 46535"/>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ight Arrow 81"/>
            <p:cNvSpPr/>
            <p:nvPr/>
          </p:nvSpPr>
          <p:spPr>
            <a:xfrm rot="13086000">
              <a:off x="6113520" y="185220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ight Arrow 82"/>
            <p:cNvSpPr/>
            <p:nvPr/>
          </p:nvSpPr>
          <p:spPr>
            <a:xfrm rot="13086000">
              <a:off x="5798520" y="178056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ight Arrow 83"/>
            <p:cNvSpPr/>
            <p:nvPr/>
          </p:nvSpPr>
          <p:spPr>
            <a:xfrm rot="17865000">
              <a:off x="8694720" y="3046320"/>
              <a:ext cx="266400" cy="123480"/>
            </a:xfrm>
            <a:prstGeom prst="rightArrow">
              <a:avLst>
                <a:gd name="adj1" fmla="val 50000"/>
                <a:gd name="adj2" fmla="val 5385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ight Arrow 84"/>
            <p:cNvSpPr/>
            <p:nvPr/>
          </p:nvSpPr>
          <p:spPr>
            <a:xfrm rot="17865000">
              <a:off x="8170920" y="2480400"/>
              <a:ext cx="269640" cy="123480"/>
            </a:xfrm>
            <a:prstGeom prst="rightArrow">
              <a:avLst>
                <a:gd name="adj1" fmla="val 50000"/>
                <a:gd name="adj2" fmla="val 53874"/>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ight Arrow 85"/>
            <p:cNvSpPr/>
            <p:nvPr/>
          </p:nvSpPr>
          <p:spPr>
            <a:xfrm rot="17865000">
              <a:off x="8542440" y="2356920"/>
              <a:ext cx="268200" cy="125280"/>
            </a:xfrm>
            <a:prstGeom prst="rightArrow">
              <a:avLst>
                <a:gd name="adj1" fmla="val 50000"/>
                <a:gd name="adj2" fmla="val 53807"/>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ight Arrow 86"/>
            <p:cNvSpPr/>
            <p:nvPr/>
          </p:nvSpPr>
          <p:spPr>
            <a:xfrm rot="17865000">
              <a:off x="8322480" y="1714680"/>
              <a:ext cx="269640" cy="125280"/>
            </a:xfrm>
            <a:prstGeom prst="rightArrow">
              <a:avLst>
                <a:gd name="adj1" fmla="val 50000"/>
                <a:gd name="adj2" fmla="val 53777"/>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ight Arrow 87"/>
            <p:cNvSpPr/>
            <p:nvPr/>
          </p:nvSpPr>
          <p:spPr>
            <a:xfrm rot="17865000">
              <a:off x="8557200" y="1695600"/>
              <a:ext cx="268200" cy="126720"/>
            </a:xfrm>
            <a:prstGeom prst="rightArrow">
              <a:avLst>
                <a:gd name="adj1" fmla="val 50000"/>
                <a:gd name="adj2" fmla="val 53872"/>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ight Arrow 88"/>
            <p:cNvSpPr/>
            <p:nvPr/>
          </p:nvSpPr>
          <p:spPr>
            <a:xfrm rot="13086000">
              <a:off x="5505120" y="168552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ight Arrow 89"/>
            <p:cNvSpPr/>
            <p:nvPr/>
          </p:nvSpPr>
          <p:spPr>
            <a:xfrm rot="13086000">
              <a:off x="5195520" y="161136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90"/>
            <p:cNvSpPr/>
            <p:nvPr/>
          </p:nvSpPr>
          <p:spPr>
            <a:xfrm>
              <a:off x="7432560" y="1603440"/>
              <a:ext cx="1332000" cy="4651560"/>
            </a:xfrm>
            <a:custGeom>
              <a:avLst/>
              <a:gdLst>
                <a:gd name="textAreaLeft" fmla="*/ 0 w 1332000"/>
                <a:gd name="textAreaRight" fmla="*/ 1332360 w 1332000"/>
                <a:gd name="textAreaTop" fmla="*/ 0 h 4651560"/>
                <a:gd name="textAreaBottom" fmla="*/ 4651920 h 4651560"/>
              </a:gdLst>
              <a:ahLst/>
              <a:rect l="textAreaLeft" t="textAreaTop" r="textAreaRight" b="textAreaBottom"/>
              <a:pathLst>
                <a:path w="1461944" h="4750921">
                  <a:moveTo>
                    <a:pt x="977675" y="0"/>
                  </a:moveTo>
                  <a:cubicBezTo>
                    <a:pt x="975710" y="9824"/>
                    <a:pt x="967830" y="59045"/>
                    <a:pt x="959401" y="73091"/>
                  </a:cubicBezTo>
                  <a:cubicBezTo>
                    <a:pt x="954969" y="80478"/>
                    <a:pt x="946508" y="84637"/>
                    <a:pt x="941126" y="91364"/>
                  </a:cubicBezTo>
                  <a:cubicBezTo>
                    <a:pt x="934266" y="99938"/>
                    <a:pt x="928943" y="109637"/>
                    <a:pt x="922852" y="118773"/>
                  </a:cubicBezTo>
                  <a:cubicBezTo>
                    <a:pt x="919806" y="130955"/>
                    <a:pt x="917323" y="143291"/>
                    <a:pt x="913715" y="155318"/>
                  </a:cubicBezTo>
                  <a:cubicBezTo>
                    <a:pt x="908180" y="173767"/>
                    <a:pt x="901532" y="191864"/>
                    <a:pt x="895441" y="210137"/>
                  </a:cubicBezTo>
                  <a:lnTo>
                    <a:pt x="886304" y="237546"/>
                  </a:lnTo>
                  <a:lnTo>
                    <a:pt x="877166" y="264955"/>
                  </a:lnTo>
                  <a:cubicBezTo>
                    <a:pt x="874120" y="274091"/>
                    <a:pt x="873371" y="284351"/>
                    <a:pt x="868029" y="292364"/>
                  </a:cubicBezTo>
                  <a:cubicBezTo>
                    <a:pt x="855846" y="310637"/>
                    <a:pt x="838427" y="326348"/>
                    <a:pt x="831481" y="347182"/>
                  </a:cubicBezTo>
                  <a:lnTo>
                    <a:pt x="804069" y="429410"/>
                  </a:lnTo>
                  <a:cubicBezTo>
                    <a:pt x="801023" y="438546"/>
                    <a:pt x="802945" y="451477"/>
                    <a:pt x="794932" y="456819"/>
                  </a:cubicBezTo>
                  <a:cubicBezTo>
                    <a:pt x="760353" y="479870"/>
                    <a:pt x="775286" y="467328"/>
                    <a:pt x="749246" y="493365"/>
                  </a:cubicBezTo>
                  <a:lnTo>
                    <a:pt x="730972" y="548183"/>
                  </a:lnTo>
                  <a:cubicBezTo>
                    <a:pt x="727926" y="557319"/>
                    <a:pt x="727177" y="567579"/>
                    <a:pt x="721835" y="575592"/>
                  </a:cubicBezTo>
                  <a:cubicBezTo>
                    <a:pt x="715744" y="584728"/>
                    <a:pt x="708472" y="593180"/>
                    <a:pt x="703561" y="603001"/>
                  </a:cubicBezTo>
                  <a:cubicBezTo>
                    <a:pt x="665731" y="678653"/>
                    <a:pt x="728520" y="579268"/>
                    <a:pt x="676149" y="657819"/>
                  </a:cubicBezTo>
                  <a:cubicBezTo>
                    <a:pt x="654402" y="723056"/>
                    <a:pt x="673902" y="701954"/>
                    <a:pt x="630463" y="730911"/>
                  </a:cubicBezTo>
                  <a:cubicBezTo>
                    <a:pt x="614136" y="779890"/>
                    <a:pt x="626890" y="737851"/>
                    <a:pt x="612189" y="804002"/>
                  </a:cubicBezTo>
                  <a:cubicBezTo>
                    <a:pt x="609465" y="816260"/>
                    <a:pt x="606660" y="828520"/>
                    <a:pt x="603052" y="840547"/>
                  </a:cubicBezTo>
                  <a:cubicBezTo>
                    <a:pt x="597517" y="858996"/>
                    <a:pt x="589450" y="876680"/>
                    <a:pt x="584778" y="895366"/>
                  </a:cubicBezTo>
                  <a:cubicBezTo>
                    <a:pt x="572337" y="945124"/>
                    <a:pt x="581257" y="920680"/>
                    <a:pt x="557366" y="968457"/>
                  </a:cubicBezTo>
                  <a:cubicBezTo>
                    <a:pt x="554320" y="983684"/>
                    <a:pt x="548229" y="998610"/>
                    <a:pt x="548229" y="1014139"/>
                  </a:cubicBezTo>
                  <a:cubicBezTo>
                    <a:pt x="548229" y="1076871"/>
                    <a:pt x="549945" y="1123405"/>
                    <a:pt x="566503" y="1178593"/>
                  </a:cubicBezTo>
                  <a:cubicBezTo>
                    <a:pt x="572038" y="1197042"/>
                    <a:pt x="568751" y="1222728"/>
                    <a:pt x="584778" y="1233412"/>
                  </a:cubicBezTo>
                  <a:lnTo>
                    <a:pt x="612189" y="1251685"/>
                  </a:lnTo>
                  <a:cubicBezTo>
                    <a:pt x="615235" y="1260821"/>
                    <a:pt x="618990" y="1269751"/>
                    <a:pt x="621326" y="1279094"/>
                  </a:cubicBezTo>
                  <a:cubicBezTo>
                    <a:pt x="625093" y="1294159"/>
                    <a:pt x="624345" y="1310503"/>
                    <a:pt x="630463" y="1324776"/>
                  </a:cubicBezTo>
                  <a:cubicBezTo>
                    <a:pt x="633857" y="1332694"/>
                    <a:pt x="640167" y="1342191"/>
                    <a:pt x="648738" y="1343048"/>
                  </a:cubicBezTo>
                  <a:cubicBezTo>
                    <a:pt x="733649" y="1351538"/>
                    <a:pt x="819298" y="1349139"/>
                    <a:pt x="904578" y="1352185"/>
                  </a:cubicBezTo>
                  <a:cubicBezTo>
                    <a:pt x="914083" y="1353543"/>
                    <a:pt x="997775" y="1364290"/>
                    <a:pt x="1014224" y="1370458"/>
                  </a:cubicBezTo>
                  <a:cubicBezTo>
                    <a:pt x="1024506" y="1374313"/>
                    <a:pt x="1032498" y="1382639"/>
                    <a:pt x="1041635" y="1388730"/>
                  </a:cubicBezTo>
                  <a:cubicBezTo>
                    <a:pt x="1044681" y="1397867"/>
                    <a:pt x="1048126" y="1406880"/>
                    <a:pt x="1050772" y="1416140"/>
                  </a:cubicBezTo>
                  <a:cubicBezTo>
                    <a:pt x="1054222" y="1428213"/>
                    <a:pt x="1054293" y="1441454"/>
                    <a:pt x="1059909" y="1452685"/>
                  </a:cubicBezTo>
                  <a:cubicBezTo>
                    <a:pt x="1063762" y="1460390"/>
                    <a:pt x="1072092" y="1464867"/>
                    <a:pt x="1078184" y="1470958"/>
                  </a:cubicBezTo>
                  <a:cubicBezTo>
                    <a:pt x="1101049" y="1562412"/>
                    <a:pt x="1066671" y="1468582"/>
                    <a:pt x="1114732" y="1516640"/>
                  </a:cubicBezTo>
                  <a:cubicBezTo>
                    <a:pt x="1130262" y="1532169"/>
                    <a:pt x="1139098" y="1553185"/>
                    <a:pt x="1151281" y="1571458"/>
                  </a:cubicBezTo>
                  <a:cubicBezTo>
                    <a:pt x="1157372" y="1580594"/>
                    <a:pt x="1160418" y="1592776"/>
                    <a:pt x="1169555" y="1598867"/>
                  </a:cubicBezTo>
                  <a:lnTo>
                    <a:pt x="1196967" y="1617140"/>
                  </a:lnTo>
                  <a:cubicBezTo>
                    <a:pt x="1203058" y="1626276"/>
                    <a:pt x="1206977" y="1637318"/>
                    <a:pt x="1215241" y="1644549"/>
                  </a:cubicBezTo>
                  <a:cubicBezTo>
                    <a:pt x="1231770" y="1659011"/>
                    <a:pt x="1270064" y="1681095"/>
                    <a:pt x="1270064" y="1681095"/>
                  </a:cubicBezTo>
                  <a:cubicBezTo>
                    <a:pt x="1311391" y="1743080"/>
                    <a:pt x="1291082" y="1720385"/>
                    <a:pt x="1324887" y="1754186"/>
                  </a:cubicBezTo>
                  <a:cubicBezTo>
                    <a:pt x="1330978" y="1766368"/>
                    <a:pt x="1334441" y="1780268"/>
                    <a:pt x="1343161" y="1790731"/>
                  </a:cubicBezTo>
                  <a:cubicBezTo>
                    <a:pt x="1350191" y="1799167"/>
                    <a:pt x="1363712" y="1800429"/>
                    <a:pt x="1370572" y="1809004"/>
                  </a:cubicBezTo>
                  <a:cubicBezTo>
                    <a:pt x="1376589" y="1816524"/>
                    <a:pt x="1375403" y="1827799"/>
                    <a:pt x="1379710" y="1836413"/>
                  </a:cubicBezTo>
                  <a:cubicBezTo>
                    <a:pt x="1384621" y="1846234"/>
                    <a:pt x="1391893" y="1854686"/>
                    <a:pt x="1397984" y="1863822"/>
                  </a:cubicBezTo>
                  <a:cubicBezTo>
                    <a:pt x="1404075" y="1882095"/>
                    <a:pt x="1407643" y="1901413"/>
                    <a:pt x="1416258" y="1918641"/>
                  </a:cubicBezTo>
                  <a:cubicBezTo>
                    <a:pt x="1422349" y="1930823"/>
                    <a:pt x="1429473" y="1942541"/>
                    <a:pt x="1434532" y="1955186"/>
                  </a:cubicBezTo>
                  <a:cubicBezTo>
                    <a:pt x="1441686" y="1973070"/>
                    <a:pt x="1446715" y="1991732"/>
                    <a:pt x="1452807" y="2010005"/>
                  </a:cubicBezTo>
                  <a:lnTo>
                    <a:pt x="1461944" y="2037414"/>
                  </a:lnTo>
                  <a:cubicBezTo>
                    <a:pt x="1435427" y="2408623"/>
                    <a:pt x="1469026" y="1945373"/>
                    <a:pt x="1443670" y="2274960"/>
                  </a:cubicBezTo>
                  <a:cubicBezTo>
                    <a:pt x="1438758" y="2338814"/>
                    <a:pt x="1433190" y="2437113"/>
                    <a:pt x="1425395" y="2503370"/>
                  </a:cubicBezTo>
                  <a:cubicBezTo>
                    <a:pt x="1423230" y="2521768"/>
                    <a:pt x="1418556" y="2539806"/>
                    <a:pt x="1416258" y="2558188"/>
                  </a:cubicBezTo>
                  <a:cubicBezTo>
                    <a:pt x="1412461" y="2588558"/>
                    <a:pt x="1410167" y="2619097"/>
                    <a:pt x="1407121" y="2649552"/>
                  </a:cubicBezTo>
                  <a:cubicBezTo>
                    <a:pt x="1410167" y="2734825"/>
                    <a:pt x="1416258" y="2820044"/>
                    <a:pt x="1416258" y="2905371"/>
                  </a:cubicBezTo>
                  <a:cubicBezTo>
                    <a:pt x="1416258" y="2960274"/>
                    <a:pt x="1411177" y="3015072"/>
                    <a:pt x="1407121" y="3069825"/>
                  </a:cubicBezTo>
                  <a:cubicBezTo>
                    <a:pt x="1405084" y="3097328"/>
                    <a:pt x="1404673" y="3125298"/>
                    <a:pt x="1397984" y="3152053"/>
                  </a:cubicBezTo>
                  <a:cubicBezTo>
                    <a:pt x="1395321" y="3162706"/>
                    <a:pt x="1384621" y="3169641"/>
                    <a:pt x="1379710" y="3179462"/>
                  </a:cubicBezTo>
                  <a:cubicBezTo>
                    <a:pt x="1341880" y="3255114"/>
                    <a:pt x="1404669" y="3155729"/>
                    <a:pt x="1352298" y="3234280"/>
                  </a:cubicBezTo>
                  <a:cubicBezTo>
                    <a:pt x="1318981" y="3334226"/>
                    <a:pt x="1372113" y="3182852"/>
                    <a:pt x="1324887" y="3289099"/>
                  </a:cubicBezTo>
                  <a:cubicBezTo>
                    <a:pt x="1290252" y="3367021"/>
                    <a:pt x="1331148" y="3325516"/>
                    <a:pt x="1270064" y="3371326"/>
                  </a:cubicBezTo>
                  <a:cubicBezTo>
                    <a:pt x="1246291" y="3442640"/>
                    <a:pt x="1285236" y="3339432"/>
                    <a:pt x="1215241" y="3444417"/>
                  </a:cubicBezTo>
                  <a:cubicBezTo>
                    <a:pt x="1209150" y="3453553"/>
                    <a:pt x="1205542" y="3464967"/>
                    <a:pt x="1196967" y="3471826"/>
                  </a:cubicBezTo>
                  <a:cubicBezTo>
                    <a:pt x="1189446" y="3477843"/>
                    <a:pt x="1178692" y="3477917"/>
                    <a:pt x="1169555" y="3480963"/>
                  </a:cubicBezTo>
                  <a:cubicBezTo>
                    <a:pt x="1163464" y="3490099"/>
                    <a:pt x="1159046" y="3500608"/>
                    <a:pt x="1151281" y="3508372"/>
                  </a:cubicBezTo>
                  <a:cubicBezTo>
                    <a:pt x="1143516" y="3516137"/>
                    <a:pt x="1131101" y="3518381"/>
                    <a:pt x="1123869" y="3526645"/>
                  </a:cubicBezTo>
                  <a:cubicBezTo>
                    <a:pt x="1109407" y="3543172"/>
                    <a:pt x="1106964" y="3571642"/>
                    <a:pt x="1087321" y="3581463"/>
                  </a:cubicBezTo>
                  <a:cubicBezTo>
                    <a:pt x="1040950" y="3604647"/>
                    <a:pt x="1062105" y="3592181"/>
                    <a:pt x="1023361" y="3618009"/>
                  </a:cubicBezTo>
                  <a:cubicBezTo>
                    <a:pt x="1017270" y="3627145"/>
                    <a:pt x="1011947" y="3636844"/>
                    <a:pt x="1005087" y="3645418"/>
                  </a:cubicBezTo>
                  <a:cubicBezTo>
                    <a:pt x="999705" y="3652145"/>
                    <a:pt x="990665" y="3655986"/>
                    <a:pt x="986812" y="3663691"/>
                  </a:cubicBezTo>
                  <a:cubicBezTo>
                    <a:pt x="984623" y="3668068"/>
                    <a:pt x="974525" y="3720161"/>
                    <a:pt x="968538" y="3727645"/>
                  </a:cubicBezTo>
                  <a:cubicBezTo>
                    <a:pt x="955656" y="3743746"/>
                    <a:pt x="931772" y="3749036"/>
                    <a:pt x="913715" y="3755054"/>
                  </a:cubicBezTo>
                  <a:cubicBezTo>
                    <a:pt x="907624" y="3745918"/>
                    <a:pt x="904016" y="3734504"/>
                    <a:pt x="895441" y="3727645"/>
                  </a:cubicBezTo>
                  <a:cubicBezTo>
                    <a:pt x="872964" y="3709665"/>
                    <a:pt x="845760" y="3722962"/>
                    <a:pt x="822344" y="3727645"/>
                  </a:cubicBezTo>
                  <a:cubicBezTo>
                    <a:pt x="816252" y="3736781"/>
                    <a:pt x="811834" y="3747290"/>
                    <a:pt x="804069" y="3755054"/>
                  </a:cubicBezTo>
                  <a:cubicBezTo>
                    <a:pt x="796304" y="3762818"/>
                    <a:pt x="782478" y="3764015"/>
                    <a:pt x="776658" y="3773327"/>
                  </a:cubicBezTo>
                  <a:cubicBezTo>
                    <a:pt x="766449" y="3789661"/>
                    <a:pt x="764476" y="3809873"/>
                    <a:pt x="758384" y="3828146"/>
                  </a:cubicBezTo>
                  <a:cubicBezTo>
                    <a:pt x="755338" y="3837282"/>
                    <a:pt x="754588" y="3847542"/>
                    <a:pt x="749246" y="3855555"/>
                  </a:cubicBezTo>
                  <a:cubicBezTo>
                    <a:pt x="696875" y="3934106"/>
                    <a:pt x="759664" y="3834721"/>
                    <a:pt x="721835" y="3910373"/>
                  </a:cubicBezTo>
                  <a:cubicBezTo>
                    <a:pt x="710308" y="3933425"/>
                    <a:pt x="702284" y="3939059"/>
                    <a:pt x="685286" y="3956055"/>
                  </a:cubicBezTo>
                  <a:cubicBezTo>
                    <a:pt x="660527" y="4055084"/>
                    <a:pt x="692415" y="3976265"/>
                    <a:pt x="493406" y="4010873"/>
                  </a:cubicBezTo>
                  <a:cubicBezTo>
                    <a:pt x="482587" y="4012754"/>
                    <a:pt x="474431" y="4022116"/>
                    <a:pt x="465995" y="4029146"/>
                  </a:cubicBezTo>
                  <a:cubicBezTo>
                    <a:pt x="376181" y="4103985"/>
                    <a:pt x="492182" y="4012096"/>
                    <a:pt x="420309" y="4083964"/>
                  </a:cubicBezTo>
                  <a:cubicBezTo>
                    <a:pt x="412544" y="4091729"/>
                    <a:pt x="401473" y="4095377"/>
                    <a:pt x="392898" y="4102237"/>
                  </a:cubicBezTo>
                  <a:cubicBezTo>
                    <a:pt x="386171" y="4107618"/>
                    <a:pt x="381350" y="4115129"/>
                    <a:pt x="374623" y="4120510"/>
                  </a:cubicBezTo>
                  <a:cubicBezTo>
                    <a:pt x="311018" y="4171391"/>
                    <a:pt x="384916" y="4101083"/>
                    <a:pt x="319800" y="4166192"/>
                  </a:cubicBezTo>
                  <a:cubicBezTo>
                    <a:pt x="318064" y="4172269"/>
                    <a:pt x="289574" y="4275483"/>
                    <a:pt x="283252" y="4284965"/>
                  </a:cubicBezTo>
                  <a:cubicBezTo>
                    <a:pt x="277161" y="4294101"/>
                    <a:pt x="269438" y="4302340"/>
                    <a:pt x="264978" y="4312374"/>
                  </a:cubicBezTo>
                  <a:cubicBezTo>
                    <a:pt x="257155" y="4329975"/>
                    <a:pt x="252795" y="4348919"/>
                    <a:pt x="246703" y="4367192"/>
                  </a:cubicBezTo>
                  <a:cubicBezTo>
                    <a:pt x="243657" y="4376328"/>
                    <a:pt x="241873" y="4385987"/>
                    <a:pt x="237566" y="4394601"/>
                  </a:cubicBezTo>
                  <a:cubicBezTo>
                    <a:pt x="231475" y="4406783"/>
                    <a:pt x="224657" y="4418628"/>
                    <a:pt x="219292" y="4431147"/>
                  </a:cubicBezTo>
                  <a:cubicBezTo>
                    <a:pt x="201501" y="4472658"/>
                    <a:pt x="222270" y="4446443"/>
                    <a:pt x="191880" y="4476829"/>
                  </a:cubicBezTo>
                  <a:cubicBezTo>
                    <a:pt x="184448" y="4499122"/>
                    <a:pt x="182181" y="4513936"/>
                    <a:pt x="164469" y="4531647"/>
                  </a:cubicBezTo>
                  <a:cubicBezTo>
                    <a:pt x="156704" y="4539412"/>
                    <a:pt x="146195" y="4543829"/>
                    <a:pt x="137058" y="4549920"/>
                  </a:cubicBezTo>
                  <a:cubicBezTo>
                    <a:pt x="112690" y="4623011"/>
                    <a:pt x="149241" y="4537737"/>
                    <a:pt x="100509" y="4586466"/>
                  </a:cubicBezTo>
                  <a:cubicBezTo>
                    <a:pt x="93699" y="4593276"/>
                    <a:pt x="96327" y="4605617"/>
                    <a:pt x="91372" y="4613875"/>
                  </a:cubicBezTo>
                  <a:cubicBezTo>
                    <a:pt x="86940" y="4621262"/>
                    <a:pt x="79189" y="4626057"/>
                    <a:pt x="73097" y="4632148"/>
                  </a:cubicBezTo>
                  <a:cubicBezTo>
                    <a:pt x="56345" y="4682400"/>
                    <a:pt x="74025" y="4637376"/>
                    <a:pt x="45686" y="4686966"/>
                  </a:cubicBezTo>
                  <a:cubicBezTo>
                    <a:pt x="38928" y="4698791"/>
                    <a:pt x="34967" y="4712179"/>
                    <a:pt x="27412" y="4723511"/>
                  </a:cubicBezTo>
                  <a:cubicBezTo>
                    <a:pt x="22633" y="4730678"/>
                    <a:pt x="15229" y="4735693"/>
                    <a:pt x="9137" y="4741784"/>
                  </a:cubicBezTo>
                  <a:lnTo>
                    <a:pt x="0" y="4750921"/>
                  </a:lnTo>
                </a:path>
              </a:pathLst>
            </a:custGeom>
            <a:noFill/>
            <a:ln w="57240">
              <a:solidFill>
                <a:srgbClr val="ff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TextBox 91"/>
            <p:cNvSpPr/>
            <p:nvPr/>
          </p:nvSpPr>
          <p:spPr>
            <a:xfrm>
              <a:off x="5468760" y="3219120"/>
              <a:ext cx="240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00"/>
                  </a:solidFill>
                  <a:latin typeface="Arial"/>
                </a:rPr>
                <a:t>Placa de Norteamérica</a:t>
              </a:r>
              <a:endParaRPr b="0" lang="en-US" sz="1800" spc="-1" strike="noStrike">
                <a:solidFill>
                  <a:srgbClr val="000000"/>
                </a:solidFill>
                <a:latin typeface="Arial"/>
              </a:endParaRPr>
            </a:p>
          </p:txBody>
        </p:sp>
        <p:sp>
          <p:nvSpPr>
            <p:cNvPr id="211" name="TextBox 92"/>
            <p:cNvSpPr/>
            <p:nvPr/>
          </p:nvSpPr>
          <p:spPr>
            <a:xfrm rot="17284800">
              <a:off x="7614360" y="1835640"/>
              <a:ext cx="1558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00"/>
                  </a:solidFill>
                  <a:latin typeface="Arial"/>
                </a:rPr>
                <a:t>Placa Euroasiatica</a:t>
              </a:r>
              <a:endParaRPr b="0" lang="en-US" sz="1600" spc="-1" strike="noStrike">
                <a:solidFill>
                  <a:srgbClr val="000000"/>
                </a:solidFill>
                <a:latin typeface="Arial"/>
              </a:endParaRPr>
            </a:p>
          </p:txBody>
        </p:sp>
        <p:sp>
          <p:nvSpPr>
            <p:cNvPr id="212" name="Right Arrow 94"/>
            <p:cNvSpPr/>
            <p:nvPr/>
          </p:nvSpPr>
          <p:spPr>
            <a:xfrm rot="20019000">
              <a:off x="8298000" y="5810040"/>
              <a:ext cx="247320" cy="136440"/>
            </a:xfrm>
            <a:prstGeom prst="rightArrow">
              <a:avLst>
                <a:gd name="adj1" fmla="val 50000"/>
                <a:gd name="adj2" fmla="val 4646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ight Arrow 95"/>
            <p:cNvSpPr/>
            <p:nvPr/>
          </p:nvSpPr>
          <p:spPr>
            <a:xfrm rot="20019000">
              <a:off x="8715240" y="578340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ight Arrow 96"/>
            <p:cNvSpPr/>
            <p:nvPr/>
          </p:nvSpPr>
          <p:spPr>
            <a:xfrm rot="20019000">
              <a:off x="8686800" y="533736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93"/>
            <p:cNvSpPr/>
            <p:nvPr/>
          </p:nvSpPr>
          <p:spPr>
            <a:xfrm rot="18987000">
              <a:off x="7708680" y="5153040"/>
              <a:ext cx="1522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00"/>
                  </a:solidFill>
                  <a:latin typeface="Arial"/>
                </a:rPr>
                <a:t>Placa Africana</a:t>
              </a:r>
              <a:endParaRPr b="0" lang="en-US" sz="1800" spc="-1" strike="noStrike">
                <a:solidFill>
                  <a:srgbClr val="000000"/>
                </a:solidFill>
                <a:latin typeface="Arial"/>
              </a:endParaRPr>
            </a:p>
          </p:txBody>
        </p:sp>
      </p:grpSp>
      <p:pic>
        <p:nvPicPr>
          <p:cNvPr id="216" name="Picture 92" descr="unavco-logo-red-black-shadow.jpg"/>
          <p:cNvPicPr/>
          <p:nvPr/>
        </p:nvPicPr>
        <p:blipFill>
          <a:blip r:embed="rId3"/>
          <a:stretch/>
        </p:blipFill>
        <p:spPr>
          <a:xfrm>
            <a:off x="7696080" y="1219320"/>
            <a:ext cx="1295640" cy="323640"/>
          </a:xfrm>
          <a:prstGeom prst="rect">
            <a:avLst/>
          </a:prstGeom>
          <a:ln w="0">
            <a:noFill/>
          </a:ln>
        </p:spPr>
      </p:pic>
      <p:sp>
        <p:nvSpPr>
          <p:cNvPr id="217" name="TextBox 98"/>
          <p:cNvSpPr/>
          <p:nvPr/>
        </p:nvSpPr>
        <p:spPr>
          <a:xfrm>
            <a:off x="228600" y="1143000"/>
            <a:ext cx="8915400" cy="33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99"/>
          <p:cNvSpPr/>
          <p:nvPr/>
        </p:nvSpPr>
        <p:spPr>
          <a:xfrm>
            <a:off x="293760" y="1108080"/>
            <a:ext cx="3363840" cy="57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a Placa Norteamericana se esta alejando de la Dorsal Meso Oceánica del Atlántico hacia el oeste-noreste. Es tentativo pensar que la compresión oeste-noroeste hasta el este-sureste de la región de la Costa Atlántica como si fuese debido simplemente al empuje desde la dorsal meso-oceánica en Atlántico.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Sin embargo, esta dirección de compresión es también aproximadamente particular al de los Montes Apalaches y pueden estar relacionados a esas montañas que resultaron de la colisión entre Norteamérica y África hace 300 millones de año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Como los Montes Apalaches  erosiona, la corteza ‘rebota’ y flexiona de una manera que podría contribuir al estrés dentro de la región de la Costa Atlántica.</a:t>
            </a:r>
            <a:endParaRPr b="0" lang="en-US" sz="1500" spc="-1" strike="noStrike">
              <a:solidFill>
                <a:srgbClr val="000000"/>
              </a:solidFill>
              <a:latin typeface="Arial"/>
            </a:endParaRPr>
          </a:p>
        </p:txBody>
      </p:sp>
      <p:sp>
        <p:nvSpPr>
          <p:cNvPr id="219" name="5-Point Star 98"/>
          <p:cNvSpPr/>
          <p:nvPr/>
        </p:nvSpPr>
        <p:spPr>
          <a:xfrm>
            <a:off x="4103640" y="4278240"/>
            <a:ext cx="152280" cy="152640"/>
          </a:xfrm>
          <a:custGeom>
            <a:avLst/>
            <a:gdLst>
              <a:gd name="textAreaLeft" fmla="*/ 47160 w 152280"/>
              <a:gd name="textAreaRight" fmla="*/ 105120 w 152280"/>
              <a:gd name="textAreaTop" fmla="*/ 58320 h 152640"/>
              <a:gd name="textAreaBottom" fmla="*/ 116640 h 152640"/>
            </a:gdLst>
            <a:ahLst/>
            <a:rect l="textAreaLeft" t="textAreaTop" r="textAreaRight" b="textAreaBottom"/>
            <a:pathLst>
              <a:path w="152400" h="152400">
                <a:moveTo>
                  <a:pt x="0" y="58211"/>
                </a:moveTo>
                <a:lnTo>
                  <a:pt x="58212" y="58212"/>
                </a:lnTo>
                <a:lnTo>
                  <a:pt x="76200" y="0"/>
                </a:lnTo>
                <a:lnTo>
                  <a:pt x="94188" y="58212"/>
                </a:lnTo>
                <a:lnTo>
                  <a:pt x="152400" y="58211"/>
                </a:lnTo>
                <a:lnTo>
                  <a:pt x="105305" y="94188"/>
                </a:lnTo>
                <a:lnTo>
                  <a:pt x="123294" y="152399"/>
                </a:lnTo>
                <a:lnTo>
                  <a:pt x="76200" y="116422"/>
                </a:lnTo>
                <a:lnTo>
                  <a:pt x="29106" y="152399"/>
                </a:lnTo>
                <a:lnTo>
                  <a:pt x="47095" y="94188"/>
                </a:lnTo>
                <a:close/>
              </a:path>
            </a:pathLst>
          </a:custGeom>
          <a:solidFill>
            <a:srgbClr val="ffc000"/>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220" name="TextBox 99"/>
          <p:cNvSpPr/>
          <p:nvPr/>
        </p:nvSpPr>
        <p:spPr>
          <a:xfrm>
            <a:off x="3886200" y="44197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Terremoto</a:t>
            </a:r>
            <a:endParaRPr b="0" lang="en-US" sz="1200" spc="-1" strike="noStrike">
              <a:solidFill>
                <a:srgbClr val="000000"/>
              </a:solidFill>
              <a:latin typeface="Arial"/>
            </a:endParaRPr>
          </a:p>
        </p:txBody>
      </p:sp>
      <p:sp>
        <p:nvSpPr>
          <p:cNvPr id="221" name="Title 1"/>
          <p:cNvSpPr/>
          <p:nvPr/>
        </p:nvSpPr>
        <p:spPr>
          <a:xfrm>
            <a:off x="1168560" y="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5.8 VIRGINIA</a:t>
            </a:r>
            <a:br>
              <a:rPr sz="3500"/>
            </a:br>
            <a:r>
              <a:rPr b="1" lang="es-VE" sz="1500" spc="-1" strike="noStrike">
                <a:solidFill>
                  <a:srgbClr val="11488b"/>
                </a:solidFill>
                <a:latin typeface="Arial"/>
                <a:ea typeface="Arial"/>
              </a:rPr>
              <a:t>Martes, 23 de Agosto, 2011 a las 17:5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8" descr="IRIS_TMlogo.png"/>
          <p:cNvPicPr/>
          <p:nvPr/>
        </p:nvPicPr>
        <p:blipFill>
          <a:blip r:embed="rId1"/>
          <a:stretch/>
        </p:blipFill>
        <p:spPr>
          <a:xfrm>
            <a:off x="239760" y="76320"/>
            <a:ext cx="903240" cy="927000"/>
          </a:xfrm>
          <a:prstGeom prst="rect">
            <a:avLst/>
          </a:prstGeom>
          <a:ln w="0">
            <a:noFill/>
          </a:ln>
        </p:spPr>
      </p:pic>
      <p:sp>
        <p:nvSpPr>
          <p:cNvPr id="224" name="TextBox 98"/>
          <p:cNvSpPr/>
          <p:nvPr/>
        </p:nvSpPr>
        <p:spPr>
          <a:xfrm>
            <a:off x="293760" y="996840"/>
            <a:ext cx="4811760" cy="374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Adicionalmente, existen muchas fallas en esta región heredadas de la formación de los Apalaches y la conglomeración</a:t>
            </a:r>
            <a:r>
              <a:rPr b="0" lang="es-VE" sz="1500" spc="-1" strike="noStrike">
                <a:solidFill>
                  <a:srgbClr val="ff0000"/>
                </a:solidFill>
                <a:latin typeface="Arial"/>
              </a:rPr>
              <a:t> </a:t>
            </a:r>
            <a:r>
              <a:rPr b="0" lang="es-VE" sz="1500" spc="-1" strike="noStrike">
                <a:solidFill>
                  <a:srgbClr val="000000"/>
                </a:solidFill>
                <a:latin typeface="Arial"/>
              </a:rPr>
              <a:t>de  Norteamérica desde África durante la ruptura subsecuentes.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stas fallas antiguas pueden ser reactivadas por el estrés de empuje de las montañas o otros orígenes y resultados en terremotos ocasionales en la región de la Costa Atlántic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n los límites de placas bien estudiadas como  el sistema de fallas de San Andrés en California,  frecuentemente los científicos pueden determinar el nombre de una falla especifica que es responsable de un terremoto. Al este de las Montañas Rocosas esto es raramente el caso. La Zona Sísmica </a:t>
            </a:r>
            <a:r>
              <a:rPr b="0" lang="en-US" sz="1500" spc="-1" strike="noStrike">
                <a:solidFill>
                  <a:srgbClr val="000000"/>
                </a:solidFill>
                <a:latin typeface="Arial"/>
              </a:rPr>
              <a:t>de Virginia</a:t>
            </a:r>
            <a:endParaRPr b="0" lang="en-US" sz="1500" spc="-1" strike="noStrike">
              <a:solidFill>
                <a:srgbClr val="000000"/>
              </a:solidFill>
              <a:latin typeface="Arial"/>
            </a:endParaRPr>
          </a:p>
        </p:txBody>
      </p:sp>
      <p:pic>
        <p:nvPicPr>
          <p:cNvPr id="225" name="Picture 99" descr="pangaea.png"/>
          <p:cNvPicPr/>
          <p:nvPr/>
        </p:nvPicPr>
        <p:blipFill>
          <a:blip r:embed="rId2"/>
          <a:stretch/>
        </p:blipFill>
        <p:spPr>
          <a:xfrm>
            <a:off x="5105520" y="152280"/>
            <a:ext cx="3724200" cy="4384800"/>
          </a:xfrm>
          <a:prstGeom prst="rect">
            <a:avLst/>
          </a:prstGeom>
          <a:ln w="0">
            <a:noFill/>
          </a:ln>
        </p:spPr>
      </p:pic>
      <p:sp>
        <p:nvSpPr>
          <p:cNvPr id="226" name="TextBox 101"/>
          <p:cNvSpPr/>
          <p:nvPr/>
        </p:nvSpPr>
        <p:spPr>
          <a:xfrm>
            <a:off x="7848720" y="293040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gaea</a:t>
            </a:r>
            <a:endParaRPr b="0" lang="en-US" sz="1600" spc="-1" strike="noStrike">
              <a:solidFill>
                <a:srgbClr val="000000"/>
              </a:solidFill>
              <a:latin typeface="Arial"/>
            </a:endParaRPr>
          </a:p>
        </p:txBody>
      </p:sp>
      <p:sp>
        <p:nvSpPr>
          <p:cNvPr id="227" name="TextBox 102"/>
          <p:cNvSpPr/>
          <p:nvPr/>
        </p:nvSpPr>
        <p:spPr>
          <a:xfrm>
            <a:off x="293760" y="4653000"/>
            <a:ext cx="8710560" cy="191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sta lejos del límite de placa mas cercano, la cual se encuentran en el Océano Atlántico y el Mar Caribe. La zona sísmica esta enlazada con fallas conocidas, pero numerosas fallas mas pequeñas o localizadas en las profundidades de la Tierra se mantienen sin detectar. Hasta las fallas conocidas están pobremente localizadas en la profundidad de los terremotos. En acuerdo, algunas, si alguna, los terremotos en la zona sísmica pueden ser asociadas con fallas nombradas.  Es difícil determinar si una falla conocida continua activa y pueda deslizar causando un terremoto. Como muchas de las otras áreas al este de las montañas rocosas, la mejor guía para el peligro de terremotos en la zona sísmica son los terremotos mismos (Fuente</a:t>
            </a:r>
            <a:r>
              <a:rPr b="0" i="1" lang="es-VE" sz="1500" spc="-1" strike="noStrike">
                <a:solidFill>
                  <a:srgbClr val="000000"/>
                </a:solidFill>
                <a:latin typeface="Arial"/>
              </a:rPr>
              <a:t>: USGS</a:t>
            </a:r>
            <a:r>
              <a:rPr b="0" lang="es-VE" sz="1500" spc="-1" strike="noStrike">
                <a:solidFill>
                  <a:srgbClr val="000000"/>
                </a:solidFill>
                <a:latin typeface="Arial"/>
              </a:rPr>
              <a:t>)</a:t>
            </a:r>
            <a:endParaRPr b="0" lang="en-US" sz="1500" spc="-1" strike="noStrike">
              <a:solidFill>
                <a:srgbClr val="000000"/>
              </a:solidFill>
              <a:latin typeface="Arial"/>
            </a:endParaRPr>
          </a:p>
        </p:txBody>
      </p:sp>
      <p:sp>
        <p:nvSpPr>
          <p:cNvPr id="228" name="Title 1"/>
          <p:cNvSpPr/>
          <p:nvPr/>
        </p:nvSpPr>
        <p:spPr>
          <a:xfrm>
            <a:off x="1168560" y="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5.8 VIRGINIA</a:t>
            </a:r>
            <a:br>
              <a:rPr sz="3500"/>
            </a:br>
            <a:r>
              <a:rPr b="1" lang="es-VE" sz="1500" spc="-1" strike="noStrike">
                <a:solidFill>
                  <a:srgbClr val="11488b"/>
                </a:solidFill>
                <a:latin typeface="Arial"/>
                <a:ea typeface="Arial"/>
              </a:rPr>
              <a:t>Martes, 23 de Agosto, 2011 a las 17:5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18" descr="IRIS_TMlogo.png"/>
          <p:cNvPicPr/>
          <p:nvPr/>
        </p:nvPicPr>
        <p:blipFill>
          <a:blip r:embed="rId1"/>
          <a:stretch/>
        </p:blipFill>
        <p:spPr>
          <a:xfrm>
            <a:off x="239760" y="76320"/>
            <a:ext cx="903240" cy="927000"/>
          </a:xfrm>
          <a:prstGeom prst="rect">
            <a:avLst/>
          </a:prstGeom>
          <a:ln w="0">
            <a:noFill/>
          </a:ln>
        </p:spPr>
      </p:pic>
      <p:pic>
        <p:nvPicPr>
          <p:cNvPr id="231" name="Picture 8" descr="gmv.jpg"/>
          <p:cNvPicPr/>
          <p:nvPr/>
        </p:nvPicPr>
        <p:blipFill>
          <a:blip r:embed="rId2"/>
          <a:stretch/>
        </p:blipFill>
        <p:spPr>
          <a:xfrm>
            <a:off x="5975280" y="76320"/>
            <a:ext cx="3016440" cy="2938320"/>
          </a:xfrm>
          <a:prstGeom prst="rect">
            <a:avLst/>
          </a:prstGeom>
          <a:ln w="0">
            <a:noFill/>
          </a:ln>
        </p:spPr>
      </p:pic>
      <p:pic>
        <p:nvPicPr>
          <p:cNvPr id="232" name="Picture 11" descr="pwaves.jpg"/>
          <p:cNvPicPr/>
          <p:nvPr/>
        </p:nvPicPr>
        <p:blipFill>
          <a:blip r:embed="rId3"/>
          <a:stretch/>
        </p:blipFill>
        <p:spPr>
          <a:xfrm>
            <a:off x="184320" y="1066680"/>
            <a:ext cx="5776920" cy="3205440"/>
          </a:xfrm>
          <a:prstGeom prst="rect">
            <a:avLst/>
          </a:prstGeom>
          <a:ln w="0">
            <a:noFill/>
          </a:ln>
        </p:spPr>
      </p:pic>
      <p:sp>
        <p:nvSpPr>
          <p:cNvPr id="233" name="TextBox 12"/>
          <p:cNvSpPr/>
          <p:nvPr/>
        </p:nvSpPr>
        <p:spPr>
          <a:xfrm>
            <a:off x="304920" y="4191120"/>
            <a:ext cx="5562360" cy="249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l mapa de parte superior muestra el pronostico de los tiempos de viaje (teóricos), en minutos, de la primera onda compresional (P) desde el terremoto a través de los Estados Unido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Como las ondas de los terremotos viajan a lo largo de la superficie de la Tierra, estas causan que el suelo se mueva. Con las 400 estaciones de registro de terremoto en el despliegue transportable de EarthScope, los movimientos del suelo pueden ser capturados y presentados como película, utilizando los datos registrados del terremoto.</a:t>
            </a:r>
            <a:endParaRPr b="0" lang="en-US" sz="1500" spc="-1" strike="noStrike">
              <a:solidFill>
                <a:srgbClr val="000000"/>
              </a:solidFill>
              <a:latin typeface="Arial"/>
            </a:endParaRPr>
          </a:p>
        </p:txBody>
      </p:sp>
      <p:sp>
        <p:nvSpPr>
          <p:cNvPr id="234" name="TextBox 9"/>
          <p:cNvSpPr/>
          <p:nvPr/>
        </p:nvSpPr>
        <p:spPr>
          <a:xfrm>
            <a:off x="5867280" y="3071880"/>
            <a:ext cx="3276720" cy="377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100" spc="-1" strike="noStrike">
                <a:solidFill>
                  <a:srgbClr val="000000"/>
                </a:solidFill>
                <a:latin typeface="Arial"/>
              </a:rPr>
              <a:t>La película muestra las ondas sísmicas cruzando los EEUU registrados por la USArra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100" spc="-1" strike="noStrike">
                <a:solidFill>
                  <a:srgbClr val="000000"/>
                </a:solidFill>
                <a:latin typeface="Arial"/>
              </a:rPr>
              <a:t>El circulo en la película representa estaciones de registro de terremoto y el color de cada circulo  representa la amplitud, o altura, de la onda del terremoto detectada por el sismógrafo de la estación. El color de los círculos cambian mientras que las ondas de diferente amplitud viajan pasando por el sismógrafo. El color azul representa movimiento del suelo hacia abajo, el rojo representa movimiento del suelo hacia arriba, y los colores mas oscuros indican amplitudes mayore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100" spc="-1" strike="noStrike">
                <a:solidFill>
                  <a:srgbClr val="000000"/>
                </a:solidFill>
                <a:latin typeface="Arial"/>
              </a:rPr>
              <a:t>Un seguimiento representativo aleatorio es mostrado en la parte inferior de la animación  con su eje horizontal representando el tiempo (en segundos) después del evento. La localización de la estación representativa esta marcada en el mapa por un circulo rojo.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35" name="Title 1"/>
          <p:cNvSpPr/>
          <p:nvPr/>
        </p:nvSpPr>
        <p:spPr>
          <a:xfrm>
            <a:off x="1168560" y="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5.8 VIRGINIA</a:t>
            </a:r>
            <a:br>
              <a:rPr sz="3500"/>
            </a:br>
            <a:r>
              <a:rPr b="1" lang="es-VE" sz="1500" spc="-1" strike="noStrike">
                <a:solidFill>
                  <a:srgbClr val="11488b"/>
                </a:solidFill>
                <a:latin typeface="Arial"/>
                <a:ea typeface="Arial"/>
              </a:rPr>
              <a:t>Martes, 23 de Agosto, 2011 a las 17:5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18" descr="IRIS_TMlogo.png"/>
          <p:cNvPicPr/>
          <p:nvPr/>
        </p:nvPicPr>
        <p:blipFill>
          <a:blip r:embed="rId1"/>
          <a:stretch/>
        </p:blipFill>
        <p:spPr>
          <a:xfrm>
            <a:off x="239760" y="76320"/>
            <a:ext cx="903240" cy="927000"/>
          </a:xfrm>
          <a:prstGeom prst="rect">
            <a:avLst/>
          </a:prstGeom>
          <a:ln w="0">
            <a:noFill/>
          </a:ln>
        </p:spPr>
      </p:pic>
      <p:sp>
        <p:nvSpPr>
          <p:cNvPr id="238" name="TextBox 10"/>
          <p:cNvSpPr/>
          <p:nvPr/>
        </p:nvSpPr>
        <p:spPr>
          <a:xfrm>
            <a:off x="239760" y="1765440"/>
            <a:ext cx="21002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Despliegue transportable USArray es una red de 400 sismógrafos con ancho de banda de alta calidad que se están moviendo (cada 2 años) a través de los Estados Unidos, de este a oeste, y Alaska, en un patrón regu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os datos están siendo usados para responder preguntas sobre el continente Norteamericano y las capas del manto.</a:t>
            </a:r>
            <a:endParaRPr b="0" lang="en-US" sz="1600" spc="-1" strike="noStrike">
              <a:solidFill>
                <a:srgbClr val="000000"/>
              </a:solidFill>
              <a:latin typeface="Arial"/>
            </a:endParaRPr>
          </a:p>
        </p:txBody>
      </p:sp>
      <p:sp>
        <p:nvSpPr>
          <p:cNvPr id="239" name="TextBox 8"/>
          <p:cNvSpPr/>
          <p:nvPr/>
        </p:nvSpPr>
        <p:spPr>
          <a:xfrm>
            <a:off x="2666880" y="6019920"/>
            <a:ext cx="60962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staciones de la USArray operativas. Las 400 estaciones de despliegue transportable activas están representadas en rojo. Las estaciones permanentes están representadas en azul.</a:t>
            </a:r>
            <a:endParaRPr b="0" lang="en-US" sz="1200" spc="-1" strike="noStrike">
              <a:solidFill>
                <a:srgbClr val="000000"/>
              </a:solidFill>
              <a:latin typeface="Arial"/>
            </a:endParaRPr>
          </a:p>
        </p:txBody>
      </p:sp>
      <p:sp>
        <p:nvSpPr>
          <p:cNvPr id="240" name="TextBox 11"/>
          <p:cNvSpPr/>
          <p:nvPr/>
        </p:nvSpPr>
        <p:spPr>
          <a:xfrm>
            <a:off x="228600" y="128268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11488b"/>
                </a:solidFill>
                <a:latin typeface="Arial"/>
                <a:ea typeface="Arial"/>
              </a:rPr>
              <a:t>USArray: Un Observatorio Sísmico de Escala Continental</a:t>
            </a:r>
            <a:endParaRPr b="0" lang="en-US" sz="1800" spc="-1" strike="noStrike">
              <a:solidFill>
                <a:srgbClr val="000000"/>
              </a:solidFill>
              <a:latin typeface="Arial"/>
            </a:endParaRPr>
          </a:p>
        </p:txBody>
      </p:sp>
      <p:pic>
        <p:nvPicPr>
          <p:cNvPr id="241" name="Picture 12" descr="tastatus.gif"/>
          <p:cNvPicPr/>
          <p:nvPr/>
        </p:nvPicPr>
        <p:blipFill>
          <a:blip r:embed="rId2"/>
          <a:stretch/>
        </p:blipFill>
        <p:spPr>
          <a:xfrm>
            <a:off x="2308320" y="1981080"/>
            <a:ext cx="6759360" cy="4038840"/>
          </a:xfrm>
          <a:prstGeom prst="rect">
            <a:avLst/>
          </a:prstGeom>
          <a:ln w="0">
            <a:noFill/>
          </a:ln>
        </p:spPr>
      </p:pic>
      <p:sp>
        <p:nvSpPr>
          <p:cNvPr id="242" name="Title 1"/>
          <p:cNvSpPr/>
          <p:nvPr/>
        </p:nvSpPr>
        <p:spPr>
          <a:xfrm>
            <a:off x="1168560" y="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5.8 VIRGINIA</a:t>
            </a:r>
            <a:br>
              <a:rPr sz="3500"/>
            </a:br>
            <a:r>
              <a:rPr b="1" lang="es-VE" sz="1500" spc="-1" strike="noStrike">
                <a:solidFill>
                  <a:srgbClr val="11488b"/>
                </a:solidFill>
                <a:latin typeface="Arial"/>
                <a:ea typeface="Arial"/>
              </a:rPr>
              <a:t>Martes, 23 de Agosto, 2011 a las 17:5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9" descr="ttc1.jpg"/>
          <p:cNvPicPr/>
          <p:nvPr/>
        </p:nvPicPr>
        <p:blipFill>
          <a:blip r:embed="rId1"/>
          <a:stretch/>
        </p:blipFill>
        <p:spPr>
          <a:xfrm>
            <a:off x="228600" y="1447920"/>
            <a:ext cx="8839080" cy="5373720"/>
          </a:xfrm>
          <a:prstGeom prst="rect">
            <a:avLst/>
          </a:prstGeom>
          <a:ln w="0">
            <a:noFill/>
          </a:ln>
        </p:spPr>
      </p:pic>
      <p:sp>
        <p:nvSpPr>
          <p:cNvPr id="24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8" descr="IRIS_TMlogo.png"/>
          <p:cNvPicPr/>
          <p:nvPr/>
        </p:nvPicPr>
        <p:blipFill>
          <a:blip r:embed="rId2"/>
          <a:stretch/>
        </p:blipFill>
        <p:spPr>
          <a:xfrm>
            <a:off x="239760" y="76320"/>
            <a:ext cx="903240" cy="927000"/>
          </a:xfrm>
          <a:prstGeom prst="rect">
            <a:avLst/>
          </a:prstGeom>
          <a:ln w="0">
            <a:noFill/>
          </a:ln>
        </p:spPr>
      </p:pic>
      <p:sp>
        <p:nvSpPr>
          <p:cNvPr id="246" name="TextBox 9"/>
          <p:cNvSpPr/>
          <p:nvPr/>
        </p:nvSpPr>
        <p:spPr>
          <a:xfrm>
            <a:off x="1828800" y="785880"/>
            <a:ext cx="725004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registro del terremoto de magnitud M5.8 que ocurrió en Virginia, observado en el sismógrafo de la Universidad de Portland (UPOR) es ilustrado en la parte inferior. Portland esta ubicada aproximadamente  3762 km (2350 millas, 33.90°) desde la localización de este terremoto.</a:t>
            </a:r>
            <a:endParaRPr b="0" lang="en-US" sz="1200" spc="-1" strike="noStrike">
              <a:solidFill>
                <a:srgbClr val="000000"/>
              </a:solidFill>
              <a:latin typeface="Arial"/>
            </a:endParaRPr>
          </a:p>
        </p:txBody>
      </p:sp>
      <p:sp>
        <p:nvSpPr>
          <p:cNvPr id="247" name="TextBox 11"/>
          <p:cNvSpPr/>
          <p:nvPr/>
        </p:nvSpPr>
        <p:spPr>
          <a:xfrm>
            <a:off x="1523880" y="1981080"/>
            <a:ext cx="7239240" cy="45900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Seguido del terremoto, las ondas compresionales P se tomaron 6 minutos y 43 segundos en viajar una trayectoria curva a través del manto desde </a:t>
            </a:r>
            <a:r>
              <a:rPr b="0" lang="en-US" sz="1200" spc="-1" strike="noStrike">
                <a:solidFill>
                  <a:srgbClr val="000000"/>
                </a:solidFill>
                <a:latin typeface="Arial"/>
              </a:rPr>
              <a:t>Virginia to Portland, Oregon.</a:t>
            </a:r>
            <a:endParaRPr b="0" lang="en-US" sz="1200" spc="-1" strike="noStrike">
              <a:solidFill>
                <a:srgbClr val="000000"/>
              </a:solidFill>
              <a:latin typeface="Arial"/>
            </a:endParaRPr>
          </a:p>
        </p:txBody>
      </p:sp>
      <p:sp>
        <p:nvSpPr>
          <p:cNvPr id="248" name="TextBox 12"/>
          <p:cNvSpPr/>
          <p:nvPr/>
        </p:nvSpPr>
        <p:spPr>
          <a:xfrm>
            <a:off x="2819520" y="2819520"/>
            <a:ext cx="4343400" cy="82404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Ondas PP son ondas compresionales que rebotan fuera de la superficie de la Tierra a mitad de camino entre el terremoto y la estación de registro. La energía PP arribó 8 minutos después del terremoto.</a:t>
            </a:r>
            <a:endParaRPr b="0" lang="en-US" sz="1200" spc="-1" strike="noStrike">
              <a:solidFill>
                <a:srgbClr val="000000"/>
              </a:solidFill>
              <a:latin typeface="Arial"/>
            </a:endParaRPr>
          </a:p>
        </p:txBody>
      </p:sp>
      <p:sp>
        <p:nvSpPr>
          <p:cNvPr id="249" name="TextBox 13"/>
          <p:cNvSpPr/>
          <p:nvPr/>
        </p:nvSpPr>
        <p:spPr>
          <a:xfrm>
            <a:off x="4648320" y="3733920"/>
            <a:ext cx="3657600" cy="118908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Ondas SS y S son ondas cortantes que siguen la misma trayectoria a través del manto como las ondas P y PP, respectivamente. Las ondas S arribaron 12 minutos y 9 después del terremoto y las ondas SS arribaron 14 minutos y 36 segundos después del terremoto</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50" name="TextBox 12"/>
          <p:cNvSpPr/>
          <p:nvPr/>
        </p:nvSpPr>
        <p:spPr>
          <a:xfrm>
            <a:off x="3276720" y="5786280"/>
            <a:ext cx="5638680" cy="6415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Las ondas de superficie , ambas Love and Rayleigh, viajan los 3762 km (2350 millas) a lo largo del perímetro de la Tierra desde el terremoto hasta la estación de registro.</a:t>
            </a:r>
            <a:endParaRPr b="0" lang="en-US" sz="1200" spc="-1" strike="noStrike">
              <a:solidFill>
                <a:srgbClr val="000000"/>
              </a:solidFill>
              <a:latin typeface="Arial"/>
            </a:endParaRPr>
          </a:p>
        </p:txBody>
      </p:sp>
      <p:sp>
        <p:nvSpPr>
          <p:cNvPr id="251" name="Title 1"/>
          <p:cNvSpPr/>
          <p:nvPr/>
        </p:nvSpPr>
        <p:spPr>
          <a:xfrm>
            <a:off x="1168560" y="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5.8 VIRGINIA</a:t>
            </a:r>
            <a:br>
              <a:rPr sz="3500"/>
            </a:br>
            <a:r>
              <a:rPr b="1" lang="es-VE" sz="1500" spc="-1" strike="noStrike">
                <a:solidFill>
                  <a:srgbClr val="11488b"/>
                </a:solidFill>
                <a:latin typeface="Arial"/>
                <a:ea typeface="Arial"/>
              </a:rPr>
              <a:t>Martes, 23 de Agosto, 2011 a las 17:5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8" descr="IRIS_TMlogo.png"/>
          <p:cNvPicPr/>
          <p:nvPr/>
        </p:nvPicPr>
        <p:blipFill>
          <a:blip r:embed="rId1"/>
          <a:stretch/>
        </p:blipFill>
        <p:spPr>
          <a:xfrm>
            <a:off x="239760" y="76320"/>
            <a:ext cx="903240" cy="927000"/>
          </a:xfrm>
          <a:prstGeom prst="rect">
            <a:avLst/>
          </a:prstGeom>
          <a:ln w="0">
            <a:noFill/>
          </a:ln>
        </p:spPr>
      </p:pic>
      <p:sp>
        <p:nvSpPr>
          <p:cNvPr id="254" name="TextBox 9"/>
          <p:cNvSpPr/>
          <p:nvPr/>
        </p:nvSpPr>
        <p:spPr>
          <a:xfrm>
            <a:off x="266760" y="1600200"/>
            <a:ext cx="33908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3 componentes registrados por O56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0.01–0.07 filtrado Pasa Banda (BP)],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 estación USArray mas cercana al evento.</a:t>
            </a:r>
            <a:endParaRPr b="0" lang="en-US" sz="1400" spc="-1" strike="noStrike">
              <a:solidFill>
                <a:srgbClr val="000000"/>
              </a:solidFill>
              <a:latin typeface="Arial"/>
            </a:endParaRPr>
          </a:p>
        </p:txBody>
      </p:sp>
      <p:sp>
        <p:nvSpPr>
          <p:cNvPr id="255" name="Rectangle 15"/>
          <p:cNvSpPr/>
          <p:nvPr/>
        </p:nvSpPr>
        <p:spPr>
          <a:xfrm>
            <a:off x="3286800" y="97164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56A</a:t>
            </a:r>
            <a:endParaRPr b="0" lang="en-US" sz="1400" spc="-1" strike="noStrike">
              <a:solidFill>
                <a:srgbClr val="000000"/>
              </a:solidFill>
              <a:latin typeface="Arial"/>
            </a:endParaRPr>
          </a:p>
        </p:txBody>
      </p:sp>
      <p:pic>
        <p:nvPicPr>
          <p:cNvPr id="256" name="Picture 8" descr="closest.gif"/>
          <p:cNvPicPr/>
          <p:nvPr/>
        </p:nvPicPr>
        <p:blipFill>
          <a:blip r:embed="rId2"/>
          <a:stretch/>
        </p:blipFill>
        <p:spPr>
          <a:xfrm>
            <a:off x="263520" y="2590920"/>
            <a:ext cx="8769240" cy="4190760"/>
          </a:xfrm>
          <a:prstGeom prst="rect">
            <a:avLst/>
          </a:prstGeom>
          <a:ln w="0">
            <a:noFill/>
          </a:ln>
        </p:spPr>
      </p:pic>
      <p:pic>
        <p:nvPicPr>
          <p:cNvPr id="257" name="Picture 10" descr="station.jpg"/>
          <p:cNvPicPr/>
          <p:nvPr/>
        </p:nvPicPr>
        <p:blipFill>
          <a:blip r:embed="rId3"/>
          <a:stretch/>
        </p:blipFill>
        <p:spPr>
          <a:xfrm>
            <a:off x="3919680" y="744480"/>
            <a:ext cx="2481120" cy="1860480"/>
          </a:xfrm>
          <a:prstGeom prst="rect">
            <a:avLst/>
          </a:prstGeom>
          <a:ln w="0">
            <a:noFill/>
          </a:ln>
        </p:spPr>
      </p:pic>
      <p:pic>
        <p:nvPicPr>
          <p:cNvPr id="258" name="Picture 11" descr="stationmap.png"/>
          <p:cNvPicPr/>
          <p:nvPr/>
        </p:nvPicPr>
        <p:blipFill>
          <a:blip r:embed="rId4"/>
          <a:stretch/>
        </p:blipFill>
        <p:spPr>
          <a:xfrm>
            <a:off x="6539040" y="304920"/>
            <a:ext cx="2438280" cy="2438280"/>
          </a:xfrm>
          <a:prstGeom prst="rect">
            <a:avLst/>
          </a:prstGeom>
          <a:ln w="0">
            <a:noFill/>
          </a:ln>
        </p:spPr>
      </p:pic>
      <p:sp>
        <p:nvSpPr>
          <p:cNvPr id="259" name="Title 1"/>
          <p:cNvSpPr/>
          <p:nvPr/>
        </p:nvSpPr>
        <p:spPr>
          <a:xfrm>
            <a:off x="1168560" y="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5.8 VIRGINIA</a:t>
            </a:r>
            <a:br>
              <a:rPr sz="3500"/>
            </a:br>
            <a:r>
              <a:rPr b="1" lang="es-VE" sz="1500" spc="-1" strike="noStrike">
                <a:solidFill>
                  <a:srgbClr val="11488b"/>
                </a:solidFill>
                <a:latin typeface="Arial"/>
                <a:ea typeface="Arial"/>
              </a:rPr>
              <a:t>Martes, 23 de Agosto, 2011 a las 17:5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4952880" y="6497640"/>
            <a:ext cx="3990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59" name="TextBox 9"/>
          <p:cNvSpPr/>
          <p:nvPr/>
        </p:nvSpPr>
        <p:spPr>
          <a:xfrm>
            <a:off x="328680" y="914400"/>
            <a:ext cx="40352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Un terremoto moderado ocurrió el Martes a las 01:51:04 PM hora local 61 km (38 millas) Noroeste de Richmond, VA y 135 km (84 millas) Suroeste de Washington, D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este mapa, el terremoto (estrella roja) es posicionado con epicentros de terremotos en la región desde 199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sde por lo menos 1774, la población de la región central de Virginia ha sentido pequeños terremotos y han sufrido daños por los terremotos mas fuertes e infrecuentes. El terremoto mas destructivo conocido hasta ahora ocurrió en 1875. El sismo de 1875 ocurrió antes de la invención de sismógrafos modernos, pero el área en donde fue sentido el sismo sugiere que tuvo una magnitud de 4.8. </a:t>
            </a:r>
            <a:endParaRPr b="0" lang="en-US" sz="1600" spc="-1" strike="noStrike">
              <a:solidFill>
                <a:srgbClr val="000000"/>
              </a:solidFill>
              <a:latin typeface="Arial"/>
            </a:endParaRPr>
          </a:p>
        </p:txBody>
      </p:sp>
      <p:pic>
        <p:nvPicPr>
          <p:cNvPr id="60" name="Picture 8" descr="IRIS_TMlogo.png"/>
          <p:cNvPicPr/>
          <p:nvPr/>
        </p:nvPicPr>
        <p:blipFill>
          <a:blip r:embed="rId1"/>
          <a:stretch/>
        </p:blipFill>
        <p:spPr>
          <a:xfrm>
            <a:off x="239760" y="76320"/>
            <a:ext cx="903240" cy="927000"/>
          </a:xfrm>
          <a:prstGeom prst="rect">
            <a:avLst/>
          </a:prstGeom>
          <a:ln w="0">
            <a:noFill/>
          </a:ln>
        </p:spPr>
      </p:pic>
      <p:pic>
        <p:nvPicPr>
          <p:cNvPr id="61" name="Picture 22" descr="SeismicityCaption"/>
          <p:cNvPicPr/>
          <p:nvPr/>
        </p:nvPicPr>
        <p:blipFill>
          <a:blip r:embed="rId2"/>
          <a:stretch/>
        </p:blipFill>
        <p:spPr>
          <a:xfrm>
            <a:off x="304920" y="5943600"/>
            <a:ext cx="4114800" cy="792000"/>
          </a:xfrm>
          <a:prstGeom prst="rect">
            <a:avLst/>
          </a:prstGeom>
          <a:ln w="0">
            <a:noFill/>
          </a:ln>
        </p:spPr>
      </p:pic>
      <p:pic>
        <p:nvPicPr>
          <p:cNvPr id="62" name="Picture 15" descr="historical.jpg"/>
          <p:cNvPicPr/>
          <p:nvPr/>
        </p:nvPicPr>
        <p:blipFill>
          <a:blip r:embed="rId3"/>
          <a:stretch/>
        </p:blipFill>
        <p:spPr>
          <a:xfrm>
            <a:off x="4456080" y="914400"/>
            <a:ext cx="4592520" cy="5529240"/>
          </a:xfrm>
          <a:prstGeom prst="rect">
            <a:avLst/>
          </a:prstGeom>
          <a:ln w="0">
            <a:noFill/>
          </a:ln>
        </p:spPr>
      </p:pic>
      <p:sp>
        <p:nvSpPr>
          <p:cNvPr id="63" name="Title 1"/>
          <p:cNvSpPr/>
          <p:nvPr/>
        </p:nvSpPr>
        <p:spPr>
          <a:xfrm>
            <a:off x="1168560" y="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5.8 VIRGINIA</a:t>
            </a:r>
            <a:br>
              <a:rPr sz="3500"/>
            </a:br>
            <a:r>
              <a:rPr b="1" lang="es-VE" sz="1500" spc="-1" strike="noStrike">
                <a:solidFill>
                  <a:srgbClr val="11488b"/>
                </a:solidFill>
                <a:latin typeface="Arial"/>
                <a:ea typeface="Arial"/>
              </a:rPr>
              <a:t>Martes, 23 de Agosto, 2011 a las 17:5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2" descr="scale.jpg"/>
          <p:cNvPicPr/>
          <p:nvPr/>
        </p:nvPicPr>
        <p:blipFill>
          <a:blip r:embed="rId1"/>
          <a:stretch/>
        </p:blipFill>
        <p:spPr>
          <a:xfrm>
            <a:off x="380880" y="3852720"/>
            <a:ext cx="2127240" cy="2319480"/>
          </a:xfrm>
          <a:prstGeom prst="rect">
            <a:avLst/>
          </a:prstGeom>
          <a:ln w="0">
            <a:noFill/>
          </a:ln>
        </p:spPr>
      </p:pic>
      <p:sp>
        <p:nvSpPr>
          <p:cNvPr id="66" name="TextBox 13"/>
          <p:cNvSpPr/>
          <p:nvPr/>
        </p:nvSpPr>
        <p:spPr>
          <a:xfrm>
            <a:off x="271440" y="338148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67" name="TextBox 14"/>
          <p:cNvSpPr/>
          <p:nvPr/>
        </p:nvSpPr>
        <p:spPr>
          <a:xfrm>
            <a:off x="2576520" y="330048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68" name="TextBox 15"/>
          <p:cNvSpPr/>
          <p:nvPr/>
        </p:nvSpPr>
        <p:spPr>
          <a:xfrm>
            <a:off x="4224240" y="647712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USGS Intensidad de Movimiento Estimada del Terremoto M5.8</a:t>
            </a:r>
            <a:endParaRPr b="0" lang="en-US" sz="1200" spc="-1" strike="noStrike">
              <a:solidFill>
                <a:srgbClr val="000000"/>
              </a:solidFill>
              <a:latin typeface="Arial"/>
            </a:endParaRPr>
          </a:p>
        </p:txBody>
      </p:sp>
      <p:sp>
        <p:nvSpPr>
          <p:cNvPr id="69" name="TextBox 11"/>
          <p:cNvSpPr/>
          <p:nvPr/>
        </p:nvSpPr>
        <p:spPr>
          <a:xfrm>
            <a:off x="228600" y="1011240"/>
            <a:ext cx="865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calas de intensidad de movimiento fueron desarrolladas para estandarizar las mediciones y facilitar la comparación de diferentes terremotos. La modificación de la escala de intensidad de  Marcelli una escala de doce niveles, </a:t>
            </a:r>
            <a:endParaRPr b="0" lang="en-US" sz="1600" spc="-1" strike="noStrike">
              <a:solidFill>
                <a:srgbClr val="000000"/>
              </a:solidFill>
              <a:latin typeface="Arial"/>
            </a:endParaRPr>
          </a:p>
        </p:txBody>
      </p:sp>
      <p:sp>
        <p:nvSpPr>
          <p:cNvPr id="70" name="TextBox 15"/>
          <p:cNvSpPr/>
          <p:nvPr/>
        </p:nvSpPr>
        <p:spPr>
          <a:xfrm>
            <a:off x="228600" y="1752480"/>
            <a:ext cx="396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numeradas del  I al XII. Los números bajos representan los niveles de movimientos imperceptibles, XII representa destrucción total. Un valor IV indica un nivel de movimiento que es sentido por la mayoría de las personas.</a:t>
            </a:r>
            <a:endParaRPr b="0" lang="en-US" sz="1600" spc="-1" strike="noStrike">
              <a:solidFill>
                <a:srgbClr val="000000"/>
              </a:solidFill>
              <a:latin typeface="Arial"/>
            </a:endParaRPr>
          </a:p>
        </p:txBody>
      </p:sp>
      <p:pic>
        <p:nvPicPr>
          <p:cNvPr id="71" name="Picture 8" descr="IRIS_TMlogo.png"/>
          <p:cNvPicPr/>
          <p:nvPr/>
        </p:nvPicPr>
        <p:blipFill>
          <a:blip r:embed="rId2"/>
          <a:stretch/>
        </p:blipFill>
        <p:spPr>
          <a:xfrm>
            <a:off x="239760" y="76320"/>
            <a:ext cx="903240" cy="927000"/>
          </a:xfrm>
          <a:prstGeom prst="rect">
            <a:avLst/>
          </a:prstGeom>
          <a:ln w="0">
            <a:noFill/>
          </a:ln>
        </p:spPr>
      </p:pic>
      <p:sp>
        <p:nvSpPr>
          <p:cNvPr id="72" name="TextBox 15"/>
          <p:cNvSpPr/>
          <p:nvPr/>
        </p:nvSpPr>
        <p:spPr>
          <a:xfrm>
            <a:off x="152280" y="632448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73" name="Title 1"/>
          <p:cNvSpPr/>
          <p:nvPr/>
        </p:nvSpPr>
        <p:spPr>
          <a:xfrm>
            <a:off x="1168560" y="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5.8 VIRGINIA</a:t>
            </a:r>
            <a:br>
              <a:rPr sz="3500"/>
            </a:br>
            <a:r>
              <a:rPr b="1" lang="es-VE" sz="1500" spc="-1" strike="noStrike">
                <a:solidFill>
                  <a:srgbClr val="11488b"/>
                </a:solidFill>
                <a:latin typeface="Arial"/>
                <a:ea typeface="Arial"/>
              </a:rPr>
              <a:t>Martes, 23 de Agosto, 2011 a las 17:51:04 UTC </a:t>
            </a:r>
            <a:endParaRPr b="0" lang="en-US" sz="1500" spc="-1" strike="noStrike">
              <a:solidFill>
                <a:srgbClr val="000000"/>
              </a:solidFill>
              <a:latin typeface="Arial"/>
            </a:endParaRPr>
          </a:p>
        </p:txBody>
      </p:sp>
      <p:pic>
        <p:nvPicPr>
          <p:cNvPr id="74" name="Picture 12" descr="intensity.jpg"/>
          <p:cNvPicPr/>
          <p:nvPr/>
        </p:nvPicPr>
        <p:blipFill>
          <a:blip r:embed="rId3"/>
          <a:srcRect l="0" t="858" r="0" b="0"/>
          <a:stretch/>
        </p:blipFill>
        <p:spPr>
          <a:xfrm>
            <a:off x="3962520" y="1752480"/>
            <a:ext cx="4959360" cy="479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5"/>
          <p:cNvSpPr/>
          <p:nvPr/>
        </p:nvSpPr>
        <p:spPr>
          <a:xfrm>
            <a:off x="4952880" y="934920"/>
            <a:ext cx="401004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15"/>
          <p:cNvSpPr/>
          <p:nvPr/>
        </p:nvSpPr>
        <p:spPr>
          <a:xfrm>
            <a:off x="380880" y="5384880"/>
            <a:ext cx="489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79" name="TextBox 18"/>
          <p:cNvSpPr/>
          <p:nvPr/>
        </p:nvSpPr>
        <p:spPr>
          <a:xfrm>
            <a:off x="228600" y="1139760"/>
            <a:ext cx="4648320" cy="320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mapa localizador del </a:t>
            </a:r>
            <a:r>
              <a:rPr b="0" lang="es-VE" sz="1600" spc="-1" strike="noStrike">
                <a:solidFill>
                  <a:srgbClr val="000000"/>
                </a:solidFill>
                <a:latin typeface="Arial"/>
              </a:rPr>
              <a:t>Servicio Geológico de los EEUU</a:t>
            </a:r>
            <a:r>
              <a:rPr b="0" lang="es-VE" sz="1700" spc="-1" strike="noStrike">
                <a:solidFill>
                  <a:srgbClr val="000000"/>
                </a:solidFill>
                <a:latin typeface="Arial"/>
              </a:rPr>
              <a:t> muestra la población expuesta a diferentes niveles de intensidad modificada Mercalli (MMI).  MMI describe la severidad de un terremoto en términos de sus efectos en estructuras humanas y es una vasta medida de la cantidad de movimientos telúricos en un lugar dado.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n general, la población ene esta región reside en estructuras que son resistentes a los temblores.</a:t>
            </a:r>
            <a:endParaRPr b="0" lang="en-US" sz="1700" spc="-1" strike="noStrike">
              <a:solidFill>
                <a:srgbClr val="000000"/>
              </a:solidFill>
              <a:latin typeface="Arial"/>
            </a:endParaRPr>
          </a:p>
        </p:txBody>
      </p:sp>
      <p:sp>
        <p:nvSpPr>
          <p:cNvPr id="80" name="TextBox 20"/>
          <p:cNvSpPr/>
          <p:nvPr/>
        </p:nvSpPr>
        <p:spPr>
          <a:xfrm>
            <a:off x="239760" y="4394160"/>
            <a:ext cx="4637160" cy="1006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200" spc="-1" strike="noStrike">
              <a:solidFill>
                <a:srgbClr val="000000"/>
              </a:solidFill>
              <a:latin typeface="Arial"/>
            </a:endParaRPr>
          </a:p>
        </p:txBody>
      </p:sp>
      <p:pic>
        <p:nvPicPr>
          <p:cNvPr id="81" name="Picture 10" descr="mmi.jpg"/>
          <p:cNvPicPr/>
          <p:nvPr/>
        </p:nvPicPr>
        <p:blipFill>
          <a:blip r:embed="rId2"/>
          <a:stretch/>
        </p:blipFill>
        <p:spPr>
          <a:xfrm>
            <a:off x="457200" y="5691240"/>
            <a:ext cx="8534520" cy="1143000"/>
          </a:xfrm>
          <a:prstGeom prst="rect">
            <a:avLst/>
          </a:prstGeom>
          <a:ln w="0">
            <a:noFill/>
          </a:ln>
        </p:spPr>
      </p:pic>
      <p:sp>
        <p:nvSpPr>
          <p:cNvPr id="82" name="Title 1"/>
          <p:cNvSpPr/>
          <p:nvPr/>
        </p:nvSpPr>
        <p:spPr>
          <a:xfrm>
            <a:off x="1168560" y="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5.8 VIRGINIA</a:t>
            </a:r>
            <a:br>
              <a:rPr sz="3500"/>
            </a:br>
            <a:r>
              <a:rPr b="1" lang="es-VE" sz="1500" spc="-1" strike="noStrike">
                <a:solidFill>
                  <a:srgbClr val="11488b"/>
                </a:solidFill>
                <a:latin typeface="Arial"/>
                <a:ea typeface="Arial"/>
              </a:rPr>
              <a:t>Martes, 23 de Agosto, 2011 a las 17:51:04 UTC </a:t>
            </a:r>
            <a:endParaRPr b="0" lang="en-US" sz="1500" spc="-1" strike="noStrike">
              <a:solidFill>
                <a:srgbClr val="000000"/>
              </a:solidFill>
              <a:latin typeface="Arial"/>
            </a:endParaRPr>
          </a:p>
        </p:txBody>
      </p:sp>
      <p:pic>
        <p:nvPicPr>
          <p:cNvPr id="83" name="Picture 10" descr="pager.jpg"/>
          <p:cNvPicPr/>
          <p:nvPr/>
        </p:nvPicPr>
        <p:blipFill>
          <a:blip r:embed="rId3"/>
          <a:stretch/>
        </p:blipFill>
        <p:spPr>
          <a:xfrm>
            <a:off x="4952880" y="1600200"/>
            <a:ext cx="3908520" cy="394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IRIS_TMlogo.png"/>
          <p:cNvPicPr/>
          <p:nvPr/>
        </p:nvPicPr>
        <p:blipFill>
          <a:blip r:embed="rId1"/>
          <a:stretch/>
        </p:blipFill>
        <p:spPr>
          <a:xfrm>
            <a:off x="239760" y="76320"/>
            <a:ext cx="903240" cy="927000"/>
          </a:xfrm>
          <a:prstGeom prst="rect">
            <a:avLst/>
          </a:prstGeom>
          <a:ln w="0">
            <a:noFill/>
          </a:ln>
        </p:spPr>
      </p:pic>
      <p:sp>
        <p:nvSpPr>
          <p:cNvPr id="86" name="TextBox 14"/>
          <p:cNvSpPr/>
          <p:nvPr/>
        </p:nvSpPr>
        <p:spPr>
          <a:xfrm>
            <a:off x="217440" y="1066680"/>
            <a:ext cx="54975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terremoto fue sentido a lo largo de la costa desde Carolina del Sur hasta Maine. Los temblores fueron sentidos tan lejos como Atlanta, Detroit, Canadá, hasta la parte mas lejana al oeste como lo es India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Picture 6" descr="craton.gif"/>
          <p:cNvPicPr/>
          <p:nvPr/>
        </p:nvPicPr>
        <p:blipFill>
          <a:blip r:embed="rId2"/>
          <a:stretch/>
        </p:blipFill>
        <p:spPr>
          <a:xfrm>
            <a:off x="5715000" y="231840"/>
            <a:ext cx="3200400" cy="3749760"/>
          </a:xfrm>
          <a:prstGeom prst="rect">
            <a:avLst/>
          </a:prstGeom>
          <a:ln w="0">
            <a:noFill/>
          </a:ln>
        </p:spPr>
      </p:pic>
      <p:pic>
        <p:nvPicPr>
          <p:cNvPr id="88" name="Picture 7" descr="didyoufeelit.jpg"/>
          <p:cNvPicPr/>
          <p:nvPr/>
        </p:nvPicPr>
        <p:blipFill>
          <a:blip r:embed="rId3"/>
          <a:stretch/>
        </p:blipFill>
        <p:spPr>
          <a:xfrm>
            <a:off x="196920" y="2476440"/>
            <a:ext cx="4375080" cy="4343400"/>
          </a:xfrm>
          <a:prstGeom prst="rect">
            <a:avLst/>
          </a:prstGeom>
          <a:ln w="0">
            <a:noFill/>
          </a:ln>
        </p:spPr>
      </p:pic>
      <p:sp>
        <p:nvSpPr>
          <p:cNvPr id="89" name="TextBox 9"/>
          <p:cNvSpPr/>
          <p:nvPr/>
        </p:nvSpPr>
        <p:spPr>
          <a:xfrm>
            <a:off x="4724280" y="4133880"/>
            <a:ext cx="434340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ientras que los terremotos en la parte este de los Estados Unidos son menos frecuentes que en la parte oeste de los Estados Unidos, estos son típicamente sentidos en una región mas amplia. Algunas veces, un terremoto puede ser sentido sobre un área tanto como 10 veces mas grande que un terremoto de magnitud similar en la costa oeste. Esto es debido a la facilidad de propagación de ondas a través del cratón Norteamericano (Un cratón es una parte estable y antigua de la litosfera continen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TextBox 10"/>
          <p:cNvSpPr/>
          <p:nvPr/>
        </p:nvSpPr>
        <p:spPr>
          <a:xfrm>
            <a:off x="187200" y="2133720"/>
            <a:ext cx="5451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ovimiento reportada a través de USGS “Lo sentiste?”</a:t>
            </a:r>
            <a:endParaRPr b="0" lang="en-US" sz="1200" spc="-1" strike="noStrike">
              <a:solidFill>
                <a:srgbClr val="000000"/>
              </a:solidFill>
              <a:latin typeface="Arial"/>
            </a:endParaRPr>
          </a:p>
        </p:txBody>
      </p:sp>
      <p:sp>
        <p:nvSpPr>
          <p:cNvPr id="91" name="Title 1"/>
          <p:cNvSpPr/>
          <p:nvPr/>
        </p:nvSpPr>
        <p:spPr>
          <a:xfrm>
            <a:off x="1168560" y="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5.8 VIRGINIA</a:t>
            </a:r>
            <a:br>
              <a:rPr sz="3500"/>
            </a:br>
            <a:r>
              <a:rPr b="1" lang="es-VE" sz="1500" spc="-1" strike="noStrike">
                <a:solidFill>
                  <a:srgbClr val="11488b"/>
                </a:solidFill>
                <a:latin typeface="Arial"/>
                <a:ea typeface="Arial"/>
              </a:rPr>
              <a:t>Martes, 23 de Agosto, 2011 a las 17:5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8" descr="IRIS_TMlogo.png"/>
          <p:cNvPicPr/>
          <p:nvPr/>
        </p:nvPicPr>
        <p:blipFill>
          <a:blip r:embed="rId1"/>
          <a:stretch/>
        </p:blipFill>
        <p:spPr>
          <a:xfrm>
            <a:off x="239760" y="76320"/>
            <a:ext cx="903240" cy="927000"/>
          </a:xfrm>
          <a:prstGeom prst="rect">
            <a:avLst/>
          </a:prstGeom>
          <a:ln w="0">
            <a:noFill/>
          </a:ln>
        </p:spPr>
      </p:pic>
      <p:sp>
        <p:nvSpPr>
          <p:cNvPr id="94" name="TextBox 5"/>
          <p:cNvSpPr/>
          <p:nvPr/>
        </p:nvSpPr>
        <p:spPr>
          <a:xfrm>
            <a:off x="187200" y="6188040"/>
            <a:ext cx="38102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rr, Arthur C., and Wheeler, Russell L., 2006, Earthquakes in Virginia and vicinity 1774 - 2004: U.S. Geological Survey Open-File Report 2006–1017.</a:t>
            </a:r>
            <a:endParaRPr b="0" lang="en-US" sz="1200" spc="-1" strike="noStrike">
              <a:solidFill>
                <a:srgbClr val="000000"/>
              </a:solidFill>
              <a:latin typeface="Arial"/>
            </a:endParaRPr>
          </a:p>
        </p:txBody>
      </p:sp>
      <p:sp>
        <p:nvSpPr>
          <p:cNvPr id="95" name="TextBox 5"/>
          <p:cNvSpPr/>
          <p:nvPr/>
        </p:nvSpPr>
        <p:spPr>
          <a:xfrm>
            <a:off x="5562720" y="5842080"/>
            <a:ext cx="35049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Peligro Sísmico es expresado en aceleración pico del suelo (PGA) sobre roca firme, en porcentaje g, esperando que exceda en un intervalo de 50 años con una probabilidad de dos porciento.</a:t>
            </a:r>
            <a:endParaRPr b="0" lang="en-US" sz="1200" spc="-1" strike="noStrike">
              <a:solidFill>
                <a:srgbClr val="000000"/>
              </a:solidFill>
              <a:latin typeface="Arial"/>
            </a:endParaRPr>
          </a:p>
        </p:txBody>
      </p:sp>
      <p:pic>
        <p:nvPicPr>
          <p:cNvPr id="96" name="Picture 9" descr="hazard2.png"/>
          <p:cNvPicPr/>
          <p:nvPr/>
        </p:nvPicPr>
        <p:blipFill>
          <a:blip r:embed="rId2"/>
          <a:stretch/>
        </p:blipFill>
        <p:spPr>
          <a:xfrm>
            <a:off x="3505320" y="1066680"/>
            <a:ext cx="5460840" cy="4759560"/>
          </a:xfrm>
          <a:prstGeom prst="rect">
            <a:avLst/>
          </a:prstGeom>
          <a:ln w="0">
            <a:noFill/>
          </a:ln>
        </p:spPr>
      </p:pic>
      <p:sp>
        <p:nvSpPr>
          <p:cNvPr id="97" name="TextBox 10"/>
          <p:cNvSpPr/>
          <p:nvPr/>
        </p:nvSpPr>
        <p:spPr>
          <a:xfrm>
            <a:off x="304920" y="1143000"/>
            <a:ext cx="304776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terremoto ocurrió como falla inversa en un plano de movimiento noreste dentro de una zona sísmica reconocida previamente, ‘La Zona Sísmica de Virginia Centr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Zona Sísmica de Virginia Central ha producido terremotos pequeños y moderados desde el siglo 18.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Sismicidad previa no ha sido asociada con ninguna falla existente en los mapas y en cambio se ha pensado que ha ocurrido sobre un área de aproximadamente 150km de largo y ancho definiendo la amplia región fu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8" name="Picture 12" descr="hazlegend.png"/>
          <p:cNvPicPr/>
          <p:nvPr/>
        </p:nvPicPr>
        <p:blipFill>
          <a:blip r:embed="rId3"/>
          <a:stretch/>
        </p:blipFill>
        <p:spPr>
          <a:xfrm>
            <a:off x="4267080" y="4800600"/>
            <a:ext cx="1122480" cy="1905120"/>
          </a:xfrm>
          <a:prstGeom prst="rect">
            <a:avLst/>
          </a:prstGeom>
          <a:ln w="9360">
            <a:solidFill>
              <a:srgbClr val="4f81bd"/>
            </a:solidFill>
            <a:miter/>
          </a:ln>
        </p:spPr>
      </p:pic>
      <p:sp>
        <p:nvSpPr>
          <p:cNvPr id="99" name="TextBox 13"/>
          <p:cNvSpPr/>
          <p:nvPr/>
        </p:nvSpPr>
        <p:spPr>
          <a:xfrm>
            <a:off x="4419720" y="838080"/>
            <a:ext cx="3962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Peligro Sísmico Generalizado</a:t>
            </a:r>
            <a:endParaRPr b="0" lang="en-US" sz="1600" spc="-1" strike="noStrike">
              <a:solidFill>
                <a:srgbClr val="000000"/>
              </a:solidFill>
              <a:latin typeface="Arial"/>
            </a:endParaRPr>
          </a:p>
        </p:txBody>
      </p:sp>
      <p:sp>
        <p:nvSpPr>
          <p:cNvPr id="100" name="Title 1"/>
          <p:cNvSpPr/>
          <p:nvPr/>
        </p:nvSpPr>
        <p:spPr>
          <a:xfrm>
            <a:off x="1168560" y="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5.8 VIRGINIA</a:t>
            </a:r>
            <a:br>
              <a:rPr sz="3500"/>
            </a:br>
            <a:r>
              <a:rPr b="1" lang="es-VE" sz="1500" spc="-1" strike="noStrike">
                <a:solidFill>
                  <a:srgbClr val="11488b"/>
                </a:solidFill>
                <a:latin typeface="Arial"/>
                <a:ea typeface="Arial"/>
              </a:rPr>
              <a:t>Martes, 23 de Agosto, 2011 a las 17:5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8" descr="IRIS_TMlogo.png"/>
          <p:cNvPicPr/>
          <p:nvPr/>
        </p:nvPicPr>
        <p:blipFill>
          <a:blip r:embed="rId1"/>
          <a:stretch/>
        </p:blipFill>
        <p:spPr>
          <a:xfrm>
            <a:off x="239760" y="76320"/>
            <a:ext cx="903240" cy="927000"/>
          </a:xfrm>
          <a:prstGeom prst="rect">
            <a:avLst/>
          </a:prstGeom>
          <a:ln w="0">
            <a:noFill/>
          </a:ln>
        </p:spPr>
      </p:pic>
      <p:sp>
        <p:nvSpPr>
          <p:cNvPr id="103" name="TextBox 14"/>
          <p:cNvSpPr/>
          <p:nvPr/>
        </p:nvSpPr>
        <p:spPr>
          <a:xfrm>
            <a:off x="217440" y="1066680"/>
            <a:ext cx="5268960" cy="557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ste terremoto ocurrió como fallado inverso sobre un plano de movimiento noreste dentro de una zona sísmica reconocida previamente en Virginia Centra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Mientras que la zona sísmica era conocida, las fallas individuales no están mapeadas correctamente, y con frecuencia difícil de caracterizar hasta que un terremoto ocurre sobre dichas falla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Desde los datos registrados por un sismógrafo seguido de un terremoto, la falla que causo el terremoto puede ser caracterizada por orientación (choque) y las fuerzas posibles que causaron el rompimiento de la roca (tipo de fall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Una falla inversa es causada por fuerzas de compresión. A lo largo de una falla inversa, un bloque rocoso es empujado hacia arriba con respecto a la roca debajo de la fall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l choque es la tendencia o marcación, relativa al norte de la línea definida por la intersección de una superficie geológica plana (en este ejemplo, la superficie de la falla presumida) y una superficie horizontal así como el suelo.</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04" name="Picture 11" descr="reversefault.gif"/>
          <p:cNvPicPr/>
          <p:nvPr/>
        </p:nvPicPr>
        <p:blipFill>
          <a:blip r:embed="rId2"/>
          <a:stretch/>
        </p:blipFill>
        <p:spPr>
          <a:xfrm>
            <a:off x="6019920" y="1066680"/>
            <a:ext cx="2673360" cy="1447920"/>
          </a:xfrm>
          <a:prstGeom prst="rect">
            <a:avLst/>
          </a:prstGeom>
          <a:ln w="0">
            <a:noFill/>
          </a:ln>
        </p:spPr>
      </p:pic>
      <p:pic>
        <p:nvPicPr>
          <p:cNvPr id="105" name="Picture 12" descr="STRIKE.gif"/>
          <p:cNvPicPr/>
          <p:nvPr/>
        </p:nvPicPr>
        <p:blipFill>
          <a:blip r:embed="rId3"/>
          <a:stretch/>
        </p:blipFill>
        <p:spPr>
          <a:xfrm>
            <a:off x="5943600" y="3762360"/>
            <a:ext cx="3068640" cy="3019320"/>
          </a:xfrm>
          <a:prstGeom prst="rect">
            <a:avLst/>
          </a:prstGeom>
          <a:ln w="0">
            <a:noFill/>
          </a:ln>
        </p:spPr>
      </p:pic>
      <p:sp>
        <p:nvSpPr>
          <p:cNvPr id="106" name="TextBox 13"/>
          <p:cNvSpPr/>
          <p:nvPr/>
        </p:nvSpPr>
        <p:spPr>
          <a:xfrm>
            <a:off x="3352680" y="6521400"/>
            <a:ext cx="3353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 Charles Ammon</a:t>
            </a:r>
            <a:endParaRPr b="0" lang="en-US" sz="1200" spc="-1" strike="noStrike">
              <a:solidFill>
                <a:srgbClr val="000000"/>
              </a:solidFill>
              <a:latin typeface="Arial"/>
            </a:endParaRPr>
          </a:p>
        </p:txBody>
      </p:sp>
      <p:sp>
        <p:nvSpPr>
          <p:cNvPr id="107" name="TextBox 15"/>
          <p:cNvSpPr/>
          <p:nvPr/>
        </p:nvSpPr>
        <p:spPr>
          <a:xfrm>
            <a:off x="6019920" y="3610080"/>
            <a:ext cx="3352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ike</a:t>
            </a:r>
            <a:endParaRPr b="0" lang="en-US" sz="1400" spc="-1" strike="noStrike">
              <a:solidFill>
                <a:srgbClr val="000000"/>
              </a:solidFill>
              <a:latin typeface="Arial"/>
            </a:endParaRPr>
          </a:p>
        </p:txBody>
      </p:sp>
      <p:sp>
        <p:nvSpPr>
          <p:cNvPr id="108" name="TextBox 15"/>
          <p:cNvSpPr/>
          <p:nvPr/>
        </p:nvSpPr>
        <p:spPr>
          <a:xfrm>
            <a:off x="5334120" y="2619360"/>
            <a:ext cx="3886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109" name="TextBox 17"/>
          <p:cNvSpPr/>
          <p:nvPr/>
        </p:nvSpPr>
        <p:spPr>
          <a:xfrm>
            <a:off x="6705720" y="609480"/>
            <a:ext cx="16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Falla Inversa</a:t>
            </a:r>
            <a:endParaRPr b="0" lang="en-US" sz="1400" spc="-1" strike="noStrike">
              <a:solidFill>
                <a:srgbClr val="000000"/>
              </a:solidFill>
              <a:latin typeface="Arial"/>
            </a:endParaRPr>
          </a:p>
        </p:txBody>
      </p:sp>
      <p:sp>
        <p:nvSpPr>
          <p:cNvPr id="110" name="Title 1"/>
          <p:cNvSpPr/>
          <p:nvPr/>
        </p:nvSpPr>
        <p:spPr>
          <a:xfrm>
            <a:off x="1168560" y="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5.8 VIRGINIA</a:t>
            </a:r>
            <a:br>
              <a:rPr sz="3500"/>
            </a:br>
            <a:r>
              <a:rPr b="1" lang="es-VE" sz="1500" spc="-1" strike="noStrike">
                <a:solidFill>
                  <a:srgbClr val="11488b"/>
                </a:solidFill>
                <a:latin typeface="Arial"/>
                <a:ea typeface="Arial"/>
              </a:rPr>
              <a:t>Martes, 23 de Agosto, 2011 a las 17:5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18" descr="IRIS_TMlogo.png"/>
          <p:cNvPicPr/>
          <p:nvPr/>
        </p:nvPicPr>
        <p:blipFill>
          <a:blip r:embed="rId1"/>
          <a:stretch/>
        </p:blipFill>
        <p:spPr>
          <a:xfrm>
            <a:off x="239760" y="76320"/>
            <a:ext cx="903240" cy="927000"/>
          </a:xfrm>
          <a:prstGeom prst="rect">
            <a:avLst/>
          </a:prstGeom>
          <a:ln w="0">
            <a:noFill/>
          </a:ln>
        </p:spPr>
      </p:pic>
      <p:sp>
        <p:nvSpPr>
          <p:cNvPr id="113" name="TextBox 7"/>
          <p:cNvSpPr/>
          <p:nvPr/>
        </p:nvSpPr>
        <p:spPr>
          <a:xfrm>
            <a:off x="304920" y="1073160"/>
            <a:ext cx="557352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l Geofísico del Servicio Geológico de los EEUU Mary Lou Zoback ha estudiado el estado de estrés en las placas tectónicas, especialmente la placa de Norteamérica. Usando cientos de mediciones de estrés, ella y compañeros de trabajo compilaron un mapa de provincias de estrés en los límites de los Estados Unidos. La Costa Atlántica y la porción interior adyacente del mapa son mostrado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Nota que la dirección de la compresión dentro de la región de la Costa Atlántica esta orientada desde una dirección oeste-noroeste hacia una dirección este-sureste. Interesantemente, este terremoto fue producido por una falla de cabalgamiento con la dirección de compresión orientada oeste-noroeste hacia este-sureste, consistentes con el patron nacional sobre la Costa este de los EEUU.</a:t>
            </a:r>
            <a:endParaRPr b="0" lang="en-US" sz="1500" spc="-1" strike="noStrike">
              <a:solidFill>
                <a:srgbClr val="000000"/>
              </a:solidFill>
              <a:latin typeface="Arial"/>
            </a:endParaRPr>
          </a:p>
        </p:txBody>
      </p:sp>
      <p:sp>
        <p:nvSpPr>
          <p:cNvPr id="114" name="TextBox 8"/>
          <p:cNvSpPr/>
          <p:nvPr/>
        </p:nvSpPr>
        <p:spPr>
          <a:xfrm>
            <a:off x="2209680" y="4710240"/>
            <a:ext cx="3429000" cy="160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rPr>
              <a:t>Las áreas sombreadas muestran cuadrantes de la esfera focal en donde los primeros movimientos de las ondas P se alejan de la fuente, las áreas sin sombrear muestran cuadrantes en donde los primeros movimientos de las ondas P se acercan a la fuente. Los puntos representan los ejes de máximo esfuerzo compresional (en negro, llamado el “eje P”) y el eje de máximo esfuerzo extensional (en blanco, “el eje T”) resultando del terremoto</a:t>
            </a:r>
            <a:endParaRPr b="0" lang="en-US" sz="1100" spc="-1" strike="noStrike">
              <a:solidFill>
                <a:srgbClr val="000000"/>
              </a:solidFill>
              <a:latin typeface="Arial"/>
            </a:endParaRPr>
          </a:p>
        </p:txBody>
      </p:sp>
      <p:pic>
        <p:nvPicPr>
          <p:cNvPr id="115" name="Picture 10" descr="stress"/>
          <p:cNvPicPr/>
          <p:nvPr/>
        </p:nvPicPr>
        <p:blipFill>
          <a:blip r:embed="rId2"/>
          <a:stretch/>
        </p:blipFill>
        <p:spPr>
          <a:xfrm>
            <a:off x="5867280" y="76320"/>
            <a:ext cx="3200400" cy="5943600"/>
          </a:xfrm>
          <a:prstGeom prst="rect">
            <a:avLst/>
          </a:prstGeom>
          <a:ln w="0">
            <a:noFill/>
          </a:ln>
        </p:spPr>
      </p:pic>
      <p:pic>
        <p:nvPicPr>
          <p:cNvPr id="116" name="Picture 10" descr="focal.gif"/>
          <p:cNvPicPr/>
          <p:nvPr/>
        </p:nvPicPr>
        <p:blipFill>
          <a:blip r:embed="rId3"/>
          <a:stretch/>
        </p:blipFill>
        <p:spPr>
          <a:xfrm>
            <a:off x="304920" y="4714920"/>
            <a:ext cx="1761840" cy="1762200"/>
          </a:xfrm>
          <a:prstGeom prst="rect">
            <a:avLst/>
          </a:prstGeom>
          <a:ln w="0">
            <a:noFill/>
          </a:ln>
        </p:spPr>
      </p:pic>
      <p:sp>
        <p:nvSpPr>
          <p:cNvPr id="117" name="TextBox 12"/>
          <p:cNvSpPr/>
          <p:nvPr/>
        </p:nvSpPr>
        <p:spPr>
          <a:xfrm>
            <a:off x="5867280" y="602784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M. L. Zoback y M. Zoback, Estado de estrés en los límites de los Estados Unidos, J. Geophys. Res., v. 85, p. 6113-6156, 1980.</a:t>
            </a:r>
            <a:endParaRPr b="0" lang="en-US" sz="1200" spc="-1" strike="noStrike">
              <a:solidFill>
                <a:srgbClr val="000000"/>
              </a:solidFill>
              <a:latin typeface="Arial"/>
            </a:endParaRPr>
          </a:p>
        </p:txBody>
      </p:sp>
      <p:sp>
        <p:nvSpPr>
          <p:cNvPr id="118" name="Title 1"/>
          <p:cNvSpPr/>
          <p:nvPr/>
        </p:nvSpPr>
        <p:spPr>
          <a:xfrm>
            <a:off x="1168560" y="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5.8 VIRGINIA</a:t>
            </a:r>
            <a:br>
              <a:rPr sz="3500"/>
            </a:br>
            <a:r>
              <a:rPr b="1" lang="es-VE" sz="1500" spc="-1" strike="noStrike">
                <a:solidFill>
                  <a:srgbClr val="11488b"/>
                </a:solidFill>
                <a:latin typeface="Arial"/>
                <a:ea typeface="Arial"/>
              </a:rPr>
              <a:t>Martes, 23 de Agosto, 2011 a las 17:51:04 UTC </a:t>
            </a:r>
            <a:endParaRPr b="0" lang="en-US" sz="1500" spc="-1" strike="noStrike">
              <a:solidFill>
                <a:srgbClr val="000000"/>
              </a:solidFill>
              <a:latin typeface="Arial"/>
            </a:endParaRPr>
          </a:p>
        </p:txBody>
      </p:sp>
      <p:sp>
        <p:nvSpPr>
          <p:cNvPr id="119" name="TextBox 11"/>
          <p:cNvSpPr/>
          <p:nvPr/>
        </p:nvSpPr>
        <p:spPr>
          <a:xfrm>
            <a:off x="304920" y="6512040"/>
            <a:ext cx="3962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Tensor Momento Sísmico-Centroide, USG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18" descr="IRIS_TMlogo.png"/>
          <p:cNvPicPr/>
          <p:nvPr/>
        </p:nvPicPr>
        <p:blipFill>
          <a:blip r:embed="rId1"/>
          <a:stretch/>
        </p:blipFill>
        <p:spPr>
          <a:xfrm>
            <a:off x="239760" y="76320"/>
            <a:ext cx="903240" cy="927000"/>
          </a:xfrm>
          <a:prstGeom prst="rect">
            <a:avLst/>
          </a:prstGeom>
          <a:ln w="0">
            <a:noFill/>
          </a:ln>
        </p:spPr>
      </p:pic>
      <p:sp>
        <p:nvSpPr>
          <p:cNvPr id="122" name="TextBox 93"/>
          <p:cNvSpPr/>
          <p:nvPr/>
        </p:nvSpPr>
        <p:spPr>
          <a:xfrm>
            <a:off x="293760" y="1114560"/>
            <a:ext cx="8686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tonces, que cuenta por la dirección de compresión oeste-noroeste al este-sureste  dentro de la Región de la Costa Atlántica? Numerosas ideas han sido procesadas. En la escala de las placas del mundo, dos fuerzas determinan el hundimiento y empuje y de las plac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  </a:t>
            </a:r>
            <a:r>
              <a:rPr b="0" lang="es-VE" sz="1600" spc="-1" strike="noStrike">
                <a:solidFill>
                  <a:srgbClr val="000000"/>
                </a:solidFill>
                <a:latin typeface="Arial"/>
              </a:rPr>
              <a:t>Una fuerza es ‘empuje de cordillera’ que empuja las placas y las aleja del límite de la placa divergente  en las dorsales oceánicas.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  </a:t>
            </a:r>
            <a:r>
              <a:rPr b="0" lang="es-VE" sz="1600" spc="-1" strike="noStrike">
                <a:solidFill>
                  <a:srgbClr val="000000"/>
                </a:solidFill>
                <a:latin typeface="Arial"/>
              </a:rPr>
              <a:t>La otra fuerza dominante es ‘hundimiento del bloque’ o el ‘hundimiento de la fosa’ que hunde las placas oceánicas que se subducen debajo y dentro de las fosas oceánicas en los límites de placas convergentes.  </a:t>
            </a:r>
            <a:endParaRPr b="0" lang="en-US" sz="1600" spc="-1" strike="noStrike">
              <a:solidFill>
                <a:srgbClr val="000000"/>
              </a:solidFill>
              <a:latin typeface="Arial"/>
            </a:endParaRPr>
          </a:p>
        </p:txBody>
      </p:sp>
      <p:pic>
        <p:nvPicPr>
          <p:cNvPr id="123" name="Picture 101" descr="slab-ridge.gif"/>
          <p:cNvPicPr/>
          <p:nvPr/>
        </p:nvPicPr>
        <p:blipFill>
          <a:blip r:embed="rId2"/>
          <a:stretch/>
        </p:blipFill>
        <p:spPr>
          <a:xfrm>
            <a:off x="380880" y="3876840"/>
            <a:ext cx="8445600" cy="2752560"/>
          </a:xfrm>
          <a:prstGeom prst="rect">
            <a:avLst/>
          </a:prstGeom>
          <a:ln w="0">
            <a:noFill/>
          </a:ln>
        </p:spPr>
      </p:pic>
      <p:sp>
        <p:nvSpPr>
          <p:cNvPr id="124" name="TextBox 102"/>
          <p:cNvSpPr/>
          <p:nvPr/>
        </p:nvSpPr>
        <p:spPr>
          <a:xfrm>
            <a:off x="7086600" y="6400800"/>
            <a:ext cx="2057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dificada del UCSD</a:t>
            </a:r>
            <a:endParaRPr b="0" lang="en-US" sz="1200" spc="-1" strike="noStrike">
              <a:solidFill>
                <a:srgbClr val="000000"/>
              </a:solidFill>
              <a:latin typeface="Arial"/>
            </a:endParaRPr>
          </a:p>
        </p:txBody>
      </p:sp>
      <p:sp>
        <p:nvSpPr>
          <p:cNvPr id="125" name="Title 1"/>
          <p:cNvSpPr/>
          <p:nvPr/>
        </p:nvSpPr>
        <p:spPr>
          <a:xfrm>
            <a:off x="1168560" y="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5.8 VIRGINIA</a:t>
            </a:r>
            <a:br>
              <a:rPr sz="3500"/>
            </a:br>
            <a:r>
              <a:rPr b="1" lang="es-VE" sz="1500" spc="-1" strike="noStrike">
                <a:solidFill>
                  <a:srgbClr val="11488b"/>
                </a:solidFill>
                <a:latin typeface="Arial"/>
                <a:ea typeface="Arial"/>
              </a:rPr>
              <a:t>Martes, 23 de Agosto, 2011 a las 17:5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1-08-29T04:29:26Z</dcterms:modified>
  <cp:revision>664</cp:revision>
  <dc:subject/>
  <dc:title>Slide 1</dc:title>
</cp:coreProperties>
</file>