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12.png" ContentType="image/png"/>
  <Override PartName="/ppt/media/image7.png" ContentType="image/png"/>
  <Override PartName="/ppt/media/image5.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15.jpeg" ContentType="image/jpeg"/>
  <Override PartName="/ppt/media/image17.png" ContentType="image/png"/>
  <Override PartName="/ppt/media/image16.png" ContentType="image/png"/>
  <Override PartName="/ppt/media/image14.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A2E74-B716-49F1-961F-8A89281A647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C3E20-5F18-4E7E-88CC-17377FB21C4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2A18-3465-482E-9163-2F646B1339D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A570F-9EA6-41D0-B01C-60310F4DE3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7D895-EDBE-4A76-B637-FD3CA7D9906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5175-476D-40D3-8E2F-A160B77DA72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C0ED-B6D6-4F0C-9197-A5C1B863A09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5A13F-9D27-4CF3-A2B0-FC93C7E9A60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9253-334E-4C4D-86A0-DA6705723A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674C4-708B-4100-ADD2-F0F45C1A74E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714ED-A56F-4028-B1DD-10C5A3AB6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244A1-018F-4FB5-9C2B-102375338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91D08-425B-432E-8CB0-0FD62E53F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C6171-B84A-4F94-A33E-0812F35DD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A15C6-A041-4EC9-841D-4D9262D00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BC429-1D64-4C66-8CDA-1B0293D8F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60D91-7DF4-4BC9-9693-41AA8116C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AB2A8-A0CF-41EA-846D-BB66BF21A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B0387-6CFC-4B96-BE48-003A35FE8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FA2A1-BF02-4222-BFC8-379C2156D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64577-3DAB-4ADB-A329-15584728F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05348-0018-443E-8868-7DDE05802C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52DE1-6125-400D-BC81-04FB6A0403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OESTE DEL NORTE DE SUMATRA</a:t>
            </a:r>
            <a:br>
              <a:rPr sz="3500"/>
            </a:br>
            <a:r>
              <a:rPr b="1" lang="es-VE" sz="1500" spc="-1" strike="noStrike">
                <a:solidFill>
                  <a:srgbClr val="11488b"/>
                </a:solidFill>
                <a:latin typeface="Arial"/>
                <a:ea typeface="Arial"/>
              </a:rPr>
              <a:t>Martes, 10 de Enero, 2012 a las  18:37:01 UTC </a:t>
            </a:r>
            <a:endParaRPr b="0" lang="en-US" sz="1500" spc="-1" strike="noStrike">
              <a:solidFill>
                <a:srgbClr val="000000"/>
              </a:solidFill>
              <a:latin typeface="Arial"/>
            </a:endParaRPr>
          </a:p>
        </p:txBody>
      </p:sp>
      <p:sp>
        <p:nvSpPr>
          <p:cNvPr id="51" name="TextBox 9"/>
          <p:cNvSpPr/>
          <p:nvPr/>
        </p:nvSpPr>
        <p:spPr>
          <a:xfrm>
            <a:off x="228600" y="1066680"/>
            <a:ext cx="6553080" cy="2452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Un fuerte sismo ocurrió en las afueras de la costa oeste del norte de Sumatra a las 12:37 a.m. hora local a una profundidad de 18.1 millas.  El terremoto estuvo centrado en el Océano Índico aproximadamente 262 millas al suroeste de Banda Aceh, Sumatra, Indonesia.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No hubo reportes inmediatos de daños. Los reportes varían sobre la reacción en Banda Aceh, pero son consistentes cuando describen el estado de nervios de los pobladores debido a la posibilidad de la llegada de grandes olas a la cost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2" name="Rectangle 7"/>
          <p:cNvSpPr/>
          <p:nvPr/>
        </p:nvSpPr>
        <p:spPr>
          <a:xfrm>
            <a:off x="2351160" y="6529320"/>
            <a:ext cx="68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NN</a:t>
            </a:r>
            <a:endParaRPr b="0" lang="en-US" sz="1200" spc="-1" strike="noStrike">
              <a:solidFill>
                <a:srgbClr val="000000"/>
              </a:solidFill>
              <a:latin typeface="Arial"/>
            </a:endParaRPr>
          </a:p>
        </p:txBody>
      </p:sp>
      <p:sp>
        <p:nvSpPr>
          <p:cNvPr id="53" name="TextBox 12"/>
          <p:cNvSpPr/>
          <p:nvPr/>
        </p:nvSpPr>
        <p:spPr>
          <a:xfrm>
            <a:off x="228600" y="3124080"/>
            <a:ext cx="2514600" cy="338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Banda Aceh fue estremecida fuertemente en Diciembre 2004 cuando 150,000 personas perecieron durante el terremoto de magnitud 9.1 ocurrido en las afueras del norte de Sumatra y el tsunami resultante de dicho sismo.</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M</a:t>
            </a:r>
            <a:r>
              <a:rPr b="0" lang="es-VE" sz="1600" spc="-1" strike="noStrike">
                <a:solidFill>
                  <a:srgbClr val="000000"/>
                </a:solidFill>
                <a:latin typeface="Arial"/>
              </a:rPr>
              <a:t>á</a:t>
            </a:r>
            <a:r>
              <a:rPr b="0" lang="es-VE" sz="1500" spc="-1" strike="noStrike">
                <a:solidFill>
                  <a:srgbClr val="000000"/>
                </a:solidFill>
                <a:latin typeface="Arial"/>
              </a:rPr>
              <a:t>s de 227,000 personas fallecieron en los alrededores del Océano Índico debido al tsunami.</a:t>
            </a:r>
            <a:endParaRPr b="0" lang="en-US" sz="1500" spc="-1" strike="noStrike">
              <a:solidFill>
                <a:srgbClr val="000000"/>
              </a:solidFill>
              <a:latin typeface="Arial"/>
            </a:endParaRPr>
          </a:p>
        </p:txBody>
      </p:sp>
      <p:pic>
        <p:nvPicPr>
          <p:cNvPr id="54" name="Picture 9" descr="regionalmap.png"/>
          <p:cNvPicPr/>
          <p:nvPr/>
        </p:nvPicPr>
        <p:blipFill>
          <a:blip r:embed="rId2"/>
          <a:stretch/>
        </p:blipFill>
        <p:spPr>
          <a:xfrm>
            <a:off x="2895480" y="3295800"/>
            <a:ext cx="6096240" cy="3438360"/>
          </a:xfrm>
          <a:prstGeom prst="rect">
            <a:avLst/>
          </a:prstGeom>
          <a:ln w="0">
            <a:noFill/>
          </a:ln>
        </p:spPr>
      </p:pic>
      <p:pic>
        <p:nvPicPr>
          <p:cNvPr id="55" name="Picture 10" descr="globe.jpg"/>
          <p:cNvPicPr/>
          <p:nvPr/>
        </p:nvPicPr>
        <p:blipFill>
          <a:blip r:embed="rId3"/>
          <a:stretch/>
        </p:blipFill>
        <p:spPr>
          <a:xfrm>
            <a:off x="6934320" y="990720"/>
            <a:ext cx="1854000" cy="185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IRIS_TMlogo.png"/>
          <p:cNvPicPr/>
          <p:nvPr/>
        </p:nvPicPr>
        <p:blipFill>
          <a:blip r:embed="rId1"/>
          <a:stretch/>
        </p:blipFill>
        <p:spPr>
          <a:xfrm>
            <a:off x="239760" y="76320"/>
            <a:ext cx="903240" cy="927000"/>
          </a:xfrm>
          <a:prstGeom prst="rect">
            <a:avLst/>
          </a:prstGeom>
          <a:ln w="0">
            <a:noFill/>
          </a:ln>
        </p:spPr>
      </p:pic>
      <p:sp>
        <p:nvSpPr>
          <p:cNvPr id="58" name="TextBox 9"/>
          <p:cNvSpPr/>
          <p:nvPr/>
        </p:nvSpPr>
        <p:spPr>
          <a:xfrm>
            <a:off x="228600" y="1143000"/>
            <a:ext cx="4191120" cy="453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393996"/>
                </a:solidFill>
                <a:latin typeface="Arial"/>
              </a:rPr>
              <a:t>Histórico Terremoto M9.1 200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zona roja muestra los aproximados1200 km de área fracturada por el terremoto de magnitud 9.1 que ocurrió en la región el 26 de Diciembre, 20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choque inicial del terremoto del 2004 esta representado por la estrella amarilla y las réplicas están ploteadas a lo largo de la zona de ruptura, con puntos amarill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393996"/>
                </a:solidFill>
                <a:latin typeface="Arial"/>
              </a:rPr>
              <a:t>Terremoto Actual M7.3 2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rremoto del 10 de Enero, 2012 esta representado por una estrella roj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9" name="Group 13"/>
          <p:cNvGrpSpPr/>
          <p:nvPr/>
        </p:nvGrpSpPr>
        <p:grpSpPr>
          <a:xfrm>
            <a:off x="4724280" y="576360"/>
            <a:ext cx="4241880" cy="6129360"/>
            <a:chOff x="4724280" y="576360"/>
            <a:chExt cx="4241880" cy="6129360"/>
          </a:xfrm>
        </p:grpSpPr>
        <p:pic>
          <p:nvPicPr>
            <p:cNvPr id="60" name="Picture 8" descr="Picture2.png"/>
            <p:cNvPicPr/>
            <p:nvPr/>
          </p:nvPicPr>
          <p:blipFill>
            <a:blip r:embed="rId2"/>
            <a:stretch/>
          </p:blipFill>
          <p:spPr>
            <a:xfrm>
              <a:off x="4724280" y="576360"/>
              <a:ext cx="4241880" cy="6129360"/>
            </a:xfrm>
            <a:prstGeom prst="rect">
              <a:avLst/>
            </a:prstGeom>
            <a:ln w="0">
              <a:noFill/>
            </a:ln>
          </p:spPr>
        </p:pic>
        <p:sp>
          <p:nvSpPr>
            <p:cNvPr id="61" name="Freeform 9"/>
            <p:cNvSpPr/>
            <p:nvPr/>
          </p:nvSpPr>
          <p:spPr>
            <a:xfrm>
              <a:off x="6367320" y="2303640"/>
              <a:ext cx="1633680" cy="3868920"/>
            </a:xfrm>
            <a:custGeom>
              <a:avLst/>
              <a:gdLst>
                <a:gd name="textAreaLeft" fmla="*/ 0 w 1633680"/>
                <a:gd name="textAreaRight" fmla="*/ 1634040 w 1633680"/>
                <a:gd name="textAreaTop" fmla="*/ 0 h 3868920"/>
                <a:gd name="textAreaBottom" fmla="*/ 3869280 h 3868920"/>
              </a:gdLst>
              <a:ahLst/>
              <a:rect l="textAreaLeft" t="textAreaTop" r="textAreaRight" b="textAreaBottom"/>
              <a:pathLst>
                <a:path w="1441159" h="3565770">
                  <a:moveTo>
                    <a:pt x="1162538" y="3516924"/>
                  </a:moveTo>
                  <a:cubicBezTo>
                    <a:pt x="1214641" y="3513667"/>
                    <a:pt x="1266929" y="3512619"/>
                    <a:pt x="1318846" y="3507154"/>
                  </a:cubicBezTo>
                  <a:cubicBezTo>
                    <a:pt x="1329087" y="3506076"/>
                    <a:pt x="1340872" y="3504667"/>
                    <a:pt x="1348154" y="3497385"/>
                  </a:cubicBezTo>
                  <a:cubicBezTo>
                    <a:pt x="1355436" y="3490103"/>
                    <a:pt x="1352211" y="3476645"/>
                    <a:pt x="1357923" y="3468077"/>
                  </a:cubicBezTo>
                  <a:cubicBezTo>
                    <a:pt x="1365587" y="3456582"/>
                    <a:pt x="1377462" y="3448539"/>
                    <a:pt x="1387231" y="3438770"/>
                  </a:cubicBezTo>
                  <a:cubicBezTo>
                    <a:pt x="1390487" y="3429001"/>
                    <a:pt x="1392944" y="3418927"/>
                    <a:pt x="1397000" y="3409462"/>
                  </a:cubicBezTo>
                  <a:cubicBezTo>
                    <a:pt x="1450975" y="3283517"/>
                    <a:pt x="1456934" y="3417906"/>
                    <a:pt x="1406769" y="3096847"/>
                  </a:cubicBezTo>
                  <a:cubicBezTo>
                    <a:pt x="1403925" y="3078647"/>
                    <a:pt x="1367692" y="3057770"/>
                    <a:pt x="1367692" y="3057770"/>
                  </a:cubicBezTo>
                  <a:cubicBezTo>
                    <a:pt x="1357374" y="3026816"/>
                    <a:pt x="1360027" y="3026207"/>
                    <a:pt x="1338385" y="2999154"/>
                  </a:cubicBezTo>
                  <a:cubicBezTo>
                    <a:pt x="1332631" y="2991962"/>
                    <a:pt x="1324600" y="2986808"/>
                    <a:pt x="1318846" y="2979616"/>
                  </a:cubicBezTo>
                  <a:cubicBezTo>
                    <a:pt x="1269551" y="2917997"/>
                    <a:pt x="1326946" y="2977945"/>
                    <a:pt x="1279769" y="2930770"/>
                  </a:cubicBezTo>
                  <a:cubicBezTo>
                    <a:pt x="1276513" y="2921001"/>
                    <a:pt x="1275985" y="2909842"/>
                    <a:pt x="1270000" y="2901462"/>
                  </a:cubicBezTo>
                  <a:cubicBezTo>
                    <a:pt x="1248464" y="2871311"/>
                    <a:pt x="1229779" y="2861622"/>
                    <a:pt x="1201615" y="2842847"/>
                  </a:cubicBezTo>
                  <a:cubicBezTo>
                    <a:pt x="1198359" y="2833078"/>
                    <a:pt x="1200226" y="2819525"/>
                    <a:pt x="1191846" y="2813539"/>
                  </a:cubicBezTo>
                  <a:cubicBezTo>
                    <a:pt x="1175087" y="2801568"/>
                    <a:pt x="1152353" y="2801649"/>
                    <a:pt x="1133231" y="2794000"/>
                  </a:cubicBezTo>
                  <a:cubicBezTo>
                    <a:pt x="1071919" y="2769476"/>
                    <a:pt x="1101398" y="2778715"/>
                    <a:pt x="1045308" y="2764693"/>
                  </a:cubicBezTo>
                  <a:cubicBezTo>
                    <a:pt x="1038795" y="2754924"/>
                    <a:pt x="1031020" y="2745887"/>
                    <a:pt x="1025769" y="2735385"/>
                  </a:cubicBezTo>
                  <a:cubicBezTo>
                    <a:pt x="1009160" y="2702167"/>
                    <a:pt x="1021880" y="2704558"/>
                    <a:pt x="1006231" y="2667000"/>
                  </a:cubicBezTo>
                  <a:cubicBezTo>
                    <a:pt x="995029" y="2640114"/>
                    <a:pt x="976365" y="2616478"/>
                    <a:pt x="967154" y="2588847"/>
                  </a:cubicBezTo>
                  <a:cubicBezTo>
                    <a:pt x="943902" y="2519093"/>
                    <a:pt x="959039" y="2547368"/>
                    <a:pt x="928077" y="2500924"/>
                  </a:cubicBezTo>
                  <a:cubicBezTo>
                    <a:pt x="924821" y="2491155"/>
                    <a:pt x="922364" y="2481081"/>
                    <a:pt x="918308" y="2471616"/>
                  </a:cubicBezTo>
                  <a:cubicBezTo>
                    <a:pt x="903436" y="2436915"/>
                    <a:pt x="898851" y="2432662"/>
                    <a:pt x="879231" y="2403231"/>
                  </a:cubicBezTo>
                  <a:cubicBezTo>
                    <a:pt x="876101" y="2390714"/>
                    <a:pt x="866698" y="2348860"/>
                    <a:pt x="859692" y="2334847"/>
                  </a:cubicBezTo>
                  <a:cubicBezTo>
                    <a:pt x="854441" y="2324345"/>
                    <a:pt x="845405" y="2316041"/>
                    <a:pt x="840154" y="2305539"/>
                  </a:cubicBezTo>
                  <a:cubicBezTo>
                    <a:pt x="835549" y="2296328"/>
                    <a:pt x="835386" y="2285233"/>
                    <a:pt x="830385" y="2276231"/>
                  </a:cubicBezTo>
                  <a:cubicBezTo>
                    <a:pt x="791673" y="2206549"/>
                    <a:pt x="794578" y="2233926"/>
                    <a:pt x="762000" y="2168770"/>
                  </a:cubicBezTo>
                  <a:cubicBezTo>
                    <a:pt x="753795" y="2152360"/>
                    <a:pt x="747154" y="2116028"/>
                    <a:pt x="742461" y="2100385"/>
                  </a:cubicBezTo>
                  <a:cubicBezTo>
                    <a:pt x="736543" y="2080658"/>
                    <a:pt x="727918" y="2061750"/>
                    <a:pt x="722923" y="2041770"/>
                  </a:cubicBezTo>
                  <a:cubicBezTo>
                    <a:pt x="719667" y="2028744"/>
                    <a:pt x="719159" y="2014702"/>
                    <a:pt x="713154" y="2002693"/>
                  </a:cubicBezTo>
                  <a:cubicBezTo>
                    <a:pt x="705872" y="1988130"/>
                    <a:pt x="693615" y="1976642"/>
                    <a:pt x="683846" y="1963616"/>
                  </a:cubicBezTo>
                  <a:cubicBezTo>
                    <a:pt x="675476" y="1938504"/>
                    <a:pt x="669215" y="1922219"/>
                    <a:pt x="664308" y="1895231"/>
                  </a:cubicBezTo>
                  <a:cubicBezTo>
                    <a:pt x="660189" y="1872576"/>
                    <a:pt x="660597" y="1849062"/>
                    <a:pt x="654538" y="1826847"/>
                  </a:cubicBezTo>
                  <a:cubicBezTo>
                    <a:pt x="648817" y="1805869"/>
                    <a:pt x="627705" y="1776828"/>
                    <a:pt x="615461" y="1758462"/>
                  </a:cubicBezTo>
                  <a:cubicBezTo>
                    <a:pt x="584922" y="1636302"/>
                    <a:pt x="623952" y="1788183"/>
                    <a:pt x="595923" y="1690077"/>
                  </a:cubicBezTo>
                  <a:cubicBezTo>
                    <a:pt x="589281" y="1666828"/>
                    <a:pt x="579940" y="1624670"/>
                    <a:pt x="576385" y="1602154"/>
                  </a:cubicBezTo>
                  <a:cubicBezTo>
                    <a:pt x="569202" y="1556665"/>
                    <a:pt x="556846" y="1465385"/>
                    <a:pt x="556846" y="1465385"/>
                  </a:cubicBezTo>
                  <a:cubicBezTo>
                    <a:pt x="560102" y="1400257"/>
                    <a:pt x="559668" y="1334839"/>
                    <a:pt x="566615" y="1270000"/>
                  </a:cubicBezTo>
                  <a:cubicBezTo>
                    <a:pt x="572585" y="1214285"/>
                    <a:pt x="583824" y="1204886"/>
                    <a:pt x="595923" y="1162539"/>
                  </a:cubicBezTo>
                  <a:cubicBezTo>
                    <a:pt x="599611" y="1149629"/>
                    <a:pt x="602436" y="1136488"/>
                    <a:pt x="605692" y="1123462"/>
                  </a:cubicBezTo>
                  <a:cubicBezTo>
                    <a:pt x="606482" y="1088715"/>
                    <a:pt x="604943" y="728165"/>
                    <a:pt x="625231" y="586154"/>
                  </a:cubicBezTo>
                  <a:cubicBezTo>
                    <a:pt x="626687" y="575960"/>
                    <a:pt x="631744" y="566616"/>
                    <a:pt x="635000" y="556847"/>
                  </a:cubicBezTo>
                  <a:cubicBezTo>
                    <a:pt x="660500" y="378345"/>
                    <a:pt x="657692" y="425148"/>
                    <a:pt x="635000" y="107462"/>
                  </a:cubicBezTo>
                  <a:cubicBezTo>
                    <a:pt x="634163" y="95750"/>
                    <a:pt x="623763" y="86456"/>
                    <a:pt x="615461" y="78154"/>
                  </a:cubicBezTo>
                  <a:cubicBezTo>
                    <a:pt x="607159" y="69852"/>
                    <a:pt x="595923" y="65129"/>
                    <a:pt x="586154" y="58616"/>
                  </a:cubicBezTo>
                  <a:cubicBezTo>
                    <a:pt x="579641" y="48847"/>
                    <a:pt x="574917" y="37610"/>
                    <a:pt x="566615" y="29308"/>
                  </a:cubicBezTo>
                  <a:cubicBezTo>
                    <a:pt x="547678" y="10371"/>
                    <a:pt x="531836" y="7946"/>
                    <a:pt x="508000" y="0"/>
                  </a:cubicBezTo>
                  <a:cubicBezTo>
                    <a:pt x="462410" y="3257"/>
                    <a:pt x="416241" y="1827"/>
                    <a:pt x="371231" y="9770"/>
                  </a:cubicBezTo>
                  <a:cubicBezTo>
                    <a:pt x="359669" y="11810"/>
                    <a:pt x="350838" y="21667"/>
                    <a:pt x="341923" y="29308"/>
                  </a:cubicBezTo>
                  <a:cubicBezTo>
                    <a:pt x="327937" y="41296"/>
                    <a:pt x="302846" y="68385"/>
                    <a:pt x="302846" y="68385"/>
                  </a:cubicBezTo>
                  <a:cubicBezTo>
                    <a:pt x="299590" y="78154"/>
                    <a:pt x="298375" y="88863"/>
                    <a:pt x="293077" y="97693"/>
                  </a:cubicBezTo>
                  <a:cubicBezTo>
                    <a:pt x="282193" y="115833"/>
                    <a:pt x="259586" y="124486"/>
                    <a:pt x="244231" y="136770"/>
                  </a:cubicBezTo>
                  <a:cubicBezTo>
                    <a:pt x="237039" y="142524"/>
                    <a:pt x="231205" y="149795"/>
                    <a:pt x="224692" y="156308"/>
                  </a:cubicBezTo>
                  <a:cubicBezTo>
                    <a:pt x="202241" y="223662"/>
                    <a:pt x="219718" y="200361"/>
                    <a:pt x="185615" y="234462"/>
                  </a:cubicBezTo>
                  <a:cubicBezTo>
                    <a:pt x="182359" y="250744"/>
                    <a:pt x="178576" y="266929"/>
                    <a:pt x="175846" y="283308"/>
                  </a:cubicBezTo>
                  <a:cubicBezTo>
                    <a:pt x="172061" y="306021"/>
                    <a:pt x="170593" y="329114"/>
                    <a:pt x="166077" y="351693"/>
                  </a:cubicBezTo>
                  <a:cubicBezTo>
                    <a:pt x="164058" y="361790"/>
                    <a:pt x="158542" y="370948"/>
                    <a:pt x="156308" y="381000"/>
                  </a:cubicBezTo>
                  <a:cubicBezTo>
                    <a:pt x="152011" y="400336"/>
                    <a:pt x="150423" y="420192"/>
                    <a:pt x="146538" y="439616"/>
                  </a:cubicBezTo>
                  <a:cubicBezTo>
                    <a:pt x="139155" y="476530"/>
                    <a:pt x="129693" y="499922"/>
                    <a:pt x="117231" y="537308"/>
                  </a:cubicBezTo>
                  <a:cubicBezTo>
                    <a:pt x="109445" y="615160"/>
                    <a:pt x="114036" y="616872"/>
                    <a:pt x="97692" y="674077"/>
                  </a:cubicBezTo>
                  <a:cubicBezTo>
                    <a:pt x="94863" y="683979"/>
                    <a:pt x="93908" y="695005"/>
                    <a:pt x="87923" y="703385"/>
                  </a:cubicBezTo>
                  <a:cubicBezTo>
                    <a:pt x="77216" y="718375"/>
                    <a:pt x="59064" y="727135"/>
                    <a:pt x="48846" y="742462"/>
                  </a:cubicBezTo>
                  <a:lnTo>
                    <a:pt x="29308" y="771770"/>
                  </a:lnTo>
                  <a:cubicBezTo>
                    <a:pt x="38806" y="1066225"/>
                    <a:pt x="47062" y="998341"/>
                    <a:pt x="29308" y="1211385"/>
                  </a:cubicBezTo>
                  <a:cubicBezTo>
                    <a:pt x="26590" y="1243998"/>
                    <a:pt x="24918" y="1276796"/>
                    <a:pt x="19538" y="1309077"/>
                  </a:cubicBezTo>
                  <a:cubicBezTo>
                    <a:pt x="15123" y="1335565"/>
                    <a:pt x="0" y="1387231"/>
                    <a:pt x="0" y="1387231"/>
                  </a:cubicBezTo>
                  <a:cubicBezTo>
                    <a:pt x="3256" y="1432821"/>
                    <a:pt x="-146" y="1479383"/>
                    <a:pt x="9769" y="1524000"/>
                  </a:cubicBezTo>
                  <a:cubicBezTo>
                    <a:pt x="13301" y="1539894"/>
                    <a:pt x="31795" y="1548514"/>
                    <a:pt x="39077" y="1563077"/>
                  </a:cubicBezTo>
                  <a:cubicBezTo>
                    <a:pt x="48288" y="1581498"/>
                    <a:pt x="52102" y="1602154"/>
                    <a:pt x="58615" y="1621693"/>
                  </a:cubicBezTo>
                  <a:lnTo>
                    <a:pt x="78154" y="1680308"/>
                  </a:lnTo>
                  <a:cubicBezTo>
                    <a:pt x="90421" y="1729375"/>
                    <a:pt x="83677" y="1706647"/>
                    <a:pt x="97692" y="1748693"/>
                  </a:cubicBezTo>
                  <a:cubicBezTo>
                    <a:pt x="104205" y="1804052"/>
                    <a:pt x="108962" y="1859646"/>
                    <a:pt x="117231" y="1914770"/>
                  </a:cubicBezTo>
                  <a:cubicBezTo>
                    <a:pt x="118759" y="1924953"/>
                    <a:pt x="124171" y="1934176"/>
                    <a:pt x="127000" y="1944077"/>
                  </a:cubicBezTo>
                  <a:cubicBezTo>
                    <a:pt x="130689" y="1956987"/>
                    <a:pt x="134562" y="1969910"/>
                    <a:pt x="136769" y="1983154"/>
                  </a:cubicBezTo>
                  <a:cubicBezTo>
                    <a:pt x="139953" y="2002258"/>
                    <a:pt x="151105" y="2107148"/>
                    <a:pt x="156308" y="2129693"/>
                  </a:cubicBezTo>
                  <a:cubicBezTo>
                    <a:pt x="160939" y="2149761"/>
                    <a:pt x="169333" y="2168770"/>
                    <a:pt x="175846" y="2188308"/>
                  </a:cubicBezTo>
                  <a:cubicBezTo>
                    <a:pt x="179102" y="2198077"/>
                    <a:pt x="183381" y="2207563"/>
                    <a:pt x="185615" y="2217616"/>
                  </a:cubicBezTo>
                  <a:cubicBezTo>
                    <a:pt x="192128" y="2246924"/>
                    <a:pt x="199621" y="2276031"/>
                    <a:pt x="205154" y="2305539"/>
                  </a:cubicBezTo>
                  <a:cubicBezTo>
                    <a:pt x="209398" y="2328171"/>
                    <a:pt x="212233" y="2351055"/>
                    <a:pt x="214923" y="2373924"/>
                  </a:cubicBezTo>
                  <a:cubicBezTo>
                    <a:pt x="218747" y="2406426"/>
                    <a:pt x="215701" y="2440149"/>
                    <a:pt x="224692" y="2471616"/>
                  </a:cubicBezTo>
                  <a:cubicBezTo>
                    <a:pt x="229165" y="2487272"/>
                    <a:pt x="244231" y="2497667"/>
                    <a:pt x="254000" y="2510693"/>
                  </a:cubicBezTo>
                  <a:cubicBezTo>
                    <a:pt x="284527" y="2632804"/>
                    <a:pt x="245518" y="2481012"/>
                    <a:pt x="273538" y="2579077"/>
                  </a:cubicBezTo>
                  <a:cubicBezTo>
                    <a:pt x="277227" y="2591987"/>
                    <a:pt x="279450" y="2605294"/>
                    <a:pt x="283308" y="2618154"/>
                  </a:cubicBezTo>
                  <a:cubicBezTo>
                    <a:pt x="289226" y="2637881"/>
                    <a:pt x="290489" y="2660294"/>
                    <a:pt x="302846" y="2676770"/>
                  </a:cubicBezTo>
                  <a:cubicBezTo>
                    <a:pt x="312615" y="2689796"/>
                    <a:pt x="322817" y="2702508"/>
                    <a:pt x="332154" y="2715847"/>
                  </a:cubicBezTo>
                  <a:cubicBezTo>
                    <a:pt x="345620" y="2735084"/>
                    <a:pt x="371231" y="2774462"/>
                    <a:pt x="371231" y="2774462"/>
                  </a:cubicBezTo>
                  <a:cubicBezTo>
                    <a:pt x="374487" y="2800513"/>
                    <a:pt x="376304" y="2826785"/>
                    <a:pt x="381000" y="2852616"/>
                  </a:cubicBezTo>
                  <a:cubicBezTo>
                    <a:pt x="382842" y="2862748"/>
                    <a:pt x="388271" y="2871934"/>
                    <a:pt x="390769" y="2881924"/>
                  </a:cubicBezTo>
                  <a:cubicBezTo>
                    <a:pt x="394796" y="2898033"/>
                    <a:pt x="396511" y="2914661"/>
                    <a:pt x="400538" y="2930770"/>
                  </a:cubicBezTo>
                  <a:cubicBezTo>
                    <a:pt x="403036" y="2940760"/>
                    <a:pt x="407479" y="2950176"/>
                    <a:pt x="410308" y="2960077"/>
                  </a:cubicBezTo>
                  <a:cubicBezTo>
                    <a:pt x="410409" y="2960432"/>
                    <a:pt x="425162" y="3023778"/>
                    <a:pt x="429846" y="3028462"/>
                  </a:cubicBezTo>
                  <a:cubicBezTo>
                    <a:pt x="437128" y="3035744"/>
                    <a:pt x="449385" y="3034975"/>
                    <a:pt x="459154" y="3038231"/>
                  </a:cubicBezTo>
                  <a:cubicBezTo>
                    <a:pt x="465667" y="3048000"/>
                    <a:pt x="471051" y="3058624"/>
                    <a:pt x="478692" y="3067539"/>
                  </a:cubicBezTo>
                  <a:cubicBezTo>
                    <a:pt x="510278" y="3104390"/>
                    <a:pt x="512508" y="3103109"/>
                    <a:pt x="547077" y="3126154"/>
                  </a:cubicBezTo>
                  <a:cubicBezTo>
                    <a:pt x="560103" y="3145693"/>
                    <a:pt x="578728" y="3162493"/>
                    <a:pt x="586154" y="3184770"/>
                  </a:cubicBezTo>
                  <a:cubicBezTo>
                    <a:pt x="596472" y="3215724"/>
                    <a:pt x="593819" y="3216332"/>
                    <a:pt x="615461" y="3243385"/>
                  </a:cubicBezTo>
                  <a:cubicBezTo>
                    <a:pt x="631736" y="3263729"/>
                    <a:pt x="677988" y="3298093"/>
                    <a:pt x="693615" y="3302000"/>
                  </a:cubicBezTo>
                  <a:cubicBezTo>
                    <a:pt x="706641" y="3305257"/>
                    <a:pt x="719954" y="3307524"/>
                    <a:pt x="732692" y="3311770"/>
                  </a:cubicBezTo>
                  <a:cubicBezTo>
                    <a:pt x="749328" y="3317315"/>
                    <a:pt x="765118" y="3325151"/>
                    <a:pt x="781538" y="3331308"/>
                  </a:cubicBezTo>
                  <a:cubicBezTo>
                    <a:pt x="791180" y="3334924"/>
                    <a:pt x="801077" y="3337821"/>
                    <a:pt x="810846" y="3341077"/>
                  </a:cubicBezTo>
                  <a:cubicBezTo>
                    <a:pt x="860354" y="3390585"/>
                    <a:pt x="796282" y="3332339"/>
                    <a:pt x="859692" y="3370385"/>
                  </a:cubicBezTo>
                  <a:cubicBezTo>
                    <a:pt x="867590" y="3375124"/>
                    <a:pt x="872039" y="3384170"/>
                    <a:pt x="879231" y="3389924"/>
                  </a:cubicBezTo>
                  <a:cubicBezTo>
                    <a:pt x="888399" y="3397258"/>
                    <a:pt x="899370" y="3402128"/>
                    <a:pt x="908538" y="3409462"/>
                  </a:cubicBezTo>
                  <a:cubicBezTo>
                    <a:pt x="978143" y="3465145"/>
                    <a:pt x="867174" y="3388397"/>
                    <a:pt x="957385" y="3448539"/>
                  </a:cubicBezTo>
                  <a:cubicBezTo>
                    <a:pt x="963898" y="3458308"/>
                    <a:pt x="966967" y="3471624"/>
                    <a:pt x="976923" y="3477847"/>
                  </a:cubicBezTo>
                  <a:cubicBezTo>
                    <a:pt x="994388" y="3488762"/>
                    <a:pt x="1016000" y="3490872"/>
                    <a:pt x="1035538" y="3497385"/>
                  </a:cubicBezTo>
                  <a:cubicBezTo>
                    <a:pt x="1080597" y="3512404"/>
                    <a:pt x="1054750" y="3505135"/>
                    <a:pt x="1113692" y="3516924"/>
                  </a:cubicBezTo>
                  <a:cubicBezTo>
                    <a:pt x="1147795" y="3551025"/>
                    <a:pt x="1124492" y="3533548"/>
                    <a:pt x="1191846" y="3556000"/>
                  </a:cubicBezTo>
                  <a:lnTo>
                    <a:pt x="1221154" y="3565770"/>
                  </a:lnTo>
                  <a:cubicBezTo>
                    <a:pt x="1263390" y="3555210"/>
                    <a:pt x="1260231" y="3569427"/>
                    <a:pt x="1260231" y="3546231"/>
                  </a:cubicBezTo>
                </a:path>
              </a:pathLst>
            </a:custGeom>
            <a:solidFill>
              <a:srgbClr val="f79646">
                <a:alpha val="30000"/>
              </a:srgbClr>
            </a:solidFill>
            <a:ln w="25560">
              <a:solidFill>
                <a:srgbClr val="ff00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2" name="Rectangle 7"/>
          <p:cNvSpPr/>
          <p:nvPr/>
        </p:nvSpPr>
        <p:spPr>
          <a:xfrm>
            <a:off x="1676520" y="6411960"/>
            <a:ext cx="4035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AutoShape 24"/>
          <p:cNvSpPr/>
          <p:nvPr/>
        </p:nvSpPr>
        <p:spPr>
          <a:xfrm>
            <a:off x="6664320" y="581508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ff0000"/>
          </a:solidFill>
          <a:ln w="936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OESTE DEL NORTE DE SUMATRA</a:t>
            </a:r>
            <a:br>
              <a:rPr sz="3500"/>
            </a:br>
            <a:r>
              <a:rPr b="1" lang="es-VE" sz="1500" spc="-1" strike="noStrike">
                <a:solidFill>
                  <a:srgbClr val="11488b"/>
                </a:solidFill>
                <a:latin typeface="Arial"/>
                <a:ea typeface="Arial"/>
              </a:rPr>
              <a:t>Martes, 10 de Enero, 2012 a las  18:37:0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IRIS_TMlogo.png"/>
          <p:cNvPicPr/>
          <p:nvPr/>
        </p:nvPicPr>
        <p:blipFill>
          <a:blip r:embed="rId1"/>
          <a:stretch/>
        </p:blipFill>
        <p:spPr>
          <a:xfrm>
            <a:off x="239760" y="76320"/>
            <a:ext cx="903240" cy="927000"/>
          </a:xfrm>
          <a:prstGeom prst="rect">
            <a:avLst/>
          </a:prstGeom>
          <a:ln w="0">
            <a:noFill/>
          </a:ln>
        </p:spPr>
      </p:pic>
      <p:sp>
        <p:nvSpPr>
          <p:cNvPr id="67" name="TextBox 9"/>
          <p:cNvSpPr/>
          <p:nvPr/>
        </p:nvSpPr>
        <p:spPr>
          <a:xfrm>
            <a:off x="263520" y="1154160"/>
            <a:ext cx="3200400" cy="552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área del terremoto del 10 de Enero, 2012 es uno de tectónica de placas compleja. Lo fundamental es que la Placa Indo Australiana se subduce hacia el nor -noreste debajo de la Placa Euroasiática y la Fosa de Sunda con una velocidad de aproximadamente 5 cm/añ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detalle, Las Placas Índica y Australiana son distintas entre si, aunque la localización y naturaleza de los límites entre ellas no esta claro y es el tópico de investigaciones en la actualidad. Por consiguiente, ese límite de placa es mostrado con líneas punteadas en este mapa. </a:t>
            </a:r>
            <a:endParaRPr b="0"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Group 2052"/>
          <p:cNvGrpSpPr/>
          <p:nvPr/>
        </p:nvGrpSpPr>
        <p:grpSpPr>
          <a:xfrm>
            <a:off x="3754440" y="1230480"/>
            <a:ext cx="5208480" cy="4574880"/>
            <a:chOff x="3754440" y="1230480"/>
            <a:chExt cx="5208480" cy="4574880"/>
          </a:xfrm>
        </p:grpSpPr>
        <p:grpSp>
          <p:nvGrpSpPr>
            <p:cNvPr id="69" name="Group 2051"/>
            <p:cNvGrpSpPr/>
            <p:nvPr/>
          </p:nvGrpSpPr>
          <p:grpSpPr>
            <a:xfrm>
              <a:off x="3754440" y="1233720"/>
              <a:ext cx="5208480" cy="4571640"/>
              <a:chOff x="3754440" y="1233720"/>
              <a:chExt cx="5208480" cy="4571640"/>
            </a:xfrm>
          </p:grpSpPr>
          <p:pic>
            <p:nvPicPr>
              <p:cNvPr id="70" name="Picture 18" descr="JV.jpg"/>
              <p:cNvPicPr/>
              <p:nvPr/>
            </p:nvPicPr>
            <p:blipFill>
              <a:blip r:embed="rId2"/>
              <a:stretch/>
            </p:blipFill>
            <p:spPr>
              <a:xfrm>
                <a:off x="3754440" y="1233720"/>
                <a:ext cx="5208480" cy="4571640"/>
              </a:xfrm>
              <a:prstGeom prst="rect">
                <a:avLst/>
              </a:prstGeom>
              <a:ln w="0">
                <a:noFill/>
              </a:ln>
            </p:spPr>
          </p:pic>
          <p:sp>
            <p:nvSpPr>
              <p:cNvPr id="71" name="AutoShape 24"/>
              <p:cNvSpPr/>
              <p:nvPr/>
            </p:nvSpPr>
            <p:spPr>
              <a:xfrm>
                <a:off x="6207120" y="284796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562" h="228604">
                    <a:moveTo>
                      <a:pt x="0" y="87319"/>
                    </a:moveTo>
                    <a:lnTo>
                      <a:pt x="87303" y="87319"/>
                    </a:lnTo>
                    <a:lnTo>
                      <a:pt x="114281" y="0"/>
                    </a:lnTo>
                    <a:lnTo>
                      <a:pt x="141259" y="87319"/>
                    </a:lnTo>
                    <a:lnTo>
                      <a:pt x="228562" y="87319"/>
                    </a:lnTo>
                    <a:lnTo>
                      <a:pt x="157932" y="141284"/>
                    </a:lnTo>
                    <a:lnTo>
                      <a:pt x="184911" y="228603"/>
                    </a:lnTo>
                    <a:lnTo>
                      <a:pt x="114281" y="174637"/>
                    </a:lnTo>
                    <a:lnTo>
                      <a:pt x="43651" y="228603"/>
                    </a:lnTo>
                    <a:lnTo>
                      <a:pt x="70630" y="141284"/>
                    </a:lnTo>
                    <a:close/>
                  </a:path>
                </a:pathLst>
              </a:custGeom>
              <a:solidFill>
                <a:srgbClr val="ff0000"/>
              </a:solidFill>
              <a:ln w="9360">
                <a:solidFill>
                  <a:srgbClr val="ffffff"/>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 name="Text Box 25"/>
              <p:cNvSpPr/>
              <p:nvPr/>
            </p:nvSpPr>
            <p:spPr>
              <a:xfrm>
                <a:off x="5164920" y="2504880"/>
                <a:ext cx="1270080" cy="34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0000"/>
                    </a:solidFill>
                    <a:latin typeface="Arial"/>
                    <a:ea typeface="ÇlÇr ñæí©"/>
                  </a:rPr>
                  <a:t>Terremoto</a:t>
                </a:r>
                <a:endParaRPr b="0" lang="en-US" sz="1400" spc="-1" strike="noStrike">
                  <a:solidFill>
                    <a:srgbClr val="000000"/>
                  </a:solidFill>
                  <a:latin typeface="Arial"/>
                </a:endParaRPr>
              </a:p>
            </p:txBody>
          </p:sp>
          <p:sp>
            <p:nvSpPr>
              <p:cNvPr id="73" name="Line 26"/>
              <p:cNvSpPr/>
              <p:nvPr/>
            </p:nvSpPr>
            <p:spPr>
              <a:xfrm>
                <a:off x="5933880" y="2762280"/>
                <a:ext cx="272880" cy="106200"/>
              </a:xfrm>
              <a:prstGeom prst="line">
                <a:avLst/>
              </a:prstGeom>
              <a:ln w="25560">
                <a:solidFill>
                  <a:srgbClr val="ff0000"/>
                </a:solidFill>
                <a:miter/>
                <a:tailEnd len="med" type="triangle" w="me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74" name="Text Box 27"/>
              <p:cNvSpPr/>
              <p:nvPr/>
            </p:nvSpPr>
            <p:spPr>
              <a:xfrm>
                <a:off x="6248520" y="4445280"/>
                <a:ext cx="1172880" cy="464400"/>
              </a:xfrm>
              <a:prstGeom prst="rect">
                <a:avLst/>
              </a:prstGeom>
              <a:solidFill>
                <a:srgbClr val="1f497d">
                  <a:alpha val="5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ffff00"/>
                    </a:solidFill>
                    <a:latin typeface="Arial"/>
                    <a:ea typeface="ÇlÇr ñæí©"/>
                  </a:rPr>
                  <a:t>Fosa de Sunda</a:t>
                </a:r>
                <a:endParaRPr b="0" lang="en-US" sz="1400" spc="-1" strike="noStrike">
                  <a:solidFill>
                    <a:srgbClr val="000000"/>
                  </a:solidFill>
                  <a:latin typeface="Arial"/>
                </a:endParaRPr>
              </a:p>
            </p:txBody>
          </p:sp>
          <p:sp>
            <p:nvSpPr>
              <p:cNvPr id="75" name="Line 28"/>
              <p:cNvSpPr/>
              <p:nvPr/>
            </p:nvSpPr>
            <p:spPr>
              <a:xfrm flipV="1">
                <a:off x="7143840" y="4344840"/>
                <a:ext cx="488880" cy="158400"/>
              </a:xfrm>
              <a:prstGeom prst="line">
                <a:avLst/>
              </a:prstGeom>
              <a:ln w="25560">
                <a:solidFill>
                  <a:srgbClr val="ffff00"/>
                </a:solidFill>
                <a:miter/>
                <a:tailEnd len="med" type="triangle" w="med"/>
              </a:ln>
            </p:spPr>
            <p:style>
              <a:lnRef idx="0"/>
              <a:fillRef idx="0"/>
              <a:effectRef idx="0"/>
              <a:fontRef idx="minor"/>
            </p:style>
            <p:txBody>
              <a:bodyPr lIns="90000" rIns="90000" tIns="66960" bIns="66960" anchor="t">
                <a:noAutofit/>
              </a:bodyPr>
              <a:p>
                <a:endParaRPr b="0" lang="en-US" sz="1800" spc="-1" strike="noStrike">
                  <a:solidFill>
                    <a:srgbClr val="000000"/>
                  </a:solidFill>
                  <a:latin typeface="Arial"/>
                </a:endParaRPr>
              </a:p>
            </p:txBody>
          </p:sp>
          <p:sp>
            <p:nvSpPr>
              <p:cNvPr id="76" name="Text Box 29"/>
              <p:cNvSpPr/>
              <p:nvPr/>
            </p:nvSpPr>
            <p:spPr>
              <a:xfrm>
                <a:off x="6629400" y="1433520"/>
                <a:ext cx="1633680" cy="571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00"/>
                    </a:solidFill>
                    <a:latin typeface="Arial"/>
                    <a:ea typeface="ÇlÇr ñæí©"/>
                  </a:rPr>
                  <a:t>Placa Euroasiática</a:t>
                </a:r>
                <a:endParaRPr b="0" lang="en-US" sz="1600" spc="-1" strike="noStrike">
                  <a:solidFill>
                    <a:srgbClr val="000000"/>
                  </a:solidFill>
                  <a:latin typeface="Arial"/>
                </a:endParaRPr>
              </a:p>
            </p:txBody>
          </p:sp>
          <p:sp>
            <p:nvSpPr>
              <p:cNvPr id="77" name="Text Box 30"/>
              <p:cNvSpPr/>
              <p:nvPr/>
            </p:nvSpPr>
            <p:spPr>
              <a:xfrm>
                <a:off x="4802760" y="1429560"/>
                <a:ext cx="144540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00"/>
                    </a:solidFill>
                    <a:latin typeface="Arial"/>
                  </a:rPr>
                  <a:t>Placa Índ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Text Box 31"/>
              <p:cNvSpPr/>
              <p:nvPr/>
            </p:nvSpPr>
            <p:spPr>
              <a:xfrm>
                <a:off x="6781680" y="5067720"/>
                <a:ext cx="1945440" cy="381240"/>
              </a:xfrm>
              <a:prstGeom prst="rect">
                <a:avLst/>
              </a:prstGeom>
              <a:solidFill>
                <a:srgbClr val="372f8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ffff00"/>
                    </a:solidFill>
                    <a:latin typeface="Arial"/>
                    <a:ea typeface="ÇlÇr ñæí©"/>
                  </a:rPr>
                  <a:t>Placa Australiana</a:t>
                </a:r>
                <a:endParaRPr b="0" lang="en-US" sz="1600" spc="-1" strike="noStrike">
                  <a:solidFill>
                    <a:srgbClr val="000000"/>
                  </a:solidFill>
                  <a:latin typeface="Arial"/>
                </a:endParaRPr>
              </a:p>
            </p:txBody>
          </p:sp>
          <p:sp>
            <p:nvSpPr>
              <p:cNvPr id="79" name="Freeform 22"/>
              <p:cNvSpPr/>
              <p:nvPr/>
            </p:nvSpPr>
            <p:spPr>
              <a:xfrm>
                <a:off x="3895560" y="3195720"/>
                <a:ext cx="2825640" cy="718920"/>
              </a:xfrm>
              <a:custGeom>
                <a:avLst/>
                <a:gdLst>
                  <a:gd name="textAreaLeft" fmla="*/ 0 w 2825640"/>
                  <a:gd name="textAreaRight" fmla="*/ 2826000 w 2825640"/>
                  <a:gd name="textAreaTop" fmla="*/ 0 h 718920"/>
                  <a:gd name="textAreaBottom" fmla="*/ 719280 h 718920"/>
                </a:gdLst>
                <a:ahLst/>
                <a:rect l="textAreaLeft" t="textAreaTop" r="textAreaRight" b="textAreaBottom"/>
                <a:pathLst>
                  <a:path w="2825656" h="719840">
                    <a:moveTo>
                      <a:pt x="2825656" y="0"/>
                    </a:moveTo>
                    <a:cubicBezTo>
                      <a:pt x="2802683" y="3281"/>
                      <a:pt x="2777494" y="-533"/>
                      <a:pt x="2756737" y="9844"/>
                    </a:cubicBezTo>
                    <a:cubicBezTo>
                      <a:pt x="2747455" y="14484"/>
                      <a:pt x="2754230" y="32040"/>
                      <a:pt x="2746892" y="39378"/>
                    </a:cubicBezTo>
                    <a:cubicBezTo>
                      <a:pt x="2739553" y="46716"/>
                      <a:pt x="2727201" y="45941"/>
                      <a:pt x="2717355" y="49223"/>
                    </a:cubicBezTo>
                    <a:cubicBezTo>
                      <a:pt x="2714073" y="59068"/>
                      <a:pt x="2714848" y="71419"/>
                      <a:pt x="2707510" y="78757"/>
                    </a:cubicBezTo>
                    <a:cubicBezTo>
                      <a:pt x="2700172" y="86095"/>
                      <a:pt x="2687256" y="83960"/>
                      <a:pt x="2677974" y="88601"/>
                    </a:cubicBezTo>
                    <a:cubicBezTo>
                      <a:pt x="2667390" y="93892"/>
                      <a:pt x="2659250" y="103485"/>
                      <a:pt x="2648437" y="108290"/>
                    </a:cubicBezTo>
                    <a:cubicBezTo>
                      <a:pt x="2629470" y="116719"/>
                      <a:pt x="2589364" y="127980"/>
                      <a:pt x="2589364" y="127980"/>
                    </a:cubicBezTo>
                    <a:cubicBezTo>
                      <a:pt x="2579519" y="141106"/>
                      <a:pt x="2572286" y="156680"/>
                      <a:pt x="2559828" y="167358"/>
                    </a:cubicBezTo>
                    <a:cubicBezTo>
                      <a:pt x="2544345" y="180628"/>
                      <a:pt x="2510906" y="190227"/>
                      <a:pt x="2490909" y="196892"/>
                    </a:cubicBezTo>
                    <a:cubicBezTo>
                      <a:pt x="2473165" y="214635"/>
                      <a:pt x="2455826" y="235835"/>
                      <a:pt x="2431836" y="246115"/>
                    </a:cubicBezTo>
                    <a:cubicBezTo>
                      <a:pt x="2416357" y="252748"/>
                      <a:pt x="2356086" y="262298"/>
                      <a:pt x="2343227" y="265804"/>
                    </a:cubicBezTo>
                    <a:cubicBezTo>
                      <a:pt x="2323202" y="271265"/>
                      <a:pt x="2284154" y="285493"/>
                      <a:pt x="2284154" y="285493"/>
                    </a:cubicBezTo>
                    <a:cubicBezTo>
                      <a:pt x="2277590" y="292056"/>
                      <a:pt x="2271711" y="299385"/>
                      <a:pt x="2264463" y="305183"/>
                    </a:cubicBezTo>
                    <a:cubicBezTo>
                      <a:pt x="2236333" y="327685"/>
                      <a:pt x="2228617" y="326189"/>
                      <a:pt x="2195544" y="344561"/>
                    </a:cubicBezTo>
                    <a:cubicBezTo>
                      <a:pt x="2178816" y="353853"/>
                      <a:pt x="2162544" y="363954"/>
                      <a:pt x="2146317" y="374095"/>
                    </a:cubicBezTo>
                    <a:cubicBezTo>
                      <a:pt x="2136283" y="380366"/>
                      <a:pt x="2127055" y="387914"/>
                      <a:pt x="2116781" y="393784"/>
                    </a:cubicBezTo>
                    <a:cubicBezTo>
                      <a:pt x="2104038" y="401065"/>
                      <a:pt x="2090142" y="406192"/>
                      <a:pt x="2077399" y="413473"/>
                    </a:cubicBezTo>
                    <a:cubicBezTo>
                      <a:pt x="2067125" y="419343"/>
                      <a:pt x="2058675" y="428358"/>
                      <a:pt x="2047862" y="433163"/>
                    </a:cubicBezTo>
                    <a:cubicBezTo>
                      <a:pt x="2028895" y="441592"/>
                      <a:pt x="2008480" y="446289"/>
                      <a:pt x="1988789" y="452852"/>
                    </a:cubicBezTo>
                    <a:cubicBezTo>
                      <a:pt x="1978944" y="456133"/>
                      <a:pt x="1969588" y="461756"/>
                      <a:pt x="1959253" y="462696"/>
                    </a:cubicBezTo>
                    <a:lnTo>
                      <a:pt x="1850952" y="472541"/>
                    </a:lnTo>
                    <a:cubicBezTo>
                      <a:pt x="1837825" y="479104"/>
                      <a:pt x="1825628" y="488013"/>
                      <a:pt x="1811570" y="492230"/>
                    </a:cubicBezTo>
                    <a:cubicBezTo>
                      <a:pt x="1791285" y="498315"/>
                      <a:pt x="1686303" y="510348"/>
                      <a:pt x="1673733" y="511919"/>
                    </a:cubicBezTo>
                    <a:cubicBezTo>
                      <a:pt x="1539353" y="545511"/>
                      <a:pt x="1595393" y="533492"/>
                      <a:pt x="1506360" y="551298"/>
                    </a:cubicBezTo>
                    <a:cubicBezTo>
                      <a:pt x="1493233" y="557861"/>
                      <a:pt x="1480468" y="565206"/>
                      <a:pt x="1466978" y="570987"/>
                    </a:cubicBezTo>
                    <a:cubicBezTo>
                      <a:pt x="1447198" y="579463"/>
                      <a:pt x="1418052" y="585679"/>
                      <a:pt x="1398060" y="590676"/>
                    </a:cubicBezTo>
                    <a:cubicBezTo>
                      <a:pt x="1384933" y="597239"/>
                      <a:pt x="1372168" y="604585"/>
                      <a:pt x="1358678" y="610366"/>
                    </a:cubicBezTo>
                    <a:cubicBezTo>
                      <a:pt x="1349139" y="614454"/>
                      <a:pt x="1339507" y="619704"/>
                      <a:pt x="1329141" y="620210"/>
                    </a:cubicBezTo>
                    <a:cubicBezTo>
                      <a:pt x="1204537" y="626288"/>
                      <a:pt x="1079722" y="626773"/>
                      <a:pt x="955013" y="630055"/>
                    </a:cubicBezTo>
                    <a:cubicBezTo>
                      <a:pt x="945167" y="633336"/>
                      <a:pt x="934375" y="634560"/>
                      <a:pt x="925476" y="639899"/>
                    </a:cubicBezTo>
                    <a:cubicBezTo>
                      <a:pt x="917516" y="644674"/>
                      <a:pt x="915027" y="658723"/>
                      <a:pt x="905785" y="659589"/>
                    </a:cubicBezTo>
                    <a:cubicBezTo>
                      <a:pt x="807705" y="668783"/>
                      <a:pt x="708875" y="666152"/>
                      <a:pt x="610420" y="669433"/>
                    </a:cubicBezTo>
                    <a:cubicBezTo>
                      <a:pt x="520099" y="699539"/>
                      <a:pt x="633064" y="664729"/>
                      <a:pt x="413511" y="689122"/>
                    </a:cubicBezTo>
                    <a:cubicBezTo>
                      <a:pt x="380247" y="692818"/>
                      <a:pt x="348069" y="703311"/>
                      <a:pt x="315056" y="708812"/>
                    </a:cubicBezTo>
                    <a:cubicBezTo>
                      <a:pt x="295365" y="712093"/>
                      <a:pt x="275936" y="718033"/>
                      <a:pt x="255983" y="718656"/>
                    </a:cubicBezTo>
                    <a:cubicBezTo>
                      <a:pt x="170697" y="721321"/>
                      <a:pt x="85328" y="718656"/>
                      <a:pt x="0" y="718656"/>
                    </a:cubicBezTo>
                  </a:path>
                </a:pathLst>
              </a:custGeom>
              <a:noFill/>
              <a:ln w="76320">
                <a:solidFill>
                  <a:srgbClr val="ffff00"/>
                </a:solidFill>
                <a:prstDash val="lgDash"/>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TextBox 29"/>
              <p:cNvSpPr/>
              <p:nvPr/>
            </p:nvSpPr>
            <p:spPr>
              <a:xfrm>
                <a:off x="5997600" y="334260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t>
                </a:r>
                <a:endParaRPr b="0" lang="en-US" sz="2000" spc="-1" strike="noStrike">
                  <a:solidFill>
                    <a:srgbClr val="000000"/>
                  </a:solidFill>
                  <a:latin typeface="Arial"/>
                </a:endParaRPr>
              </a:p>
            </p:txBody>
          </p:sp>
          <p:sp>
            <p:nvSpPr>
              <p:cNvPr id="81" name="TextBox 36"/>
              <p:cNvSpPr/>
              <p:nvPr/>
            </p:nvSpPr>
            <p:spPr>
              <a:xfrm>
                <a:off x="5203440" y="357912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t>
                </a:r>
                <a:endParaRPr b="0" lang="en-US" sz="2000" spc="-1" strike="noStrike">
                  <a:solidFill>
                    <a:srgbClr val="000000"/>
                  </a:solidFill>
                  <a:latin typeface="Arial"/>
                </a:endParaRPr>
              </a:p>
            </p:txBody>
          </p:sp>
          <p:sp>
            <p:nvSpPr>
              <p:cNvPr id="82" name="TextBox 37"/>
              <p:cNvSpPr/>
              <p:nvPr/>
            </p:nvSpPr>
            <p:spPr>
              <a:xfrm>
                <a:off x="4379760" y="367092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a:t>
                </a:r>
                <a:endParaRPr b="0" lang="en-US" sz="2000" spc="-1" strike="noStrike">
                  <a:solidFill>
                    <a:srgbClr val="000000"/>
                  </a:solidFill>
                  <a:latin typeface="Arial"/>
                </a:endParaRPr>
              </a:p>
            </p:txBody>
          </p:sp>
        </p:grpSp>
        <p:sp>
          <p:nvSpPr>
            <p:cNvPr id="83" name="Freeform 2048"/>
            <p:cNvSpPr/>
            <p:nvPr/>
          </p:nvSpPr>
          <p:spPr>
            <a:xfrm>
              <a:off x="6114960" y="1230480"/>
              <a:ext cx="2833560" cy="3709800"/>
            </a:xfrm>
            <a:custGeom>
              <a:avLst/>
              <a:gdLst>
                <a:gd name="textAreaLeft" fmla="*/ 0 w 2833560"/>
                <a:gd name="textAreaRight" fmla="*/ 2833920 w 2833560"/>
                <a:gd name="textAreaTop" fmla="*/ 0 h 3709800"/>
                <a:gd name="textAreaBottom" fmla="*/ 3710160 h 3709800"/>
              </a:gdLst>
              <a:ahLst/>
              <a:rect l="textAreaLeft" t="textAreaTop" r="textAreaRight" b="textAreaBottom"/>
              <a:pathLst>
                <a:path w="2832146" h="3709343">
                  <a:moveTo>
                    <a:pt x="2832146" y="3709343"/>
                  </a:moveTo>
                  <a:cubicBezTo>
                    <a:pt x="2815348" y="3699263"/>
                    <a:pt x="2799274" y="3687865"/>
                    <a:pt x="2781752" y="3679103"/>
                  </a:cubicBezTo>
                  <a:cubicBezTo>
                    <a:pt x="2772250" y="3674351"/>
                    <a:pt x="2759811" y="3675661"/>
                    <a:pt x="2751515" y="3669024"/>
                  </a:cubicBezTo>
                  <a:cubicBezTo>
                    <a:pt x="2686386" y="3616917"/>
                    <a:pt x="2777124" y="3654042"/>
                    <a:pt x="2701121" y="3628705"/>
                  </a:cubicBezTo>
                  <a:cubicBezTo>
                    <a:pt x="2684365" y="3611947"/>
                    <a:pt x="2673617" y="3598560"/>
                    <a:pt x="2650727" y="3588386"/>
                  </a:cubicBezTo>
                  <a:cubicBezTo>
                    <a:pt x="2631310" y="3579756"/>
                    <a:pt x="2610412" y="3574946"/>
                    <a:pt x="2590254" y="3568226"/>
                  </a:cubicBezTo>
                  <a:lnTo>
                    <a:pt x="2560018" y="3558147"/>
                  </a:lnTo>
                  <a:cubicBezTo>
                    <a:pt x="2524836" y="3522961"/>
                    <a:pt x="2548876" y="3540993"/>
                    <a:pt x="2479387" y="3517828"/>
                  </a:cubicBezTo>
                  <a:lnTo>
                    <a:pt x="2328205" y="3467429"/>
                  </a:lnTo>
                  <a:lnTo>
                    <a:pt x="2267732" y="3447270"/>
                  </a:lnTo>
                  <a:cubicBezTo>
                    <a:pt x="2257653" y="3443910"/>
                    <a:pt x="2247803" y="3439767"/>
                    <a:pt x="2237496" y="3437190"/>
                  </a:cubicBezTo>
                  <a:cubicBezTo>
                    <a:pt x="2210619" y="3430470"/>
                    <a:pt x="2183148" y="3425791"/>
                    <a:pt x="2156865" y="3417030"/>
                  </a:cubicBezTo>
                  <a:cubicBezTo>
                    <a:pt x="2146786" y="3413670"/>
                    <a:pt x="2136844" y="3409870"/>
                    <a:pt x="2126629" y="3406951"/>
                  </a:cubicBezTo>
                  <a:cubicBezTo>
                    <a:pt x="2092871" y="3397305"/>
                    <a:pt x="2057776" y="3392680"/>
                    <a:pt x="2025841" y="3376711"/>
                  </a:cubicBezTo>
                  <a:cubicBezTo>
                    <a:pt x="2012403" y="3369991"/>
                    <a:pt x="1999336" y="3362471"/>
                    <a:pt x="1985526" y="3356552"/>
                  </a:cubicBezTo>
                  <a:cubicBezTo>
                    <a:pt x="1975761" y="3352367"/>
                    <a:pt x="1964792" y="3351224"/>
                    <a:pt x="1955289" y="3346472"/>
                  </a:cubicBezTo>
                  <a:cubicBezTo>
                    <a:pt x="1944455" y="3341054"/>
                    <a:pt x="1934512" y="3333881"/>
                    <a:pt x="1925053" y="3326313"/>
                  </a:cubicBezTo>
                  <a:cubicBezTo>
                    <a:pt x="1917633" y="3320376"/>
                    <a:pt x="1913395" y="3310403"/>
                    <a:pt x="1904895" y="3306153"/>
                  </a:cubicBezTo>
                  <a:cubicBezTo>
                    <a:pt x="1892506" y="3299958"/>
                    <a:pt x="1877899" y="3299880"/>
                    <a:pt x="1864580" y="3296074"/>
                  </a:cubicBezTo>
                  <a:cubicBezTo>
                    <a:pt x="1792069" y="3275355"/>
                    <a:pt x="1887155" y="3292596"/>
                    <a:pt x="1753713" y="3275914"/>
                  </a:cubicBezTo>
                  <a:cubicBezTo>
                    <a:pt x="1667052" y="3218135"/>
                    <a:pt x="1776704" y="3287412"/>
                    <a:pt x="1693240" y="3245675"/>
                  </a:cubicBezTo>
                  <a:cubicBezTo>
                    <a:pt x="1615095" y="3206598"/>
                    <a:pt x="1708761" y="3240767"/>
                    <a:pt x="1632767" y="3215436"/>
                  </a:cubicBezTo>
                  <a:cubicBezTo>
                    <a:pt x="1560347" y="3143005"/>
                    <a:pt x="1683735" y="3259496"/>
                    <a:pt x="1572295" y="3185196"/>
                  </a:cubicBezTo>
                  <a:cubicBezTo>
                    <a:pt x="1562216" y="3178476"/>
                    <a:pt x="1560703" y="3163523"/>
                    <a:pt x="1552137" y="3154957"/>
                  </a:cubicBezTo>
                  <a:cubicBezTo>
                    <a:pt x="1543572" y="3146391"/>
                    <a:pt x="1531359" y="3142366"/>
                    <a:pt x="1521900" y="3134798"/>
                  </a:cubicBezTo>
                  <a:cubicBezTo>
                    <a:pt x="1514480" y="3128861"/>
                    <a:pt x="1508462" y="3121358"/>
                    <a:pt x="1501743" y="3114638"/>
                  </a:cubicBezTo>
                  <a:cubicBezTo>
                    <a:pt x="1478226" y="3044081"/>
                    <a:pt x="1501744" y="3060881"/>
                    <a:pt x="1451349" y="3044080"/>
                  </a:cubicBezTo>
                  <a:cubicBezTo>
                    <a:pt x="1393443" y="2986168"/>
                    <a:pt x="1423493" y="3001194"/>
                    <a:pt x="1370718" y="2983602"/>
                  </a:cubicBezTo>
                  <a:cubicBezTo>
                    <a:pt x="1331348" y="2944226"/>
                    <a:pt x="1372658" y="2979531"/>
                    <a:pt x="1320324" y="2953362"/>
                  </a:cubicBezTo>
                  <a:cubicBezTo>
                    <a:pt x="1309490" y="2947944"/>
                    <a:pt x="1301157" y="2938123"/>
                    <a:pt x="1290088" y="2933203"/>
                  </a:cubicBezTo>
                  <a:cubicBezTo>
                    <a:pt x="1270671" y="2924573"/>
                    <a:pt x="1249773" y="2919764"/>
                    <a:pt x="1229615" y="2913044"/>
                  </a:cubicBezTo>
                  <a:lnTo>
                    <a:pt x="1199379" y="2902964"/>
                  </a:lnTo>
                  <a:cubicBezTo>
                    <a:pt x="1196909" y="2883206"/>
                    <a:pt x="1188456" y="2799633"/>
                    <a:pt x="1179221" y="2771927"/>
                  </a:cubicBezTo>
                  <a:cubicBezTo>
                    <a:pt x="1174470" y="2757672"/>
                    <a:pt x="1164981" y="2745419"/>
                    <a:pt x="1159063" y="2731608"/>
                  </a:cubicBezTo>
                  <a:cubicBezTo>
                    <a:pt x="1144218" y="2696966"/>
                    <a:pt x="1155947" y="2702126"/>
                    <a:pt x="1128827" y="2671130"/>
                  </a:cubicBezTo>
                  <a:cubicBezTo>
                    <a:pt x="1113184" y="2653250"/>
                    <a:pt x="1095231" y="2637531"/>
                    <a:pt x="1078433" y="2620731"/>
                  </a:cubicBezTo>
                  <a:cubicBezTo>
                    <a:pt x="1068354" y="2610651"/>
                    <a:pt x="1056102" y="2602353"/>
                    <a:pt x="1048196" y="2590492"/>
                  </a:cubicBezTo>
                  <a:cubicBezTo>
                    <a:pt x="986155" y="2497420"/>
                    <a:pt x="1065326" y="2611907"/>
                    <a:pt x="1007881" y="2540093"/>
                  </a:cubicBezTo>
                  <a:cubicBezTo>
                    <a:pt x="1000314" y="2530633"/>
                    <a:pt x="997183" y="2517422"/>
                    <a:pt x="987724" y="2509854"/>
                  </a:cubicBezTo>
                  <a:cubicBezTo>
                    <a:pt x="979428" y="2503217"/>
                    <a:pt x="967566" y="2503134"/>
                    <a:pt x="957487" y="2499774"/>
                  </a:cubicBezTo>
                  <a:cubicBezTo>
                    <a:pt x="841967" y="2326478"/>
                    <a:pt x="980456" y="2545723"/>
                    <a:pt x="897014" y="2378818"/>
                  </a:cubicBezTo>
                  <a:cubicBezTo>
                    <a:pt x="890295" y="2365378"/>
                    <a:pt x="884311" y="2351545"/>
                    <a:pt x="876857" y="2338499"/>
                  </a:cubicBezTo>
                  <a:cubicBezTo>
                    <a:pt x="870847" y="2327981"/>
                    <a:pt x="862116" y="2319095"/>
                    <a:pt x="856699" y="2308259"/>
                  </a:cubicBezTo>
                  <a:cubicBezTo>
                    <a:pt x="851948" y="2298756"/>
                    <a:pt x="852513" y="2286861"/>
                    <a:pt x="846620" y="2278020"/>
                  </a:cubicBezTo>
                  <a:cubicBezTo>
                    <a:pt x="838714" y="2266160"/>
                    <a:pt x="825509" y="2258732"/>
                    <a:pt x="816384" y="2247781"/>
                  </a:cubicBezTo>
                  <a:cubicBezTo>
                    <a:pt x="808629" y="2238474"/>
                    <a:pt x="803793" y="2227002"/>
                    <a:pt x="796226" y="2217542"/>
                  </a:cubicBezTo>
                  <a:cubicBezTo>
                    <a:pt x="790290" y="2210121"/>
                    <a:pt x="781340" y="2205289"/>
                    <a:pt x="776069" y="2197382"/>
                  </a:cubicBezTo>
                  <a:cubicBezTo>
                    <a:pt x="767735" y="2184879"/>
                    <a:pt x="765530" y="2168607"/>
                    <a:pt x="755911" y="2157063"/>
                  </a:cubicBezTo>
                  <a:cubicBezTo>
                    <a:pt x="748157" y="2147757"/>
                    <a:pt x="735134" y="2144472"/>
                    <a:pt x="725675" y="2136904"/>
                  </a:cubicBezTo>
                  <a:cubicBezTo>
                    <a:pt x="696354" y="2113445"/>
                    <a:pt x="711550" y="2117937"/>
                    <a:pt x="685359" y="2086505"/>
                  </a:cubicBezTo>
                  <a:cubicBezTo>
                    <a:pt x="676234" y="2075554"/>
                    <a:pt x="665202" y="2066346"/>
                    <a:pt x="655123" y="2056266"/>
                  </a:cubicBezTo>
                  <a:cubicBezTo>
                    <a:pt x="651763" y="2046186"/>
                    <a:pt x="649795" y="2035530"/>
                    <a:pt x="645044" y="2026027"/>
                  </a:cubicBezTo>
                  <a:cubicBezTo>
                    <a:pt x="639627" y="2015192"/>
                    <a:pt x="629658" y="2006923"/>
                    <a:pt x="624886" y="1995788"/>
                  </a:cubicBezTo>
                  <a:cubicBezTo>
                    <a:pt x="605507" y="1950566"/>
                    <a:pt x="624346" y="1964466"/>
                    <a:pt x="604729" y="1925229"/>
                  </a:cubicBezTo>
                  <a:cubicBezTo>
                    <a:pt x="599312" y="1914394"/>
                    <a:pt x="589988" y="1905825"/>
                    <a:pt x="584571" y="1894990"/>
                  </a:cubicBezTo>
                  <a:cubicBezTo>
                    <a:pt x="579820" y="1885487"/>
                    <a:pt x="581129" y="1873048"/>
                    <a:pt x="574492" y="1864751"/>
                  </a:cubicBezTo>
                  <a:cubicBezTo>
                    <a:pt x="566925" y="1855292"/>
                    <a:pt x="554335" y="1851312"/>
                    <a:pt x="544256" y="1844592"/>
                  </a:cubicBezTo>
                  <a:cubicBezTo>
                    <a:pt x="537377" y="1823954"/>
                    <a:pt x="532054" y="1799143"/>
                    <a:pt x="514020" y="1784113"/>
                  </a:cubicBezTo>
                  <a:cubicBezTo>
                    <a:pt x="502478" y="1774494"/>
                    <a:pt x="487143" y="1770674"/>
                    <a:pt x="473704" y="1763954"/>
                  </a:cubicBezTo>
                  <a:cubicBezTo>
                    <a:pt x="438523" y="1728768"/>
                    <a:pt x="462562" y="1746800"/>
                    <a:pt x="393074" y="1723635"/>
                  </a:cubicBezTo>
                  <a:lnTo>
                    <a:pt x="362837" y="1713555"/>
                  </a:lnTo>
                  <a:cubicBezTo>
                    <a:pt x="356118" y="1703475"/>
                    <a:pt x="351245" y="1691882"/>
                    <a:pt x="342680" y="1683316"/>
                  </a:cubicBezTo>
                  <a:cubicBezTo>
                    <a:pt x="334115" y="1674750"/>
                    <a:pt x="320010" y="1672616"/>
                    <a:pt x="312443" y="1663156"/>
                  </a:cubicBezTo>
                  <a:cubicBezTo>
                    <a:pt x="305806" y="1654859"/>
                    <a:pt x="307116" y="1642420"/>
                    <a:pt x="302365" y="1632917"/>
                  </a:cubicBezTo>
                  <a:cubicBezTo>
                    <a:pt x="296948" y="1622082"/>
                    <a:pt x="289774" y="1612138"/>
                    <a:pt x="282207" y="1602678"/>
                  </a:cubicBezTo>
                  <a:cubicBezTo>
                    <a:pt x="261263" y="1576496"/>
                    <a:pt x="257403" y="1587182"/>
                    <a:pt x="241892" y="1552279"/>
                  </a:cubicBezTo>
                  <a:cubicBezTo>
                    <a:pt x="219964" y="1502936"/>
                    <a:pt x="225186" y="1496590"/>
                    <a:pt x="211655" y="1451482"/>
                  </a:cubicBezTo>
                  <a:cubicBezTo>
                    <a:pt x="205550" y="1431128"/>
                    <a:pt x="198217" y="1411163"/>
                    <a:pt x="191498" y="1391004"/>
                  </a:cubicBezTo>
                  <a:cubicBezTo>
                    <a:pt x="188138" y="1380924"/>
                    <a:pt x="186170" y="1370268"/>
                    <a:pt x="181419" y="1360764"/>
                  </a:cubicBezTo>
                  <a:cubicBezTo>
                    <a:pt x="174700" y="1347324"/>
                    <a:pt x="166841" y="1334396"/>
                    <a:pt x="161261" y="1320445"/>
                  </a:cubicBezTo>
                  <a:cubicBezTo>
                    <a:pt x="153370" y="1300715"/>
                    <a:pt x="147823" y="1280126"/>
                    <a:pt x="141104" y="1259967"/>
                  </a:cubicBezTo>
                  <a:cubicBezTo>
                    <a:pt x="137744" y="1249887"/>
                    <a:pt x="136918" y="1238569"/>
                    <a:pt x="131025" y="1229728"/>
                  </a:cubicBezTo>
                  <a:lnTo>
                    <a:pt x="110867" y="1199489"/>
                  </a:lnTo>
                  <a:cubicBezTo>
                    <a:pt x="102877" y="1175518"/>
                    <a:pt x="94929" y="1154249"/>
                    <a:pt x="90710" y="1128930"/>
                  </a:cubicBezTo>
                  <a:cubicBezTo>
                    <a:pt x="86257" y="1102210"/>
                    <a:pt x="88414" y="1074239"/>
                    <a:pt x="80631" y="1048293"/>
                  </a:cubicBezTo>
                  <a:cubicBezTo>
                    <a:pt x="77900" y="1039191"/>
                    <a:pt x="66409" y="1035554"/>
                    <a:pt x="60473" y="1028133"/>
                  </a:cubicBezTo>
                  <a:cubicBezTo>
                    <a:pt x="52906" y="1018673"/>
                    <a:pt x="47034" y="1007974"/>
                    <a:pt x="40315" y="997894"/>
                  </a:cubicBezTo>
                  <a:cubicBezTo>
                    <a:pt x="36956" y="954215"/>
                    <a:pt x="35670" y="910327"/>
                    <a:pt x="30237" y="866857"/>
                  </a:cubicBezTo>
                  <a:cubicBezTo>
                    <a:pt x="28919" y="856314"/>
                    <a:pt x="23077" y="846834"/>
                    <a:pt x="20158" y="836618"/>
                  </a:cubicBezTo>
                  <a:cubicBezTo>
                    <a:pt x="-5153" y="748022"/>
                    <a:pt x="24166" y="838563"/>
                    <a:pt x="0" y="766060"/>
                  </a:cubicBezTo>
                  <a:cubicBezTo>
                    <a:pt x="7822" y="593953"/>
                    <a:pt x="-3729" y="601406"/>
                    <a:pt x="20158" y="493907"/>
                  </a:cubicBezTo>
                  <a:cubicBezTo>
                    <a:pt x="23163" y="480384"/>
                    <a:pt x="26432" y="466908"/>
                    <a:pt x="30237" y="453588"/>
                  </a:cubicBezTo>
                  <a:cubicBezTo>
                    <a:pt x="33156" y="443372"/>
                    <a:pt x="31670" y="429525"/>
                    <a:pt x="40315" y="423349"/>
                  </a:cubicBezTo>
                  <a:cubicBezTo>
                    <a:pt x="57605" y="410998"/>
                    <a:pt x="100788" y="403189"/>
                    <a:pt x="100788" y="403189"/>
                  </a:cubicBezTo>
                  <a:cubicBezTo>
                    <a:pt x="115814" y="358109"/>
                    <a:pt x="112387" y="338338"/>
                    <a:pt x="151182" y="312472"/>
                  </a:cubicBezTo>
                  <a:cubicBezTo>
                    <a:pt x="160022" y="306578"/>
                    <a:pt x="171340" y="305752"/>
                    <a:pt x="181419" y="302392"/>
                  </a:cubicBezTo>
                  <a:cubicBezTo>
                    <a:pt x="204581" y="232899"/>
                    <a:pt x="186551" y="256940"/>
                    <a:pt x="221734" y="221754"/>
                  </a:cubicBezTo>
                  <a:lnTo>
                    <a:pt x="251970" y="131037"/>
                  </a:lnTo>
                  <a:cubicBezTo>
                    <a:pt x="255330" y="120957"/>
                    <a:pt x="251969" y="104157"/>
                    <a:pt x="262049" y="100797"/>
                  </a:cubicBezTo>
                  <a:lnTo>
                    <a:pt x="292286" y="90718"/>
                  </a:lnTo>
                  <a:cubicBezTo>
                    <a:pt x="299005" y="83998"/>
                    <a:pt x="307554" y="78707"/>
                    <a:pt x="312443" y="70558"/>
                  </a:cubicBezTo>
                  <a:cubicBezTo>
                    <a:pt x="326772" y="46674"/>
                    <a:pt x="322522" y="26777"/>
                    <a:pt x="322522" y="0"/>
                  </a:cubicBezTo>
                </a:path>
              </a:pathLst>
            </a:custGeom>
            <a:noFill/>
            <a:ln w="25560">
              <a:solidFill>
                <a:srgbClr val="ffff00"/>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4" name="TextBox 2053"/>
          <p:cNvSpPr/>
          <p:nvPr/>
        </p:nvSpPr>
        <p:spPr>
          <a:xfrm>
            <a:off x="3699000" y="5827680"/>
            <a:ext cx="529272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Las flechas muestran el movimiento de las Placas Australiana e Índica con respecto a la Placa Euroasiática. El epicentro del terremoto del 10 de Enero, 2012 es representado por la estrella roja que esta cerca del límite entre la Placas Australiana y la Placa Índica</a:t>
            </a:r>
            <a:endParaRPr b="0" lang="en-US" sz="1300" spc="-1" strike="noStrike">
              <a:solidFill>
                <a:srgbClr val="000000"/>
              </a:solidFill>
              <a:latin typeface="Arial"/>
            </a:endParaRPr>
          </a:p>
        </p:txBody>
      </p:sp>
      <p:pic>
        <p:nvPicPr>
          <p:cNvPr id="85" name="Picture 92" descr="unavco-logo-red-black-shadow.jpg"/>
          <p:cNvPicPr/>
          <p:nvPr/>
        </p:nvPicPr>
        <p:blipFill>
          <a:blip r:embed="rId3"/>
          <a:stretch/>
        </p:blipFill>
        <p:spPr>
          <a:xfrm>
            <a:off x="7696080" y="838080"/>
            <a:ext cx="1295640" cy="324000"/>
          </a:xfrm>
          <a:prstGeom prst="rect">
            <a:avLst/>
          </a:prstGeom>
          <a:ln w="0">
            <a:noFill/>
          </a:ln>
        </p:spPr>
      </p:pic>
      <p:sp>
        <p:nvSpPr>
          <p:cNvPr id="8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OESTE DEL NORTE DE SUMATRA</a:t>
            </a:r>
            <a:br>
              <a:rPr sz="3500"/>
            </a:br>
            <a:r>
              <a:rPr b="1" lang="es-VE" sz="1500" spc="-1" strike="noStrike">
                <a:solidFill>
                  <a:srgbClr val="11488b"/>
                </a:solidFill>
                <a:latin typeface="Arial"/>
                <a:ea typeface="Arial"/>
              </a:rPr>
              <a:t>Martes, 10 de Enero, 2012 a las  18:37:0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7"/>
          <p:cNvSpPr/>
          <p:nvPr/>
        </p:nvSpPr>
        <p:spPr>
          <a:xfrm>
            <a:off x="304920" y="6477120"/>
            <a:ext cx="40384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100" spc="-1" strike="noStrike">
                <a:solidFill>
                  <a:srgbClr val="000000"/>
                </a:solidFill>
                <a:latin typeface="Arial"/>
              </a:rPr>
              <a:t>Imagen Cortesía del Servicio Geológico de los EEUU</a:t>
            </a:r>
            <a:endParaRPr b="0" lang="en-US" sz="1100" spc="-1" strike="noStrike">
              <a:solidFill>
                <a:srgbClr val="000000"/>
              </a:solidFill>
              <a:latin typeface="Arial"/>
            </a:endParaRPr>
          </a:p>
        </p:txBody>
      </p:sp>
      <p:pic>
        <p:nvPicPr>
          <p:cNvPr id="89" name="Picture 8" descr="IRIS_TMlogo.png"/>
          <p:cNvPicPr/>
          <p:nvPr/>
        </p:nvPicPr>
        <p:blipFill>
          <a:blip r:embed="rId1"/>
          <a:stretch/>
        </p:blipFill>
        <p:spPr>
          <a:xfrm>
            <a:off x="239760" y="76320"/>
            <a:ext cx="903240" cy="927000"/>
          </a:xfrm>
          <a:prstGeom prst="rect">
            <a:avLst/>
          </a:prstGeom>
          <a:ln w="0">
            <a:noFill/>
          </a:ln>
        </p:spPr>
      </p:pic>
      <p:sp>
        <p:nvSpPr>
          <p:cNvPr id="90" name="TextBox 9"/>
          <p:cNvSpPr/>
          <p:nvPr/>
        </p:nvSpPr>
        <p:spPr>
          <a:xfrm>
            <a:off x="304920" y="1143000"/>
            <a:ext cx="3429000" cy="307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393996"/>
                </a:solidFill>
                <a:latin typeface="Arial"/>
              </a:rPr>
              <a:t>Configuración Tectónica del Noreste del Océano Índic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Una complicación tectónica adicional en esta región es que la Placa Euroasiática esta subdividida en pequeñas “micro placas” que tienen pequeños movimientos relativos entres 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1" name="Picture 8" descr="Picture1.png"/>
          <p:cNvPicPr/>
          <p:nvPr/>
        </p:nvPicPr>
        <p:blipFill>
          <a:blip r:embed="rId2"/>
          <a:stretch/>
        </p:blipFill>
        <p:spPr>
          <a:xfrm>
            <a:off x="3809880" y="817560"/>
            <a:ext cx="5181840" cy="5964120"/>
          </a:xfrm>
          <a:prstGeom prst="rect">
            <a:avLst/>
          </a:prstGeom>
          <a:ln w="0">
            <a:noFill/>
          </a:ln>
        </p:spPr>
      </p:pic>
      <p:sp>
        <p:nvSpPr>
          <p:cNvPr id="9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OESTE DEL NORTE DE SUMATRA</a:t>
            </a:r>
            <a:br>
              <a:rPr sz="3500"/>
            </a:br>
            <a:r>
              <a:rPr b="1" lang="es-VE" sz="1500" spc="-1" strike="noStrike">
                <a:solidFill>
                  <a:srgbClr val="11488b"/>
                </a:solidFill>
                <a:latin typeface="Arial"/>
                <a:ea typeface="Arial"/>
              </a:rPr>
              <a:t>Martes, 10 de Enero, 2012 a las  18:37:0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7"/>
          <p:cNvSpPr/>
          <p:nvPr/>
        </p:nvSpPr>
        <p:spPr>
          <a:xfrm>
            <a:off x="838080" y="6505560"/>
            <a:ext cx="3886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95" name="Picture 8" descr="IRIS_TMlogo.png"/>
          <p:cNvPicPr/>
          <p:nvPr/>
        </p:nvPicPr>
        <p:blipFill>
          <a:blip r:embed="rId1"/>
          <a:stretch/>
        </p:blipFill>
        <p:spPr>
          <a:xfrm>
            <a:off x="239760" y="76320"/>
            <a:ext cx="903240" cy="927000"/>
          </a:xfrm>
          <a:prstGeom prst="rect">
            <a:avLst/>
          </a:prstGeom>
          <a:ln w="0">
            <a:noFill/>
          </a:ln>
        </p:spPr>
      </p:pic>
      <p:pic>
        <p:nvPicPr>
          <p:cNvPr id="96" name="Picture 22" descr="SeismicityCaption"/>
          <p:cNvPicPr/>
          <p:nvPr/>
        </p:nvPicPr>
        <p:blipFill>
          <a:blip r:embed="rId2"/>
          <a:stretch/>
        </p:blipFill>
        <p:spPr>
          <a:xfrm>
            <a:off x="4800600" y="5913360"/>
            <a:ext cx="4114800" cy="792360"/>
          </a:xfrm>
          <a:prstGeom prst="rect">
            <a:avLst/>
          </a:prstGeom>
          <a:ln w="0">
            <a:noFill/>
          </a:ln>
        </p:spPr>
      </p:pic>
      <p:sp>
        <p:nvSpPr>
          <p:cNvPr id="97" name="TextBox 9"/>
          <p:cNvSpPr/>
          <p:nvPr/>
        </p:nvSpPr>
        <p:spPr>
          <a:xfrm>
            <a:off x="304920" y="1066680"/>
            <a:ext cx="3581280" cy="237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l terremoto (estrella naranja) es ploteada (parte derecha) con epicentros de terremotos en la región desde 199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Un gráfico  de las réplicas (parte inferior) 12 horas después del terremoto.</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98" name="Picture 10" descr="historical.jpg"/>
          <p:cNvPicPr/>
          <p:nvPr/>
        </p:nvPicPr>
        <p:blipFill>
          <a:blip r:embed="rId3"/>
          <a:stretch/>
        </p:blipFill>
        <p:spPr>
          <a:xfrm>
            <a:off x="3911760" y="838080"/>
            <a:ext cx="5155920" cy="5105520"/>
          </a:xfrm>
          <a:prstGeom prst="rect">
            <a:avLst/>
          </a:prstGeom>
          <a:ln w="0">
            <a:noFill/>
          </a:ln>
        </p:spPr>
      </p:pic>
      <p:pic>
        <p:nvPicPr>
          <p:cNvPr id="99" name="Picture 13" descr="lastday.gif"/>
          <p:cNvPicPr/>
          <p:nvPr/>
        </p:nvPicPr>
        <p:blipFill>
          <a:blip r:embed="rId4"/>
          <a:stretch/>
        </p:blipFill>
        <p:spPr>
          <a:xfrm>
            <a:off x="533520" y="3124080"/>
            <a:ext cx="3028680" cy="3029040"/>
          </a:xfrm>
          <a:prstGeom prst="rect">
            <a:avLst/>
          </a:prstGeom>
          <a:ln w="0">
            <a:noFill/>
          </a:ln>
        </p:spPr>
      </p:pic>
      <p:pic>
        <p:nvPicPr>
          <p:cNvPr id="100" name="Picture 16" descr="leggend.png"/>
          <p:cNvPicPr/>
          <p:nvPr/>
        </p:nvPicPr>
        <p:blipFill>
          <a:blip r:embed="rId5"/>
          <a:stretch/>
        </p:blipFill>
        <p:spPr>
          <a:xfrm>
            <a:off x="457200" y="6095880"/>
            <a:ext cx="4038480" cy="400320"/>
          </a:xfrm>
          <a:prstGeom prst="rect">
            <a:avLst/>
          </a:prstGeom>
          <a:ln w="0">
            <a:noFill/>
          </a:ln>
        </p:spPr>
      </p:pic>
      <p:sp>
        <p:nvSpPr>
          <p:cNvPr id="10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OESTE DEL NORTE DE SUMATRA</a:t>
            </a:r>
            <a:br>
              <a:rPr sz="3500"/>
            </a:br>
            <a:r>
              <a:rPr b="1" lang="es-VE" sz="1500" spc="-1" strike="noStrike">
                <a:solidFill>
                  <a:srgbClr val="11488b"/>
                </a:solidFill>
                <a:latin typeface="Arial"/>
                <a:ea typeface="Arial"/>
              </a:rPr>
              <a:t>Martes, 10 de Enero, 2012 a las  18:37:0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8" descr="IRIS_TMlogo.png"/>
          <p:cNvPicPr/>
          <p:nvPr/>
        </p:nvPicPr>
        <p:blipFill>
          <a:blip r:embed="rId1"/>
          <a:stretch/>
        </p:blipFill>
        <p:spPr>
          <a:xfrm>
            <a:off x="239760" y="76320"/>
            <a:ext cx="903240" cy="927000"/>
          </a:xfrm>
          <a:prstGeom prst="rect">
            <a:avLst/>
          </a:prstGeom>
          <a:ln w="0">
            <a:noFill/>
          </a:ln>
        </p:spPr>
      </p:pic>
      <p:sp>
        <p:nvSpPr>
          <p:cNvPr id="104" name="TextBox 7"/>
          <p:cNvSpPr/>
          <p:nvPr/>
        </p:nvSpPr>
        <p:spPr>
          <a:xfrm>
            <a:off x="270000" y="1095480"/>
            <a:ext cx="396216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 acuerdo con el Servicio Geológico de los EEUU (USGS): “El terremoto del 10 de Enero, 2012… Ocurrió como resultado de un fallado lateral dentro de la litósfera oceánica de  la Placa Indo- Australia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Salvo raras excepciones, largos terremotos laterales no son sin precedentes en esta región de la placa Indo-Australiana…Desde el terremoto M 9.1 que fracturó un segmento de 1300-km de longitud del límite de placa inverso en Diciembre del 2004, dos eventos laterales Mw6.2 ocurrieron dentro de un radio de 50 km del evento del 10 de Enero 2012, 19 de Abril 2006 y 4 de Octubre 2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os eventos parecen estar alineados con la construcción del fondo marino en la zona de límite difusa entre las Placa Indica y Australiana.”</a:t>
            </a:r>
            <a:endParaRPr b="0" lang="en-US" sz="1600" spc="-1" strike="noStrike">
              <a:solidFill>
                <a:srgbClr val="000000"/>
              </a:solidFill>
              <a:latin typeface="Arial"/>
            </a:endParaRPr>
          </a:p>
        </p:txBody>
      </p:sp>
      <p:sp>
        <p:nvSpPr>
          <p:cNvPr id="105" name="TextBox 8"/>
          <p:cNvSpPr/>
          <p:nvPr/>
        </p:nvSpPr>
        <p:spPr>
          <a:xfrm>
            <a:off x="5715000" y="4919760"/>
            <a:ext cx="342900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000000"/>
                </a:solidFill>
                <a:latin typeface="Arial"/>
              </a:rPr>
              <a:t>Las áreas sombreadas muestran los cuadrantes de la esfera focal en la cual los primeros Movimientos de las ondas P están lejos de la fuente, y las áreas sin sombra muestran los cuadrantes en la cual los primeros movimientos de las ondas P están cerca de la fuente. Los puntos representan los ejes de máximo esfuerzo compresional (en negro, llamado el “eje P”) y el eje de máximo esfuerzo extensional (en blanco, llamado “eje T”) como resultado del terremoto.</a:t>
            </a:r>
            <a:endParaRPr b="0" lang="en-US" sz="1100" spc="-1" strike="noStrike">
              <a:solidFill>
                <a:srgbClr val="000000"/>
              </a:solidFill>
              <a:latin typeface="Arial"/>
            </a:endParaRPr>
          </a:p>
        </p:txBody>
      </p:sp>
      <p:sp>
        <p:nvSpPr>
          <p:cNvPr id="106" name="TextBox 11"/>
          <p:cNvSpPr/>
          <p:nvPr/>
        </p:nvSpPr>
        <p:spPr>
          <a:xfrm>
            <a:off x="762120" y="6477120"/>
            <a:ext cx="434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Fase W del Tensor de Momento Sísmico-Centroide, USGS </a:t>
            </a:r>
            <a:endParaRPr b="0" lang="en-US" sz="1200" spc="-1" strike="noStrike">
              <a:solidFill>
                <a:srgbClr val="000000"/>
              </a:solidFill>
              <a:latin typeface="Arial"/>
            </a:endParaRPr>
          </a:p>
        </p:txBody>
      </p:sp>
      <p:pic>
        <p:nvPicPr>
          <p:cNvPr id="107" name="Picture 9" descr="focal.gif"/>
          <p:cNvPicPr/>
          <p:nvPr/>
        </p:nvPicPr>
        <p:blipFill>
          <a:blip r:embed="rId2"/>
          <a:stretch/>
        </p:blipFill>
        <p:spPr>
          <a:xfrm>
            <a:off x="4097160" y="5148360"/>
            <a:ext cx="1629000" cy="1628640"/>
          </a:xfrm>
          <a:prstGeom prst="rect">
            <a:avLst/>
          </a:prstGeom>
          <a:ln w="0">
            <a:noFill/>
          </a:ln>
        </p:spPr>
      </p:pic>
      <p:pic>
        <p:nvPicPr>
          <p:cNvPr id="108" name="Picture 11" descr="historicmomenttensors.jpg"/>
          <p:cNvPicPr/>
          <p:nvPr/>
        </p:nvPicPr>
        <p:blipFill>
          <a:blip r:embed="rId3"/>
          <a:stretch/>
        </p:blipFill>
        <p:spPr>
          <a:xfrm>
            <a:off x="4191120" y="838080"/>
            <a:ext cx="4905360" cy="3865680"/>
          </a:xfrm>
          <a:prstGeom prst="rect">
            <a:avLst/>
          </a:prstGeom>
          <a:ln w="0">
            <a:noFill/>
          </a:ln>
        </p:spPr>
      </p:pic>
      <p:sp>
        <p:nvSpPr>
          <p:cNvPr id="109" name="TextBox 11"/>
          <p:cNvSpPr/>
          <p:nvPr/>
        </p:nvSpPr>
        <p:spPr>
          <a:xfrm>
            <a:off x="4308480" y="4648320"/>
            <a:ext cx="434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Soluciones del Momento Tensor del USGS</a:t>
            </a:r>
            <a:endParaRPr b="0" lang="en-US" sz="1200" spc="-1" strike="noStrike">
              <a:solidFill>
                <a:srgbClr val="000000"/>
              </a:solidFill>
              <a:latin typeface="Arial"/>
            </a:endParaRPr>
          </a:p>
        </p:txBody>
      </p:sp>
      <p:sp>
        <p:nvSpPr>
          <p:cNvPr id="11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OESTE DEL NORTE DE SUMATRA</a:t>
            </a:r>
            <a:br>
              <a:rPr sz="3500"/>
            </a:br>
            <a:r>
              <a:rPr b="1" lang="es-VE" sz="1500" spc="-1" strike="noStrike">
                <a:solidFill>
                  <a:srgbClr val="11488b"/>
                </a:solidFill>
                <a:latin typeface="Arial"/>
                <a:ea typeface="Arial"/>
              </a:rPr>
              <a:t>Martes, 10 de Enero, 2012 a las  18:37:0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12" descr="scale.jpg"/>
          <p:cNvPicPr/>
          <p:nvPr/>
        </p:nvPicPr>
        <p:blipFill>
          <a:blip r:embed="rId1"/>
          <a:stretch/>
        </p:blipFill>
        <p:spPr>
          <a:xfrm>
            <a:off x="380880" y="3852720"/>
            <a:ext cx="2127240" cy="2319480"/>
          </a:xfrm>
          <a:prstGeom prst="rect">
            <a:avLst/>
          </a:prstGeom>
          <a:ln w="0">
            <a:noFill/>
          </a:ln>
        </p:spPr>
      </p:pic>
      <p:sp>
        <p:nvSpPr>
          <p:cNvPr id="113" name="TextBox 13"/>
          <p:cNvSpPr/>
          <p:nvPr/>
        </p:nvSpPr>
        <p:spPr>
          <a:xfrm>
            <a:off x="271440" y="338148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114" name="TextBox 14"/>
          <p:cNvSpPr/>
          <p:nvPr/>
        </p:nvSpPr>
        <p:spPr>
          <a:xfrm>
            <a:off x="2576520" y="322272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115" name="TextBox 15"/>
          <p:cNvSpPr/>
          <p:nvPr/>
        </p:nvSpPr>
        <p:spPr>
          <a:xfrm>
            <a:off x="4224240" y="647712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USGS Intensidad de Movimiento Estimada del Terremoto M7.3</a:t>
            </a:r>
            <a:endParaRPr b="0" lang="en-US" sz="1200" spc="-1" strike="noStrike">
              <a:solidFill>
                <a:srgbClr val="000000"/>
              </a:solidFill>
              <a:latin typeface="Arial"/>
            </a:endParaRPr>
          </a:p>
        </p:txBody>
      </p:sp>
      <p:sp>
        <p:nvSpPr>
          <p:cNvPr id="116" name="TextBox 11"/>
          <p:cNvSpPr/>
          <p:nvPr/>
        </p:nvSpPr>
        <p:spPr>
          <a:xfrm>
            <a:off x="228600" y="1011240"/>
            <a:ext cx="865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calas de intensidad de movimiento fueron desarrolladas para estandarizar las mediciones y facilitar la comparación de diferentes terremotos. La modificación de la escala de intensidad de  Marcelli una escala de doce niveles, </a:t>
            </a:r>
            <a:endParaRPr b="0" lang="en-US" sz="1600" spc="-1" strike="noStrike">
              <a:solidFill>
                <a:srgbClr val="000000"/>
              </a:solidFill>
              <a:latin typeface="Arial"/>
            </a:endParaRPr>
          </a:p>
        </p:txBody>
      </p:sp>
      <p:sp>
        <p:nvSpPr>
          <p:cNvPr id="117" name="TextBox 15"/>
          <p:cNvSpPr/>
          <p:nvPr/>
        </p:nvSpPr>
        <p:spPr>
          <a:xfrm>
            <a:off x="228600" y="1689120"/>
            <a:ext cx="396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numeradas del  I al XII. Los números bajos representan los niveles de movimientos imperceptibles, XII representa destrucción total. Un valor IV indica un nivel de movimiento que es sentido por la mayoría de las personas.</a:t>
            </a:r>
            <a:endParaRPr b="0" lang="en-US" sz="1600" spc="-1" strike="noStrike">
              <a:solidFill>
                <a:srgbClr val="000000"/>
              </a:solidFill>
              <a:latin typeface="Arial"/>
            </a:endParaRPr>
          </a:p>
        </p:txBody>
      </p:sp>
      <p:pic>
        <p:nvPicPr>
          <p:cNvPr id="118" name="Picture 8" descr="IRIS_TMlogo.png"/>
          <p:cNvPicPr/>
          <p:nvPr/>
        </p:nvPicPr>
        <p:blipFill>
          <a:blip r:embed="rId2"/>
          <a:stretch/>
        </p:blipFill>
        <p:spPr>
          <a:xfrm>
            <a:off x="239760" y="76320"/>
            <a:ext cx="903240" cy="927000"/>
          </a:xfrm>
          <a:prstGeom prst="rect">
            <a:avLst/>
          </a:prstGeom>
          <a:ln w="0">
            <a:noFill/>
          </a:ln>
        </p:spPr>
      </p:pic>
      <p:sp>
        <p:nvSpPr>
          <p:cNvPr id="119" name="TextBox 15"/>
          <p:cNvSpPr/>
          <p:nvPr/>
        </p:nvSpPr>
        <p:spPr>
          <a:xfrm>
            <a:off x="152280" y="632448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12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OESTE DEL NORTE DE SUMATRA</a:t>
            </a:r>
            <a:br>
              <a:rPr sz="3500"/>
            </a:br>
            <a:r>
              <a:rPr b="1" lang="es-VE" sz="1500" spc="-1" strike="noStrike">
                <a:solidFill>
                  <a:srgbClr val="11488b"/>
                </a:solidFill>
                <a:latin typeface="Arial"/>
                <a:ea typeface="Arial"/>
              </a:rPr>
              <a:t>Martes, 10 de Enero, 2012 a las  18:37:01 UTC </a:t>
            </a:r>
            <a:endParaRPr b="0" lang="en-US" sz="1500" spc="-1" strike="noStrike">
              <a:solidFill>
                <a:srgbClr val="000000"/>
              </a:solidFill>
              <a:latin typeface="Arial"/>
            </a:endParaRPr>
          </a:p>
        </p:txBody>
      </p:sp>
      <p:pic>
        <p:nvPicPr>
          <p:cNvPr id="121" name="Picture 14" descr="intensity.jpg"/>
          <p:cNvPicPr/>
          <p:nvPr/>
        </p:nvPicPr>
        <p:blipFill>
          <a:blip r:embed="rId3"/>
          <a:stretch/>
        </p:blipFill>
        <p:spPr>
          <a:xfrm>
            <a:off x="3962520" y="1523880"/>
            <a:ext cx="5029200" cy="490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Box 15"/>
          <p:cNvSpPr/>
          <p:nvPr/>
        </p:nvSpPr>
        <p:spPr>
          <a:xfrm>
            <a:off x="4952880" y="934920"/>
            <a:ext cx="401004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pic>
        <p:nvPicPr>
          <p:cNvPr id="124" name="Picture 8" descr="IRIS_TMlogo.png"/>
          <p:cNvPicPr/>
          <p:nvPr/>
        </p:nvPicPr>
        <p:blipFill>
          <a:blip r:embed="rId1"/>
          <a:stretch/>
        </p:blipFill>
        <p:spPr>
          <a:xfrm>
            <a:off x="239760" y="76320"/>
            <a:ext cx="903240" cy="927000"/>
          </a:xfrm>
          <a:prstGeom prst="rect">
            <a:avLst/>
          </a:prstGeom>
          <a:ln w="0">
            <a:noFill/>
          </a:ln>
        </p:spPr>
      </p:pic>
      <p:sp>
        <p:nvSpPr>
          <p:cNvPr id="125" name="TextBox 15"/>
          <p:cNvSpPr/>
          <p:nvPr/>
        </p:nvSpPr>
        <p:spPr>
          <a:xfrm>
            <a:off x="380880" y="5384880"/>
            <a:ext cx="4891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126" name="TextBox 18"/>
          <p:cNvSpPr/>
          <p:nvPr/>
        </p:nvSpPr>
        <p:spPr>
          <a:xfrm>
            <a:off x="228600" y="1139760"/>
            <a:ext cx="464832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l  mapa localizador del Servicio Geológico de los EEUU muestra la población expuesta a diferentes niveles de intensidad modificada Mercalli (MMI).  MMI describe la severidad de un terremoto en términos de sus efectos en estructuras humanas y es una vasta medida de la cantidad de movimientos telúricos en un lugar dad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ea typeface="Arial"/>
              </a:rPr>
              <a:t>En general, la población en esta región reside en estructuras que son vulnerables a los movimientos telúricos, aunque muchas de las estructuras todavía existen.</a:t>
            </a:r>
            <a:endParaRPr b="0" lang="en-US" sz="1600" spc="-1" strike="noStrike">
              <a:solidFill>
                <a:srgbClr val="000000"/>
              </a:solidFill>
              <a:latin typeface="Arial"/>
            </a:endParaRPr>
          </a:p>
        </p:txBody>
      </p:sp>
      <p:sp>
        <p:nvSpPr>
          <p:cNvPr id="127" name="TextBox 20"/>
          <p:cNvSpPr/>
          <p:nvPr/>
        </p:nvSpPr>
        <p:spPr>
          <a:xfrm>
            <a:off x="239760" y="4394160"/>
            <a:ext cx="4637160" cy="1006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200" spc="-1" strike="noStrike">
              <a:solidFill>
                <a:srgbClr val="000000"/>
              </a:solidFill>
              <a:latin typeface="Arial"/>
            </a:endParaRPr>
          </a:p>
        </p:txBody>
      </p:sp>
      <p:sp>
        <p:nvSpPr>
          <p:cNvPr id="12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OESTE DEL NORTE DE SUMATRA</a:t>
            </a:r>
            <a:br>
              <a:rPr sz="3500"/>
            </a:br>
            <a:r>
              <a:rPr b="1" lang="es-VE" sz="1500" spc="-1" strike="noStrike">
                <a:solidFill>
                  <a:srgbClr val="11488b"/>
                </a:solidFill>
                <a:latin typeface="Arial"/>
                <a:ea typeface="Arial"/>
              </a:rPr>
              <a:t>Martes, 10 de Enero, 2012 a las  18:37:01 UTC </a:t>
            </a:r>
            <a:endParaRPr b="0" lang="en-US" sz="1500" spc="-1" strike="noStrike">
              <a:solidFill>
                <a:srgbClr val="000000"/>
              </a:solidFill>
              <a:latin typeface="Arial"/>
            </a:endParaRPr>
          </a:p>
        </p:txBody>
      </p:sp>
      <p:pic>
        <p:nvPicPr>
          <p:cNvPr id="129" name="Picture 12" descr="pager.png"/>
          <p:cNvPicPr/>
          <p:nvPr/>
        </p:nvPicPr>
        <p:blipFill>
          <a:blip r:embed="rId2"/>
          <a:stretch/>
        </p:blipFill>
        <p:spPr>
          <a:xfrm>
            <a:off x="4967280" y="1523880"/>
            <a:ext cx="3948120" cy="4084920"/>
          </a:xfrm>
          <a:prstGeom prst="rect">
            <a:avLst/>
          </a:prstGeom>
          <a:ln w="0">
            <a:noFill/>
          </a:ln>
        </p:spPr>
      </p:pic>
      <p:pic>
        <p:nvPicPr>
          <p:cNvPr id="130" name="Picture 10" descr="legend.png"/>
          <p:cNvPicPr/>
          <p:nvPr/>
        </p:nvPicPr>
        <p:blipFill>
          <a:blip r:embed="rId3"/>
          <a:stretch/>
        </p:blipFill>
        <p:spPr>
          <a:xfrm>
            <a:off x="374760" y="5614920"/>
            <a:ext cx="8616960" cy="11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18" descr="IRIS_TMlogo.png"/>
          <p:cNvPicPr/>
          <p:nvPr/>
        </p:nvPicPr>
        <p:blipFill>
          <a:blip r:embed="rId1"/>
          <a:stretch/>
        </p:blipFill>
        <p:spPr>
          <a:xfrm>
            <a:off x="239760" y="76320"/>
            <a:ext cx="903240" cy="927000"/>
          </a:xfrm>
          <a:prstGeom prst="rect">
            <a:avLst/>
          </a:prstGeom>
          <a:ln w="0">
            <a:noFill/>
          </a:ln>
        </p:spPr>
      </p:pic>
      <p:sp>
        <p:nvSpPr>
          <p:cNvPr id="133" name="TextBox 7"/>
          <p:cNvSpPr/>
          <p:nvPr/>
        </p:nvSpPr>
        <p:spPr>
          <a:xfrm>
            <a:off x="304920" y="2022480"/>
            <a:ext cx="3809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8 minutos del terremoto, el Centro de Advertencia de Tsunami del Pacifico publicó el siguiente boletín de inform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No existe amenaza de tsunami de gran escala basado en datos históricos de tsunamis y terremo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Sin embargo – Existe una pequeña posibilidad de un tsunami local que podría afectar la zona costera ubicada usualmente a una distancia menor que cien kilómetros desde el epicentro del terremoto.</a:t>
            </a:r>
            <a:endParaRPr b="0" lang="en-US" sz="1600" spc="-1" strike="noStrike">
              <a:solidFill>
                <a:srgbClr val="000000"/>
              </a:solidFill>
              <a:latin typeface="Arial"/>
            </a:endParaRPr>
          </a:p>
        </p:txBody>
      </p:sp>
      <p:sp>
        <p:nvSpPr>
          <p:cNvPr id="134" name="TextBox 8"/>
          <p:cNvSpPr/>
          <p:nvPr/>
        </p:nvSpPr>
        <p:spPr>
          <a:xfrm>
            <a:off x="4143240" y="6059520"/>
            <a:ext cx="47721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Centro de Advertencia de Tsunami (PTWC) es el centro de advertencia interino del Sistema de Advertencia del Océano Índico y de evaluación de terremotos en el Océano Índico.</a:t>
            </a:r>
            <a:endParaRPr b="0" lang="en-US" sz="1200" spc="-1" strike="noStrike">
              <a:solidFill>
                <a:srgbClr val="000000"/>
              </a:solidFill>
              <a:latin typeface="Arial"/>
            </a:endParaRPr>
          </a:p>
        </p:txBody>
      </p:sp>
      <p:pic>
        <p:nvPicPr>
          <p:cNvPr id="135" name="Picture 7" descr="tsunamimap.png"/>
          <p:cNvPicPr/>
          <p:nvPr/>
        </p:nvPicPr>
        <p:blipFill>
          <a:blip r:embed="rId2"/>
          <a:stretch/>
        </p:blipFill>
        <p:spPr>
          <a:xfrm>
            <a:off x="4229280" y="2133720"/>
            <a:ext cx="4686120" cy="3795480"/>
          </a:xfrm>
          <a:prstGeom prst="rect">
            <a:avLst/>
          </a:prstGeom>
          <a:ln w="0">
            <a:noFill/>
          </a:ln>
        </p:spPr>
      </p:pic>
      <p:pic>
        <p:nvPicPr>
          <p:cNvPr id="136" name="Picture 8" descr="watch.png"/>
          <p:cNvPicPr/>
          <p:nvPr/>
        </p:nvPicPr>
        <p:blipFill>
          <a:blip r:embed="rId3"/>
          <a:stretch/>
        </p:blipFill>
        <p:spPr>
          <a:xfrm>
            <a:off x="380880" y="1166760"/>
            <a:ext cx="5715000" cy="666720"/>
          </a:xfrm>
          <a:prstGeom prst="rect">
            <a:avLst/>
          </a:prstGeom>
          <a:ln w="0">
            <a:noFill/>
          </a:ln>
        </p:spPr>
      </p:pic>
      <p:sp>
        <p:nvSpPr>
          <p:cNvPr id="13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3 COSTA OESTE DEL NORTE DE SUMATRA</a:t>
            </a:r>
            <a:br>
              <a:rPr sz="3500"/>
            </a:br>
            <a:r>
              <a:rPr b="1" lang="es-VE" sz="1500" spc="-1" strike="noStrike">
                <a:solidFill>
                  <a:srgbClr val="11488b"/>
                </a:solidFill>
                <a:latin typeface="Arial"/>
                <a:ea typeface="Arial"/>
              </a:rPr>
              <a:t>Martes, 10 de Enero, 2012 a las  18:37:0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a.bravo</cp:lastModifiedBy>
  <dcterms:modified xsi:type="dcterms:W3CDTF">2012-01-11T19:38:46Z</dcterms:modified>
  <cp:revision>680</cp:revision>
  <dc:subject/>
  <dc:title>Slide 1</dc:title>
</cp:coreProperties>
</file>