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png" ContentType="image/png"/>
  <Override PartName="/ppt/media/image8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C743-D487-40CF-B1BF-F5D7A4AA3B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8963-F706-4DC5-A34C-35C7A752EAE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F8F6-3D54-470E-B4F3-C2A3951D813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C2EE-3298-419E-9683-FB000283A2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F662-26B0-408D-B26A-32E82CED05D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CC0C-DFE2-4C57-9B55-1146BD1C963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873A-DA1F-457D-95D7-613BF92E8A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2486-1CD0-4DC0-B151-16977B7F159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5C9-B3BD-4619-B8D4-173A845A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E22-CD2B-4540-A841-82E2F34E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071-FEE3-4366-ABBE-02DE1478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770-0F71-4575-8227-C5E5B24D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D83-3569-4DE0-BC9D-61ADFD05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FF1-4709-4AA1-AC50-7F57F080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ACF-AAD4-4C49-9367-42F3DEEF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4C2-6F81-4234-B256-86F1050A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503-501D-4434-BE59-19F898BA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58A-FB98-4C1E-9283-D166029C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F10-5FA0-4F6F-90DA-9E2BEAD2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B24-FB7E-4CD0-B905-631242A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E1F7-9966-478E-BC9C-388720BFA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4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.1 CERCA DE VANUATU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2 de Febrero, 2012 a las 13:34:4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228600" y="1066680"/>
            <a:ext cx="624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Un fuerte terremoto estremeció las cercanías de Vanuatu al suroeste del Océano Pacífico a tempranas horas de la mañana del Viernes (12:34:40 AM) hora local, 124 km (77 miles) al oeste de Port-Vila, Efate, Vanua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62120" y="632448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U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globe.jpg"/>
          <p:cNvPicPr/>
          <p:nvPr/>
        </p:nvPicPr>
        <p:blipFill>
          <a:blip r:embed="rId2"/>
          <a:stretch/>
        </p:blipFill>
        <p:spPr>
          <a:xfrm>
            <a:off x="7010280" y="228600"/>
            <a:ext cx="1854360" cy="185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map.png"/>
          <p:cNvPicPr/>
          <p:nvPr/>
        </p:nvPicPr>
        <p:blipFill>
          <a:blip r:embed="rId3"/>
          <a:stretch/>
        </p:blipFill>
        <p:spPr>
          <a:xfrm>
            <a:off x="4952880" y="3809880"/>
            <a:ext cx="4029120" cy="289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location1.jpg"/>
          <p:cNvPicPr/>
          <p:nvPr/>
        </p:nvPicPr>
        <p:blipFill>
          <a:blip r:embed="rId4"/>
          <a:stretch/>
        </p:blipFill>
        <p:spPr>
          <a:xfrm>
            <a:off x="380880" y="2133720"/>
            <a:ext cx="4343400" cy="4375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2"/>
          <p:cNvSpPr/>
          <p:nvPr/>
        </p:nvSpPr>
        <p:spPr>
          <a:xfrm>
            <a:off x="4876920" y="2309760"/>
            <a:ext cx="42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Vanuatu es una línea de islas volcánicas y volcanes submarinos, 1400 millas (2300 km) al este del noreste de Australia. Existen 13 islas principales, nueve de las cuales son el hogar de volcanes act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85800" y="652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U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304920" y="1173240"/>
            <a:ext cx="342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Un Oficial de la Policía en Port Vila reportó que el sismo fue sentido fuertemente, pero no hubo reporte de daños. (Reut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La región de Vanuatu esta familiarizada con terremotos de esta magnitud, aproximadamente una docena de terremotos de M7 y más han ocurrido en un radio de 250 km de este terremoto en los últimos 30 años. Sin embargo, ellos ocurren generalmente en la interface de subducción al este, y algunos han sido en las afueras de la fosa.” US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l terremoto (estrella naranja) esta posicionado con los epicentros de terremotos en la región desde 1990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historical.jpg"/>
          <p:cNvPicPr/>
          <p:nvPr/>
        </p:nvPicPr>
        <p:blipFill>
          <a:blip r:embed="rId2"/>
          <a:stretch/>
        </p:blipFill>
        <p:spPr>
          <a:xfrm>
            <a:off x="3886200" y="838080"/>
            <a:ext cx="5105520" cy="510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SeismicityCaption"/>
          <p:cNvPicPr/>
          <p:nvPr/>
        </p:nvPicPr>
        <p:blipFill>
          <a:blip r:embed="rId3"/>
          <a:stretch/>
        </p:blipFill>
        <p:spPr>
          <a:xfrm>
            <a:off x="4672080" y="5989680"/>
            <a:ext cx="4114800" cy="792000"/>
          </a:xfrm>
          <a:prstGeom prst="rect">
            <a:avLst/>
          </a:prstGeom>
          <a:ln w="0">
            <a:noFill/>
          </a:ln>
        </p:spPr>
      </p:pic>
      <p:sp>
        <p:nvSpPr>
          <p:cNvPr id="63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.1 CERCA DE VANUATU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2 de Febrero, 2012 a las 13:34:4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1" descr="pacific.png"/>
          <p:cNvPicPr/>
          <p:nvPr/>
        </p:nvPicPr>
        <p:blipFill>
          <a:blip r:embed="rId1"/>
          <a:stretch/>
        </p:blipFill>
        <p:spPr>
          <a:xfrm>
            <a:off x="304920" y="1352520"/>
            <a:ext cx="4600440" cy="4448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217440" y="5872320"/>
            <a:ext cx="430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Las flechas muestran el movimiento neto de las placas con respecto a la Placa del Pacíf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2" descr="unavco-logo-red-black-shadow.jpg"/>
          <p:cNvPicPr/>
          <p:nvPr/>
        </p:nvPicPr>
        <p:blipFill>
          <a:blip r:embed="rId3"/>
          <a:stretch/>
        </p:blipFill>
        <p:spPr>
          <a:xfrm>
            <a:off x="3657600" y="6229440"/>
            <a:ext cx="1295280" cy="323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8"/>
          <p:cNvSpPr/>
          <p:nvPr/>
        </p:nvSpPr>
        <p:spPr>
          <a:xfrm>
            <a:off x="3657600" y="4267080"/>
            <a:ext cx="1257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Placa del Pací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 flipV="1">
            <a:off x="3886200" y="3257280"/>
            <a:ext cx="22860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848040" y="2895480"/>
            <a:ext cx="1257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Fosa de Ton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1066680" y="4705200"/>
            <a:ext cx="1257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Placa de Austral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1571760" y="332280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1371600" y="2571840"/>
            <a:ext cx="1600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Fosa de Nueva Hebr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V="1">
            <a:off x="1828800" y="3180960"/>
            <a:ext cx="304920" cy="266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819520" y="5391000"/>
            <a:ext cx="1828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00"/>
                </a:solidFill>
                <a:latin typeface="Arial"/>
              </a:rPr>
              <a:t>Nueva Zel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e 7.1 NEAR VANUATU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  <a:ea typeface="Arial"/>
              </a:rPr>
              <a:t>Thursday,  February 2, 2012 at 13:34:4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>
            <a:off x="5181480" y="2438280"/>
            <a:ext cx="36576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l epicentro del terremoto esta localizado justamente a 15 km al oeste de la Fosa de Nueva Hebrides, la expresión batimétrica del límite entre las Placas del Pacífico y Australia, donde la litosfera de la Placa de Australia se subduce dentro del manto debajo de la cuenca norte de Fij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n la ubicación del terremoto, la Placa de Australia se mueve este – noreste con respecto a la Placa del Pacífico a una velocidad aproximada de 84 mm/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leg.png"/>
          <p:cNvPicPr/>
          <p:nvPr/>
        </p:nvPicPr>
        <p:blipFill>
          <a:blip r:embed="rId4"/>
          <a:stretch/>
        </p:blipFill>
        <p:spPr>
          <a:xfrm>
            <a:off x="380880" y="150480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globe.jpg"/>
          <p:cNvPicPr/>
          <p:nvPr/>
        </p:nvPicPr>
        <p:blipFill>
          <a:blip r:embed="rId5"/>
          <a:stretch/>
        </p:blipFill>
        <p:spPr>
          <a:xfrm>
            <a:off x="6985080" y="228600"/>
            <a:ext cx="1854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8"/>
          <p:cNvSpPr/>
          <p:nvPr/>
        </p:nvSpPr>
        <p:spPr>
          <a:xfrm>
            <a:off x="2438280" y="5257800"/>
            <a:ext cx="6400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Las áreas sombreadas muestran los cuadrantes de la esfera focal en la cual los primeros Movimientos de las ondas P están lejos de la fuente, y las áreas sin sombra muestran los cuadrantes en la cual los primeros movimientos de las ondas P están cerca de la fuente. Los puntos representan los ejes de máximo esfuerzo compresional (en negro, llamado el “eje P”) y el eje de máximo esfuerzo extensional (en blanco, llamado “eje T”) como resultado del terremo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304920" y="647712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Fase W del Tensor de Momento Sísmico-Centroide, US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focal.gif"/>
          <p:cNvPicPr/>
          <p:nvPr/>
        </p:nvPicPr>
        <p:blipFill>
          <a:blip r:embed="rId2"/>
          <a:stretch/>
        </p:blipFill>
        <p:spPr>
          <a:xfrm>
            <a:off x="380880" y="4572000"/>
            <a:ext cx="1762200" cy="17622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304920" y="1219320"/>
            <a:ext cx="419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ste terremoto ocurrió como resultado de un fallado normal-oblicuo dentro de la litósfera  de la Placa Australiana 15 km al oeste de la Fosa de Nueva Hebrides. El fallado normal es debido a la extensión de la elevación externa (antes de la fosa) mientras la placa comienza a doblar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e 7.1 NEAR VANUATU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  <a:ea typeface="Arial"/>
              </a:rPr>
              <a:t>Thursday,  February 2, 2012 at 13:34:4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location1.jpg"/>
          <p:cNvPicPr/>
          <p:nvPr/>
        </p:nvPicPr>
        <p:blipFill>
          <a:blip r:embed="rId3"/>
          <a:stretch/>
        </p:blipFill>
        <p:spPr>
          <a:xfrm>
            <a:off x="4572000" y="914400"/>
            <a:ext cx="4343400" cy="437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extension.png"/>
          <p:cNvPicPr/>
          <p:nvPr/>
        </p:nvPicPr>
        <p:blipFill>
          <a:blip r:embed="rId4"/>
          <a:stretch/>
        </p:blipFill>
        <p:spPr>
          <a:xfrm>
            <a:off x="2286000" y="3209760"/>
            <a:ext cx="2162160" cy="1667160"/>
          </a:xfrm>
          <a:prstGeom prst="rect">
            <a:avLst/>
          </a:prstGeom>
          <a:ln w="0">
            <a:noFill/>
          </a:ln>
        </p:spPr>
      </p:pic>
      <p:sp>
        <p:nvSpPr>
          <p:cNvPr id="90" name="TextBox 11"/>
          <p:cNvSpPr/>
          <p:nvPr/>
        </p:nvSpPr>
        <p:spPr>
          <a:xfrm>
            <a:off x="457200" y="3962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Falla Normal - Oblic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scale.jpg"/>
          <p:cNvPicPr/>
          <p:nvPr/>
        </p:nvPicPr>
        <p:blipFill>
          <a:blip r:embed="rId1"/>
          <a:stretch/>
        </p:blipFill>
        <p:spPr>
          <a:xfrm>
            <a:off x="380880" y="3852720"/>
            <a:ext cx="2127240" cy="2319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3"/>
          <p:cNvSpPr/>
          <p:nvPr/>
        </p:nvSpPr>
        <p:spPr>
          <a:xfrm>
            <a:off x="271440" y="33814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2576520" y="3222720"/>
            <a:ext cx="15382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Percib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Temb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4224240" y="6477120"/>
            <a:ext cx="51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USGS Intensidad de Movimiento Estimada del Terremoto M7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228600" y="1011240"/>
            <a:ext cx="865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Escalas de intensidad de movimiento fueron desarrolladas para estandarizar las mediciones y facilitar la comparación de diferentes terremotos. La modificación de la escala de intensidad de  Marcelli una escala de doce nive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228600" y="1689120"/>
            <a:ext cx="3962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numeradas del  I al XII. Los números bajos representan los niveles de movimientos imperceptibles, XII representa destrucción total. Un valor IV indica un nivel de movimiento que es sentido por la mayoría de las perso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5"/>
          <p:cNvSpPr/>
          <p:nvPr/>
        </p:nvSpPr>
        <p:spPr>
          <a:xfrm>
            <a:off x="152280" y="632448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U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.1 CERCA DE VANUATU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2 de Febrero, 2012 a las 13:34:4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intensity.png"/>
          <p:cNvPicPr/>
          <p:nvPr/>
        </p:nvPicPr>
        <p:blipFill>
          <a:blip r:embed="rId3"/>
          <a:stretch/>
        </p:blipFill>
        <p:spPr>
          <a:xfrm>
            <a:off x="4038480" y="1676520"/>
            <a:ext cx="4727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4952880" y="934920"/>
            <a:ext cx="4010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600" spc="-1" strike="noStrike">
                <a:solidFill>
                  <a:srgbClr val="000000"/>
                </a:solidFill>
                <a:latin typeface="Arial"/>
              </a:rPr>
              <a:t>USGS PAG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5"/>
          <p:cNvSpPr/>
          <p:nvPr/>
        </p:nvSpPr>
        <p:spPr>
          <a:xfrm>
            <a:off x="380880" y="5384880"/>
            <a:ext cx="48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U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228600" y="1139760"/>
            <a:ext cx="464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Arial"/>
              </a:rPr>
              <a:t>El  mapa localizador del Servicio Geológico de los EEUU muestra la población expuesta a diferentes niveles de intensidad modificada Mercalli (MMI).  MMI describe la severidad de un terremoto en términos de sus efectos en estructuras humanas y es una vasta medida de la cantidad de movimientos telúricos en un lugar dad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Arial"/>
              </a:rPr>
              <a:t>En general, la población en esta región reside en estructuras que son vulnerables a los movimientos telúricos, aunque muchas de las estructuras todavía exi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0"/>
          <p:cNvSpPr/>
          <p:nvPr/>
        </p:nvSpPr>
        <p:spPr>
          <a:xfrm>
            <a:off x="239760" y="4394160"/>
            <a:ext cx="4637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El código de colores de las líneas de contorno marca las regiones de intensidad MMI. La población total expuesta a un valor de MMI dado es obtenida sumando la población entre las líneas de contorno. La estimación de la población expuesta a cada intensidad  MMI es mostrada en la tabla de la parte inf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.1 CERCA DE VANUATU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2 de Febrero, 2012 a las 13:34:4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pager.png"/>
          <p:cNvPicPr/>
          <p:nvPr/>
        </p:nvPicPr>
        <p:blipFill>
          <a:blip r:embed="rId2"/>
          <a:stretch/>
        </p:blipFill>
        <p:spPr>
          <a:xfrm>
            <a:off x="5081760" y="1523880"/>
            <a:ext cx="3833640" cy="3965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pager_pop.png"/>
          <p:cNvPicPr/>
          <p:nvPr/>
        </p:nvPicPr>
        <p:blipFill>
          <a:blip r:embed="rId3"/>
          <a:stretch/>
        </p:blipFill>
        <p:spPr>
          <a:xfrm>
            <a:off x="204840" y="5649840"/>
            <a:ext cx="891540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228600" y="1090440"/>
            <a:ext cx="2895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7 minutos después de haber ocurrido el terremoto, el Centro de Advertencia de Tsunami del Pacífico de NOAA publicó el siguiente boletín de inform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No existe amenaza de tsunami de expansión destructiva basado en datos históricos de terremotos y tsuna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Sin embargo – terremotos de esta magnitud generan tsunamis locales que pueden ser destructivos a lo largo de las costas localizadas a cien kilómetros del epicentro del terremo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3276720" y="6472080"/>
            <a:ext cx="569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Mapa de trayectoria de Tsunami local creado por GDACS (datos usados : US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tsunami.jpg"/>
          <p:cNvPicPr/>
          <p:nvPr/>
        </p:nvPicPr>
        <p:blipFill>
          <a:blip r:embed="rId2"/>
          <a:stretch/>
        </p:blipFill>
        <p:spPr>
          <a:xfrm>
            <a:off x="3457440" y="91440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11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.1 CERCA DE VANUATU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Jueves, 2 de Febrero, 2012 a las 13:34:40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tkb</cp:lastModifiedBy>
  <dcterms:modified xsi:type="dcterms:W3CDTF">2012-02-03T18:26:48Z</dcterms:modified>
  <cp:revision>652</cp:revision>
  <dc:subject/>
  <dc:title>Slide 1</dc:title>
</cp:coreProperties>
</file>