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E0F2-4AC7-4BD3-9331-3F248C9771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E14A-36FB-4EBA-B66B-0926674850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7900-0A54-4B8E-B573-D81E71B0DD0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134-1DCD-4608-BC18-9288ADD067C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1BAF-F56E-4940-A186-EA21A4B489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EA8-59B9-4488-B3A2-1501A99E12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BBC-0C30-43E1-8F74-B070398C16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D62-0787-4F61-9C0C-BE812D397C8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F25-35AD-47F5-9C7C-C66F508C2C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1F3-E7B0-4CC3-8282-9015A662BB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6F1-8B91-4176-82B1-28D33ECB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7C7-4798-4036-9AF9-4EF5E9B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7BC-86DF-4D76-9464-24CE988B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2C2-6C39-45AC-9EAF-BC61C401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079-FCB7-41AA-AFF2-A4E2E629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660-014D-47C1-B31A-CFDC4D0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D66-B829-4287-B5E4-135895F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D0C-5A60-4832-9890-9DE49C7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BB4-530B-42C4-B532-9FBF687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4C-9EEB-4EED-9107-F02A814B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D6A-B020-4852-BEEC-70DC98F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2A6-7241-4241-86DE-23BB565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809D-62AF-47DC-A491-566B69586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82520" y="995400"/>
            <a:ext cx="6883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Un terremoto de magnitud 7.1 estremeció el centro de Chile la noche del Sábado, el más  fuerte y de mayor duración muchas personas dijeron haber sentido desde el terremoto de magnitud 8.8 hace dos años. Reportes iniciales indican solo daños menores, heridos sin reportes de muert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El sismo fue localizado 136 millas (219 kilómetros) sur-suroeste de la capital Santiag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Mientras la población de un estrecho de la costa central de Chile fueron rápidamente advertidos de dirigirse a tierras más  altas, dicha advertencia fue posteriormente cancelada. No se espera ningún Tsunami en el Océano  Pacífico y ninguna advertencia fue public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822960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location.gif"/>
          <p:cNvPicPr/>
          <p:nvPr/>
        </p:nvPicPr>
        <p:blipFill>
          <a:blip r:embed="rId2"/>
          <a:stretch/>
        </p:blipFill>
        <p:spPr>
          <a:xfrm>
            <a:off x="6781680" y="1757520"/>
            <a:ext cx="2286000" cy="39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globe.gif"/>
          <p:cNvPicPr/>
          <p:nvPr/>
        </p:nvPicPr>
        <p:blipFill>
          <a:blip r:embed="rId3"/>
          <a:stretch/>
        </p:blipFill>
        <p:spPr>
          <a:xfrm>
            <a:off x="7543800" y="131760"/>
            <a:ext cx="1479600" cy="1468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4876920" y="5486400"/>
            <a:ext cx="2590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Bomberos inspeccionan edificio en el centro de Santiago después de un terremoto en el centro de Chile (</a:t>
            </a: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AP Foto/ Aliosha Márquez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AP120325087282.jpg"/>
          <p:cNvPicPr/>
          <p:nvPr/>
        </p:nvPicPr>
        <p:blipFill>
          <a:blip r:embed="rId4"/>
          <a:stretch/>
        </p:blipFill>
        <p:spPr>
          <a:xfrm>
            <a:off x="380880" y="3962520"/>
            <a:ext cx="4459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4952880" y="934920"/>
            <a:ext cx="4010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380880" y="5384880"/>
            <a:ext cx="48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228600" y="990720"/>
            <a:ext cx="464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 mapa localizador del Servicio Geológico de los EEUU muestra la población expuesta a diferentes niveles de intensidad modificada Mercalli (MMI).  MMI describe la severidad de un terremoto en términos de sus efectos en estructuras humanas y es una vasta medida de la cantidad de movimientos telúricos en un lugar dad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general, la población en esta región reside en estructuras que son resistentes a los movimientos telúricos, aunque muchas de las estructuras vulnerables todavía exi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239760" y="4394160"/>
            <a:ext cx="463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parte inf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pager.png"/>
          <p:cNvPicPr/>
          <p:nvPr/>
        </p:nvPicPr>
        <p:blipFill>
          <a:blip r:embed="rId2"/>
          <a:stretch/>
        </p:blipFill>
        <p:spPr>
          <a:xfrm>
            <a:off x="5003640" y="1554120"/>
            <a:ext cx="3835440" cy="39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opulation.jpg"/>
          <p:cNvPicPr/>
          <p:nvPr/>
        </p:nvPicPr>
        <p:blipFill>
          <a:blip r:embed="rId3"/>
          <a:stretch/>
        </p:blipFill>
        <p:spPr>
          <a:xfrm>
            <a:off x="304920" y="5661000"/>
            <a:ext cx="8762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scale.jpg"/>
          <p:cNvPicPr/>
          <p:nvPr/>
        </p:nvPicPr>
        <p:blipFill>
          <a:blip r:embed="rId1"/>
          <a:stretch/>
        </p:blipFill>
        <p:spPr>
          <a:xfrm>
            <a:off x="380880" y="385272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271440" y="34574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2576520" y="32986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4224240" y="6477120"/>
            <a:ext cx="51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GS Intensidad de Movimiento Estimada del Terremoto M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28600" y="1011240"/>
            <a:ext cx="86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calas de intensidad de movimiento fueron desarrolladas para estandarizar las mediciones y facilitar la comparación de diferentes terremotos. La modificación de la escala de intensidad de  Marcelli una escala de doce nive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228600" y="176544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adas del  I al XII. Los números bajos representan los niveles de movimientos imperceptibles, XII representa destrucción total. Un valor IV indica un nivel de movimiento que es sentido por la mayoría de las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5"/>
          <p:cNvSpPr/>
          <p:nvPr/>
        </p:nvSpPr>
        <p:spPr>
          <a:xfrm>
            <a:off x="152280" y="632448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intensity.jpg"/>
          <p:cNvPicPr/>
          <p:nvPr/>
        </p:nvPicPr>
        <p:blipFill>
          <a:blip r:embed="rId3"/>
          <a:stretch/>
        </p:blipFill>
        <p:spPr>
          <a:xfrm>
            <a:off x="4032360" y="1670040"/>
            <a:ext cx="4887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7"/>
          <p:cNvGrpSpPr/>
          <p:nvPr/>
        </p:nvGrpSpPr>
        <p:grpSpPr>
          <a:xfrm>
            <a:off x="3068640" y="1008000"/>
            <a:ext cx="5881680" cy="5621400"/>
            <a:chOff x="3068640" y="1008000"/>
            <a:chExt cx="5881680" cy="5621400"/>
          </a:xfrm>
        </p:grpSpPr>
        <p:pic>
          <p:nvPicPr>
            <p:cNvPr id="78" name="Picture 28" descr="PlateTectMap"/>
            <p:cNvPicPr/>
            <p:nvPr/>
          </p:nvPicPr>
          <p:blipFill>
            <a:blip r:embed="rId1"/>
            <a:stretch/>
          </p:blipFill>
          <p:spPr>
            <a:xfrm>
              <a:off x="3068640" y="1008000"/>
              <a:ext cx="5881680" cy="56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0"/>
            <p:cNvSpPr/>
            <p:nvPr/>
          </p:nvSpPr>
          <p:spPr>
            <a:xfrm>
              <a:off x="3076200" y="4896720"/>
              <a:ext cx="19436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100" spc="-1" strike="noStrike">
                  <a:solidFill>
                    <a:srgbClr val="ffff00"/>
                  </a:solidFill>
                  <a:latin typeface="Arial"/>
                </a:rPr>
                <a:t>Placa de Naz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31"/>
            <p:cNvSpPr/>
            <p:nvPr/>
          </p:nvSpPr>
          <p:spPr>
            <a:xfrm>
              <a:off x="5153040" y="6037560"/>
              <a:ext cx="215640" cy="216000"/>
            </a:xfrm>
            <a:custGeom>
              <a:avLst/>
              <a:gdLst>
                <a:gd name="textAreaLeft" fmla="*/ 66960 w 215640"/>
                <a:gd name="textAreaRight" fmla="*/ 149040 w 215640"/>
                <a:gd name="textAreaTop" fmla="*/ 82080 h 216000"/>
                <a:gd name="textAreaBottom" fmla="*/ 165240 h 21600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76"/>
                  </a:moveTo>
                  <a:lnTo>
                    <a:pt x="76" y="76"/>
                  </a:lnTo>
                  <a:lnTo>
                    <a:pt x="100" y="0"/>
                  </a:lnTo>
                  <a:lnTo>
                    <a:pt x="124" y="76"/>
                  </a:lnTo>
                  <a:lnTo>
                    <a:pt x="200" y="76"/>
                  </a:lnTo>
                  <a:lnTo>
                    <a:pt x="138" y="124"/>
                  </a:lnTo>
                  <a:lnTo>
                    <a:pt x="162" y="200"/>
                  </a:lnTo>
                  <a:lnTo>
                    <a:pt x="100" y="153"/>
                  </a:lnTo>
                  <a:lnTo>
                    <a:pt x="38" y="200"/>
                  </a:lnTo>
                  <a:lnTo>
                    <a:pt x="62" y="124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  <a:effectLst>
              <a:outerShdw dist="2556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30"/>
          <p:cNvSpPr/>
          <p:nvPr/>
        </p:nvSpPr>
        <p:spPr>
          <a:xfrm>
            <a:off x="5257800" y="32004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100" spc="-1" strike="noStrike">
                <a:solidFill>
                  <a:srgbClr val="ffff00"/>
                </a:solidFill>
                <a:latin typeface="Arial"/>
              </a:rPr>
              <a:t>Placa de Suramér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2" descr="unavco-logo-red-black-shadow.jpg"/>
          <p:cNvPicPr/>
          <p:nvPr/>
        </p:nvPicPr>
        <p:blipFill>
          <a:blip r:embed="rId3"/>
          <a:stretch/>
        </p:blipFill>
        <p:spPr>
          <a:xfrm>
            <a:off x="7696080" y="646200"/>
            <a:ext cx="1295640" cy="32364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41200" y="932040"/>
            <a:ext cx="2654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ste terremoto ocurrió sobre el límite de las placas de la  zona de subducción en la Fosa de Perú- Chile donde la Placa oceánica de Nazca se subduce debajo de la Placa Continental Sudameric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La estrella roja en el mapa muestra la localización del epicentro del terremoto mientras que las flechas muestran la dirección del movimiento de la Placa de Nazca hacia la Placa Sudameric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n la ubicación de este terremoto, las dos placas están convergiendo a una velocidad aproximada de 8 cm/añ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historical.jpg"/>
          <p:cNvPicPr/>
          <p:nvPr/>
        </p:nvPicPr>
        <p:blipFill>
          <a:blip r:embed="rId1"/>
          <a:stretch/>
        </p:blipFill>
        <p:spPr>
          <a:xfrm>
            <a:off x="4622760" y="990720"/>
            <a:ext cx="4444920" cy="5105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270000" y="990720"/>
            <a:ext cx="42544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El mapa de la derecha muestra la actividad histórica de terremotos cercanos al epicentro (estrella) desde 1990 hasta el presen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</a:rPr>
              <a:t>Como es mostrado en el corte transversal, los terremotos son poco profundos (puntos anaranjados) en la Fosa de Perú-Chile y se incrementan a  300km de profundidad (puntos azules) hacia el Este mientras la Placa de Nazca se sumerge a mayor profundidad debajo de la Placa de Sudamér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228600" y="566244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Corte transversal de la sismicidad a través de la zona de subducción mostrando la relación entre el color y la profundidad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5308560" y="3124080"/>
            <a:ext cx="3473640" cy="3603600"/>
            <a:chOff x="5308560" y="3124080"/>
            <a:chExt cx="3473640" cy="3603600"/>
          </a:xfrm>
        </p:grpSpPr>
        <p:pic>
          <p:nvPicPr>
            <p:cNvPr id="91" name="Picture 33" descr="mag_legend"/>
            <p:cNvPicPr/>
            <p:nvPr/>
          </p:nvPicPr>
          <p:blipFill>
            <a:blip r:embed="rId2"/>
            <a:stretch/>
          </p:blipFill>
          <p:spPr>
            <a:xfrm>
              <a:off x="5308560" y="6222240"/>
              <a:ext cx="3473640" cy="5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Straight Connector 12"/>
            <p:cNvSpPr/>
            <p:nvPr/>
          </p:nvSpPr>
          <p:spPr>
            <a:xfrm>
              <a:off x="5867280" y="3124080"/>
              <a:ext cx="167652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4"/>
          <p:cNvSpPr/>
          <p:nvPr/>
        </p:nvSpPr>
        <p:spPr>
          <a:xfrm>
            <a:off x="55627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46748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IRIS_TMlogo.png"/>
          <p:cNvPicPr/>
          <p:nvPr/>
        </p:nvPicPr>
        <p:blipFill>
          <a:blip r:embed="rId3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52280" y="6504120"/>
            <a:ext cx="491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cross.png"/>
          <p:cNvPicPr/>
          <p:nvPr/>
        </p:nvPicPr>
        <p:blipFill>
          <a:blip r:embed="rId4"/>
          <a:stretch/>
        </p:blipFill>
        <p:spPr>
          <a:xfrm>
            <a:off x="228600" y="3736800"/>
            <a:ext cx="4295880" cy="1901880"/>
          </a:xfrm>
          <a:prstGeom prst="rect">
            <a:avLst/>
          </a:prstGeom>
          <a:ln w="0">
            <a:noFill/>
          </a:ln>
        </p:spPr>
      </p:pic>
      <p:sp>
        <p:nvSpPr>
          <p:cNvPr id="99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7"/>
          <p:cNvSpPr/>
          <p:nvPr/>
        </p:nvSpPr>
        <p:spPr>
          <a:xfrm>
            <a:off x="318960" y="1150920"/>
            <a:ext cx="5029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ste terremoto ocurrió en el límite entre la Placas tectónicas de Nazca y Sudamérica como resultado de un fallado inverso. La Placa de Nazca, de origen oceánico, se subduce debajo de la Placa de Sudamérica a lo largo de la Fosa Chile- Per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n la localización de este evento, la Placa de Nazca se mueve hacia el este- noreste con respecto a Sur América a una velocidad de aproximadamente 80 m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286000" y="4572000"/>
            <a:ext cx="34290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"/>
              </a:rPr>
              <a:t>Las áreas sombreadas muestran los cuadrantes de la esfera focal en la cual los primeros Movimientos de las ondas P están lejos de la fuente, y las áreas sin sombra muestran los cuadrantes en la cual los primeros movimientos de las ondas P están cerca de la fuente. Los puntos representan los ejes de máximo esfuerzo compresional (en negro, llamado el “eje P”) y el eje de máximo esfuerzo extensional (en blanco, llamado “eje T”) como resultado del terremo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4686480" y="6435720"/>
            <a:ext cx="49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228600" y="647388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olución Tensor  Momento Sísmico Centroide US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location.gif"/>
          <p:cNvPicPr/>
          <p:nvPr/>
        </p:nvPicPr>
        <p:blipFill>
          <a:blip r:embed="rId2"/>
          <a:stretch/>
        </p:blipFill>
        <p:spPr>
          <a:xfrm>
            <a:off x="5562720" y="463680"/>
            <a:ext cx="3429000" cy="593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focal.gif"/>
          <p:cNvPicPr/>
          <p:nvPr/>
        </p:nvPicPr>
        <p:blipFill>
          <a:blip r:embed="rId3"/>
          <a:stretch/>
        </p:blipFill>
        <p:spPr>
          <a:xfrm>
            <a:off x="457200" y="4648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3"/>
          <p:cNvSpPr/>
          <p:nvPr/>
        </p:nvSpPr>
        <p:spPr>
          <a:xfrm>
            <a:off x="711360" y="370836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 Richard Harwood, Black Hawk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reverse.gif"/>
          <p:cNvPicPr/>
          <p:nvPr/>
        </p:nvPicPr>
        <p:blipFill>
          <a:blip r:embed="rId4"/>
          <a:stretch/>
        </p:blipFill>
        <p:spPr>
          <a:xfrm>
            <a:off x="3276720" y="3382920"/>
            <a:ext cx="2209680" cy="13143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4"/>
          <p:cNvSpPr/>
          <p:nvPr/>
        </p:nvSpPr>
        <p:spPr>
          <a:xfrm>
            <a:off x="217440" y="1219320"/>
            <a:ext cx="4354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yecciones de Fondo son animaciones creadas usando una secuencia de procesamiento de datos automatizados que acumula ondas de energía P registradas en varios sismógrafos en una rejilla plana alrededor de la región de la fuente. Esta rejilla tiene la función de ser una superficie de falla  y crea una historia de tiempo y espacio de los terremo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res cálidos indican haces de gran potencia. En las animaciones, el circulo rojo muestra la ubicación de la potencia del haz pico cuando los haces de potencia absoluta son ba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duración de la ruptura a lo largo de la falla puede ser vista en el grá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04920" y="647388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 info: http://www.iris.edu/spud/backpro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ckprojection.jpg"/>
          <p:cNvPicPr/>
          <p:nvPr/>
        </p:nvPicPr>
        <p:blipFill>
          <a:blip r:embed="rId2"/>
          <a:stretch/>
        </p:blipFill>
        <p:spPr>
          <a:xfrm>
            <a:off x="4800600" y="1295280"/>
            <a:ext cx="39625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8"/>
          <p:cNvSpPr/>
          <p:nvPr/>
        </p:nvSpPr>
        <p:spPr>
          <a:xfrm>
            <a:off x="304920" y="116856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l registro del terremoto de magnitud 7.1 que ocurrió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ule, Chile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observado en el sismógrafo de la Universidad de Portland (UPOR) es ilustrado en la parte inferi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hot1.jpg"/>
          <p:cNvPicPr/>
          <p:nvPr/>
        </p:nvPicPr>
        <p:blipFill>
          <a:blip r:embed="rId2"/>
          <a:stretch/>
        </p:blipFill>
        <p:spPr>
          <a:xfrm>
            <a:off x="334800" y="1828800"/>
            <a:ext cx="8691840" cy="4703760"/>
          </a:xfrm>
          <a:prstGeom prst="rect">
            <a:avLst/>
          </a:prstGeom>
          <a:ln w="0">
            <a:noFill/>
          </a:ln>
        </p:spPr>
      </p:pic>
      <p:sp>
        <p:nvSpPr>
          <p:cNvPr id="121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extracted.jpg"/>
          <p:cNvPicPr/>
          <p:nvPr/>
        </p:nvPicPr>
        <p:blipFill>
          <a:blip r:embed="rId1"/>
          <a:stretch/>
        </p:blipFill>
        <p:spPr>
          <a:xfrm>
            <a:off x="270000" y="1571760"/>
            <a:ext cx="8762760" cy="5133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201600" y="110952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Portland se encuentra a 10296 km (6400 millas, 92.76°) desde la localización de este terre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4368960"/>
            <a:ext cx="4800600" cy="17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e tomo 13 minutos y 7 segundos (787 segundos) para que la onda compresional P viajara una trayectoria curva a través del manto desde Chile hasta Portland. Las ondas PP son ondas compresionales que rebotan fuera de la superficie de la Tierra en la mitad del espacio entre el terremoto y la estación sísmica. La energía PP arribó 16 minutos y 49 segundos (1009 segundos) después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62320" y="2397240"/>
            <a:ext cx="4800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as ondas S arribaron  24 minutos y 9 segundos (1449 segundos) después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5334120" y="4862520"/>
            <a:ext cx="335268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Ondas de energía superficial requirieron aproximadamente 39 minutos y 10 segundos (2350 segundos) para viajar 10280 km (6388 millas) alrededor del perímetro de la Tierra desde Chile hasta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1 MAULE, CHILE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25 de Marzo de  2012 a las 22:37:06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kb</cp:lastModifiedBy>
  <dcterms:modified xsi:type="dcterms:W3CDTF">2012-03-26T05:55:09Z</dcterms:modified>
  <cp:revision>198</cp:revision>
  <dc:subject/>
  <dc:title>Slide 1</dc:title>
</cp:coreProperties>
</file>