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ouglas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12-10T22:27:08.059000000" idx="1">
    <p:pos x="5753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12E9-69AC-41B0-8520-2CD0C4C6C4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66F3-6490-4C37-9181-0B7B2FAB27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D894-26C5-4B3D-9A1E-C476F16269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177-39A8-4126-A1A3-ECAB9D460D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FF5-C9A8-403D-8CD5-074728B7BB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438E-50CE-4116-9368-571E1A32C9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9371-3CCC-43DF-A490-725CA6EA15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B11-E7CB-47B3-AF94-D1264A82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6E5-79C1-4317-9F1C-AAF1758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479-D784-4CC6-B752-4097C186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B92-0864-402A-9370-6D2CB0D1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D2A-6D15-4C2F-AA0A-9C15112E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9C8-7EDA-4FCC-81B1-E0EC240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9E4-7A63-4689-8C0F-2FC16C5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490-7EFA-4C68-9A69-B683ACB6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0DE-29DE-45DF-90EB-741E7BD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CE2-504F-47EA-8D3B-75728FE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881-D44D-44B5-BEC3-9AFCE56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257-D5A2-4D9D-A893-A49EB77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E32-3294-45C1-A71C-BCD55EB11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R DE BAND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0 de Diciembre, 2012 a las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43000" y="1017720"/>
            <a:ext cx="69199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Un terremoto de magnitud 7.1 estremeció las costas al noroeste de Saumlaki, Indonesia la mañana del Martes (1:53 am hora local) con el epicentro localizado a 236 km (147 millas). El terremoto fue reportado a una profundidad de 159.3 km (99 mi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No se publicó alerta de tsunami como consecuencia de este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8229600" y="20527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7074000" y="160200"/>
            <a:ext cx="1854000" cy="185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304920" y="3095640"/>
            <a:ext cx="4724280" cy="36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5194440" y="3100320"/>
            <a:ext cx="37908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228600" y="1011240"/>
            <a:ext cx="86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scalas de intensidad de movimiento fueron desarrolladas para estandarizar las mediciones y facilitar la comparación de diferentes terremotos. La modificación de la escala de intensidad de  Marcelli una escala de doce nive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28600" y="168912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numeradas del  I al XII. Los números bajos representan los niveles de movimientos imperceptibles, XII representa destrucción total. Un valor IV indica un nivel de movimiento que es sentido por la mayoría de las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scale.jpg"/>
          <p:cNvPicPr/>
          <p:nvPr/>
        </p:nvPicPr>
        <p:blipFill>
          <a:blip r:embed="rId2"/>
          <a:stretch/>
        </p:blipFill>
        <p:spPr>
          <a:xfrm>
            <a:off x="380880" y="385272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271440" y="33814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576520" y="322272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4224240" y="6477120"/>
            <a:ext cx="51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USGS Intensidad de Movimiento Estimada del Terremoto M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152280" y="632448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R DE BAND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0 de Diciembre, 2012 a las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3"/>
          <a:stretch/>
        </p:blipFill>
        <p:spPr>
          <a:xfrm>
            <a:off x="4148280" y="1736640"/>
            <a:ext cx="48434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5076720" y="934920"/>
            <a:ext cx="388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380880" y="5384880"/>
            <a:ext cx="48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228600" y="1139760"/>
            <a:ext cx="480060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El  mapa localizador del Servicio Geológico de los EEUU muestra la población expuesta a diferentes niveles de intensidad modificada Mercalli (MMI).  MMI describe la severidad de un terremoto en términos de sus efectos en estructuras humanas y es una vasta medida de la cantidad de movimientos telúricos en un lugar dado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En general, la población en esta región reside en estructuras que son vulnerables a los temblores, aunque existen algunas estructuras resisten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395280" y="4394160"/>
            <a:ext cx="463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parte inf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R DE BAND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0 de Diciembre, 2012 a las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014800" y="1666800"/>
            <a:ext cx="3900600" cy="39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239760" y="5692680"/>
            <a:ext cx="8693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93680" y="6411960"/>
            <a:ext cx="47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31840" y="1538280"/>
            <a:ext cx="3730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e terremoto (estrella azul), ploteado con sismicidad regional desde 19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Han habido más de 50 terremotos de magnitud 6 o mayores en un radio de 250 km de este terremoto en los últimos 40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ño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. Seis de estos han sido mayores que 7.0 de magnitud, sin embargo, no se sabe de ninguno de estos terremotos que halla causado 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os significativos o fat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10960" y="10666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Terremotos y Sismicidad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3843360" y="1469880"/>
            <a:ext cx="5148360" cy="4988160"/>
          </a:xfrm>
          <a:prstGeom prst="rect">
            <a:avLst/>
          </a:prstGeom>
          <a:ln w="0">
            <a:noFill/>
          </a:ln>
        </p:spPr>
      </p:pic>
      <p:sp>
        <p:nvSpPr>
          <p:cNvPr id="8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R DE BAND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0 de Diciembre, 2012 a las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8"/>
          <p:cNvCxnSpPr/>
          <p:nvPr/>
        </p:nvCxnSpPr>
        <p:spPr>
          <a:xfrm flipH="1">
            <a:off x="6431760" y="4515480"/>
            <a:ext cx="305640" cy="752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86" name="Picture 10" descr="Aust-Sunda Map.tiff"/>
          <p:cNvPicPr/>
          <p:nvPr/>
        </p:nvPicPr>
        <p:blipFill>
          <a:blip r:embed="rId2"/>
          <a:srcRect l="0" t="13291" r="0" b="0"/>
          <a:stretch/>
        </p:blipFill>
        <p:spPr>
          <a:xfrm>
            <a:off x="304920" y="1004760"/>
            <a:ext cx="8692920" cy="3872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298440" y="4491000"/>
            <a:ext cx="884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Mapa proveniente del Reporte Archivo – Abierto 2010-1083-H </a:t>
            </a: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Sismicidad e la Tierra 1900-2010 Nueva Guinea y Vecindad</a:t>
            </a: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del Servicio Geológico de los EE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R DE BAND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0 de Diciembre, 2012 a las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4920" y="4876920"/>
            <a:ext cx="86738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Cita del Servicio Geológico de los EEUU: Este “terremoto de magnitud  7.1 al noroeste de Saumlaki, Indonesia, ocurrió como resultado de un fallado lateral predominantemente, a una profundidad intermedia (170 km) en las cercanías del complejo límite de placa entre las Placas de Australia y Sunda al este del Mar de Banda. En la localización del terremoto, la placa de Australia se mueve hacia el nor- noreste con respecto a Sunda a una velocidad de aproximadamente 76 mm/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. El movimiento entre las dos placas es dominantemente convergente, y secciones de la placa de Australia se han subducido debajo de Sunda; el terremoto probablemente representa el fallado en el interior de la placa que se subdujo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293760" y="1114560"/>
            <a:ext cx="877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e terremoto fue predominantemente un fallado lateral a una profundidad intermedia (170 km) en las cercanías del complejo límite de placa entre las Placas de Australia y Sunda al este del Mar de B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Terremotos con profundidades entre 70 y 300 km son comúnmente denominados eventos de profundidad “intermedia”, al contrario de los terremotos “poco profundos” (0-70 km) y “foco-profundo” (mayores a 300 km). En esta región al este de Indonesia, los terremotos pueden alcanzar profundidades mayores a 500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886200" y="4876920"/>
            <a:ext cx="51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. Los puntos representan los ejes de máximo esfuerzo compresional (en negro, llamado el "eje P") y el eje de máximo esfuerzo extensional (en blanco, llamado “eje T"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304920" y="6477120"/>
            <a:ext cx="37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Tensor Momento Sísmico-Centroide, US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302904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BANDA SEA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December 10, 2012 at 16:53:0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</cp:lastModifiedBy>
  <dcterms:modified xsi:type="dcterms:W3CDTF">2012-12-11T08:02:40Z</dcterms:modified>
  <cp:revision>544</cp:revision>
  <dc:subject/>
  <dc:title>Slide 1</dc:title>
</cp:coreProperties>
</file>