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644F-4585-4189-8BE8-CFCAB47D53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E750-7C77-4B1B-B974-377E6CBA15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ta figura resalta la actividad en la región del terremoto M8.0 del 6 de Febrero, 2013 durante la semana próxima al evento. Un sinnúmero de terremotos de M6.0 o mayores, y docenas de choques menores, ocurrieron en la misma región durante ese periodo de tiempo. La magnitud de esos eventos es ploteada en función del tiempo.</a:t>
            </a: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80C5-BF18-4C16-AB74-4B6F2B1C13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La gran cantidad de fuerza liberada durante el choque inicial es variable a lo largo de la superficie del borde. Por consiguiente el cambio de estrés como resultado del impacto inicial varía de un lugar a otro sobre el área del límite de placa que se movió. Las réplicas son básicamente pequeños terremotos inducidos por la redistribución del estrés que ocurre durante el choque inicial. Por consiguiente, la distribución de las réplicas nos proporciona otra medida del área del límite de placa que se movió en el choque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333E-4577-441F-870D-52CBC9FBFB0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Las réplica generalmente ocurren en las cercanías del sismo inicial. El estrés sobre la falla del sismo inicial cambia drásticamente durante el sismo inicial y esa falla produce la mayoría de las réplicas. Muchas veces los cambios de estrés causado por el sismo inicial es lo suficientemente fuerte para activar réplicas sobre las fallas de los alrededor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1690-811D-4432-9150-8613E2490A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ta figura resalta la actividad en la región del terremoto M8.0 del 6 de Febrero, 2013 durante la semana próxima al evento. Un sinnúmero de terremotos de M6.0 o mayores, y docenas de choques menores, ocurrieron en la misma región durante ese periodo de tiempo. La sismicidad Histórica (todos los eventos previos al 30 de Enero, 2013) tomados de los catálogos EHB y PDE  están representados con círculos blancos, su tamaño representa la magnitud. Contornos de placas para la placa de Vanuatu; de la base de datos USGS Slab1.0 , son mostrados con líneas punteadas, a intervalos de 20 km.</a:t>
            </a: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F0FC-2289-48E6-9B30-768AD9A088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epicentro del terremoto mostrado por la estrella roja está localizado a 347 km este de Kira Kira en las Islas Salomón. Este terremoto ocurrió en el extremo norte de la  Fosa de Nueva Hebrides donde la litósfera de la Placa de Australia se subduce dentro del Manto debajo de la cuenca norte de Fiji como resultado de un fallado transcurrente de poca profundidad sobre o cercano a la interface del  límite de placa entre las Placas de Australia y del Pacífico. En la región de este terremoto, la Placa de Australia converge y se subduce debajo de la Placa del Pacífico, moviéndose en dirección este-noreste a una velocidad aproximada de 94 mm/año. </a:t>
            </a: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2769-B143-4E28-AC8F-6F7960994C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te terremoto es localizado en las adyacencias de una sección compleja del límite de placa del Pacífico y Australia, donde la Fosa de Salomón al oeste se conecta con la Fosa de Nueva Hebrides (Vanuatu) al sur por un segmento corto de un movimiento de placa predominantemente transcurrente. El terremoto del 6 de Febrero está localizado en la parte norte del segmento de Nueva Hebrides (Vanuatu). Al norte y oeste de este evento, el límite de placa cambia en característica, está orientada más de oeste a este, y conecta los segmentos  fracturados por este evento con la continuación de la zona de subducción a lo largo de las Islas Salom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n cada mapa, la sismicidad histórica tomada de los catálogos EHB y PDE  está representada con círculos blancos. El tamaño representa la magnitud. Los círculos grises están resaltados en los cortes transversales de la parte izquierda, donde los momentos tensores del catálogo global CMT están ploteados para eventos significativos.</a:t>
            </a: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55FB-16A4-4047-8140-51240B74BE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te terremoto es localizado en las adyacencias de una sección compleja del límite de placa del Pacífico y Australia, donde la Fosa de Salomón al oeste se conecta con la Fosa de Nueva Hebrides (Vanuatu) al sur por un segmento corto de un movimiento de placa predominantemente transcurrente. El terremoto del 6 de Febrero está localizado en la parte norte del segmento de Nueva Hebrides (Vanuatu). Al norte y oeste de este evento, el límite de placa cambia en característica, está orientada más de oeste a este, y conecta los segmentos  fracturados por este evento con la continuación de la zona de subducción a lo largo de las Islas Salom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n cada mapa, la sismicidad histórica tomada de los catálogos EHB y PDE  está representada con círculos blancos. El tamaño representa la magnitud. Los círculos grises están resaltados en los cortes transversales de la parte izquierda, donde los momentos tensores del catálogo global CMT están ploteados para eventos significativ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0EF9-AC5E-4C6E-ABB7-4A8082551D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9BECF-645D-4725-ADA7-76C83D31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FC4E-341D-4D54-AC58-AED8E623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6FB53-6323-4CA0-BC8D-6E2211EE8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AEC75-3433-494A-BF9B-5193FE02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32862-1196-448F-9064-5BF3E2A4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6664-61AA-4B5A-9E01-52144B42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0F81-5C20-4745-9DF4-006A4924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3DC8B-2F72-4644-ACFA-4225ECCD2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5755-2957-4377-8100-F0B97FF2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8070-F8D5-4062-9733-D7F546854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FC28-E991-4B2E-A394-A21E7479E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6245-E5AE-4A4D-A583-4AF957F1A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BECE-5E71-4422-B9FC-9D7F1BA054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pic>
        <p:nvPicPr>
          <p:cNvPr id="51" name="Picture 4" descr=""/>
          <p:cNvPicPr/>
          <p:nvPr/>
        </p:nvPicPr>
        <p:blipFill>
          <a:blip r:embed="rId2"/>
          <a:stretch/>
        </p:blipFill>
        <p:spPr>
          <a:xfrm>
            <a:off x="263520" y="4038480"/>
            <a:ext cx="4600440" cy="2724120"/>
          </a:xfrm>
          <a:prstGeom prst="rect">
            <a:avLst/>
          </a:prstGeom>
          <a:ln w="0">
            <a:noFill/>
          </a:ln>
        </p:spPr>
      </p:pic>
      <p:pic>
        <p:nvPicPr>
          <p:cNvPr id="52" name="Picture 2" descr=""/>
          <p:cNvPicPr/>
          <p:nvPr/>
        </p:nvPicPr>
        <p:blipFill>
          <a:blip r:embed="rId3"/>
          <a:stretch/>
        </p:blipFill>
        <p:spPr>
          <a:xfrm>
            <a:off x="3768840" y="622440"/>
            <a:ext cx="5176800" cy="3887640"/>
          </a:xfrm>
          <a:prstGeom prst="rect">
            <a:avLst/>
          </a:prstGeom>
          <a:ln w="0">
            <a:noFill/>
          </a:ln>
        </p:spPr>
      </p:pic>
      <p:sp>
        <p:nvSpPr>
          <p:cNvPr id="53" name="TextBox 9"/>
          <p:cNvSpPr/>
          <p:nvPr/>
        </p:nvSpPr>
        <p:spPr>
          <a:xfrm>
            <a:off x="5105520" y="4572000"/>
            <a:ext cx="38862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población de Venga destruida después de un tsunami en la provincia de Temotu, Islas Salomón. Las Autoridades de las Islas Salomón han dicho que por lo menos cuatro personas están desaparecidas y presuntamente muertas. Olas de por lo menos 5 pies golpearon la parte oeste de las Islas Santa Cruz dañando mas de 80 propiedad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FotoAP / Versión Mundial)</a:t>
            </a:r>
            <a:endParaRPr b="0" lang="en-US" sz="1400" spc="-1" strike="noStrike">
              <a:solidFill>
                <a:srgbClr val="000000"/>
              </a:solidFill>
              <a:latin typeface="Arial"/>
            </a:endParaRPr>
          </a:p>
        </p:txBody>
      </p:sp>
      <p:sp>
        <p:nvSpPr>
          <p:cNvPr id="54" name="TextBox 10"/>
          <p:cNvSpPr/>
          <p:nvPr/>
        </p:nvSpPr>
        <p:spPr>
          <a:xfrm>
            <a:off x="304920" y="1089000"/>
            <a:ext cx="3429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fuerte terremoto de magnitud 8.0 sacudió las Islas Salomón generando un tsunami en el área loc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os últimos reportes sugieren entre 60 a 70 viviendas han sido destruidas por olas en por lo menos cuatro poblaciones en las Islas Santa Cru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6"/>
          <p:cNvSpPr/>
          <p:nvPr/>
        </p:nvSpPr>
        <p:spPr>
          <a:xfrm>
            <a:off x="306360" y="5537160"/>
            <a:ext cx="875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urante los precedentes 7 días, han habido 34 terremotos en la región que podrían ser considerados “sismos iniciales” del choque inicial de magnitud 8.0. El sismo inicial mas fuerte fue un evento de magnitud 6.4 el 1 de Febrero a las 22:18 UTC, un poco mas de 4 días antes del choque inicial.</a:t>
            </a:r>
            <a:endParaRPr b="0" lang="en-US" sz="1800" spc="-1" strike="noStrike">
              <a:solidFill>
                <a:srgbClr val="000000"/>
              </a:solidFill>
              <a:latin typeface="Arial"/>
            </a:endParaRPr>
          </a:p>
        </p:txBody>
      </p:sp>
      <p:sp>
        <p:nvSpPr>
          <p:cNvPr id="56" name="Rectangle 2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8" descr="IRIS_TMlogo.png"/>
          <p:cNvPicPr/>
          <p:nvPr/>
        </p:nvPicPr>
        <p:blipFill>
          <a:blip r:embed="rId1"/>
          <a:stretch/>
        </p:blipFill>
        <p:spPr>
          <a:xfrm>
            <a:off x="239760" y="76320"/>
            <a:ext cx="903240" cy="927000"/>
          </a:xfrm>
          <a:prstGeom prst="rect">
            <a:avLst/>
          </a:prstGeom>
          <a:ln w="0">
            <a:noFill/>
          </a:ln>
        </p:spPr>
      </p:pic>
      <p:pic>
        <p:nvPicPr>
          <p:cNvPr id="58" name="Picture 2" descr=""/>
          <p:cNvPicPr/>
          <p:nvPr/>
        </p:nvPicPr>
        <p:blipFill>
          <a:blip r:embed="rId2"/>
          <a:stretch/>
        </p:blipFill>
        <p:spPr>
          <a:xfrm>
            <a:off x="2281320" y="271440"/>
            <a:ext cx="6634080" cy="4834080"/>
          </a:xfrm>
          <a:prstGeom prst="rect">
            <a:avLst/>
          </a:prstGeom>
          <a:ln w="0">
            <a:noFill/>
          </a:ln>
        </p:spPr>
      </p:pic>
      <p:sp>
        <p:nvSpPr>
          <p:cNvPr id="59" name="Rectangle 7"/>
          <p:cNvSpPr/>
          <p:nvPr/>
        </p:nvSpPr>
        <p:spPr>
          <a:xfrm>
            <a:off x="3836880" y="510552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6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sp>
        <p:nvSpPr>
          <p:cNvPr id="63" name="TextBox 7"/>
          <p:cNvSpPr/>
          <p:nvPr/>
        </p:nvSpPr>
        <p:spPr>
          <a:xfrm>
            <a:off x="457200" y="1295280"/>
            <a:ext cx="701028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Desde que se registró el terremoto, han habido más de 114 réplicas (ploteadas en la parte inferior), el más fuerte ha sido de magnitud 7.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4" name="Picture 1" descr=""/>
          <p:cNvPicPr/>
          <p:nvPr/>
        </p:nvPicPr>
        <p:blipFill>
          <a:blip r:embed="rId2"/>
          <a:stretch/>
        </p:blipFill>
        <p:spPr>
          <a:xfrm>
            <a:off x="501480" y="2057400"/>
            <a:ext cx="8310600" cy="4206960"/>
          </a:xfrm>
          <a:prstGeom prst="rect">
            <a:avLst/>
          </a:prstGeom>
          <a:ln w="0">
            <a:noFill/>
          </a:ln>
        </p:spPr>
      </p:pic>
      <p:pic>
        <p:nvPicPr>
          <p:cNvPr id="65" name="Picture 10" descr=""/>
          <p:cNvPicPr/>
          <p:nvPr/>
        </p:nvPicPr>
        <p:blipFill>
          <a:blip r:embed="rId3"/>
          <a:stretch/>
        </p:blipFill>
        <p:spPr>
          <a:xfrm>
            <a:off x="7467480" y="303120"/>
            <a:ext cx="1390680" cy="1390680"/>
          </a:xfrm>
          <a:prstGeom prst="rect">
            <a:avLst/>
          </a:prstGeom>
          <a:ln w="0">
            <a:noFill/>
          </a:ln>
        </p:spPr>
      </p:pic>
      <p:sp>
        <p:nvSpPr>
          <p:cNvPr id="66" name="Rectangle 7"/>
          <p:cNvSpPr/>
          <p:nvPr/>
        </p:nvSpPr>
        <p:spPr>
          <a:xfrm>
            <a:off x="3897360" y="631980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4114800" y="639756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70" name="TextBox 9"/>
          <p:cNvSpPr/>
          <p:nvPr/>
        </p:nvSpPr>
        <p:spPr>
          <a:xfrm>
            <a:off x="231840" y="1517760"/>
            <a:ext cx="891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 </a:t>
            </a:r>
            <a:endParaRPr b="0" lang="en-US" sz="1800" spc="-1" strike="noStrike">
              <a:solidFill>
                <a:srgbClr val="000000"/>
              </a:solidFill>
              <a:latin typeface="Arial"/>
            </a:endParaRPr>
          </a:p>
        </p:txBody>
      </p:sp>
      <p:sp>
        <p:nvSpPr>
          <p:cNvPr id="71"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pic>
        <p:nvPicPr>
          <p:cNvPr id="73" name="Picture 10" descr="usgs.jpg"/>
          <p:cNvPicPr/>
          <p:nvPr/>
        </p:nvPicPr>
        <p:blipFill>
          <a:blip r:embed="rId2"/>
          <a:stretch/>
        </p:blipFill>
        <p:spPr>
          <a:xfrm>
            <a:off x="3200400" y="2971800"/>
            <a:ext cx="5743440" cy="339876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8" descr="IRIS_TMlogo.png"/>
          <p:cNvPicPr/>
          <p:nvPr/>
        </p:nvPicPr>
        <p:blipFill>
          <a:blip r:embed="rId1"/>
          <a:stretch/>
        </p:blipFill>
        <p:spPr>
          <a:xfrm>
            <a:off x="239760" y="76320"/>
            <a:ext cx="903240" cy="927000"/>
          </a:xfrm>
          <a:prstGeom prst="rect">
            <a:avLst/>
          </a:prstGeom>
          <a:ln w="0">
            <a:noFill/>
          </a:ln>
        </p:spPr>
      </p:pic>
      <p:sp>
        <p:nvSpPr>
          <p:cNvPr id="77" name="TextBox 14"/>
          <p:cNvSpPr/>
          <p:nvPr/>
        </p:nvSpPr>
        <p:spPr>
          <a:xfrm>
            <a:off x="318960" y="1231920"/>
            <a:ext cx="3033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ecanismo de falla para ambos, sismo inicial y réplica, sugiere una mezcla de eventos de fallado transcurrente, normal e Inver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localización de los terremotos y las faces W de los momentos tensores del Servicio Geológico de los EEUU están ploteados en el mapa con colores que indican la profund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 descr=""/>
          <p:cNvPicPr/>
          <p:nvPr/>
        </p:nvPicPr>
        <p:blipFill>
          <a:blip r:embed="rId2"/>
          <a:stretch/>
        </p:blipFill>
        <p:spPr>
          <a:xfrm>
            <a:off x="3284640" y="1143000"/>
            <a:ext cx="5553000" cy="4876920"/>
          </a:xfrm>
          <a:prstGeom prst="rect">
            <a:avLst/>
          </a:prstGeom>
          <a:ln w="0">
            <a:noFill/>
          </a:ln>
        </p:spPr>
      </p:pic>
      <p:sp>
        <p:nvSpPr>
          <p:cNvPr id="79" name="Rectangle 7"/>
          <p:cNvSpPr/>
          <p:nvPr/>
        </p:nvSpPr>
        <p:spPr>
          <a:xfrm>
            <a:off x="4114800" y="639756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8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8" descr="IRIS_TMlogo.png"/>
          <p:cNvPicPr/>
          <p:nvPr/>
        </p:nvPicPr>
        <p:blipFill>
          <a:blip r:embed="rId1"/>
          <a:stretch/>
        </p:blipFill>
        <p:spPr>
          <a:xfrm>
            <a:off x="239760" y="76320"/>
            <a:ext cx="903240" cy="92700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grpSp>
        <p:nvGrpSpPr>
          <p:cNvPr id="84" name="Group 1"/>
          <p:cNvGrpSpPr/>
          <p:nvPr/>
        </p:nvGrpSpPr>
        <p:grpSpPr>
          <a:xfrm>
            <a:off x="766800" y="1003320"/>
            <a:ext cx="7821720" cy="5730840"/>
            <a:chOff x="766800" y="1003320"/>
            <a:chExt cx="7821720" cy="5730840"/>
          </a:xfrm>
        </p:grpSpPr>
        <p:pic>
          <p:nvPicPr>
            <p:cNvPr id="85" name="Picture 3" descr="GoogleMap2.tiff"/>
            <p:cNvPicPr/>
            <p:nvPr/>
          </p:nvPicPr>
          <p:blipFill>
            <a:blip r:embed="rId2"/>
            <a:stretch/>
          </p:blipFill>
          <p:spPr>
            <a:xfrm>
              <a:off x="766800" y="1003320"/>
              <a:ext cx="7821720" cy="5730840"/>
            </a:xfrm>
            <a:prstGeom prst="rect">
              <a:avLst/>
            </a:prstGeom>
            <a:ln w="0">
              <a:noFill/>
            </a:ln>
          </p:spPr>
        </p:pic>
        <p:sp>
          <p:nvSpPr>
            <p:cNvPr id="86" name="Text Box 1"/>
            <p:cNvSpPr/>
            <p:nvPr/>
          </p:nvSpPr>
          <p:spPr>
            <a:xfrm>
              <a:off x="2374200" y="3211200"/>
              <a:ext cx="886680" cy="76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e de la Fosa de Nueva Hebridea</a:t>
              </a:r>
              <a:endParaRPr b="0" lang="en-US" sz="1200" spc="-1" strike="noStrike">
                <a:solidFill>
                  <a:srgbClr val="000000"/>
                </a:solidFill>
                <a:latin typeface="Arial"/>
              </a:endParaRPr>
            </a:p>
          </p:txBody>
        </p:sp>
        <p:sp>
          <p:nvSpPr>
            <p:cNvPr id="87" name="Line 2"/>
            <p:cNvSpPr/>
            <p:nvPr/>
          </p:nvSpPr>
          <p:spPr>
            <a:xfrm flipH="1">
              <a:off x="3149640" y="3240000"/>
              <a:ext cx="596880" cy="3078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8" name="Text Box 3"/>
            <p:cNvSpPr/>
            <p:nvPr/>
          </p:nvSpPr>
          <p:spPr>
            <a:xfrm>
              <a:off x="5960160" y="4101480"/>
              <a:ext cx="554040" cy="21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Fiji</a:t>
              </a:r>
              <a:endParaRPr b="0" lang="en-US" sz="1400" spc="-1" strike="noStrike">
                <a:solidFill>
                  <a:srgbClr val="000000"/>
                </a:solidFill>
                <a:latin typeface="Arial"/>
              </a:endParaRPr>
            </a:p>
          </p:txBody>
        </p:sp>
        <p:sp>
          <p:nvSpPr>
            <p:cNvPr id="89" name="Line 4"/>
            <p:cNvSpPr/>
            <p:nvPr/>
          </p:nvSpPr>
          <p:spPr>
            <a:xfrm>
              <a:off x="7512480" y="5451480"/>
              <a:ext cx="333360" cy="29052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0" name="Text Box 5"/>
            <p:cNvSpPr/>
            <p:nvPr/>
          </p:nvSpPr>
          <p:spPr>
            <a:xfrm>
              <a:off x="7734240" y="5629680"/>
              <a:ext cx="775800" cy="49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Fosa de Tonga</a:t>
              </a:r>
              <a:endParaRPr b="0" lang="en-US" sz="1200" spc="-1" strike="noStrike">
                <a:solidFill>
                  <a:srgbClr val="000000"/>
                </a:solidFill>
                <a:latin typeface="Arial"/>
              </a:endParaRPr>
            </a:p>
          </p:txBody>
        </p:sp>
        <p:sp>
          <p:nvSpPr>
            <p:cNvPr id="91" name="Text Box 6"/>
            <p:cNvSpPr/>
            <p:nvPr/>
          </p:nvSpPr>
          <p:spPr>
            <a:xfrm>
              <a:off x="1462680" y="5629680"/>
              <a:ext cx="997560" cy="61344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laca de Australia</a:t>
              </a:r>
              <a:endParaRPr b="0" lang="en-US" sz="1600" spc="-1" strike="noStrike">
                <a:solidFill>
                  <a:srgbClr val="000000"/>
                </a:solidFill>
                <a:latin typeface="Arial"/>
              </a:endParaRPr>
            </a:p>
          </p:txBody>
        </p:sp>
        <p:sp>
          <p:nvSpPr>
            <p:cNvPr id="92" name="Text Box 7"/>
            <p:cNvSpPr/>
            <p:nvPr/>
          </p:nvSpPr>
          <p:spPr>
            <a:xfrm>
              <a:off x="6514560" y="1580400"/>
              <a:ext cx="1219320" cy="54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laca del Pacífico</a:t>
              </a:r>
              <a:endParaRPr b="0" lang="en-US" sz="1600" spc="-1" strike="noStrike">
                <a:solidFill>
                  <a:srgbClr val="000000"/>
                </a:solidFill>
                <a:latin typeface="Arial"/>
              </a:endParaRPr>
            </a:p>
          </p:txBody>
        </p:sp>
        <p:sp>
          <p:nvSpPr>
            <p:cNvPr id="93" name="Text Box 1"/>
            <p:cNvSpPr/>
            <p:nvPr/>
          </p:nvSpPr>
          <p:spPr>
            <a:xfrm>
              <a:off x="4617720" y="5878800"/>
              <a:ext cx="1896840" cy="38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Fosa de Nueva Hebrides</a:t>
              </a:r>
              <a:endParaRPr b="0" lang="en-US" sz="1200" spc="-1" strike="noStrike">
                <a:solidFill>
                  <a:srgbClr val="000000"/>
                </a:solidFill>
                <a:latin typeface="Arial"/>
              </a:endParaRPr>
            </a:p>
          </p:txBody>
        </p:sp>
        <p:sp>
          <p:nvSpPr>
            <p:cNvPr id="94" name="Line 2"/>
            <p:cNvSpPr/>
            <p:nvPr/>
          </p:nvSpPr>
          <p:spPr>
            <a:xfrm flipH="1" flipV="1">
              <a:off x="3149640" y="3821040"/>
              <a:ext cx="1063440" cy="11412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5" name="Line 4"/>
            <p:cNvSpPr/>
            <p:nvPr/>
          </p:nvSpPr>
          <p:spPr>
            <a:xfrm>
              <a:off x="5311800" y="5629320"/>
              <a:ext cx="333360" cy="2919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6" name="Text Box 7"/>
            <p:cNvSpPr/>
            <p:nvPr/>
          </p:nvSpPr>
          <p:spPr>
            <a:xfrm>
              <a:off x="4702320" y="3548160"/>
              <a:ext cx="1219320" cy="134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Nor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 </a:t>
              </a:r>
              <a:r>
                <a:rPr b="0" lang="en-US" sz="1600" spc="-1" strike="noStrike">
                  <a:solidFill>
                    <a:srgbClr val="ffff00"/>
                  </a:solidFill>
                  <a:latin typeface="Arial"/>
                  <a:ea typeface="ÇlÇr ñæí©"/>
                </a:rPr>
                <a:t>Cuenca de Fij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IRIS_TMlogo.png"/>
          <p:cNvPicPr/>
          <p:nvPr/>
        </p:nvPicPr>
        <p:blipFill>
          <a:blip r:embed="rId1"/>
          <a:stretch/>
        </p:blipFill>
        <p:spPr>
          <a:xfrm>
            <a:off x="239760" y="76320"/>
            <a:ext cx="903240" cy="927000"/>
          </a:xfrm>
          <a:prstGeom prst="rect">
            <a:avLst/>
          </a:prstGeom>
          <a:ln w="0">
            <a:noFill/>
          </a:ln>
        </p:spPr>
      </p:pic>
      <p:pic>
        <p:nvPicPr>
          <p:cNvPr id="99" name="Picture 1" descr=""/>
          <p:cNvPicPr/>
          <p:nvPr/>
        </p:nvPicPr>
        <p:blipFill>
          <a:blip r:embed="rId2"/>
          <a:stretch/>
        </p:blipFill>
        <p:spPr>
          <a:xfrm>
            <a:off x="2666880" y="838080"/>
            <a:ext cx="6450120" cy="4810320"/>
          </a:xfrm>
          <a:prstGeom prst="rect">
            <a:avLst/>
          </a:prstGeom>
          <a:ln w="0">
            <a:noFill/>
          </a:ln>
        </p:spPr>
      </p:pic>
      <p:sp>
        <p:nvSpPr>
          <p:cNvPr id="100" name="TextBox 14"/>
          <p:cNvSpPr/>
          <p:nvPr/>
        </p:nvSpPr>
        <p:spPr>
          <a:xfrm>
            <a:off x="380880" y="4724280"/>
            <a:ext cx="6248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a figura ilustra la transición dramática en la tectónica alrededor de la curvatura en el límite de placa adyacente al terremoto de M 8.0 del 6 de febrero, 2013. Al sur de este terremoto (Panel superior y corte transversal A-B), la Placa de Australia se subduce debajo de la Placa del Pacífico en la parte Norte de la Fosa de Nueva Hebrides (Vanuatu). La localización del terremoto del 6 de Febrero (panel inferior, corte transversal C-D. El terremoto del 02-06-13 marcado con una estrella) está muy cerca de lo que podría ser considerado el borde de la Placa de Vanuatu.</a:t>
            </a:r>
            <a:endParaRPr b="0" lang="en-US" sz="1400" spc="-1" strike="noStrike">
              <a:solidFill>
                <a:srgbClr val="000000"/>
              </a:solidFill>
              <a:latin typeface="Arial"/>
            </a:endParaRPr>
          </a:p>
        </p:txBody>
      </p:sp>
      <p:sp>
        <p:nvSpPr>
          <p:cNvPr id="101" name="Rectangle 7"/>
          <p:cNvSpPr/>
          <p:nvPr/>
        </p:nvSpPr>
        <p:spPr>
          <a:xfrm>
            <a:off x="4114800" y="6400800"/>
            <a:ext cx="502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y texto Cortesía del Servicio Geológico de los EEUU</a:t>
            </a:r>
            <a:endParaRPr b="0" lang="en-US" sz="14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8" descr="IRIS_TMlogo.png"/>
          <p:cNvPicPr/>
          <p:nvPr/>
        </p:nvPicPr>
        <p:blipFill>
          <a:blip r:embed="rId1"/>
          <a:stretch/>
        </p:blipFill>
        <p:spPr>
          <a:xfrm>
            <a:off x="239760" y="76320"/>
            <a:ext cx="903240" cy="927000"/>
          </a:xfrm>
          <a:prstGeom prst="rect">
            <a:avLst/>
          </a:prstGeom>
          <a:ln w="0">
            <a:noFill/>
          </a:ln>
        </p:spPr>
      </p:pic>
      <p:sp>
        <p:nvSpPr>
          <p:cNvPr id="105" name="TextBox 14"/>
          <p:cNvSpPr/>
          <p:nvPr/>
        </p:nvSpPr>
        <p:spPr>
          <a:xfrm>
            <a:off x="318960" y="1295280"/>
            <a:ext cx="85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Mas al oeste el límite de placa está orientado aproximadamente oeste-este, el movimiento de la placa es casi paralelo con el límite, y el movimiento de la falla predominantemente transcur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2"/>
          <a:stretch/>
        </p:blipFill>
        <p:spPr>
          <a:xfrm>
            <a:off x="324000" y="2427120"/>
            <a:ext cx="8762760" cy="3440160"/>
          </a:xfrm>
          <a:prstGeom prst="rect">
            <a:avLst/>
          </a:prstGeom>
          <a:ln w="0">
            <a:noFill/>
          </a:ln>
        </p:spPr>
      </p:pic>
      <p:sp>
        <p:nvSpPr>
          <p:cNvPr id="107" name="Rectangle 7"/>
          <p:cNvSpPr/>
          <p:nvPr/>
        </p:nvSpPr>
        <p:spPr>
          <a:xfrm>
            <a:off x="3657600" y="6397560"/>
            <a:ext cx="5334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y texto Cortesía del Servicio Geológico de los EEUU</a:t>
            </a:r>
            <a:endParaRPr b="0" lang="en-US" sz="1400" spc="-1" strike="noStrike">
              <a:solidFill>
                <a:srgbClr val="000000"/>
              </a:solidFill>
              <a:latin typeface="Arial"/>
            </a:endParaRPr>
          </a:p>
        </p:txBody>
      </p:sp>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ISLAS SALOMÓN  </a:t>
            </a:r>
            <a:r>
              <a:rPr b="1" lang="es-VE" sz="2000" spc="-1" strike="noStrike">
                <a:solidFill>
                  <a:srgbClr val="ff0000"/>
                </a:solidFill>
                <a:latin typeface="Arial"/>
              </a:rPr>
              <a:t>Información Actualiza</a:t>
            </a:r>
            <a:br>
              <a:rPr sz="3500"/>
            </a:br>
            <a:r>
              <a:rPr b="1" lang="es-VE" sz="1500" spc="-1" strike="noStrike">
                <a:solidFill>
                  <a:srgbClr val="11488b"/>
                </a:solidFill>
                <a:latin typeface="Arial"/>
              </a:rPr>
              <a:t>6 de Febrero, 2013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3-02-08T07:49:23Z</dcterms:modified>
  <cp:revision>644</cp:revision>
  <dc:subject/>
  <dc:title>Slide 1</dc:title>
</cp:coreProperties>
</file>