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658-6E83-4DBC-B10E-DFC329B32E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F7E4-43B7-4791-9BDB-443475AC9B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I describes the severity of an earthquake in terms of its effect on humans and structures and is a rough measure of the amount of shaking at a given loc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A182-560C-4B9A-AD17-42B1736A888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9BE9-D471-4FCD-A134-4E77185E9F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B555-D32F-4FE8-96E4-3DB9343ABB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9288-F7E6-4052-9774-D28769E4BC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8D34-F36F-4674-939E-21A2C7E97CB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BFCE-126A-4350-804F-61C69B1C89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D9FD-24B7-4B4B-A835-61E6F8EB6E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7B0-AA90-4448-AE09-755AF4FF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A96-DA6A-4A56-A3A7-14008EF3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FBC-EBA2-4AB2-A425-AE4E0F45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DA9-A846-41A5-B557-AAC15265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098-783F-4267-A4C1-7B93C01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D81-7A63-4B9E-9A12-CCB5B0C3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269-6579-4006-85E9-BB3782C1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221-8E50-4FE6-8C50-907F2C3D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687-F601-49CE-BD72-8B8217DD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944-BAF5-438A-99E2-4189FD0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6EA-349A-4898-A48E-CA0D551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A6A-3AC6-4AF9-A9D0-0CB7031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C73E-F70F-4342-B0B9-12A28E627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54160" y="1093680"/>
            <a:ext cx="690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gnitude 7.3 earthquake rocked the South Sandwich Islands, an uninhabited British territory off the coast of Argentina in the southern Atlantic Oc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682560" y="2425680"/>
            <a:ext cx="8278920" cy="4280400"/>
            <a:chOff x="682560" y="2425680"/>
            <a:chExt cx="8278920" cy="4280400"/>
          </a:xfrm>
        </p:grpSpPr>
        <p:pic>
          <p:nvPicPr>
            <p:cNvPr id="53" name="Picture 6" descr=""/>
            <p:cNvPicPr/>
            <p:nvPr/>
          </p:nvPicPr>
          <p:blipFill>
            <a:blip r:embed="rId2"/>
            <a:stretch/>
          </p:blipFill>
          <p:spPr>
            <a:xfrm>
              <a:off x="3801960" y="2425680"/>
              <a:ext cx="5051880" cy="398808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3"/>
            <a:stretch/>
          </p:blipFill>
          <p:spPr>
            <a:xfrm>
              <a:off x="682560" y="4059360"/>
              <a:ext cx="203508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Straight Connector 8"/>
            <p:cNvSpPr/>
            <p:nvPr/>
          </p:nvSpPr>
          <p:spPr>
            <a:xfrm flipH="1">
              <a:off x="1893600" y="2451240"/>
              <a:ext cx="1905120" cy="3048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0"/>
            <p:cNvSpPr/>
            <p:nvPr/>
          </p:nvSpPr>
          <p:spPr>
            <a:xfrm flipH="1" flipV="1">
              <a:off x="1893240" y="5716800"/>
              <a:ext cx="1887480" cy="6714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rot="18992400">
              <a:off x="5022720" y="277992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rgent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5601960" y="563580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ntarc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55440" y="3719520"/>
              <a:ext cx="164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alkland Isla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163920" y="6429600"/>
              <a:ext cx="279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picenter from U.S. Geological Surv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5076720" y="838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pulation Exposed to Earthquake Sh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5"/>
          <p:cNvSpPr/>
          <p:nvPr/>
        </p:nvSpPr>
        <p:spPr>
          <a:xfrm>
            <a:off x="1295280" y="530856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age courtesy of the US Geological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228600" y="1139760"/>
            <a:ext cx="442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GS PAGER map shows the population exposed to different Modified Mercalli Intensity (MMI) lev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GS is estimating that no one felt this earthqu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304920" y="4191120"/>
            <a:ext cx="463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lor coded contour lines outline regions of MMI intensity.  The total population exposure to a given MMI value is obtained by summing the population between the contour lines. The estimated population exposure to each MMI Intensity is shown in the table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5005440" y="1440000"/>
            <a:ext cx="3986280" cy="412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263520" y="5649840"/>
            <a:ext cx="8775720" cy="1136880"/>
          </a:xfrm>
          <a:prstGeom prst="rect">
            <a:avLst/>
          </a:prstGeom>
          <a:ln w="0">
            <a:noFill/>
          </a:ln>
        </p:spPr>
      </p:pic>
      <p:sp>
        <p:nvSpPr>
          <p:cNvPr id="6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07800" y="1538280"/>
            <a:ext cx="411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arthquake epicenter is plotted on the map with regional seismicity since 19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252360" y="1066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96"/>
                </a:solidFill>
                <a:latin typeface="Arial"/>
              </a:rPr>
              <a:t>Earthquake and Historic Seism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019840" y="746280"/>
            <a:ext cx="3971880" cy="26589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6"/>
          <p:cNvCxnSpPr/>
          <p:nvPr/>
        </p:nvCxnSpPr>
        <p:spPr>
          <a:xfrm flipV="1">
            <a:off x="4267080" y="5855760"/>
            <a:ext cx="15336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304920" y="3427560"/>
            <a:ext cx="8686800" cy="3282840"/>
            <a:chOff x="304920" y="3427560"/>
            <a:chExt cx="8686800" cy="3282840"/>
          </a:xfrm>
        </p:grpSpPr>
        <p:grpSp>
          <p:nvGrpSpPr>
            <p:cNvPr id="78" name="Group 11"/>
            <p:cNvGrpSpPr/>
            <p:nvPr/>
          </p:nvGrpSpPr>
          <p:grpSpPr>
            <a:xfrm>
              <a:off x="304920" y="3427560"/>
              <a:ext cx="8686800" cy="3282840"/>
              <a:chOff x="304920" y="3427560"/>
              <a:chExt cx="8686800" cy="3282840"/>
            </a:xfrm>
          </p:grpSpPr>
          <p:pic>
            <p:nvPicPr>
              <p:cNvPr id="79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3427560"/>
                <a:ext cx="8686800" cy="32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Box 9"/>
              <p:cNvSpPr/>
              <p:nvPr/>
            </p:nvSpPr>
            <p:spPr>
              <a:xfrm>
                <a:off x="6279120" y="3733200"/>
                <a:ext cx="167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frican Pl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17"/>
              <p:cNvSpPr/>
              <p:nvPr/>
            </p:nvSpPr>
            <p:spPr>
              <a:xfrm>
                <a:off x="4602960" y="6153120"/>
                <a:ext cx="167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tarctic Pl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18"/>
              <p:cNvSpPr/>
              <p:nvPr/>
            </p:nvSpPr>
            <p:spPr>
              <a:xfrm>
                <a:off x="2209680" y="5105520"/>
                <a:ext cx="167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cotia Pl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Box 19"/>
              <p:cNvSpPr/>
              <p:nvPr/>
            </p:nvSpPr>
            <p:spPr>
              <a:xfrm>
                <a:off x="1823040" y="3774240"/>
                <a:ext cx="297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outh American Pl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4" name="Straight Arrow Connector 2"/>
            <p:cNvCxnSpPr/>
            <p:nvPr/>
          </p:nvCxnSpPr>
          <p:spPr>
            <a:xfrm flipV="1">
              <a:off x="4163400" y="5894640"/>
              <a:ext cx="229320" cy="324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465280" y="2819520"/>
            <a:ext cx="645012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293760" y="1114560"/>
            <a:ext cx="862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the USGS, the earthquake occurred ~100km east of a complex plate triple junction between the South America, Antarctica, and Sandwich plates. The South America plate currently subducts beneath the Sandwich plate at a rate of ~13mm/yr while sliding past the Antarctica plate with left-lateral motion along the South Sandwich Fracture Zone at a rate of ~14mm/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strike slip nature and loc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, the earthquake likely resulted from rel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between the South America and Antarc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-Point Star 1"/>
          <p:cNvSpPr/>
          <p:nvPr/>
        </p:nvSpPr>
        <p:spPr>
          <a:xfrm>
            <a:off x="7377120" y="602784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93760" y="1060560"/>
            <a:ext cx="862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cal mechanism illustrated below indicates that the earthquake resulted from either left-lateral strike-slip motion on an east-west oriented fault plane or right-lateral strike-slip motion on a north-south oriented fault plane. Given the east-west alignment of historic earthquakes along the South Sandwich Fracture Zone, it is most likely that this earthqu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produced by left-later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ke-slip motion on a trans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at shallow oceanic crus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774960" y="4746600"/>
            <a:ext cx="5181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ded areas show quadrants of the focal sphere in which the P-wave first-motions are away from the source, and unshaded areas show quadrants in which the P-wave first-motions are toward the source. The dots represent the axis of maximum compressional strain (in black, called the "P-axis") and the axis of maximum extensional strain (in white, called the "T-axis") resulting from the earthquake. An introduction to focal mechanisms can be found in the animation at following URL: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95120" y="647712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GS Centroid Moment Tensor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3894120" y="2340000"/>
            <a:ext cx="4800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31200" cy="5268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5481720" y="3425760"/>
            <a:ext cx="314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 first arrival is a diffracted P wa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190520" y="4205160"/>
            <a:ext cx="411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irect P and S waves cannot travel to stations more than epicentral distance Δ &gt; 103° because of the large decrease in wave velocities across the boundary between the mantle and the liquid outer core. There is a "shadow zone" for direct P waves in the range 103° &lt; Δ &lt; 143°. The S-wave shadow zone exists for Δ &gt; 103° because the liquid outer core blocks S waves that cannot travel through liqui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39640" y="966960"/>
            <a:ext cx="83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 record of the earthquake on the University of Portland seismometer (UPOR) is illustrated below. Portland is 14,649 km (9102 miles, 131.6°) from the location of this earthqua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5767560" y="3760920"/>
            <a:ext cx="2717640" cy="2536560"/>
          </a:xfrm>
          <a:prstGeom prst="rect">
            <a:avLst/>
          </a:prstGeom>
          <a:ln w="12600">
            <a:solidFill>
              <a:srgbClr val="1f497d"/>
            </a:solidFill>
            <a:miter/>
          </a:ln>
        </p:spPr>
      </p:pic>
      <p:sp>
        <p:nvSpPr>
          <p:cNvPr id="10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380880" y="939960"/>
            <a:ext cx="2667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ion explaining the seismic shadow z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icentral distance is the angle formed by the intersection of the line from the earthquake to Earth's center with the line from the observing point to the Earth's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waves are seen up to a distance of 104° from an earthquake, but direct S waves are not recorded after this dista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waves also have a shadow zone between 104° and 14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shadowslide.jpg"/>
          <p:cNvPicPr/>
          <p:nvPr/>
        </p:nvPicPr>
        <p:blipFill>
          <a:blip r:embed="rId1"/>
          <a:stretch/>
        </p:blipFill>
        <p:spPr>
          <a:xfrm>
            <a:off x="3048120" y="982800"/>
            <a:ext cx="5709960" cy="5265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3"/>
          <p:cNvSpPr/>
          <p:nvPr/>
        </p:nvSpPr>
        <p:spPr>
          <a:xfrm>
            <a:off x="7480440" y="63374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da 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82680" y="63612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ris.edu/hq/programs/education_and_outreach/animations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96"/>
                </a:solidFill>
                <a:latin typeface="Arial"/>
              </a:rPr>
              <a:t>Teachable Moments are a servi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S Education &amp; Public Outr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sp>
        <p:nvSpPr>
          <p:cNvPr id="11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3 SOUTH SANDWICH ISLANDS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Monday,  July 15, 2013 at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tkb</cp:lastModifiedBy>
  <dcterms:modified xsi:type="dcterms:W3CDTF">2013-07-16T04:39:58Z</dcterms:modified>
  <cp:revision>620</cp:revision>
  <dc:subject/>
  <dc:title>Slide 1</dc:title>
</cp:coreProperties>
</file>