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D9D9-330F-430A-8365-80BD8A9EB63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610E-EF11-47EE-8AA5-CBE13C5F618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king intensity scales were developed to standardize the measurements and ease comparison of different earthquakes. The Modified-Mercalli Intensity scale is a twelve-stage scale, from I to XII.  Lower numbers represent imperceptible shaking while XII represents total destr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CFA5-93D7-4299-BA03-0FB4026B6EC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MI describes the severity of an earthquake in terms of its effect on humans and structures and is a rough measure of the amount of shaking at a given loca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1404-913C-498A-A346-843AD538E1D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A48C-E375-4026-B859-0D62FF3FF3C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1638-63D5-4B61-896C-3437280C710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021A-4390-4CFC-8E45-13BEBF8DB22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3E3C-33F7-413F-9D89-5832538188C3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BC34-48F9-4490-B4EE-1267392D84A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C8C2-12DE-4466-BBC6-AA4054C3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F56-ADF5-440B-8EFD-21837E01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D2F-0A55-4305-B897-B2EF0FB1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AF52-216D-4BE6-80AD-95625CDF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EC2C-1C45-4D83-96EE-B00D0F04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B37-6190-45DF-BEFB-8422B09C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6D1-2835-4E2A-A584-841F8E5E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FF7-7191-4C52-BA51-D005D4E5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779-E505-4DEA-8EFD-3C117FDD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9C8-C76C-4E4E-94B9-DA857CE8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A6F-1263-4F50-B50F-667B9B91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44F-69E0-4997-BE94-5441C26B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93F7-248D-4BC3-9D0F-B739F4C14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ris.edu/hq/programs/education_and_outreach/animations/25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4"/>
          <p:cNvSpPr/>
          <p:nvPr/>
        </p:nvSpPr>
        <p:spPr>
          <a:xfrm>
            <a:off x="254160" y="1093680"/>
            <a:ext cx="70610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earthquake with a magnitude of 7.0 centered off Peru's sparsely populated southwestern coast shook much of the nation Wednesday.  Only minor damage and light injuries were repor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</a:rPr>
              <a:t>Magnitude 7.0 PERU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</a:rPr>
              <a:t>Wednesday,  September 25, 2013 at 16:42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7120080" y="176040"/>
            <a:ext cx="1871640" cy="157644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250920" y="2133720"/>
            <a:ext cx="54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haking broke windows and opened fissures in the walls of some adobe dwellings in the nearest sizeable town, Acari, a mining town of about 4,000 residents.  Sand shaken loose by the quake partially blocked a 2 km section of the Pan-American Highway. (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5"/>
          <p:cNvGrpSpPr/>
          <p:nvPr/>
        </p:nvGrpSpPr>
        <p:grpSpPr>
          <a:xfrm>
            <a:off x="5867280" y="2590920"/>
            <a:ext cx="2943360" cy="3933720"/>
            <a:chOff x="5867280" y="2590920"/>
            <a:chExt cx="2943360" cy="3933720"/>
          </a:xfrm>
        </p:grpSpPr>
        <p:pic>
          <p:nvPicPr>
            <p:cNvPr id="55" name="Picture 2" descr=""/>
            <p:cNvPicPr/>
            <p:nvPr/>
          </p:nvPicPr>
          <p:blipFill>
            <a:blip r:embed="rId3"/>
            <a:stretch/>
          </p:blipFill>
          <p:spPr>
            <a:xfrm>
              <a:off x="5867280" y="2590920"/>
              <a:ext cx="2943360" cy="39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5-Point Star 12"/>
            <p:cNvSpPr/>
            <p:nvPr/>
          </p:nvSpPr>
          <p:spPr>
            <a:xfrm>
              <a:off x="7246800" y="5818320"/>
              <a:ext cx="152280" cy="134640"/>
            </a:xfrm>
            <a:custGeom>
              <a:avLst/>
              <a:gdLst/>
              <a:ahLst/>
              <a:rect l="l" t="t" r="r" b="b"/>
              <a:pathLst>
                <a:path w="152374" h="134942">
                  <a:moveTo>
                    <a:pt x="0" y="51543"/>
                  </a:moveTo>
                  <a:lnTo>
                    <a:pt x="58202" y="51543"/>
                  </a:lnTo>
                  <a:lnTo>
                    <a:pt x="76187" y="0"/>
                  </a:lnTo>
                  <a:lnTo>
                    <a:pt x="94172" y="51543"/>
                  </a:lnTo>
                  <a:lnTo>
                    <a:pt x="152374" y="51543"/>
                  </a:lnTo>
                  <a:lnTo>
                    <a:pt x="105287" y="83398"/>
                  </a:lnTo>
                  <a:lnTo>
                    <a:pt x="123273" y="134942"/>
                  </a:lnTo>
                  <a:lnTo>
                    <a:pt x="76187" y="103086"/>
                  </a:lnTo>
                  <a:lnTo>
                    <a:pt x="29101" y="134942"/>
                  </a:lnTo>
                  <a:lnTo>
                    <a:pt x="47087" y="83398"/>
                  </a:lnTo>
                  <a:lnTo>
                    <a:pt x="0" y="51543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scale.jpg"/>
          <p:cNvPicPr/>
          <p:nvPr/>
        </p:nvPicPr>
        <p:blipFill>
          <a:blip r:embed="rId1"/>
          <a:stretch/>
        </p:blipFill>
        <p:spPr>
          <a:xfrm>
            <a:off x="380880" y="4233960"/>
            <a:ext cx="2127240" cy="23191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3"/>
          <p:cNvSpPr/>
          <p:nvPr/>
        </p:nvSpPr>
        <p:spPr>
          <a:xfrm>
            <a:off x="271440" y="388296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ified Mercalli Int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2541600" y="3668760"/>
            <a:ext cx="121932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ceiv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  <a:ea typeface="Arial"/>
              </a:rPr>
              <a:t>Extre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Vio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Arial"/>
                <a:ea typeface="Arial"/>
              </a:rPr>
              <a:t>Sev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Arial"/>
                <a:ea typeface="Arial"/>
              </a:rPr>
              <a:t>Very 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Arial"/>
              </a:rPr>
              <a:t>Str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e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t F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4343400" y="64771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GS Estimated shaking Intensity from M 7.0 Earthqu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225360" y="1547640"/>
            <a:ext cx="372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odified Mercalli Intensity (MMI) scale depicts shaking severity.  The area nearest the earthquake experienced strong shaking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5"/>
          <p:cNvSpPr/>
          <p:nvPr/>
        </p:nvSpPr>
        <p:spPr>
          <a:xfrm>
            <a:off x="152280" y="6550200"/>
            <a:ext cx="40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age courtesy of the US Geological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209520" y="10666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996"/>
                </a:solidFill>
                <a:latin typeface="Arial"/>
                <a:ea typeface="Arial"/>
              </a:rPr>
              <a:t>Shaking Int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</a:rPr>
              <a:t>Magnitude 7.0 PERU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</a:rPr>
              <a:t>Wednesday,  September 25, 2013 at 16:42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3"/>
          <a:stretch/>
        </p:blipFill>
        <p:spPr>
          <a:xfrm>
            <a:off x="3832200" y="1379520"/>
            <a:ext cx="518796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5076720" y="8380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GS PAG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pulation Exposed to Earthquake Sh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15"/>
          <p:cNvSpPr/>
          <p:nvPr/>
        </p:nvSpPr>
        <p:spPr>
          <a:xfrm>
            <a:off x="1254240" y="530856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age courtesy of the US Geological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255600" y="1139760"/>
            <a:ext cx="441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GS PAGER map shows the population exposed to different Modified Mercalli Intensity (MMI) leve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SGS is estimating that 14,000 people were exposed to strong shaking from this earthqu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0"/>
          <p:cNvSpPr/>
          <p:nvPr/>
        </p:nvSpPr>
        <p:spPr>
          <a:xfrm>
            <a:off x="277920" y="4191120"/>
            <a:ext cx="4637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color coded contour lines outline regions of MMI intensity.  The total population exposure to a given MMI value is obtained by summing the population between the contour lines. The estimated population exposure to each MMI Intensity is shown in the table bel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992400" cy="4130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274680" y="5649840"/>
            <a:ext cx="8793000" cy="1171800"/>
          </a:xfrm>
          <a:prstGeom prst="rect">
            <a:avLst/>
          </a:prstGeom>
          <a:ln w="0">
            <a:noFill/>
          </a:ln>
        </p:spPr>
      </p:pic>
      <p:sp>
        <p:nvSpPr>
          <p:cNvPr id="76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</a:rPr>
              <a:t>Magnitude 7.0 PERU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</a:rPr>
              <a:t>Wednesday,  September 25, 2013 at 16:42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7"/>
          <p:cNvSpPr/>
          <p:nvPr/>
        </p:nvSpPr>
        <p:spPr>
          <a:xfrm>
            <a:off x="239760" y="1066680"/>
            <a:ext cx="2884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azca Plate subducts beneath the South America plate at the Peru-Chile Trench offshore of western South America.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the latitude of the earthquake, the Nazca Plate moves to the east-northeast with respect to the South America Plate with a velocity of ab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0 mm/y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1" descr="PlateTectMap"/>
          <p:cNvPicPr/>
          <p:nvPr/>
        </p:nvPicPr>
        <p:blipFill>
          <a:blip r:embed="rId2"/>
          <a:stretch/>
        </p:blipFill>
        <p:spPr>
          <a:xfrm>
            <a:off x="3468600" y="1447920"/>
            <a:ext cx="5505480" cy="52624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0"/>
          <p:cNvSpPr/>
          <p:nvPr/>
        </p:nvSpPr>
        <p:spPr>
          <a:xfrm>
            <a:off x="3809880" y="50292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azca 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4"/>
          <p:cNvSpPr/>
          <p:nvPr/>
        </p:nvSpPr>
        <p:spPr>
          <a:xfrm>
            <a:off x="5105520" y="3429000"/>
            <a:ext cx="27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outh American 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5"/>
          <p:cNvSpPr/>
          <p:nvPr/>
        </p:nvSpPr>
        <p:spPr>
          <a:xfrm>
            <a:off x="3537000" y="40798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Peru-Chile Tre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15"/>
          <p:cNvCxnSpPr/>
          <p:nvPr/>
        </p:nvCxnSpPr>
        <p:spPr>
          <a:xfrm>
            <a:off x="4495320" y="4535640"/>
            <a:ext cx="762840" cy="265680"/>
          </a:xfrm>
          <a:prstGeom prst="straightConnector1">
            <a:avLst/>
          </a:prstGeom>
          <a:ln w="255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85" name="5-Point Star 30"/>
          <p:cNvSpPr/>
          <p:nvPr/>
        </p:nvSpPr>
        <p:spPr>
          <a:xfrm>
            <a:off x="5078520" y="4495680"/>
            <a:ext cx="152280" cy="135000"/>
          </a:xfrm>
          <a:custGeom>
            <a:avLst/>
            <a:gdLst/>
            <a:ahLst/>
            <a:rect l="l" t="t" r="r" b="b"/>
            <a:pathLst>
              <a:path w="152400" h="134938">
                <a:moveTo>
                  <a:pt x="0" y="51542"/>
                </a:moveTo>
                <a:lnTo>
                  <a:pt x="58212" y="51542"/>
                </a:lnTo>
                <a:lnTo>
                  <a:pt x="76200" y="0"/>
                </a:lnTo>
                <a:lnTo>
                  <a:pt x="94188" y="51542"/>
                </a:lnTo>
                <a:lnTo>
                  <a:pt x="152400" y="51542"/>
                </a:lnTo>
                <a:lnTo>
                  <a:pt x="105305" y="83396"/>
                </a:lnTo>
                <a:lnTo>
                  <a:pt x="123294" y="134938"/>
                </a:lnTo>
                <a:lnTo>
                  <a:pt x="76200" y="103083"/>
                </a:lnTo>
                <a:lnTo>
                  <a:pt x="29106" y="134938"/>
                </a:lnTo>
                <a:lnTo>
                  <a:pt x="47095" y="83396"/>
                </a:lnTo>
                <a:lnTo>
                  <a:pt x="0" y="5154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</a:rPr>
              <a:t>Magnitude 7.0 PERU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</a:rPr>
              <a:t>Wednesday,  September 25, 2013 at 16:42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212760" y="1035000"/>
            <a:ext cx="8759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region experiences a large number of earthquakes.  Within 250 km of the epicenter, there have been 17 earthquakes of M6 and larger since 1973.  The largest, a M8.4 earthquake of June 23, 2001, occurred along the plate boundary to the south.  It killed at least 74 people and destroyed over 17,000 home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thquakes are shallow at the Peru-Chile Trench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rease to &gt; 500 km depth towards the east as the Naz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te subducts deeper beneath the South American 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9"/>
          <p:cNvGrpSpPr/>
          <p:nvPr/>
        </p:nvGrpSpPr>
        <p:grpSpPr>
          <a:xfrm>
            <a:off x="206280" y="2263680"/>
            <a:ext cx="8874360" cy="4502160"/>
            <a:chOff x="206280" y="2263680"/>
            <a:chExt cx="8874360" cy="4502160"/>
          </a:xfrm>
        </p:grpSpPr>
        <p:pic>
          <p:nvPicPr>
            <p:cNvPr id="91" name="Picture 1" descr=""/>
            <p:cNvPicPr/>
            <p:nvPr/>
          </p:nvPicPr>
          <p:blipFill>
            <a:blip r:embed="rId2"/>
            <a:stretch/>
          </p:blipFill>
          <p:spPr>
            <a:xfrm>
              <a:off x="206280" y="3452400"/>
              <a:ext cx="6473520" cy="32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2" descr=""/>
            <p:cNvPicPr/>
            <p:nvPr/>
          </p:nvPicPr>
          <p:blipFill>
            <a:blip r:embed="rId3"/>
            <a:stretch/>
          </p:blipFill>
          <p:spPr>
            <a:xfrm>
              <a:off x="6504840" y="2263680"/>
              <a:ext cx="2575800" cy="45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5-Point Star 4"/>
            <p:cNvSpPr/>
            <p:nvPr/>
          </p:nvSpPr>
          <p:spPr>
            <a:xfrm>
              <a:off x="2778120" y="5235480"/>
              <a:ext cx="152280" cy="134640"/>
            </a:xfrm>
            <a:custGeom>
              <a:avLst/>
              <a:gdLst/>
              <a:ahLst/>
              <a:rect l="l" t="t" r="r" b="b"/>
              <a:pathLst>
                <a:path w="152378" h="134930">
                  <a:moveTo>
                    <a:pt x="0" y="51539"/>
                  </a:moveTo>
                  <a:lnTo>
                    <a:pt x="58204" y="51539"/>
                  </a:lnTo>
                  <a:lnTo>
                    <a:pt x="76189" y="0"/>
                  </a:lnTo>
                  <a:lnTo>
                    <a:pt x="94174" y="51539"/>
                  </a:lnTo>
                  <a:lnTo>
                    <a:pt x="152378" y="51539"/>
                  </a:lnTo>
                  <a:lnTo>
                    <a:pt x="105290" y="83391"/>
                  </a:lnTo>
                  <a:lnTo>
                    <a:pt x="123276" y="134930"/>
                  </a:lnTo>
                  <a:lnTo>
                    <a:pt x="76189" y="103077"/>
                  </a:lnTo>
                  <a:lnTo>
                    <a:pt x="29102" y="134930"/>
                  </a:lnTo>
                  <a:lnTo>
                    <a:pt x="47088" y="83391"/>
                  </a:lnTo>
                  <a:lnTo>
                    <a:pt x="0" y="51539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5"/>
            <p:cNvSpPr/>
            <p:nvPr/>
          </p:nvSpPr>
          <p:spPr>
            <a:xfrm>
              <a:off x="1308240" y="5060880"/>
              <a:ext cx="133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Earthquak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>
              <a:off x="2286000" y="5226120"/>
              <a:ext cx="492120" cy="60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</a:rPr>
              <a:t>Magnitude 7.0 PERU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</a:rPr>
              <a:t>Wednesday,  September 25, 2013 at 16:42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279360" y="1087560"/>
            <a:ext cx="84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earthquake occurred at a depth of 40 km as thrust-faulting on or near the thrust-interface between the South America Plate and the subducting Nazca 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3774960" y="4746600"/>
            <a:ext cx="51818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aded areas show quadrants of the focal sphere in which the P-wave first-motions are away from the source, and unshaded areas show quadrants in which the P-wave first-motions are toward the source. The dots represent the axis of maximum compressional strain (in black, called the "P-axis") and the axis of maximum extensional strain (in white, called the "T-axis") resulting from the earthquake. An introduction to focal mechanisms can be found in the animation at following URL: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www.iris.edu/hq/programs/education_and_outreach/animations/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195120" y="647712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GS Centroid Moment Tensor 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" descr=""/>
          <p:cNvPicPr/>
          <p:nvPr/>
        </p:nvPicPr>
        <p:blipFill>
          <a:blip r:embed="rId3"/>
          <a:stretch/>
        </p:blipFill>
        <p:spPr>
          <a:xfrm>
            <a:off x="457200" y="3581280"/>
            <a:ext cx="2895480" cy="2710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4"/>
          <a:stretch/>
        </p:blipFill>
        <p:spPr>
          <a:xfrm>
            <a:off x="4070520" y="2011320"/>
            <a:ext cx="4464000" cy="1943280"/>
          </a:xfrm>
          <a:prstGeom prst="rect">
            <a:avLst/>
          </a:prstGeom>
          <a:ln w="0">
            <a:noFill/>
          </a:ln>
        </p:spPr>
      </p:pic>
      <p:sp>
        <p:nvSpPr>
          <p:cNvPr id="104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</a:rPr>
              <a:t>Magnitude 7.0 PERU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</a:rPr>
              <a:t>Wednesday,  September 25, 2013 at 16:42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228600" y="1805040"/>
            <a:ext cx="8763120" cy="46767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230040" y="1066680"/>
            <a:ext cx="830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he record of the earthquake on the University of Portland seismometer (UPOR) is illustrated below. Portland is about 8355 km (~5192 miles, 75.27 degrees) from the location of this earthquak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2438280" y="4800600"/>
            <a:ext cx="65534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veling the same path as the P-wave, the S-waves (shear waves) travel at a slower velocity, arriving 21 minutes and 25 seconds (1285 seconds) after the earthquak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surface waves are the last to arrive approximately 39 minutes after the earthquake, having traveled 8355 km to Portland along the surface of the Earth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295280" y="2233440"/>
            <a:ext cx="662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-waves are compressional waves that travel a curved path through the mantle. The P-waves arrived to the seismometer in Portland 11 minutes and 44 seconds (704 seconds) after the earthquak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2895480" y="3038400"/>
            <a:ext cx="4496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P waves are compressional waves that bounce off the Earth’s surface halfway between the earthquake and the seismic st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</a:rPr>
              <a:t>Magnitude 7.0 PERU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</a:rPr>
              <a:t>Wednesday,  September 25, 2013 at 16:42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762120" y="2408400"/>
            <a:ext cx="785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996"/>
                </a:solidFill>
                <a:latin typeface="Arial"/>
                <a:ea typeface="Arial"/>
              </a:rPr>
              <a:t>Teachable Moments are a servic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IS Education &amp; Public Outr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University of Port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6210360" y="5181480"/>
            <a:ext cx="2705040" cy="1435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503280" y="5334120"/>
            <a:ext cx="1460520" cy="1150920"/>
          </a:xfrm>
          <a:prstGeom prst="rect">
            <a:avLst/>
          </a:prstGeom>
          <a:ln w="0">
            <a:noFill/>
          </a:ln>
        </p:spPr>
      </p:pic>
      <p:sp>
        <p:nvSpPr>
          <p:cNvPr id="118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2000" spc="-1" strike="noStrike">
                <a:solidFill>
                  <a:srgbClr val="11488b"/>
                </a:solidFill>
                <a:latin typeface="Arial"/>
              </a:rPr>
              <a:t>Magnitude 7.0 PERU</a:t>
            </a:r>
            <a:br>
              <a:rPr sz="3500"/>
            </a:br>
            <a:r>
              <a:rPr b="1" lang="en-US" sz="1500" spc="-1" strike="noStrike">
                <a:solidFill>
                  <a:srgbClr val="11488b"/>
                </a:solidFill>
                <a:latin typeface="Arial"/>
              </a:rPr>
              <a:t>Wednesday,  September 25, 2013 at 16:42:42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0:07:40Z</dcterms:created>
  <dc:creator>tkb</dc:creator>
  <dc:description/>
  <dc:language>en-US</dc:language>
  <cp:lastModifiedBy>tkb</cp:lastModifiedBy>
  <dcterms:modified xsi:type="dcterms:W3CDTF">2013-09-26T05:20:19Z</dcterms:modified>
  <cp:revision>675</cp:revision>
  <dc:subject/>
  <dc:title>Slide 1</dc:title>
</cp:coreProperties>
</file>