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7003-808D-4A4B-9040-8CCC399F7CE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BCCD-D96B-4F45-ACC4-E41E1D02DD9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F9C2-5A8E-4A3E-83B4-757FEA2DB3C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92DB-6CE4-4D30-9564-0034959FFD5A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9237-003D-44B1-AD73-5F6CD3B15B5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scalas de intensidad de movimiento fueron desarrolladas para estandarizar las mediciones y facilitar la comparación de diferentes terremotos. La modificación de la escala de intensidad de  Marcelli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55E0-FAC0-4A29-9585-5E60A2AEB35A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 mapa localizador del Servicio Geológico de los EE.UU. muestra la población expuesta a diferentes niveles de intensidad modificada Mercalli (MMI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MI describe la severidad de un terremoto en términos de sus efectos en estructuras humanas y es una vasta medida de la cantidad de movimientos telúricos en un lugar d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91DD-D6FB-4069-95AA-0F24EB52B5C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 mapa localizador del Servicio Geológico de los EE.UU. muestra la población expuesta a diferentes niveles de intensidad modificada Mercalli (MMI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MI describe la severidad de un terremoto en términos de sus efectos en estructuras humanas y es una vasta medida de la cantidad de movimientos telúricos en un lugar d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EB06-8576-40BD-AA19-B74FC2F855E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2C11-9E23-4617-80BA-3516F40CA7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88F6-F73D-4C8C-91AD-911991CDCB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  <a:ea typeface="ＭＳ Ｐゴシック"/>
              </a:rPr>
              <a:t>Animación Releva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canismo focal de un terremoto?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B83-8526-4EFA-A69B-57F94ACD75A6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9CF9-3622-43A5-86BA-F89F0707D5B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F20B-1CF4-4B2B-B3F5-896B2738418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0F6-23B5-4E76-B7C2-9A4F6519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D8A-996C-489D-B5CF-8D39790A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F49-6F4B-4D66-90B0-14B69390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DA4-E584-40F3-BCC9-6A4BD7E3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BEC-BCD1-4E8D-BC67-FF415E98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6DE-9EE6-463D-93AA-640E2C6D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889-A60C-4385-A595-2551FDE6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FD2-1056-4798-9B62-1405633E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A16-DDBA-4A92-8E79-2481F3AD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297-8A17-4E1F-AD44-89EBA83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0B6-70EF-470B-B82E-CA1D9667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5DA-DC73-4496-B197-395F7175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F2A2-8887-42E2-8F8F-D6453CF1B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243000" y="1082520"/>
            <a:ext cx="699588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  <a:ea typeface="Arial"/>
              </a:rPr>
              <a:t>Un terremoto de magnitud 7.6 estremeció las cercanías de las Islas Salomón la mañana del domingo;  no hubo reportes inmediatos de daños. El terremoto estuvo centrado a 100 km (60 millas) al sur de Kira Kira, una población en la isla de Makira, a una profundidad de 29 km (18 millas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7467480" y="3031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3"/>
          <a:stretch/>
        </p:blipFill>
        <p:spPr>
          <a:xfrm>
            <a:off x="4038480" y="2743200"/>
            <a:ext cx="4943520" cy="353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4"/>
          <a:stretch/>
        </p:blipFill>
        <p:spPr>
          <a:xfrm>
            <a:off x="228600" y="3983040"/>
            <a:ext cx="3706920" cy="2779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3935520" y="6454800"/>
            <a:ext cx="42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Kirakira, Maki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55600" y="2486160"/>
            <a:ext cx="36799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  <a:ea typeface="Arial"/>
              </a:rPr>
              <a:t>Un terremoto de magnitud 7.4 ocurrió a menos de 24 horas después, aproximadamente 20 km al suroeste del terremoto de magnitud 7.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20140412 Solomon TT.jpg"/>
          <p:cNvPicPr/>
          <p:nvPr/>
        </p:nvPicPr>
        <p:blipFill>
          <a:blip r:embed="rId1"/>
          <a:srcRect l="0" t="4877" r="1666" b="5182"/>
          <a:stretch/>
        </p:blipFill>
        <p:spPr>
          <a:xfrm>
            <a:off x="247680" y="1854360"/>
            <a:ext cx="8867880" cy="4560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736560" y="1838160"/>
            <a:ext cx="74646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Seguido del terremoto, las ondas compresionales P se tomaron 12 minutos y 51 segundos en viajar una trayectoria curva a través del manto desde el terremoto hasta Portland, Oreg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819520" y="5013360"/>
            <a:ext cx="62262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Las ondas de superficie , ambas Love and Rayleigh, viajaron 9757 km (6063 millas) a lo largo del perímetro de la Tierra desde el terremoto hasta la estación de regis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198360" y="1066680"/>
            <a:ext cx="870264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  <a:ea typeface="Arial"/>
              </a:rPr>
              <a:t>El registro del terremoto M7.6 observado en el sismógrafo de la Universidad de Portland (UPOR) es ilustrado en la parte inferior. Portland está ubicada aproximadamente 9757 km (6063 millas, 87.90°) desde la localización de este terremo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333520" y="2590920"/>
            <a:ext cx="53625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Las Ondas S son ondas cortantes  que siguen la misma trayectoria a través del manto  como las ondas P, tomándose 23 minutos 36 segundos en arri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20140413 Solomon TT.jpg"/>
          <p:cNvPicPr/>
          <p:nvPr/>
        </p:nvPicPr>
        <p:blipFill>
          <a:blip r:embed="rId1"/>
          <a:srcRect l="0" t="5915" r="1544" b="5359"/>
          <a:stretch/>
        </p:blipFill>
        <p:spPr>
          <a:xfrm>
            <a:off x="249120" y="1933560"/>
            <a:ext cx="8818560" cy="4467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736560" y="1838160"/>
            <a:ext cx="74646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Seguido del terremoto, las ondas compresionales P se tomaron 12 minutos y 52 segundos en viajar una trayectoria curva a través del manto desde el terremoto hasta Portland, Oregó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2666880" y="5013360"/>
            <a:ext cx="6378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Las ondas de superficie , ambas Love and Rayleigh, viajaron 9779 km (6077 millas) a lo largo del perímetro de la Tierra desde el terremoto hasta la estación de regis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200160" y="1044720"/>
            <a:ext cx="894384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  <a:ea typeface="Arial"/>
              </a:rPr>
              <a:t>El registro del terremoto M7.4 observado en el sismógrafo de la Universidad de Portland (UPOR) es ilustrado en la parte inferior. Portland está ubicada aproximadamente 9779 km (6077 millas, 88.1°) desde la localización de este terremoto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2333520" y="2590920"/>
            <a:ext cx="55152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Las Ondas S son ondas cortantes  que siguen la misma trayectoria a través del manto  como las ondas P, tomándose 23 minutos 38 segundos en arri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" descr=""/>
          <p:cNvPicPr/>
          <p:nvPr/>
        </p:nvPicPr>
        <p:blipFill>
          <a:blip r:embed="rId4"/>
          <a:stretch/>
        </p:blipFill>
        <p:spPr>
          <a:xfrm>
            <a:off x="3798720" y="5400720"/>
            <a:ext cx="1200240" cy="12063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  <a:ea typeface="Arial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Educación IRIS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4267080" y="911160"/>
            <a:ext cx="4753080" cy="4616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scale.jpg"/>
          <p:cNvPicPr/>
          <p:nvPr/>
        </p:nvPicPr>
        <p:blipFill>
          <a:blip r:embed="rId2"/>
          <a:stretch/>
        </p:blipFill>
        <p:spPr>
          <a:xfrm>
            <a:off x="380880" y="3984480"/>
            <a:ext cx="2127240" cy="2319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15"/>
          <p:cNvSpPr/>
          <p:nvPr/>
        </p:nvSpPr>
        <p:spPr>
          <a:xfrm>
            <a:off x="243000" y="1206360"/>
            <a:ext cx="4024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La escala de Intensidad Mercalli Modificada (MMI) describe la severidad de los movimientos telúr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La Isla de Makira con una población de ~40,000 experimentó fuertes y muy fuertes temblores provenientes del terremoto 7.6 y la réplica M7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IRIS_TMlogo.png"/>
          <p:cNvPicPr/>
          <p:nvPr/>
        </p:nvPicPr>
        <p:blipFill>
          <a:blip r:embed="rId3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7162920" y="4876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rremoto M 7.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4"/>
          <a:stretch/>
        </p:blipFill>
        <p:spPr>
          <a:xfrm>
            <a:off x="3882960" y="3733920"/>
            <a:ext cx="31464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5"/>
          <p:cNvSpPr/>
          <p:nvPr/>
        </p:nvSpPr>
        <p:spPr>
          <a:xfrm>
            <a:off x="7010280" y="54864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USGS Intensidades de Movimiento Estim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71440" y="368604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  <a:ea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2576520" y="352728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  <a:ea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  <a:ea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  <a:ea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  <a:ea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  <a:ea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152280" y="6550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  <a:ea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5257800" y="61689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ffffff"/>
                </a:solidFill>
                <a:latin typeface="Arial"/>
                <a:ea typeface="Arial"/>
              </a:rPr>
              <a:t>Terremoto M7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193680" y="5637240"/>
            <a:ext cx="8915400" cy="117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4965840" y="1397160"/>
            <a:ext cx="4025880" cy="4165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43000" y="1460520"/>
            <a:ext cx="457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El  mapa localizador del Servicio Geológico de los EE.UU. muestra la población expuesta a diferentes niveles de intensidad modificada Mercalli (MM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Más de  14,000 personas experimentaron muy fuertes movimientos telúricos y alrededor de 103,000 experimentaron fuertes temblores, con unas 29,000 personas adicionales experimentando fuertes temblores como consecuencia de este terremo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245160" y="115236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1c508e"/>
                </a:solidFill>
                <a:latin typeface="Arial"/>
                <a:ea typeface="Arial"/>
              </a:rPr>
              <a:t>Terremoto Magnitud 7.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8600" y="4191120"/>
            <a:ext cx="4637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El código de intensidad MMI. La población total expuesta a un valor de MMI dado es obtenida sumando la población entre las líneas de contorno. La estimación de la población expuesta a cada intensidad  MMI es mostrada en la tabla de la parte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379440" y="5294160"/>
            <a:ext cx="449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Imagen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5224320" y="533520"/>
            <a:ext cx="3886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USGS PA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243000" y="1528920"/>
            <a:ext cx="4572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 mapa localizador del Servicio Geológico de los EE.UU. muestra la población expuesta a diferentes niveles de intensidad modificada Mercalli (MM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Mientras que las mismas personas fueron sacudidas durante la réplica, la intensidad del temblor fue menor. Solamente 7,000 personas experimentaron muy fuertes movimientos telúricos y 18,000 experimentaron fuertes tembl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4938840" y="1371600"/>
            <a:ext cx="4101840" cy="4243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223920" y="5649840"/>
            <a:ext cx="889308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10"/>
          <p:cNvSpPr/>
          <p:nvPr/>
        </p:nvSpPr>
        <p:spPr>
          <a:xfrm>
            <a:off x="245160" y="115236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1c508e"/>
                </a:solidFill>
                <a:latin typeface="Arial"/>
                <a:ea typeface="Arial"/>
              </a:rPr>
              <a:t>Terremoto Magnitud 7.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228600" y="4191120"/>
            <a:ext cx="4637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El código de intensidad MMI. La población total expuesta a un valor de MMI dado es obtenida sumando la población entre las líneas de contorno. La estimación de la población expuesta a cada intensidad  MMI es mostrada en la tabla de la parte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379440" y="5294160"/>
            <a:ext cx="449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Imagen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5224320" y="533520"/>
            <a:ext cx="3886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USGS PAG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239760" y="1035000"/>
            <a:ext cx="85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Este mapa regional muestra la complejidad de las principales placas tectónicas y microplacas debido a la convergencia entre las Placas de Australia y el Pacífico. El rectángulo describe el área del mapa en la siguiente diaposi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838080" y="1967040"/>
            <a:ext cx="7620120" cy="4859280"/>
            <a:chOff x="838080" y="1967040"/>
            <a:chExt cx="7620120" cy="4859280"/>
          </a:xfrm>
        </p:grpSpPr>
        <p:pic>
          <p:nvPicPr>
            <p:cNvPr id="94" name="Picture 3" descr="N.Guinea2Tonga copy.jpg"/>
            <p:cNvPicPr/>
            <p:nvPr/>
          </p:nvPicPr>
          <p:blipFill>
            <a:blip r:embed="rId2"/>
            <a:stretch/>
          </p:blipFill>
          <p:spPr>
            <a:xfrm>
              <a:off x="838080" y="1967040"/>
              <a:ext cx="762012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29"/>
            <p:cNvSpPr/>
            <p:nvPr/>
          </p:nvSpPr>
          <p:spPr>
            <a:xfrm>
              <a:off x="3741480" y="3753000"/>
              <a:ext cx="1515960" cy="129528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"/>
          <p:cNvGrpSpPr/>
          <p:nvPr/>
        </p:nvGrpSpPr>
        <p:grpSpPr>
          <a:xfrm>
            <a:off x="181080" y="1003320"/>
            <a:ext cx="6080040" cy="5486760"/>
            <a:chOff x="181080" y="1003320"/>
            <a:chExt cx="6080040" cy="5486760"/>
          </a:xfrm>
        </p:grpSpPr>
        <p:pic>
          <p:nvPicPr>
            <p:cNvPr id="100" name="Picture 4" descr="SolomonGeoMapp.tiff"/>
            <p:cNvPicPr/>
            <p:nvPr/>
          </p:nvPicPr>
          <p:blipFill>
            <a:blip r:embed="rId2"/>
            <a:stretch/>
          </p:blipFill>
          <p:spPr>
            <a:xfrm>
              <a:off x="432360" y="1003320"/>
              <a:ext cx="582876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"/>
            <p:cNvSpPr/>
            <p:nvPr/>
          </p:nvSpPr>
          <p:spPr>
            <a:xfrm>
              <a:off x="3008160" y="4979880"/>
              <a:ext cx="9144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Norte de la Fosa de Nueva Hébri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"/>
            <p:cNvSpPr/>
            <p:nvPr/>
          </p:nvSpPr>
          <p:spPr>
            <a:xfrm flipH="1">
              <a:off x="3757320" y="4603680"/>
              <a:ext cx="655560" cy="77616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>
              <a:off x="181080" y="5660640"/>
              <a:ext cx="29577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Placa Australi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"/>
            <p:cNvSpPr/>
            <p:nvPr/>
          </p:nvSpPr>
          <p:spPr>
            <a:xfrm>
              <a:off x="3124440" y="1195200"/>
              <a:ext cx="1982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Placa del Pacif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"/>
            <p:cNvSpPr/>
            <p:nvPr/>
          </p:nvSpPr>
          <p:spPr>
            <a:xfrm flipH="1">
              <a:off x="1401840" y="3570120"/>
              <a:ext cx="620640" cy="2728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527760" y="3526560"/>
              <a:ext cx="979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2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Fosa de Salom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528480" y="2619360"/>
              <a:ext cx="2127240" cy="113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1"/>
            <p:cNvSpPr/>
            <p:nvPr/>
          </p:nvSpPr>
          <p:spPr>
            <a:xfrm>
              <a:off x="4154760" y="3435480"/>
              <a:ext cx="793440" cy="3054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12"/>
            <p:cNvSpPr/>
            <p:nvPr/>
          </p:nvSpPr>
          <p:spPr>
            <a:xfrm rot="4500000">
              <a:off x="4165560" y="3532320"/>
              <a:ext cx="236520" cy="20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Isosceles Triangle 36"/>
            <p:cNvSpPr/>
            <p:nvPr/>
          </p:nvSpPr>
          <p:spPr>
            <a:xfrm rot="4500000">
              <a:off x="4317840" y="4083120"/>
              <a:ext cx="236520" cy="20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Isosceles Triangle 37"/>
            <p:cNvSpPr/>
            <p:nvPr/>
          </p:nvSpPr>
          <p:spPr>
            <a:xfrm rot="4500000">
              <a:off x="4470120" y="4635720"/>
              <a:ext cx="236520" cy="20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Isosceles Triangle 38"/>
            <p:cNvSpPr/>
            <p:nvPr/>
          </p:nvSpPr>
          <p:spPr>
            <a:xfrm rot="4500000">
              <a:off x="4622760" y="5187960"/>
              <a:ext cx="236520" cy="20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39"/>
            <p:cNvSpPr/>
            <p:nvPr/>
          </p:nvSpPr>
          <p:spPr>
            <a:xfrm rot="4500000">
              <a:off x="4776120" y="5739840"/>
              <a:ext cx="234720" cy="20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40"/>
            <p:cNvSpPr/>
            <p:nvPr/>
          </p:nvSpPr>
          <p:spPr>
            <a:xfrm rot="4500000">
              <a:off x="4893480" y="6247800"/>
              <a:ext cx="236520" cy="203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Isosceles Triangle 41"/>
            <p:cNvSpPr/>
            <p:nvPr/>
          </p:nvSpPr>
          <p:spPr>
            <a:xfrm rot="1800000">
              <a:off x="2242800" y="3360600"/>
              <a:ext cx="236520" cy="203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Isosceles Triangle 42"/>
            <p:cNvSpPr/>
            <p:nvPr/>
          </p:nvSpPr>
          <p:spPr>
            <a:xfrm rot="1800000">
              <a:off x="1782360" y="3127320"/>
              <a:ext cx="236520" cy="203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Isosceles Triangle 43"/>
            <p:cNvSpPr/>
            <p:nvPr/>
          </p:nvSpPr>
          <p:spPr>
            <a:xfrm rot="1800000">
              <a:off x="1321920" y="2894040"/>
              <a:ext cx="236520" cy="2030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Isosceles Triangle 44"/>
            <p:cNvSpPr/>
            <p:nvPr/>
          </p:nvSpPr>
          <p:spPr>
            <a:xfrm rot="1800000">
              <a:off x="861480" y="2658960"/>
              <a:ext cx="236520" cy="20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Isosceles Triangle 45"/>
            <p:cNvSpPr/>
            <p:nvPr/>
          </p:nvSpPr>
          <p:spPr>
            <a:xfrm rot="1800000">
              <a:off x="401040" y="2425680"/>
              <a:ext cx="236520" cy="204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Straight Connector 46"/>
            <p:cNvSpPr/>
            <p:nvPr/>
          </p:nvSpPr>
          <p:spPr>
            <a:xfrm flipV="1">
              <a:off x="2656080" y="3457080"/>
              <a:ext cx="1487520" cy="29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3"/>
            <p:cNvGrpSpPr/>
            <p:nvPr/>
          </p:nvGrpSpPr>
          <p:grpSpPr>
            <a:xfrm>
              <a:off x="1107360" y="3000240"/>
              <a:ext cx="2895840" cy="1447560"/>
              <a:chOff x="1107360" y="3000240"/>
              <a:chExt cx="2895840" cy="1447560"/>
            </a:xfrm>
          </p:grpSpPr>
          <p:sp>
            <p:nvSpPr>
              <p:cNvPr id="122" name="5-Point Star 2"/>
              <p:cNvSpPr/>
              <p:nvPr/>
            </p:nvSpPr>
            <p:spPr>
              <a:xfrm>
                <a:off x="2544480" y="3591000"/>
                <a:ext cx="252360" cy="252360"/>
              </a:xfrm>
              <a:custGeom>
                <a:avLst/>
                <a:gdLst/>
                <a:ahLst/>
                <a:rect l="l" t="t" r="r" b="b"/>
                <a:pathLst>
                  <a:path w="252499" h="252499">
                    <a:moveTo>
                      <a:pt x="0" y="96446"/>
                    </a:moveTo>
                    <a:lnTo>
                      <a:pt x="96447" y="96446"/>
                    </a:lnTo>
                    <a:lnTo>
                      <a:pt x="126250" y="0"/>
                    </a:lnTo>
                    <a:lnTo>
                      <a:pt x="156052" y="96446"/>
                    </a:lnTo>
                    <a:lnTo>
                      <a:pt x="252499" y="96446"/>
                    </a:lnTo>
                    <a:lnTo>
                      <a:pt x="174472" y="156052"/>
                    </a:lnTo>
                    <a:lnTo>
                      <a:pt x="204276" y="252498"/>
                    </a:lnTo>
                    <a:lnTo>
                      <a:pt x="126250" y="192891"/>
                    </a:lnTo>
                    <a:lnTo>
                      <a:pt x="48223" y="252498"/>
                    </a:lnTo>
                    <a:lnTo>
                      <a:pt x="78027" y="156052"/>
                    </a:lnTo>
                    <a:lnTo>
                      <a:pt x="0" y="9644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5-Point Star 2"/>
              <p:cNvSpPr/>
              <p:nvPr/>
            </p:nvSpPr>
            <p:spPr>
              <a:xfrm>
                <a:off x="2403360" y="3659040"/>
                <a:ext cx="252360" cy="252360"/>
              </a:xfrm>
              <a:custGeom>
                <a:avLst/>
                <a:gdLst/>
                <a:ahLst/>
                <a:rect l="l" t="t" r="r" b="b"/>
                <a:pathLst>
                  <a:path w="252499" h="252499">
                    <a:moveTo>
                      <a:pt x="0" y="96446"/>
                    </a:moveTo>
                    <a:lnTo>
                      <a:pt x="96447" y="96446"/>
                    </a:lnTo>
                    <a:lnTo>
                      <a:pt x="126250" y="0"/>
                    </a:lnTo>
                    <a:lnTo>
                      <a:pt x="156052" y="96446"/>
                    </a:lnTo>
                    <a:lnTo>
                      <a:pt x="252499" y="96446"/>
                    </a:lnTo>
                    <a:lnTo>
                      <a:pt x="174472" y="156052"/>
                    </a:lnTo>
                    <a:lnTo>
                      <a:pt x="204276" y="252498"/>
                    </a:lnTo>
                    <a:lnTo>
                      <a:pt x="126250" y="192891"/>
                    </a:lnTo>
                    <a:lnTo>
                      <a:pt x="48223" y="252498"/>
                    </a:lnTo>
                    <a:lnTo>
                      <a:pt x="78027" y="156052"/>
                    </a:lnTo>
                    <a:lnTo>
                      <a:pt x="0" y="96446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"/>
              <p:cNvSpPr/>
              <p:nvPr/>
            </p:nvSpPr>
            <p:spPr>
              <a:xfrm flipV="1">
                <a:off x="2784240" y="3305160"/>
                <a:ext cx="223560" cy="30456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3"/>
              <p:cNvSpPr/>
              <p:nvPr/>
            </p:nvSpPr>
            <p:spPr>
              <a:xfrm>
                <a:off x="2631600" y="3000240"/>
                <a:ext cx="1371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400" spc="-1" strike="noStrike">
                    <a:solidFill>
                      <a:srgbClr val="660066"/>
                    </a:solidFill>
                    <a:latin typeface="Arial"/>
                    <a:ea typeface="ＭＳ Ｐゴシック"/>
                  </a:rPr>
                  <a:t>Abril M7.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"/>
              <p:cNvSpPr/>
              <p:nvPr/>
            </p:nvSpPr>
            <p:spPr>
              <a:xfrm flipH="1">
                <a:off x="2250360" y="3914640"/>
                <a:ext cx="223560" cy="30456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1440" bIns="9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3"/>
              <p:cNvSpPr/>
              <p:nvPr/>
            </p:nvSpPr>
            <p:spPr>
              <a:xfrm>
                <a:off x="1107360" y="4219200"/>
                <a:ext cx="1371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VE" sz="1400" spc="-1" strike="noStrike">
                    <a:solidFill>
                      <a:srgbClr val="660066"/>
                    </a:solidFill>
                    <a:latin typeface="Arial"/>
                    <a:ea typeface="ＭＳ Ｐゴシック"/>
                  </a:rPr>
                  <a:t>Abril M7.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Right Arrow 23"/>
            <p:cNvSpPr/>
            <p:nvPr/>
          </p:nvSpPr>
          <p:spPr>
            <a:xfrm rot="19747200">
              <a:off x="2354400" y="3890520"/>
              <a:ext cx="1657080" cy="86364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ff66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5"/>
            <p:cNvSpPr/>
            <p:nvPr/>
          </p:nvSpPr>
          <p:spPr>
            <a:xfrm rot="19753200">
              <a:off x="2564280" y="4099680"/>
              <a:ext cx="140760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1600" spc="-1" strike="noStrike">
                  <a:solidFill>
                    <a:srgbClr val="660066"/>
                  </a:solidFill>
                  <a:latin typeface="Arial"/>
                  <a:ea typeface="ＭＳ Ｐゴシック"/>
                </a:rPr>
                <a:t>95 mm/ a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4"/>
          <p:cNvSpPr/>
          <p:nvPr/>
        </p:nvSpPr>
        <p:spPr>
          <a:xfrm>
            <a:off x="6278400" y="996840"/>
            <a:ext cx="27892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  <a:ea typeface="Arial"/>
              </a:rPr>
              <a:t>Estos terremotos ocurrieron a lo largo de una porción del límite de Placas Australiana -  Pacífico, que cambia de tectónicas de empuje a tectónicas transformantes entre la Fosa de Salomón, al noroeste, y la Fosa de Nuevas Hébrides más al es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500" spc="-1" strike="noStrike">
                <a:solidFill>
                  <a:srgbClr val="000000"/>
                </a:solidFill>
                <a:latin typeface="Arial"/>
                <a:ea typeface="Arial"/>
              </a:rPr>
              <a:t>Según el Servicio Geológico de los EE.UU.,  el terremoto transformante M7.6 probablemente representó un fallado del límite de Placa Australia – Pacífico, mientras que el terremoto M7.4 está situado al sur del límite de placa y puede representar el desgarro de la Placa Australiana para dar cabida a esta transición de interac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25520" y="6489720"/>
            <a:ext cx="871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  <a:ea typeface="Arial"/>
              </a:rPr>
              <a:t>La flecha grande muestra el movimiento relativo de la Placa Australiana con respecto a la placa del Pacíf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8"/>
          <p:cNvSpPr/>
          <p:nvPr/>
        </p:nvSpPr>
        <p:spPr>
          <a:xfrm>
            <a:off x="228600" y="5715000"/>
            <a:ext cx="464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Solución Tensor  Momento Sísmico Centroide US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eje de tensión (punto blanco) refleja la dirección mínima del esfuerzo de compresión. El eje de presión (punto negro) refleja la dirección del esfuerzo máximo de compres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228600" y="1089000"/>
            <a:ext cx="18558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5025960" y="2309760"/>
            <a:ext cx="3965760" cy="191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"/>
          <p:cNvPicPr/>
          <p:nvPr/>
        </p:nvPicPr>
        <p:blipFill>
          <a:blip r:embed="rId4"/>
          <a:stretch/>
        </p:blipFill>
        <p:spPr>
          <a:xfrm>
            <a:off x="4867200" y="4616280"/>
            <a:ext cx="3828960" cy="1662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5"/>
          <a:stretch/>
        </p:blipFill>
        <p:spPr>
          <a:xfrm>
            <a:off x="239760" y="3562200"/>
            <a:ext cx="1920960" cy="1925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160720" y="1104840"/>
            <a:ext cx="683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El mecanismo focal del terremoto M7.6 fue un fallado transformante casi en su totalidad. Debido a que el plano nodal orientado NO-SE es casi paralelo al límite entre las Placas de Australia y del Pacífico en esta ubicación, es muy probable que el plano de falla y esto fue un terremoto de desgarre lateral izquier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2212920" y="3006720"/>
            <a:ext cx="29685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El mecanismo focal M7.4 indica fallado inverso en un plano de falla orientada ONO - ESE. El movimiento relativo de las Placas Australiana y del Pacífico es oblicuo con respecto al límite de placa “transformante” que causa un componente de compre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358920" y="2989440"/>
            <a:ext cx="66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7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58920" y="5408640"/>
            <a:ext cx="66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7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2158920" y="1049400"/>
            <a:ext cx="6848640" cy="5634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8"/>
          <p:cNvSpPr/>
          <p:nvPr/>
        </p:nvSpPr>
        <p:spPr>
          <a:xfrm>
            <a:off x="239760" y="5105520"/>
            <a:ext cx="1832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lejidades de la tectónica regional, envolviendo  la convergencia de las Placas de Australia y del Pacíf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962520" y="34066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Imagen y texto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31840" y="1209600"/>
            <a:ext cx="4187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Arial"/>
                <a:ea typeface="Arial"/>
              </a:rPr>
              <a:t>Las secuencias de réplicas siguen patrones predecibles como un grupo, aunque los terremotos individuales por sí mismos no son predecibles. El gráfico muestra como el número de réplicas y las magnitudes de las réplicas decaen al incrementarse el tiempo desde el sismo principal. El número de réplicas también disminuye con la distancia desde el sismo princip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usgs.jpg"/>
          <p:cNvPicPr/>
          <p:nvPr/>
        </p:nvPicPr>
        <p:blipFill>
          <a:blip r:embed="rId2"/>
          <a:stretch/>
        </p:blipFill>
        <p:spPr>
          <a:xfrm>
            <a:off x="4587840" y="993600"/>
            <a:ext cx="4175280" cy="2470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3"/>
          <a:stretch/>
        </p:blipFill>
        <p:spPr>
          <a:xfrm>
            <a:off x="378000" y="3871800"/>
            <a:ext cx="4174920" cy="243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4627440" y="3879720"/>
            <a:ext cx="4149720" cy="2430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297000" y="6353280"/>
            <a:ext cx="88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Sismicidad Regional 11 de Abril, 2013 – 11 de Abril 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4567320" y="6400800"/>
            <a:ext cx="40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Sismicidad Regional 12-14 de Abril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5"/>
          <a:stretch/>
        </p:blipFill>
        <p:spPr>
          <a:xfrm>
            <a:off x="8445600" y="4249800"/>
            <a:ext cx="426960" cy="2228760"/>
          </a:xfrm>
          <a:prstGeom prst="rect">
            <a:avLst/>
          </a:prstGeom>
          <a:ln w="0">
            <a:noFill/>
          </a:ln>
        </p:spPr>
      </p:pic>
      <p:sp>
        <p:nvSpPr>
          <p:cNvPr id="160" name="Title 1"/>
          <p:cNvSpPr/>
          <p:nvPr/>
        </p:nvSpPr>
        <p:spPr>
          <a:xfrm>
            <a:off x="1233360" y="30240"/>
            <a:ext cx="78994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.6 &amp; 7.4 ISLAS SALOMÓN</a:t>
            </a:r>
            <a:br>
              <a:rPr sz="39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Sábado, 12 de Abril, 2014 a las 20:14:39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Domingo, 13 de Abril, 2014 a las 12:36:18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Kate</cp:lastModifiedBy>
  <dcterms:modified xsi:type="dcterms:W3CDTF">2014-04-14T06:10:42Z</dcterms:modified>
  <cp:revision>639</cp:revision>
  <dc:subject/>
  <dc:title>Slide 1</dc:title>
</cp:coreProperties>
</file>