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957A-06C3-431B-B164-24CAE57AC1E3}" type="datetime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8960-40F8-4775-9727-ACD0DF9C6353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6133-6B7F-4D82-B881-F37A252AA643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Escalas de intensidad de movimiento fueron desarrolladas para estandarizar las mediciones y facilitar la comparación de diferentes terremotos. La modificación de la escala de intensidad de Marcelli una escala de doce niveles, numeradas del  I al XII. Los números bajos representan los niveles de movimientos imperceptibles, XII representa destrucción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3B53-8A16-4210-8D73-6CB301D46F42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393996"/>
                </a:solidFill>
                <a:latin typeface="Calibri"/>
              </a:rPr>
              <a:t>Animación Relevan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300" spc="-1" strike="noStrike">
                <a:solidFill>
                  <a:srgbClr val="000000"/>
                </a:solidFill>
                <a:latin typeface="Calibri"/>
              </a:rPr>
              <a:t>Mecanismo focal de un terremoto? </a:t>
            </a: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http://www.iris.edu/hq/programs/education_and_outreach/animations/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smo-tect</a:t>
            </a: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a Regional de Alaska:  http://www.iris.edu/hq/programs/education_and_outreach/animations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3996"/>
                </a:solidFill>
                <a:latin typeface="Calibri"/>
              </a:rPr>
              <a:t>Relevant Anim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arthquake focal mechanisms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ris.edu/hq/programs/education_and_outreach/animations/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ska Regional Seismotectonics Animation:  http://www.iris.edu/hq/programs/education_and_outreach/animations/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63CD-D0DD-4D50-B503-10B6E7D2347B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000000"/>
                </a:solidFill>
                <a:latin typeface="Calibri"/>
              </a:rPr>
              <a:t>Explora la sismicidad con mas detalles:  </a:t>
            </a: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Imagen tomada del Visualizador de Terremotos de IRIS (www.iris.edu/ie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93A8-A7D7-41F0-90B4-42BB5BB80E38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F2C0-E0BB-47F6-AA9D-E33E4D26FFE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668D-47AB-49BA-B6FB-B36AE0F1FF94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D37F-0DB8-4094-84CB-FA36A6F6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430-1980-48B2-AB33-58F6F30A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BCAA-C95C-4F4B-B283-EC328F5F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BFA-19A9-4EE5-A8AE-57EA1205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B1CD-2D0D-41DC-9794-8009EC67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5056-054F-41CD-A03A-CFC62639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C91-2AB8-40C4-B482-2D65F405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D3CE-A391-4D94-9AC7-56673D16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0C86-340B-435B-A900-F98E0DEE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65E-4CF6-4AFD-9A5E-5457A155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2BC-8FE3-4D85-A7E2-FF781109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6F3-E931-41C4-825A-4C531C22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1EDC-9407-473C-BD75-D706AFC6E2EA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4E33-4C48-45ED-8F54-9B78AA2E7FE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7162920" y="139680"/>
            <a:ext cx="1854000" cy="1854360"/>
          </a:xfrm>
          <a:prstGeom prst="rect">
            <a:avLst/>
          </a:prstGeom>
          <a:ln w="0">
            <a:noFill/>
          </a:ln>
        </p:spPr>
      </p:pic>
      <p:sp>
        <p:nvSpPr>
          <p:cNvPr id="51" name="5-Point Star 6"/>
          <p:cNvSpPr/>
          <p:nvPr/>
        </p:nvSpPr>
        <p:spPr>
          <a:xfrm>
            <a:off x="5334120" y="1371600"/>
            <a:ext cx="75960" cy="76320"/>
          </a:xfrm>
          <a:custGeom>
            <a:avLst/>
            <a:gdLst/>
            <a:ahLst/>
            <a:rect l="l" t="t" r="r" b="b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lnTo>
                  <a:pt x="0" y="291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399960" y="2362320"/>
            <a:ext cx="8286840" cy="4440240"/>
            <a:chOff x="399960" y="2362320"/>
            <a:chExt cx="8286840" cy="4440240"/>
          </a:xfrm>
        </p:grpSpPr>
        <p:pic>
          <p:nvPicPr>
            <p:cNvPr id="53" name="Picture 5" descr=""/>
            <p:cNvPicPr/>
            <p:nvPr/>
          </p:nvPicPr>
          <p:blipFill>
            <a:blip r:embed="rId3"/>
            <a:stretch/>
          </p:blipFill>
          <p:spPr>
            <a:xfrm>
              <a:off x="2971440" y="4126320"/>
              <a:ext cx="5715360" cy="26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" descr=""/>
            <p:cNvPicPr/>
            <p:nvPr/>
          </p:nvPicPr>
          <p:blipFill>
            <a:blip r:embed="rId4"/>
            <a:stretch/>
          </p:blipFill>
          <p:spPr>
            <a:xfrm>
              <a:off x="399960" y="2362320"/>
              <a:ext cx="4496040" cy="29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5-Point Star 16"/>
            <p:cNvSpPr/>
            <p:nvPr/>
          </p:nvSpPr>
          <p:spPr>
            <a:xfrm>
              <a:off x="3531960" y="6062760"/>
              <a:ext cx="75960" cy="75960"/>
            </a:xfrm>
            <a:custGeom>
              <a:avLst/>
              <a:gdLst/>
              <a:ahLst/>
              <a:rect l="l" t="t" r="r" b="b"/>
              <a:pathLst>
                <a:path w="76195" h="76206">
                  <a:moveTo>
                    <a:pt x="0" y="29108"/>
                  </a:moveTo>
                  <a:lnTo>
                    <a:pt x="29104" y="29108"/>
                  </a:lnTo>
                  <a:lnTo>
                    <a:pt x="38098" y="0"/>
                  </a:lnTo>
                  <a:lnTo>
                    <a:pt x="47091" y="29108"/>
                  </a:lnTo>
                  <a:lnTo>
                    <a:pt x="76195" y="29108"/>
                  </a:lnTo>
                  <a:lnTo>
                    <a:pt x="52649" y="47098"/>
                  </a:lnTo>
                  <a:lnTo>
                    <a:pt x="61643" y="76206"/>
                  </a:lnTo>
                  <a:lnTo>
                    <a:pt x="38098" y="58216"/>
                  </a:lnTo>
                  <a:lnTo>
                    <a:pt x="14552" y="76206"/>
                  </a:lnTo>
                  <a:lnTo>
                    <a:pt x="23546" y="47098"/>
                  </a:lnTo>
                  <a:lnTo>
                    <a:pt x="0" y="29108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14"/>
          <p:cNvSpPr/>
          <p:nvPr/>
        </p:nvSpPr>
        <p:spPr>
          <a:xfrm>
            <a:off x="316080" y="5410080"/>
            <a:ext cx="240804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700" spc="-1" strike="noStrike">
                <a:solidFill>
                  <a:srgbClr val="000000"/>
                </a:solidFill>
                <a:latin typeface="Arial"/>
              </a:rPr>
              <a:t>El terremoto ocurrió a una profundidad de 108km, por lo tanto no hubo alerta de tsunam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380880" y="990720"/>
            <a:ext cx="6685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700" spc="-1" strike="noStrike">
                <a:solidFill>
                  <a:srgbClr val="000000"/>
                </a:solidFill>
                <a:latin typeface="Arial"/>
              </a:rPr>
              <a:t>Un Fuerte terremoto de magnitud 7.9 ocurrió en el área remota de las volcánicas Islas Aleutianas.  El epicentro (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VE" sz="1700" spc="-1" strike="noStrike">
                <a:solidFill>
                  <a:srgbClr val="000000"/>
                </a:solidFill>
                <a:latin typeface="Arial"/>
              </a:rPr>
              <a:t>) fue localizado 19 km (11 millas) ESE de la Pequeña Isla Sitkin, Alaska, mientras que la profundidad fue 108 km debajo de la superficie de la tierr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5008680" y="2298600"/>
            <a:ext cx="3678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Vista Este de las Isla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vostof y  Davidof </a:t>
            </a: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(más cercana y en el medio), la Pequeña Sitkin en el horizo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Imagen cortesía de AVO/Servicio Geológico de los EE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.9 ISLAS ALEUTIANAS, ALASK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Lunes,  23 de Junio, 2014 a las 20:15:10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239760" y="1066680"/>
            <a:ext cx="372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La modificación de la escala de intensidad de  Marcelli una escala de doce niveles, numeradas del  I al XII, que indica la severidad de un movimiento telúr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Arial"/>
              </a:rPr>
              <a:t>Fuertes movimientos se hubiesen sentido a lo largo de las Islas R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>
            <a:off x="3948120" y="1138320"/>
            <a:ext cx="4952880" cy="4819680"/>
          </a:xfrm>
          <a:prstGeom prst="rect">
            <a:avLst/>
          </a:prstGeom>
          <a:ln w="0">
            <a:noFill/>
          </a:ln>
        </p:spPr>
      </p:pic>
      <p:sp>
        <p:nvSpPr>
          <p:cNvPr id="64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.9 ISLAS ALEUTIANAS, ALASK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Lunes,  23 de Junio, 2014 a las 20:15:10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152280" y="655020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Imagen Cortesía del Servicio Geológico de los EE.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scale.jpg"/>
          <p:cNvPicPr/>
          <p:nvPr/>
        </p:nvPicPr>
        <p:blipFill>
          <a:blip r:embed="rId3"/>
          <a:stretch/>
        </p:blipFill>
        <p:spPr>
          <a:xfrm>
            <a:off x="380880" y="3984480"/>
            <a:ext cx="2127240" cy="2319480"/>
          </a:xfrm>
          <a:prstGeom prst="rect">
            <a:avLst/>
          </a:prstGeom>
          <a:ln w="0">
            <a:noFill/>
          </a:ln>
        </p:spPr>
      </p:pic>
      <p:sp>
        <p:nvSpPr>
          <p:cNvPr id="67" name="TextBox 13"/>
          <p:cNvSpPr/>
          <p:nvPr/>
        </p:nvSpPr>
        <p:spPr>
          <a:xfrm>
            <a:off x="271440" y="368604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000000"/>
                </a:solidFill>
                <a:latin typeface="Arial"/>
              </a:rPr>
              <a:t>Intensidad de Mercalli modific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2576520" y="3527280"/>
            <a:ext cx="153828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Percibi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Temb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c00000"/>
                </a:solidFill>
                <a:latin typeface="Arial"/>
              </a:rPr>
              <a:t>Extre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Arial"/>
              </a:rPr>
              <a:t>Viol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</a:rPr>
              <a:t>Sev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</a:rPr>
              <a:t>Muy 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00"/>
                </a:solidFill>
                <a:latin typeface="Arial"/>
              </a:rPr>
              <a:t>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Mode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Lig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Déb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Imper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4038480" y="6095880"/>
            <a:ext cx="56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USGS Intensidad de Movimiento Estimada del Terremoto M7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7"/>
          <p:cNvSpPr/>
          <p:nvPr/>
        </p:nvSpPr>
        <p:spPr>
          <a:xfrm>
            <a:off x="228600" y="1179360"/>
            <a:ext cx="42670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700" spc="-1" strike="noStrike">
                <a:solidFill>
                  <a:srgbClr val="000000"/>
                </a:solidFill>
                <a:latin typeface="Arial"/>
              </a:rPr>
              <a:t>El terremoto del 23 de Junio fue el resultado de un fallado Oblicuo-Normal a una profundidad aproximada de 108 km. Esto es probablemente dentro de la Placa del Pacífico que se subde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700" spc="-1" strike="noStrike">
                <a:solidFill>
                  <a:srgbClr val="000000"/>
                </a:solidFill>
                <a:latin typeface="Arial"/>
              </a:rPr>
              <a:t>El la localización de este terremoto, la Placa del Pacífico se subduce oblicuamente hacia el noroeste debajo de la Placa de Norteamérica a una velocidad de aproximadamente 75mm/ año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2498760" y="5479920"/>
            <a:ext cx="597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El eje de tensión (punto blanco) refleja la dirección del estrés compresivo mínimo. El eje de presión (punto negro) refleja la dirección del estrés compresivo máxi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380880" y="640080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Solución Tensor  Momento Sísmico Centroide US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8"/>
          <p:cNvSpPr/>
          <p:nvPr/>
        </p:nvSpPr>
        <p:spPr>
          <a:xfrm>
            <a:off x="4495680" y="4962600"/>
            <a:ext cx="42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Tectónica Regional de Alas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239760" y="4218120"/>
            <a:ext cx="2124000" cy="1990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4602240" y="1189080"/>
            <a:ext cx="3890880" cy="3749760"/>
          </a:xfrm>
          <a:prstGeom prst="rect">
            <a:avLst/>
          </a:prstGeom>
          <a:ln w="0">
            <a:noFill/>
          </a:ln>
        </p:spPr>
      </p:pic>
      <p:sp>
        <p:nvSpPr>
          <p:cNvPr id="78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.9 ISLAS ALEUTIANAS, ALASK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Lunes,  23 de Junio, 2014 a las 20:15:10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8"/>
          <p:cNvSpPr/>
          <p:nvPr/>
        </p:nvSpPr>
        <p:spPr>
          <a:xfrm>
            <a:off x="228600" y="1828800"/>
            <a:ext cx="4422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239760" y="914400"/>
            <a:ext cx="853452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700" spc="-1" strike="noStrike">
                <a:solidFill>
                  <a:srgbClr val="000000"/>
                </a:solidFill>
                <a:latin typeface="Arial"/>
              </a:rPr>
              <a:t>De acuerdo con el Servicio Geológico de los EEUU, 26 eventos M7 y mayores han ocurrido dentro de un radio de 250 km desde 1900. Eventos notables incluyen un M8.4 en 1906, un M8.7 en 1965 y un M7.9 en 1996. A diferencia del terremoto del 23 de Junio, muchos de estos eventos de gran magnitud ocurrieron a profundidades menores a lo largo de la interfaz entre las Placas del Pacífico y Norteamérica. El evento de 1965 M8.7 generó un tsunami destructivo que fue observado a lo largo de la Cuenca del Pacífico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7"/>
          <p:cNvCxnSpPr/>
          <p:nvPr/>
        </p:nvCxnSpPr>
        <p:spPr>
          <a:xfrm flipV="1">
            <a:off x="4038120" y="5333400"/>
            <a:ext cx="381960" cy="2293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4" name="Rectangle 8"/>
          <p:cNvSpPr/>
          <p:nvPr/>
        </p:nvSpPr>
        <p:spPr>
          <a:xfrm>
            <a:off x="3513960" y="5438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7" descr="AleutianIEB.tiff"/>
          <p:cNvPicPr/>
          <p:nvPr/>
        </p:nvPicPr>
        <p:blipFill>
          <a:blip r:embed="rId2"/>
          <a:stretch/>
        </p:blipFill>
        <p:spPr>
          <a:xfrm>
            <a:off x="1600200" y="2857680"/>
            <a:ext cx="5710320" cy="3886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" descr=""/>
          <p:cNvPicPr/>
          <p:nvPr/>
        </p:nvPicPr>
        <p:blipFill>
          <a:blip r:embed="rId3"/>
          <a:stretch/>
        </p:blipFill>
        <p:spPr>
          <a:xfrm>
            <a:off x="7421400" y="4495680"/>
            <a:ext cx="430200" cy="2248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9"/>
          <p:cNvSpPr/>
          <p:nvPr/>
        </p:nvSpPr>
        <p:spPr>
          <a:xfrm>
            <a:off x="2562120" y="472752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23 de Junio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20"/>
          <p:cNvCxnSpPr/>
          <p:nvPr/>
        </p:nvCxnSpPr>
        <p:spPr>
          <a:xfrm>
            <a:off x="3276360" y="5035680"/>
            <a:ext cx="533880" cy="908640"/>
          </a:xfrm>
          <a:prstGeom prst="straightConnector1">
            <a:avLst/>
          </a:prstGeom>
          <a:ln w="255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89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.9 ISLAS ALEUTIANAS, ALASK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Lunes,  23 de Junio, 2014 a las 20:15:10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20140623 AK TT.jpg"/>
          <p:cNvPicPr/>
          <p:nvPr/>
        </p:nvPicPr>
        <p:blipFill>
          <a:blip r:embed="rId1"/>
          <a:srcRect l="0" t="5005" r="1666" b="5133"/>
          <a:stretch/>
        </p:blipFill>
        <p:spPr>
          <a:xfrm>
            <a:off x="190440" y="2070000"/>
            <a:ext cx="889956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685800" y="1905120"/>
            <a:ext cx="73328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Seguido del terremoto, las ondas compresionales  P se tomaron 7 minutos y 20 segundos en viajar una trayectoria curva a través hasta Portland, Oreg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2436840" y="3624120"/>
            <a:ext cx="6629400" cy="13726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Las ondas de superficie, ambas Love and Rayleigh, viajaron 3836 km (2382 millas) a lo largo del perímetro de la Tierra desde el terremoto hasta la estación de registro. El tiempo de viaje de las ondas de superficie fue de aproximadamente 20 minutos.</a:t>
            </a:r>
            <a:r>
              <a:rPr b="0" lang="es-VE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Debido a que este terremoto ocurrió a mas de 100km debajo de la superficie de la tierra, solo un pequeño porcentaje de energía sísmica fue radiada desde el terremoto como ondas superfici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239760" y="1163520"/>
            <a:ext cx="859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El registro del terremoto observado en el sismógrafo de la Universidad de Portland (UPOR) es ilustrado en la parte inferior. Portland está ubicada aproximadamente 4226 km (2626 millas, 38.07°) desde la localización de este terremo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2963880" y="2405160"/>
            <a:ext cx="4892760" cy="946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Ondas S son ondas cortantes que siguen la misma trayectoria a través del manto como las ondas P. Las ondas S se tomaron 13 minutos y 14 segundos en viajar desde el terremoto hasta Portl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.9 ISLAS ALEUTIANAS, ALASK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Lunes,  23 de Junio, 2014 a las 20:15:10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2"/>
          <a:stretch/>
        </p:blipFill>
        <p:spPr>
          <a:xfrm>
            <a:off x="6210360" y="5181480"/>
            <a:ext cx="2705040" cy="1435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503280" y="5334120"/>
            <a:ext cx="1460520" cy="1150920"/>
          </a:xfrm>
          <a:prstGeom prst="rect">
            <a:avLst/>
          </a:prstGeom>
          <a:ln w="0">
            <a:noFill/>
          </a:ln>
        </p:spPr>
      </p:pic>
      <p:sp>
        <p:nvSpPr>
          <p:cNvPr id="102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.9 ISLAS ALEUTIANAS, ALASK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Lunes,  23 de Junio, 2014 a las 20:15:10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762120" y="2408400"/>
            <a:ext cx="785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93996"/>
                </a:solidFill>
                <a:latin typeface="Arial"/>
              </a:rPr>
              <a:t>Momentos de Enseñanzas son servicio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ducación IRIS &amp; Alcance Públ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La Universidad de Port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4"/>
          <a:stretch/>
        </p:blipFill>
        <p:spPr>
          <a:xfrm>
            <a:off x="3798720" y="5400720"/>
            <a:ext cx="120024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9:47:03Z</dcterms:created>
  <dc:creator>tkb</dc:creator>
  <dc:description/>
  <dc:language>en-US</dc:language>
  <cp:lastModifiedBy>Kate</cp:lastModifiedBy>
  <dcterms:modified xsi:type="dcterms:W3CDTF">2014-06-24T23:12:27Z</dcterms:modified>
  <cp:revision>702</cp:revision>
  <dc:subject/>
  <dc:title>Slide 1</dc:title>
</cp:coreProperties>
</file>