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D9C6-43AD-4033-AFD3-CDDA49C948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iris.edu/hq/programs/education_and_outreach/animations#K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4965-42F4-457D-96C4-52A59ACA43C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king intensity scales were developed to standardize the measurements and ease comparison of different earthquakes. The Modified-Mercalli Intensity scale is a twelve-stage scale, from I to XII.  Lower numbers represent imperceptible shaking while XII represents total destr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43A3-82DD-4608-8EDF-FC562994B7F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the seismicity further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age from IRIS Earthquake Browser (www.iris.edu/ie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3996"/>
                </a:solidFill>
                <a:latin typeface="Calibri"/>
                <a:ea typeface="ＭＳ Ｐゴシック"/>
              </a:rPr>
              <a:t>Relevant Animations: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rthquake focal mechanisms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age Capti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ension axis (white dot) reflects the minimum compressive stress direction.  The pressure axis (black dot) reflects the maximum compressive stress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733A-F76A-422F-9942-6283AA29F82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3996"/>
                </a:solidFill>
                <a:latin typeface="Calibri"/>
              </a:rPr>
              <a:t>Relevant Anim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re do travel-time curves come from?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ris.edu/hq/programs/education_and_outreach/animations#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F70A-2A55-4B72-A1DC-DC02DEC56A1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936B-4665-4143-B4D5-B7BD03A6F9D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E35-226F-43E0-A987-F0694C13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0F3-71FE-4C74-8793-CAD422EB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C4C-30E3-4BDE-A82D-36865DD4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D4C-8F55-4516-AFAD-2917FE9C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72E-538A-40E2-B888-C1EE0219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10A-BA29-4DFA-9425-095703F0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7C7-8266-4160-B2B3-4702B595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5CA-C10E-4FAF-AC6C-A363AC23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518-D7E7-4753-AD80-3F947FF8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75D-369E-48A2-87AE-5274916F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87E-DEB3-472F-AF42-E855910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EDE-D8F3-49B1-B58B-5155EB61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EDF7-9E43-4C5B-967A-B49A978F0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249120" y="1066680"/>
            <a:ext cx="69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major magnitude 7.1 earthquake occurred near the intersection of the Pacific, Nazca and Antarctic Plates. The epicenter (    ) was located ~3000 km off the Chilean co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-Point Star 6"/>
          <p:cNvSpPr/>
          <p:nvPr/>
        </p:nvSpPr>
        <p:spPr>
          <a:xfrm>
            <a:off x="6262560" y="1490760"/>
            <a:ext cx="76320" cy="75960"/>
          </a:xfrm>
          <a:custGeom>
            <a:avLst/>
            <a:gdLst/>
            <a:ahLst/>
            <a:rect l="l" t="t" r="r" b="b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lnTo>
                  <a:pt x="0" y="291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7191360" y="104760"/>
            <a:ext cx="1847880" cy="1800360"/>
          </a:xfrm>
          <a:prstGeom prst="rect">
            <a:avLst/>
          </a:prstGeom>
          <a:ln w="0">
            <a:noFill/>
          </a:ln>
        </p:spPr>
      </p:pic>
      <p:sp>
        <p:nvSpPr>
          <p:cNvPr id="53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1 SOUTHERN EAST PACIFIC RIS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Thursday,  October 9, 2014 at 02:14:3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39760" y="2133720"/>
            <a:ext cx="859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location of the earthquake, the Nazca Plate diverges from the Pacific Plate at a rate of 15 cm/yr, in a direction slightly south of due east. This earthquake occurred near the northern bound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Juan Fernandez Micropl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is itself moving in a clock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4229280" y="3048120"/>
            <a:ext cx="4782960" cy="3514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3"/>
          <p:cNvGrpSpPr/>
          <p:nvPr/>
        </p:nvGrpSpPr>
        <p:grpSpPr>
          <a:xfrm>
            <a:off x="355680" y="4160880"/>
            <a:ext cx="5283000" cy="1878120"/>
            <a:chOff x="355680" y="4160880"/>
            <a:chExt cx="5283000" cy="1878120"/>
          </a:xfrm>
        </p:grpSpPr>
        <p:pic>
          <p:nvPicPr>
            <p:cNvPr id="57" name="Picture 5" descr=""/>
            <p:cNvPicPr/>
            <p:nvPr/>
          </p:nvPicPr>
          <p:blipFill>
            <a:blip r:embed="rId4"/>
            <a:stretch/>
          </p:blipFill>
          <p:spPr>
            <a:xfrm>
              <a:off x="355680" y="4160880"/>
              <a:ext cx="352404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8"/>
            <p:cNvSpPr/>
            <p:nvPr/>
          </p:nvSpPr>
          <p:spPr>
            <a:xfrm>
              <a:off x="4724280" y="5257800"/>
              <a:ext cx="914400" cy="4572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Straight Connector 11"/>
          <p:cNvSpPr/>
          <p:nvPr/>
        </p:nvSpPr>
        <p:spPr>
          <a:xfrm>
            <a:off x="3879720" y="4165560"/>
            <a:ext cx="1758960" cy="110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5"/>
          <p:cNvSpPr/>
          <p:nvPr/>
        </p:nvSpPr>
        <p:spPr>
          <a:xfrm flipV="1">
            <a:off x="3879720" y="5724360"/>
            <a:ext cx="1758960" cy="322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55680" y="4141800"/>
            <a:ext cx="3524040" cy="188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5592600" y="5086440"/>
            <a:ext cx="10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Arial"/>
              </a:rPr>
              <a:t>Juan Fernandez Micro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20"/>
          <p:cNvCxnSpPr/>
          <p:nvPr/>
        </p:nvCxnSpPr>
        <p:spPr>
          <a:xfrm flipH="1">
            <a:off x="5181120" y="5249520"/>
            <a:ext cx="45792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5-Point Star 29"/>
          <p:cNvSpPr/>
          <p:nvPr/>
        </p:nvSpPr>
        <p:spPr>
          <a:xfrm>
            <a:off x="1913040" y="4903920"/>
            <a:ext cx="75960" cy="75960"/>
          </a:xfrm>
          <a:custGeom>
            <a:avLst/>
            <a:gdLst/>
            <a:ahLst/>
            <a:rect l="l" t="t" r="r" b="b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lnTo>
                  <a:pt x="0" y="291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22"/>
          <p:cNvSpPr/>
          <p:nvPr/>
        </p:nvSpPr>
        <p:spPr>
          <a:xfrm>
            <a:off x="355680" y="6180120"/>
            <a:ext cx="711000" cy="0"/>
          </a:xfrm>
          <a:prstGeom prst="line">
            <a:avLst/>
          </a:prstGeom>
          <a:ln w="3168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32"/>
          <p:cNvSpPr/>
          <p:nvPr/>
        </p:nvSpPr>
        <p:spPr>
          <a:xfrm>
            <a:off x="353880" y="6450120"/>
            <a:ext cx="711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366840" y="6705720"/>
            <a:ext cx="711000" cy="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1104840" y="6046920"/>
            <a:ext cx="31244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vergent plate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ergent plate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 plate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scale.jpg"/>
          <p:cNvPicPr/>
          <p:nvPr/>
        </p:nvPicPr>
        <p:blipFill>
          <a:blip r:embed="rId1"/>
          <a:stretch/>
        </p:blipFill>
        <p:spPr>
          <a:xfrm>
            <a:off x="380880" y="397656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13"/>
          <p:cNvSpPr/>
          <p:nvPr/>
        </p:nvSpPr>
        <p:spPr>
          <a:xfrm>
            <a:off x="271440" y="366876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ified Mercalli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2576520" y="3429000"/>
            <a:ext cx="121932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cei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Extr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Vio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Arial"/>
                <a:ea typeface="Arial"/>
              </a:rPr>
              <a:t>Sev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Arial"/>
                <a:ea typeface="Arial"/>
              </a:rPr>
              <a:t>Very 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F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257040" y="1131840"/>
            <a:ext cx="353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dified-Mercalli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e is a twelve-stage scale, from I to XII, that indicates the severity of ground sha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remote location, no one was shaken by this earthqu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5"/>
          <p:cNvSpPr/>
          <p:nvPr/>
        </p:nvSpPr>
        <p:spPr>
          <a:xfrm>
            <a:off x="152280" y="655020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 courtesy of the US Geological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4238640" y="62452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GS Estimated shaking Intensity from M 7.1 Earthqu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3"/>
          <a:stretch/>
        </p:blipFill>
        <p:spPr>
          <a:xfrm>
            <a:off x="4008600" y="1322280"/>
            <a:ext cx="495432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1 SOUTHERN EAST PACIFIC RIS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Thursday,  October 9, 2014 at 02:14:3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7"/>
          <p:cNvSpPr/>
          <p:nvPr/>
        </p:nvSpPr>
        <p:spPr>
          <a:xfrm>
            <a:off x="228600" y="1092240"/>
            <a:ext cx="66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earthquake resulted from oblique thrust faulting at a depth of approximately 15.5 km.  According to the USGS, moderate sized earthquakes are not uncommon in this region, though events of this size are rare.  Fifteen other M 6+ earthquakes have occurred within 500 km of this earthquake over the past century – until today none had been larger than a M 7.0 in March 1920, 400 km south of the this earthquak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7238880" y="2357280"/>
            <a:ext cx="18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GS Centroid Moment Tensor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2095560" cy="1942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14280" y="3875040"/>
            <a:ext cx="3229200" cy="28116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11"/>
          <p:cNvGrpSpPr/>
          <p:nvPr/>
        </p:nvGrpSpPr>
        <p:grpSpPr>
          <a:xfrm>
            <a:off x="407880" y="3276720"/>
            <a:ext cx="8545680" cy="3431160"/>
            <a:chOff x="407880" y="3276720"/>
            <a:chExt cx="8545680" cy="3431160"/>
          </a:xfrm>
        </p:grpSpPr>
        <p:pic>
          <p:nvPicPr>
            <p:cNvPr id="86" name="Picture 3" descr=""/>
            <p:cNvPicPr/>
            <p:nvPr/>
          </p:nvPicPr>
          <p:blipFill>
            <a:blip r:embed="rId4"/>
            <a:stretch/>
          </p:blipFill>
          <p:spPr>
            <a:xfrm>
              <a:off x="3659040" y="3276720"/>
              <a:ext cx="5294520" cy="3180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7" name="Straight Arrow Connector 5"/>
            <p:cNvCxnSpPr/>
            <p:nvPr/>
          </p:nvCxnSpPr>
          <p:spPr>
            <a:xfrm flipH="1">
              <a:off x="6095880" y="4572000"/>
              <a:ext cx="305280" cy="305280"/>
            </a:xfrm>
            <a:prstGeom prst="straightConnector1">
              <a:avLst/>
            </a:prstGeom>
            <a:ln w="9360">
              <a:solidFill>
                <a:srgbClr val="ffc000"/>
              </a:solidFill>
              <a:miter/>
              <a:tailEnd len="med" type="triangle" w="med"/>
            </a:ln>
          </p:spPr>
        </p:cxnSp>
        <p:sp>
          <p:nvSpPr>
            <p:cNvPr id="88" name="TextBox 11"/>
            <p:cNvSpPr/>
            <p:nvPr/>
          </p:nvSpPr>
          <p:spPr>
            <a:xfrm>
              <a:off x="3580920" y="6400800"/>
              <a:ext cx="53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0 years of regional seismicity – most &lt; M 6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6355440" y="4376520"/>
              <a:ext cx="138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7.1 Earthqu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8"/>
            <p:cNvSpPr/>
            <p:nvPr/>
          </p:nvSpPr>
          <p:spPr>
            <a:xfrm>
              <a:off x="407880" y="46310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ific 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9"/>
            <p:cNvSpPr/>
            <p:nvPr/>
          </p:nvSpPr>
          <p:spPr>
            <a:xfrm>
              <a:off x="2056680" y="6262560"/>
              <a:ext cx="13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arctic 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0"/>
            <p:cNvSpPr/>
            <p:nvPr/>
          </p:nvSpPr>
          <p:spPr>
            <a:xfrm>
              <a:off x="2266920" y="43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zca 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1"/>
            <p:cNvSpPr/>
            <p:nvPr/>
          </p:nvSpPr>
          <p:spPr>
            <a:xfrm>
              <a:off x="2266920" y="518184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an Fernandez Micro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Straight Arrow Connector 10"/>
            <p:cNvCxnSpPr>
              <a:stCxn id="93" idx="1"/>
            </p:cNvCxnSpPr>
            <p:nvPr/>
          </p:nvCxnSpPr>
          <p:spPr>
            <a:xfrm flipH="1" flipV="1">
              <a:off x="1827720" y="5465520"/>
              <a:ext cx="438840" cy="40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5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1 SOUTHERN EAST PACIFIC RIS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Thursday,  October 9, 2014 at 02:14:3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239760" y="2205000"/>
            <a:ext cx="8800920" cy="4541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239760" y="1066680"/>
            <a:ext cx="875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record of the earthquake on the University of Portland AS-1 seismometer is illustrated below. Portland is about 8706 km (5409 miles, 78.44 degrees) from the location of this earthqua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419720" y="51246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ves, both Love and Rayleigh, traveled along the perimeter of the Earth from the earthquake to the recording sta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14400" y="2693880"/>
            <a:ext cx="666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took 12 minutes and 2 seconds (722 seconds) for the compressional P waves to travel a curved path through the mantle from the epicenter to Portlan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590920" y="3692520"/>
            <a:ext cx="72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 waves arrived 22 minutes (1320 seconds) after the earthqua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1 SOUTHERN EAST PACIFIC RIS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Thursday,  October 9, 2014 at 02:14:3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96"/>
                </a:solidFill>
                <a:latin typeface="Arial"/>
                <a:ea typeface="ＭＳ Ｐゴシック"/>
              </a:rPr>
              <a:t>Teachable Moments are a servi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IS Education &amp; Public Outr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University of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4"/>
          <a:stretch/>
        </p:blipFill>
        <p:spPr>
          <a:xfrm>
            <a:off x="3798720" y="5400720"/>
            <a:ext cx="1200240" cy="120636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1 SOUTHERN EAST PACIFIC RIS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Thursday,  October 9, 2014 at 02:14:3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Kate</cp:lastModifiedBy>
  <dcterms:modified xsi:type="dcterms:W3CDTF">2014-10-10T15:55:54Z</dcterms:modified>
  <cp:revision>282</cp:revision>
  <dc:subject/>
  <dc:title>Slide 1</dc:title>
</cp:coreProperties>
</file>