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2.png" ContentType="image/png"/>
  <Override PartName="/ppt/media/image5.jpeg" ContentType="image/jpeg"/>
  <Override PartName="/ppt/media/image28.jpeg" ContentType="image/jpeg"/>
  <Override PartName="/ppt/media/image7.jpeg" ContentType="image/jpeg"/>
  <Override PartName="/ppt/media/image8.jpeg" ContentType="image/jpeg"/>
  <Override PartName="/ppt/media/image29.jpeg" ContentType="image/jpeg"/>
  <Override PartName="/ppt/media/image9.jpeg" ContentType="image/jpeg"/>
  <Override PartName="/ppt/media/image4.jpeg" ContentType="image/jpeg"/>
  <Override PartName="/ppt/media/image25.png" ContentType="image/png"/>
  <Override PartName="/ppt/media/image31.jpeg" ContentType="image/jpeg"/>
  <Override PartName="/ppt/media/image27.jpeg" ContentType="image/jpeg"/>
  <Override PartName="/ppt/media/image6.jpeg" ContentType="image/jpeg"/>
  <Override PartName="/ppt/media/image10.png" ContentType="image/png"/>
  <Override PartName="/ppt/media/image13.png" ContentType="image/png"/>
  <Override PartName="/ppt/media/image2.jpeg" ContentType="image/jpeg"/>
  <Override PartName="/ppt/media/image23.jpeg" ContentType="image/jpeg"/>
  <Override PartName="/ppt/media/image12.png" ContentType="image/png"/>
  <Override PartName="/ppt/media/image30.png" ContentType="image/png"/>
  <Override PartName="/ppt/media/image3.jpeg" ContentType="image/jpeg"/>
  <Override PartName="/ppt/media/image1.png" ContentType="image/png"/>
  <Override PartName="/ppt/media/image11.jpeg" ContentType="image/jpeg"/>
  <Override PartName="/ppt/media/image24.png" ContentType="image/png"/>
  <Override PartName="/ppt/media/image14.png" ContentType="image/png"/>
  <Override PartName="/ppt/media/image15.jpeg" ContentType="image/jpeg"/>
  <Override PartName="/ppt/media/image16.jpeg" ContentType="image/jpeg"/>
  <Override PartName="/ppt/media/image17.png" ContentType="image/png"/>
  <Override PartName="/ppt/media/image18.jpeg" ContentType="image/jpeg"/>
  <Override PartName="/ppt/media/image20.jpeg" ContentType="image/jpeg"/>
  <Override PartName="/ppt/media/image19.png" ContentType="image/pn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E4E70-CE14-4938-A0B2-6721B798C19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57480" y="720720"/>
            <a:ext cx="4800600" cy="3600360"/>
          </a:xfrm>
          <a:prstGeom prst="rect">
            <a:avLst/>
          </a:prstGeom>
          <a:ln w="0">
            <a:noFill/>
          </a:ln>
        </p:spPr>
      </p:sp>
      <p:sp>
        <p:nvSpPr>
          <p:cNvPr id="24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3A4CB-39C0-4D04-8273-39708739118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9F77-A7D7-4C2A-9A83-A298C021B2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57480" y="720720"/>
            <a:ext cx="4800600" cy="3600360"/>
          </a:xfrm>
          <a:prstGeom prst="rect">
            <a:avLst/>
          </a:prstGeom>
          <a:ln w="0">
            <a:noFill/>
          </a:ln>
        </p:spPr>
      </p:sp>
      <p:sp>
        <p:nvSpPr>
          <p:cNvPr id="2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06BE-FFCB-4679-942C-A2A6AC2E4B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57480" y="720720"/>
            <a:ext cx="4800600" cy="3600360"/>
          </a:xfrm>
          <a:prstGeom prst="rect">
            <a:avLst/>
          </a:prstGeom>
          <a:ln w="0">
            <a:noFill/>
          </a:ln>
        </p:spPr>
      </p:sp>
      <p:sp>
        <p:nvSpPr>
          <p:cNvPr id="2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CF0B2-C271-449B-B822-3CEAE08FA5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7480" y="720720"/>
            <a:ext cx="4800600" cy="3600360"/>
          </a:xfrm>
          <a:prstGeom prst="rect">
            <a:avLst/>
          </a:prstGeom>
          <a:ln w="0">
            <a:noFill/>
          </a:ln>
        </p:spPr>
      </p:sp>
      <p:sp>
        <p:nvSpPr>
          <p:cNvPr id="2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A862-F419-40F8-A130-685ECCB21D1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57480" y="720720"/>
            <a:ext cx="4800600" cy="3600360"/>
          </a:xfrm>
          <a:prstGeom prst="rect">
            <a:avLst/>
          </a:prstGeom>
          <a:ln w="0">
            <a:noFill/>
          </a:ln>
        </p:spPr>
      </p:sp>
      <p:sp>
        <p:nvSpPr>
          <p:cNvPr id="2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9A028-A709-4A6F-AEDC-08D9AB6FC5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57480" y="720720"/>
            <a:ext cx="4800600" cy="3600360"/>
          </a:xfrm>
          <a:prstGeom prst="rect">
            <a:avLst/>
          </a:prstGeom>
          <a:ln w="0">
            <a:noFill/>
          </a:ln>
        </p:spPr>
      </p:sp>
      <p:sp>
        <p:nvSpPr>
          <p:cNvPr id="28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Explore aftershocks in the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A10A-0137-4A31-9E8A-6067F7DD8D7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257480" y="720720"/>
            <a:ext cx="4800600" cy="3600360"/>
          </a:xfrm>
          <a:prstGeom prst="rect">
            <a:avLst/>
          </a:prstGeom>
          <a:ln w="0">
            <a:noFill/>
          </a:ln>
        </p:spPr>
      </p:sp>
      <p:sp>
        <p:nvSpPr>
          <p:cNvPr id="2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4CB0F-4429-47C0-B86A-EB847AA535F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57480" y="720720"/>
            <a:ext cx="4800600" cy="3600360"/>
          </a:xfrm>
          <a:prstGeom prst="rect">
            <a:avLst/>
          </a:prstGeom>
          <a:ln w="0">
            <a:noFill/>
          </a:ln>
        </p:spPr>
      </p:sp>
      <p:sp>
        <p:nvSpPr>
          <p:cNvPr id="2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5D21-7BD5-48D4-82A6-88EB421866A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57480" y="720720"/>
            <a:ext cx="4800600" cy="3600360"/>
          </a:xfrm>
          <a:prstGeom prst="rect">
            <a:avLst/>
          </a:prstGeom>
          <a:ln w="0">
            <a:noFill/>
          </a:ln>
        </p:spPr>
      </p:sp>
      <p:sp>
        <p:nvSpPr>
          <p:cNvPr id="24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43F4-B2F7-42BB-9325-27DEC7375C3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57480" y="720720"/>
            <a:ext cx="4800600" cy="3600360"/>
          </a:xfrm>
          <a:prstGeom prst="rect">
            <a:avLst/>
          </a:prstGeom>
          <a:ln w="0">
            <a:noFill/>
          </a:ln>
        </p:spPr>
      </p:sp>
      <p:sp>
        <p:nvSpPr>
          <p:cNvPr id="2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E9B5-27FA-4CD8-8370-D397F161E0A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57480" y="720720"/>
            <a:ext cx="4800600" cy="3600360"/>
          </a:xfrm>
          <a:prstGeom prst="rect">
            <a:avLst/>
          </a:prstGeom>
          <a:ln w="0">
            <a:noFill/>
          </a:ln>
        </p:spPr>
      </p:sp>
      <p:sp>
        <p:nvSpPr>
          <p:cNvPr id="2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DF20F-A2B1-4A0B-A0C5-886AA7299D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57480" y="720720"/>
            <a:ext cx="4800600" cy="3600360"/>
          </a:xfrm>
          <a:prstGeom prst="rect">
            <a:avLst/>
          </a:prstGeom>
          <a:ln w="0">
            <a:noFill/>
          </a:ln>
        </p:spPr>
      </p:sp>
      <p:sp>
        <p:nvSpPr>
          <p:cNvPr id="2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B7E9A-FF0A-4F1F-8EB1-9F4AF51AF5B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57480" y="720720"/>
            <a:ext cx="4800600" cy="3600360"/>
          </a:xfrm>
          <a:prstGeom prst="rect">
            <a:avLst/>
          </a:prstGeom>
          <a:ln w="0">
            <a:noFill/>
          </a:ln>
        </p:spPr>
      </p:sp>
      <p:sp>
        <p:nvSpPr>
          <p:cNvPr id="2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rthquake focal mechanisms? </a:t>
            </a:r>
            <a:r>
              <a:rPr b="0" lang="en-US"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EB492-9AE9-422A-95F0-33157C059E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57480" y="720720"/>
            <a:ext cx="4800600" cy="3600360"/>
          </a:xfrm>
          <a:prstGeom prst="rect">
            <a:avLst/>
          </a:prstGeom>
          <a:ln w="0">
            <a:noFill/>
          </a:ln>
        </p:spPr>
      </p:sp>
      <p:sp>
        <p:nvSpPr>
          <p:cNvPr id="2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2AEF6-2A87-4945-BD88-ACC655CCBFE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57480" y="720720"/>
            <a:ext cx="4800600" cy="3600360"/>
          </a:xfrm>
          <a:prstGeom prst="rect">
            <a:avLst/>
          </a:prstGeom>
          <a:ln w="0">
            <a:noFill/>
          </a:ln>
        </p:spPr>
      </p:sp>
      <p:sp>
        <p:nvSpPr>
          <p:cNvPr id="26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s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4082-00D4-409F-A7B6-6DE5C20F6D0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31A8B-E9D1-427B-A9E0-A6CE5BACA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0284D-350E-4899-A2C1-1AE58C268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CE1E2-2092-4157-B2DE-6FDF459F4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4AA1D-CF8C-4D12-8D91-8B704F2E9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9BF34-A9D2-4C67-ACD8-06F37B0B5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9D704-CA7A-4ABC-9FBF-1B41BBD85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91C29-58A8-47AF-A2D6-7940BB3C2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4392AB-73AD-4C30-A7FB-CC5E2AA0B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68FFA-CA60-4780-9B1B-DB28C7EF9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86A17-6BB2-4719-B5D7-67B8E352C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69771-60D2-417B-B385-DA45B5B54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8708C-448A-46F1-92A8-5DFEB90A6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F008-46DE-4E58-985A-2C28BB1EA5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54160" y="1066680"/>
            <a:ext cx="7213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gnitude 7.8 earthquake occurred with an epicenter 77 km (48 miles) northwest of Kathmandu, the capital city of Nepal that is home to nearly 1.5 million inhabitants.  The earthquake flattened homes, buildings and temples, causing widespread damage across the region and killing more than 2,300 and injuring more than 5,000.</a:t>
            </a:r>
            <a:endParaRPr b="0" lang="en-US" sz="1800" spc="-1" strike="noStrike">
              <a:solidFill>
                <a:srgbClr val="000000"/>
              </a:solidFill>
              <a:latin typeface="Arial"/>
            </a:endParaRPr>
          </a:p>
        </p:txBody>
      </p:sp>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NEPAL</a:t>
            </a:r>
            <a:br>
              <a:rPr sz="3500"/>
            </a:br>
            <a:r>
              <a:rPr b="1" lang="en-US" sz="1500" spc="-1" strike="noStrike">
                <a:solidFill>
                  <a:srgbClr val="11488b"/>
                </a:solidFill>
                <a:latin typeface="Arial"/>
                <a:ea typeface="Arial"/>
              </a:rPr>
              <a:t>Saturday,  April 25, 2015 at 06:11:26 UTC </a:t>
            </a:r>
            <a:endParaRPr b="0" lang="en-US" sz="1500" spc="-1" strike="noStrike">
              <a:solidFill>
                <a:srgbClr val="000000"/>
              </a:solidFill>
              <a:latin typeface="Arial"/>
            </a:endParaRPr>
          </a:p>
        </p:txBody>
      </p:sp>
      <p:pic>
        <p:nvPicPr>
          <p:cNvPr id="52" name="Picture 4" descr=""/>
          <p:cNvPicPr/>
          <p:nvPr/>
        </p:nvPicPr>
        <p:blipFill>
          <a:blip r:embed="rId2"/>
          <a:stretch/>
        </p:blipFill>
        <p:spPr>
          <a:xfrm>
            <a:off x="7315200" y="166680"/>
            <a:ext cx="1660680" cy="1660680"/>
          </a:xfrm>
          <a:prstGeom prst="rect">
            <a:avLst/>
          </a:prstGeom>
          <a:ln w="0">
            <a:noFill/>
          </a:ln>
        </p:spPr>
      </p:pic>
      <p:sp>
        <p:nvSpPr>
          <p:cNvPr id="53" name="TextBox 1"/>
          <p:cNvSpPr/>
          <p:nvPr/>
        </p:nvSpPr>
        <p:spPr>
          <a:xfrm>
            <a:off x="270000" y="3619440"/>
            <a:ext cx="258768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scue workers remove debris as they search for victims of earthquake in Bhaktapur near Kathmandu, Nepal. A major earthquake shook Nepal's capital and the densely populated Kathmandu Valley before noon Saturday, causing extensive damage with toppled walls and collapsed buildings, officials sa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P Photo/Niranjan Shrestha)</a:t>
            </a:r>
            <a:endParaRPr b="0" lang="en-US" sz="1400" spc="-1" strike="noStrike">
              <a:solidFill>
                <a:srgbClr val="000000"/>
              </a:solidFill>
              <a:latin typeface="Arial"/>
            </a:endParaRPr>
          </a:p>
        </p:txBody>
      </p:sp>
      <p:pic>
        <p:nvPicPr>
          <p:cNvPr id="54" name="Picture 1" descr=""/>
          <p:cNvPicPr/>
          <p:nvPr/>
        </p:nvPicPr>
        <p:blipFill>
          <a:blip r:embed="rId3"/>
          <a:stretch/>
        </p:blipFill>
        <p:spPr>
          <a:xfrm>
            <a:off x="2857680" y="2608200"/>
            <a:ext cx="6143400" cy="409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M&gt;Aftershocks4:26.tiff"/>
          <p:cNvPicPr/>
          <p:nvPr/>
        </p:nvPicPr>
        <p:blipFill>
          <a:blip r:embed="rId1"/>
          <a:stretch/>
        </p:blipFill>
        <p:spPr>
          <a:xfrm>
            <a:off x="3540240" y="1200240"/>
            <a:ext cx="5486400" cy="4932360"/>
          </a:xfrm>
          <a:prstGeom prst="rect">
            <a:avLst/>
          </a:prstGeom>
          <a:ln w="28440">
            <a:solidFill>
              <a:srgbClr val="660066"/>
            </a:solidFill>
            <a:miter/>
          </a:ln>
          <a:effectLst>
            <a:outerShdw dist="38183" dir="2700000" blurRad="0" rotWithShape="0">
              <a:srgbClr val="000000">
                <a:alpha val="40000"/>
              </a:srgbClr>
            </a:outerShdw>
          </a:effectLst>
        </p:spPr>
      </p:pic>
      <p:sp>
        <p:nvSpPr>
          <p:cNvPr id="13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Box 9"/>
          <p:cNvSpPr/>
          <p:nvPr/>
        </p:nvSpPr>
        <p:spPr>
          <a:xfrm>
            <a:off x="228600" y="1066680"/>
            <a:ext cx="3141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p shows the magnitude 7.8 earthquake (mainshock) and the distribution of 40 aftershocks of magnitude 4 or larger that occurred over the following 27 hou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ftershock distribution outlines the rupture zone of the mainshock.  The rupture during the mainshock initiated beneath the epicenter and propagated toward the southea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next slide, a map of fault displacement during the earthquake is superimposed on this same map.</a:t>
            </a:r>
            <a:endParaRPr b="0" lang="en-US" sz="1800" spc="-1" strike="noStrike">
              <a:solidFill>
                <a:srgbClr val="000000"/>
              </a:solidFill>
              <a:latin typeface="Arial"/>
            </a:endParaRPr>
          </a:p>
        </p:txBody>
      </p:sp>
      <p:pic>
        <p:nvPicPr>
          <p:cNvPr id="135" name="Picture 8" descr="IRIS_TMlogo.png"/>
          <p:cNvPicPr/>
          <p:nvPr/>
        </p:nvPicPr>
        <p:blipFill>
          <a:blip r:embed="rId2"/>
          <a:stretch/>
        </p:blipFill>
        <p:spPr>
          <a:xfrm>
            <a:off x="239760" y="76320"/>
            <a:ext cx="903240" cy="927000"/>
          </a:xfrm>
          <a:prstGeom prst="rect">
            <a:avLst/>
          </a:prstGeom>
          <a:ln w="0">
            <a:noFill/>
          </a:ln>
        </p:spPr>
      </p:pic>
      <p:sp>
        <p:nvSpPr>
          <p:cNvPr id="13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NEPAL</a:t>
            </a:r>
            <a:br>
              <a:rPr sz="3500"/>
            </a:br>
            <a:r>
              <a:rPr b="1" lang="en-US" sz="1500" spc="-1" strike="noStrike">
                <a:solidFill>
                  <a:srgbClr val="11488b"/>
                </a:solidFill>
                <a:latin typeface="Arial"/>
                <a:ea typeface="Arial"/>
              </a:rPr>
              <a:t>Saturday,  April 25, 2015 at 06:11:26 UTC </a:t>
            </a:r>
            <a:endParaRPr b="0" lang="en-US" sz="1500" spc="-1" strike="noStrike">
              <a:solidFill>
                <a:srgbClr val="000000"/>
              </a:solidFill>
              <a:latin typeface="Arial"/>
            </a:endParaRPr>
          </a:p>
        </p:txBody>
      </p:sp>
      <p:sp>
        <p:nvSpPr>
          <p:cNvPr id="137" name="TextBox 21"/>
          <p:cNvSpPr/>
          <p:nvPr/>
        </p:nvSpPr>
        <p:spPr>
          <a:xfrm>
            <a:off x="3657600" y="6208560"/>
            <a:ext cx="545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 created using the IRIS Earthquake Browser:  </a:t>
            </a:r>
            <a:r>
              <a:rPr b="0" i="1" lang="en-US" sz="1400" spc="-1" strike="noStrike">
                <a:solidFill>
                  <a:srgbClr val="000000"/>
                </a:solidFill>
                <a:latin typeface="Arial"/>
              </a:rPr>
              <a:t>www.iris.edu/ieb</a:t>
            </a:r>
            <a:endParaRPr b="0" lang="en-US" sz="1400" spc="-1" strike="noStrike">
              <a:solidFill>
                <a:srgbClr val="000000"/>
              </a:solidFill>
              <a:latin typeface="Arial"/>
            </a:endParaRPr>
          </a:p>
        </p:txBody>
      </p:sp>
      <p:cxnSp>
        <p:nvCxnSpPr>
          <p:cNvPr id="138" name="Straight Arrow Connector 6"/>
          <p:cNvCxnSpPr/>
          <p:nvPr/>
        </p:nvCxnSpPr>
        <p:spPr>
          <a:xfrm flipV="1">
            <a:off x="3886200" y="3036600"/>
            <a:ext cx="457920" cy="838800"/>
          </a:xfrm>
          <a:prstGeom prst="straightConnector1">
            <a:avLst/>
          </a:prstGeom>
          <a:ln w="25560">
            <a:solidFill>
              <a:srgbClr val="ff0000"/>
            </a:solidFill>
            <a:miter/>
            <a:tailEnd len="med" type="arrow" w="med"/>
          </a:ln>
        </p:spPr>
      </p:cxnSp>
      <p:sp>
        <p:nvSpPr>
          <p:cNvPr id="139" name="TextBox 5"/>
          <p:cNvSpPr/>
          <p:nvPr/>
        </p:nvSpPr>
        <p:spPr>
          <a:xfrm>
            <a:off x="3592440" y="3875040"/>
            <a:ext cx="11257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7.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25, 2015</a:t>
            </a:r>
            <a:endParaRPr b="0" lang="en-US" sz="1200" spc="-1" strike="noStrike">
              <a:solidFill>
                <a:srgbClr val="000000"/>
              </a:solidFill>
              <a:latin typeface="Arial"/>
            </a:endParaRPr>
          </a:p>
        </p:txBody>
      </p:sp>
      <p:grpSp>
        <p:nvGrpSpPr>
          <p:cNvPr id="140" name="Group 18"/>
          <p:cNvGrpSpPr/>
          <p:nvPr/>
        </p:nvGrpSpPr>
        <p:grpSpPr>
          <a:xfrm>
            <a:off x="7668000" y="1639800"/>
            <a:ext cx="802440" cy="370080"/>
            <a:chOff x="7668000" y="1639800"/>
            <a:chExt cx="802440" cy="370080"/>
          </a:xfrm>
        </p:grpSpPr>
        <p:grpSp>
          <p:nvGrpSpPr>
            <p:cNvPr id="141" name="Group 14"/>
            <p:cNvGrpSpPr/>
            <p:nvPr/>
          </p:nvGrpSpPr>
          <p:grpSpPr>
            <a:xfrm>
              <a:off x="7696080" y="1918800"/>
              <a:ext cx="761760" cy="91080"/>
              <a:chOff x="7696080" y="1918800"/>
              <a:chExt cx="761760" cy="91080"/>
            </a:xfrm>
          </p:grpSpPr>
          <p:sp>
            <p:nvSpPr>
              <p:cNvPr id="142" name="Straight Connector 10"/>
              <p:cNvSpPr/>
              <p:nvPr/>
            </p:nvSpPr>
            <p:spPr>
              <a:xfrm>
                <a:off x="7696080" y="2009880"/>
                <a:ext cx="761760" cy="0"/>
              </a:xfrm>
              <a:prstGeom prst="line">
                <a:avLst/>
              </a:prstGeom>
              <a:ln w="3816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Straight Connector 16"/>
              <p:cNvSpPr/>
              <p:nvPr/>
            </p:nvSpPr>
            <p:spPr>
              <a:xfrm>
                <a:off x="7713360" y="1918800"/>
                <a:ext cx="0" cy="91080"/>
              </a:xfrm>
              <a:prstGeom prst="line">
                <a:avLst/>
              </a:prstGeom>
              <a:ln w="38160">
                <a:solidFill>
                  <a:srgbClr val="660066"/>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44" name="Straight Connector 17"/>
              <p:cNvSpPr/>
              <p:nvPr/>
            </p:nvSpPr>
            <p:spPr>
              <a:xfrm>
                <a:off x="8440560" y="1918800"/>
                <a:ext cx="0" cy="91080"/>
              </a:xfrm>
              <a:prstGeom prst="line">
                <a:avLst/>
              </a:prstGeom>
              <a:ln w="38160">
                <a:solidFill>
                  <a:srgbClr val="660066"/>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sp>
          <p:nvSpPr>
            <p:cNvPr id="145" name="TextBox 15"/>
            <p:cNvSpPr/>
            <p:nvPr/>
          </p:nvSpPr>
          <p:spPr>
            <a:xfrm>
              <a:off x="7668000" y="163980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20 k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8" descr="IRIS_TMlogo.png"/>
          <p:cNvPicPr/>
          <p:nvPr/>
        </p:nvPicPr>
        <p:blipFill>
          <a:blip r:embed="rId1"/>
          <a:stretch/>
        </p:blipFill>
        <p:spPr>
          <a:xfrm>
            <a:off x="239760" y="76320"/>
            <a:ext cx="903240" cy="927000"/>
          </a:xfrm>
          <a:prstGeom prst="rect">
            <a:avLst/>
          </a:prstGeom>
          <a:ln w="0">
            <a:noFill/>
          </a:ln>
        </p:spPr>
      </p:pic>
      <p:sp>
        <p:nvSpPr>
          <p:cNvPr id="14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NEPAL</a:t>
            </a:r>
            <a:br>
              <a:rPr sz="3500"/>
            </a:br>
            <a:r>
              <a:rPr b="1" lang="en-US" sz="1500" spc="-1" strike="noStrike">
                <a:solidFill>
                  <a:srgbClr val="11488b"/>
                </a:solidFill>
                <a:latin typeface="Arial"/>
                <a:ea typeface="Arial"/>
              </a:rPr>
              <a:t>Saturday,  April 25, 2015 at 06:11:26 UTC </a:t>
            </a:r>
            <a:endParaRPr b="0" lang="en-US" sz="1500" spc="-1" strike="noStrike">
              <a:solidFill>
                <a:srgbClr val="000000"/>
              </a:solidFill>
              <a:latin typeface="Arial"/>
            </a:endParaRPr>
          </a:p>
        </p:txBody>
      </p:sp>
      <p:grpSp>
        <p:nvGrpSpPr>
          <p:cNvPr id="149" name="Group 1"/>
          <p:cNvGrpSpPr/>
          <p:nvPr/>
        </p:nvGrpSpPr>
        <p:grpSpPr>
          <a:xfrm>
            <a:off x="2666880" y="990720"/>
            <a:ext cx="6324840" cy="5803920"/>
            <a:chOff x="2666880" y="990720"/>
            <a:chExt cx="6324840" cy="5803920"/>
          </a:xfrm>
        </p:grpSpPr>
        <p:pic>
          <p:nvPicPr>
            <p:cNvPr id="150" name="Picture 2" descr="M&gt;4Aftershocks.tiff"/>
            <p:cNvPicPr/>
            <p:nvPr/>
          </p:nvPicPr>
          <p:blipFill>
            <a:blip r:embed="rId2"/>
            <a:stretch/>
          </p:blipFill>
          <p:spPr>
            <a:xfrm>
              <a:off x="3504960" y="1066680"/>
              <a:ext cx="5486760" cy="4905720"/>
            </a:xfrm>
            <a:prstGeom prst="rect">
              <a:avLst/>
            </a:prstGeom>
            <a:ln w="28440">
              <a:solidFill>
                <a:srgbClr val="660066"/>
              </a:solidFill>
              <a:miter/>
            </a:ln>
            <a:effectLst>
              <a:outerShdw dist="38183" dir="2700000" blurRad="0" rotWithShape="0">
                <a:srgbClr val="808080">
                  <a:alpha val="40000"/>
                </a:srgbClr>
              </a:outerShdw>
            </a:effectLst>
          </p:spPr>
        </p:pic>
        <p:grpSp>
          <p:nvGrpSpPr>
            <p:cNvPr id="151" name="Group 18"/>
            <p:cNvGrpSpPr/>
            <p:nvPr/>
          </p:nvGrpSpPr>
          <p:grpSpPr>
            <a:xfrm>
              <a:off x="7668000" y="1182240"/>
              <a:ext cx="802440" cy="369720"/>
              <a:chOff x="7668000" y="1182240"/>
              <a:chExt cx="802440" cy="369720"/>
            </a:xfrm>
          </p:grpSpPr>
          <p:grpSp>
            <p:nvGrpSpPr>
              <p:cNvPr id="152" name="Group 14"/>
              <p:cNvGrpSpPr/>
              <p:nvPr/>
            </p:nvGrpSpPr>
            <p:grpSpPr>
              <a:xfrm>
                <a:off x="7696080" y="1460880"/>
                <a:ext cx="761400" cy="91080"/>
                <a:chOff x="7696080" y="1460880"/>
                <a:chExt cx="761400" cy="91080"/>
              </a:xfrm>
            </p:grpSpPr>
            <p:sp>
              <p:nvSpPr>
                <p:cNvPr id="153" name="Straight Connector 10"/>
                <p:cNvSpPr/>
                <p:nvPr/>
              </p:nvSpPr>
              <p:spPr>
                <a:xfrm>
                  <a:off x="7696080" y="1551960"/>
                  <a:ext cx="761400" cy="0"/>
                </a:xfrm>
                <a:prstGeom prst="line">
                  <a:avLst/>
                </a:prstGeom>
                <a:ln w="38160">
                  <a:solidFill>
                    <a:srgbClr val="66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Straight Connector 16"/>
                <p:cNvSpPr/>
                <p:nvPr/>
              </p:nvSpPr>
              <p:spPr>
                <a:xfrm>
                  <a:off x="7713360" y="1460880"/>
                  <a:ext cx="0" cy="91080"/>
                </a:xfrm>
                <a:prstGeom prst="line">
                  <a:avLst/>
                </a:prstGeom>
                <a:ln w="38160">
                  <a:solidFill>
                    <a:srgbClr val="660066"/>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55" name="Straight Connector 17"/>
                <p:cNvSpPr/>
                <p:nvPr/>
              </p:nvSpPr>
              <p:spPr>
                <a:xfrm>
                  <a:off x="8440200" y="1460880"/>
                  <a:ext cx="0" cy="91080"/>
                </a:xfrm>
                <a:prstGeom prst="line">
                  <a:avLst/>
                </a:prstGeom>
                <a:ln w="38160">
                  <a:solidFill>
                    <a:srgbClr val="660066"/>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grpSp>
          <p:sp>
            <p:nvSpPr>
              <p:cNvPr id="156" name="TextBox 15"/>
              <p:cNvSpPr/>
              <p:nvPr/>
            </p:nvSpPr>
            <p:spPr>
              <a:xfrm>
                <a:off x="7668000" y="118224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Arial"/>
                  </a:rPr>
                  <a:t>20 km</a:t>
                </a:r>
                <a:endParaRPr b="0" lang="en-US" sz="1800" spc="-1" strike="noStrike">
                  <a:solidFill>
                    <a:srgbClr val="000000"/>
                  </a:solidFill>
                  <a:latin typeface="Arial"/>
                </a:endParaRPr>
              </a:p>
            </p:txBody>
          </p:sp>
        </p:grpSp>
        <p:pic>
          <p:nvPicPr>
            <p:cNvPr id="157" name="Picture 19" descr="FiniteFaultModel.png"/>
            <p:cNvPicPr/>
            <p:nvPr/>
          </p:nvPicPr>
          <p:blipFill>
            <a:blip r:embed="rId3"/>
            <a:srcRect l="29524" t="18153" r="18028" b="30871"/>
            <a:stretch/>
          </p:blipFill>
          <p:spPr>
            <a:xfrm rot="12278400">
              <a:off x="3103200" y="1974600"/>
              <a:ext cx="5438880" cy="3282840"/>
            </a:xfrm>
            <a:prstGeom prst="rect">
              <a:avLst/>
            </a:prstGeom>
            <a:ln w="0">
              <a:noFill/>
            </a:ln>
          </p:spPr>
        </p:pic>
        <p:sp>
          <p:nvSpPr>
            <p:cNvPr id="158" name="TextBox 1"/>
            <p:cNvSpPr/>
            <p:nvPr/>
          </p:nvSpPr>
          <p:spPr>
            <a:xfrm>
              <a:off x="4747320" y="29368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159" name="TextBox 21"/>
            <p:cNvSpPr/>
            <p:nvPr/>
          </p:nvSpPr>
          <p:spPr>
            <a:xfrm>
              <a:off x="5125320" y="31654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p:txBody>
        </p:sp>
        <p:sp>
          <p:nvSpPr>
            <p:cNvPr id="160" name="TextBox 22"/>
            <p:cNvSpPr/>
            <p:nvPr/>
          </p:nvSpPr>
          <p:spPr>
            <a:xfrm>
              <a:off x="5684040" y="344952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p:txBody>
        </p:sp>
        <p:sp>
          <p:nvSpPr>
            <p:cNvPr id="161" name="TextBox 23"/>
            <p:cNvSpPr/>
            <p:nvPr/>
          </p:nvSpPr>
          <p:spPr>
            <a:xfrm>
              <a:off x="6203520" y="354960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p:txBody>
        </p:sp>
        <p:sp>
          <p:nvSpPr>
            <p:cNvPr id="162" name="TextBox 25"/>
            <p:cNvSpPr/>
            <p:nvPr/>
          </p:nvSpPr>
          <p:spPr>
            <a:xfrm>
              <a:off x="7030440" y="392760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p:txBody>
        </p:sp>
        <p:sp>
          <p:nvSpPr>
            <p:cNvPr id="163" name="TextBox 27"/>
            <p:cNvSpPr/>
            <p:nvPr/>
          </p:nvSpPr>
          <p:spPr>
            <a:xfrm>
              <a:off x="7241760" y="403848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Arial"/>
              </a:endParaRPr>
            </a:p>
          </p:txBody>
        </p:sp>
        <p:sp>
          <p:nvSpPr>
            <p:cNvPr id="164" name="TextBox 28"/>
            <p:cNvSpPr/>
            <p:nvPr/>
          </p:nvSpPr>
          <p:spPr>
            <a:xfrm>
              <a:off x="6798600" y="389412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p:txBody>
        </p:sp>
        <p:sp>
          <p:nvSpPr>
            <p:cNvPr id="165" name="TextBox 29"/>
            <p:cNvSpPr/>
            <p:nvPr/>
          </p:nvSpPr>
          <p:spPr>
            <a:xfrm>
              <a:off x="747036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p:txBody>
        </p:sp>
        <p:sp>
          <p:nvSpPr>
            <p:cNvPr id="166" name="TextBox 31"/>
            <p:cNvSpPr/>
            <p:nvPr/>
          </p:nvSpPr>
          <p:spPr>
            <a:xfrm>
              <a:off x="7775280" y="4343400"/>
              <a:ext cx="37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p:txBody>
        </p:sp>
        <p:sp>
          <p:nvSpPr>
            <p:cNvPr id="167" name="Right Arrow 8"/>
            <p:cNvSpPr/>
            <p:nvPr/>
          </p:nvSpPr>
          <p:spPr>
            <a:xfrm rot="1549800">
              <a:off x="4570200" y="3269880"/>
              <a:ext cx="3992760" cy="1090440"/>
            </a:xfrm>
            <a:prstGeom prst="rightArrow">
              <a:avLst>
                <a:gd name="adj1" fmla="val 50000"/>
                <a:gd name="adj2" fmla="val 50008"/>
              </a:avLst>
            </a:prstGeom>
            <a:noFill/>
            <a:ln w="28440">
              <a:solidFill>
                <a:srgbClr val="66006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20" descr="FiniteFaultModel.png"/>
            <p:cNvPicPr/>
            <p:nvPr/>
          </p:nvPicPr>
          <p:blipFill>
            <a:blip r:embed="rId4"/>
            <a:srcRect l="7591" t="83062" r="24850" b="0"/>
            <a:stretch/>
          </p:blipFill>
          <p:spPr>
            <a:xfrm>
              <a:off x="4495680" y="6019920"/>
              <a:ext cx="3657600" cy="774720"/>
            </a:xfrm>
            <a:prstGeom prst="rect">
              <a:avLst/>
            </a:prstGeom>
            <a:ln w="0">
              <a:noFill/>
            </a:ln>
          </p:spPr>
        </p:pic>
        <p:sp>
          <p:nvSpPr>
            <p:cNvPr id="169" name="5-Point Star 12"/>
            <p:cNvSpPr/>
            <p:nvPr/>
          </p:nvSpPr>
          <p:spPr>
            <a:xfrm>
              <a:off x="4267080" y="2666880"/>
              <a:ext cx="304560" cy="30456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70" name="Straight Arrow Connector 33"/>
            <p:cNvCxnSpPr/>
            <p:nvPr/>
          </p:nvCxnSpPr>
          <p:spPr>
            <a:xfrm flipH="1">
              <a:off x="4494960" y="2209320"/>
              <a:ext cx="229320" cy="229320"/>
            </a:xfrm>
            <a:prstGeom prst="straightConnector1">
              <a:avLst/>
            </a:prstGeom>
            <a:ln w="12600">
              <a:solidFill>
                <a:srgbClr val="ff0000"/>
              </a:solidFill>
              <a:miter/>
              <a:tailEnd len="med" type="triangle" w="med"/>
            </a:ln>
          </p:spPr>
        </p:cxnSp>
        <p:cxnSp>
          <p:nvCxnSpPr>
            <p:cNvPr id="171" name="Straight Arrow Connector 38"/>
            <p:cNvCxnSpPr/>
            <p:nvPr/>
          </p:nvCxnSpPr>
          <p:spPr>
            <a:xfrm flipH="1">
              <a:off x="5223600" y="2514240"/>
              <a:ext cx="186120" cy="324360"/>
            </a:xfrm>
            <a:prstGeom prst="straightConnector1">
              <a:avLst/>
            </a:prstGeom>
            <a:ln w="12600">
              <a:solidFill>
                <a:srgbClr val="ff0000"/>
              </a:solidFill>
              <a:miter/>
              <a:tailEnd len="med" type="triangle" w="med"/>
            </a:ln>
          </p:spPr>
        </p:cxnSp>
        <p:cxnSp>
          <p:nvCxnSpPr>
            <p:cNvPr id="172" name="Straight Arrow Connector 40"/>
            <p:cNvCxnSpPr/>
            <p:nvPr/>
          </p:nvCxnSpPr>
          <p:spPr>
            <a:xfrm flipH="1">
              <a:off x="5104800" y="2874600"/>
              <a:ext cx="130680" cy="244800"/>
            </a:xfrm>
            <a:prstGeom prst="straightConnector1">
              <a:avLst/>
            </a:prstGeom>
            <a:ln w="12600">
              <a:solidFill>
                <a:srgbClr val="ff0000"/>
              </a:solidFill>
              <a:miter/>
              <a:tailEnd len="med" type="triangle" w="med"/>
            </a:ln>
          </p:spPr>
        </p:cxnSp>
        <p:cxnSp>
          <p:nvCxnSpPr>
            <p:cNvPr id="173" name="Straight Arrow Connector 42"/>
            <p:cNvCxnSpPr/>
            <p:nvPr/>
          </p:nvCxnSpPr>
          <p:spPr>
            <a:xfrm flipH="1">
              <a:off x="5876640" y="2819160"/>
              <a:ext cx="197280" cy="280080"/>
            </a:xfrm>
            <a:prstGeom prst="straightConnector1">
              <a:avLst/>
            </a:prstGeom>
            <a:ln w="12600">
              <a:solidFill>
                <a:srgbClr val="ff0000"/>
              </a:solidFill>
              <a:miter/>
              <a:tailEnd len="med" type="triangle" w="med"/>
            </a:ln>
          </p:spPr>
        </p:cxnSp>
        <p:cxnSp>
          <p:nvCxnSpPr>
            <p:cNvPr id="174" name="Straight Arrow Connector 44"/>
            <p:cNvCxnSpPr/>
            <p:nvPr/>
          </p:nvCxnSpPr>
          <p:spPr>
            <a:xfrm flipH="1">
              <a:off x="6787800" y="2752200"/>
              <a:ext cx="118080" cy="214920"/>
            </a:xfrm>
            <a:prstGeom prst="straightConnector1">
              <a:avLst/>
            </a:prstGeom>
            <a:ln w="12600">
              <a:solidFill>
                <a:srgbClr val="ff0000"/>
              </a:solidFill>
              <a:miter/>
              <a:tailEnd len="med" type="triangle" w="med"/>
            </a:ln>
          </p:spPr>
        </p:cxnSp>
        <p:cxnSp>
          <p:nvCxnSpPr>
            <p:cNvPr id="175" name="Straight Arrow Connector 47"/>
            <p:cNvCxnSpPr/>
            <p:nvPr/>
          </p:nvCxnSpPr>
          <p:spPr>
            <a:xfrm flipH="1">
              <a:off x="6571800" y="3124080"/>
              <a:ext cx="175320" cy="205200"/>
            </a:xfrm>
            <a:prstGeom prst="straightConnector1">
              <a:avLst/>
            </a:prstGeom>
            <a:ln w="12600">
              <a:solidFill>
                <a:srgbClr val="ff0000"/>
              </a:solidFill>
              <a:miter/>
              <a:tailEnd len="med" type="triangle" w="med"/>
            </a:ln>
          </p:spPr>
        </p:cxnSp>
        <p:cxnSp>
          <p:nvCxnSpPr>
            <p:cNvPr id="176" name="Straight Arrow Connector 49"/>
            <p:cNvCxnSpPr/>
            <p:nvPr/>
          </p:nvCxnSpPr>
          <p:spPr>
            <a:xfrm>
              <a:off x="6577200" y="3504960"/>
              <a:ext cx="8640" cy="394200"/>
            </a:xfrm>
            <a:prstGeom prst="straightConnector1">
              <a:avLst/>
            </a:prstGeom>
            <a:ln w="12600">
              <a:solidFill>
                <a:srgbClr val="ff0000"/>
              </a:solidFill>
              <a:miter/>
              <a:tailEnd len="med" type="triangle" w="med"/>
            </a:ln>
          </p:spPr>
        </p:cxnSp>
        <p:cxnSp>
          <p:nvCxnSpPr>
            <p:cNvPr id="177" name="Straight Arrow Connector 51"/>
            <p:cNvCxnSpPr/>
            <p:nvPr/>
          </p:nvCxnSpPr>
          <p:spPr>
            <a:xfrm>
              <a:off x="7417080" y="3425760"/>
              <a:ext cx="79920" cy="210240"/>
            </a:xfrm>
            <a:prstGeom prst="straightConnector1">
              <a:avLst/>
            </a:prstGeom>
            <a:ln w="12600">
              <a:solidFill>
                <a:srgbClr val="ff0000"/>
              </a:solidFill>
              <a:miter/>
              <a:tailEnd len="med" type="triangle" w="med"/>
            </a:ln>
          </p:spPr>
        </p:cxnSp>
        <p:cxnSp>
          <p:nvCxnSpPr>
            <p:cNvPr id="178" name="Straight Arrow Connector 53"/>
            <p:cNvCxnSpPr/>
            <p:nvPr/>
          </p:nvCxnSpPr>
          <p:spPr>
            <a:xfrm>
              <a:off x="8083800" y="3738600"/>
              <a:ext cx="133560" cy="259200"/>
            </a:xfrm>
            <a:prstGeom prst="straightConnector1">
              <a:avLst/>
            </a:prstGeom>
            <a:ln w="12600">
              <a:solidFill>
                <a:srgbClr val="ff0000"/>
              </a:solidFill>
              <a:miter/>
              <a:tailEnd len="med" type="triangle" w="med"/>
            </a:ln>
          </p:spPr>
        </p:cxnSp>
        <p:cxnSp>
          <p:nvCxnSpPr>
            <p:cNvPr id="179" name="Straight Arrow Connector 55"/>
            <p:cNvCxnSpPr/>
            <p:nvPr/>
          </p:nvCxnSpPr>
          <p:spPr>
            <a:xfrm>
              <a:off x="5924160" y="3206160"/>
              <a:ext cx="38520" cy="378360"/>
            </a:xfrm>
            <a:prstGeom prst="straightConnector1">
              <a:avLst/>
            </a:prstGeom>
            <a:ln w="12600">
              <a:solidFill>
                <a:srgbClr val="ff0000"/>
              </a:solidFill>
              <a:miter/>
              <a:tailEnd len="med" type="triangle" w="med"/>
            </a:ln>
          </p:spPr>
        </p:cxnSp>
        <p:cxnSp>
          <p:nvCxnSpPr>
            <p:cNvPr id="180" name="Straight Arrow Connector 57"/>
            <p:cNvCxnSpPr/>
            <p:nvPr/>
          </p:nvCxnSpPr>
          <p:spPr>
            <a:xfrm>
              <a:off x="5740560" y="3546000"/>
              <a:ext cx="210240" cy="592920"/>
            </a:xfrm>
            <a:prstGeom prst="straightConnector1">
              <a:avLst/>
            </a:prstGeom>
            <a:ln w="12600">
              <a:solidFill>
                <a:srgbClr val="ff0000"/>
              </a:solidFill>
              <a:miter/>
              <a:tailEnd len="med" type="triangle" w="med"/>
            </a:ln>
          </p:spPr>
        </p:cxnSp>
        <p:cxnSp>
          <p:nvCxnSpPr>
            <p:cNvPr id="181" name="Straight Arrow Connector 59"/>
            <p:cNvCxnSpPr/>
            <p:nvPr/>
          </p:nvCxnSpPr>
          <p:spPr>
            <a:xfrm>
              <a:off x="5067360" y="3250800"/>
              <a:ext cx="94320" cy="410040"/>
            </a:xfrm>
            <a:prstGeom prst="straightConnector1">
              <a:avLst/>
            </a:prstGeom>
            <a:ln w="12600">
              <a:solidFill>
                <a:srgbClr val="ff0000"/>
              </a:solidFill>
              <a:miter/>
              <a:tailEnd len="med" type="triangle" w="med"/>
            </a:ln>
          </p:spPr>
        </p:cxnSp>
        <p:cxnSp>
          <p:nvCxnSpPr>
            <p:cNvPr id="182" name="Straight Arrow Connector 61"/>
            <p:cNvCxnSpPr/>
            <p:nvPr/>
          </p:nvCxnSpPr>
          <p:spPr>
            <a:xfrm flipH="1">
              <a:off x="4257000" y="2937960"/>
              <a:ext cx="129240" cy="254520"/>
            </a:xfrm>
            <a:prstGeom prst="straightConnector1">
              <a:avLst/>
            </a:prstGeom>
            <a:ln w="12600">
              <a:solidFill>
                <a:srgbClr val="ff0000"/>
              </a:solidFill>
              <a:miter/>
              <a:tailEnd len="med" type="triangle" w="med"/>
            </a:ln>
          </p:spPr>
        </p:cxnSp>
        <p:cxnSp>
          <p:nvCxnSpPr>
            <p:cNvPr id="183" name="Straight Arrow Connector 63"/>
            <p:cNvCxnSpPr/>
            <p:nvPr/>
          </p:nvCxnSpPr>
          <p:spPr>
            <a:xfrm>
              <a:off x="4903920" y="3615840"/>
              <a:ext cx="172080" cy="376920"/>
            </a:xfrm>
            <a:prstGeom prst="straightConnector1">
              <a:avLst/>
            </a:prstGeom>
            <a:ln w="12600">
              <a:solidFill>
                <a:srgbClr val="ff0000"/>
              </a:solidFill>
              <a:miter/>
              <a:tailEnd len="med" type="triangle" w="med"/>
            </a:ln>
          </p:spPr>
        </p:cxnSp>
        <p:cxnSp>
          <p:nvCxnSpPr>
            <p:cNvPr id="184" name="Straight Arrow Connector 65"/>
            <p:cNvCxnSpPr/>
            <p:nvPr/>
          </p:nvCxnSpPr>
          <p:spPr>
            <a:xfrm flipH="1">
              <a:off x="4695120" y="3981240"/>
              <a:ext cx="37080" cy="345240"/>
            </a:xfrm>
            <a:prstGeom prst="straightConnector1">
              <a:avLst/>
            </a:prstGeom>
            <a:ln w="12600">
              <a:solidFill>
                <a:srgbClr val="ff0000"/>
              </a:solidFill>
              <a:miter/>
              <a:tailEnd len="med" type="triangle" w="med"/>
            </a:ln>
          </p:spPr>
        </p:cxnSp>
        <p:cxnSp>
          <p:nvCxnSpPr>
            <p:cNvPr id="185" name="Straight Arrow Connector 67"/>
            <p:cNvCxnSpPr/>
            <p:nvPr/>
          </p:nvCxnSpPr>
          <p:spPr>
            <a:xfrm flipH="1">
              <a:off x="4227120" y="3315960"/>
              <a:ext cx="8640" cy="153000"/>
            </a:xfrm>
            <a:prstGeom prst="straightConnector1">
              <a:avLst/>
            </a:prstGeom>
            <a:ln w="12600">
              <a:solidFill>
                <a:srgbClr val="ff0000"/>
              </a:solidFill>
              <a:miter/>
              <a:tailEnd len="med" type="triangle" w="med"/>
            </a:ln>
          </p:spPr>
        </p:cxnSp>
        <p:cxnSp>
          <p:nvCxnSpPr>
            <p:cNvPr id="186" name="Straight Arrow Connector 69"/>
            <p:cNvCxnSpPr/>
            <p:nvPr/>
          </p:nvCxnSpPr>
          <p:spPr>
            <a:xfrm flipH="1">
              <a:off x="3971160" y="3671640"/>
              <a:ext cx="84600" cy="146520"/>
            </a:xfrm>
            <a:prstGeom prst="straightConnector1">
              <a:avLst/>
            </a:prstGeom>
            <a:ln w="12600">
              <a:solidFill>
                <a:srgbClr val="ff0000"/>
              </a:solidFill>
              <a:miter/>
              <a:tailEnd len="med" type="triangle" w="med"/>
            </a:ln>
          </p:spPr>
        </p:cxnSp>
        <p:cxnSp>
          <p:nvCxnSpPr>
            <p:cNvPr id="187" name="Straight Arrow Connector 71"/>
            <p:cNvCxnSpPr/>
            <p:nvPr/>
          </p:nvCxnSpPr>
          <p:spPr>
            <a:xfrm>
              <a:off x="5572080" y="3922200"/>
              <a:ext cx="335520" cy="540360"/>
            </a:xfrm>
            <a:prstGeom prst="straightConnector1">
              <a:avLst/>
            </a:prstGeom>
            <a:ln w="12600">
              <a:solidFill>
                <a:srgbClr val="ff0000"/>
              </a:solidFill>
              <a:miter/>
              <a:tailEnd len="med" type="triangle" w="med"/>
            </a:ln>
          </p:spPr>
        </p:cxnSp>
        <p:cxnSp>
          <p:nvCxnSpPr>
            <p:cNvPr id="188" name="Straight Arrow Connector 73"/>
            <p:cNvCxnSpPr/>
            <p:nvPr/>
          </p:nvCxnSpPr>
          <p:spPr>
            <a:xfrm>
              <a:off x="6402240" y="3862080"/>
              <a:ext cx="160920" cy="664200"/>
            </a:xfrm>
            <a:prstGeom prst="straightConnector1">
              <a:avLst/>
            </a:prstGeom>
            <a:ln w="12600">
              <a:solidFill>
                <a:srgbClr val="ff0000"/>
              </a:solidFill>
              <a:miter/>
              <a:tailEnd len="med" type="triangle" w="med"/>
            </a:ln>
          </p:spPr>
        </p:cxnSp>
        <p:cxnSp>
          <p:nvCxnSpPr>
            <p:cNvPr id="189" name="Straight Arrow Connector 75"/>
            <p:cNvCxnSpPr/>
            <p:nvPr/>
          </p:nvCxnSpPr>
          <p:spPr>
            <a:xfrm>
              <a:off x="6229440" y="4227480"/>
              <a:ext cx="19440" cy="413280"/>
            </a:xfrm>
            <a:prstGeom prst="straightConnector1">
              <a:avLst/>
            </a:prstGeom>
            <a:ln w="12600">
              <a:solidFill>
                <a:srgbClr val="ff0000"/>
              </a:solidFill>
              <a:miter/>
              <a:tailEnd len="med" type="triangle" w="med"/>
            </a:ln>
          </p:spPr>
        </p:cxnSp>
        <p:sp>
          <p:nvSpPr>
            <p:cNvPr id="190" name="Freeform 11"/>
            <p:cNvSpPr/>
            <p:nvPr/>
          </p:nvSpPr>
          <p:spPr>
            <a:xfrm>
              <a:off x="6149880" y="4356000"/>
              <a:ext cx="979560" cy="618840"/>
            </a:xfrm>
            <a:custGeom>
              <a:avLst/>
              <a:gdLst/>
              <a:ahLst/>
              <a:rect l="l" t="t" r="r" b="b"/>
              <a:pathLst>
                <a:path w="980215" h="619280">
                  <a:moveTo>
                    <a:pt x="315378" y="545806"/>
                  </a:moveTo>
                  <a:cubicBezTo>
                    <a:pt x="331121" y="556302"/>
                    <a:pt x="377058" y="597641"/>
                    <a:pt x="399340" y="608783"/>
                  </a:cubicBezTo>
                  <a:cubicBezTo>
                    <a:pt x="409235" y="613731"/>
                    <a:pt x="420330" y="615781"/>
                    <a:pt x="430825" y="619280"/>
                  </a:cubicBezTo>
                  <a:cubicBezTo>
                    <a:pt x="546273" y="615781"/>
                    <a:pt x="661846" y="615191"/>
                    <a:pt x="777169" y="608783"/>
                  </a:cubicBezTo>
                  <a:cubicBezTo>
                    <a:pt x="788215" y="608169"/>
                    <a:pt x="798760" y="603235"/>
                    <a:pt x="808655" y="598287"/>
                  </a:cubicBezTo>
                  <a:cubicBezTo>
                    <a:pt x="819937" y="592646"/>
                    <a:pt x="829646" y="584292"/>
                    <a:pt x="840141" y="577295"/>
                  </a:cubicBezTo>
                  <a:cubicBezTo>
                    <a:pt x="854135" y="556302"/>
                    <a:pt x="874145" y="538252"/>
                    <a:pt x="882122" y="514317"/>
                  </a:cubicBezTo>
                  <a:cubicBezTo>
                    <a:pt x="901364" y="456582"/>
                    <a:pt x="881054" y="508314"/>
                    <a:pt x="913608" y="451339"/>
                  </a:cubicBezTo>
                  <a:cubicBezTo>
                    <a:pt x="966871" y="358119"/>
                    <a:pt x="904448" y="454583"/>
                    <a:pt x="955589" y="377865"/>
                  </a:cubicBezTo>
                  <a:cubicBezTo>
                    <a:pt x="976775" y="314301"/>
                    <a:pt x="993086" y="294684"/>
                    <a:pt x="966084" y="220421"/>
                  </a:cubicBezTo>
                  <a:cubicBezTo>
                    <a:pt x="961774" y="208566"/>
                    <a:pt x="945093" y="206426"/>
                    <a:pt x="934598" y="199429"/>
                  </a:cubicBezTo>
                  <a:cubicBezTo>
                    <a:pt x="917369" y="147736"/>
                    <a:pt x="936439" y="183469"/>
                    <a:pt x="892617" y="146948"/>
                  </a:cubicBezTo>
                  <a:cubicBezTo>
                    <a:pt x="881214" y="137445"/>
                    <a:pt x="873481" y="123693"/>
                    <a:pt x="861131" y="115459"/>
                  </a:cubicBezTo>
                  <a:cubicBezTo>
                    <a:pt x="851926" y="109322"/>
                    <a:pt x="839541" y="109910"/>
                    <a:pt x="829646" y="104962"/>
                  </a:cubicBezTo>
                  <a:cubicBezTo>
                    <a:pt x="818364" y="99320"/>
                    <a:pt x="809687" y="89093"/>
                    <a:pt x="798160" y="83970"/>
                  </a:cubicBezTo>
                  <a:cubicBezTo>
                    <a:pt x="734535" y="55690"/>
                    <a:pt x="738226" y="67151"/>
                    <a:pt x="672217" y="52481"/>
                  </a:cubicBezTo>
                  <a:cubicBezTo>
                    <a:pt x="661417" y="50081"/>
                    <a:pt x="651511" y="44473"/>
                    <a:pt x="640731" y="41985"/>
                  </a:cubicBezTo>
                  <a:cubicBezTo>
                    <a:pt x="605968" y="33962"/>
                    <a:pt x="571180" y="25418"/>
                    <a:pt x="535778" y="20992"/>
                  </a:cubicBezTo>
                  <a:cubicBezTo>
                    <a:pt x="413473" y="5703"/>
                    <a:pt x="479905" y="13050"/>
                    <a:pt x="336368" y="0"/>
                  </a:cubicBezTo>
                  <a:cubicBezTo>
                    <a:pt x="304882" y="3499"/>
                    <a:pt x="273159" y="5288"/>
                    <a:pt x="241911" y="10496"/>
                  </a:cubicBezTo>
                  <a:cubicBezTo>
                    <a:pt x="230998" y="12315"/>
                    <a:pt x="221062" y="17952"/>
                    <a:pt x="210425" y="20992"/>
                  </a:cubicBezTo>
                  <a:cubicBezTo>
                    <a:pt x="196556" y="24955"/>
                    <a:pt x="182260" y="27344"/>
                    <a:pt x="168444" y="31489"/>
                  </a:cubicBezTo>
                  <a:cubicBezTo>
                    <a:pt x="147251" y="37848"/>
                    <a:pt x="126463" y="45484"/>
                    <a:pt x="105472" y="52481"/>
                  </a:cubicBezTo>
                  <a:lnTo>
                    <a:pt x="73986" y="62977"/>
                  </a:lnTo>
                  <a:cubicBezTo>
                    <a:pt x="63491" y="69975"/>
                    <a:pt x="50380" y="74120"/>
                    <a:pt x="42501" y="83970"/>
                  </a:cubicBezTo>
                  <a:cubicBezTo>
                    <a:pt x="35590" y="92610"/>
                    <a:pt x="36953" y="105563"/>
                    <a:pt x="32005" y="115459"/>
                  </a:cubicBezTo>
                  <a:cubicBezTo>
                    <a:pt x="26364" y="126742"/>
                    <a:pt x="18012" y="136452"/>
                    <a:pt x="11015" y="146948"/>
                  </a:cubicBezTo>
                  <a:cubicBezTo>
                    <a:pt x="7517" y="164442"/>
                    <a:pt x="520" y="181589"/>
                    <a:pt x="520" y="199429"/>
                  </a:cubicBezTo>
                  <a:cubicBezTo>
                    <a:pt x="520" y="265608"/>
                    <a:pt x="-6621" y="302919"/>
                    <a:pt x="32005" y="346377"/>
                  </a:cubicBezTo>
                  <a:cubicBezTo>
                    <a:pt x="51727" y="368566"/>
                    <a:pt x="78511" y="384652"/>
                    <a:pt x="94977" y="409354"/>
                  </a:cubicBezTo>
                  <a:cubicBezTo>
                    <a:pt x="101974" y="419850"/>
                    <a:pt x="106474" y="432536"/>
                    <a:pt x="115967" y="440843"/>
                  </a:cubicBezTo>
                  <a:cubicBezTo>
                    <a:pt x="134952" y="457457"/>
                    <a:pt x="157948" y="468833"/>
                    <a:pt x="178939" y="482828"/>
                  </a:cubicBezTo>
                  <a:cubicBezTo>
                    <a:pt x="189434" y="489826"/>
                    <a:pt x="198458" y="499832"/>
                    <a:pt x="210425" y="503821"/>
                  </a:cubicBezTo>
                  <a:lnTo>
                    <a:pt x="273396" y="524813"/>
                  </a:lnTo>
                  <a:cubicBezTo>
                    <a:pt x="283891" y="531811"/>
                    <a:pt x="293288" y="540837"/>
                    <a:pt x="304882" y="545806"/>
                  </a:cubicBezTo>
                  <a:cubicBezTo>
                    <a:pt x="366285" y="572124"/>
                    <a:pt x="299635" y="535310"/>
                    <a:pt x="315378" y="545806"/>
                  </a:cubicBezTo>
                  <a:close/>
                </a:path>
              </a:pathLst>
            </a:custGeom>
            <a:solidFill>
              <a:srgbClr val="ffffff">
                <a:alpha val="66000"/>
              </a:srgbClr>
            </a:solidFill>
            <a:ln w="19080">
              <a:solidFill>
                <a:srgbClr val="660066"/>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TextBox 9"/>
            <p:cNvSpPr/>
            <p:nvPr/>
          </p:nvSpPr>
          <p:spPr>
            <a:xfrm>
              <a:off x="6101640" y="4440240"/>
              <a:ext cx="109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thmandu</a:t>
              </a:r>
              <a:endParaRPr b="0" lang="en-US" sz="1400" spc="-1" strike="noStrike">
                <a:solidFill>
                  <a:srgbClr val="000000"/>
                </a:solidFill>
                <a:latin typeface="Arial"/>
              </a:endParaRPr>
            </a:p>
          </p:txBody>
        </p:sp>
        <p:cxnSp>
          <p:nvCxnSpPr>
            <p:cNvPr id="192" name="Straight Arrow Connector 77"/>
            <p:cNvCxnSpPr/>
            <p:nvPr/>
          </p:nvCxnSpPr>
          <p:spPr>
            <a:xfrm>
              <a:off x="5395680" y="4292280"/>
              <a:ext cx="46440" cy="471960"/>
            </a:xfrm>
            <a:prstGeom prst="straightConnector1">
              <a:avLst/>
            </a:prstGeom>
            <a:ln w="12600">
              <a:solidFill>
                <a:srgbClr val="ff0000"/>
              </a:solidFill>
              <a:miter/>
              <a:tailEnd len="med" type="triangle" w="med"/>
            </a:ln>
          </p:spPr>
        </p:cxnSp>
        <p:cxnSp>
          <p:nvCxnSpPr>
            <p:cNvPr id="193" name="Straight Arrow Connector 79"/>
            <p:cNvCxnSpPr/>
            <p:nvPr/>
          </p:nvCxnSpPr>
          <p:spPr>
            <a:xfrm flipH="1">
              <a:off x="4491000" y="4341960"/>
              <a:ext cx="70200" cy="189360"/>
            </a:xfrm>
            <a:prstGeom prst="straightConnector1">
              <a:avLst/>
            </a:prstGeom>
            <a:ln w="12600">
              <a:solidFill>
                <a:srgbClr val="ff0000"/>
              </a:solidFill>
              <a:miter/>
              <a:tailEnd len="med" type="triangle" w="med"/>
            </a:ln>
          </p:spPr>
        </p:cxnSp>
        <p:cxnSp>
          <p:nvCxnSpPr>
            <p:cNvPr id="194" name="Straight Arrow Connector 81"/>
            <p:cNvCxnSpPr/>
            <p:nvPr/>
          </p:nvCxnSpPr>
          <p:spPr>
            <a:xfrm flipH="1">
              <a:off x="5053680" y="4654800"/>
              <a:ext cx="176760" cy="187920"/>
            </a:xfrm>
            <a:prstGeom prst="straightConnector1">
              <a:avLst/>
            </a:prstGeom>
            <a:ln w="12600">
              <a:solidFill>
                <a:srgbClr val="ff0000"/>
              </a:solidFill>
              <a:miter/>
              <a:tailEnd len="med" type="triangle" w="med"/>
            </a:ln>
          </p:spPr>
        </p:cxnSp>
        <p:cxnSp>
          <p:nvCxnSpPr>
            <p:cNvPr id="195" name="Straight Arrow Connector 83"/>
            <p:cNvCxnSpPr/>
            <p:nvPr/>
          </p:nvCxnSpPr>
          <p:spPr>
            <a:xfrm>
              <a:off x="6069240" y="4593960"/>
              <a:ext cx="25920" cy="208440"/>
            </a:xfrm>
            <a:prstGeom prst="straightConnector1">
              <a:avLst/>
            </a:prstGeom>
            <a:ln w="12600">
              <a:solidFill>
                <a:srgbClr val="ff0000"/>
              </a:solidFill>
              <a:miter/>
              <a:tailEnd len="med" type="triangle" w="med"/>
            </a:ln>
          </p:spPr>
        </p:cxnSp>
        <p:cxnSp>
          <p:nvCxnSpPr>
            <p:cNvPr id="196" name="Straight Arrow Connector 85"/>
            <p:cNvCxnSpPr/>
            <p:nvPr/>
          </p:nvCxnSpPr>
          <p:spPr>
            <a:xfrm>
              <a:off x="7073640" y="4167000"/>
              <a:ext cx="384840" cy="619560"/>
            </a:xfrm>
            <a:prstGeom prst="straightConnector1">
              <a:avLst/>
            </a:prstGeom>
            <a:ln w="12600">
              <a:solidFill>
                <a:srgbClr val="ff0000"/>
              </a:solidFill>
              <a:miter/>
              <a:tailEnd len="med" type="triangle" w="med"/>
            </a:ln>
          </p:spPr>
        </p:cxnSp>
        <p:cxnSp>
          <p:nvCxnSpPr>
            <p:cNvPr id="197" name="Straight Arrow Connector 87"/>
            <p:cNvCxnSpPr/>
            <p:nvPr/>
          </p:nvCxnSpPr>
          <p:spPr>
            <a:xfrm flipH="1">
              <a:off x="7419960" y="4832280"/>
              <a:ext cx="141840" cy="218160"/>
            </a:xfrm>
            <a:prstGeom prst="straightConnector1">
              <a:avLst/>
            </a:prstGeom>
            <a:ln w="12600">
              <a:solidFill>
                <a:srgbClr val="ff0000"/>
              </a:solidFill>
              <a:miter/>
              <a:tailEnd len="med" type="triangle" w="med"/>
            </a:ln>
          </p:spPr>
        </p:cxnSp>
        <p:cxnSp>
          <p:nvCxnSpPr>
            <p:cNvPr id="198" name="Straight Arrow Connector 89"/>
            <p:cNvCxnSpPr/>
            <p:nvPr/>
          </p:nvCxnSpPr>
          <p:spPr>
            <a:xfrm flipH="1">
              <a:off x="6400440" y="5265360"/>
              <a:ext cx="149760" cy="138600"/>
            </a:xfrm>
            <a:prstGeom prst="straightConnector1">
              <a:avLst/>
            </a:prstGeom>
            <a:ln w="12600">
              <a:solidFill>
                <a:srgbClr val="ff0000"/>
              </a:solidFill>
              <a:miter/>
              <a:tailEnd len="med" type="triangle" w="med"/>
            </a:ln>
          </p:spPr>
        </p:cxnSp>
        <p:cxnSp>
          <p:nvCxnSpPr>
            <p:cNvPr id="199" name="Straight Arrow Connector 91"/>
            <p:cNvCxnSpPr/>
            <p:nvPr/>
          </p:nvCxnSpPr>
          <p:spPr>
            <a:xfrm flipH="1">
              <a:off x="7308720" y="5213520"/>
              <a:ext cx="89280" cy="155880"/>
            </a:xfrm>
            <a:prstGeom prst="straightConnector1">
              <a:avLst/>
            </a:prstGeom>
            <a:ln w="12600">
              <a:solidFill>
                <a:srgbClr val="ff0000"/>
              </a:solidFill>
              <a:miter/>
              <a:tailEnd len="med" type="triangle" w="med"/>
            </a:ln>
          </p:spPr>
        </p:cxnSp>
        <p:cxnSp>
          <p:nvCxnSpPr>
            <p:cNvPr id="200" name="Straight Arrow Connector 93"/>
            <p:cNvCxnSpPr/>
            <p:nvPr/>
          </p:nvCxnSpPr>
          <p:spPr>
            <a:xfrm flipH="1">
              <a:off x="5765400" y="4959000"/>
              <a:ext cx="119520" cy="129240"/>
            </a:xfrm>
            <a:prstGeom prst="straightConnector1">
              <a:avLst/>
            </a:prstGeom>
            <a:ln w="12600">
              <a:solidFill>
                <a:srgbClr val="ff0000"/>
              </a:solidFill>
              <a:miter/>
              <a:tailEnd len="med" type="triangle" w="med"/>
            </a:ln>
          </p:spPr>
        </p:cxnSp>
        <p:cxnSp>
          <p:nvCxnSpPr>
            <p:cNvPr id="201" name="Straight Arrow Connector 95"/>
            <p:cNvCxnSpPr/>
            <p:nvPr/>
          </p:nvCxnSpPr>
          <p:spPr>
            <a:xfrm flipH="1">
              <a:off x="3701160" y="2644560"/>
              <a:ext cx="51480" cy="227520"/>
            </a:xfrm>
            <a:prstGeom prst="straightConnector1">
              <a:avLst/>
            </a:prstGeom>
            <a:ln w="12600">
              <a:solidFill>
                <a:srgbClr val="ff0000"/>
              </a:solidFill>
              <a:miter/>
              <a:tailEnd len="med" type="triangle" w="med"/>
            </a:ln>
          </p:spPr>
        </p:cxnSp>
        <p:cxnSp>
          <p:nvCxnSpPr>
            <p:cNvPr id="202" name="Straight Arrow Connector 97"/>
            <p:cNvCxnSpPr>
              <a:endCxn id="203" idx="3"/>
            </p:cNvCxnSpPr>
            <p:nvPr/>
          </p:nvCxnSpPr>
          <p:spPr>
            <a:xfrm flipH="1">
              <a:off x="3452400" y="2999880"/>
              <a:ext cx="172080" cy="881640"/>
            </a:xfrm>
            <a:prstGeom prst="straightConnector1">
              <a:avLst/>
            </a:prstGeom>
            <a:ln w="12600">
              <a:solidFill>
                <a:srgbClr val="ff0000"/>
              </a:solidFill>
              <a:miter/>
              <a:tailEnd len="med" type="triangle" w="med"/>
            </a:ln>
          </p:spPr>
        </p:cxnSp>
        <p:cxnSp>
          <p:nvCxnSpPr>
            <p:cNvPr id="204" name="Straight Arrow Connector 99"/>
            <p:cNvCxnSpPr/>
            <p:nvPr/>
          </p:nvCxnSpPr>
          <p:spPr>
            <a:xfrm flipH="1">
              <a:off x="3804840" y="4044600"/>
              <a:ext cx="86400" cy="106920"/>
            </a:xfrm>
            <a:prstGeom prst="straightConnector1">
              <a:avLst/>
            </a:prstGeom>
            <a:ln w="12600">
              <a:solidFill>
                <a:srgbClr val="ff0000"/>
              </a:solidFill>
              <a:miter/>
              <a:tailEnd len="med" type="triangle" w="med"/>
            </a:ln>
          </p:spPr>
        </p:cxnSp>
        <p:cxnSp>
          <p:nvCxnSpPr>
            <p:cNvPr id="205" name="Straight Arrow Connector 101"/>
            <p:cNvCxnSpPr/>
            <p:nvPr/>
          </p:nvCxnSpPr>
          <p:spPr>
            <a:xfrm flipH="1">
              <a:off x="6184440" y="2442960"/>
              <a:ext cx="65520" cy="133560"/>
            </a:xfrm>
            <a:prstGeom prst="straightConnector1">
              <a:avLst/>
            </a:prstGeom>
            <a:ln w="12600">
              <a:solidFill>
                <a:srgbClr val="ff0000"/>
              </a:solidFill>
              <a:miter/>
              <a:tailEnd len="med" type="triangle" w="med"/>
            </a:ln>
          </p:spPr>
        </p:cxnSp>
        <p:cxnSp>
          <p:nvCxnSpPr>
            <p:cNvPr id="206" name="Straight Arrow Connector 103"/>
            <p:cNvCxnSpPr/>
            <p:nvPr/>
          </p:nvCxnSpPr>
          <p:spPr>
            <a:xfrm flipH="1">
              <a:off x="8143560" y="3369960"/>
              <a:ext cx="97560" cy="224280"/>
            </a:xfrm>
            <a:prstGeom prst="straightConnector1">
              <a:avLst/>
            </a:prstGeom>
            <a:ln w="12600">
              <a:solidFill>
                <a:srgbClr val="ff0000"/>
              </a:solidFill>
              <a:miter/>
              <a:tailEnd len="med" type="triangle" w="med"/>
            </a:ln>
          </p:spPr>
        </p:cxnSp>
        <p:cxnSp>
          <p:nvCxnSpPr>
            <p:cNvPr id="207" name="Straight Arrow Connector 105"/>
            <p:cNvCxnSpPr/>
            <p:nvPr/>
          </p:nvCxnSpPr>
          <p:spPr>
            <a:xfrm flipH="1">
              <a:off x="7494120" y="3049200"/>
              <a:ext cx="76680" cy="100440"/>
            </a:xfrm>
            <a:prstGeom prst="straightConnector1">
              <a:avLst/>
            </a:prstGeom>
            <a:ln w="12600">
              <a:solidFill>
                <a:srgbClr val="ff0000"/>
              </a:solidFill>
              <a:miter/>
              <a:tailEnd len="med" type="triangle" w="med"/>
            </a:ln>
          </p:spPr>
        </p:cxnSp>
      </p:grpSp>
      <p:sp>
        <p:nvSpPr>
          <p:cNvPr id="203" name="TextBox 9"/>
          <p:cNvSpPr/>
          <p:nvPr/>
        </p:nvSpPr>
        <p:spPr>
          <a:xfrm>
            <a:off x="239760" y="1065240"/>
            <a:ext cx="321300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p shows fault displacement during this earthquake.  The red star is the epicenter while the purple arrow shows the direction of rupture propagation towards the southeast.  Contours show the rupture front 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econd increments after rupture initiation.  Small red arrows show the direction and amount of motion of the rocks above the fault with respect to the rocks below the fault.  The amount of slip is shown by color of shading.  Maximum fault displacement of about 3 meters occurred in the rupture zone about 20 km north of Kathman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18" descr="IRIS_TMlogo.png"/>
          <p:cNvPicPr/>
          <p:nvPr/>
        </p:nvPicPr>
        <p:blipFill>
          <a:blip r:embed="rId1"/>
          <a:stretch/>
        </p:blipFill>
        <p:spPr>
          <a:xfrm>
            <a:off x="239760" y="76320"/>
            <a:ext cx="903240" cy="927000"/>
          </a:xfrm>
          <a:prstGeom prst="rect">
            <a:avLst/>
          </a:prstGeom>
          <a:ln w="0">
            <a:noFill/>
          </a:ln>
        </p:spPr>
      </p:pic>
      <p:sp>
        <p:nvSpPr>
          <p:cNvPr id="210" name="TextBox 7"/>
          <p:cNvSpPr/>
          <p:nvPr/>
        </p:nvSpPr>
        <p:spPr>
          <a:xfrm>
            <a:off x="271440" y="1087560"/>
            <a:ext cx="4834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it is built in a basin underlain by lake sediment, Kathmandu was particularly vulnerable during this earthquake. The city is located in a broad valley surrounded by the Himalayas. This valley was formerly the site of a lake within which river delta and lake sediment accumulated to thickness of about 100 meters.</a:t>
            </a:r>
            <a:endParaRPr b="0" lang="en-US" sz="1800" spc="-1" strike="noStrike">
              <a:solidFill>
                <a:srgbClr val="000000"/>
              </a:solidFill>
              <a:latin typeface="Arial"/>
            </a:endParaRPr>
          </a:p>
        </p:txBody>
      </p:sp>
      <p:sp>
        <p:nvSpPr>
          <p:cNvPr id="21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NEPAL</a:t>
            </a:r>
            <a:br>
              <a:rPr sz="3500"/>
            </a:br>
            <a:r>
              <a:rPr b="1" lang="en-US" sz="1500" spc="-1" strike="noStrike">
                <a:solidFill>
                  <a:srgbClr val="11488b"/>
                </a:solidFill>
                <a:latin typeface="Arial"/>
                <a:ea typeface="Arial"/>
              </a:rPr>
              <a:t>Saturday,  April 25, 2015 at 06:11:26 UTC </a:t>
            </a:r>
            <a:endParaRPr b="0" lang="en-US" sz="1500" spc="-1" strike="noStrike">
              <a:solidFill>
                <a:srgbClr val="000000"/>
              </a:solidFill>
              <a:latin typeface="Arial"/>
            </a:endParaRPr>
          </a:p>
        </p:txBody>
      </p:sp>
      <p:pic>
        <p:nvPicPr>
          <p:cNvPr id="212" name="Picture 1" descr=""/>
          <p:cNvPicPr/>
          <p:nvPr/>
        </p:nvPicPr>
        <p:blipFill>
          <a:blip r:embed="rId2"/>
          <a:stretch/>
        </p:blipFill>
        <p:spPr>
          <a:xfrm>
            <a:off x="5105520" y="762120"/>
            <a:ext cx="3832200" cy="2550960"/>
          </a:xfrm>
          <a:prstGeom prst="rect">
            <a:avLst/>
          </a:prstGeom>
          <a:ln w="0">
            <a:noFill/>
          </a:ln>
        </p:spPr>
      </p:pic>
      <p:pic>
        <p:nvPicPr>
          <p:cNvPr id="213" name="Picture 2" descr=""/>
          <p:cNvPicPr/>
          <p:nvPr/>
        </p:nvPicPr>
        <p:blipFill>
          <a:blip r:embed="rId3"/>
          <a:srcRect l="2253" t="1972" r="3478" b="27675"/>
          <a:stretch/>
        </p:blipFill>
        <p:spPr>
          <a:xfrm>
            <a:off x="533520" y="3429000"/>
            <a:ext cx="8261280" cy="2516040"/>
          </a:xfrm>
          <a:prstGeom prst="rect">
            <a:avLst/>
          </a:prstGeom>
          <a:ln w="0">
            <a:noFill/>
          </a:ln>
        </p:spPr>
      </p:pic>
      <p:sp>
        <p:nvSpPr>
          <p:cNvPr id="214" name="TextBox 1"/>
          <p:cNvSpPr/>
          <p:nvPr/>
        </p:nvSpPr>
        <p:spPr>
          <a:xfrm>
            <a:off x="685800" y="5867280"/>
            <a:ext cx="8251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fied geologic cross-section of the Kathmandu Valley showing basin-fill sediments.  Lakebed deposits are labeled “lacustrine” whereas sediments deposited by rivers are labeled “fluvial”.  After Sakai et al. Pleistocene rapid uplift of the Himalayan frontal ranges recorded in the Kathmandu and Siwalik basins, Palaeogeography, Palaeoclimatology, Palaeoecology, v. 241, p.1 6–27,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8" descr="IRIS_TMlogo.png"/>
          <p:cNvPicPr/>
          <p:nvPr/>
        </p:nvPicPr>
        <p:blipFill>
          <a:blip r:embed="rId1"/>
          <a:stretch/>
        </p:blipFill>
        <p:spPr>
          <a:xfrm>
            <a:off x="239760" y="76320"/>
            <a:ext cx="903240" cy="927000"/>
          </a:xfrm>
          <a:prstGeom prst="rect">
            <a:avLst/>
          </a:prstGeom>
          <a:ln w="0">
            <a:noFill/>
          </a:ln>
        </p:spPr>
      </p:pic>
      <p:sp>
        <p:nvSpPr>
          <p:cNvPr id="217" name="TextBox 7"/>
          <p:cNvSpPr/>
          <p:nvPr/>
        </p:nvSpPr>
        <p:spPr>
          <a:xfrm>
            <a:off x="239760" y="1143000"/>
            <a:ext cx="463716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was destructive due to both the shallow depth (15 km), and the fact that Kathmandu lies in a basin filled with about 2000 feet of soft sedim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dimentary basins can have a large effect on ground motion above them. Earthquake waves travel at high velocity through the stiff, crystalline rock of the crust but slow dramatically when entering the basin. This increases the amplitude of the earthquake waves within the basin fill.  In addition, the sharp density contrast of the soft basin rocks with surrounding material can cause waves to reflect, trapping energy in the basin for a period of time. This extends the duration of shaking. </a:t>
            </a:r>
            <a:endParaRPr b="0" lang="en-US" sz="1800" spc="-1" strike="noStrike">
              <a:solidFill>
                <a:srgbClr val="000000"/>
              </a:solidFill>
              <a:latin typeface="Arial"/>
            </a:endParaRPr>
          </a:p>
        </p:txBody>
      </p:sp>
      <p:sp>
        <p:nvSpPr>
          <p:cNvPr id="21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NEPAL</a:t>
            </a:r>
            <a:br>
              <a:rPr sz="3500"/>
            </a:br>
            <a:r>
              <a:rPr b="1" lang="en-US" sz="1500" spc="-1" strike="noStrike">
                <a:solidFill>
                  <a:srgbClr val="11488b"/>
                </a:solidFill>
                <a:latin typeface="Arial"/>
                <a:ea typeface="Arial"/>
              </a:rPr>
              <a:t>Saturday,  April 25, 2015 at 06:11:26 UTC </a:t>
            </a:r>
            <a:endParaRPr b="0" lang="en-US" sz="1500" spc="-1" strike="noStrike">
              <a:solidFill>
                <a:srgbClr val="000000"/>
              </a:solidFill>
              <a:latin typeface="Arial"/>
            </a:endParaRPr>
          </a:p>
        </p:txBody>
      </p:sp>
      <p:pic>
        <p:nvPicPr>
          <p:cNvPr id="219" name="Picture 4" descr=""/>
          <p:cNvPicPr/>
          <p:nvPr/>
        </p:nvPicPr>
        <p:blipFill>
          <a:blip r:embed="rId2"/>
          <a:stretch/>
        </p:blipFill>
        <p:spPr>
          <a:xfrm>
            <a:off x="5145120" y="1143000"/>
            <a:ext cx="3809880" cy="417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1" descr=""/>
          <p:cNvPicPr/>
          <p:nvPr/>
        </p:nvPicPr>
        <p:blipFill>
          <a:blip r:embed="rId1"/>
          <a:stretch/>
        </p:blipFill>
        <p:spPr>
          <a:xfrm>
            <a:off x="307800" y="1676520"/>
            <a:ext cx="8683920" cy="4956120"/>
          </a:xfrm>
          <a:prstGeom prst="rect">
            <a:avLst/>
          </a:prstGeom>
          <a:ln w="0">
            <a:noFill/>
          </a:ln>
        </p:spPr>
      </p:pic>
      <p:sp>
        <p:nvSpPr>
          <p:cNvPr id="22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2" name="Picture 18" descr="IRIS_TMlogo.png"/>
          <p:cNvPicPr/>
          <p:nvPr/>
        </p:nvPicPr>
        <p:blipFill>
          <a:blip r:embed="rId2"/>
          <a:stretch/>
        </p:blipFill>
        <p:spPr>
          <a:xfrm>
            <a:off x="239760" y="76320"/>
            <a:ext cx="903240" cy="927000"/>
          </a:xfrm>
          <a:prstGeom prst="rect">
            <a:avLst/>
          </a:prstGeom>
          <a:ln w="0">
            <a:noFill/>
          </a:ln>
        </p:spPr>
      </p:pic>
      <p:sp>
        <p:nvSpPr>
          <p:cNvPr id="223" name="TextBox 6"/>
          <p:cNvSpPr/>
          <p:nvPr/>
        </p:nvSpPr>
        <p:spPr>
          <a:xfrm>
            <a:off x="2654280" y="4876920"/>
            <a:ext cx="586908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P and S waves cannot travel to stations at an epicentral distance Δ &gt; 103° because of the large decrease in wave velocities across the boundary between the mantle and the liquid outer core. There is a "shadow zone" for direct P waves in the range 103° &lt; Δ &lt; 14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wave shadow zone exists for Δ &gt; 103° because the liquid outer core blocks S waves that cannot travel through liquids.</a:t>
            </a:r>
            <a:endParaRPr b="0" lang="en-US" sz="1400" spc="-1" strike="noStrike">
              <a:solidFill>
                <a:srgbClr val="000000"/>
              </a:solidFill>
              <a:latin typeface="Arial"/>
            </a:endParaRPr>
          </a:p>
        </p:txBody>
      </p:sp>
      <p:sp>
        <p:nvSpPr>
          <p:cNvPr id="224" name="TextBox 7"/>
          <p:cNvSpPr/>
          <p:nvPr/>
        </p:nvSpPr>
        <p:spPr>
          <a:xfrm>
            <a:off x="230040" y="1089000"/>
            <a:ext cx="8305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cord of the earthquake on the Mt Tabor Middle School seismometer (MTOR) is illustrated below. Portland is about 11,355 km (~7055 miles, 102.3 degrees) from the location of this earthquake. </a:t>
            </a:r>
            <a:endParaRPr b="0" lang="en-US" sz="1400" spc="-1" strike="noStrike">
              <a:solidFill>
                <a:srgbClr val="000000"/>
              </a:solidFill>
              <a:latin typeface="Arial"/>
            </a:endParaRPr>
          </a:p>
        </p:txBody>
      </p:sp>
      <p:sp>
        <p:nvSpPr>
          <p:cNvPr id="22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NEPAL</a:t>
            </a:r>
            <a:br>
              <a:rPr sz="3500"/>
            </a:br>
            <a:r>
              <a:rPr b="1" lang="en-US" sz="1500" spc="-1" strike="noStrike">
                <a:solidFill>
                  <a:srgbClr val="11488b"/>
                </a:solidFill>
                <a:latin typeface="Arial"/>
                <a:ea typeface="Arial"/>
              </a:rPr>
              <a:t>Saturday,  April 25, 2015 at 06:11: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
          <p:cNvSpPr/>
          <p:nvPr/>
        </p:nvSpPr>
        <p:spPr>
          <a:xfrm>
            <a:off x="7827840" y="5638680"/>
            <a:ext cx="12258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and text courtesy of the US Geological Survey</a:t>
            </a:r>
            <a:endParaRPr b="0" lang="en-US" sz="1400" spc="-1" strike="noStrike">
              <a:solidFill>
                <a:srgbClr val="000000"/>
              </a:solidFill>
              <a:latin typeface="Arial"/>
            </a:endParaRPr>
          </a:p>
        </p:txBody>
      </p:sp>
      <p:pic>
        <p:nvPicPr>
          <p:cNvPr id="228" name="Picture 8" descr="IRIS_TMlogo.png"/>
          <p:cNvPicPr/>
          <p:nvPr/>
        </p:nvPicPr>
        <p:blipFill>
          <a:blip r:embed="rId1"/>
          <a:stretch/>
        </p:blipFill>
        <p:spPr>
          <a:xfrm>
            <a:off x="239760" y="76320"/>
            <a:ext cx="903240" cy="927000"/>
          </a:xfrm>
          <a:prstGeom prst="rect">
            <a:avLst/>
          </a:prstGeom>
          <a:ln w="0">
            <a:noFill/>
          </a:ln>
        </p:spPr>
      </p:pic>
      <p:pic>
        <p:nvPicPr>
          <p:cNvPr id="229" name="Picture 10" descr="usgs.jpg"/>
          <p:cNvPicPr/>
          <p:nvPr/>
        </p:nvPicPr>
        <p:blipFill>
          <a:blip r:embed="rId2"/>
          <a:stretch/>
        </p:blipFill>
        <p:spPr>
          <a:xfrm>
            <a:off x="4170240" y="4659480"/>
            <a:ext cx="3657600" cy="2165040"/>
          </a:xfrm>
          <a:prstGeom prst="rect">
            <a:avLst/>
          </a:prstGeom>
          <a:ln w="0">
            <a:noFill/>
          </a:ln>
        </p:spPr>
      </p:pic>
      <p:sp>
        <p:nvSpPr>
          <p:cNvPr id="23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NEPAL</a:t>
            </a:r>
            <a:br>
              <a:rPr sz="3500"/>
            </a:br>
            <a:r>
              <a:rPr b="1" lang="en-US" sz="1500" spc="-1" strike="noStrike">
                <a:solidFill>
                  <a:srgbClr val="11488b"/>
                </a:solidFill>
                <a:latin typeface="Arial"/>
                <a:ea typeface="Arial"/>
              </a:rPr>
              <a:t>Saturday,  April 25, 2015 at 06:11:26 UTC </a:t>
            </a:r>
            <a:endParaRPr b="0" lang="en-US" sz="1500" spc="-1" strike="noStrike">
              <a:solidFill>
                <a:srgbClr val="000000"/>
              </a:solidFill>
              <a:latin typeface="Arial"/>
            </a:endParaRPr>
          </a:p>
        </p:txBody>
      </p:sp>
      <p:pic>
        <p:nvPicPr>
          <p:cNvPr id="231" name="Picture 1" descr=""/>
          <p:cNvPicPr/>
          <p:nvPr/>
        </p:nvPicPr>
        <p:blipFill>
          <a:blip r:embed="rId3"/>
          <a:stretch/>
        </p:blipFill>
        <p:spPr>
          <a:xfrm>
            <a:off x="4406760" y="804960"/>
            <a:ext cx="4584960" cy="3614760"/>
          </a:xfrm>
          <a:prstGeom prst="rect">
            <a:avLst/>
          </a:prstGeom>
          <a:ln w="0">
            <a:noFill/>
          </a:ln>
        </p:spPr>
      </p:pic>
      <p:sp>
        <p:nvSpPr>
          <p:cNvPr id="232" name="TextBox 7"/>
          <p:cNvSpPr/>
          <p:nvPr/>
        </p:nvSpPr>
        <p:spPr>
          <a:xfrm>
            <a:off x="243000" y="1123920"/>
            <a:ext cx="394632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magnitude 6.7 aftershock was felt on Sunday in Nepal, India and Bangladesh, and more avalanches were reported near Mt. Everest.  Aftershocks following the magnitude 7.8 mainshock have resulted in additional damage and have been a major disruption to recovery effo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shock sequences follow predictable patterns as a group, although the individual earthquakes are themselves not predictable. The graph shows how the number of aftershocks and the magnitude of aftershocks decay with increasing time since the main shock. The number of aftershocks also decreases with distance from the main sho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Box 15"/>
          <p:cNvSpPr/>
          <p:nvPr/>
        </p:nvSpPr>
        <p:spPr>
          <a:xfrm>
            <a:off x="5487840" y="4352760"/>
            <a:ext cx="35481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modified from the Guardi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236" name="Picture 8" descr="IRIS_TMlogo.png"/>
          <p:cNvPicPr/>
          <p:nvPr/>
        </p:nvPicPr>
        <p:blipFill>
          <a:blip r:embed="rId1"/>
          <a:stretch/>
        </p:blipFill>
        <p:spPr>
          <a:xfrm>
            <a:off x="239760" y="76320"/>
            <a:ext cx="903240" cy="927000"/>
          </a:xfrm>
          <a:prstGeom prst="rect">
            <a:avLst/>
          </a:prstGeom>
          <a:ln w="0">
            <a:noFill/>
          </a:ln>
        </p:spPr>
      </p:pic>
      <p:pic>
        <p:nvPicPr>
          <p:cNvPr id="237" name="Picture 1" descr=""/>
          <p:cNvPicPr/>
          <p:nvPr/>
        </p:nvPicPr>
        <p:blipFill>
          <a:blip r:embed="rId2"/>
          <a:stretch/>
        </p:blipFill>
        <p:spPr>
          <a:xfrm>
            <a:off x="6210360" y="5181480"/>
            <a:ext cx="2705040" cy="1435320"/>
          </a:xfrm>
          <a:prstGeom prst="rect">
            <a:avLst/>
          </a:prstGeom>
          <a:ln w="0">
            <a:noFill/>
          </a:ln>
        </p:spPr>
      </p:pic>
      <p:pic>
        <p:nvPicPr>
          <p:cNvPr id="238" name="Picture 2" descr=""/>
          <p:cNvPicPr/>
          <p:nvPr/>
        </p:nvPicPr>
        <p:blipFill>
          <a:blip r:embed="rId3"/>
          <a:stretch/>
        </p:blipFill>
        <p:spPr>
          <a:xfrm>
            <a:off x="503280" y="5334120"/>
            <a:ext cx="1460520" cy="1150920"/>
          </a:xfrm>
          <a:prstGeom prst="rect">
            <a:avLst/>
          </a:prstGeom>
          <a:ln w="0">
            <a:noFill/>
          </a:ln>
        </p:spPr>
      </p:pic>
      <p:pic>
        <p:nvPicPr>
          <p:cNvPr id="239" name="Picture 1" descr=""/>
          <p:cNvPicPr/>
          <p:nvPr/>
        </p:nvPicPr>
        <p:blipFill>
          <a:blip r:embed="rId4"/>
          <a:stretch/>
        </p:blipFill>
        <p:spPr>
          <a:xfrm>
            <a:off x="3798720" y="5400720"/>
            <a:ext cx="1200240" cy="1206360"/>
          </a:xfrm>
          <a:prstGeom prst="rect">
            <a:avLst/>
          </a:prstGeom>
          <a:ln w="0">
            <a:noFill/>
          </a:ln>
        </p:spPr>
      </p:pic>
      <p:sp>
        <p:nvSpPr>
          <p:cNvPr id="24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NEPAL</a:t>
            </a:r>
            <a:br>
              <a:rPr sz="3500"/>
            </a:br>
            <a:r>
              <a:rPr b="1" lang="en-US" sz="1500" spc="-1" strike="noStrike">
                <a:solidFill>
                  <a:srgbClr val="11488b"/>
                </a:solidFill>
                <a:latin typeface="Arial"/>
                <a:ea typeface="Arial"/>
              </a:rPr>
              <a:t>Saturday,  April 25, 2015 at 06:11:2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8" descr="IRIS_TMlogo.png"/>
          <p:cNvPicPr/>
          <p:nvPr/>
        </p:nvPicPr>
        <p:blipFill>
          <a:blip r:embed="rId1"/>
          <a:stretch/>
        </p:blipFill>
        <p:spPr>
          <a:xfrm>
            <a:off x="239760" y="76320"/>
            <a:ext cx="903240" cy="927000"/>
          </a:xfrm>
          <a:prstGeom prst="rect">
            <a:avLst/>
          </a:prstGeom>
          <a:ln w="0">
            <a:noFill/>
          </a:ln>
        </p:spPr>
      </p:pic>
      <p:sp>
        <p:nvSpPr>
          <p:cNvPr id="57" name="TextBox 14"/>
          <p:cNvSpPr/>
          <p:nvPr/>
        </p:nvSpPr>
        <p:spPr>
          <a:xfrm>
            <a:off x="254160" y="1066680"/>
            <a:ext cx="6710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arthquake centered outside Kathmandu, the capital, was the worst to hit Nepal in over 80 years. It destroyed swaths of the oldest neighborhoods of Kathmandu and severely damaged three Unesco World Heritage sites.  The earthquake was strong enough to be felt all across parts of India, Bangladesh, China's region of Tibet and Pakistan.  </a:t>
            </a:r>
            <a:endParaRPr b="0" lang="en-US" sz="1800" spc="-1" strike="noStrike">
              <a:solidFill>
                <a:srgbClr val="000000"/>
              </a:solidFill>
              <a:latin typeface="Arial"/>
            </a:endParaRPr>
          </a:p>
        </p:txBody>
      </p:sp>
      <p:sp>
        <p:nvSpPr>
          <p:cNvPr id="5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NEPAL</a:t>
            </a:r>
            <a:br>
              <a:rPr sz="3500"/>
            </a:br>
            <a:r>
              <a:rPr b="1" lang="en-US" sz="1500" spc="-1" strike="noStrike">
                <a:solidFill>
                  <a:srgbClr val="11488b"/>
                </a:solidFill>
                <a:latin typeface="Arial"/>
                <a:ea typeface="Arial"/>
              </a:rPr>
              <a:t>Saturday,  April 25, 2015 at 06:11:26 UTC </a:t>
            </a:r>
            <a:endParaRPr b="0" lang="en-US" sz="1500" spc="-1" strike="noStrike">
              <a:solidFill>
                <a:srgbClr val="000000"/>
              </a:solidFill>
              <a:latin typeface="Arial"/>
            </a:endParaRPr>
          </a:p>
        </p:txBody>
      </p:sp>
      <p:pic>
        <p:nvPicPr>
          <p:cNvPr id="59" name="Picture 4" descr=""/>
          <p:cNvPicPr/>
          <p:nvPr/>
        </p:nvPicPr>
        <p:blipFill>
          <a:blip r:embed="rId2"/>
          <a:stretch/>
        </p:blipFill>
        <p:spPr>
          <a:xfrm>
            <a:off x="7121520" y="166680"/>
            <a:ext cx="1854360" cy="1854360"/>
          </a:xfrm>
          <a:prstGeom prst="rect">
            <a:avLst/>
          </a:prstGeom>
          <a:ln w="0">
            <a:noFill/>
          </a:ln>
        </p:spPr>
      </p:pic>
      <p:pic>
        <p:nvPicPr>
          <p:cNvPr id="60" name="Picture 1" descr=""/>
          <p:cNvPicPr/>
          <p:nvPr/>
        </p:nvPicPr>
        <p:blipFill>
          <a:blip r:embed="rId3"/>
          <a:stretch/>
        </p:blipFill>
        <p:spPr>
          <a:xfrm>
            <a:off x="380880" y="3014640"/>
            <a:ext cx="5943600" cy="3133800"/>
          </a:xfrm>
          <a:prstGeom prst="rect">
            <a:avLst/>
          </a:prstGeom>
          <a:ln w="0">
            <a:noFill/>
          </a:ln>
        </p:spPr>
      </p:pic>
      <p:sp>
        <p:nvSpPr>
          <p:cNvPr id="61" name="TextBox 15"/>
          <p:cNvSpPr/>
          <p:nvPr/>
        </p:nvSpPr>
        <p:spPr>
          <a:xfrm>
            <a:off x="2776680" y="6211800"/>
            <a:ext cx="3547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BBC</a:t>
            </a:r>
            <a:endParaRPr b="0" lang="en-US" sz="1400" spc="-1" strike="noStrike">
              <a:solidFill>
                <a:srgbClr val="000000"/>
              </a:solidFill>
              <a:latin typeface="Arial"/>
            </a:endParaRPr>
          </a:p>
        </p:txBody>
      </p:sp>
      <p:sp>
        <p:nvSpPr>
          <p:cNvPr id="62" name="TextBox 2"/>
          <p:cNvSpPr/>
          <p:nvPr/>
        </p:nvSpPr>
        <p:spPr>
          <a:xfrm>
            <a:off x="6400800" y="2949480"/>
            <a:ext cx="237816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ports of damage and injuries are still being confirmed.  The situation is unclear in remote areas which remain cut off or hard to access.  Many mountain roads are damaged or blocked by landslid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8" descr="IRIS_TMlogo.png"/>
          <p:cNvPicPr/>
          <p:nvPr/>
        </p:nvPicPr>
        <p:blipFill>
          <a:blip r:embed="rId1"/>
          <a:stretch/>
        </p:blipFill>
        <p:spPr>
          <a:xfrm>
            <a:off x="239760" y="76320"/>
            <a:ext cx="903240" cy="927000"/>
          </a:xfrm>
          <a:prstGeom prst="rect">
            <a:avLst/>
          </a:prstGeom>
          <a:ln w="0">
            <a:noFill/>
          </a:ln>
        </p:spPr>
      </p:pic>
      <p:sp>
        <p:nvSpPr>
          <p:cNvPr id="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NEPAL</a:t>
            </a:r>
            <a:br>
              <a:rPr sz="3500"/>
            </a:br>
            <a:r>
              <a:rPr b="1" lang="en-US" sz="1500" spc="-1" strike="noStrike">
                <a:solidFill>
                  <a:srgbClr val="11488b"/>
                </a:solidFill>
                <a:latin typeface="Arial"/>
                <a:ea typeface="Arial"/>
              </a:rPr>
              <a:t>Saturday,  April 25, 2015 at 06:11:26 UTC </a:t>
            </a:r>
            <a:endParaRPr b="0" lang="en-US" sz="1500" spc="-1" strike="noStrike">
              <a:solidFill>
                <a:srgbClr val="000000"/>
              </a:solidFill>
              <a:latin typeface="Arial"/>
            </a:endParaRPr>
          </a:p>
        </p:txBody>
      </p:sp>
      <p:sp>
        <p:nvSpPr>
          <p:cNvPr id="66" name="TextBox 1"/>
          <p:cNvSpPr/>
          <p:nvPr/>
        </p:nvSpPr>
        <p:spPr>
          <a:xfrm>
            <a:off x="239760" y="3633840"/>
            <a:ext cx="158904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approach the scene after an avalanche triggered by a massive earthquake swept across Everest Base Camp, Nepal on Saturday, April 25, 201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 Photo/ Azim Afif)</a:t>
            </a:r>
            <a:endParaRPr b="0" lang="en-US" sz="1400" spc="-1" strike="noStrike">
              <a:solidFill>
                <a:srgbClr val="000000"/>
              </a:solidFill>
              <a:latin typeface="Arial"/>
            </a:endParaRPr>
          </a:p>
        </p:txBody>
      </p:sp>
      <p:pic>
        <p:nvPicPr>
          <p:cNvPr id="67" name="Picture 1" descr=""/>
          <p:cNvPicPr/>
          <p:nvPr/>
        </p:nvPicPr>
        <p:blipFill>
          <a:blip r:embed="rId2"/>
          <a:stretch/>
        </p:blipFill>
        <p:spPr>
          <a:xfrm>
            <a:off x="1893960" y="2716200"/>
            <a:ext cx="7021440" cy="3949560"/>
          </a:xfrm>
          <a:prstGeom prst="rect">
            <a:avLst/>
          </a:prstGeom>
          <a:ln w="0">
            <a:noFill/>
          </a:ln>
        </p:spPr>
      </p:pic>
      <p:sp>
        <p:nvSpPr>
          <p:cNvPr id="68" name="TextBox 2"/>
          <p:cNvSpPr/>
          <p:nvPr/>
        </p:nvSpPr>
        <p:spPr>
          <a:xfrm>
            <a:off x="255600" y="1120680"/>
            <a:ext cx="8763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rthquake triggered a major avalanche on the south slopes of Mt. Everest, located approximately 160 km east-northeast of the epicenter. The avalanche destroyed the base camp, where climbers were waiting for a break in the weather to ascend the mountain. According to reports, the avalanche killed at least 17 people and injured 61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12" descr="scale.jpg"/>
          <p:cNvPicPr/>
          <p:nvPr/>
        </p:nvPicPr>
        <p:blipFill>
          <a:blip r:embed="rId1"/>
          <a:stretch/>
        </p:blipFill>
        <p:spPr>
          <a:xfrm>
            <a:off x="304920" y="4233960"/>
            <a:ext cx="2127240" cy="2319120"/>
          </a:xfrm>
          <a:prstGeom prst="rect">
            <a:avLst/>
          </a:prstGeom>
          <a:ln w="0">
            <a:noFill/>
          </a:ln>
        </p:spPr>
      </p:pic>
      <p:sp>
        <p:nvSpPr>
          <p:cNvPr id="71" name="TextBox 13"/>
          <p:cNvSpPr/>
          <p:nvPr/>
        </p:nvSpPr>
        <p:spPr>
          <a:xfrm>
            <a:off x="195120" y="38829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72" name="TextBox 14"/>
          <p:cNvSpPr/>
          <p:nvPr/>
        </p:nvSpPr>
        <p:spPr>
          <a:xfrm>
            <a:off x="246528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TextBox 15"/>
          <p:cNvSpPr/>
          <p:nvPr/>
        </p:nvSpPr>
        <p:spPr>
          <a:xfrm>
            <a:off x="4343400" y="647712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8 Earthquake</a:t>
            </a:r>
            <a:endParaRPr b="0" lang="en-US" sz="1400" spc="-1" strike="noStrike">
              <a:solidFill>
                <a:srgbClr val="000000"/>
              </a:solidFill>
              <a:latin typeface="Arial"/>
            </a:endParaRPr>
          </a:p>
        </p:txBody>
      </p:sp>
      <p:sp>
        <p:nvSpPr>
          <p:cNvPr id="74" name="TextBox 15"/>
          <p:cNvSpPr/>
          <p:nvPr/>
        </p:nvSpPr>
        <p:spPr>
          <a:xfrm>
            <a:off x="266760" y="1547640"/>
            <a:ext cx="341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 Mercalli Intensity (MMI) scale depicts shaking severity.  The area nearest Katmandu experienced very strong to severe shaking.</a:t>
            </a:r>
            <a:endParaRPr b="0" lang="en-US" sz="1800" spc="-1" strike="noStrike">
              <a:solidFill>
                <a:srgbClr val="000000"/>
              </a:solidFill>
              <a:latin typeface="Arial"/>
            </a:endParaRPr>
          </a:p>
        </p:txBody>
      </p:sp>
      <p:pic>
        <p:nvPicPr>
          <p:cNvPr id="75" name="Picture 8" descr="IRIS_TMlogo.png"/>
          <p:cNvPicPr/>
          <p:nvPr/>
        </p:nvPicPr>
        <p:blipFill>
          <a:blip r:embed="rId2"/>
          <a:stretch/>
        </p:blipFill>
        <p:spPr>
          <a:xfrm>
            <a:off x="239760" y="76320"/>
            <a:ext cx="903240" cy="927000"/>
          </a:xfrm>
          <a:prstGeom prst="rect">
            <a:avLst/>
          </a:prstGeom>
          <a:ln w="0">
            <a:noFill/>
          </a:ln>
        </p:spPr>
      </p:pic>
      <p:sp>
        <p:nvSpPr>
          <p:cNvPr id="76" name="TextBox 15"/>
          <p:cNvSpPr/>
          <p:nvPr/>
        </p:nvSpPr>
        <p:spPr>
          <a:xfrm>
            <a:off x="228600" y="6550200"/>
            <a:ext cx="403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7" name="TextBox 8"/>
          <p:cNvSpPr/>
          <p:nvPr/>
        </p:nvSpPr>
        <p:spPr>
          <a:xfrm>
            <a:off x="250920" y="1066680"/>
            <a:ext cx="426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Shaking Intensity</a:t>
            </a:r>
            <a:endParaRPr b="0" lang="en-US" sz="1800" spc="-1" strike="noStrike">
              <a:solidFill>
                <a:srgbClr val="000000"/>
              </a:solidFill>
              <a:latin typeface="Arial"/>
            </a:endParaRPr>
          </a:p>
        </p:txBody>
      </p:sp>
      <p:sp>
        <p:nvSpPr>
          <p:cNvPr id="7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NEPAL</a:t>
            </a:r>
            <a:br>
              <a:rPr sz="3500"/>
            </a:br>
            <a:r>
              <a:rPr b="1" lang="en-US" sz="1500" spc="-1" strike="noStrike">
                <a:solidFill>
                  <a:srgbClr val="11488b"/>
                </a:solidFill>
                <a:latin typeface="Arial"/>
                <a:ea typeface="Arial"/>
              </a:rPr>
              <a:t>Saturday,  April 25, 2015 at 06:11:26 UTC </a:t>
            </a:r>
            <a:endParaRPr b="0" lang="en-US" sz="1500" spc="-1" strike="noStrike">
              <a:solidFill>
                <a:srgbClr val="000000"/>
              </a:solidFill>
              <a:latin typeface="Arial"/>
            </a:endParaRPr>
          </a:p>
        </p:txBody>
      </p:sp>
      <p:pic>
        <p:nvPicPr>
          <p:cNvPr id="79" name="Picture 1" descr=""/>
          <p:cNvPicPr/>
          <p:nvPr/>
        </p:nvPicPr>
        <p:blipFill>
          <a:blip r:embed="rId3"/>
          <a:stretch/>
        </p:blipFill>
        <p:spPr>
          <a:xfrm>
            <a:off x="3809880" y="1457280"/>
            <a:ext cx="5218200" cy="5019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15"/>
          <p:cNvSpPr/>
          <p:nvPr/>
        </p:nvSpPr>
        <p:spPr>
          <a:xfrm>
            <a:off x="5105520" y="129528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82" name="Picture 8" descr="IRIS_TMlogo.png"/>
          <p:cNvPicPr/>
          <p:nvPr/>
        </p:nvPicPr>
        <p:blipFill>
          <a:blip r:embed="rId1"/>
          <a:stretch/>
        </p:blipFill>
        <p:spPr>
          <a:xfrm>
            <a:off x="239760" y="76320"/>
            <a:ext cx="903240" cy="927000"/>
          </a:xfrm>
          <a:prstGeom prst="rect">
            <a:avLst/>
          </a:prstGeom>
          <a:ln w="0">
            <a:noFill/>
          </a:ln>
        </p:spPr>
      </p:pic>
      <p:sp>
        <p:nvSpPr>
          <p:cNvPr id="83" name="TextBox 15"/>
          <p:cNvSpPr/>
          <p:nvPr/>
        </p:nvSpPr>
        <p:spPr>
          <a:xfrm>
            <a:off x="542772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84" name="TextBox 20"/>
          <p:cNvSpPr/>
          <p:nvPr/>
        </p:nvSpPr>
        <p:spPr>
          <a:xfrm>
            <a:off x="3333600" y="5521320"/>
            <a:ext cx="576756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85" name="TextBox 18"/>
          <p:cNvSpPr/>
          <p:nvPr/>
        </p:nvSpPr>
        <p:spPr>
          <a:xfrm>
            <a:off x="243000" y="1120680"/>
            <a:ext cx="50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itle 1"/>
          <p:cNvSpPr/>
          <p:nvPr/>
        </p:nvSpPr>
        <p:spPr>
          <a:xfrm>
            <a:off x="1244520" y="22320"/>
            <a:ext cx="7899480" cy="761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NEPAL</a:t>
            </a:r>
            <a:br>
              <a:rPr sz="3500"/>
            </a:br>
            <a:r>
              <a:rPr b="1" lang="en-US" sz="1500" spc="-1" strike="noStrike">
                <a:solidFill>
                  <a:srgbClr val="11488b"/>
                </a:solidFill>
                <a:latin typeface="Arial"/>
                <a:ea typeface="Arial"/>
              </a:rPr>
              <a:t>Saturday,  April 25, 2015 at 06:11:26 UTC </a:t>
            </a:r>
            <a:endParaRPr b="0" lang="en-US" sz="1500" spc="-1" strike="noStrike">
              <a:solidFill>
                <a:srgbClr val="000000"/>
              </a:solidFill>
              <a:latin typeface="Arial"/>
            </a:endParaRPr>
          </a:p>
        </p:txBody>
      </p:sp>
      <p:sp>
        <p:nvSpPr>
          <p:cNvPr id="87" name="TextBox 4"/>
          <p:cNvSpPr/>
          <p:nvPr/>
        </p:nvSpPr>
        <p:spPr>
          <a:xfrm>
            <a:off x="243000" y="207648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ly 5.3 million people experienced severe ground shaking during this earthquake.</a:t>
            </a:r>
            <a:endParaRPr b="0" lang="en-US" sz="1800" spc="-1" strike="noStrike">
              <a:solidFill>
                <a:srgbClr val="000000"/>
              </a:solidFill>
              <a:latin typeface="Arial"/>
            </a:endParaRPr>
          </a:p>
        </p:txBody>
      </p:sp>
      <p:pic>
        <p:nvPicPr>
          <p:cNvPr id="88" name="Picture 4" descr=""/>
          <p:cNvPicPr/>
          <p:nvPr/>
        </p:nvPicPr>
        <p:blipFill>
          <a:blip r:embed="rId2"/>
          <a:stretch/>
        </p:blipFill>
        <p:spPr>
          <a:xfrm>
            <a:off x="453960" y="3403440"/>
            <a:ext cx="2401920" cy="3319560"/>
          </a:xfrm>
          <a:prstGeom prst="rect">
            <a:avLst/>
          </a:prstGeom>
          <a:ln w="0">
            <a:noFill/>
          </a:ln>
        </p:spPr>
      </p:pic>
      <p:pic>
        <p:nvPicPr>
          <p:cNvPr id="89" name="Picture 5" descr=""/>
          <p:cNvPicPr/>
          <p:nvPr/>
        </p:nvPicPr>
        <p:blipFill>
          <a:blip r:embed="rId3"/>
          <a:stretch/>
        </p:blipFill>
        <p:spPr>
          <a:xfrm>
            <a:off x="3076560" y="1914480"/>
            <a:ext cx="5904000" cy="360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Picture 18" descr="IRIS_TMlogo.png"/>
          <p:cNvPicPr/>
          <p:nvPr/>
        </p:nvPicPr>
        <p:blipFill>
          <a:blip r:embed="rId1"/>
          <a:stretch/>
        </p:blipFill>
        <p:spPr>
          <a:xfrm>
            <a:off x="239760" y="76320"/>
            <a:ext cx="903240" cy="927000"/>
          </a:xfrm>
          <a:prstGeom prst="rect">
            <a:avLst/>
          </a:prstGeom>
          <a:ln w="0">
            <a:noFill/>
          </a:ln>
        </p:spPr>
      </p:pic>
      <p:sp>
        <p:nvSpPr>
          <p:cNvPr id="92" name="TextBox 7"/>
          <p:cNvSpPr/>
          <p:nvPr/>
        </p:nvSpPr>
        <p:spPr>
          <a:xfrm>
            <a:off x="239760" y="1066680"/>
            <a:ext cx="61610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rthquake activity in Nepal is caused by the ongoing continent-continent collision between India and Asia.  That collision has produced the Himalaya Mountains and the Tibetan Plateau.  The collision zone wraps around the northwest promontory of the Indian continent in the Hindu Kush region of Tajikistan and Afghanistan then extends to the southeast through Nepal and Bhutan.  </a:t>
            </a:r>
            <a:endParaRPr b="0" lang="en-US" sz="1800" spc="-1" strike="noStrike">
              <a:solidFill>
                <a:srgbClr val="000000"/>
              </a:solidFill>
              <a:latin typeface="Arial"/>
            </a:endParaRPr>
          </a:p>
        </p:txBody>
      </p:sp>
      <p:pic>
        <p:nvPicPr>
          <p:cNvPr id="93" name="Picture 15" descr=""/>
          <p:cNvPicPr/>
          <p:nvPr/>
        </p:nvPicPr>
        <p:blipFill>
          <a:blip r:embed="rId2"/>
          <a:stretch/>
        </p:blipFill>
        <p:spPr>
          <a:xfrm>
            <a:off x="6553080" y="304920"/>
            <a:ext cx="2313000" cy="4190760"/>
          </a:xfrm>
          <a:prstGeom prst="rect">
            <a:avLst/>
          </a:prstGeom>
          <a:ln w="0">
            <a:noFill/>
          </a:ln>
        </p:spPr>
      </p:pic>
      <p:pic>
        <p:nvPicPr>
          <p:cNvPr id="94" name="Picture 17" descr=""/>
          <p:cNvPicPr/>
          <p:nvPr/>
        </p:nvPicPr>
        <p:blipFill>
          <a:blip r:embed="rId3"/>
          <a:stretch/>
        </p:blipFill>
        <p:spPr>
          <a:xfrm>
            <a:off x="345960" y="3232080"/>
            <a:ext cx="3194280" cy="3446640"/>
          </a:xfrm>
          <a:prstGeom prst="rect">
            <a:avLst/>
          </a:prstGeom>
          <a:ln w="0">
            <a:noFill/>
          </a:ln>
        </p:spPr>
      </p:pic>
      <p:sp>
        <p:nvSpPr>
          <p:cNvPr id="95" name="TextBox 18"/>
          <p:cNvSpPr/>
          <p:nvPr/>
        </p:nvSpPr>
        <p:spPr>
          <a:xfrm>
            <a:off x="3720960" y="4800600"/>
            <a:ext cx="5145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tion of India into Asia is essentially perpendicular to the Himalaya Mountains in Nepal.  So thrust faulting earthquakes are the most common kind of earthquake in the central Himalayan region.  </a:t>
            </a:r>
            <a:endParaRPr b="0" lang="en-US" sz="1800" spc="-1" strike="noStrike">
              <a:solidFill>
                <a:srgbClr val="000000"/>
              </a:solidFill>
              <a:latin typeface="Arial"/>
            </a:endParaRPr>
          </a:p>
        </p:txBody>
      </p:sp>
      <p:sp>
        <p:nvSpPr>
          <p:cNvPr id="9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NEPAL</a:t>
            </a:r>
            <a:br>
              <a:rPr sz="3500"/>
            </a:br>
            <a:r>
              <a:rPr b="1" lang="en-US" sz="1500" spc="-1" strike="noStrike">
                <a:solidFill>
                  <a:srgbClr val="11488b"/>
                </a:solidFill>
                <a:latin typeface="Arial"/>
                <a:ea typeface="Arial"/>
              </a:rPr>
              <a:t>Saturday,  April 25, 2015 at 06:11:26 UTC </a:t>
            </a:r>
            <a:endParaRPr b="0" lang="en-US" sz="1500" spc="-1" strike="noStrike">
              <a:solidFill>
                <a:srgbClr val="000000"/>
              </a:solidFill>
              <a:latin typeface="Arial"/>
            </a:endParaRPr>
          </a:p>
        </p:txBody>
      </p:sp>
      <p:sp>
        <p:nvSpPr>
          <p:cNvPr id="97" name="5-Point Star 1"/>
          <p:cNvSpPr/>
          <p:nvPr/>
        </p:nvSpPr>
        <p:spPr>
          <a:xfrm>
            <a:off x="2155680" y="4262400"/>
            <a:ext cx="152640" cy="15228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18" descr="IRIS_TMlogo.png"/>
          <p:cNvPicPr/>
          <p:nvPr/>
        </p:nvPicPr>
        <p:blipFill>
          <a:blip r:embed="rId1"/>
          <a:stretch/>
        </p:blipFill>
        <p:spPr>
          <a:xfrm>
            <a:off x="239760" y="76320"/>
            <a:ext cx="903240" cy="927000"/>
          </a:xfrm>
          <a:prstGeom prst="rect">
            <a:avLst/>
          </a:prstGeom>
          <a:ln w="0">
            <a:noFill/>
          </a:ln>
        </p:spPr>
      </p:pic>
      <p:sp>
        <p:nvSpPr>
          <p:cNvPr id="99" name="TextBox 7"/>
          <p:cNvSpPr/>
          <p:nvPr/>
        </p:nvSpPr>
        <p:spPr>
          <a:xfrm>
            <a:off x="264960" y="1081080"/>
            <a:ext cx="4002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occurred as the result of thrust faulting between the subducting Indian Plate and the overriding Eurasian Plate to the north.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location of this earthquake the Indian Plate is converging with Eurasia at a rate of 45 mm/yr towards the north-northeast, driving the uplift of the Himalayas and the Tibetan Plateau.</a:t>
            </a:r>
            <a:endParaRPr b="0" lang="en-US" sz="1800" spc="-1" strike="noStrike">
              <a:solidFill>
                <a:srgbClr val="000000"/>
              </a:solidFill>
              <a:latin typeface="Arial"/>
            </a:endParaRPr>
          </a:p>
        </p:txBody>
      </p:sp>
      <p:sp>
        <p:nvSpPr>
          <p:cNvPr id="100" name="TextBox 11"/>
          <p:cNvSpPr/>
          <p:nvPr/>
        </p:nvSpPr>
        <p:spPr>
          <a:xfrm>
            <a:off x="264960" y="5384880"/>
            <a:ext cx="1970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grpSp>
        <p:nvGrpSpPr>
          <p:cNvPr id="101" name="Group 5"/>
          <p:cNvGrpSpPr/>
          <p:nvPr/>
        </p:nvGrpSpPr>
        <p:grpSpPr>
          <a:xfrm>
            <a:off x="3908520" y="4167360"/>
            <a:ext cx="4187880" cy="2063520"/>
            <a:chOff x="3908520" y="4167360"/>
            <a:chExt cx="4187880" cy="2063520"/>
          </a:xfrm>
        </p:grpSpPr>
        <p:pic>
          <p:nvPicPr>
            <p:cNvPr id="102" name="Picture 2" descr=""/>
            <p:cNvPicPr/>
            <p:nvPr/>
          </p:nvPicPr>
          <p:blipFill>
            <a:blip r:embed="rId2"/>
            <a:stretch/>
          </p:blipFill>
          <p:spPr>
            <a:xfrm>
              <a:off x="4041360" y="4167360"/>
              <a:ext cx="3941640" cy="1709280"/>
            </a:xfrm>
            <a:prstGeom prst="rect">
              <a:avLst/>
            </a:prstGeom>
            <a:ln w="0">
              <a:noFill/>
            </a:ln>
          </p:spPr>
        </p:pic>
        <p:pic>
          <p:nvPicPr>
            <p:cNvPr id="103" name="Picture 4" descr=""/>
            <p:cNvPicPr/>
            <p:nvPr/>
          </p:nvPicPr>
          <p:blipFill>
            <a:blip r:embed="rId3"/>
            <a:srcRect l="0" t="73115" r="0" b="0"/>
            <a:stretch/>
          </p:blipFill>
          <p:spPr>
            <a:xfrm>
              <a:off x="3908520" y="5685840"/>
              <a:ext cx="4187880" cy="545040"/>
            </a:xfrm>
            <a:prstGeom prst="rect">
              <a:avLst/>
            </a:prstGeom>
            <a:ln w="0">
              <a:noFill/>
            </a:ln>
          </p:spPr>
        </p:pic>
      </p:grpSp>
      <p:sp>
        <p:nvSpPr>
          <p:cNvPr id="1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NEPAL</a:t>
            </a:r>
            <a:br>
              <a:rPr sz="3500"/>
            </a:br>
            <a:r>
              <a:rPr b="1" lang="en-US" sz="1500" spc="-1" strike="noStrike">
                <a:solidFill>
                  <a:srgbClr val="11488b"/>
                </a:solidFill>
                <a:latin typeface="Arial"/>
                <a:ea typeface="Arial"/>
              </a:rPr>
              <a:t>Saturday,  April 25, 2015 at 06:11:26 UTC </a:t>
            </a:r>
            <a:endParaRPr b="0" lang="en-US" sz="1500" spc="-1" strike="noStrike">
              <a:solidFill>
                <a:srgbClr val="000000"/>
              </a:solidFill>
              <a:latin typeface="Arial"/>
            </a:endParaRPr>
          </a:p>
        </p:txBody>
      </p:sp>
      <p:grpSp>
        <p:nvGrpSpPr>
          <p:cNvPr id="105" name="Group 4"/>
          <p:cNvGrpSpPr/>
          <p:nvPr/>
        </p:nvGrpSpPr>
        <p:grpSpPr>
          <a:xfrm>
            <a:off x="2079000" y="4336920"/>
            <a:ext cx="1883520" cy="1801800"/>
            <a:chOff x="2079000" y="4336920"/>
            <a:chExt cx="1883520" cy="1801800"/>
          </a:xfrm>
        </p:grpSpPr>
        <p:pic>
          <p:nvPicPr>
            <p:cNvPr id="106" name="Picture 1" descr="CentroidMomentTensor.tiff"/>
            <p:cNvPicPr/>
            <p:nvPr/>
          </p:nvPicPr>
          <p:blipFill>
            <a:blip r:embed="rId4"/>
            <a:srcRect l="21250" t="1957" r="18277" b="6210"/>
            <a:stretch/>
          </p:blipFill>
          <p:spPr>
            <a:xfrm>
              <a:off x="2164680" y="4336920"/>
              <a:ext cx="1797840" cy="1801800"/>
            </a:xfrm>
            <a:prstGeom prst="rect">
              <a:avLst/>
            </a:prstGeom>
            <a:ln w="0">
              <a:noFill/>
            </a:ln>
          </p:spPr>
        </p:pic>
        <p:sp>
          <p:nvSpPr>
            <p:cNvPr id="107" name="Rectangle 2"/>
            <p:cNvSpPr/>
            <p:nvPr/>
          </p:nvSpPr>
          <p:spPr>
            <a:xfrm rot="1816200">
              <a:off x="2106360" y="4711320"/>
              <a:ext cx="153720" cy="150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4" descr=""/>
          <p:cNvPicPr/>
          <p:nvPr/>
        </p:nvPicPr>
        <p:blipFill>
          <a:blip r:embed="rId5"/>
          <a:stretch/>
        </p:blipFill>
        <p:spPr>
          <a:xfrm>
            <a:off x="4267080" y="990720"/>
            <a:ext cx="4800600" cy="2981160"/>
          </a:xfrm>
          <a:prstGeom prst="rect">
            <a:avLst/>
          </a:prstGeom>
          <a:ln w="0">
            <a:noFill/>
          </a:ln>
        </p:spPr>
      </p:pic>
      <p:sp>
        <p:nvSpPr>
          <p:cNvPr id="110" name="TextBox 8"/>
          <p:cNvSpPr/>
          <p:nvPr/>
        </p:nvSpPr>
        <p:spPr>
          <a:xfrm>
            <a:off x="264960" y="6230880"/>
            <a:ext cx="6135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he tension axis (T) reflects the minimum compressive stress direction.  The pressure axis (P) reflects the maximum compressive stress direc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 descr=""/>
          <p:cNvPicPr/>
          <p:nvPr/>
        </p:nvPicPr>
        <p:blipFill>
          <a:blip r:embed="rId1"/>
          <a:stretch/>
        </p:blipFill>
        <p:spPr>
          <a:xfrm>
            <a:off x="357120" y="1146240"/>
            <a:ext cx="3367080" cy="3359160"/>
          </a:xfrm>
          <a:prstGeom prst="rect">
            <a:avLst/>
          </a:prstGeom>
          <a:ln w="0">
            <a:noFill/>
          </a:ln>
        </p:spPr>
      </p:pic>
      <p:sp>
        <p:nvSpPr>
          <p:cNvPr id="11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18" descr="IRIS_TMlogo.png"/>
          <p:cNvPicPr/>
          <p:nvPr/>
        </p:nvPicPr>
        <p:blipFill>
          <a:blip r:embed="rId2"/>
          <a:stretch/>
        </p:blipFill>
        <p:spPr>
          <a:xfrm>
            <a:off x="239760" y="76320"/>
            <a:ext cx="903240" cy="927000"/>
          </a:xfrm>
          <a:prstGeom prst="rect">
            <a:avLst/>
          </a:prstGeom>
          <a:ln w="0">
            <a:noFill/>
          </a:ln>
        </p:spPr>
      </p:pic>
      <p:sp>
        <p:nvSpPr>
          <p:cNvPr id="114" name="TextBox 7"/>
          <p:cNvSpPr/>
          <p:nvPr/>
        </p:nvSpPr>
        <p:spPr>
          <a:xfrm>
            <a:off x="3930480" y="901800"/>
            <a:ext cx="5231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ward underthrusting of India beneath Eurasia generates numerous earthquake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equently makes this area one of the most seismically hazardous on Earth.</a:t>
            </a:r>
            <a:endParaRPr b="0" lang="en-US" sz="1800" spc="-1" strike="noStrike">
              <a:solidFill>
                <a:srgbClr val="000000"/>
              </a:solidFill>
              <a:latin typeface="Arial"/>
            </a:endParaRPr>
          </a:p>
        </p:txBody>
      </p:sp>
      <p:sp>
        <p:nvSpPr>
          <p:cNvPr id="115" name="TextBox 2"/>
          <p:cNvSpPr/>
          <p:nvPr/>
        </p:nvSpPr>
        <p:spPr>
          <a:xfrm>
            <a:off x="276120" y="5529240"/>
            <a:ext cx="4095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arthquake hazard map illustrates the peak ground acceleration expected to be exceeded with 10% probability during a 50-year period.  The dark red zones indicate accelerations of about 0.5g where g=acceleration of gravity.</a:t>
            </a:r>
            <a:endParaRPr b="0" lang="en-US" sz="1200" spc="-1" strike="noStrike">
              <a:solidFill>
                <a:srgbClr val="000000"/>
              </a:solidFill>
              <a:latin typeface="Arial"/>
            </a:endParaRPr>
          </a:p>
        </p:txBody>
      </p:sp>
      <p:pic>
        <p:nvPicPr>
          <p:cNvPr id="116" name="Picture 5" descr=""/>
          <p:cNvPicPr/>
          <p:nvPr/>
        </p:nvPicPr>
        <p:blipFill>
          <a:blip r:embed="rId3"/>
          <a:stretch/>
        </p:blipFill>
        <p:spPr>
          <a:xfrm>
            <a:off x="276120" y="4675320"/>
            <a:ext cx="4181760" cy="836640"/>
          </a:xfrm>
          <a:prstGeom prst="rect">
            <a:avLst/>
          </a:prstGeom>
          <a:ln w="0">
            <a:noFill/>
          </a:ln>
        </p:spPr>
      </p:pic>
      <p:sp>
        <p:nvSpPr>
          <p:cNvPr id="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NEPAL</a:t>
            </a:r>
            <a:br>
              <a:rPr sz="3500"/>
            </a:br>
            <a:r>
              <a:rPr b="1" lang="en-US" sz="1500" spc="-1" strike="noStrike">
                <a:solidFill>
                  <a:srgbClr val="11488b"/>
                </a:solidFill>
                <a:latin typeface="Arial"/>
                <a:ea typeface="Arial"/>
              </a:rPr>
              <a:t>Saturday,  April 25, 2015 at 06:11:26 UTC </a:t>
            </a:r>
            <a:endParaRPr b="0" lang="en-US" sz="1500" spc="-1" strike="noStrike">
              <a:solidFill>
                <a:srgbClr val="000000"/>
              </a:solidFill>
              <a:latin typeface="Arial"/>
            </a:endParaRPr>
          </a:p>
        </p:txBody>
      </p:sp>
      <p:pic>
        <p:nvPicPr>
          <p:cNvPr id="118" name="Picture 2" descr=""/>
          <p:cNvPicPr/>
          <p:nvPr/>
        </p:nvPicPr>
        <p:blipFill>
          <a:blip r:embed="rId4"/>
          <a:stretch/>
        </p:blipFill>
        <p:spPr>
          <a:xfrm>
            <a:off x="4451400" y="2174760"/>
            <a:ext cx="4660920" cy="4265640"/>
          </a:xfrm>
          <a:prstGeom prst="rect">
            <a:avLst/>
          </a:prstGeom>
          <a:ln w="0">
            <a:noFill/>
          </a:ln>
        </p:spPr>
      </p:pic>
      <p:sp>
        <p:nvSpPr>
          <p:cNvPr id="119" name="TextBox 15"/>
          <p:cNvSpPr/>
          <p:nvPr/>
        </p:nvSpPr>
        <p:spPr>
          <a:xfrm>
            <a:off x="4000680" y="6480000"/>
            <a:ext cx="5073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 </a:t>
            </a:r>
            <a:r>
              <a:rPr b="0" i="1" lang="en-US" sz="1400" spc="-1" strike="noStrike">
                <a:solidFill>
                  <a:srgbClr val="000000"/>
                </a:solidFill>
                <a:latin typeface="Arial"/>
              </a:rPr>
              <a:t>Seismic Hazard Image courtesy of the US Geological Survey</a:t>
            </a:r>
            <a:endParaRPr b="0" lang="en-US" sz="1400" spc="-1" strike="noStrike">
              <a:solidFill>
                <a:srgbClr val="000000"/>
              </a:solidFill>
              <a:latin typeface="Arial"/>
            </a:endParaRPr>
          </a:p>
        </p:txBody>
      </p:sp>
      <p:sp>
        <p:nvSpPr>
          <p:cNvPr id="120" name="Rectangle 11"/>
          <p:cNvSpPr/>
          <p:nvPr/>
        </p:nvSpPr>
        <p:spPr>
          <a:xfrm>
            <a:off x="5413320" y="3162240"/>
            <a:ext cx="2613240" cy="2171880"/>
          </a:xfrm>
          <a:prstGeom prst="rect">
            <a:avLst/>
          </a:prstGeom>
          <a:noFill/>
          <a:ln w="12600">
            <a:solidFill>
              <a:srgbClr val="33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Straight Connector 12"/>
          <p:cNvSpPr/>
          <p:nvPr/>
        </p:nvSpPr>
        <p:spPr>
          <a:xfrm flipH="1" flipV="1">
            <a:off x="3682800" y="1168560"/>
            <a:ext cx="4343400" cy="19936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Straight Connector 13"/>
          <p:cNvSpPr/>
          <p:nvPr/>
        </p:nvSpPr>
        <p:spPr>
          <a:xfrm flipH="1" flipV="1">
            <a:off x="356760" y="4505400"/>
            <a:ext cx="5056200" cy="82872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9"/>
          <p:cNvSpPr/>
          <p:nvPr/>
        </p:nvSpPr>
        <p:spPr>
          <a:xfrm>
            <a:off x="203040" y="1143000"/>
            <a:ext cx="3173400" cy="562572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p shows epicenters of earthquakes since 1990 (&gt;M4) within the India – Asia collision zone.  Note the belt of earthquakes along and south of the Himalaya Mountains sweeping through Nepal (yellow outline).  </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earthquakes </a:t>
            </a:r>
            <a:r>
              <a:rPr b="0" lang="en-US" sz="1800" spc="-1" strike="noStrike" u="sng">
                <a:solidFill>
                  <a:srgbClr val="000000"/>
                </a:solidFill>
                <a:uFillTx/>
                <a:latin typeface="Arial"/>
              </a:rPr>
              <a:t>&gt;</a:t>
            </a:r>
            <a:r>
              <a:rPr b="0" lang="en-US" sz="1800" spc="-1" strike="noStrike">
                <a:solidFill>
                  <a:srgbClr val="000000"/>
                </a:solidFill>
                <a:latin typeface="Arial"/>
              </a:rPr>
              <a:t>M6 have occurred within 250 km of the April 25 earthquake over the past century.  The largest included a M6.9 in August 1988 and a M8.0 in 1934 which severely damaged Kathmandu.  The 1934 earthquake is thought to have caused around 10,600 fatalities.</a:t>
            </a:r>
            <a:endParaRPr b="0" lang="en-US" sz="1800" spc="-1" strike="noStrike">
              <a:solidFill>
                <a:srgbClr val="000000"/>
              </a:solidFill>
              <a:latin typeface="Arial"/>
            </a:endParaRPr>
          </a:p>
        </p:txBody>
      </p:sp>
      <p:pic>
        <p:nvPicPr>
          <p:cNvPr id="125" name="Picture 8" descr="IRIS_TMlogo.png"/>
          <p:cNvPicPr/>
          <p:nvPr/>
        </p:nvPicPr>
        <p:blipFill>
          <a:blip r:embed="rId1"/>
          <a:stretch/>
        </p:blipFill>
        <p:spPr>
          <a:xfrm>
            <a:off x="239760" y="76320"/>
            <a:ext cx="903240" cy="927000"/>
          </a:xfrm>
          <a:prstGeom prst="rect">
            <a:avLst/>
          </a:prstGeom>
          <a:ln w="0">
            <a:noFill/>
          </a:ln>
        </p:spPr>
      </p:pic>
      <p:sp>
        <p:nvSpPr>
          <p:cNvPr id="12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8 NEPAL</a:t>
            </a:r>
            <a:br>
              <a:rPr sz="3500"/>
            </a:br>
            <a:r>
              <a:rPr b="1" lang="en-US" sz="1500" spc="-1" strike="noStrike">
                <a:solidFill>
                  <a:srgbClr val="11488b"/>
                </a:solidFill>
                <a:latin typeface="Arial"/>
                <a:ea typeface="Arial"/>
              </a:rPr>
              <a:t>Saturday,  April 25, 2015 at 06:11:26 UTC </a:t>
            </a:r>
            <a:endParaRPr b="0" lang="en-US" sz="1500" spc="-1" strike="noStrike">
              <a:solidFill>
                <a:srgbClr val="000000"/>
              </a:solidFill>
              <a:latin typeface="Arial"/>
            </a:endParaRPr>
          </a:p>
        </p:txBody>
      </p:sp>
      <p:pic>
        <p:nvPicPr>
          <p:cNvPr id="127" name="Picture 1" descr="1990-Present M&gt;4.tiff"/>
          <p:cNvPicPr/>
          <p:nvPr/>
        </p:nvPicPr>
        <p:blipFill>
          <a:blip r:embed="rId2"/>
          <a:stretch/>
        </p:blipFill>
        <p:spPr>
          <a:xfrm>
            <a:off x="3581280" y="1143000"/>
            <a:ext cx="5486400" cy="5327640"/>
          </a:xfrm>
          <a:prstGeom prst="rect">
            <a:avLst/>
          </a:prstGeom>
          <a:ln w="28440">
            <a:solidFill>
              <a:srgbClr val="660066"/>
            </a:solidFill>
            <a:miter/>
          </a:ln>
          <a:effectLst>
            <a:outerShdw dist="38183" dir="2700000" blurRad="0" rotWithShape="0">
              <a:srgbClr val="808080">
                <a:alpha val="43000"/>
              </a:srgbClr>
            </a:outerShdw>
          </a:effectLst>
        </p:spPr>
      </p:pic>
      <p:sp>
        <p:nvSpPr>
          <p:cNvPr id="128" name="TextBox 5"/>
          <p:cNvSpPr/>
          <p:nvPr/>
        </p:nvSpPr>
        <p:spPr>
          <a:xfrm>
            <a:off x="4887720" y="4648320"/>
            <a:ext cx="1125720" cy="459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7.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25, 2015</a:t>
            </a:r>
            <a:endParaRPr b="0" lang="en-US" sz="1200" spc="-1" strike="noStrike">
              <a:solidFill>
                <a:srgbClr val="000000"/>
              </a:solidFill>
              <a:latin typeface="Arial"/>
            </a:endParaRPr>
          </a:p>
        </p:txBody>
      </p:sp>
      <p:sp>
        <p:nvSpPr>
          <p:cNvPr id="129" name="Freeform 8"/>
          <p:cNvSpPr/>
          <p:nvPr/>
        </p:nvSpPr>
        <p:spPr>
          <a:xfrm>
            <a:off x="4416480" y="3243240"/>
            <a:ext cx="3179880" cy="1697040"/>
          </a:xfrm>
          <a:custGeom>
            <a:avLst/>
            <a:gdLst/>
            <a:ahLst/>
            <a:rect l="l" t="t" r="r" b="b"/>
            <a:pathLst>
              <a:path w="3179397" h="1698413">
                <a:moveTo>
                  <a:pt x="2890822" y="1677479"/>
                </a:moveTo>
                <a:cubicBezTo>
                  <a:pt x="2895561" y="1652206"/>
                  <a:pt x="2893583" y="1582334"/>
                  <a:pt x="2900300" y="1535320"/>
                </a:cubicBezTo>
                <a:cubicBezTo>
                  <a:pt x="2903126" y="1515541"/>
                  <a:pt x="2919256" y="1478456"/>
                  <a:pt x="2919256" y="1478456"/>
                </a:cubicBezTo>
                <a:cubicBezTo>
                  <a:pt x="2916097" y="1453183"/>
                  <a:pt x="2914334" y="1427696"/>
                  <a:pt x="2909778" y="1402638"/>
                </a:cubicBezTo>
                <a:cubicBezTo>
                  <a:pt x="2905176" y="1377326"/>
                  <a:pt x="2882265" y="1354331"/>
                  <a:pt x="2909778" y="1326820"/>
                </a:cubicBezTo>
                <a:cubicBezTo>
                  <a:pt x="2923907" y="1312692"/>
                  <a:pt x="2947690" y="1314183"/>
                  <a:pt x="2966646" y="1307865"/>
                </a:cubicBezTo>
                <a:cubicBezTo>
                  <a:pt x="2966657" y="1307861"/>
                  <a:pt x="3023504" y="1288915"/>
                  <a:pt x="3023515" y="1288910"/>
                </a:cubicBezTo>
                <a:cubicBezTo>
                  <a:pt x="3036152" y="1282592"/>
                  <a:pt x="3049160" y="1276965"/>
                  <a:pt x="3061427" y="1269956"/>
                </a:cubicBezTo>
                <a:cubicBezTo>
                  <a:pt x="3071318" y="1264305"/>
                  <a:pt x="3081348" y="1258569"/>
                  <a:pt x="3089862" y="1251001"/>
                </a:cubicBezTo>
                <a:cubicBezTo>
                  <a:pt x="3109898" y="1233193"/>
                  <a:pt x="3127774" y="1213092"/>
                  <a:pt x="3146730" y="1194138"/>
                </a:cubicBezTo>
                <a:lnTo>
                  <a:pt x="3165687" y="1175183"/>
                </a:lnTo>
                <a:cubicBezTo>
                  <a:pt x="3187062" y="1111064"/>
                  <a:pt x="3180588" y="1142741"/>
                  <a:pt x="3165687" y="1023546"/>
                </a:cubicBezTo>
                <a:cubicBezTo>
                  <a:pt x="3164448" y="1013633"/>
                  <a:pt x="3163272" y="1002179"/>
                  <a:pt x="3156208" y="995115"/>
                </a:cubicBezTo>
                <a:cubicBezTo>
                  <a:pt x="3149143" y="988051"/>
                  <a:pt x="3137252" y="988796"/>
                  <a:pt x="3127774" y="985637"/>
                </a:cubicBezTo>
                <a:cubicBezTo>
                  <a:pt x="3086702" y="988796"/>
                  <a:pt x="3045470" y="990302"/>
                  <a:pt x="3004559" y="995115"/>
                </a:cubicBezTo>
                <a:cubicBezTo>
                  <a:pt x="2976795" y="998381"/>
                  <a:pt x="2963787" y="1007095"/>
                  <a:pt x="2938212" y="1014069"/>
                </a:cubicBezTo>
                <a:cubicBezTo>
                  <a:pt x="2913077" y="1020923"/>
                  <a:pt x="2886577" y="1023349"/>
                  <a:pt x="2862387" y="1033024"/>
                </a:cubicBezTo>
                <a:cubicBezTo>
                  <a:pt x="2802902" y="1056816"/>
                  <a:pt x="2831502" y="1047852"/>
                  <a:pt x="2777084" y="1061456"/>
                </a:cubicBezTo>
                <a:cubicBezTo>
                  <a:pt x="2668442" y="1056283"/>
                  <a:pt x="2622203" y="1067120"/>
                  <a:pt x="2540132" y="1042501"/>
                </a:cubicBezTo>
                <a:cubicBezTo>
                  <a:pt x="2520993" y="1036760"/>
                  <a:pt x="2499889" y="1034629"/>
                  <a:pt x="2483263" y="1023546"/>
                </a:cubicBezTo>
                <a:lnTo>
                  <a:pt x="2454829" y="1004592"/>
                </a:lnTo>
                <a:cubicBezTo>
                  <a:pt x="2423235" y="1007751"/>
                  <a:pt x="2390986" y="1006930"/>
                  <a:pt x="2360048" y="1014069"/>
                </a:cubicBezTo>
                <a:cubicBezTo>
                  <a:pt x="2348948" y="1016630"/>
                  <a:pt x="2341802" y="1027930"/>
                  <a:pt x="2331613" y="1033024"/>
                </a:cubicBezTo>
                <a:cubicBezTo>
                  <a:pt x="2322677" y="1037492"/>
                  <a:pt x="2312657" y="1039342"/>
                  <a:pt x="2303179" y="1042501"/>
                </a:cubicBezTo>
                <a:cubicBezTo>
                  <a:pt x="2284223" y="1039342"/>
                  <a:pt x="2264305" y="1039771"/>
                  <a:pt x="2246311" y="1033024"/>
                </a:cubicBezTo>
                <a:cubicBezTo>
                  <a:pt x="2229612" y="1026762"/>
                  <a:pt x="2219165" y="995057"/>
                  <a:pt x="2208398" y="985637"/>
                </a:cubicBezTo>
                <a:cubicBezTo>
                  <a:pt x="2191252" y="970636"/>
                  <a:pt x="2170485" y="960364"/>
                  <a:pt x="2151529" y="947728"/>
                </a:cubicBezTo>
                <a:cubicBezTo>
                  <a:pt x="2142051" y="941410"/>
                  <a:pt x="2133901" y="932376"/>
                  <a:pt x="2123095" y="928774"/>
                </a:cubicBezTo>
                <a:lnTo>
                  <a:pt x="2066227" y="909819"/>
                </a:lnTo>
                <a:cubicBezTo>
                  <a:pt x="2056749" y="903501"/>
                  <a:pt x="2047981" y="895958"/>
                  <a:pt x="2037792" y="890864"/>
                </a:cubicBezTo>
                <a:cubicBezTo>
                  <a:pt x="2028856" y="886396"/>
                  <a:pt x="2019050" y="883810"/>
                  <a:pt x="2009358" y="881387"/>
                </a:cubicBezTo>
                <a:cubicBezTo>
                  <a:pt x="1946935" y="865783"/>
                  <a:pt x="1913181" y="868158"/>
                  <a:pt x="1838752" y="862433"/>
                </a:cubicBezTo>
                <a:cubicBezTo>
                  <a:pt x="1817087" y="797441"/>
                  <a:pt x="1838752" y="878107"/>
                  <a:pt x="1838752" y="786614"/>
                </a:cubicBezTo>
                <a:cubicBezTo>
                  <a:pt x="1838752" y="776624"/>
                  <a:pt x="1838966" y="760605"/>
                  <a:pt x="1829274" y="758182"/>
                </a:cubicBezTo>
                <a:cubicBezTo>
                  <a:pt x="1783196" y="746664"/>
                  <a:pt x="1734493" y="751864"/>
                  <a:pt x="1687102" y="748705"/>
                </a:cubicBezTo>
                <a:cubicBezTo>
                  <a:pt x="1674465" y="745546"/>
                  <a:pt x="1661163" y="744359"/>
                  <a:pt x="1649190" y="739228"/>
                </a:cubicBezTo>
                <a:cubicBezTo>
                  <a:pt x="1638720" y="734741"/>
                  <a:pt x="1630945" y="725367"/>
                  <a:pt x="1620756" y="720273"/>
                </a:cubicBezTo>
                <a:cubicBezTo>
                  <a:pt x="1611820" y="715805"/>
                  <a:pt x="1601799" y="713955"/>
                  <a:pt x="1592321" y="710796"/>
                </a:cubicBezTo>
                <a:cubicBezTo>
                  <a:pt x="1582843" y="704478"/>
                  <a:pt x="1573777" y="697492"/>
                  <a:pt x="1563887" y="691841"/>
                </a:cubicBezTo>
                <a:cubicBezTo>
                  <a:pt x="1551620" y="684832"/>
                  <a:pt x="1534453" y="684190"/>
                  <a:pt x="1525975" y="672887"/>
                </a:cubicBezTo>
                <a:cubicBezTo>
                  <a:pt x="1508949" y="650188"/>
                  <a:pt x="1491394" y="531246"/>
                  <a:pt x="1488062" y="521250"/>
                </a:cubicBezTo>
                <a:cubicBezTo>
                  <a:pt x="1484903" y="511773"/>
                  <a:pt x="1485648" y="499882"/>
                  <a:pt x="1478584" y="492818"/>
                </a:cubicBezTo>
                <a:cubicBezTo>
                  <a:pt x="1471519" y="485754"/>
                  <a:pt x="1459628" y="486500"/>
                  <a:pt x="1450150" y="483341"/>
                </a:cubicBezTo>
                <a:cubicBezTo>
                  <a:pt x="1415397" y="486500"/>
                  <a:pt x="1380013" y="485507"/>
                  <a:pt x="1345891" y="492818"/>
                </a:cubicBezTo>
                <a:cubicBezTo>
                  <a:pt x="1334753" y="495205"/>
                  <a:pt x="1327645" y="506679"/>
                  <a:pt x="1317456" y="511773"/>
                </a:cubicBezTo>
                <a:cubicBezTo>
                  <a:pt x="1308520" y="516241"/>
                  <a:pt x="1298500" y="518091"/>
                  <a:pt x="1289022" y="521250"/>
                </a:cubicBezTo>
                <a:cubicBezTo>
                  <a:pt x="1265895" y="513542"/>
                  <a:pt x="1250528" y="511191"/>
                  <a:pt x="1232153" y="492818"/>
                </a:cubicBezTo>
                <a:cubicBezTo>
                  <a:pt x="1197182" y="457850"/>
                  <a:pt x="1231348" y="467010"/>
                  <a:pt x="1184763" y="435955"/>
                </a:cubicBezTo>
                <a:cubicBezTo>
                  <a:pt x="1176450" y="430413"/>
                  <a:pt x="1165807" y="429636"/>
                  <a:pt x="1156329" y="426477"/>
                </a:cubicBezTo>
                <a:cubicBezTo>
                  <a:pt x="1143691" y="407523"/>
                  <a:pt x="1137371" y="382250"/>
                  <a:pt x="1118416" y="369614"/>
                </a:cubicBezTo>
                <a:lnTo>
                  <a:pt x="1033113" y="312750"/>
                </a:lnTo>
                <a:cubicBezTo>
                  <a:pt x="1023635" y="306432"/>
                  <a:pt x="1012734" y="301850"/>
                  <a:pt x="1004679" y="293796"/>
                </a:cubicBezTo>
                <a:cubicBezTo>
                  <a:pt x="948077" y="237198"/>
                  <a:pt x="978961" y="251827"/>
                  <a:pt x="919376" y="236932"/>
                </a:cubicBezTo>
                <a:lnTo>
                  <a:pt x="834073" y="180068"/>
                </a:lnTo>
                <a:lnTo>
                  <a:pt x="805639" y="161114"/>
                </a:lnTo>
                <a:cubicBezTo>
                  <a:pt x="747296" y="73606"/>
                  <a:pt x="821748" y="181249"/>
                  <a:pt x="767726" y="113727"/>
                </a:cubicBezTo>
                <a:cubicBezTo>
                  <a:pt x="760610" y="104833"/>
                  <a:pt x="756062" y="94045"/>
                  <a:pt x="748770" y="85295"/>
                </a:cubicBezTo>
                <a:cubicBezTo>
                  <a:pt x="740189" y="74998"/>
                  <a:pt x="728917" y="67159"/>
                  <a:pt x="720336" y="56863"/>
                </a:cubicBezTo>
                <a:cubicBezTo>
                  <a:pt x="715231" y="50738"/>
                  <a:pt x="694679" y="13154"/>
                  <a:pt x="682423" y="9477"/>
                </a:cubicBezTo>
                <a:cubicBezTo>
                  <a:pt x="658026" y="2158"/>
                  <a:pt x="631874" y="3159"/>
                  <a:pt x="606599" y="0"/>
                </a:cubicBezTo>
                <a:cubicBezTo>
                  <a:pt x="578165" y="3159"/>
                  <a:pt x="547859" y="-1147"/>
                  <a:pt x="521296" y="9477"/>
                </a:cubicBezTo>
                <a:cubicBezTo>
                  <a:pt x="512020" y="13187"/>
                  <a:pt x="516958" y="29343"/>
                  <a:pt x="511818" y="37909"/>
                </a:cubicBezTo>
                <a:cubicBezTo>
                  <a:pt x="507220" y="45571"/>
                  <a:pt x="499180" y="50545"/>
                  <a:pt x="492861" y="56863"/>
                </a:cubicBezTo>
                <a:cubicBezTo>
                  <a:pt x="489702" y="69500"/>
                  <a:pt x="488514" y="82801"/>
                  <a:pt x="483383" y="94773"/>
                </a:cubicBezTo>
                <a:cubicBezTo>
                  <a:pt x="451327" y="169565"/>
                  <a:pt x="383314" y="127710"/>
                  <a:pt x="293821" y="132682"/>
                </a:cubicBezTo>
                <a:lnTo>
                  <a:pt x="236953" y="170591"/>
                </a:lnTo>
                <a:lnTo>
                  <a:pt x="208518" y="189545"/>
                </a:lnTo>
                <a:cubicBezTo>
                  <a:pt x="191141" y="241673"/>
                  <a:pt x="209481" y="194968"/>
                  <a:pt x="180084" y="246409"/>
                </a:cubicBezTo>
                <a:cubicBezTo>
                  <a:pt x="173074" y="258675"/>
                  <a:pt x="168138" y="272052"/>
                  <a:pt x="161128" y="284318"/>
                </a:cubicBezTo>
                <a:cubicBezTo>
                  <a:pt x="155476" y="294208"/>
                  <a:pt x="146799" y="302341"/>
                  <a:pt x="142172" y="312750"/>
                </a:cubicBezTo>
                <a:cubicBezTo>
                  <a:pt x="124151" y="353294"/>
                  <a:pt x="124766" y="368925"/>
                  <a:pt x="113737" y="407523"/>
                </a:cubicBezTo>
                <a:cubicBezTo>
                  <a:pt x="110992" y="417129"/>
                  <a:pt x="107004" y="426349"/>
                  <a:pt x="104259" y="435955"/>
                </a:cubicBezTo>
                <a:cubicBezTo>
                  <a:pt x="100210" y="450125"/>
                  <a:pt x="92878" y="487147"/>
                  <a:pt x="85303" y="502296"/>
                </a:cubicBezTo>
                <a:cubicBezTo>
                  <a:pt x="80209" y="512484"/>
                  <a:pt x="70973" y="520319"/>
                  <a:pt x="66347" y="530728"/>
                </a:cubicBezTo>
                <a:cubicBezTo>
                  <a:pt x="31496" y="609136"/>
                  <a:pt x="67365" y="567620"/>
                  <a:pt x="28434" y="606546"/>
                </a:cubicBezTo>
                <a:cubicBezTo>
                  <a:pt x="25275" y="619182"/>
                  <a:pt x="22699" y="631979"/>
                  <a:pt x="18956" y="644455"/>
                </a:cubicBezTo>
                <a:cubicBezTo>
                  <a:pt x="13214" y="663592"/>
                  <a:pt x="0" y="701319"/>
                  <a:pt x="0" y="701319"/>
                </a:cubicBezTo>
                <a:cubicBezTo>
                  <a:pt x="45110" y="731389"/>
                  <a:pt x="10708" y="713061"/>
                  <a:pt x="66347" y="729751"/>
                </a:cubicBezTo>
                <a:cubicBezTo>
                  <a:pt x="85486" y="735492"/>
                  <a:pt x="123215" y="748705"/>
                  <a:pt x="123215" y="748705"/>
                </a:cubicBezTo>
                <a:cubicBezTo>
                  <a:pt x="229057" y="819260"/>
                  <a:pt x="147699" y="792406"/>
                  <a:pt x="199040" y="758182"/>
                </a:cubicBezTo>
                <a:cubicBezTo>
                  <a:pt x="209879" y="750957"/>
                  <a:pt x="224315" y="751864"/>
                  <a:pt x="236953" y="748705"/>
                </a:cubicBezTo>
                <a:cubicBezTo>
                  <a:pt x="304628" y="771262"/>
                  <a:pt x="277195" y="756577"/>
                  <a:pt x="322256" y="786614"/>
                </a:cubicBezTo>
                <a:cubicBezTo>
                  <a:pt x="375963" y="867169"/>
                  <a:pt x="287506" y="742390"/>
                  <a:pt x="398080" y="852955"/>
                </a:cubicBezTo>
                <a:lnTo>
                  <a:pt x="445471" y="900342"/>
                </a:lnTo>
                <a:cubicBezTo>
                  <a:pt x="454949" y="909819"/>
                  <a:pt x="467910" y="916786"/>
                  <a:pt x="473905" y="928774"/>
                </a:cubicBezTo>
                <a:cubicBezTo>
                  <a:pt x="480224" y="941410"/>
                  <a:pt x="483816" y="955830"/>
                  <a:pt x="492861" y="966683"/>
                </a:cubicBezTo>
                <a:cubicBezTo>
                  <a:pt x="500154" y="975433"/>
                  <a:pt x="511406" y="979986"/>
                  <a:pt x="521296" y="985637"/>
                </a:cubicBezTo>
                <a:cubicBezTo>
                  <a:pt x="533564" y="992646"/>
                  <a:pt x="546221" y="999027"/>
                  <a:pt x="559208" y="1004592"/>
                </a:cubicBezTo>
                <a:cubicBezTo>
                  <a:pt x="578244" y="1012750"/>
                  <a:pt x="606318" y="1018737"/>
                  <a:pt x="625555" y="1023546"/>
                </a:cubicBezTo>
                <a:cubicBezTo>
                  <a:pt x="716698" y="1084305"/>
                  <a:pt x="659708" y="1059709"/>
                  <a:pt x="805639" y="1070933"/>
                </a:cubicBezTo>
                <a:cubicBezTo>
                  <a:pt x="815117" y="1077251"/>
                  <a:pt x="826018" y="1081833"/>
                  <a:pt x="834073" y="1089887"/>
                </a:cubicBezTo>
                <a:cubicBezTo>
                  <a:pt x="853448" y="1109261"/>
                  <a:pt x="848534" y="1123204"/>
                  <a:pt x="871986" y="1137274"/>
                </a:cubicBezTo>
                <a:cubicBezTo>
                  <a:pt x="897247" y="1152429"/>
                  <a:pt x="977299" y="1155292"/>
                  <a:pt x="985723" y="1156228"/>
                </a:cubicBezTo>
                <a:cubicBezTo>
                  <a:pt x="988882" y="1165705"/>
                  <a:pt x="990733" y="1175725"/>
                  <a:pt x="995201" y="1184660"/>
                </a:cubicBezTo>
                <a:cubicBezTo>
                  <a:pt x="1000295" y="1194848"/>
                  <a:pt x="1012284" y="1201856"/>
                  <a:pt x="1014157" y="1213092"/>
                </a:cubicBezTo>
                <a:cubicBezTo>
                  <a:pt x="1015799" y="1222946"/>
                  <a:pt x="1007838" y="1232047"/>
                  <a:pt x="1004679" y="1241524"/>
                </a:cubicBezTo>
                <a:cubicBezTo>
                  <a:pt x="1014157" y="1244683"/>
                  <a:pt x="1023274" y="1249265"/>
                  <a:pt x="1033113" y="1251001"/>
                </a:cubicBezTo>
                <a:cubicBezTo>
                  <a:pt x="1077114" y="1258765"/>
                  <a:pt x="1165807" y="1269956"/>
                  <a:pt x="1165807" y="1269956"/>
                </a:cubicBezTo>
                <a:cubicBezTo>
                  <a:pt x="1253218" y="1299090"/>
                  <a:pt x="1205824" y="1304355"/>
                  <a:pt x="1232153" y="1260479"/>
                </a:cubicBezTo>
                <a:cubicBezTo>
                  <a:pt x="1236751" y="1252817"/>
                  <a:pt x="1244791" y="1247842"/>
                  <a:pt x="1251110" y="1241524"/>
                </a:cubicBezTo>
                <a:cubicBezTo>
                  <a:pt x="1276385" y="1244683"/>
                  <a:pt x="1302029" y="1245664"/>
                  <a:pt x="1326935" y="1251001"/>
                </a:cubicBezTo>
                <a:cubicBezTo>
                  <a:pt x="1346473" y="1255187"/>
                  <a:pt x="1383803" y="1269956"/>
                  <a:pt x="1383803" y="1269956"/>
                </a:cubicBezTo>
                <a:cubicBezTo>
                  <a:pt x="1412237" y="1266797"/>
                  <a:pt x="1440886" y="1265182"/>
                  <a:pt x="1469106" y="1260479"/>
                </a:cubicBezTo>
                <a:cubicBezTo>
                  <a:pt x="1478961" y="1258837"/>
                  <a:pt x="1487549" y="1251001"/>
                  <a:pt x="1497540" y="1251001"/>
                </a:cubicBezTo>
                <a:cubicBezTo>
                  <a:pt x="1526124" y="1251001"/>
                  <a:pt x="1566605" y="1292976"/>
                  <a:pt x="1582843" y="1298388"/>
                </a:cubicBezTo>
                <a:cubicBezTo>
                  <a:pt x="1626561" y="1312959"/>
                  <a:pt x="1601481" y="1305906"/>
                  <a:pt x="1658668" y="1317342"/>
                </a:cubicBezTo>
                <a:cubicBezTo>
                  <a:pt x="1668146" y="1323660"/>
                  <a:pt x="1679986" y="1327402"/>
                  <a:pt x="1687102" y="1336297"/>
                </a:cubicBezTo>
                <a:cubicBezTo>
                  <a:pt x="1693343" y="1344098"/>
                  <a:pt x="1695168" y="1354839"/>
                  <a:pt x="1696581" y="1364729"/>
                </a:cubicBezTo>
                <a:cubicBezTo>
                  <a:pt x="1701516" y="1399272"/>
                  <a:pt x="1689515" y="1438257"/>
                  <a:pt x="1706059" y="1468979"/>
                </a:cubicBezTo>
                <a:cubicBezTo>
                  <a:pt x="1715533" y="1486572"/>
                  <a:pt x="1745055" y="1478998"/>
                  <a:pt x="1762927" y="1487933"/>
                </a:cubicBezTo>
                <a:cubicBezTo>
                  <a:pt x="1775565" y="1494251"/>
                  <a:pt x="1787721" y="1501641"/>
                  <a:pt x="1800840" y="1506888"/>
                </a:cubicBezTo>
                <a:cubicBezTo>
                  <a:pt x="1819392" y="1514308"/>
                  <a:pt x="1838323" y="1520996"/>
                  <a:pt x="1857708" y="1525842"/>
                </a:cubicBezTo>
                <a:lnTo>
                  <a:pt x="1933533" y="1544797"/>
                </a:lnTo>
                <a:cubicBezTo>
                  <a:pt x="1965127" y="1541638"/>
                  <a:pt x="1997376" y="1542459"/>
                  <a:pt x="2028314" y="1535320"/>
                </a:cubicBezTo>
                <a:cubicBezTo>
                  <a:pt x="2093459" y="1520288"/>
                  <a:pt x="2021034" y="1504462"/>
                  <a:pt x="2085183" y="1525842"/>
                </a:cubicBezTo>
                <a:cubicBezTo>
                  <a:pt x="2091427" y="1544572"/>
                  <a:pt x="2096914" y="1569345"/>
                  <a:pt x="2113617" y="1582706"/>
                </a:cubicBezTo>
                <a:cubicBezTo>
                  <a:pt x="2121419" y="1588947"/>
                  <a:pt x="2132573" y="1589024"/>
                  <a:pt x="2142051" y="1592183"/>
                </a:cubicBezTo>
                <a:cubicBezTo>
                  <a:pt x="2170485" y="1589024"/>
                  <a:pt x="2199134" y="1587409"/>
                  <a:pt x="2227354" y="1582706"/>
                </a:cubicBezTo>
                <a:cubicBezTo>
                  <a:pt x="2237209" y="1581064"/>
                  <a:pt x="2245798" y="1573229"/>
                  <a:pt x="2255789" y="1573229"/>
                </a:cubicBezTo>
                <a:cubicBezTo>
                  <a:pt x="2265780" y="1573229"/>
                  <a:pt x="2274745" y="1579547"/>
                  <a:pt x="2284223" y="1582706"/>
                </a:cubicBezTo>
                <a:cubicBezTo>
                  <a:pt x="2365709" y="1637027"/>
                  <a:pt x="2262610" y="1571901"/>
                  <a:pt x="2341092" y="1611138"/>
                </a:cubicBezTo>
                <a:cubicBezTo>
                  <a:pt x="2351281" y="1616232"/>
                  <a:pt x="2359117" y="1625467"/>
                  <a:pt x="2369526" y="1630093"/>
                </a:cubicBezTo>
                <a:cubicBezTo>
                  <a:pt x="2387785" y="1638208"/>
                  <a:pt x="2426394" y="1649047"/>
                  <a:pt x="2426394" y="1649047"/>
                </a:cubicBezTo>
                <a:cubicBezTo>
                  <a:pt x="2442191" y="1645888"/>
                  <a:pt x="2459376" y="1646774"/>
                  <a:pt x="2473785" y="1639570"/>
                </a:cubicBezTo>
                <a:cubicBezTo>
                  <a:pt x="2485774" y="1633576"/>
                  <a:pt x="2489216" y="1614389"/>
                  <a:pt x="2502219" y="1611138"/>
                </a:cubicBezTo>
                <a:cubicBezTo>
                  <a:pt x="2517848" y="1607231"/>
                  <a:pt x="2533813" y="1617456"/>
                  <a:pt x="2549610" y="1620615"/>
                </a:cubicBezTo>
                <a:cubicBezTo>
                  <a:pt x="2559088" y="1626933"/>
                  <a:pt x="2567635" y="1634944"/>
                  <a:pt x="2578044" y="1639570"/>
                </a:cubicBezTo>
                <a:cubicBezTo>
                  <a:pt x="2596304" y="1647685"/>
                  <a:pt x="2634913" y="1658524"/>
                  <a:pt x="2634913" y="1658524"/>
                </a:cubicBezTo>
                <a:cubicBezTo>
                  <a:pt x="2644391" y="1664842"/>
                  <a:pt x="2651956" y="1677479"/>
                  <a:pt x="2663347" y="1677479"/>
                </a:cubicBezTo>
                <a:cubicBezTo>
                  <a:pt x="2682313" y="1677479"/>
                  <a:pt x="2696985" y="1647820"/>
                  <a:pt x="2710738" y="1639570"/>
                </a:cubicBezTo>
                <a:cubicBezTo>
                  <a:pt x="2719305" y="1634430"/>
                  <a:pt x="2729694" y="1633252"/>
                  <a:pt x="2739172" y="1630093"/>
                </a:cubicBezTo>
                <a:cubicBezTo>
                  <a:pt x="2830626" y="1652954"/>
                  <a:pt x="2789450" y="1643938"/>
                  <a:pt x="2862387" y="1658524"/>
                </a:cubicBezTo>
                <a:cubicBezTo>
                  <a:pt x="2865546" y="1668001"/>
                  <a:pt x="2862929" y="1682489"/>
                  <a:pt x="2871865" y="1686956"/>
                </a:cubicBezTo>
                <a:cubicBezTo>
                  <a:pt x="2906294" y="1704169"/>
                  <a:pt x="2886083" y="1702752"/>
                  <a:pt x="2890822" y="1677479"/>
                </a:cubicBezTo>
                <a:close/>
              </a:path>
            </a:pathLst>
          </a:custGeom>
          <a:noFill/>
          <a:ln w="57240">
            <a:solidFill>
              <a:srgbClr val="ffff00">
                <a:alpha val="80000"/>
              </a:srgbClr>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30" name="Straight Arrow Connector 6"/>
          <p:cNvCxnSpPr/>
          <p:nvPr/>
        </p:nvCxnSpPr>
        <p:spPr>
          <a:xfrm flipV="1">
            <a:off x="5486040" y="4190400"/>
            <a:ext cx="610200" cy="686520"/>
          </a:xfrm>
          <a:prstGeom prst="straightConnector1">
            <a:avLst/>
          </a:prstGeom>
          <a:ln w="25560">
            <a:solidFill>
              <a:srgbClr val="ff0000"/>
            </a:solidFill>
            <a:miter/>
            <a:tailEnd len="med" type="arrow" w="med"/>
          </a:ln>
        </p:spPr>
      </p:cxnSp>
      <p:sp>
        <p:nvSpPr>
          <p:cNvPr id="131" name="TextBox 21"/>
          <p:cNvSpPr/>
          <p:nvPr/>
        </p:nvSpPr>
        <p:spPr>
          <a:xfrm>
            <a:off x="3675240" y="6473880"/>
            <a:ext cx="545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 created using the IRIS Earthquake Browser:  </a:t>
            </a:r>
            <a:r>
              <a:rPr b="0" i="1" lang="en-US" sz="1400" spc="-1" strike="noStrike">
                <a:solidFill>
                  <a:srgbClr val="000000"/>
                </a:solidFill>
                <a:latin typeface="Arial"/>
              </a:rPr>
              <a:t>www.iris.edu/ie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5-04-26T18:58:32Z</dcterms:modified>
  <cp:revision>722</cp:revision>
  <dc:subject/>
  <dc:title>Slide 1</dc:title>
</cp:coreProperties>
</file>