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2.png" ContentType="image/png"/>
  <Override PartName="/ppt/media/image5.jpeg" ContentType="image/jpeg"/>
  <Override PartName="/ppt/media/image28.jpeg" ContentType="image/jpeg"/>
  <Override PartName="/ppt/media/image7.jpeg" ContentType="image/jpeg"/>
  <Override PartName="/ppt/media/image8.jpeg" ContentType="image/jpeg"/>
  <Override PartName="/ppt/media/image29.jpeg" ContentType="image/jpeg"/>
  <Override PartName="/ppt/media/image9.jpeg" ContentType="image/jpeg"/>
  <Override PartName="/ppt/media/image4.jpeg" ContentType="image/jpeg"/>
  <Override PartName="/ppt/media/image25.png" ContentType="image/png"/>
  <Override PartName="/ppt/media/image31.jpeg" ContentType="image/jpeg"/>
  <Override PartName="/ppt/media/image27.jpeg" ContentType="image/jpeg"/>
  <Override PartName="/ppt/media/image6.jpeg" ContentType="image/jpeg"/>
  <Override PartName="/ppt/media/image10.png" ContentType="image/png"/>
  <Override PartName="/ppt/media/image13.png" ContentType="image/png"/>
  <Override PartName="/ppt/media/image2.jpeg" ContentType="image/jpeg"/>
  <Override PartName="/ppt/media/image23.jpeg" ContentType="image/jpeg"/>
  <Override PartName="/ppt/media/image12.png" ContentType="image/pn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20.jpeg" ContentType="image/jpeg"/>
  <Override PartName="/ppt/media/image1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D9AF-416C-4655-A56E-AF17606F2D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7434-5B3D-4029-902A-92D57C3221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0B40-FAF8-481B-A4B5-76D91A8BA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3032-9D30-44CE-AFC6-A031B7A913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A226-1640-418F-85CD-425331079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9EC1-2D4C-4E2A-9D9E-A6B715A487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CFE3-3241-448E-BA3C-E09A7C12A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Explora más sobre la sismicidad </a:t>
            </a:r>
            <a:r>
              <a:rPr b="1" lang="en-US" sz="1200" spc="-1" strike="noStrike">
                <a:solidFill>
                  <a:srgbClr val="000000"/>
                </a:solidFill>
                <a:latin typeface="Calibri"/>
              </a:rPr>
              <a:t>:  </a:t>
            </a:r>
            <a:r>
              <a:rPr b="0" lang="es-ES" sz="1200" spc="-1" strike="noStrike">
                <a:solidFill>
                  <a:srgbClr val="000000"/>
                </a:solidFill>
                <a:latin typeface="Calibri"/>
              </a:rPr>
              <a:t>Explora las réplicas en el Visualizador de Terremotos de IRIS</a:t>
            </a:r>
            <a:r>
              <a:rPr b="0" lang="en-US" sz="1200" spc="-1" strike="noStrike">
                <a:solidFill>
                  <a:srgbClr val="000000"/>
                </a:solidFill>
                <a:latin typeface="Calibri"/>
              </a:rPr>
              <a:t>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E05C-86FB-4297-9344-8BE6B8D6B2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120A-A7E2-4051-967A-2BBF4282A2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99A4-D52A-401A-8E3E-AF2A6F8112F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2429-9EA1-4B72-AD37-7AA25A7A37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2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6FA8-8B29-4ABA-9D3C-D24E9687AC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49AC-C93D-4732-BEC1-BEE20EF3A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0DD6-CF3B-489C-A4BC-2A8DA93F6D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rPr>
              <a:t>Mecanismo Focal del Terremoto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8876-CC7F-4BA3-B655-D7C992076B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E9E0-5928-4573-A268-2F7E3F9CC7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Explora más sobre la sismicidad: </a:t>
            </a:r>
            <a:r>
              <a:rPr b="0" lang="es-ES" sz="1200" spc="-1" strike="noStrike">
                <a:solidFill>
                  <a:srgbClr val="000000"/>
                </a:solidFill>
                <a:latin typeface="Calibri"/>
              </a:rPr>
              <a:t>Imágenes provenientes del Visualizador de Terremotos de IRIS (www.iris.edu/ieb).</a:t>
            </a:r>
            <a:endParaRPr b="0" lang="en-US" sz="1200" spc="-1" strike="noStrike">
              <a:solidFill>
                <a:srgbClr val="000000"/>
              </a:solidFill>
              <a:latin typeface="Calibri"/>
            </a:endParaRPr>
          </a:p>
        </p:txBody>
      </p:sp>
      <p:sp>
        <p:nvSpPr>
          <p:cNvPr id="2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3FD8-493E-4637-BF36-28E4F5197D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4B4DC-76DC-44C3-BEA1-164D9218C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58593-BDEB-4059-A904-05D16819B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68601-3959-454E-A7CF-87FF7AC8F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4396F-7E7B-4C0C-AC38-C1168FCE2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899EF-8487-4BA9-81E2-1E581C8D0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E41B0-13C2-45C2-B36D-10706CB00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366E2-E2C5-48A7-84C8-E1E5A3AA2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865AA-CBAA-4F88-9D04-A962587B4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73071-0D08-4E4C-9735-099E86486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AD97-8C7F-41A3-A8AC-FDB92DB0E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B7E7-7798-4588-A27E-4D48B8731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8C978-9DE7-4200-92B0-323A667FC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9098-30F2-4D2A-BFEB-0C861921B4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66680"/>
            <a:ext cx="7213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Un terremoto de magnitud 7.8 ocurrió con un epicentro 77 km (48 millas) al noroeste de Katmandú, la ciudad capital de Nepal que alberga aproximadamente 1.5 millones de habitantes. El terremoto aplastó hogares, edificios y templos, causando gran cantidad de daños en toda la región dejando un saldo de 2.300 muertos y 5.000 heridos.</a:t>
            </a: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pic>
        <p:nvPicPr>
          <p:cNvPr id="52" name="Picture 4" descr=""/>
          <p:cNvPicPr/>
          <p:nvPr/>
        </p:nvPicPr>
        <p:blipFill>
          <a:blip r:embed="rId2"/>
          <a:stretch/>
        </p:blipFill>
        <p:spPr>
          <a:xfrm>
            <a:off x="7315200" y="166680"/>
            <a:ext cx="1660680" cy="1660680"/>
          </a:xfrm>
          <a:prstGeom prst="rect">
            <a:avLst/>
          </a:prstGeom>
          <a:ln w="0">
            <a:noFill/>
          </a:ln>
        </p:spPr>
      </p:pic>
      <p:sp>
        <p:nvSpPr>
          <p:cNvPr id="53" name="TextBox 1"/>
          <p:cNvSpPr/>
          <p:nvPr/>
        </p:nvSpPr>
        <p:spPr>
          <a:xfrm>
            <a:off x="270000" y="3619440"/>
            <a:ext cx="258768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Grupos de rescate removieron escombros durante la búsqueda de víctimas del terremoto en Bhaktapur en las cercanías de Katmandú, Nepal. Un fuerte terremoto estremeció la capital de Nepal y  el densamente poblado valle de Katmandú al mediodía del domingo, causando daños extensos a edificaciones, dijeron las autoridades competen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Foto AP/ </a:t>
            </a:r>
            <a:r>
              <a:rPr b="0" lang="en-US" sz="1400" spc="-1" strike="noStrike">
                <a:solidFill>
                  <a:srgbClr val="000000"/>
                </a:solidFill>
                <a:latin typeface="Calibri"/>
              </a:rPr>
              <a:t>Niranjan Shrest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4" name="Picture 1" descr=""/>
          <p:cNvPicPr/>
          <p:nvPr/>
        </p:nvPicPr>
        <p:blipFill>
          <a:blip r:embed="rId3"/>
          <a:stretch/>
        </p:blipFill>
        <p:spPr>
          <a:xfrm>
            <a:off x="2857680" y="2608200"/>
            <a:ext cx="6143400" cy="409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M&gt;Aftershocks4:26.tiff"/>
          <p:cNvPicPr/>
          <p:nvPr/>
        </p:nvPicPr>
        <p:blipFill>
          <a:blip r:embed="rId1"/>
          <a:stretch/>
        </p:blipFill>
        <p:spPr>
          <a:xfrm>
            <a:off x="3540240" y="1200240"/>
            <a:ext cx="5486400" cy="4932360"/>
          </a:xfrm>
          <a:prstGeom prst="rect">
            <a:avLst/>
          </a:prstGeom>
          <a:ln w="28440">
            <a:solidFill>
              <a:srgbClr val="660066"/>
            </a:solidFill>
            <a:miter/>
          </a:ln>
          <a:effectLst>
            <a:outerShdw dist="38183" dir="2700000" blurRad="0" rotWithShape="0">
              <a:srgbClr val="000000">
                <a:alpha val="40000"/>
              </a:srgbClr>
            </a:outerShdw>
          </a:effectLst>
        </p:spPr>
      </p:pic>
      <p:sp>
        <p:nvSpPr>
          <p:cNvPr id="1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9"/>
          <p:cNvSpPr/>
          <p:nvPr/>
        </p:nvSpPr>
        <p:spPr>
          <a:xfrm>
            <a:off x="228600" y="1066680"/>
            <a:ext cx="3141720" cy="50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mapa muestra el terremoto de magnitud 7.8 (sismo inicial) y la distribución de 40 réplicas de magnitudes mayores o iguales a 4 que ocurrieron en las subsiguientes 27 hora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distribución de réplicas delinea la zona de ruptura del sismo inicial. La ruptura durante el sismo inicial iniciado debajo del epicentro y propagado hacia el surest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la siguiente diapositiva, un mapa de desplazamiento de falla durante el terremoto es superpuesto sobre este mismo mapa.</a:t>
            </a:r>
            <a:endParaRPr b="0" lang="en-US" sz="1700" spc="-1" strike="noStrike">
              <a:solidFill>
                <a:srgbClr val="000000"/>
              </a:solidFill>
              <a:latin typeface="Arial"/>
            </a:endParaRPr>
          </a:p>
        </p:txBody>
      </p:sp>
      <p:pic>
        <p:nvPicPr>
          <p:cNvPr id="135" name="Picture 8" descr="IRIS_TMlogo.png"/>
          <p:cNvPicPr/>
          <p:nvPr/>
        </p:nvPicPr>
        <p:blipFill>
          <a:blip r:embed="rId2"/>
          <a:stretch/>
        </p:blipFill>
        <p:spPr>
          <a:xfrm>
            <a:off x="239760" y="76320"/>
            <a:ext cx="903240" cy="927000"/>
          </a:xfrm>
          <a:prstGeom prst="rect">
            <a:avLst/>
          </a:prstGeom>
          <a:ln w="0">
            <a:noFill/>
          </a:ln>
        </p:spPr>
      </p:pic>
      <p:cxnSp>
        <p:nvCxnSpPr>
          <p:cNvPr id="136" name="Straight Arrow Connector 6"/>
          <p:cNvCxnSpPr/>
          <p:nvPr/>
        </p:nvCxnSpPr>
        <p:spPr>
          <a:xfrm flipV="1">
            <a:off x="3886200" y="3036600"/>
            <a:ext cx="457920" cy="838800"/>
          </a:xfrm>
          <a:prstGeom prst="straightConnector1">
            <a:avLst/>
          </a:prstGeom>
          <a:ln w="25560">
            <a:solidFill>
              <a:srgbClr val="ff0000"/>
            </a:solidFill>
            <a:miter/>
            <a:tailEnd len="med" type="arrow" w="med"/>
          </a:ln>
        </p:spPr>
      </p:cxnSp>
      <p:sp>
        <p:nvSpPr>
          <p:cNvPr id="137" name="TextBox 5"/>
          <p:cNvSpPr/>
          <p:nvPr/>
        </p:nvSpPr>
        <p:spPr>
          <a:xfrm>
            <a:off x="3592440" y="3875040"/>
            <a:ext cx="1125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25, 2015</a:t>
            </a:r>
            <a:endParaRPr b="0" lang="en-US" sz="1200" spc="-1" strike="noStrike">
              <a:solidFill>
                <a:srgbClr val="000000"/>
              </a:solidFill>
              <a:latin typeface="Arial"/>
            </a:endParaRPr>
          </a:p>
        </p:txBody>
      </p:sp>
      <p:grpSp>
        <p:nvGrpSpPr>
          <p:cNvPr id="138" name="Group 18"/>
          <p:cNvGrpSpPr/>
          <p:nvPr/>
        </p:nvGrpSpPr>
        <p:grpSpPr>
          <a:xfrm>
            <a:off x="7668000" y="1639800"/>
            <a:ext cx="802440" cy="370080"/>
            <a:chOff x="7668000" y="1639800"/>
            <a:chExt cx="802440" cy="370080"/>
          </a:xfrm>
        </p:grpSpPr>
        <p:grpSp>
          <p:nvGrpSpPr>
            <p:cNvPr id="139" name="Group 14"/>
            <p:cNvGrpSpPr/>
            <p:nvPr/>
          </p:nvGrpSpPr>
          <p:grpSpPr>
            <a:xfrm>
              <a:off x="7696080" y="1918800"/>
              <a:ext cx="761760" cy="91080"/>
              <a:chOff x="7696080" y="1918800"/>
              <a:chExt cx="761760" cy="91080"/>
            </a:xfrm>
          </p:grpSpPr>
          <p:sp>
            <p:nvSpPr>
              <p:cNvPr id="140" name="Straight Connector 10"/>
              <p:cNvSpPr/>
              <p:nvPr/>
            </p:nvSpPr>
            <p:spPr>
              <a:xfrm>
                <a:off x="7696080" y="2009880"/>
                <a:ext cx="761760" cy="0"/>
              </a:xfrm>
              <a:prstGeom prst="line">
                <a:avLst/>
              </a:prstGeom>
              <a:ln w="381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16"/>
              <p:cNvSpPr/>
              <p:nvPr/>
            </p:nvSpPr>
            <p:spPr>
              <a:xfrm>
                <a:off x="7713360" y="1918800"/>
                <a:ext cx="0" cy="91080"/>
              </a:xfrm>
              <a:prstGeom prst="line">
                <a:avLst/>
              </a:prstGeom>
              <a:ln w="38160">
                <a:solidFill>
                  <a:srgbClr val="66006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2" name="Straight Connector 17"/>
              <p:cNvSpPr/>
              <p:nvPr/>
            </p:nvSpPr>
            <p:spPr>
              <a:xfrm>
                <a:off x="8440560" y="1918800"/>
                <a:ext cx="0" cy="91080"/>
              </a:xfrm>
              <a:prstGeom prst="line">
                <a:avLst/>
              </a:prstGeom>
              <a:ln w="38160">
                <a:solidFill>
                  <a:srgbClr val="66006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143" name="TextBox 15"/>
            <p:cNvSpPr/>
            <p:nvPr/>
          </p:nvSpPr>
          <p:spPr>
            <a:xfrm>
              <a:off x="7668000" y="16398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20 km</a:t>
              </a:r>
              <a:endParaRPr b="0" lang="en-US" sz="1800" spc="-1" strike="noStrike">
                <a:solidFill>
                  <a:srgbClr val="000000"/>
                </a:solidFill>
                <a:latin typeface="Arial"/>
              </a:endParaRPr>
            </a:p>
          </p:txBody>
        </p:sp>
      </p:grpSp>
      <p:sp>
        <p:nvSpPr>
          <p:cNvPr id="1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
        <p:nvSpPr>
          <p:cNvPr id="145" name="TextBox 21"/>
          <p:cNvSpPr/>
          <p:nvPr/>
        </p:nvSpPr>
        <p:spPr>
          <a:xfrm>
            <a:off x="2757600" y="6324480"/>
            <a:ext cx="66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apa creado usando el Visualizador de Terremotos de IRIS :  </a:t>
            </a:r>
            <a:r>
              <a:rPr b="0" i="1" lang="es-VE" sz="1400" spc="-1" strike="noStrike">
                <a:solidFill>
                  <a:srgbClr val="000000"/>
                </a:solidFill>
                <a:latin typeface="Arial"/>
              </a:rPr>
              <a:t>www.iris.edu/ie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8" descr="IRIS_TMlogo.png"/>
          <p:cNvPicPr/>
          <p:nvPr/>
        </p:nvPicPr>
        <p:blipFill>
          <a:blip r:embed="rId1"/>
          <a:stretch/>
        </p:blipFill>
        <p:spPr>
          <a:xfrm>
            <a:off x="239760" y="76320"/>
            <a:ext cx="903240" cy="927000"/>
          </a:xfrm>
          <a:prstGeom prst="rect">
            <a:avLst/>
          </a:prstGeom>
          <a:ln w="0">
            <a:noFill/>
          </a:ln>
        </p:spPr>
      </p:pic>
      <p:grpSp>
        <p:nvGrpSpPr>
          <p:cNvPr id="148" name="Group 1"/>
          <p:cNvGrpSpPr/>
          <p:nvPr/>
        </p:nvGrpSpPr>
        <p:grpSpPr>
          <a:xfrm>
            <a:off x="2666880" y="990720"/>
            <a:ext cx="6324840" cy="5803920"/>
            <a:chOff x="2666880" y="990720"/>
            <a:chExt cx="6324840" cy="5803920"/>
          </a:xfrm>
        </p:grpSpPr>
        <p:pic>
          <p:nvPicPr>
            <p:cNvPr id="149" name="Picture 2" descr="M&gt;4Aftershocks.tiff"/>
            <p:cNvPicPr/>
            <p:nvPr/>
          </p:nvPicPr>
          <p:blipFill>
            <a:blip r:embed="rId2"/>
            <a:stretch/>
          </p:blipFill>
          <p:spPr>
            <a:xfrm>
              <a:off x="3504960" y="1066680"/>
              <a:ext cx="5486760" cy="4905720"/>
            </a:xfrm>
            <a:prstGeom prst="rect">
              <a:avLst/>
            </a:prstGeom>
            <a:ln w="28440">
              <a:solidFill>
                <a:srgbClr val="660066"/>
              </a:solidFill>
              <a:miter/>
            </a:ln>
            <a:effectLst>
              <a:outerShdw dist="38183" dir="2700000" blurRad="0" rotWithShape="0">
                <a:srgbClr val="808080">
                  <a:alpha val="40000"/>
                </a:srgbClr>
              </a:outerShdw>
            </a:effectLst>
          </p:spPr>
        </p:pic>
        <p:grpSp>
          <p:nvGrpSpPr>
            <p:cNvPr id="150" name="Group 18"/>
            <p:cNvGrpSpPr/>
            <p:nvPr/>
          </p:nvGrpSpPr>
          <p:grpSpPr>
            <a:xfrm>
              <a:off x="7668000" y="1182240"/>
              <a:ext cx="802440" cy="369720"/>
              <a:chOff x="7668000" y="1182240"/>
              <a:chExt cx="802440" cy="369720"/>
            </a:xfrm>
          </p:grpSpPr>
          <p:grpSp>
            <p:nvGrpSpPr>
              <p:cNvPr id="151" name="Group 14"/>
              <p:cNvGrpSpPr/>
              <p:nvPr/>
            </p:nvGrpSpPr>
            <p:grpSpPr>
              <a:xfrm>
                <a:off x="7696080" y="1460880"/>
                <a:ext cx="761400" cy="91080"/>
                <a:chOff x="7696080" y="1460880"/>
                <a:chExt cx="761400" cy="91080"/>
              </a:xfrm>
            </p:grpSpPr>
            <p:sp>
              <p:nvSpPr>
                <p:cNvPr id="152" name="Straight Connector 10"/>
                <p:cNvSpPr/>
                <p:nvPr/>
              </p:nvSpPr>
              <p:spPr>
                <a:xfrm>
                  <a:off x="7696080" y="1551960"/>
                  <a:ext cx="761400" cy="0"/>
                </a:xfrm>
                <a:prstGeom prst="line">
                  <a:avLst/>
                </a:prstGeom>
                <a:ln w="381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6"/>
                <p:cNvSpPr/>
                <p:nvPr/>
              </p:nvSpPr>
              <p:spPr>
                <a:xfrm>
                  <a:off x="7713360" y="1460880"/>
                  <a:ext cx="0" cy="91080"/>
                </a:xfrm>
                <a:prstGeom prst="line">
                  <a:avLst/>
                </a:prstGeom>
                <a:ln w="38160">
                  <a:solidFill>
                    <a:srgbClr val="66006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4" name="Straight Connector 17"/>
                <p:cNvSpPr/>
                <p:nvPr/>
              </p:nvSpPr>
              <p:spPr>
                <a:xfrm>
                  <a:off x="8440200" y="1460880"/>
                  <a:ext cx="0" cy="91080"/>
                </a:xfrm>
                <a:prstGeom prst="line">
                  <a:avLst/>
                </a:prstGeom>
                <a:ln w="38160">
                  <a:solidFill>
                    <a:srgbClr val="66006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155" name="TextBox 15"/>
              <p:cNvSpPr/>
              <p:nvPr/>
            </p:nvSpPr>
            <p:spPr>
              <a:xfrm>
                <a:off x="7668000" y="11822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20 km</a:t>
                </a:r>
                <a:endParaRPr b="0" lang="en-US" sz="1800" spc="-1" strike="noStrike">
                  <a:solidFill>
                    <a:srgbClr val="000000"/>
                  </a:solidFill>
                  <a:latin typeface="Arial"/>
                </a:endParaRPr>
              </a:p>
            </p:txBody>
          </p:sp>
        </p:grpSp>
        <p:pic>
          <p:nvPicPr>
            <p:cNvPr id="156" name="Picture 19" descr="FiniteFaultModel.png"/>
            <p:cNvPicPr/>
            <p:nvPr/>
          </p:nvPicPr>
          <p:blipFill>
            <a:blip r:embed="rId3"/>
            <a:srcRect l="29524" t="18153" r="18028" b="30871"/>
            <a:stretch/>
          </p:blipFill>
          <p:spPr>
            <a:xfrm rot="12278400">
              <a:off x="3103200" y="1974600"/>
              <a:ext cx="5438880" cy="3282840"/>
            </a:xfrm>
            <a:prstGeom prst="rect">
              <a:avLst/>
            </a:prstGeom>
            <a:ln w="0">
              <a:noFill/>
            </a:ln>
          </p:spPr>
        </p:pic>
        <p:sp>
          <p:nvSpPr>
            <p:cNvPr id="157" name="TextBox 1"/>
            <p:cNvSpPr/>
            <p:nvPr/>
          </p:nvSpPr>
          <p:spPr>
            <a:xfrm>
              <a:off x="4747320" y="2936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58" name="TextBox 21"/>
            <p:cNvSpPr/>
            <p:nvPr/>
          </p:nvSpPr>
          <p:spPr>
            <a:xfrm>
              <a:off x="5125320" y="31654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159" name="TextBox 22"/>
            <p:cNvSpPr/>
            <p:nvPr/>
          </p:nvSpPr>
          <p:spPr>
            <a:xfrm>
              <a:off x="5684040" y="34495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160" name="TextBox 23"/>
            <p:cNvSpPr/>
            <p:nvPr/>
          </p:nvSpPr>
          <p:spPr>
            <a:xfrm>
              <a:off x="6203520" y="35496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61" name="TextBox 25"/>
            <p:cNvSpPr/>
            <p:nvPr/>
          </p:nvSpPr>
          <p:spPr>
            <a:xfrm>
              <a:off x="7030440" y="39276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p:txBody>
        </p:sp>
        <p:sp>
          <p:nvSpPr>
            <p:cNvPr id="162" name="TextBox 27"/>
            <p:cNvSpPr/>
            <p:nvPr/>
          </p:nvSpPr>
          <p:spPr>
            <a:xfrm>
              <a:off x="7241760" y="40384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p:txBody>
        </p:sp>
        <p:sp>
          <p:nvSpPr>
            <p:cNvPr id="163" name="TextBox 28"/>
            <p:cNvSpPr/>
            <p:nvPr/>
          </p:nvSpPr>
          <p:spPr>
            <a:xfrm>
              <a:off x="6798600" y="38941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164" name="TextBox 29"/>
            <p:cNvSpPr/>
            <p:nvPr/>
          </p:nvSpPr>
          <p:spPr>
            <a:xfrm>
              <a:off x="747036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165" name="TextBox 31"/>
            <p:cNvSpPr/>
            <p:nvPr/>
          </p:nvSpPr>
          <p:spPr>
            <a:xfrm>
              <a:off x="7775280" y="4343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p:txBody>
        </p:sp>
        <p:sp>
          <p:nvSpPr>
            <p:cNvPr id="166" name="Right Arrow 8"/>
            <p:cNvSpPr/>
            <p:nvPr/>
          </p:nvSpPr>
          <p:spPr>
            <a:xfrm rot="1549800">
              <a:off x="4570200" y="3269880"/>
              <a:ext cx="3992760" cy="1090440"/>
            </a:xfrm>
            <a:prstGeom prst="rightArrow">
              <a:avLst>
                <a:gd name="adj1" fmla="val 50000"/>
                <a:gd name="adj2" fmla="val 50008"/>
              </a:avLst>
            </a:prstGeom>
            <a:noFill/>
            <a:ln w="28440">
              <a:solidFill>
                <a:srgbClr val="66006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20" descr="FiniteFaultModel.png"/>
            <p:cNvPicPr/>
            <p:nvPr/>
          </p:nvPicPr>
          <p:blipFill>
            <a:blip r:embed="rId4"/>
            <a:srcRect l="7591" t="83062" r="24850" b="0"/>
            <a:stretch/>
          </p:blipFill>
          <p:spPr>
            <a:xfrm>
              <a:off x="4495680" y="6019920"/>
              <a:ext cx="3657600" cy="774720"/>
            </a:xfrm>
            <a:prstGeom prst="rect">
              <a:avLst/>
            </a:prstGeom>
            <a:ln w="0">
              <a:noFill/>
            </a:ln>
          </p:spPr>
        </p:pic>
        <p:sp>
          <p:nvSpPr>
            <p:cNvPr id="168" name="5-Point Star 12"/>
            <p:cNvSpPr/>
            <p:nvPr/>
          </p:nvSpPr>
          <p:spPr>
            <a:xfrm>
              <a:off x="4267080" y="2666880"/>
              <a:ext cx="304560" cy="30456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69" name="Straight Arrow Connector 33"/>
            <p:cNvCxnSpPr/>
            <p:nvPr/>
          </p:nvCxnSpPr>
          <p:spPr>
            <a:xfrm flipH="1">
              <a:off x="4494960" y="2209320"/>
              <a:ext cx="229320" cy="229320"/>
            </a:xfrm>
            <a:prstGeom prst="straightConnector1">
              <a:avLst/>
            </a:prstGeom>
            <a:ln w="12600">
              <a:solidFill>
                <a:srgbClr val="ff0000"/>
              </a:solidFill>
              <a:miter/>
              <a:tailEnd len="med" type="arrow" w="med"/>
            </a:ln>
          </p:spPr>
        </p:cxnSp>
        <p:cxnSp>
          <p:nvCxnSpPr>
            <p:cNvPr id="170" name="Straight Arrow Connector 38"/>
            <p:cNvCxnSpPr/>
            <p:nvPr/>
          </p:nvCxnSpPr>
          <p:spPr>
            <a:xfrm flipH="1">
              <a:off x="5223600" y="2514240"/>
              <a:ext cx="186120" cy="324360"/>
            </a:xfrm>
            <a:prstGeom prst="straightConnector1">
              <a:avLst/>
            </a:prstGeom>
            <a:ln w="12600">
              <a:solidFill>
                <a:srgbClr val="ff0000"/>
              </a:solidFill>
              <a:miter/>
              <a:tailEnd len="med" type="arrow" w="med"/>
            </a:ln>
          </p:spPr>
        </p:cxnSp>
        <p:cxnSp>
          <p:nvCxnSpPr>
            <p:cNvPr id="171" name="Straight Arrow Connector 40"/>
            <p:cNvCxnSpPr/>
            <p:nvPr/>
          </p:nvCxnSpPr>
          <p:spPr>
            <a:xfrm flipH="1">
              <a:off x="5104800" y="2874600"/>
              <a:ext cx="130680" cy="244800"/>
            </a:xfrm>
            <a:prstGeom prst="straightConnector1">
              <a:avLst/>
            </a:prstGeom>
            <a:ln w="12600">
              <a:solidFill>
                <a:srgbClr val="ff0000"/>
              </a:solidFill>
              <a:miter/>
              <a:tailEnd len="med" type="arrow" w="med"/>
            </a:ln>
          </p:spPr>
        </p:cxnSp>
        <p:cxnSp>
          <p:nvCxnSpPr>
            <p:cNvPr id="172" name="Straight Arrow Connector 42"/>
            <p:cNvCxnSpPr/>
            <p:nvPr/>
          </p:nvCxnSpPr>
          <p:spPr>
            <a:xfrm flipH="1">
              <a:off x="5876640" y="2819160"/>
              <a:ext cx="197280" cy="280080"/>
            </a:xfrm>
            <a:prstGeom prst="straightConnector1">
              <a:avLst/>
            </a:prstGeom>
            <a:ln w="12600">
              <a:solidFill>
                <a:srgbClr val="ff0000"/>
              </a:solidFill>
              <a:miter/>
              <a:tailEnd len="med" type="arrow" w="med"/>
            </a:ln>
          </p:spPr>
        </p:cxnSp>
        <p:cxnSp>
          <p:nvCxnSpPr>
            <p:cNvPr id="173" name="Straight Arrow Connector 44"/>
            <p:cNvCxnSpPr/>
            <p:nvPr/>
          </p:nvCxnSpPr>
          <p:spPr>
            <a:xfrm flipH="1">
              <a:off x="6787800" y="2752200"/>
              <a:ext cx="118080" cy="214920"/>
            </a:xfrm>
            <a:prstGeom prst="straightConnector1">
              <a:avLst/>
            </a:prstGeom>
            <a:ln w="12600">
              <a:solidFill>
                <a:srgbClr val="ff0000"/>
              </a:solidFill>
              <a:miter/>
              <a:tailEnd len="med" type="arrow" w="med"/>
            </a:ln>
          </p:spPr>
        </p:cxnSp>
        <p:cxnSp>
          <p:nvCxnSpPr>
            <p:cNvPr id="174" name="Straight Arrow Connector 47"/>
            <p:cNvCxnSpPr/>
            <p:nvPr/>
          </p:nvCxnSpPr>
          <p:spPr>
            <a:xfrm flipH="1">
              <a:off x="6571800" y="3124080"/>
              <a:ext cx="175320" cy="205200"/>
            </a:xfrm>
            <a:prstGeom prst="straightConnector1">
              <a:avLst/>
            </a:prstGeom>
            <a:ln w="12600">
              <a:solidFill>
                <a:srgbClr val="ff0000"/>
              </a:solidFill>
              <a:miter/>
              <a:tailEnd len="med" type="arrow" w="med"/>
            </a:ln>
          </p:spPr>
        </p:cxnSp>
        <p:cxnSp>
          <p:nvCxnSpPr>
            <p:cNvPr id="175" name="Straight Arrow Connector 49"/>
            <p:cNvCxnSpPr/>
            <p:nvPr/>
          </p:nvCxnSpPr>
          <p:spPr>
            <a:xfrm>
              <a:off x="6577200" y="3504960"/>
              <a:ext cx="8640" cy="394200"/>
            </a:xfrm>
            <a:prstGeom prst="straightConnector1">
              <a:avLst/>
            </a:prstGeom>
            <a:ln w="12600">
              <a:solidFill>
                <a:srgbClr val="ff0000"/>
              </a:solidFill>
              <a:miter/>
              <a:tailEnd len="med" type="arrow" w="med"/>
            </a:ln>
          </p:spPr>
        </p:cxnSp>
        <p:cxnSp>
          <p:nvCxnSpPr>
            <p:cNvPr id="176" name="Straight Arrow Connector 51"/>
            <p:cNvCxnSpPr/>
            <p:nvPr/>
          </p:nvCxnSpPr>
          <p:spPr>
            <a:xfrm>
              <a:off x="7417080" y="3425760"/>
              <a:ext cx="79920" cy="210240"/>
            </a:xfrm>
            <a:prstGeom prst="straightConnector1">
              <a:avLst/>
            </a:prstGeom>
            <a:ln w="12600">
              <a:solidFill>
                <a:srgbClr val="ff0000"/>
              </a:solidFill>
              <a:miter/>
              <a:tailEnd len="med" type="arrow" w="med"/>
            </a:ln>
          </p:spPr>
        </p:cxnSp>
        <p:cxnSp>
          <p:nvCxnSpPr>
            <p:cNvPr id="177" name="Straight Arrow Connector 53"/>
            <p:cNvCxnSpPr/>
            <p:nvPr/>
          </p:nvCxnSpPr>
          <p:spPr>
            <a:xfrm>
              <a:off x="8083800" y="3738600"/>
              <a:ext cx="133560" cy="259200"/>
            </a:xfrm>
            <a:prstGeom prst="straightConnector1">
              <a:avLst/>
            </a:prstGeom>
            <a:ln w="12600">
              <a:solidFill>
                <a:srgbClr val="ff0000"/>
              </a:solidFill>
              <a:miter/>
              <a:tailEnd len="med" type="arrow" w="med"/>
            </a:ln>
          </p:spPr>
        </p:cxnSp>
        <p:cxnSp>
          <p:nvCxnSpPr>
            <p:cNvPr id="178" name="Straight Arrow Connector 55"/>
            <p:cNvCxnSpPr/>
            <p:nvPr/>
          </p:nvCxnSpPr>
          <p:spPr>
            <a:xfrm>
              <a:off x="5924160" y="3206160"/>
              <a:ext cx="38520" cy="378360"/>
            </a:xfrm>
            <a:prstGeom prst="straightConnector1">
              <a:avLst/>
            </a:prstGeom>
            <a:ln w="12600">
              <a:solidFill>
                <a:srgbClr val="ff0000"/>
              </a:solidFill>
              <a:miter/>
              <a:tailEnd len="med" type="arrow" w="med"/>
            </a:ln>
          </p:spPr>
        </p:cxnSp>
        <p:cxnSp>
          <p:nvCxnSpPr>
            <p:cNvPr id="179" name="Straight Arrow Connector 57"/>
            <p:cNvCxnSpPr/>
            <p:nvPr/>
          </p:nvCxnSpPr>
          <p:spPr>
            <a:xfrm>
              <a:off x="5740560" y="3546000"/>
              <a:ext cx="210240" cy="592920"/>
            </a:xfrm>
            <a:prstGeom prst="straightConnector1">
              <a:avLst/>
            </a:prstGeom>
            <a:ln w="12600">
              <a:solidFill>
                <a:srgbClr val="ff0000"/>
              </a:solidFill>
              <a:miter/>
              <a:tailEnd len="med" type="arrow" w="med"/>
            </a:ln>
          </p:spPr>
        </p:cxnSp>
        <p:cxnSp>
          <p:nvCxnSpPr>
            <p:cNvPr id="180" name="Straight Arrow Connector 59"/>
            <p:cNvCxnSpPr/>
            <p:nvPr/>
          </p:nvCxnSpPr>
          <p:spPr>
            <a:xfrm>
              <a:off x="5067360" y="3250800"/>
              <a:ext cx="94320" cy="410040"/>
            </a:xfrm>
            <a:prstGeom prst="straightConnector1">
              <a:avLst/>
            </a:prstGeom>
            <a:ln w="12600">
              <a:solidFill>
                <a:srgbClr val="ff0000"/>
              </a:solidFill>
              <a:miter/>
              <a:tailEnd len="med" type="arrow" w="med"/>
            </a:ln>
          </p:spPr>
        </p:cxnSp>
        <p:cxnSp>
          <p:nvCxnSpPr>
            <p:cNvPr id="181" name="Straight Arrow Connector 61"/>
            <p:cNvCxnSpPr/>
            <p:nvPr/>
          </p:nvCxnSpPr>
          <p:spPr>
            <a:xfrm flipH="1">
              <a:off x="4257000" y="2937960"/>
              <a:ext cx="129240" cy="254520"/>
            </a:xfrm>
            <a:prstGeom prst="straightConnector1">
              <a:avLst/>
            </a:prstGeom>
            <a:ln w="12600">
              <a:solidFill>
                <a:srgbClr val="ff0000"/>
              </a:solidFill>
              <a:miter/>
              <a:tailEnd len="med" type="arrow" w="med"/>
            </a:ln>
          </p:spPr>
        </p:cxnSp>
        <p:cxnSp>
          <p:nvCxnSpPr>
            <p:cNvPr id="182" name="Straight Arrow Connector 63"/>
            <p:cNvCxnSpPr/>
            <p:nvPr/>
          </p:nvCxnSpPr>
          <p:spPr>
            <a:xfrm>
              <a:off x="4903920" y="3615840"/>
              <a:ext cx="172080" cy="376920"/>
            </a:xfrm>
            <a:prstGeom prst="straightConnector1">
              <a:avLst/>
            </a:prstGeom>
            <a:ln w="12600">
              <a:solidFill>
                <a:srgbClr val="ff0000"/>
              </a:solidFill>
              <a:miter/>
              <a:tailEnd len="med" type="arrow" w="med"/>
            </a:ln>
          </p:spPr>
        </p:cxnSp>
        <p:cxnSp>
          <p:nvCxnSpPr>
            <p:cNvPr id="183" name="Straight Arrow Connector 65"/>
            <p:cNvCxnSpPr/>
            <p:nvPr/>
          </p:nvCxnSpPr>
          <p:spPr>
            <a:xfrm flipH="1">
              <a:off x="4695120" y="3981240"/>
              <a:ext cx="37080" cy="345240"/>
            </a:xfrm>
            <a:prstGeom prst="straightConnector1">
              <a:avLst/>
            </a:prstGeom>
            <a:ln w="12600">
              <a:solidFill>
                <a:srgbClr val="ff0000"/>
              </a:solidFill>
              <a:miter/>
              <a:tailEnd len="med" type="arrow" w="med"/>
            </a:ln>
          </p:spPr>
        </p:cxnSp>
        <p:cxnSp>
          <p:nvCxnSpPr>
            <p:cNvPr id="184" name="Straight Arrow Connector 67"/>
            <p:cNvCxnSpPr/>
            <p:nvPr/>
          </p:nvCxnSpPr>
          <p:spPr>
            <a:xfrm flipH="1">
              <a:off x="4227120" y="3315960"/>
              <a:ext cx="8640" cy="153000"/>
            </a:xfrm>
            <a:prstGeom prst="straightConnector1">
              <a:avLst/>
            </a:prstGeom>
            <a:ln w="12600">
              <a:solidFill>
                <a:srgbClr val="ff0000"/>
              </a:solidFill>
              <a:miter/>
              <a:tailEnd len="med" type="arrow" w="med"/>
            </a:ln>
          </p:spPr>
        </p:cxnSp>
        <p:cxnSp>
          <p:nvCxnSpPr>
            <p:cNvPr id="185" name="Straight Arrow Connector 69"/>
            <p:cNvCxnSpPr/>
            <p:nvPr/>
          </p:nvCxnSpPr>
          <p:spPr>
            <a:xfrm flipH="1">
              <a:off x="3971160" y="3671640"/>
              <a:ext cx="84600" cy="146520"/>
            </a:xfrm>
            <a:prstGeom prst="straightConnector1">
              <a:avLst/>
            </a:prstGeom>
            <a:ln w="12600">
              <a:solidFill>
                <a:srgbClr val="ff0000"/>
              </a:solidFill>
              <a:miter/>
              <a:tailEnd len="med" type="arrow" w="med"/>
            </a:ln>
          </p:spPr>
        </p:cxnSp>
        <p:cxnSp>
          <p:nvCxnSpPr>
            <p:cNvPr id="186" name="Straight Arrow Connector 71"/>
            <p:cNvCxnSpPr/>
            <p:nvPr/>
          </p:nvCxnSpPr>
          <p:spPr>
            <a:xfrm>
              <a:off x="5572080" y="3922200"/>
              <a:ext cx="335520" cy="540360"/>
            </a:xfrm>
            <a:prstGeom prst="straightConnector1">
              <a:avLst/>
            </a:prstGeom>
            <a:ln w="12600">
              <a:solidFill>
                <a:srgbClr val="ff0000"/>
              </a:solidFill>
              <a:miter/>
              <a:tailEnd len="med" type="arrow" w="med"/>
            </a:ln>
          </p:spPr>
        </p:cxnSp>
        <p:cxnSp>
          <p:nvCxnSpPr>
            <p:cNvPr id="187" name="Straight Arrow Connector 73"/>
            <p:cNvCxnSpPr/>
            <p:nvPr/>
          </p:nvCxnSpPr>
          <p:spPr>
            <a:xfrm>
              <a:off x="6402240" y="3862080"/>
              <a:ext cx="160920" cy="664200"/>
            </a:xfrm>
            <a:prstGeom prst="straightConnector1">
              <a:avLst/>
            </a:prstGeom>
            <a:ln w="12600">
              <a:solidFill>
                <a:srgbClr val="ff0000"/>
              </a:solidFill>
              <a:miter/>
              <a:tailEnd len="med" type="arrow" w="med"/>
            </a:ln>
          </p:spPr>
        </p:cxnSp>
        <p:cxnSp>
          <p:nvCxnSpPr>
            <p:cNvPr id="188" name="Straight Arrow Connector 75"/>
            <p:cNvCxnSpPr/>
            <p:nvPr/>
          </p:nvCxnSpPr>
          <p:spPr>
            <a:xfrm>
              <a:off x="6229440" y="4227480"/>
              <a:ext cx="19440" cy="413280"/>
            </a:xfrm>
            <a:prstGeom prst="straightConnector1">
              <a:avLst/>
            </a:prstGeom>
            <a:ln w="12600">
              <a:solidFill>
                <a:srgbClr val="ff0000"/>
              </a:solidFill>
              <a:miter/>
              <a:tailEnd len="med" type="arrow" w="med"/>
            </a:ln>
          </p:spPr>
        </p:cxnSp>
        <p:sp>
          <p:nvSpPr>
            <p:cNvPr id="189" name="Freeform 11"/>
            <p:cNvSpPr/>
            <p:nvPr/>
          </p:nvSpPr>
          <p:spPr>
            <a:xfrm>
              <a:off x="6149880" y="4356000"/>
              <a:ext cx="979560" cy="618840"/>
            </a:xfrm>
            <a:custGeom>
              <a:avLst/>
              <a:gdLst/>
              <a:ahLst/>
              <a:rect l="l" t="t" r="r" b="b"/>
              <a:pathLst>
                <a:path w="980215" h="619280">
                  <a:moveTo>
                    <a:pt x="315378" y="545806"/>
                  </a:moveTo>
                  <a:cubicBezTo>
                    <a:pt x="331121" y="556302"/>
                    <a:pt x="377058" y="597641"/>
                    <a:pt x="399340" y="608783"/>
                  </a:cubicBezTo>
                  <a:cubicBezTo>
                    <a:pt x="409235" y="613731"/>
                    <a:pt x="420330" y="615781"/>
                    <a:pt x="430825" y="619280"/>
                  </a:cubicBezTo>
                  <a:cubicBezTo>
                    <a:pt x="546273" y="615781"/>
                    <a:pt x="661846" y="615191"/>
                    <a:pt x="777169" y="608783"/>
                  </a:cubicBezTo>
                  <a:cubicBezTo>
                    <a:pt x="788215" y="608169"/>
                    <a:pt x="798760" y="603235"/>
                    <a:pt x="808655" y="598287"/>
                  </a:cubicBezTo>
                  <a:cubicBezTo>
                    <a:pt x="819937" y="592646"/>
                    <a:pt x="829646" y="584292"/>
                    <a:pt x="840141" y="577295"/>
                  </a:cubicBezTo>
                  <a:cubicBezTo>
                    <a:pt x="854135" y="556302"/>
                    <a:pt x="874145" y="538252"/>
                    <a:pt x="882122" y="514317"/>
                  </a:cubicBezTo>
                  <a:cubicBezTo>
                    <a:pt x="901364" y="456582"/>
                    <a:pt x="881054" y="508314"/>
                    <a:pt x="913608" y="451339"/>
                  </a:cubicBezTo>
                  <a:cubicBezTo>
                    <a:pt x="966871" y="358119"/>
                    <a:pt x="904448" y="454583"/>
                    <a:pt x="955589" y="377865"/>
                  </a:cubicBezTo>
                  <a:cubicBezTo>
                    <a:pt x="976775" y="314301"/>
                    <a:pt x="993086" y="294684"/>
                    <a:pt x="966084" y="220421"/>
                  </a:cubicBezTo>
                  <a:cubicBezTo>
                    <a:pt x="961774" y="208566"/>
                    <a:pt x="945093" y="206426"/>
                    <a:pt x="934598" y="199429"/>
                  </a:cubicBezTo>
                  <a:cubicBezTo>
                    <a:pt x="917369" y="147736"/>
                    <a:pt x="936439" y="183469"/>
                    <a:pt x="892617" y="146948"/>
                  </a:cubicBezTo>
                  <a:cubicBezTo>
                    <a:pt x="881214" y="137445"/>
                    <a:pt x="873481" y="123693"/>
                    <a:pt x="861131" y="115459"/>
                  </a:cubicBezTo>
                  <a:cubicBezTo>
                    <a:pt x="851926" y="109322"/>
                    <a:pt x="839541" y="109910"/>
                    <a:pt x="829646" y="104962"/>
                  </a:cubicBezTo>
                  <a:cubicBezTo>
                    <a:pt x="818364" y="99320"/>
                    <a:pt x="809687" y="89093"/>
                    <a:pt x="798160" y="83970"/>
                  </a:cubicBezTo>
                  <a:cubicBezTo>
                    <a:pt x="734535" y="55690"/>
                    <a:pt x="738226" y="67151"/>
                    <a:pt x="672217" y="52481"/>
                  </a:cubicBezTo>
                  <a:cubicBezTo>
                    <a:pt x="661417" y="50081"/>
                    <a:pt x="651511" y="44473"/>
                    <a:pt x="640731" y="41985"/>
                  </a:cubicBezTo>
                  <a:cubicBezTo>
                    <a:pt x="605968" y="33962"/>
                    <a:pt x="571180" y="25418"/>
                    <a:pt x="535778" y="20992"/>
                  </a:cubicBezTo>
                  <a:cubicBezTo>
                    <a:pt x="413473" y="5703"/>
                    <a:pt x="479905" y="13050"/>
                    <a:pt x="336368" y="0"/>
                  </a:cubicBezTo>
                  <a:cubicBezTo>
                    <a:pt x="304882" y="3499"/>
                    <a:pt x="273159" y="5288"/>
                    <a:pt x="241911" y="10496"/>
                  </a:cubicBezTo>
                  <a:cubicBezTo>
                    <a:pt x="230998" y="12315"/>
                    <a:pt x="221062" y="17952"/>
                    <a:pt x="210425" y="20992"/>
                  </a:cubicBezTo>
                  <a:cubicBezTo>
                    <a:pt x="196556" y="24955"/>
                    <a:pt x="182260" y="27344"/>
                    <a:pt x="168444" y="31489"/>
                  </a:cubicBezTo>
                  <a:cubicBezTo>
                    <a:pt x="147251" y="37848"/>
                    <a:pt x="126463" y="45484"/>
                    <a:pt x="105472" y="52481"/>
                  </a:cubicBezTo>
                  <a:lnTo>
                    <a:pt x="73986" y="62977"/>
                  </a:lnTo>
                  <a:cubicBezTo>
                    <a:pt x="63491" y="69975"/>
                    <a:pt x="50380" y="74120"/>
                    <a:pt x="42501" y="83970"/>
                  </a:cubicBezTo>
                  <a:cubicBezTo>
                    <a:pt x="35590" y="92610"/>
                    <a:pt x="36953" y="105563"/>
                    <a:pt x="32005" y="115459"/>
                  </a:cubicBezTo>
                  <a:cubicBezTo>
                    <a:pt x="26364" y="126742"/>
                    <a:pt x="18012" y="136452"/>
                    <a:pt x="11015" y="146948"/>
                  </a:cubicBezTo>
                  <a:cubicBezTo>
                    <a:pt x="7517" y="164442"/>
                    <a:pt x="520" y="181589"/>
                    <a:pt x="520" y="199429"/>
                  </a:cubicBezTo>
                  <a:cubicBezTo>
                    <a:pt x="520" y="265608"/>
                    <a:pt x="-6621" y="302919"/>
                    <a:pt x="32005" y="346377"/>
                  </a:cubicBezTo>
                  <a:cubicBezTo>
                    <a:pt x="51727" y="368566"/>
                    <a:pt x="78511" y="384652"/>
                    <a:pt x="94977" y="409354"/>
                  </a:cubicBezTo>
                  <a:cubicBezTo>
                    <a:pt x="101974" y="419850"/>
                    <a:pt x="106474" y="432536"/>
                    <a:pt x="115967" y="440843"/>
                  </a:cubicBezTo>
                  <a:cubicBezTo>
                    <a:pt x="134952" y="457457"/>
                    <a:pt x="157948" y="468833"/>
                    <a:pt x="178939" y="482828"/>
                  </a:cubicBezTo>
                  <a:cubicBezTo>
                    <a:pt x="189434" y="489826"/>
                    <a:pt x="198458" y="499832"/>
                    <a:pt x="210425" y="503821"/>
                  </a:cubicBezTo>
                  <a:lnTo>
                    <a:pt x="273396" y="524813"/>
                  </a:lnTo>
                  <a:cubicBezTo>
                    <a:pt x="283891" y="531811"/>
                    <a:pt x="293288" y="540837"/>
                    <a:pt x="304882" y="545806"/>
                  </a:cubicBezTo>
                  <a:cubicBezTo>
                    <a:pt x="366285" y="572124"/>
                    <a:pt x="299635" y="535310"/>
                    <a:pt x="315378" y="545806"/>
                  </a:cubicBezTo>
                  <a:close/>
                </a:path>
              </a:pathLst>
            </a:custGeom>
            <a:solidFill>
              <a:srgbClr val="ffffff">
                <a:alpha val="66000"/>
              </a:srgbClr>
            </a:solidFill>
            <a:ln w="19080">
              <a:solidFill>
                <a:srgbClr val="66006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TextBox 9"/>
            <p:cNvSpPr/>
            <p:nvPr/>
          </p:nvSpPr>
          <p:spPr>
            <a:xfrm>
              <a:off x="6101640" y="4440240"/>
              <a:ext cx="109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hmandu</a:t>
              </a:r>
              <a:endParaRPr b="0" lang="en-US" sz="1400" spc="-1" strike="noStrike">
                <a:solidFill>
                  <a:srgbClr val="000000"/>
                </a:solidFill>
                <a:latin typeface="Arial"/>
              </a:endParaRPr>
            </a:p>
          </p:txBody>
        </p:sp>
        <p:cxnSp>
          <p:nvCxnSpPr>
            <p:cNvPr id="191" name="Straight Arrow Connector 77"/>
            <p:cNvCxnSpPr/>
            <p:nvPr/>
          </p:nvCxnSpPr>
          <p:spPr>
            <a:xfrm>
              <a:off x="5395680" y="4292280"/>
              <a:ext cx="46440" cy="471960"/>
            </a:xfrm>
            <a:prstGeom prst="straightConnector1">
              <a:avLst/>
            </a:prstGeom>
            <a:ln w="12600">
              <a:solidFill>
                <a:srgbClr val="ff0000"/>
              </a:solidFill>
              <a:miter/>
              <a:tailEnd len="med" type="arrow" w="med"/>
            </a:ln>
          </p:spPr>
        </p:cxnSp>
        <p:cxnSp>
          <p:nvCxnSpPr>
            <p:cNvPr id="192" name="Straight Arrow Connector 79"/>
            <p:cNvCxnSpPr/>
            <p:nvPr/>
          </p:nvCxnSpPr>
          <p:spPr>
            <a:xfrm flipH="1">
              <a:off x="4491000" y="4341960"/>
              <a:ext cx="70200" cy="189360"/>
            </a:xfrm>
            <a:prstGeom prst="straightConnector1">
              <a:avLst/>
            </a:prstGeom>
            <a:ln w="12600">
              <a:solidFill>
                <a:srgbClr val="ff0000"/>
              </a:solidFill>
              <a:miter/>
              <a:tailEnd len="med" type="arrow" w="med"/>
            </a:ln>
          </p:spPr>
        </p:cxnSp>
        <p:cxnSp>
          <p:nvCxnSpPr>
            <p:cNvPr id="193" name="Straight Arrow Connector 81"/>
            <p:cNvCxnSpPr/>
            <p:nvPr/>
          </p:nvCxnSpPr>
          <p:spPr>
            <a:xfrm flipH="1">
              <a:off x="5053680" y="4654800"/>
              <a:ext cx="176760" cy="187920"/>
            </a:xfrm>
            <a:prstGeom prst="straightConnector1">
              <a:avLst/>
            </a:prstGeom>
            <a:ln w="12600">
              <a:solidFill>
                <a:srgbClr val="ff0000"/>
              </a:solidFill>
              <a:miter/>
              <a:tailEnd len="med" type="arrow" w="med"/>
            </a:ln>
          </p:spPr>
        </p:cxnSp>
        <p:cxnSp>
          <p:nvCxnSpPr>
            <p:cNvPr id="194" name="Straight Arrow Connector 83"/>
            <p:cNvCxnSpPr/>
            <p:nvPr/>
          </p:nvCxnSpPr>
          <p:spPr>
            <a:xfrm>
              <a:off x="6069240" y="4593960"/>
              <a:ext cx="25920" cy="208440"/>
            </a:xfrm>
            <a:prstGeom prst="straightConnector1">
              <a:avLst/>
            </a:prstGeom>
            <a:ln w="12600">
              <a:solidFill>
                <a:srgbClr val="ff0000"/>
              </a:solidFill>
              <a:miter/>
              <a:tailEnd len="med" type="arrow" w="med"/>
            </a:ln>
          </p:spPr>
        </p:cxnSp>
        <p:cxnSp>
          <p:nvCxnSpPr>
            <p:cNvPr id="195" name="Straight Arrow Connector 85"/>
            <p:cNvCxnSpPr/>
            <p:nvPr/>
          </p:nvCxnSpPr>
          <p:spPr>
            <a:xfrm>
              <a:off x="7073640" y="4167000"/>
              <a:ext cx="384840" cy="619560"/>
            </a:xfrm>
            <a:prstGeom prst="straightConnector1">
              <a:avLst/>
            </a:prstGeom>
            <a:ln w="12600">
              <a:solidFill>
                <a:srgbClr val="ff0000"/>
              </a:solidFill>
              <a:miter/>
              <a:tailEnd len="med" type="arrow" w="med"/>
            </a:ln>
          </p:spPr>
        </p:cxnSp>
        <p:cxnSp>
          <p:nvCxnSpPr>
            <p:cNvPr id="196" name="Straight Arrow Connector 87"/>
            <p:cNvCxnSpPr/>
            <p:nvPr/>
          </p:nvCxnSpPr>
          <p:spPr>
            <a:xfrm flipH="1">
              <a:off x="7419960" y="4832280"/>
              <a:ext cx="141840" cy="218160"/>
            </a:xfrm>
            <a:prstGeom prst="straightConnector1">
              <a:avLst/>
            </a:prstGeom>
            <a:ln w="12600">
              <a:solidFill>
                <a:srgbClr val="ff0000"/>
              </a:solidFill>
              <a:miter/>
              <a:tailEnd len="med" type="arrow" w="med"/>
            </a:ln>
          </p:spPr>
        </p:cxnSp>
        <p:cxnSp>
          <p:nvCxnSpPr>
            <p:cNvPr id="197" name="Straight Arrow Connector 89"/>
            <p:cNvCxnSpPr/>
            <p:nvPr/>
          </p:nvCxnSpPr>
          <p:spPr>
            <a:xfrm flipH="1">
              <a:off x="6400440" y="5265360"/>
              <a:ext cx="149760" cy="138600"/>
            </a:xfrm>
            <a:prstGeom prst="straightConnector1">
              <a:avLst/>
            </a:prstGeom>
            <a:ln w="12600">
              <a:solidFill>
                <a:srgbClr val="ff0000"/>
              </a:solidFill>
              <a:miter/>
              <a:tailEnd len="med" type="arrow" w="med"/>
            </a:ln>
          </p:spPr>
        </p:cxnSp>
        <p:cxnSp>
          <p:nvCxnSpPr>
            <p:cNvPr id="198" name="Straight Arrow Connector 91"/>
            <p:cNvCxnSpPr/>
            <p:nvPr/>
          </p:nvCxnSpPr>
          <p:spPr>
            <a:xfrm flipH="1">
              <a:off x="7308720" y="5213520"/>
              <a:ext cx="89280" cy="155880"/>
            </a:xfrm>
            <a:prstGeom prst="straightConnector1">
              <a:avLst/>
            </a:prstGeom>
            <a:ln w="12600">
              <a:solidFill>
                <a:srgbClr val="ff0000"/>
              </a:solidFill>
              <a:miter/>
              <a:tailEnd len="med" type="arrow" w="med"/>
            </a:ln>
          </p:spPr>
        </p:cxnSp>
        <p:cxnSp>
          <p:nvCxnSpPr>
            <p:cNvPr id="199" name="Straight Arrow Connector 93"/>
            <p:cNvCxnSpPr/>
            <p:nvPr/>
          </p:nvCxnSpPr>
          <p:spPr>
            <a:xfrm flipH="1">
              <a:off x="5765400" y="4959000"/>
              <a:ext cx="119520" cy="129240"/>
            </a:xfrm>
            <a:prstGeom prst="straightConnector1">
              <a:avLst/>
            </a:prstGeom>
            <a:ln w="12600">
              <a:solidFill>
                <a:srgbClr val="ff0000"/>
              </a:solidFill>
              <a:miter/>
              <a:tailEnd len="med" type="arrow" w="med"/>
            </a:ln>
          </p:spPr>
        </p:cxnSp>
        <p:cxnSp>
          <p:nvCxnSpPr>
            <p:cNvPr id="200" name="Straight Arrow Connector 95"/>
            <p:cNvCxnSpPr/>
            <p:nvPr/>
          </p:nvCxnSpPr>
          <p:spPr>
            <a:xfrm flipH="1">
              <a:off x="3701160" y="2644560"/>
              <a:ext cx="51480" cy="227520"/>
            </a:xfrm>
            <a:prstGeom prst="straightConnector1">
              <a:avLst/>
            </a:prstGeom>
            <a:ln w="12600">
              <a:solidFill>
                <a:srgbClr val="ff0000"/>
              </a:solidFill>
              <a:miter/>
              <a:tailEnd len="med" type="arrow" w="med"/>
            </a:ln>
          </p:spPr>
        </p:cxnSp>
        <p:cxnSp>
          <p:nvCxnSpPr>
            <p:cNvPr id="201" name="Straight Arrow Connector 97"/>
            <p:cNvCxnSpPr>
              <a:endCxn id="202" idx="3"/>
            </p:cNvCxnSpPr>
            <p:nvPr/>
          </p:nvCxnSpPr>
          <p:spPr>
            <a:xfrm flipH="1">
              <a:off x="3452400" y="2999880"/>
              <a:ext cx="172080" cy="943560"/>
            </a:xfrm>
            <a:prstGeom prst="straightConnector1">
              <a:avLst/>
            </a:prstGeom>
            <a:ln w="12600">
              <a:solidFill>
                <a:srgbClr val="ff0000"/>
              </a:solidFill>
              <a:miter/>
              <a:tailEnd len="med" type="arrow" w="med"/>
            </a:ln>
          </p:spPr>
        </p:cxnSp>
        <p:cxnSp>
          <p:nvCxnSpPr>
            <p:cNvPr id="203" name="Straight Arrow Connector 99"/>
            <p:cNvCxnSpPr/>
            <p:nvPr/>
          </p:nvCxnSpPr>
          <p:spPr>
            <a:xfrm flipH="1">
              <a:off x="3804840" y="4044600"/>
              <a:ext cx="86400" cy="106920"/>
            </a:xfrm>
            <a:prstGeom prst="straightConnector1">
              <a:avLst/>
            </a:prstGeom>
            <a:ln w="12600">
              <a:solidFill>
                <a:srgbClr val="ff0000"/>
              </a:solidFill>
              <a:miter/>
              <a:tailEnd len="med" type="arrow" w="med"/>
            </a:ln>
          </p:spPr>
        </p:cxnSp>
        <p:cxnSp>
          <p:nvCxnSpPr>
            <p:cNvPr id="204" name="Straight Arrow Connector 101"/>
            <p:cNvCxnSpPr/>
            <p:nvPr/>
          </p:nvCxnSpPr>
          <p:spPr>
            <a:xfrm flipH="1">
              <a:off x="6184440" y="2442960"/>
              <a:ext cx="65520" cy="133560"/>
            </a:xfrm>
            <a:prstGeom prst="straightConnector1">
              <a:avLst/>
            </a:prstGeom>
            <a:ln w="12600">
              <a:solidFill>
                <a:srgbClr val="ff0000"/>
              </a:solidFill>
              <a:miter/>
              <a:tailEnd len="med" type="arrow" w="med"/>
            </a:ln>
          </p:spPr>
        </p:cxnSp>
        <p:cxnSp>
          <p:nvCxnSpPr>
            <p:cNvPr id="205" name="Straight Arrow Connector 103"/>
            <p:cNvCxnSpPr/>
            <p:nvPr/>
          </p:nvCxnSpPr>
          <p:spPr>
            <a:xfrm flipH="1">
              <a:off x="8143560" y="3369960"/>
              <a:ext cx="97560" cy="224280"/>
            </a:xfrm>
            <a:prstGeom prst="straightConnector1">
              <a:avLst/>
            </a:prstGeom>
            <a:ln w="12600">
              <a:solidFill>
                <a:srgbClr val="ff0000"/>
              </a:solidFill>
              <a:miter/>
              <a:tailEnd len="med" type="arrow" w="med"/>
            </a:ln>
          </p:spPr>
        </p:cxnSp>
        <p:cxnSp>
          <p:nvCxnSpPr>
            <p:cNvPr id="206" name="Straight Arrow Connector 105"/>
            <p:cNvCxnSpPr/>
            <p:nvPr/>
          </p:nvCxnSpPr>
          <p:spPr>
            <a:xfrm flipH="1">
              <a:off x="7494120" y="3049200"/>
              <a:ext cx="76680" cy="100440"/>
            </a:xfrm>
            <a:prstGeom prst="straightConnector1">
              <a:avLst/>
            </a:prstGeom>
            <a:ln w="12600">
              <a:solidFill>
                <a:srgbClr val="ff0000"/>
              </a:solidFill>
              <a:miter/>
              <a:tailEnd len="med" type="arrow" w="med"/>
            </a:ln>
          </p:spPr>
        </p:cxnSp>
      </p:grpSp>
      <p:sp>
        <p:nvSpPr>
          <p:cNvPr id="202" name="TextBox 9"/>
          <p:cNvSpPr/>
          <p:nvPr/>
        </p:nvSpPr>
        <p:spPr>
          <a:xfrm>
            <a:off x="239760" y="1065240"/>
            <a:ext cx="3213000" cy="56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mapa muestra un desplazamiento de falla durante este terremoto. La estrella roja es el epicentro mientras que la flecha roja muestra la dirección de la propagación de ruptura hacia el sureste. Los contornos muestran el frente de ruptura en incrementos de 5 segundos después de la iniciación de la ruptura. Las flechas rojas pequeñas muestran la dirección y cantidad de movimiento de las rocas en la parte superior de la falla con respecto a las rocas debajo de la falla. La cantidad de deslizamiento es mostrado por sombras de colores. Desplazamiento máximo de falla de aproximadamente 3 metros ocurrieron en la zona de ruptura aproximadamente 20 km al norte de Katmandú.</a:t>
            </a:r>
            <a:endParaRPr b="0" lang="en-US" sz="1600" spc="-1" strike="noStrike">
              <a:solidFill>
                <a:srgbClr val="000000"/>
              </a:solidFill>
              <a:latin typeface="Arial"/>
            </a:endParaRPr>
          </a:p>
        </p:txBody>
      </p:sp>
      <p:sp>
        <p:nvSpPr>
          <p:cNvPr id="2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8" descr="IRIS_TMlogo.png"/>
          <p:cNvPicPr/>
          <p:nvPr/>
        </p:nvPicPr>
        <p:blipFill>
          <a:blip r:embed="rId1"/>
          <a:stretch/>
        </p:blipFill>
        <p:spPr>
          <a:xfrm>
            <a:off x="239760" y="76320"/>
            <a:ext cx="903240" cy="927000"/>
          </a:xfrm>
          <a:prstGeom prst="rect">
            <a:avLst/>
          </a:prstGeom>
          <a:ln w="0">
            <a:noFill/>
          </a:ln>
        </p:spPr>
      </p:pic>
      <p:sp>
        <p:nvSpPr>
          <p:cNvPr id="210" name="TextBox 7"/>
          <p:cNvSpPr/>
          <p:nvPr/>
        </p:nvSpPr>
        <p:spPr>
          <a:xfrm>
            <a:off x="271440" y="1023840"/>
            <a:ext cx="483408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ebido a que está construida en una cuenca sustentada por los sedimentos del lago, Katmandú fue particularmente vulnerable durante este terremoto. La ciudad está situada en un amplio valle rodeado por la cordillera del Himalaya. Este valle era antes el sitio de un lago en el que  los sedimentos del delta del rio y los del lago fueron acumulados hasta alcanzar un espesor de aproximadamente 100 metros.</a:t>
            </a:r>
            <a:endParaRPr b="0" lang="en-US" sz="1700" spc="-1" strike="noStrike">
              <a:solidFill>
                <a:srgbClr val="000000"/>
              </a:solidFill>
              <a:latin typeface="Arial"/>
            </a:endParaRPr>
          </a:p>
        </p:txBody>
      </p:sp>
      <p:pic>
        <p:nvPicPr>
          <p:cNvPr id="211" name="Picture 1" descr=""/>
          <p:cNvPicPr/>
          <p:nvPr/>
        </p:nvPicPr>
        <p:blipFill>
          <a:blip r:embed="rId2"/>
          <a:stretch/>
        </p:blipFill>
        <p:spPr>
          <a:xfrm>
            <a:off x="5105520" y="762120"/>
            <a:ext cx="3832200" cy="2550960"/>
          </a:xfrm>
          <a:prstGeom prst="rect">
            <a:avLst/>
          </a:prstGeom>
          <a:ln w="0">
            <a:noFill/>
          </a:ln>
        </p:spPr>
      </p:pic>
      <p:pic>
        <p:nvPicPr>
          <p:cNvPr id="212" name="Picture 2" descr=""/>
          <p:cNvPicPr/>
          <p:nvPr/>
        </p:nvPicPr>
        <p:blipFill>
          <a:blip r:embed="rId3"/>
          <a:srcRect l="2253" t="1972" r="3478" b="27675"/>
          <a:stretch/>
        </p:blipFill>
        <p:spPr>
          <a:xfrm>
            <a:off x="533520" y="3429000"/>
            <a:ext cx="8261280" cy="2516040"/>
          </a:xfrm>
          <a:prstGeom prst="rect">
            <a:avLst/>
          </a:prstGeom>
          <a:ln w="0">
            <a:noFill/>
          </a:ln>
        </p:spPr>
      </p:pic>
      <p:sp>
        <p:nvSpPr>
          <p:cNvPr id="213" name="TextBox 1"/>
          <p:cNvSpPr/>
          <p:nvPr/>
        </p:nvSpPr>
        <p:spPr>
          <a:xfrm>
            <a:off x="271440" y="5867280"/>
            <a:ext cx="8666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orte transversal geológico simplificado del valle de Katmandú mostrando los sedimentos depositados en la cuenca. Sedimentos acumulados en el lecho del lago son designados como “lacustres”, mientras que los sedimentos depositados por ríos son designados como “fluviales”. Después de todo el Sakai. El levantamiento rápido en el pleistoceno de la cordilleras frontales del Himalaya  registradas en las cuencas de Katmandú y Siwalik, Paleogeografía, Paleoclimatología, Paleoecología, v. 241, p.1 6-27, 2006.</a:t>
            </a:r>
            <a:endParaRPr b="0" lang="en-US" sz="1200" spc="-1" strike="noStrike">
              <a:solidFill>
                <a:srgbClr val="000000"/>
              </a:solidFill>
              <a:latin typeface="Arial"/>
            </a:endParaRPr>
          </a:p>
        </p:txBody>
      </p:sp>
      <p:sp>
        <p:nvSpPr>
          <p:cNvPr id="2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8" descr="IRIS_TMlogo.png"/>
          <p:cNvPicPr/>
          <p:nvPr/>
        </p:nvPicPr>
        <p:blipFill>
          <a:blip r:embed="rId1"/>
          <a:stretch/>
        </p:blipFill>
        <p:spPr>
          <a:xfrm>
            <a:off x="239760" y="76320"/>
            <a:ext cx="903240" cy="927000"/>
          </a:xfrm>
          <a:prstGeom prst="rect">
            <a:avLst/>
          </a:prstGeom>
          <a:ln w="0">
            <a:noFill/>
          </a:ln>
        </p:spPr>
      </p:pic>
      <p:sp>
        <p:nvSpPr>
          <p:cNvPr id="217" name="TextBox 7"/>
          <p:cNvSpPr/>
          <p:nvPr/>
        </p:nvSpPr>
        <p:spPr>
          <a:xfrm>
            <a:off x="239760" y="1143000"/>
            <a:ext cx="4637160" cy="55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ste terremoto fue destructivo debido a dos factores: la poca profundidad (15 km), y el hecho de que Katmandú se encuentra en una cuenca llena con aproximadamente 2.000 pies de sedimento bland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uencas sedimentarias pueden tener un gran efecto sobre el movimiento del suelo por encima de ellos. Ondas sísmicas viajan a gran velocidad a través de las rocas rígidas y de la corteza, pero disminuyen su velocidad drásticamente al entrar en la cuenca. Esto aumenta la amplitud de las ondas sísmicas en el sedimento depositado en la cuenca. Además, el agudo contraste de densidad de las rocas en el sedimento suave de la cuenca con respecto al material circundante puede causar el reflejo de las ondas, acumulando energía en la cuenca por un periodo de tiempo. Esto extiende la duración del movimiento telúrico.</a:t>
            </a:r>
            <a:endParaRPr b="0" lang="en-US" sz="1700" spc="-1" strike="noStrike">
              <a:solidFill>
                <a:srgbClr val="000000"/>
              </a:solidFill>
              <a:latin typeface="Arial"/>
            </a:endParaRPr>
          </a:p>
        </p:txBody>
      </p:sp>
      <p:pic>
        <p:nvPicPr>
          <p:cNvPr id="218" name="Picture 4" descr=""/>
          <p:cNvPicPr/>
          <p:nvPr/>
        </p:nvPicPr>
        <p:blipFill>
          <a:blip r:embed="rId2"/>
          <a:stretch/>
        </p:blipFill>
        <p:spPr>
          <a:xfrm>
            <a:off x="5145120" y="1143000"/>
            <a:ext cx="3809880" cy="4172040"/>
          </a:xfrm>
          <a:prstGeom prst="rect">
            <a:avLst/>
          </a:prstGeom>
          <a:ln w="0">
            <a:noFill/>
          </a:ln>
        </p:spPr>
      </p:pic>
      <p:sp>
        <p:nvSpPr>
          <p:cNvPr id="2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307800" y="1676520"/>
            <a:ext cx="8683920" cy="4956120"/>
          </a:xfrm>
          <a:prstGeom prst="rect">
            <a:avLst/>
          </a:prstGeom>
          <a:ln w="0">
            <a:noFill/>
          </a:ln>
        </p:spPr>
      </p:pic>
      <p:sp>
        <p:nvSpPr>
          <p:cNvPr id="2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8" descr="IRIS_TMlogo.png"/>
          <p:cNvPicPr/>
          <p:nvPr/>
        </p:nvPicPr>
        <p:blipFill>
          <a:blip r:embed="rId2"/>
          <a:stretch/>
        </p:blipFill>
        <p:spPr>
          <a:xfrm>
            <a:off x="239760" y="76320"/>
            <a:ext cx="903240" cy="927000"/>
          </a:xfrm>
          <a:prstGeom prst="rect">
            <a:avLst/>
          </a:prstGeom>
          <a:ln w="0">
            <a:noFill/>
          </a:ln>
        </p:spPr>
      </p:pic>
      <p:sp>
        <p:nvSpPr>
          <p:cNvPr id="223" name="TextBox 6"/>
          <p:cNvSpPr/>
          <p:nvPr/>
        </p:nvSpPr>
        <p:spPr>
          <a:xfrm>
            <a:off x="2654280" y="4648320"/>
            <a:ext cx="58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directas P y S no pueden viajar hacia las estaciones en una distancia epicentral Δ &gt; 103° debido al largo decremento en la velocidad de las ondas a través del límite entre el manto y el núcleo exterior líquido. Existe una “zona de sombra” para las ondas directas P en un rango de 103° &lt; Δ &lt; 140°.  La zona de sombra de las ondas S existen para un Δ &gt; 103° debido a que el núcleo exterior líquido bloquea las ondas S que no pueden viajar a través de líquidos.</a:t>
            </a:r>
            <a:endParaRPr b="0" lang="en-US" sz="1400" spc="-1" strike="noStrike">
              <a:solidFill>
                <a:srgbClr val="000000"/>
              </a:solidFill>
              <a:latin typeface="Arial"/>
            </a:endParaRPr>
          </a:p>
        </p:txBody>
      </p:sp>
      <p:sp>
        <p:nvSpPr>
          <p:cNvPr id="224" name="TextBox 7"/>
          <p:cNvSpPr/>
          <p:nvPr/>
        </p:nvSpPr>
        <p:spPr>
          <a:xfrm>
            <a:off x="230040" y="91440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gistro observado en el sismógrafo de la Escuela Secundaria Mt Tabor (MTOR) es ilustrado en la parte inferior. Portland está ubicada aproximadamente </a:t>
            </a:r>
            <a:r>
              <a:rPr b="0" lang="en-US" sz="1400" spc="-1" strike="noStrike">
                <a:solidFill>
                  <a:srgbClr val="000000"/>
                </a:solidFill>
                <a:latin typeface="Arial"/>
              </a:rPr>
              <a:t>11.355 km</a:t>
            </a:r>
            <a:r>
              <a:rPr b="0" lang="es-ES" sz="1400" spc="-1" strike="noStrike">
                <a:solidFill>
                  <a:srgbClr val="000000"/>
                </a:solidFill>
                <a:latin typeface="Arial"/>
              </a:rPr>
              <a:t> </a:t>
            </a:r>
            <a:r>
              <a:rPr b="0" lang="en-US" sz="1400" spc="-1" strike="noStrike">
                <a:solidFill>
                  <a:srgbClr val="000000"/>
                </a:solidFill>
                <a:latin typeface="Arial"/>
              </a:rPr>
              <a:t>(~7055 millas, 102,3 grados ) </a:t>
            </a:r>
            <a:r>
              <a:rPr b="0" lang="es-ES" sz="1400" spc="-1" strike="noStrike">
                <a:solidFill>
                  <a:srgbClr val="000000"/>
                </a:solidFill>
                <a:latin typeface="Arial"/>
              </a:rPr>
              <a:t>desde la localización de este terremoto.</a:t>
            </a:r>
            <a:endParaRPr b="0" lang="en-US" sz="1400" spc="-1" strike="noStrike">
              <a:solidFill>
                <a:srgbClr val="000000"/>
              </a:solidFill>
              <a:latin typeface="Arial"/>
            </a:endParaRPr>
          </a:p>
        </p:txBody>
      </p:sp>
      <p:sp>
        <p:nvSpPr>
          <p:cNvPr id="2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7827840" y="5029200"/>
            <a:ext cx="12258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y texto cortesía del Servicio Geológico de los EEUU.</a:t>
            </a:r>
            <a:endParaRPr b="0" lang="en-US" sz="1400" spc="-1" strike="noStrike">
              <a:solidFill>
                <a:srgbClr val="000000"/>
              </a:solidFill>
              <a:latin typeface="Arial"/>
            </a:endParaRPr>
          </a:p>
        </p:txBody>
      </p:sp>
      <p:pic>
        <p:nvPicPr>
          <p:cNvPr id="228" name="Picture 8" descr="IRIS_TMlogo.png"/>
          <p:cNvPicPr/>
          <p:nvPr/>
        </p:nvPicPr>
        <p:blipFill>
          <a:blip r:embed="rId1"/>
          <a:stretch/>
        </p:blipFill>
        <p:spPr>
          <a:xfrm>
            <a:off x="239760" y="76320"/>
            <a:ext cx="903240" cy="927000"/>
          </a:xfrm>
          <a:prstGeom prst="rect">
            <a:avLst/>
          </a:prstGeom>
          <a:ln w="0">
            <a:noFill/>
          </a:ln>
        </p:spPr>
      </p:pic>
      <p:pic>
        <p:nvPicPr>
          <p:cNvPr id="229" name="Picture 10" descr="usgs.jpg"/>
          <p:cNvPicPr/>
          <p:nvPr/>
        </p:nvPicPr>
        <p:blipFill>
          <a:blip r:embed="rId2"/>
          <a:stretch/>
        </p:blipFill>
        <p:spPr>
          <a:xfrm>
            <a:off x="4170240" y="4659480"/>
            <a:ext cx="3657600" cy="2165040"/>
          </a:xfrm>
          <a:prstGeom prst="rect">
            <a:avLst/>
          </a:prstGeom>
          <a:ln w="0">
            <a:noFill/>
          </a:ln>
        </p:spPr>
      </p:pic>
      <p:pic>
        <p:nvPicPr>
          <p:cNvPr id="230" name="Picture 1" descr=""/>
          <p:cNvPicPr/>
          <p:nvPr/>
        </p:nvPicPr>
        <p:blipFill>
          <a:blip r:embed="rId3"/>
          <a:stretch/>
        </p:blipFill>
        <p:spPr>
          <a:xfrm>
            <a:off x="4406760" y="804960"/>
            <a:ext cx="4584960" cy="3614760"/>
          </a:xfrm>
          <a:prstGeom prst="rect">
            <a:avLst/>
          </a:prstGeom>
          <a:ln w="0">
            <a:noFill/>
          </a:ln>
        </p:spPr>
      </p:pic>
      <p:sp>
        <p:nvSpPr>
          <p:cNvPr id="231" name="TextBox 7"/>
          <p:cNvSpPr/>
          <p:nvPr/>
        </p:nvSpPr>
        <p:spPr>
          <a:xfrm>
            <a:off x="243000" y="1123920"/>
            <a:ext cx="3946320" cy="57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Una réplica de magnitud 6,7 se sintió el domingo en Nepal, la India y Bangladesh y más avalanchas se reportaron en las cercanías de las Montañas de Everest. Las réplicas tras el sismo principal de magnitud 7,8 se han traducido en  daños adicionales  y han sido una interrupción importante de los esfuerzos de rescat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Secuencias de réplicas  siguen patrones predecibles como grupos, aunque los terremotos individuales son en sí mismos no predecible. La gráfica muestra cómo el número de réplicas y la magnitud de las réplicas decaen al aumentar el tiempo desde la ocurrencia del sismo principal. El número de réplicas también disminuye con la distancia desde el sismo principa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2" name="TextBox 15"/>
          <p:cNvSpPr/>
          <p:nvPr/>
        </p:nvSpPr>
        <p:spPr>
          <a:xfrm>
            <a:off x="5487840" y="4352760"/>
            <a:ext cx="3548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modificada desde el Guardián</a:t>
            </a:r>
            <a:endParaRPr b="0" lang="en-US" sz="1400" spc="-1" strike="noStrike">
              <a:solidFill>
                <a:srgbClr val="000000"/>
              </a:solidFill>
              <a:latin typeface="Arial"/>
            </a:endParaRPr>
          </a:p>
        </p:txBody>
      </p:sp>
      <p:sp>
        <p:nvSpPr>
          <p:cNvPr id="23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8" descr="IRIS_TMlogo.png"/>
          <p:cNvPicPr/>
          <p:nvPr/>
        </p:nvPicPr>
        <p:blipFill>
          <a:blip r:embed="rId1"/>
          <a:stretch/>
        </p:blipFill>
        <p:spPr>
          <a:xfrm>
            <a:off x="239760" y="76320"/>
            <a:ext cx="903240" cy="927000"/>
          </a:xfrm>
          <a:prstGeom prst="rect">
            <a:avLst/>
          </a:prstGeom>
          <a:ln w="0">
            <a:noFill/>
          </a:ln>
        </p:spPr>
      </p:pic>
      <p:pic>
        <p:nvPicPr>
          <p:cNvPr id="236" name="Picture 1" descr=""/>
          <p:cNvPicPr/>
          <p:nvPr/>
        </p:nvPicPr>
        <p:blipFill>
          <a:blip r:embed="rId2"/>
          <a:stretch/>
        </p:blipFill>
        <p:spPr>
          <a:xfrm>
            <a:off x="6210360" y="5181480"/>
            <a:ext cx="2705040" cy="1435320"/>
          </a:xfrm>
          <a:prstGeom prst="rect">
            <a:avLst/>
          </a:prstGeom>
          <a:ln w="0">
            <a:noFill/>
          </a:ln>
        </p:spPr>
      </p:pic>
      <p:pic>
        <p:nvPicPr>
          <p:cNvPr id="237" name="Picture 2" descr=""/>
          <p:cNvPicPr/>
          <p:nvPr/>
        </p:nvPicPr>
        <p:blipFill>
          <a:blip r:embed="rId3"/>
          <a:stretch/>
        </p:blipFill>
        <p:spPr>
          <a:xfrm>
            <a:off x="503280" y="5334120"/>
            <a:ext cx="1460520" cy="1150920"/>
          </a:xfrm>
          <a:prstGeom prst="rect">
            <a:avLst/>
          </a:prstGeom>
          <a:ln w="0">
            <a:noFill/>
          </a:ln>
        </p:spPr>
      </p:pic>
      <p:pic>
        <p:nvPicPr>
          <p:cNvPr id="238" name="Picture 1" descr=""/>
          <p:cNvPicPr/>
          <p:nvPr/>
        </p:nvPicPr>
        <p:blipFill>
          <a:blip r:embed="rId4"/>
          <a:stretch/>
        </p:blipFill>
        <p:spPr>
          <a:xfrm>
            <a:off x="3798720" y="5400720"/>
            <a:ext cx="1200240" cy="1206360"/>
          </a:xfrm>
          <a:prstGeom prst="rect">
            <a:avLst/>
          </a:prstGeom>
          <a:ln w="0">
            <a:noFill/>
          </a:ln>
        </p:spPr>
      </p:pic>
      <p:sp>
        <p:nvSpPr>
          <p:cNvPr id="23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
        <p:nvSpPr>
          <p:cNvPr id="240"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 descr="IRIS_TMlogo.png"/>
          <p:cNvPicPr/>
          <p:nvPr/>
        </p:nvPicPr>
        <p:blipFill>
          <a:blip r:embed="rId1"/>
          <a:stretch/>
        </p:blipFill>
        <p:spPr>
          <a:xfrm>
            <a:off x="239760" y="76320"/>
            <a:ext cx="903240" cy="927000"/>
          </a:xfrm>
          <a:prstGeom prst="rect">
            <a:avLst/>
          </a:prstGeom>
          <a:ln w="0">
            <a:noFill/>
          </a:ln>
        </p:spPr>
      </p:pic>
      <p:sp>
        <p:nvSpPr>
          <p:cNvPr id="57" name="TextBox 14"/>
          <p:cNvSpPr/>
          <p:nvPr/>
        </p:nvSpPr>
        <p:spPr>
          <a:xfrm>
            <a:off x="254160" y="990720"/>
            <a:ext cx="671004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Arial"/>
              </a:rPr>
              <a:t>El terremoto centrado en las afueras de Katmandú, la ciudad  capital, fue el peor en estremecer Nepal en más de 80 años. Destruyó una gran parte de las regiones pobladas  más antiguas de Katmandú y produjo daños severos a tres de los sitios clasificados por la UNESCO como Patrimonio de la Humanidad. El terremoto fue lo suficientemente fuerte que fue sentido en la India, Bangladesh, la región China del Tíbet y Pakistán.</a:t>
            </a:r>
            <a:r>
              <a:rPr b="0" lang="en-US" sz="1700" spc="-1" strike="noStrike">
                <a:solidFill>
                  <a:srgbClr val="000000"/>
                </a:solidFill>
                <a:latin typeface="Arial"/>
                <a:ea typeface="Arial"/>
              </a:rPr>
              <a:t>  </a:t>
            </a:r>
            <a:endParaRPr b="0" lang="en-US" sz="1700" spc="-1" strike="noStrike">
              <a:solidFill>
                <a:srgbClr val="000000"/>
              </a:solidFill>
              <a:latin typeface="Arial"/>
            </a:endParaRPr>
          </a:p>
        </p:txBody>
      </p:sp>
      <p:pic>
        <p:nvPicPr>
          <p:cNvPr id="58" name="Picture 1" descr=""/>
          <p:cNvPicPr/>
          <p:nvPr/>
        </p:nvPicPr>
        <p:blipFill>
          <a:blip r:embed="rId2"/>
          <a:stretch/>
        </p:blipFill>
        <p:spPr>
          <a:xfrm>
            <a:off x="380880" y="3014640"/>
            <a:ext cx="5943600" cy="3133800"/>
          </a:xfrm>
          <a:prstGeom prst="rect">
            <a:avLst/>
          </a:prstGeom>
          <a:ln w="0">
            <a:noFill/>
          </a:ln>
        </p:spPr>
      </p:pic>
      <p:sp>
        <p:nvSpPr>
          <p:cNvPr id="59" name="TextBox 15"/>
          <p:cNvSpPr/>
          <p:nvPr/>
        </p:nvSpPr>
        <p:spPr>
          <a:xfrm>
            <a:off x="2776680" y="6211800"/>
            <a:ext cx="354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 la BBC</a:t>
            </a:r>
            <a:endParaRPr b="0" lang="en-US" sz="1400" spc="-1" strike="noStrike">
              <a:solidFill>
                <a:srgbClr val="000000"/>
              </a:solidFill>
              <a:latin typeface="Arial"/>
            </a:endParaRPr>
          </a:p>
        </p:txBody>
      </p:sp>
      <p:sp>
        <p:nvSpPr>
          <p:cNvPr id="60" name="TextBox 2"/>
          <p:cNvSpPr/>
          <p:nvPr/>
        </p:nvSpPr>
        <p:spPr>
          <a:xfrm>
            <a:off x="6400800" y="2895480"/>
            <a:ext cx="23781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os reportes de daños y heridos todavía están siendo confirmados. La situación no es muy clara en áreas remotas la cual se mantienen incomunicadas y con difícil acceso. Muchas carreteras en las montañas están bloqueadas por derrumb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pic>
        <p:nvPicPr>
          <p:cNvPr id="62" name="Picture 4" descr=""/>
          <p:cNvPicPr/>
          <p:nvPr/>
        </p:nvPicPr>
        <p:blipFill>
          <a:blip r:embed="rId3"/>
          <a:stretch/>
        </p:blipFill>
        <p:spPr>
          <a:xfrm>
            <a:off x="7315200" y="166680"/>
            <a:ext cx="1660680" cy="166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IRIS_TMlogo.png"/>
          <p:cNvPicPr/>
          <p:nvPr/>
        </p:nvPicPr>
        <p:blipFill>
          <a:blip r:embed="rId1"/>
          <a:stretch/>
        </p:blipFill>
        <p:spPr>
          <a:xfrm>
            <a:off x="239760" y="76320"/>
            <a:ext cx="903240" cy="927000"/>
          </a:xfrm>
          <a:prstGeom prst="rect">
            <a:avLst/>
          </a:prstGeom>
          <a:ln w="0">
            <a:noFill/>
          </a:ln>
        </p:spPr>
      </p:pic>
      <p:sp>
        <p:nvSpPr>
          <p:cNvPr id="65" name="TextBox 1"/>
          <p:cNvSpPr/>
          <p:nvPr/>
        </p:nvSpPr>
        <p:spPr>
          <a:xfrm>
            <a:off x="239760" y="4137120"/>
            <a:ext cx="15890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número personas se aproximaron a la escena después que una avalancha desencadenada por un fuerte terremoto arrasara con el campamento base de Everest, Nepal el Sábado, 25 de abril, 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to AP/ Azim Afif)</a:t>
            </a:r>
            <a:endParaRPr b="0" lang="en-US" sz="1200" spc="-1" strike="noStrike">
              <a:solidFill>
                <a:srgbClr val="000000"/>
              </a:solidFill>
              <a:latin typeface="Arial"/>
            </a:endParaRPr>
          </a:p>
        </p:txBody>
      </p:sp>
      <p:pic>
        <p:nvPicPr>
          <p:cNvPr id="66" name="Picture 1" descr=""/>
          <p:cNvPicPr/>
          <p:nvPr/>
        </p:nvPicPr>
        <p:blipFill>
          <a:blip r:embed="rId2"/>
          <a:stretch/>
        </p:blipFill>
        <p:spPr>
          <a:xfrm>
            <a:off x="1893960" y="2716200"/>
            <a:ext cx="7021440" cy="3949560"/>
          </a:xfrm>
          <a:prstGeom prst="rect">
            <a:avLst/>
          </a:prstGeom>
          <a:ln w="0">
            <a:noFill/>
          </a:ln>
        </p:spPr>
      </p:pic>
      <p:sp>
        <p:nvSpPr>
          <p:cNvPr id="67" name="TextBox 2"/>
          <p:cNvSpPr/>
          <p:nvPr/>
        </p:nvSpPr>
        <p:spPr>
          <a:xfrm>
            <a:off x="255600" y="990720"/>
            <a:ext cx="8763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terremoto desencadenó una gran avalancha en las pendientes al sur de la Montaña de Everest, localizada aproximadamente 160 km al este- noreste del epicentro. La avalancha destruyó el campamento base, donde los escaladores estaban esperando por una pausa en el clima para ascender la montaña.  De acuerdo con reportes, la avalancha ocasionó la muerte de por lo menos 17 personas y otras 61 resultaron heridas.</a:t>
            </a:r>
            <a:endParaRPr b="0" lang="en-US" sz="1800" spc="-1" strike="noStrike">
              <a:solidFill>
                <a:srgbClr val="000000"/>
              </a:solidFill>
              <a:latin typeface="Arial"/>
            </a:endParaRPr>
          </a:p>
        </p:txBody>
      </p:sp>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2" descr="scale.jpg"/>
          <p:cNvPicPr/>
          <p:nvPr/>
        </p:nvPicPr>
        <p:blipFill>
          <a:blip r:embed="rId1"/>
          <a:stretch/>
        </p:blipFill>
        <p:spPr>
          <a:xfrm>
            <a:off x="304920" y="4233960"/>
            <a:ext cx="2127240" cy="2319120"/>
          </a:xfrm>
          <a:prstGeom prst="rect">
            <a:avLst/>
          </a:prstGeom>
          <a:ln w="0">
            <a:noFill/>
          </a:ln>
        </p:spPr>
      </p:pic>
      <p:sp>
        <p:nvSpPr>
          <p:cNvPr id="71" name="TextBox 15"/>
          <p:cNvSpPr/>
          <p:nvPr/>
        </p:nvSpPr>
        <p:spPr>
          <a:xfrm>
            <a:off x="266760" y="1547640"/>
            <a:ext cx="3417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escala de Intensidad Mercalli Modificada (MMI) describe la severidad de los movimientos telúricos. El área más cercana a Katmandú experimentó movimientos muy fuertes a severos.</a:t>
            </a:r>
            <a:endParaRPr b="0" lang="en-US" sz="1800" spc="-1" strike="noStrike">
              <a:solidFill>
                <a:srgbClr val="000000"/>
              </a:solidFill>
              <a:latin typeface="Arial"/>
            </a:endParaRPr>
          </a:p>
        </p:txBody>
      </p:sp>
      <p:pic>
        <p:nvPicPr>
          <p:cNvPr id="72" name="Picture 8" descr="IRIS_TMlogo.png"/>
          <p:cNvPicPr/>
          <p:nvPr/>
        </p:nvPicPr>
        <p:blipFill>
          <a:blip r:embed="rId2"/>
          <a:stretch/>
        </p:blipFill>
        <p:spPr>
          <a:xfrm>
            <a:off x="239760" y="76320"/>
            <a:ext cx="903240" cy="927000"/>
          </a:xfrm>
          <a:prstGeom prst="rect">
            <a:avLst/>
          </a:prstGeom>
          <a:ln w="0">
            <a:noFill/>
          </a:ln>
        </p:spPr>
      </p:pic>
      <p:sp>
        <p:nvSpPr>
          <p:cNvPr id="73"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pic>
        <p:nvPicPr>
          <p:cNvPr id="74" name="Picture 1" descr=""/>
          <p:cNvPicPr/>
          <p:nvPr/>
        </p:nvPicPr>
        <p:blipFill>
          <a:blip r:embed="rId3"/>
          <a:stretch/>
        </p:blipFill>
        <p:spPr>
          <a:xfrm>
            <a:off x="3809880" y="1457280"/>
            <a:ext cx="5218200" cy="5019840"/>
          </a:xfrm>
          <a:prstGeom prst="rect">
            <a:avLst/>
          </a:prstGeom>
          <a:ln w="0">
            <a:noFill/>
          </a:ln>
        </p:spPr>
      </p:pic>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
        <p:nvSpPr>
          <p:cNvPr id="76"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77"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78"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79" name="TextBox 15"/>
          <p:cNvSpPr/>
          <p:nvPr/>
        </p:nvSpPr>
        <p:spPr>
          <a:xfrm>
            <a:off x="3962520" y="640080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15"/>
          <p:cNvSpPr/>
          <p:nvPr/>
        </p:nvSpPr>
        <p:spPr>
          <a:xfrm>
            <a:off x="4648320" y="1295280"/>
            <a:ext cx="4343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82" name="Picture 8" descr="IRIS_TMlogo.png"/>
          <p:cNvPicPr/>
          <p:nvPr/>
        </p:nvPicPr>
        <p:blipFill>
          <a:blip r:embed="rId1"/>
          <a:stretch/>
        </p:blipFill>
        <p:spPr>
          <a:xfrm>
            <a:off x="239760" y="76320"/>
            <a:ext cx="903240" cy="927000"/>
          </a:xfrm>
          <a:prstGeom prst="rect">
            <a:avLst/>
          </a:prstGeom>
          <a:ln w="0">
            <a:noFill/>
          </a:ln>
        </p:spPr>
      </p:pic>
      <p:sp>
        <p:nvSpPr>
          <p:cNvPr id="83"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ódigo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84" name="TextBox 18"/>
          <p:cNvSpPr/>
          <p:nvPr/>
        </p:nvSpPr>
        <p:spPr>
          <a:xfrm>
            <a:off x="243000" y="1066680"/>
            <a:ext cx="47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apa localizador del Servicio Geológico de los EE.UU. muestra la población expuesta a diferentes niveles de intensidad modificada Mercalli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extBox 4"/>
          <p:cNvSpPr/>
          <p:nvPr/>
        </p:nvSpPr>
        <p:spPr>
          <a:xfrm>
            <a:off x="247680" y="2133720"/>
            <a:ext cx="3085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Aproximadamente 5.3 millones de personas experimentaron movimientos telúricos severos durante este terremoto.</a:t>
            </a:r>
            <a:endParaRPr b="0" lang="en-US" sz="1600" spc="-1" strike="noStrike">
              <a:solidFill>
                <a:srgbClr val="000000"/>
              </a:solidFill>
              <a:latin typeface="Arial"/>
            </a:endParaRPr>
          </a:p>
        </p:txBody>
      </p:sp>
      <p:pic>
        <p:nvPicPr>
          <p:cNvPr id="86" name="Picture 4" descr=""/>
          <p:cNvPicPr/>
          <p:nvPr/>
        </p:nvPicPr>
        <p:blipFill>
          <a:blip r:embed="rId2"/>
          <a:stretch/>
        </p:blipFill>
        <p:spPr>
          <a:xfrm>
            <a:off x="453960" y="3429000"/>
            <a:ext cx="2401920" cy="3294000"/>
          </a:xfrm>
          <a:prstGeom prst="rect">
            <a:avLst/>
          </a:prstGeom>
          <a:ln w="0">
            <a:noFill/>
          </a:ln>
        </p:spPr>
      </p:pic>
      <p:pic>
        <p:nvPicPr>
          <p:cNvPr id="87" name="Picture 5" descr=""/>
          <p:cNvPicPr/>
          <p:nvPr/>
        </p:nvPicPr>
        <p:blipFill>
          <a:blip r:embed="rId3"/>
          <a:stretch/>
        </p:blipFill>
        <p:spPr>
          <a:xfrm>
            <a:off x="3333600" y="2071800"/>
            <a:ext cx="5646960" cy="3449520"/>
          </a:xfrm>
          <a:prstGeom prst="rect">
            <a:avLst/>
          </a:prstGeom>
          <a:ln w="0">
            <a:noFill/>
          </a:ln>
        </p:spPr>
      </p:pic>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
        <p:nvSpPr>
          <p:cNvPr id="89" name="TextBox 15"/>
          <p:cNvSpPr/>
          <p:nvPr/>
        </p:nvSpPr>
        <p:spPr>
          <a:xfrm>
            <a:off x="4570560" y="6477120"/>
            <a:ext cx="4497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8" descr="IRIS_TMlogo.png"/>
          <p:cNvPicPr/>
          <p:nvPr/>
        </p:nvPicPr>
        <p:blipFill>
          <a:blip r:embed="rId1"/>
          <a:stretch/>
        </p:blipFill>
        <p:spPr>
          <a:xfrm>
            <a:off x="239760" y="76320"/>
            <a:ext cx="903240" cy="927000"/>
          </a:xfrm>
          <a:prstGeom prst="rect">
            <a:avLst/>
          </a:prstGeom>
          <a:ln w="0">
            <a:noFill/>
          </a:ln>
        </p:spPr>
      </p:pic>
      <p:sp>
        <p:nvSpPr>
          <p:cNvPr id="92" name="TextBox 7"/>
          <p:cNvSpPr/>
          <p:nvPr/>
        </p:nvSpPr>
        <p:spPr>
          <a:xfrm>
            <a:off x="239760" y="1066680"/>
            <a:ext cx="6161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ctividad sísmica en Nepal es causada por la corriente colisión continente-continente entre India y Asia. Esta colisión ha producido las montañas Himalaya y la Meseta Tibetana. La zona de colisión envuelve el promontorio noroeste del continente Índico en la región Hindú Kush de Tayikistán y Afganistán después se extiende al sureste a través de Nepal y Bután. </a:t>
            </a:r>
            <a:endParaRPr b="0" lang="en-US" sz="1800" spc="-1" strike="noStrike">
              <a:solidFill>
                <a:srgbClr val="000000"/>
              </a:solidFill>
              <a:latin typeface="Arial"/>
            </a:endParaRPr>
          </a:p>
        </p:txBody>
      </p:sp>
      <p:pic>
        <p:nvPicPr>
          <p:cNvPr id="93" name="Picture 15" descr=""/>
          <p:cNvPicPr/>
          <p:nvPr/>
        </p:nvPicPr>
        <p:blipFill>
          <a:blip r:embed="rId2"/>
          <a:stretch/>
        </p:blipFill>
        <p:spPr>
          <a:xfrm>
            <a:off x="6553080" y="304920"/>
            <a:ext cx="2313000" cy="4190760"/>
          </a:xfrm>
          <a:prstGeom prst="rect">
            <a:avLst/>
          </a:prstGeom>
          <a:ln w="0">
            <a:noFill/>
          </a:ln>
        </p:spPr>
      </p:pic>
      <p:pic>
        <p:nvPicPr>
          <p:cNvPr id="94" name="Picture 17" descr=""/>
          <p:cNvPicPr/>
          <p:nvPr/>
        </p:nvPicPr>
        <p:blipFill>
          <a:blip r:embed="rId3"/>
          <a:stretch/>
        </p:blipFill>
        <p:spPr>
          <a:xfrm>
            <a:off x="345960" y="3232080"/>
            <a:ext cx="3194280" cy="3446640"/>
          </a:xfrm>
          <a:prstGeom prst="rect">
            <a:avLst/>
          </a:prstGeom>
          <a:ln w="0">
            <a:noFill/>
          </a:ln>
        </p:spPr>
      </p:pic>
      <p:sp>
        <p:nvSpPr>
          <p:cNvPr id="95" name="TextBox 18"/>
          <p:cNvSpPr/>
          <p:nvPr/>
        </p:nvSpPr>
        <p:spPr>
          <a:xfrm>
            <a:off x="3720960" y="4800600"/>
            <a:ext cx="5145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vimiento de la India dentro de Asia es esencialmente perpendicular a las Montañas Himalaya en Nepal. Por lo tanto  terremotos de fallado inverso son los más comunes en la región Himalaya central.</a:t>
            </a:r>
            <a:endParaRPr b="0" lang="en-US" sz="1800" spc="-1" strike="noStrike">
              <a:solidFill>
                <a:srgbClr val="000000"/>
              </a:solidFill>
              <a:latin typeface="Arial"/>
            </a:endParaRPr>
          </a:p>
        </p:txBody>
      </p:sp>
      <p:sp>
        <p:nvSpPr>
          <p:cNvPr id="96" name="5-Point Star 1"/>
          <p:cNvSpPr/>
          <p:nvPr/>
        </p:nvSpPr>
        <p:spPr>
          <a:xfrm>
            <a:off x="2155680" y="4262400"/>
            <a:ext cx="15264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8" descr="IRIS_TMlogo.png"/>
          <p:cNvPicPr/>
          <p:nvPr/>
        </p:nvPicPr>
        <p:blipFill>
          <a:blip r:embed="rId1"/>
          <a:stretch/>
        </p:blipFill>
        <p:spPr>
          <a:xfrm>
            <a:off x="239760" y="76320"/>
            <a:ext cx="903240" cy="927000"/>
          </a:xfrm>
          <a:prstGeom prst="rect">
            <a:avLst/>
          </a:prstGeom>
          <a:ln w="0">
            <a:noFill/>
          </a:ln>
        </p:spPr>
      </p:pic>
      <p:sp>
        <p:nvSpPr>
          <p:cNvPr id="99" name="TextBox 7"/>
          <p:cNvSpPr/>
          <p:nvPr/>
        </p:nvSpPr>
        <p:spPr>
          <a:xfrm>
            <a:off x="264960" y="1081080"/>
            <a:ext cx="400212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ste terremoto ocurrió como resultado de un fallado inverso entre la Placa India que se subduce y la Placa Euroasiática que se destruye al Nort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la localización de este terremoto la Placa India está convergiendo con Eurasia a una velocidad de 45mm/ año hacia el norte-noreste, produciendo el levantamiento de las Himalaya y la Meseta Tibetana.</a:t>
            </a:r>
            <a:endParaRPr b="0" lang="en-US" sz="1700" spc="-1" strike="noStrike">
              <a:solidFill>
                <a:srgbClr val="000000"/>
              </a:solidFill>
              <a:latin typeface="Arial"/>
            </a:endParaRPr>
          </a:p>
        </p:txBody>
      </p:sp>
      <p:sp>
        <p:nvSpPr>
          <p:cNvPr id="100" name="TextBox 11"/>
          <p:cNvSpPr/>
          <p:nvPr/>
        </p:nvSpPr>
        <p:spPr>
          <a:xfrm>
            <a:off x="264960" y="5022720"/>
            <a:ext cx="1970280" cy="99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olución Tensor  Momento Sísmico Centroide USGS</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1" name="Group 5"/>
          <p:cNvGrpSpPr/>
          <p:nvPr/>
        </p:nvGrpSpPr>
        <p:grpSpPr>
          <a:xfrm>
            <a:off x="3908520" y="4167360"/>
            <a:ext cx="4187880" cy="2063520"/>
            <a:chOff x="3908520" y="4167360"/>
            <a:chExt cx="4187880" cy="2063520"/>
          </a:xfrm>
        </p:grpSpPr>
        <p:pic>
          <p:nvPicPr>
            <p:cNvPr id="102" name="Picture 2" descr=""/>
            <p:cNvPicPr/>
            <p:nvPr/>
          </p:nvPicPr>
          <p:blipFill>
            <a:blip r:embed="rId2"/>
            <a:stretch/>
          </p:blipFill>
          <p:spPr>
            <a:xfrm>
              <a:off x="4041360" y="4167360"/>
              <a:ext cx="3941640" cy="1709280"/>
            </a:xfrm>
            <a:prstGeom prst="rect">
              <a:avLst/>
            </a:prstGeom>
            <a:ln w="0">
              <a:noFill/>
            </a:ln>
          </p:spPr>
        </p:pic>
        <p:pic>
          <p:nvPicPr>
            <p:cNvPr id="103" name="Picture 4" descr=""/>
            <p:cNvPicPr/>
            <p:nvPr/>
          </p:nvPicPr>
          <p:blipFill>
            <a:blip r:embed="rId3"/>
            <a:srcRect l="0" t="73115" r="0" b="0"/>
            <a:stretch/>
          </p:blipFill>
          <p:spPr>
            <a:xfrm>
              <a:off x="3908520" y="5685840"/>
              <a:ext cx="4187880" cy="545040"/>
            </a:xfrm>
            <a:prstGeom prst="rect">
              <a:avLst/>
            </a:prstGeom>
            <a:ln w="0">
              <a:noFill/>
            </a:ln>
          </p:spPr>
        </p:pic>
      </p:grpSp>
      <p:grpSp>
        <p:nvGrpSpPr>
          <p:cNvPr id="104" name="Group 4"/>
          <p:cNvGrpSpPr/>
          <p:nvPr/>
        </p:nvGrpSpPr>
        <p:grpSpPr>
          <a:xfrm>
            <a:off x="2079000" y="4336920"/>
            <a:ext cx="1883520" cy="1801800"/>
            <a:chOff x="2079000" y="4336920"/>
            <a:chExt cx="1883520" cy="1801800"/>
          </a:xfrm>
        </p:grpSpPr>
        <p:pic>
          <p:nvPicPr>
            <p:cNvPr id="105" name="Picture 1" descr="CentroidMomentTensor.tiff"/>
            <p:cNvPicPr/>
            <p:nvPr/>
          </p:nvPicPr>
          <p:blipFill>
            <a:blip r:embed="rId4"/>
            <a:srcRect l="21250" t="1957" r="18277" b="6210"/>
            <a:stretch/>
          </p:blipFill>
          <p:spPr>
            <a:xfrm>
              <a:off x="2164680" y="4336920"/>
              <a:ext cx="1797840" cy="1801800"/>
            </a:xfrm>
            <a:prstGeom prst="rect">
              <a:avLst/>
            </a:prstGeom>
            <a:ln w="0">
              <a:noFill/>
            </a:ln>
          </p:spPr>
        </p:pic>
        <p:sp>
          <p:nvSpPr>
            <p:cNvPr id="106" name="Rectangle 2"/>
            <p:cNvSpPr/>
            <p:nvPr/>
          </p:nvSpPr>
          <p:spPr>
            <a:xfrm rot="1816200">
              <a:off x="2106360" y="4711320"/>
              <a:ext cx="153720" cy="150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4" descr=""/>
          <p:cNvPicPr/>
          <p:nvPr/>
        </p:nvPicPr>
        <p:blipFill>
          <a:blip r:embed="rId5"/>
          <a:stretch/>
        </p:blipFill>
        <p:spPr>
          <a:xfrm>
            <a:off x="4267080" y="990720"/>
            <a:ext cx="4800600" cy="2981160"/>
          </a:xfrm>
          <a:prstGeom prst="rect">
            <a:avLst/>
          </a:prstGeom>
          <a:ln w="0">
            <a:noFill/>
          </a:ln>
        </p:spPr>
      </p:pic>
      <p:sp>
        <p:nvSpPr>
          <p:cNvPr id="109" name="TextBox 8"/>
          <p:cNvSpPr/>
          <p:nvPr/>
        </p:nvSpPr>
        <p:spPr>
          <a:xfrm>
            <a:off x="264960" y="6230880"/>
            <a:ext cx="872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eje de tensión (T) refleja la dirección mínima del esfuerzo de compres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 de presión (P) refleja la dirección del esfuerzo máximo de compresión.</a:t>
            </a:r>
            <a:endParaRPr b="0" lang="en-US" sz="1400" spc="-1" strike="noStrike">
              <a:solidFill>
                <a:srgbClr val="000000"/>
              </a:solidFill>
              <a:latin typeface="Arial"/>
            </a:endParaRPr>
          </a:p>
        </p:txBody>
      </p:sp>
      <p:sp>
        <p:nvSpPr>
          <p:cNvPr id="1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
          <p:cNvPicPr/>
          <p:nvPr/>
        </p:nvPicPr>
        <p:blipFill>
          <a:blip r:embed="rId1"/>
          <a:stretch/>
        </p:blipFill>
        <p:spPr>
          <a:xfrm>
            <a:off x="357120" y="1146240"/>
            <a:ext cx="3367080" cy="3359160"/>
          </a:xfrm>
          <a:prstGeom prst="rect">
            <a:avLst/>
          </a:prstGeom>
          <a:ln w="0">
            <a:noFill/>
          </a:ln>
        </p:spPr>
      </p:pic>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8" descr="IRIS_TMlogo.png"/>
          <p:cNvPicPr/>
          <p:nvPr/>
        </p:nvPicPr>
        <p:blipFill>
          <a:blip r:embed="rId2"/>
          <a:stretch/>
        </p:blipFill>
        <p:spPr>
          <a:xfrm>
            <a:off x="239760" y="76320"/>
            <a:ext cx="903240" cy="927000"/>
          </a:xfrm>
          <a:prstGeom prst="rect">
            <a:avLst/>
          </a:prstGeom>
          <a:ln w="0">
            <a:noFill/>
          </a:ln>
        </p:spPr>
      </p:pic>
      <p:sp>
        <p:nvSpPr>
          <p:cNvPr id="114" name="TextBox 7"/>
          <p:cNvSpPr/>
          <p:nvPr/>
        </p:nvSpPr>
        <p:spPr>
          <a:xfrm>
            <a:off x="3930480" y="901800"/>
            <a:ext cx="523116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Infra-cabalgamiento de la Placa India debajo de la Placa de Eurasia hacia el norte genera numerosos terremotos y  como consecuencia hace de esta área una de las más sísmicamente peligrosas de la Tierra.</a:t>
            </a:r>
            <a:endParaRPr b="0" lang="en-US" sz="1700" spc="-1" strike="noStrike">
              <a:solidFill>
                <a:srgbClr val="000000"/>
              </a:solidFill>
              <a:latin typeface="Arial"/>
            </a:endParaRPr>
          </a:p>
        </p:txBody>
      </p:sp>
      <p:sp>
        <p:nvSpPr>
          <p:cNvPr id="115" name="TextBox 2"/>
          <p:cNvSpPr/>
          <p:nvPr/>
        </p:nvSpPr>
        <p:spPr>
          <a:xfrm>
            <a:off x="276120" y="5529240"/>
            <a:ext cx="4095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ste mapa de peligro sísmico ilustra la aceleración sísmica esperada  a ser excedida con un 10% de probabilidad durante un periodo de 50 años.  Las zonas rojo oscuro indican aceleraciones de aproximadamente 0.5g donde g = aceleración de gravedad. </a:t>
            </a:r>
            <a:endParaRPr b="0" lang="en-US" sz="1200" spc="-1" strike="noStrike">
              <a:solidFill>
                <a:srgbClr val="000000"/>
              </a:solidFill>
              <a:latin typeface="Arial"/>
            </a:endParaRPr>
          </a:p>
        </p:txBody>
      </p:sp>
      <p:pic>
        <p:nvPicPr>
          <p:cNvPr id="116" name="Picture 5" descr=""/>
          <p:cNvPicPr/>
          <p:nvPr/>
        </p:nvPicPr>
        <p:blipFill>
          <a:blip r:embed="rId3"/>
          <a:stretch/>
        </p:blipFill>
        <p:spPr>
          <a:xfrm>
            <a:off x="276120" y="4675320"/>
            <a:ext cx="4181760" cy="836640"/>
          </a:xfrm>
          <a:prstGeom prst="rect">
            <a:avLst/>
          </a:prstGeom>
          <a:ln w="0">
            <a:noFill/>
          </a:ln>
        </p:spPr>
      </p:pic>
      <p:pic>
        <p:nvPicPr>
          <p:cNvPr id="117" name="Picture 2" descr=""/>
          <p:cNvPicPr/>
          <p:nvPr/>
        </p:nvPicPr>
        <p:blipFill>
          <a:blip r:embed="rId4"/>
          <a:stretch/>
        </p:blipFill>
        <p:spPr>
          <a:xfrm>
            <a:off x="4572000" y="2286000"/>
            <a:ext cx="4540320" cy="4154400"/>
          </a:xfrm>
          <a:prstGeom prst="rect">
            <a:avLst/>
          </a:prstGeom>
          <a:ln w="0">
            <a:noFill/>
          </a:ln>
        </p:spPr>
      </p:pic>
      <p:sp>
        <p:nvSpPr>
          <p:cNvPr id="118" name="TextBox 15"/>
          <p:cNvSpPr/>
          <p:nvPr/>
        </p:nvSpPr>
        <p:spPr>
          <a:xfrm>
            <a:off x="3048120" y="6480000"/>
            <a:ext cx="6026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 </a:t>
            </a:r>
            <a:r>
              <a:rPr b="0" i="1" lang="es-VE" sz="1400" spc="-1" strike="noStrike">
                <a:solidFill>
                  <a:srgbClr val="000000"/>
                </a:solidFill>
                <a:latin typeface="Arial"/>
              </a:rPr>
              <a:t>Imagen Peligro Sísmico Cortesía del Servicio Geológico de los EE.U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Rectangle 11"/>
          <p:cNvSpPr/>
          <p:nvPr/>
        </p:nvSpPr>
        <p:spPr>
          <a:xfrm>
            <a:off x="5413320" y="3162240"/>
            <a:ext cx="2613240" cy="2171880"/>
          </a:xfrm>
          <a:prstGeom prst="rect">
            <a:avLst/>
          </a:prstGeom>
          <a:noFill/>
          <a:ln w="1260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traight Connector 12"/>
          <p:cNvSpPr/>
          <p:nvPr/>
        </p:nvSpPr>
        <p:spPr>
          <a:xfrm flipH="1" flipV="1">
            <a:off x="3682800" y="1168560"/>
            <a:ext cx="4343400" cy="19936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13"/>
          <p:cNvSpPr/>
          <p:nvPr/>
        </p:nvSpPr>
        <p:spPr>
          <a:xfrm flipH="1" flipV="1">
            <a:off x="356760" y="4505400"/>
            <a:ext cx="5056200" cy="82872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9"/>
          <p:cNvSpPr/>
          <p:nvPr/>
        </p:nvSpPr>
        <p:spPr>
          <a:xfrm>
            <a:off x="203040" y="1143000"/>
            <a:ext cx="3173400" cy="568116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mapa muestra epicentros de terremotos desde 1990 (&gt;M4) dentro de la zona de colisión India- Asia. Se puede notar el cinturón de terremotos a lo largo del sur de las Montañas Himalaya pasando por Nepal (línea amarilla).</a:t>
            </a: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atro terremotos &gt;M6 han ocurrido dentro de un radio de 250 km del terremoto del 25 de Abril durante el último siglo. Entre los más significativos se incluyen a M.6.9 en Agosto 1988 y un M8.0 en 1934, la cual causó daños severos a Katmandú. Se piensa que el terremoto de 1934 había causado alrededor de 10.600 fatalidades.</a:t>
            </a:r>
            <a:endParaRPr b="0" lang="en-US" sz="1600" spc="-1" strike="noStrike">
              <a:solidFill>
                <a:srgbClr val="000000"/>
              </a:solidFill>
              <a:latin typeface="Arial"/>
            </a:endParaRPr>
          </a:p>
        </p:txBody>
      </p:sp>
      <p:pic>
        <p:nvPicPr>
          <p:cNvPr id="125" name="Picture 8" descr="IRIS_TMlogo.png"/>
          <p:cNvPicPr/>
          <p:nvPr/>
        </p:nvPicPr>
        <p:blipFill>
          <a:blip r:embed="rId1"/>
          <a:stretch/>
        </p:blipFill>
        <p:spPr>
          <a:xfrm>
            <a:off x="239760" y="76320"/>
            <a:ext cx="903240" cy="927000"/>
          </a:xfrm>
          <a:prstGeom prst="rect">
            <a:avLst/>
          </a:prstGeom>
          <a:ln w="0">
            <a:noFill/>
          </a:ln>
        </p:spPr>
      </p:pic>
      <p:pic>
        <p:nvPicPr>
          <p:cNvPr id="126" name="Picture 1" descr="1990-Present M&gt;4.tiff"/>
          <p:cNvPicPr/>
          <p:nvPr/>
        </p:nvPicPr>
        <p:blipFill>
          <a:blip r:embed="rId2"/>
          <a:stretch/>
        </p:blipFill>
        <p:spPr>
          <a:xfrm>
            <a:off x="3581280" y="1143000"/>
            <a:ext cx="5486400" cy="5327640"/>
          </a:xfrm>
          <a:prstGeom prst="rect">
            <a:avLst/>
          </a:prstGeom>
          <a:ln w="28440">
            <a:solidFill>
              <a:srgbClr val="660066"/>
            </a:solidFill>
            <a:miter/>
          </a:ln>
          <a:effectLst>
            <a:outerShdw dist="38183" dir="2700000" blurRad="0" rotWithShape="0">
              <a:srgbClr val="808080">
                <a:alpha val="43000"/>
              </a:srgbClr>
            </a:outerShdw>
          </a:effectLst>
        </p:spPr>
      </p:pic>
      <p:sp>
        <p:nvSpPr>
          <p:cNvPr id="127" name="TextBox 5"/>
          <p:cNvSpPr/>
          <p:nvPr/>
        </p:nvSpPr>
        <p:spPr>
          <a:xfrm>
            <a:off x="4887720" y="4648320"/>
            <a:ext cx="1125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25, 2015</a:t>
            </a:r>
            <a:endParaRPr b="0" lang="en-US" sz="1200" spc="-1" strike="noStrike">
              <a:solidFill>
                <a:srgbClr val="000000"/>
              </a:solidFill>
              <a:latin typeface="Arial"/>
            </a:endParaRPr>
          </a:p>
        </p:txBody>
      </p:sp>
      <p:sp>
        <p:nvSpPr>
          <p:cNvPr id="128" name="Freeform 8"/>
          <p:cNvSpPr/>
          <p:nvPr/>
        </p:nvSpPr>
        <p:spPr>
          <a:xfrm>
            <a:off x="4416480" y="3243240"/>
            <a:ext cx="3179880" cy="1697040"/>
          </a:xfrm>
          <a:custGeom>
            <a:avLst/>
            <a:gdLst/>
            <a:ahLst/>
            <a:rect l="l" t="t" r="r" b="b"/>
            <a:pathLst>
              <a:path w="3179397" h="1698413">
                <a:moveTo>
                  <a:pt x="2890822" y="1677479"/>
                </a:moveTo>
                <a:cubicBezTo>
                  <a:pt x="2895561" y="1652206"/>
                  <a:pt x="2893583" y="1582334"/>
                  <a:pt x="2900300" y="1535320"/>
                </a:cubicBezTo>
                <a:cubicBezTo>
                  <a:pt x="2903126" y="1515541"/>
                  <a:pt x="2919256" y="1478456"/>
                  <a:pt x="2919256" y="1478456"/>
                </a:cubicBezTo>
                <a:cubicBezTo>
                  <a:pt x="2916097" y="1453183"/>
                  <a:pt x="2914334" y="1427696"/>
                  <a:pt x="2909778" y="1402638"/>
                </a:cubicBezTo>
                <a:cubicBezTo>
                  <a:pt x="2905176" y="1377326"/>
                  <a:pt x="2882265" y="1354331"/>
                  <a:pt x="2909778" y="1326820"/>
                </a:cubicBezTo>
                <a:cubicBezTo>
                  <a:pt x="2923907" y="1312692"/>
                  <a:pt x="2947690" y="1314183"/>
                  <a:pt x="2966646" y="1307865"/>
                </a:cubicBezTo>
                <a:cubicBezTo>
                  <a:pt x="2966657" y="1307861"/>
                  <a:pt x="3023504" y="1288915"/>
                  <a:pt x="3023515" y="1288910"/>
                </a:cubicBezTo>
                <a:cubicBezTo>
                  <a:pt x="3036152" y="1282592"/>
                  <a:pt x="3049160" y="1276965"/>
                  <a:pt x="3061427" y="1269956"/>
                </a:cubicBezTo>
                <a:cubicBezTo>
                  <a:pt x="3071318" y="1264305"/>
                  <a:pt x="3081348" y="1258569"/>
                  <a:pt x="3089862" y="1251001"/>
                </a:cubicBezTo>
                <a:cubicBezTo>
                  <a:pt x="3109898" y="1233193"/>
                  <a:pt x="3127774" y="1213092"/>
                  <a:pt x="3146730" y="1194138"/>
                </a:cubicBezTo>
                <a:lnTo>
                  <a:pt x="3165687" y="1175183"/>
                </a:lnTo>
                <a:cubicBezTo>
                  <a:pt x="3187062" y="1111064"/>
                  <a:pt x="3180588" y="1142741"/>
                  <a:pt x="3165687" y="1023546"/>
                </a:cubicBezTo>
                <a:cubicBezTo>
                  <a:pt x="3164448" y="1013633"/>
                  <a:pt x="3163272" y="1002179"/>
                  <a:pt x="3156208" y="995115"/>
                </a:cubicBezTo>
                <a:cubicBezTo>
                  <a:pt x="3149143" y="988051"/>
                  <a:pt x="3137252" y="988796"/>
                  <a:pt x="3127774" y="985637"/>
                </a:cubicBezTo>
                <a:cubicBezTo>
                  <a:pt x="3086702" y="988796"/>
                  <a:pt x="3045470" y="990302"/>
                  <a:pt x="3004559" y="995115"/>
                </a:cubicBezTo>
                <a:cubicBezTo>
                  <a:pt x="2976795" y="998381"/>
                  <a:pt x="2963787" y="1007095"/>
                  <a:pt x="2938212" y="1014069"/>
                </a:cubicBezTo>
                <a:cubicBezTo>
                  <a:pt x="2913077" y="1020923"/>
                  <a:pt x="2886577" y="1023349"/>
                  <a:pt x="2862387" y="1033024"/>
                </a:cubicBezTo>
                <a:cubicBezTo>
                  <a:pt x="2802902" y="1056816"/>
                  <a:pt x="2831502" y="1047852"/>
                  <a:pt x="2777084" y="1061456"/>
                </a:cubicBezTo>
                <a:cubicBezTo>
                  <a:pt x="2668442" y="1056283"/>
                  <a:pt x="2622203" y="1067120"/>
                  <a:pt x="2540132" y="1042501"/>
                </a:cubicBezTo>
                <a:cubicBezTo>
                  <a:pt x="2520993" y="1036760"/>
                  <a:pt x="2499889" y="1034629"/>
                  <a:pt x="2483263" y="1023546"/>
                </a:cubicBezTo>
                <a:lnTo>
                  <a:pt x="2454829" y="1004592"/>
                </a:lnTo>
                <a:cubicBezTo>
                  <a:pt x="2423235" y="1007751"/>
                  <a:pt x="2390986" y="1006930"/>
                  <a:pt x="2360048" y="1014069"/>
                </a:cubicBezTo>
                <a:cubicBezTo>
                  <a:pt x="2348948" y="1016630"/>
                  <a:pt x="2341802" y="1027930"/>
                  <a:pt x="2331613" y="1033024"/>
                </a:cubicBezTo>
                <a:cubicBezTo>
                  <a:pt x="2322677" y="1037492"/>
                  <a:pt x="2312657" y="1039342"/>
                  <a:pt x="2303179" y="1042501"/>
                </a:cubicBezTo>
                <a:cubicBezTo>
                  <a:pt x="2284223" y="1039342"/>
                  <a:pt x="2264305" y="1039771"/>
                  <a:pt x="2246311" y="1033024"/>
                </a:cubicBezTo>
                <a:cubicBezTo>
                  <a:pt x="2229612" y="1026762"/>
                  <a:pt x="2219165" y="995057"/>
                  <a:pt x="2208398" y="985637"/>
                </a:cubicBezTo>
                <a:cubicBezTo>
                  <a:pt x="2191252" y="970636"/>
                  <a:pt x="2170485" y="960364"/>
                  <a:pt x="2151529" y="947728"/>
                </a:cubicBezTo>
                <a:cubicBezTo>
                  <a:pt x="2142051" y="941410"/>
                  <a:pt x="2133901" y="932376"/>
                  <a:pt x="2123095" y="928774"/>
                </a:cubicBezTo>
                <a:lnTo>
                  <a:pt x="2066227" y="909819"/>
                </a:lnTo>
                <a:cubicBezTo>
                  <a:pt x="2056749" y="903501"/>
                  <a:pt x="2047981" y="895958"/>
                  <a:pt x="2037792" y="890864"/>
                </a:cubicBezTo>
                <a:cubicBezTo>
                  <a:pt x="2028856" y="886396"/>
                  <a:pt x="2019050" y="883810"/>
                  <a:pt x="2009358" y="881387"/>
                </a:cubicBezTo>
                <a:cubicBezTo>
                  <a:pt x="1946935" y="865783"/>
                  <a:pt x="1913181" y="868158"/>
                  <a:pt x="1838752" y="862433"/>
                </a:cubicBezTo>
                <a:cubicBezTo>
                  <a:pt x="1817087" y="797441"/>
                  <a:pt x="1838752" y="878107"/>
                  <a:pt x="1838752" y="786614"/>
                </a:cubicBezTo>
                <a:cubicBezTo>
                  <a:pt x="1838752" y="776624"/>
                  <a:pt x="1838966" y="760605"/>
                  <a:pt x="1829274" y="758182"/>
                </a:cubicBezTo>
                <a:cubicBezTo>
                  <a:pt x="1783196" y="746664"/>
                  <a:pt x="1734493" y="751864"/>
                  <a:pt x="1687102" y="748705"/>
                </a:cubicBezTo>
                <a:cubicBezTo>
                  <a:pt x="1674465" y="745546"/>
                  <a:pt x="1661163" y="744359"/>
                  <a:pt x="1649190" y="739228"/>
                </a:cubicBezTo>
                <a:cubicBezTo>
                  <a:pt x="1638720" y="734741"/>
                  <a:pt x="1630945" y="725367"/>
                  <a:pt x="1620756" y="720273"/>
                </a:cubicBezTo>
                <a:cubicBezTo>
                  <a:pt x="1611820" y="715805"/>
                  <a:pt x="1601799" y="713955"/>
                  <a:pt x="1592321" y="710796"/>
                </a:cubicBezTo>
                <a:cubicBezTo>
                  <a:pt x="1582843" y="704478"/>
                  <a:pt x="1573777" y="697492"/>
                  <a:pt x="1563887" y="691841"/>
                </a:cubicBezTo>
                <a:cubicBezTo>
                  <a:pt x="1551620" y="684832"/>
                  <a:pt x="1534453" y="684190"/>
                  <a:pt x="1525975" y="672887"/>
                </a:cubicBezTo>
                <a:cubicBezTo>
                  <a:pt x="1508949" y="650188"/>
                  <a:pt x="1491394" y="531246"/>
                  <a:pt x="1488062" y="521250"/>
                </a:cubicBezTo>
                <a:cubicBezTo>
                  <a:pt x="1484903" y="511773"/>
                  <a:pt x="1485648" y="499882"/>
                  <a:pt x="1478584" y="492818"/>
                </a:cubicBezTo>
                <a:cubicBezTo>
                  <a:pt x="1471519" y="485754"/>
                  <a:pt x="1459628" y="486500"/>
                  <a:pt x="1450150" y="483341"/>
                </a:cubicBezTo>
                <a:cubicBezTo>
                  <a:pt x="1415397" y="486500"/>
                  <a:pt x="1380013" y="485507"/>
                  <a:pt x="1345891" y="492818"/>
                </a:cubicBezTo>
                <a:cubicBezTo>
                  <a:pt x="1334753" y="495205"/>
                  <a:pt x="1327645" y="506679"/>
                  <a:pt x="1317456" y="511773"/>
                </a:cubicBezTo>
                <a:cubicBezTo>
                  <a:pt x="1308520" y="516241"/>
                  <a:pt x="1298500" y="518091"/>
                  <a:pt x="1289022" y="521250"/>
                </a:cubicBezTo>
                <a:cubicBezTo>
                  <a:pt x="1265895" y="513542"/>
                  <a:pt x="1250528" y="511191"/>
                  <a:pt x="1232153" y="492818"/>
                </a:cubicBezTo>
                <a:cubicBezTo>
                  <a:pt x="1197182" y="457850"/>
                  <a:pt x="1231348" y="467010"/>
                  <a:pt x="1184763" y="435955"/>
                </a:cubicBezTo>
                <a:cubicBezTo>
                  <a:pt x="1176450" y="430413"/>
                  <a:pt x="1165807" y="429636"/>
                  <a:pt x="1156329" y="426477"/>
                </a:cubicBezTo>
                <a:cubicBezTo>
                  <a:pt x="1143691" y="407523"/>
                  <a:pt x="1137371" y="382250"/>
                  <a:pt x="1118416" y="369614"/>
                </a:cubicBezTo>
                <a:lnTo>
                  <a:pt x="1033113" y="312750"/>
                </a:lnTo>
                <a:cubicBezTo>
                  <a:pt x="1023635" y="306432"/>
                  <a:pt x="1012734" y="301850"/>
                  <a:pt x="1004679" y="293796"/>
                </a:cubicBezTo>
                <a:cubicBezTo>
                  <a:pt x="948077" y="237198"/>
                  <a:pt x="978961" y="251827"/>
                  <a:pt x="919376" y="236932"/>
                </a:cubicBezTo>
                <a:lnTo>
                  <a:pt x="834073" y="180068"/>
                </a:lnTo>
                <a:lnTo>
                  <a:pt x="805639" y="161114"/>
                </a:lnTo>
                <a:cubicBezTo>
                  <a:pt x="747296" y="73606"/>
                  <a:pt x="821748" y="181249"/>
                  <a:pt x="767726" y="113727"/>
                </a:cubicBezTo>
                <a:cubicBezTo>
                  <a:pt x="760610" y="104833"/>
                  <a:pt x="756062" y="94045"/>
                  <a:pt x="748770" y="85295"/>
                </a:cubicBezTo>
                <a:cubicBezTo>
                  <a:pt x="740189" y="74998"/>
                  <a:pt x="728917" y="67159"/>
                  <a:pt x="720336" y="56863"/>
                </a:cubicBezTo>
                <a:cubicBezTo>
                  <a:pt x="715231" y="50738"/>
                  <a:pt x="694679" y="13154"/>
                  <a:pt x="682423" y="9477"/>
                </a:cubicBezTo>
                <a:cubicBezTo>
                  <a:pt x="658026" y="2158"/>
                  <a:pt x="631874" y="3159"/>
                  <a:pt x="606599" y="0"/>
                </a:cubicBezTo>
                <a:cubicBezTo>
                  <a:pt x="578165" y="3159"/>
                  <a:pt x="547859" y="-1147"/>
                  <a:pt x="521296" y="9477"/>
                </a:cubicBezTo>
                <a:cubicBezTo>
                  <a:pt x="512020" y="13187"/>
                  <a:pt x="516958" y="29343"/>
                  <a:pt x="511818" y="37909"/>
                </a:cubicBezTo>
                <a:cubicBezTo>
                  <a:pt x="507220" y="45571"/>
                  <a:pt x="499180" y="50545"/>
                  <a:pt x="492861" y="56863"/>
                </a:cubicBezTo>
                <a:cubicBezTo>
                  <a:pt x="489702" y="69500"/>
                  <a:pt x="488514" y="82801"/>
                  <a:pt x="483383" y="94773"/>
                </a:cubicBezTo>
                <a:cubicBezTo>
                  <a:pt x="451327" y="169565"/>
                  <a:pt x="383314" y="127710"/>
                  <a:pt x="293821" y="132682"/>
                </a:cubicBezTo>
                <a:lnTo>
                  <a:pt x="236953" y="170591"/>
                </a:lnTo>
                <a:lnTo>
                  <a:pt x="208518" y="189545"/>
                </a:lnTo>
                <a:cubicBezTo>
                  <a:pt x="191141" y="241673"/>
                  <a:pt x="209481" y="194968"/>
                  <a:pt x="180084" y="246409"/>
                </a:cubicBezTo>
                <a:cubicBezTo>
                  <a:pt x="173074" y="258675"/>
                  <a:pt x="168138" y="272052"/>
                  <a:pt x="161128" y="284318"/>
                </a:cubicBezTo>
                <a:cubicBezTo>
                  <a:pt x="155476" y="294208"/>
                  <a:pt x="146799" y="302341"/>
                  <a:pt x="142172" y="312750"/>
                </a:cubicBezTo>
                <a:cubicBezTo>
                  <a:pt x="124151" y="353294"/>
                  <a:pt x="124766" y="368925"/>
                  <a:pt x="113737" y="407523"/>
                </a:cubicBezTo>
                <a:cubicBezTo>
                  <a:pt x="110992" y="417129"/>
                  <a:pt x="107004" y="426349"/>
                  <a:pt x="104259" y="435955"/>
                </a:cubicBezTo>
                <a:cubicBezTo>
                  <a:pt x="100210" y="450125"/>
                  <a:pt x="92878" y="487147"/>
                  <a:pt x="85303" y="502296"/>
                </a:cubicBezTo>
                <a:cubicBezTo>
                  <a:pt x="80209" y="512484"/>
                  <a:pt x="70973" y="520319"/>
                  <a:pt x="66347" y="530728"/>
                </a:cubicBezTo>
                <a:cubicBezTo>
                  <a:pt x="31496" y="609136"/>
                  <a:pt x="67365" y="567620"/>
                  <a:pt x="28434" y="606546"/>
                </a:cubicBezTo>
                <a:cubicBezTo>
                  <a:pt x="25275" y="619182"/>
                  <a:pt x="22699" y="631979"/>
                  <a:pt x="18956" y="644455"/>
                </a:cubicBezTo>
                <a:cubicBezTo>
                  <a:pt x="13214" y="663592"/>
                  <a:pt x="0" y="701319"/>
                  <a:pt x="0" y="701319"/>
                </a:cubicBezTo>
                <a:cubicBezTo>
                  <a:pt x="45110" y="731389"/>
                  <a:pt x="10708" y="713061"/>
                  <a:pt x="66347" y="729751"/>
                </a:cubicBezTo>
                <a:cubicBezTo>
                  <a:pt x="85486" y="735492"/>
                  <a:pt x="123215" y="748705"/>
                  <a:pt x="123215" y="748705"/>
                </a:cubicBezTo>
                <a:cubicBezTo>
                  <a:pt x="229057" y="819260"/>
                  <a:pt x="147699" y="792406"/>
                  <a:pt x="199040" y="758182"/>
                </a:cubicBezTo>
                <a:cubicBezTo>
                  <a:pt x="209879" y="750957"/>
                  <a:pt x="224315" y="751864"/>
                  <a:pt x="236953" y="748705"/>
                </a:cubicBezTo>
                <a:cubicBezTo>
                  <a:pt x="304628" y="771262"/>
                  <a:pt x="277195" y="756577"/>
                  <a:pt x="322256" y="786614"/>
                </a:cubicBezTo>
                <a:cubicBezTo>
                  <a:pt x="375963" y="867169"/>
                  <a:pt x="287506" y="742390"/>
                  <a:pt x="398080" y="852955"/>
                </a:cubicBezTo>
                <a:lnTo>
                  <a:pt x="445471" y="900342"/>
                </a:lnTo>
                <a:cubicBezTo>
                  <a:pt x="454949" y="909819"/>
                  <a:pt x="467910" y="916786"/>
                  <a:pt x="473905" y="928774"/>
                </a:cubicBezTo>
                <a:cubicBezTo>
                  <a:pt x="480224" y="941410"/>
                  <a:pt x="483816" y="955830"/>
                  <a:pt x="492861" y="966683"/>
                </a:cubicBezTo>
                <a:cubicBezTo>
                  <a:pt x="500154" y="975433"/>
                  <a:pt x="511406" y="979986"/>
                  <a:pt x="521296" y="985637"/>
                </a:cubicBezTo>
                <a:cubicBezTo>
                  <a:pt x="533564" y="992646"/>
                  <a:pt x="546221" y="999027"/>
                  <a:pt x="559208" y="1004592"/>
                </a:cubicBezTo>
                <a:cubicBezTo>
                  <a:pt x="578244" y="1012750"/>
                  <a:pt x="606318" y="1018737"/>
                  <a:pt x="625555" y="1023546"/>
                </a:cubicBezTo>
                <a:cubicBezTo>
                  <a:pt x="716698" y="1084305"/>
                  <a:pt x="659708" y="1059709"/>
                  <a:pt x="805639" y="1070933"/>
                </a:cubicBezTo>
                <a:cubicBezTo>
                  <a:pt x="815117" y="1077251"/>
                  <a:pt x="826018" y="1081833"/>
                  <a:pt x="834073" y="1089887"/>
                </a:cubicBezTo>
                <a:cubicBezTo>
                  <a:pt x="853448" y="1109261"/>
                  <a:pt x="848534" y="1123204"/>
                  <a:pt x="871986" y="1137274"/>
                </a:cubicBezTo>
                <a:cubicBezTo>
                  <a:pt x="897247" y="1152429"/>
                  <a:pt x="977299" y="1155292"/>
                  <a:pt x="985723" y="1156228"/>
                </a:cubicBezTo>
                <a:cubicBezTo>
                  <a:pt x="988882" y="1165705"/>
                  <a:pt x="990733" y="1175725"/>
                  <a:pt x="995201" y="1184660"/>
                </a:cubicBezTo>
                <a:cubicBezTo>
                  <a:pt x="1000295" y="1194848"/>
                  <a:pt x="1012284" y="1201856"/>
                  <a:pt x="1014157" y="1213092"/>
                </a:cubicBezTo>
                <a:cubicBezTo>
                  <a:pt x="1015799" y="1222946"/>
                  <a:pt x="1007838" y="1232047"/>
                  <a:pt x="1004679" y="1241524"/>
                </a:cubicBezTo>
                <a:cubicBezTo>
                  <a:pt x="1014157" y="1244683"/>
                  <a:pt x="1023274" y="1249265"/>
                  <a:pt x="1033113" y="1251001"/>
                </a:cubicBezTo>
                <a:cubicBezTo>
                  <a:pt x="1077114" y="1258765"/>
                  <a:pt x="1165807" y="1269956"/>
                  <a:pt x="1165807" y="1269956"/>
                </a:cubicBezTo>
                <a:cubicBezTo>
                  <a:pt x="1253218" y="1299090"/>
                  <a:pt x="1205824" y="1304355"/>
                  <a:pt x="1232153" y="1260479"/>
                </a:cubicBezTo>
                <a:cubicBezTo>
                  <a:pt x="1236751" y="1252817"/>
                  <a:pt x="1244791" y="1247842"/>
                  <a:pt x="1251110" y="1241524"/>
                </a:cubicBezTo>
                <a:cubicBezTo>
                  <a:pt x="1276385" y="1244683"/>
                  <a:pt x="1302029" y="1245664"/>
                  <a:pt x="1326935" y="1251001"/>
                </a:cubicBezTo>
                <a:cubicBezTo>
                  <a:pt x="1346473" y="1255187"/>
                  <a:pt x="1383803" y="1269956"/>
                  <a:pt x="1383803" y="1269956"/>
                </a:cubicBezTo>
                <a:cubicBezTo>
                  <a:pt x="1412237" y="1266797"/>
                  <a:pt x="1440886" y="1265182"/>
                  <a:pt x="1469106" y="1260479"/>
                </a:cubicBezTo>
                <a:cubicBezTo>
                  <a:pt x="1478961" y="1258837"/>
                  <a:pt x="1487549" y="1251001"/>
                  <a:pt x="1497540" y="1251001"/>
                </a:cubicBezTo>
                <a:cubicBezTo>
                  <a:pt x="1526124" y="1251001"/>
                  <a:pt x="1566605" y="1292976"/>
                  <a:pt x="1582843" y="1298388"/>
                </a:cubicBezTo>
                <a:cubicBezTo>
                  <a:pt x="1626561" y="1312959"/>
                  <a:pt x="1601481" y="1305906"/>
                  <a:pt x="1658668" y="1317342"/>
                </a:cubicBezTo>
                <a:cubicBezTo>
                  <a:pt x="1668146" y="1323660"/>
                  <a:pt x="1679986" y="1327402"/>
                  <a:pt x="1687102" y="1336297"/>
                </a:cubicBezTo>
                <a:cubicBezTo>
                  <a:pt x="1693343" y="1344098"/>
                  <a:pt x="1695168" y="1354839"/>
                  <a:pt x="1696581" y="1364729"/>
                </a:cubicBezTo>
                <a:cubicBezTo>
                  <a:pt x="1701516" y="1399272"/>
                  <a:pt x="1689515" y="1438257"/>
                  <a:pt x="1706059" y="1468979"/>
                </a:cubicBezTo>
                <a:cubicBezTo>
                  <a:pt x="1715533" y="1486572"/>
                  <a:pt x="1745055" y="1478998"/>
                  <a:pt x="1762927" y="1487933"/>
                </a:cubicBezTo>
                <a:cubicBezTo>
                  <a:pt x="1775565" y="1494251"/>
                  <a:pt x="1787721" y="1501641"/>
                  <a:pt x="1800840" y="1506888"/>
                </a:cubicBezTo>
                <a:cubicBezTo>
                  <a:pt x="1819392" y="1514308"/>
                  <a:pt x="1838323" y="1520996"/>
                  <a:pt x="1857708" y="1525842"/>
                </a:cubicBezTo>
                <a:lnTo>
                  <a:pt x="1933533" y="1544797"/>
                </a:lnTo>
                <a:cubicBezTo>
                  <a:pt x="1965127" y="1541638"/>
                  <a:pt x="1997376" y="1542459"/>
                  <a:pt x="2028314" y="1535320"/>
                </a:cubicBezTo>
                <a:cubicBezTo>
                  <a:pt x="2093459" y="1520288"/>
                  <a:pt x="2021034" y="1504462"/>
                  <a:pt x="2085183" y="1525842"/>
                </a:cubicBezTo>
                <a:cubicBezTo>
                  <a:pt x="2091427" y="1544572"/>
                  <a:pt x="2096914" y="1569345"/>
                  <a:pt x="2113617" y="1582706"/>
                </a:cubicBezTo>
                <a:cubicBezTo>
                  <a:pt x="2121419" y="1588947"/>
                  <a:pt x="2132573" y="1589024"/>
                  <a:pt x="2142051" y="1592183"/>
                </a:cubicBezTo>
                <a:cubicBezTo>
                  <a:pt x="2170485" y="1589024"/>
                  <a:pt x="2199134" y="1587409"/>
                  <a:pt x="2227354" y="1582706"/>
                </a:cubicBezTo>
                <a:cubicBezTo>
                  <a:pt x="2237209" y="1581064"/>
                  <a:pt x="2245798" y="1573229"/>
                  <a:pt x="2255789" y="1573229"/>
                </a:cubicBezTo>
                <a:cubicBezTo>
                  <a:pt x="2265780" y="1573229"/>
                  <a:pt x="2274745" y="1579547"/>
                  <a:pt x="2284223" y="1582706"/>
                </a:cubicBezTo>
                <a:cubicBezTo>
                  <a:pt x="2365709" y="1637027"/>
                  <a:pt x="2262610" y="1571901"/>
                  <a:pt x="2341092" y="1611138"/>
                </a:cubicBezTo>
                <a:cubicBezTo>
                  <a:pt x="2351281" y="1616232"/>
                  <a:pt x="2359117" y="1625467"/>
                  <a:pt x="2369526" y="1630093"/>
                </a:cubicBezTo>
                <a:cubicBezTo>
                  <a:pt x="2387785" y="1638208"/>
                  <a:pt x="2426394" y="1649047"/>
                  <a:pt x="2426394" y="1649047"/>
                </a:cubicBezTo>
                <a:cubicBezTo>
                  <a:pt x="2442191" y="1645888"/>
                  <a:pt x="2459376" y="1646774"/>
                  <a:pt x="2473785" y="1639570"/>
                </a:cubicBezTo>
                <a:cubicBezTo>
                  <a:pt x="2485774" y="1633576"/>
                  <a:pt x="2489216" y="1614389"/>
                  <a:pt x="2502219" y="1611138"/>
                </a:cubicBezTo>
                <a:cubicBezTo>
                  <a:pt x="2517848" y="1607231"/>
                  <a:pt x="2533813" y="1617456"/>
                  <a:pt x="2549610" y="1620615"/>
                </a:cubicBezTo>
                <a:cubicBezTo>
                  <a:pt x="2559088" y="1626933"/>
                  <a:pt x="2567635" y="1634944"/>
                  <a:pt x="2578044" y="1639570"/>
                </a:cubicBezTo>
                <a:cubicBezTo>
                  <a:pt x="2596304" y="1647685"/>
                  <a:pt x="2634913" y="1658524"/>
                  <a:pt x="2634913" y="1658524"/>
                </a:cubicBezTo>
                <a:cubicBezTo>
                  <a:pt x="2644391" y="1664842"/>
                  <a:pt x="2651956" y="1677479"/>
                  <a:pt x="2663347" y="1677479"/>
                </a:cubicBezTo>
                <a:cubicBezTo>
                  <a:pt x="2682313" y="1677479"/>
                  <a:pt x="2696985" y="1647820"/>
                  <a:pt x="2710738" y="1639570"/>
                </a:cubicBezTo>
                <a:cubicBezTo>
                  <a:pt x="2719305" y="1634430"/>
                  <a:pt x="2729694" y="1633252"/>
                  <a:pt x="2739172" y="1630093"/>
                </a:cubicBezTo>
                <a:cubicBezTo>
                  <a:pt x="2830626" y="1652954"/>
                  <a:pt x="2789450" y="1643938"/>
                  <a:pt x="2862387" y="1658524"/>
                </a:cubicBezTo>
                <a:cubicBezTo>
                  <a:pt x="2865546" y="1668001"/>
                  <a:pt x="2862929" y="1682489"/>
                  <a:pt x="2871865" y="1686956"/>
                </a:cubicBezTo>
                <a:cubicBezTo>
                  <a:pt x="2906294" y="1704169"/>
                  <a:pt x="2886083" y="1702752"/>
                  <a:pt x="2890822" y="1677479"/>
                </a:cubicBezTo>
                <a:close/>
              </a:path>
            </a:pathLst>
          </a:custGeom>
          <a:noFill/>
          <a:ln w="57240">
            <a:solidFill>
              <a:srgbClr val="ffff00">
                <a:alpha val="8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9" name="Straight Arrow Connector 6"/>
          <p:cNvCxnSpPr/>
          <p:nvPr/>
        </p:nvCxnSpPr>
        <p:spPr>
          <a:xfrm flipV="1">
            <a:off x="5486040" y="4190400"/>
            <a:ext cx="610200" cy="686520"/>
          </a:xfrm>
          <a:prstGeom prst="straightConnector1">
            <a:avLst/>
          </a:prstGeom>
          <a:ln w="25560">
            <a:solidFill>
              <a:srgbClr val="ff0000"/>
            </a:solidFill>
            <a:miter/>
            <a:tailEnd len="med" type="arrow" w="med"/>
          </a:ln>
        </p:spPr>
      </p:cxnSp>
      <p:sp>
        <p:nvSpPr>
          <p:cNvPr id="130" name="TextBox 21"/>
          <p:cNvSpPr/>
          <p:nvPr/>
        </p:nvSpPr>
        <p:spPr>
          <a:xfrm>
            <a:off x="2757600" y="6473880"/>
            <a:ext cx="66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apa creado usando el Visualizador de Terremotos de IRIS :  </a:t>
            </a:r>
            <a:r>
              <a:rPr b="0" i="1" lang="es-VE" sz="1400" spc="-1" strike="noStrike">
                <a:solidFill>
                  <a:srgbClr val="000000"/>
                </a:solidFill>
                <a:latin typeface="Arial"/>
              </a:rPr>
              <a:t>www.iris.edu/ieb</a:t>
            </a:r>
            <a:endParaRPr b="0" lang="en-US" sz="1400" spc="-1" strike="noStrike">
              <a:solidFill>
                <a:srgbClr val="000000"/>
              </a:solidFill>
              <a:latin typeface="Arial"/>
            </a:endParaRPr>
          </a:p>
        </p:txBody>
      </p:sp>
      <p:sp>
        <p:nvSpPr>
          <p:cNvPr id="1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NEPAL</a:t>
            </a:r>
            <a:br>
              <a:rPr sz="3500"/>
            </a:br>
            <a:r>
              <a:rPr b="1" lang="es-VE" sz="1500" spc="-1" strike="noStrike">
                <a:solidFill>
                  <a:srgbClr val="11488b"/>
                </a:solidFill>
                <a:latin typeface="Arial"/>
                <a:ea typeface="Arial"/>
              </a:rPr>
              <a:t>Sábado, 25 de Abril, 2015 a las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04-28T01:06:09Z</dcterms:modified>
  <cp:revision>763</cp:revision>
  <dc:subject/>
  <dc:title>Slide 1</dc:title>
</cp:coreProperties>
</file>