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media/image12.png" ContentType="image/png"/>
  <Override PartName="/ppt/media/image10.png" ContentType="image/png"/>
  <Override PartName="/ppt/media/image9.png" ContentType="image/png"/>
  <Override PartName="/ppt/media/image16.jpeg" ContentType="image/jpeg"/>
  <Override PartName="/ppt/media/image15.png" ContentType="image/png"/>
  <Override PartName="/ppt/media/image5.jpeg" ContentType="image/jpeg"/>
  <Override PartName="/ppt/media/image1.png" ContentType="image/png"/>
  <Override PartName="/ppt/media/image2.jpeg" ContentType="image/jpeg"/>
  <Override PartName="/ppt/media/image3.png" ContentType="image/png"/>
  <Override PartName="/ppt/media/image4.png" ContentType="image/png"/>
  <Override PartName="/ppt/media/image13.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26"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PlaceHolder 2"/>
          <p:cNvSpPr>
            <a:spLocks noGrp="1"/>
          </p:cNvSpPr>
          <p:nvPr>
            <p:ph type="dt" idx="76"/>
          </p:nvPr>
        </p:nvSpPr>
        <p:spPr>
          <a:xfrm>
            <a:off x="4142880" y="0"/>
            <a:ext cx="3170520" cy="479520"/>
          </a:xfrm>
          <a:prstGeom prst="rect">
            <a:avLst/>
          </a:prstGeom>
          <a:noFill/>
          <a:ln w="0">
            <a:noFill/>
          </a:ln>
        </p:spPr>
        <p:txBody>
          <a:bodyPr lIns="96480" rIns="9648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lt;date/time&gt;</a:t>
            </a:r>
            <a:endParaRPr b="0" lang="en-US" sz="1300" spc="-1" strike="noStrike">
              <a:solidFill>
                <a:srgbClr val="000000"/>
              </a:solidFill>
              <a:latin typeface="Arial"/>
            </a:endParaRPr>
          </a:p>
        </p:txBody>
      </p:sp>
      <p:sp>
        <p:nvSpPr>
          <p:cNvPr id="1028"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029"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30" name="PlaceHolder 5"/>
          <p:cNvSpPr>
            <a:spLocks noGrp="1"/>
          </p:cNvSpPr>
          <p:nvPr>
            <p:ph type="ftr" idx="77"/>
          </p:nvPr>
        </p:nvSpPr>
        <p:spPr>
          <a:xfrm>
            <a:off x="0" y="912024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PlaceHolder 6"/>
          <p:cNvSpPr>
            <a:spLocks noGrp="1"/>
          </p:cNvSpPr>
          <p:nvPr>
            <p:ph type="sldNum" idx="78"/>
          </p:nvPr>
        </p:nvSpPr>
        <p:spPr>
          <a:xfrm>
            <a:off x="4142880" y="9120240"/>
            <a:ext cx="3170520" cy="479520"/>
          </a:xfrm>
          <a:prstGeom prst="rect">
            <a:avLst/>
          </a:prstGeom>
          <a:noFill/>
          <a:ln w="0">
            <a:noFill/>
          </a:ln>
        </p:spPr>
        <p:txBody>
          <a:bodyPr lIns="96480" rIns="9648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1AA40-7AEB-4996-9E28-485BAD8CDAE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257480" y="720720"/>
            <a:ext cx="4800600" cy="3600360"/>
          </a:xfrm>
          <a:prstGeom prst="rect">
            <a:avLst/>
          </a:prstGeom>
          <a:ln w="0">
            <a:noFill/>
          </a:ln>
        </p:spPr>
      </p:sp>
      <p:sp>
        <p:nvSpPr>
          <p:cNvPr id="111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111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A2F26-B49C-478D-9509-5867DE3B4C37}"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257480" y="720720"/>
            <a:ext cx="4800600" cy="3600360"/>
          </a:xfrm>
          <a:prstGeom prst="rect">
            <a:avLst/>
          </a:prstGeom>
          <a:ln w="0">
            <a:noFill/>
          </a:ln>
        </p:spPr>
      </p:sp>
      <p:sp>
        <p:nvSpPr>
          <p:cNvPr id="111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king intensity scales were developed to standardize the measurements and ease comparison of different earthquakes. The Modified-Mercalli Intensity scale is a twelve-stage scale, from I to XII.  Lower numbers represent imperceptible shaking while XII represents total de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03F47-1E76-494F-A6D4-B1AE0549A4CF}"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257480" y="720720"/>
            <a:ext cx="4800600" cy="3600360"/>
          </a:xfrm>
          <a:prstGeom prst="rect">
            <a:avLst/>
          </a:prstGeom>
          <a:ln w="0">
            <a:noFill/>
          </a:ln>
        </p:spPr>
      </p:sp>
      <p:sp>
        <p:nvSpPr>
          <p:cNvPr id="111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GS PAGER map shows the population exposed to different Modified Mercalli Intensity (MMI) levels.  MMI describes the severity of an earthquake in terms of its effect on humans and structures and is a rough measure of the amount of shaking at a given lo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A25B0-05A0-4E3B-AA88-AC1BE095288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1257480" y="720720"/>
            <a:ext cx="4800600" cy="3600360"/>
          </a:xfrm>
          <a:prstGeom prst="rect">
            <a:avLst/>
          </a:prstGeom>
          <a:ln w="0">
            <a:noFill/>
          </a:ln>
        </p:spPr>
      </p:sp>
      <p:sp>
        <p:nvSpPr>
          <p:cNvPr id="111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39E0A-FC39-4671-BF84-3720803AC6B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257480" y="720720"/>
            <a:ext cx="4800600" cy="3600360"/>
          </a:xfrm>
          <a:prstGeom prst="rect">
            <a:avLst/>
          </a:prstGeom>
          <a:ln w="0">
            <a:noFill/>
          </a:ln>
        </p:spPr>
      </p:sp>
      <p:sp>
        <p:nvSpPr>
          <p:cNvPr id="112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93996"/>
                </a:solidFill>
                <a:latin typeface="Calibri"/>
              </a:rPr>
              <a:t>Relevant Anim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rthquake focal mechanisms? http://www.iris.edu/hq/programs/education_and_outreach/animations/25</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2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D71F9-CAA8-4480-85C8-DD915C6B5A09}"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1257480" y="720720"/>
            <a:ext cx="4800600" cy="3600360"/>
          </a:xfrm>
          <a:prstGeom prst="rect">
            <a:avLst/>
          </a:prstGeom>
          <a:ln w="0">
            <a:noFill/>
          </a:ln>
        </p:spPr>
      </p:sp>
      <p:sp>
        <p:nvSpPr>
          <p:cNvPr id="112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112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4AEC1-A396-4D14-BE45-B55E6B46CB17}"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257480" y="720720"/>
            <a:ext cx="4800600" cy="3600360"/>
          </a:xfrm>
          <a:prstGeom prst="rect">
            <a:avLst/>
          </a:prstGeom>
          <a:ln w="0">
            <a:noFill/>
          </a:ln>
        </p:spPr>
      </p:sp>
      <p:sp>
        <p:nvSpPr>
          <p:cNvPr id="112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10F68-C91C-43D0-9123-09B36A55792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E33CCC-EAEE-4B6E-814A-3C3F9C0793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27D84A-5B03-4850-A893-5895E18386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80720CD-7327-487F-8B52-8C2B9A32EA0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72A51AD-1C56-4D71-BC42-62147779004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4B46E18-C536-491E-811A-48CC1B61717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59AF3C-792D-43DD-9AD6-46504239B8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E1CC9A-0237-454E-AB9C-F084BFA690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3D42CC-B5BF-4256-A629-6C09AC6A9E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546B41A-3A2E-497C-BD56-725A6FE8E57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9539372-A276-4ED7-A532-112469420FF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24C2783-8653-4E09-B7B6-53FD583104C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4F7E717-29A3-4666-B315-FECA5E2BEF0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79080C-196E-44E4-AD98-3E19E95DBE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BB70D93-C300-4ED0-912E-29D4A633ADD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AC72287-221E-46C2-A595-CBA811B922F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74EFF97-E4EB-4A4A-875E-A04FFCF53AD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AB84369-9175-480D-8A9C-5A38B6F5FB8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ADBEAE6-2299-42E3-9BCE-197E889C658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41153D2-E3C5-4F5D-9B3A-DD8F4762685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A735A79-4BFC-4555-B26A-361FB202A39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60093CD-9798-4E71-BC91-77D3CB8D77E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DCC7A5E-F013-4A11-A0E4-6D8D94B66A0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B2FABC6-312B-447E-8AE4-841E2437A24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99DA4C-FB8F-453A-9825-383681304B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D20A4F0-22F1-4422-A269-3B106008570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F2079DD-3475-46E3-8772-4B59799F87D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457A1A6-C9BF-41AD-8345-337E4CCD62B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2D3B1AE-5080-436D-90B3-FDAD1129B99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A65A5DD-8CF7-4EB2-9850-161B9D7EB18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8065676-3796-4697-AD48-BF41A7B8B52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14576A2-7D74-49FC-B66E-C8DBA1AEE0C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4A1CA94-A71D-4DAF-AC3B-C806A2A0DE4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C4FCECF-9A80-4A6B-9E4A-8E2B2E26D16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B14C250-7697-4DBC-913D-8A4975D6C8F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969170-C938-4561-8B25-3836E50E12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6E24725-1095-431E-B0B1-5253B7E8453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86E7F34-DFDA-4765-A793-D94A618F624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35BFD85-1B9E-47DC-A087-8F6389C6247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B02E77D-E559-4E6E-B0C9-B9EF4ECF396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04553F6-39F5-4FB2-B72E-DE63ED1CF39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930BD91-AEE1-437B-A0F8-8EE112071D2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2C56D78-23BE-42F9-9723-5B70F77F075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661E2C6-78A6-4C28-821F-40CBADB54CA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F35215A-B931-465B-98F9-F7BF5C90A10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367BEF4-31F9-4A45-9572-AFB8BB4369E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D36B89-9133-438F-9550-24F6841A3F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18A47BB-0AD5-4323-8487-8B6A8976F02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9800C36-4386-4FA3-9B32-ED5B4A3935A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EB93593-A4A6-4002-88F0-C673C4E7ED9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0F91165-E466-445A-B8B3-15E9AC1EE36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6159BD0-8530-4545-8D67-C9FA8087EA1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A1182E1-0D1B-4F5F-A885-4B4DA202C22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2D92A4F-D69D-498E-A40C-7EE2F852D46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03A6AA7-C609-46A3-83F1-8777D9788C9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60D1259-5F24-488A-9CCB-6F87A01320C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3BF6931-BA64-4451-87F2-DC5D0888159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7A41C4-2253-47E5-9FD2-A1B6C707CF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6243DC2-4D92-495F-AB10-07CE775857B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AD9CAAD-260A-4A2D-886C-FB82DEAFE7F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7741A79-C6ED-450A-B87E-7881D50149F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F013A41-6030-4709-9A84-4C42E90CD57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10DA5CC-6638-4068-99E8-C539B2792B8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9262F42-6D41-4B95-9F22-34057C58368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2E73819-713E-4FA1-B600-3C4A43AEB53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7ACACD3-204E-40CA-95CC-C56A8755039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0252A71-079C-4571-A565-1F1A78B1069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B240DFE-B417-4D99-825F-1D93193B527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995D97-5BD8-400B-9C4E-96B626D41E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BBB0A58-1ECE-4360-BEFC-085312022E3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5CFBED3-5983-4866-AD45-0407CBCBADA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E23BF98-9ADE-4226-A4B4-D5AF3E75CF3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29F3326-CE39-4880-91D2-E4BDE9D4734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F0C9506-A9E2-4188-9D2D-D75532281D7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4F73EF0-5597-4E7D-8A27-F373A7E5DC1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4997E75-A344-40BD-8E81-1CD5D8C2AA5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D2076D7-5545-451A-81BF-9E3BDBAEA8B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561896A-FEBB-45D1-86A3-B028676E87B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54D3FB97-03B4-4086-8C00-C11F7AB357ED}"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DC124B-4F21-4789-A348-4F8CFF6408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A4AC950-B16E-420B-8787-AEDCCC5796C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B1FE7BD-F070-412F-AB33-E0E084F6BD5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4249219-A955-4C01-8EEB-9D10F20687F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E8133E1-68A3-4008-BFD0-53893A1C7CE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E0C922C-DB7B-428B-BF5E-5906797976A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B3B2F23-E5C7-44A0-AD1B-C5120BD27C6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19B20D9-32A7-4D2B-A6E2-43DAF6E88B7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12E050C-F5F0-46D0-843A-6738F8B38CE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9549F51-0ACA-4CD4-8041-C1DCF24EC39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BB138FE4-4142-4913-BDC3-ABA7D8123299}"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EE88A7-610B-4152-8E26-A76F2D52E0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04AAA06F-7E8F-4EE3-9945-21FAAD316F68}"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C4E6F949-3A95-4937-B4C6-ABBE014601B9}"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970A736-FDEB-49BA-AA15-88CC7FC0680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66B827F-E554-469E-B7E2-C993F0CE412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B9646AE-F1E5-409E-A60F-FD15701F6A1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D7B7896-77A8-4A81-8CBF-4C76C4BCAD1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9F0753C-EDEE-4FFB-BA6A-97F1552E30C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7B26EEF-48F0-49CB-A76F-F415F0EB999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698E18F-C9F9-4139-819C-7D89D6B5657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BD7C54D-F463-42F5-9868-9B5A755C590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CA7EFA-3158-4103-8FA9-3BA388FB4F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753A637-FB9C-4627-97E1-BDF1AA380E1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D0683533-1C8A-453F-8C69-958C48C99BC5}"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8F63CABE-670F-4CE9-A667-18D871B1AED7}"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D5267868-F283-422C-B97A-A4CA0EE6DFCD}"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F3ABFD1-246A-4F9D-BDEE-C040CC65797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733767A-9169-43D6-B782-CA436B5429E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4D883307-C10A-48DC-AF5C-940010F4B1A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BD0E972-EF12-49FF-BCBD-FE2AB3E06A1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9F7EB72-4963-4DC1-8176-A4A74AE34E3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3F43DF4-2707-4A18-9D58-1D8F7488DDA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623A1D-8789-4527-8F2D-43EECF1BFB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F6FF78-86C9-4F55-8AD5-632D88C3B1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6D31B50-4759-4D0B-AE63-7D64EE5988E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FF9C562-E232-4CF5-943F-E76A29A9D70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7B9F3D2-AD83-4354-B978-5CEC70A849E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B1A71083-98DD-4FA2-8CBF-0AECF742C067}"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1875D72D-AE0A-4254-82B5-E4DB28F0C30D}"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5524CA61-01FD-461D-AB4F-3F44921FDC4C}"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DBBCF9A-684F-48C6-ABC6-3BCFB98C0AEB}"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E255B2F-A00E-4DCE-A5C9-5989D1AA10E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5A1D0437-2EC0-497A-9B23-C7EA69A5551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F997EC5-DDD0-4C03-80B4-3692C39CFDB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35E90E-5E80-4E19-A998-1BBDBB171D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12917321-21A1-4D9C-B8B0-B3C50D0C595A}"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69A155A-C1F0-4D33-B22D-C8E01C033C9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F2F58EA-194C-43C5-B59A-CE682144B38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D8D17AF-3237-445D-AA6F-E16030BB8C6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773E27B-E239-44B3-B938-09756EC795B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454C5715-C9AD-43CF-AE7D-8CEDFEE79EED}"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EBA0BC01-FD87-48B1-9BB5-CD713464020F}"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7E5B6AEF-928A-4D2F-AE39-09EF3E28F184}"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0DED0395-0405-4025-973C-4ED317CDB96C}"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763A088-D39D-40EF-95D9-444F265CDD71}"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E82264-0D40-445B-AA33-572EF6375A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DCBC082-B241-4AFC-B0E8-D66745B16800}"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D8220230-5AF1-4D62-8F70-8D2AC9EAD054}"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661C40C4-AA71-4218-9FE6-1B18BAA25661}"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76A35CA-A407-4E62-91CA-D546D20A746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FD96F13-EC1E-42E2-99DF-51C845DFA99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2B5DECF-1260-481B-8E6F-BBC64F5F7EE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1A347A52-B56E-4017-A029-860D55F00DF4}"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3ED979D8-F26D-4552-A6B5-EAA9CAA62511}"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E2685452-C9AE-4098-BA50-C4EC8694478F}"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1DB7978A-74E1-4AB0-A4B2-1CB9BF2633E4}"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7D4338-D81E-4959-AC73-92A77B3200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1B15EF5C-DD7A-416A-8792-1414D3693670}"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B0BB467C-7E52-4F6A-94A5-106A3B7E7C49}"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5BA6FED4-542E-41D3-AC00-89F1B301A067}"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A8243022-9879-40D9-B5AE-0A11D0A7BD1A}"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457DD4A6-D450-4377-8E6D-8033355C8A6F}"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B4E1087-56E4-443C-8495-96B8EDA3578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8425623-2624-481F-B4FC-1873EF63AB1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76B0FFC-309B-4365-B6D6-E97082F4AE1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9C783CEE-A528-4527-8147-5EFD41CF0F68}"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ABEAAEC4-7CBB-4E9D-81A1-42DBB8E814DE}"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0937BC-5856-4925-BB33-DF1744EFCA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28350F2A-D96E-4FD6-8870-84072F8472F8}"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3D9A6352-1ED8-4989-A398-1C7C8D75C6B9}"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0DE169C0-AAB8-47B9-84B7-96BEFE605EF3}"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6EC48C2B-FE75-4619-8DB7-FDCCC182C05D}"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EAA344F7-A514-45C0-B7A2-B98CE85F8BE2}"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2740E805-0FEA-4447-AE55-8D2E158F0CCC}"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F0006620-5CFA-48B7-8178-1D1FF6AF59C6}"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B7D79FD-5C6F-473B-9CB0-E5D109850E60}"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BF6A7DC-CFA9-480F-93BA-13B1E270F460}"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05780F8E-DA34-44E1-A86F-6BA2D00C614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458072-DF48-41CD-8CE1-77396C63185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7BE1B770-E0EF-4E16-8118-C293F03C3937}"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1B932E5D-2C85-4C39-98E2-09F540BA694B}"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89FE60E4-160D-4112-8B99-B16357C3EDB6}"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80080D5F-750C-49AF-932C-D4FEA9A6A162}"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174387E0-87CB-4062-BE17-20A8442E96C7}"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7E400FAC-EF19-424B-B120-6CA926AE451D}"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7E508786-4931-495F-BA43-2EA10F70CB5C}"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649DF216-41A6-4269-9897-1A2F2CD52427}"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6750AB59-EB99-4873-9557-725B1570CFDF}"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F6001A3B-D6E0-476D-A571-E64C143F7BFA}"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3D842E-A8AB-40FC-8703-5FFBC1C7A6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B214FA7A-5E7A-4E93-B163-32DCA5D58024}"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C1084628-16C8-4CDD-B510-3A17062D6392}"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C07D8E03-A3A7-4446-ACD6-8BE3841AB7B6}"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50002328-7ABD-451E-97C6-1791839D7615}"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4952B3BD-343B-4C21-B922-A99573F8E40E}"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6D5DC2BC-360E-4871-88C1-C84F0F4AEBC9}"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FD97E3D4-7812-4392-AC31-A5031C4CF6C7}"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4E55EBA2-B3B0-4E32-8690-D10378517E13}"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13CA569B-6622-48AA-BFC5-D87A29822CAB}"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8E910C48-B96D-449A-A4CA-375DCC247A1F}"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D2CFB4-D509-4AAB-92C7-BD2BF85975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4FAA28F5-A905-4476-A90F-48001158AFC9}"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FB8EFFE5-26AC-4565-8532-7B0198442F48}"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35AA7251-0513-41F8-869B-A34943E47DC1}"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8B375711-ADAA-45FE-AB71-06C9DD5B2242}"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ACB97452-7BAD-4128-8A8D-3CCE7BE49B12}"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5B58C1A5-83D3-49EA-99CD-CC011F32B62D}"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FBD2D6AB-F202-47EA-AB55-01538EC63276}"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8F9946A9-D497-4AE7-8D0A-13C3AF90E0A8}"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21706DCF-6ADC-477E-AC7A-4F26F8432FAE}"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3D03DDF8-B6B4-4750-A381-3362C3CE509A}"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A089BE-4072-4F02-BD11-EE05E3BD82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8EA389E6-5D2B-4A6E-A49A-CF2451E62F30}"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B66EC97A-644F-444C-A32A-4FB30BFAD376}"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8C9B2235-8D67-4DB3-8A1E-8690AEF3C653}"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9554431B-D1B0-46F8-ABFA-43F6780A2906}"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94163FA4-2EE3-4BB5-AAFF-E64B32C05EDF}"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11C17B30-A9C2-4842-AC07-AF090D24231A}"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C1D11F46-3DAD-4177-A4D0-87C8A4EC7A1A}"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D0E7F1BA-7016-4B42-8F5A-50B1A9FBC0DE}"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C1660A06-7CB3-4283-A725-EFC949C6DAD6}"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6E9C004C-97DB-41A6-867D-D470CD7BED46}"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AB8CD4-FCC0-489B-A206-E7725621C4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B80E5AEC-6424-42EE-9451-C001B9D8D6D8}"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05EE9F6A-B472-450F-80ED-6A22ED158BAE}"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F362DC0B-F6DB-41CA-AA4B-BB6677C9154D}"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60FEF579-7DF4-4BF6-83B9-CB0CED3E5106}"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4B5FDF67-B2E0-41EA-875D-E3C86D49A68B}"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B0589284-4B16-474B-8C62-881BAE1B0D76}"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2AFDADF4-5434-4FB7-BD94-19466A50EC99}"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D3870610-F88F-4E7D-8893-417D32F1F6A7}"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8C55EB1C-7C42-4600-A19E-42D39A88E789}"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872E492E-4C29-43F4-AC05-AC81C9F2BCD5}"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1DDFB7-15CA-44D0-B7B6-8B28310746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6C9292-647B-4572-AF2C-D4AD8660BF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2DD8EF2F-2273-4843-90DA-51513F4CB1D9}"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31B4B9-9CA7-457C-8CA7-200E07D898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5EC7F3-DC26-456A-BB13-071C6476AB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E10BEF-A613-48CA-BF76-0B2675D54D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4C89D9-1CEE-4B0C-9266-BD1EFF3FB7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AA4B02C-950A-44C4-B52C-76B61CA50C9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32B828D-2688-4968-AF45-12CDB34F5F3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5A4B7C0-ED6D-4CA5-9E2E-B25E8015EED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8DEC0B-FBEB-4940-B741-69F00F9D5B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441921-048E-438F-AE0B-DF5FA56E4B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F53E44-9734-441C-B785-056CC68235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1D6B06-F658-4E38-A960-77277388B2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507543-DA0F-4102-8FFD-090A6814C1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6DC366-BB2F-4A61-8A4A-ECED83B922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A3F6C9-E208-4309-AC34-0517BCE3EE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51DFA4-4023-4030-A6C3-5AEC6AA5AC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F2B05F-62B3-4E01-95FD-1DF1951005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B50FC5-17D1-4D27-A0A1-2E41BBDF83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BA16C84-A645-4FDE-81BB-D9C7AC9E4C1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AF24CC8-DCDF-40CA-ABD9-D14A66758CE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C7F5AE1-6F9C-4A51-9F7C-756A30705EE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17676F-5D4F-48A7-8AF8-877B1FCA51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D5CCA8-6347-4997-A404-CCEB89884D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96B0EA-7878-42E7-A0AE-BE173BB674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787300-0F1B-488A-BADB-8C467361D1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C6ABA3-9862-4CBD-A508-A54C2D3BF9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D02EEB-98B7-404F-A532-6B7D4E5037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503475-97CA-4D84-AF6A-4EA03C9FA8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3A909F-AD3E-45CA-94C6-2EDF0DCD7B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D8FB78-EE08-4EFE-AF8C-4DE3474FEC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C5F692-10E1-4B42-B51A-374769CB52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5E81CCB-CE9E-4134-B216-5D38E730222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3A2705-E3FC-4430-B137-AC7D931DDD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E9C224F-822C-433E-9532-FE077356108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7EC46E0-365C-4E65-BA3C-919E91F02E3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842234-0E30-4BAD-BFD1-A080D4D6F1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31EAD7-FE7C-4A48-AB80-4573FA081C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26CC8A-4733-42FC-9334-C6BE3ED6F5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11E229-042E-4483-A41E-B4DCF5E84C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198A56-43E1-4761-9CB7-B669811CF6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235B0C-814E-487D-AD6A-B82C82E867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77A729-1DB9-44C7-9ED3-652893F6E7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49044C-54C4-4E3A-BE85-F8CDD7D315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8906A-6158-466E-8262-F386A695AD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77C907-3E29-4747-9427-F59074A3CA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76AE680-E5EE-4581-8381-221049FC4A7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4E803CC-2C3C-459F-9A02-0D76C2B7FDC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9B3B418-4A2D-43DB-99B5-0090FAD57AB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159407-1ED1-4B22-B541-BB6199E010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25B743-7522-4544-93E6-1E0617664D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A506545-E35A-4189-9CC9-EB3DF1B7A1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BC13365-DC1C-4A5B-A16F-D59F57B946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8203C74-261A-47A9-8BFD-31BB053FA3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2B7509-31E8-4A04-8E1F-5ED8F5D699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744EB-8F44-4814-A836-5E697CBC3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1FC001-5D7A-495C-A554-F6A95822CC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F1A5C1-7BE6-4D30-AFF7-FCDCF730D6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96EEF9-8741-48AA-895C-D0863CB639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763262A-2E63-488D-BA26-D97F46C9644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4B26B87-BF50-4156-89B9-B81C4CC4720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E61E780-C270-4C70-9958-7A53982B8FC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98505DC-3556-48C5-8561-1158A5A1792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83E1A68-D443-4582-B2AB-8BC062F39D7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DFB9096-DA14-4A43-9DAA-5EF8C57699F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64C2F4-5189-460C-AE37-2C0F824BAB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1B979-08AA-43AA-9564-4AB4AD7AF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98F3B26-0C1C-49D4-A83B-A72F0630197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1A9FA3-C6D0-4A0F-8885-70EAB8C534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A334ED-31F0-46F1-A8BC-A356EC5AAD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2EE3E3-0CC7-4B40-BC3F-D6F309DC48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03FD2AA-4B1A-4A8D-9A64-A2425EA40AA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7A213C6-6FF1-464B-A039-EB8AA7E99CA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801E5F8-0420-4E60-B3D2-466B293A5E7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0E63EEC-A011-4490-BDC0-0DCEAAC61F6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7DF4768-0C07-4CC2-ACB5-49FB73D65CC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E7AAFDE-0450-4374-A75A-17CE282022A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B3D87-5840-4616-A8FF-8E701C2F374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AADFF-D253-497A-87CD-3856705D803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1A40B-08B3-4ED3-B8A1-1ED893AD7C2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3456D-9696-4088-833C-4178E865610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49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D4E49-A0FB-43F2-9125-97F142AB9EE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5"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536"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ED485-E097-4222-81B9-77913FDF857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76" name="PlaceHolder 3"/>
          <p:cNvSpPr>
            <a:spLocks noGrp="1"/>
          </p:cNvSpPr>
          <p:nvPr>
            <p:ph type="dt" idx="4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577" name="PlaceHolder 4"/>
          <p:cNvSpPr>
            <a:spLocks noGrp="1"/>
          </p:cNvSpPr>
          <p:nvPr>
            <p:ph type="ftr" idx="4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PlaceHolder 5"/>
          <p:cNvSpPr>
            <a:spLocks noGrp="1"/>
          </p:cNvSpPr>
          <p:nvPr>
            <p:ph type="sldNum" idx="4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4D177-2DEB-44C1-9919-49AC53A50DA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7"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618"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984BF-EEA3-4220-AD94-3D5FEF0613F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58"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659"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A6196-3246-4B81-8B29-2CAB9B40633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99"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700"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PlaceHolder 5"/>
          <p:cNvSpPr>
            <a:spLocks noGrp="1"/>
          </p:cNvSpPr>
          <p:nvPr>
            <p:ph type="sldNum" idx="5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DB543-B3C8-4D03-8879-F7F07ACB587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40"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741" name="PlaceHolder 4"/>
          <p:cNvSpPr>
            <a:spLocks noGrp="1"/>
          </p:cNvSpPr>
          <p:nvPr>
            <p:ph type="ftr" idx="5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PlaceHolder 5"/>
          <p:cNvSpPr>
            <a:spLocks noGrp="1"/>
          </p:cNvSpPr>
          <p:nvPr>
            <p:ph type="sldNum" idx="5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64028-B57B-4611-B60A-8ADEC57D5B3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CBEC16-A102-4625-979D-7F7F1274F0C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81" name="PlaceHolder 3"/>
          <p:cNvSpPr>
            <a:spLocks noGrp="1"/>
          </p:cNvSpPr>
          <p:nvPr>
            <p:ph type="dt" idx="5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782" name="PlaceHolder 4"/>
          <p:cNvSpPr>
            <a:spLocks noGrp="1"/>
          </p:cNvSpPr>
          <p:nvPr>
            <p:ph type="ftr" idx="5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PlaceHolder 5"/>
          <p:cNvSpPr>
            <a:spLocks noGrp="1"/>
          </p:cNvSpPr>
          <p:nvPr>
            <p:ph type="sldNum" idx="6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3411A-2D20-49B1-B28A-A203A2731F7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22"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823" name="PlaceHolder 4"/>
          <p:cNvSpPr>
            <a:spLocks noGrp="1"/>
          </p:cNvSpPr>
          <p:nvPr>
            <p:ph type="ftr" idx="6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PlaceHolder 5"/>
          <p:cNvSpPr>
            <a:spLocks noGrp="1"/>
          </p:cNvSpPr>
          <p:nvPr>
            <p:ph type="sldNum" idx="6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8DA74-70EE-4A10-A2EE-CB97B8383CD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3" name="PlaceHolder 3"/>
          <p:cNvSpPr>
            <a:spLocks noGrp="1"/>
          </p:cNvSpPr>
          <p:nvPr>
            <p:ph type="dt" idx="6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864" name="PlaceHolder 4"/>
          <p:cNvSpPr>
            <a:spLocks noGrp="1"/>
          </p:cNvSpPr>
          <p:nvPr>
            <p:ph type="ftr" idx="6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PlaceHolder 5"/>
          <p:cNvSpPr>
            <a:spLocks noGrp="1"/>
          </p:cNvSpPr>
          <p:nvPr>
            <p:ph type="sldNum" idx="6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BB6C3-A032-4F0A-A294-2CAE6B19CE7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4" name="PlaceHolder 3"/>
          <p:cNvSpPr>
            <a:spLocks noGrp="1"/>
          </p:cNvSpPr>
          <p:nvPr>
            <p:ph type="dt" idx="6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905" name="PlaceHolder 4"/>
          <p:cNvSpPr>
            <a:spLocks noGrp="1"/>
          </p:cNvSpPr>
          <p:nvPr>
            <p:ph type="ftr" idx="6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PlaceHolder 5"/>
          <p:cNvSpPr>
            <a:spLocks noGrp="1"/>
          </p:cNvSpPr>
          <p:nvPr>
            <p:ph type="sldNum" idx="6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975D8-F5DC-43C7-A51D-4D36FD909FE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45" name="PlaceHolder 3"/>
          <p:cNvSpPr>
            <a:spLocks noGrp="1"/>
          </p:cNvSpPr>
          <p:nvPr>
            <p:ph type="dt" idx="7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946" name="PlaceHolder 4"/>
          <p:cNvSpPr>
            <a:spLocks noGrp="1"/>
          </p:cNvSpPr>
          <p:nvPr>
            <p:ph type="ftr" idx="7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PlaceHolder 5"/>
          <p:cNvSpPr>
            <a:spLocks noGrp="1"/>
          </p:cNvSpPr>
          <p:nvPr>
            <p:ph type="sldNum" idx="7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D7D17-F518-422B-93F6-62C17085683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86" name="PlaceHolder 3"/>
          <p:cNvSpPr>
            <a:spLocks noGrp="1"/>
          </p:cNvSpPr>
          <p:nvPr>
            <p:ph type="dt" idx="7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987" name="PlaceHolder 4"/>
          <p:cNvSpPr>
            <a:spLocks noGrp="1"/>
          </p:cNvSpPr>
          <p:nvPr>
            <p:ph type="ftr" idx="7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PlaceHolder 5"/>
          <p:cNvSpPr>
            <a:spLocks noGrp="1"/>
          </p:cNvSpPr>
          <p:nvPr>
            <p:ph type="sldNum" idx="7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D2FEE-79D7-4BC1-B307-1E35AE6E4EA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072DFE-E6C8-4DF4-A2D3-BE8C6519301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5A124-E97C-462B-B87C-98C46B79BED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F69F2-507A-4B75-B4C8-DD7BC66A76B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6CDB8-47C5-4986-A7F3-8EB2AD6D575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4099A-01CE-4B85-BA41-3780EE2DE80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B2E5A-34C6-4E26-AF8A-B68030C25BF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E2E68-9900-428C-A23A-2497E7B84A2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37.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image" Target="../media/image1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3" name="Picture 8" descr="IRIS_TMlogo.png"/>
          <p:cNvPicPr/>
          <p:nvPr/>
        </p:nvPicPr>
        <p:blipFill>
          <a:blip r:embed="rId1"/>
          <a:stretch/>
        </p:blipFill>
        <p:spPr>
          <a:xfrm>
            <a:off x="239760" y="76320"/>
            <a:ext cx="903240" cy="927000"/>
          </a:xfrm>
          <a:prstGeom prst="rect">
            <a:avLst/>
          </a:prstGeom>
          <a:ln w="0">
            <a:noFill/>
          </a:ln>
        </p:spPr>
      </p:pic>
      <p:sp>
        <p:nvSpPr>
          <p:cNvPr id="1034" name="TextBox 14"/>
          <p:cNvSpPr/>
          <p:nvPr/>
        </p:nvSpPr>
        <p:spPr>
          <a:xfrm>
            <a:off x="241200" y="1082520"/>
            <a:ext cx="707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major magnitude 7.1 earthquake hit off the western coast of Bougainville Island on Thursday, approximately 144 km (89 mi) southwest of Panguna. There were no immediate reports of damages or casualti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ccording to the USGS, the characteristics of the earthquake are consistent with its occurrence near what has been termed the outer rise region outboard of the subduction zone, rather than further to the north on the plate boundary (thrust) interface.</a:t>
            </a:r>
            <a:endParaRPr b="0" lang="en-US" sz="1800" spc="-1" strike="noStrike">
              <a:solidFill>
                <a:srgbClr val="000000"/>
              </a:solidFill>
              <a:latin typeface="Arial"/>
            </a:endParaRPr>
          </a:p>
        </p:txBody>
      </p:sp>
      <p:pic>
        <p:nvPicPr>
          <p:cNvPr id="1035" name="Picture 2" descr=""/>
          <p:cNvPicPr/>
          <p:nvPr/>
        </p:nvPicPr>
        <p:blipFill>
          <a:blip r:embed="rId2"/>
          <a:stretch/>
        </p:blipFill>
        <p:spPr>
          <a:xfrm>
            <a:off x="7315200" y="681120"/>
            <a:ext cx="1681200" cy="1681200"/>
          </a:xfrm>
          <a:prstGeom prst="rect">
            <a:avLst/>
          </a:prstGeom>
          <a:ln w="0">
            <a:noFill/>
          </a:ln>
        </p:spPr>
      </p:pic>
      <p:sp>
        <p:nvSpPr>
          <p:cNvPr id="1036"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1 BOUGAINVILLE REGION, PAPUA NEW GUINEA</a:t>
            </a:r>
            <a:br>
              <a:rPr sz="3500"/>
            </a:br>
            <a:r>
              <a:rPr b="1" lang="en-US" sz="1500" spc="-1" strike="noStrike">
                <a:solidFill>
                  <a:srgbClr val="11488b"/>
                </a:solidFill>
                <a:latin typeface="Arial"/>
              </a:rPr>
              <a:t>Thursday,  May 7, 2015 at 07:10:22 UTC </a:t>
            </a:r>
            <a:endParaRPr b="0" lang="en-US" sz="1500" spc="-1" strike="noStrike">
              <a:solidFill>
                <a:srgbClr val="000000"/>
              </a:solidFill>
              <a:latin typeface="Arial"/>
            </a:endParaRPr>
          </a:p>
        </p:txBody>
      </p:sp>
      <p:grpSp>
        <p:nvGrpSpPr>
          <p:cNvPr id="1037" name="Group 2"/>
          <p:cNvGrpSpPr/>
          <p:nvPr/>
        </p:nvGrpSpPr>
        <p:grpSpPr>
          <a:xfrm>
            <a:off x="914400" y="3886200"/>
            <a:ext cx="7601040" cy="2819520"/>
            <a:chOff x="914400" y="3886200"/>
            <a:chExt cx="7601040" cy="2819520"/>
          </a:xfrm>
        </p:grpSpPr>
        <p:pic>
          <p:nvPicPr>
            <p:cNvPr id="1038" name="Picture 1" descr=""/>
            <p:cNvPicPr/>
            <p:nvPr/>
          </p:nvPicPr>
          <p:blipFill>
            <a:blip r:embed="rId3"/>
            <a:stretch/>
          </p:blipFill>
          <p:spPr>
            <a:xfrm>
              <a:off x="914400" y="3886200"/>
              <a:ext cx="7601040" cy="2819520"/>
            </a:xfrm>
            <a:prstGeom prst="rect">
              <a:avLst/>
            </a:prstGeom>
            <a:ln w="0">
              <a:noFill/>
            </a:ln>
          </p:spPr>
        </p:pic>
        <p:sp>
          <p:nvSpPr>
            <p:cNvPr id="1039" name="TextBox 1"/>
            <p:cNvSpPr/>
            <p:nvPr/>
          </p:nvSpPr>
          <p:spPr>
            <a:xfrm>
              <a:off x="6705720" y="4800600"/>
              <a:ext cx="1809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ougainville Island</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0" name="Picture 1" descr=""/>
          <p:cNvPicPr/>
          <p:nvPr/>
        </p:nvPicPr>
        <p:blipFill>
          <a:blip r:embed="rId1"/>
          <a:stretch/>
        </p:blipFill>
        <p:spPr>
          <a:xfrm>
            <a:off x="4267080" y="1447920"/>
            <a:ext cx="4489560" cy="4535280"/>
          </a:xfrm>
          <a:prstGeom prst="rect">
            <a:avLst/>
          </a:prstGeom>
          <a:ln w="0">
            <a:noFill/>
          </a:ln>
        </p:spPr>
      </p:pic>
      <p:sp>
        <p:nvSpPr>
          <p:cNvPr id="104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2" name="Picture 12" descr="scale.jpg"/>
          <p:cNvPicPr/>
          <p:nvPr/>
        </p:nvPicPr>
        <p:blipFill>
          <a:blip r:embed="rId2"/>
          <a:stretch/>
        </p:blipFill>
        <p:spPr>
          <a:xfrm>
            <a:off x="380880" y="4070520"/>
            <a:ext cx="2127240" cy="2319120"/>
          </a:xfrm>
          <a:prstGeom prst="rect">
            <a:avLst/>
          </a:prstGeom>
          <a:ln w="0">
            <a:noFill/>
          </a:ln>
        </p:spPr>
      </p:pic>
      <p:sp>
        <p:nvSpPr>
          <p:cNvPr id="1043" name="TextBox 13"/>
          <p:cNvSpPr/>
          <p:nvPr/>
        </p:nvSpPr>
        <p:spPr>
          <a:xfrm>
            <a:off x="271440" y="3719520"/>
            <a:ext cx="3429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dified Mercalli Intensity</a:t>
            </a:r>
            <a:endParaRPr b="0" lang="en-US" sz="1400" spc="-1" strike="noStrike">
              <a:solidFill>
                <a:srgbClr val="000000"/>
              </a:solidFill>
              <a:latin typeface="Arial"/>
            </a:endParaRPr>
          </a:p>
        </p:txBody>
      </p:sp>
      <p:sp>
        <p:nvSpPr>
          <p:cNvPr id="1044" name="TextBox 14"/>
          <p:cNvSpPr/>
          <p:nvPr/>
        </p:nvSpPr>
        <p:spPr>
          <a:xfrm>
            <a:off x="2541600" y="3505320"/>
            <a:ext cx="1219320" cy="318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erceived </a:t>
            </a:r>
            <a:endParaRPr b="0" lang="en-US" sz="14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Shaki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ea typeface="Arial"/>
              </a:rPr>
              <a:t>Extreme </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Violen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ea typeface="Arial"/>
              </a:rPr>
              <a:t>Sever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ea typeface="Arial"/>
              </a:rPr>
              <a:t>Very 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odera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igh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ak</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t Fe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45" name="TextBox 15"/>
          <p:cNvSpPr/>
          <p:nvPr/>
        </p:nvSpPr>
        <p:spPr>
          <a:xfrm>
            <a:off x="4114800" y="6248520"/>
            <a:ext cx="4876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USGS Estimated shaking Intensity from M 7.1 Earthquake</a:t>
            </a:r>
            <a:endParaRPr b="0" lang="en-US" sz="1400" spc="-1" strike="noStrike">
              <a:solidFill>
                <a:srgbClr val="000000"/>
              </a:solidFill>
              <a:latin typeface="Arial"/>
            </a:endParaRPr>
          </a:p>
        </p:txBody>
      </p:sp>
      <p:sp>
        <p:nvSpPr>
          <p:cNvPr id="1046" name="TextBox 15"/>
          <p:cNvSpPr/>
          <p:nvPr/>
        </p:nvSpPr>
        <p:spPr>
          <a:xfrm>
            <a:off x="237960" y="1144440"/>
            <a:ext cx="37227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Modified-Mercalli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cale is a twelve-stage scale, fro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 to XII, that indicates the sever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f ground shak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nearest islands experienced moderate shaking from this earthquak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7" name="Picture 8" descr="IRIS_TMlogo.png"/>
          <p:cNvPicPr/>
          <p:nvPr/>
        </p:nvPicPr>
        <p:blipFill>
          <a:blip r:embed="rId3"/>
          <a:stretch/>
        </p:blipFill>
        <p:spPr>
          <a:xfrm>
            <a:off x="239760" y="76320"/>
            <a:ext cx="903240" cy="927000"/>
          </a:xfrm>
          <a:prstGeom prst="rect">
            <a:avLst/>
          </a:prstGeom>
          <a:ln w="0">
            <a:noFill/>
          </a:ln>
        </p:spPr>
      </p:pic>
      <p:sp>
        <p:nvSpPr>
          <p:cNvPr id="1048" name="TextBox 15"/>
          <p:cNvSpPr/>
          <p:nvPr/>
        </p:nvSpPr>
        <p:spPr>
          <a:xfrm>
            <a:off x="252360" y="6526080"/>
            <a:ext cx="403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Image courtesy of the US Geological Survey</a:t>
            </a:r>
            <a:endParaRPr b="0" lang="en-US" sz="1400" spc="-1" strike="noStrike">
              <a:solidFill>
                <a:srgbClr val="000000"/>
              </a:solidFill>
              <a:latin typeface="Arial"/>
            </a:endParaRPr>
          </a:p>
        </p:txBody>
      </p:sp>
      <p:sp>
        <p:nvSpPr>
          <p:cNvPr id="1049" name="5-Point Star 13"/>
          <p:cNvSpPr/>
          <p:nvPr/>
        </p:nvSpPr>
        <p:spPr>
          <a:xfrm>
            <a:off x="6400800" y="350532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ffff00"/>
          </a:solidFill>
          <a:ln w="9360">
            <a:solidFill>
              <a:srgbClr val="4a7ebb"/>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0"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1 BOUGAINVILLE REGION, PAPUA NEW GUINEA</a:t>
            </a:r>
            <a:br>
              <a:rPr sz="3500"/>
            </a:br>
            <a:r>
              <a:rPr b="1" lang="en-US" sz="1500" spc="-1" strike="noStrike">
                <a:solidFill>
                  <a:srgbClr val="11488b"/>
                </a:solidFill>
                <a:latin typeface="Arial"/>
              </a:rPr>
              <a:t>Thursday,  May 7, 2015 at 07:10:2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TextBox 15"/>
          <p:cNvSpPr/>
          <p:nvPr/>
        </p:nvSpPr>
        <p:spPr>
          <a:xfrm>
            <a:off x="5122800" y="719280"/>
            <a:ext cx="38862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PAGER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opulation Exposed to Earthquake Shaking</a:t>
            </a:r>
            <a:endParaRPr b="0" lang="en-US" sz="1400" spc="-1" strike="noStrike">
              <a:solidFill>
                <a:srgbClr val="000000"/>
              </a:solidFill>
              <a:latin typeface="Arial"/>
            </a:endParaRPr>
          </a:p>
        </p:txBody>
      </p:sp>
      <p:pic>
        <p:nvPicPr>
          <p:cNvPr id="1053" name="Picture 8" descr="IRIS_TMlogo.png"/>
          <p:cNvPicPr/>
          <p:nvPr/>
        </p:nvPicPr>
        <p:blipFill>
          <a:blip r:embed="rId1"/>
          <a:stretch/>
        </p:blipFill>
        <p:spPr>
          <a:xfrm>
            <a:off x="239760" y="76320"/>
            <a:ext cx="903240" cy="927000"/>
          </a:xfrm>
          <a:prstGeom prst="rect">
            <a:avLst/>
          </a:prstGeom>
          <a:ln w="0">
            <a:noFill/>
          </a:ln>
        </p:spPr>
      </p:pic>
      <p:sp>
        <p:nvSpPr>
          <p:cNvPr id="1054" name="TextBox 15"/>
          <p:cNvSpPr/>
          <p:nvPr/>
        </p:nvSpPr>
        <p:spPr>
          <a:xfrm>
            <a:off x="5427720" y="6473880"/>
            <a:ext cx="3716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sp>
        <p:nvSpPr>
          <p:cNvPr id="1055" name="TextBox 20"/>
          <p:cNvSpPr/>
          <p:nvPr/>
        </p:nvSpPr>
        <p:spPr>
          <a:xfrm>
            <a:off x="3333600" y="5521320"/>
            <a:ext cx="5767560" cy="946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lor coded contour lines outline regions of MMI intensity.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otal population exposure to a given MMI value is obtained by summing the population between the contour lines. The estimated population exposure to each MMI Intensity is shown in the table.</a:t>
            </a:r>
            <a:endParaRPr b="0" lang="en-US" sz="1400" spc="-1" strike="noStrike">
              <a:solidFill>
                <a:srgbClr val="000000"/>
              </a:solidFill>
              <a:latin typeface="Arial"/>
            </a:endParaRPr>
          </a:p>
        </p:txBody>
      </p:sp>
      <p:sp>
        <p:nvSpPr>
          <p:cNvPr id="1056" name="TextBox 18"/>
          <p:cNvSpPr/>
          <p:nvPr/>
        </p:nvSpPr>
        <p:spPr>
          <a:xfrm>
            <a:off x="243000" y="1120680"/>
            <a:ext cx="44053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SGS PAGER map shows the population exposed to different Modified Mercalli Intensity (MMI) level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9,000 people experienced moderate shaking from this earthquake.</a:t>
            </a:r>
            <a:endParaRPr b="0" lang="en-US" sz="1800" spc="-1" strike="noStrike">
              <a:solidFill>
                <a:srgbClr val="000000"/>
              </a:solidFill>
              <a:latin typeface="Arial"/>
            </a:endParaRPr>
          </a:p>
        </p:txBody>
      </p:sp>
      <p:pic>
        <p:nvPicPr>
          <p:cNvPr id="1057" name="Picture 2" descr=""/>
          <p:cNvPicPr/>
          <p:nvPr/>
        </p:nvPicPr>
        <p:blipFill>
          <a:blip r:embed="rId2"/>
          <a:stretch/>
        </p:blipFill>
        <p:spPr>
          <a:xfrm>
            <a:off x="4876920" y="1295280"/>
            <a:ext cx="4082760" cy="4202280"/>
          </a:xfrm>
          <a:prstGeom prst="rect">
            <a:avLst/>
          </a:prstGeom>
          <a:ln w="0">
            <a:noFill/>
          </a:ln>
        </p:spPr>
      </p:pic>
      <p:pic>
        <p:nvPicPr>
          <p:cNvPr id="1058" name="Picture 1" descr=""/>
          <p:cNvPicPr/>
          <p:nvPr/>
        </p:nvPicPr>
        <p:blipFill>
          <a:blip r:embed="rId3"/>
          <a:stretch/>
        </p:blipFill>
        <p:spPr>
          <a:xfrm>
            <a:off x="738360" y="3276720"/>
            <a:ext cx="2342880" cy="3390840"/>
          </a:xfrm>
          <a:prstGeom prst="rect">
            <a:avLst/>
          </a:prstGeom>
          <a:ln w="0">
            <a:noFill/>
          </a:ln>
        </p:spPr>
      </p:pic>
      <p:sp>
        <p:nvSpPr>
          <p:cNvPr id="1059"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1 BOUGAINVILLE REGION, PAPUA NEW GUINEA</a:t>
            </a:r>
            <a:br>
              <a:rPr sz="3500"/>
            </a:br>
            <a:r>
              <a:rPr b="1" lang="en-US" sz="1500" spc="-1" strike="noStrike">
                <a:solidFill>
                  <a:srgbClr val="11488b"/>
                </a:solidFill>
                <a:latin typeface="Arial"/>
              </a:rPr>
              <a:t>Thursday,  May 7, 2015 at 07:10:2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1" name="Picture 8" descr="IRIS_TMlogo.png"/>
          <p:cNvPicPr/>
          <p:nvPr/>
        </p:nvPicPr>
        <p:blipFill>
          <a:blip r:embed="rId1"/>
          <a:stretch/>
        </p:blipFill>
        <p:spPr>
          <a:xfrm>
            <a:off x="239760" y="76320"/>
            <a:ext cx="903240" cy="927000"/>
          </a:xfrm>
          <a:prstGeom prst="rect">
            <a:avLst/>
          </a:prstGeom>
          <a:ln w="0">
            <a:noFill/>
          </a:ln>
        </p:spPr>
      </p:pic>
      <p:sp>
        <p:nvSpPr>
          <p:cNvPr id="1062" name="TextBox 14"/>
          <p:cNvSpPr/>
          <p:nvPr/>
        </p:nvSpPr>
        <p:spPr>
          <a:xfrm>
            <a:off x="6113520" y="685800"/>
            <a:ext cx="303048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NE portion of the Australian Plate is broken into microplates that accommodate the Australian plate’s convergence with the Pacific Plate. In detail, there are numerous microplates (fragments of larger plates). </a:t>
            </a:r>
            <a:endParaRPr b="0" lang="en-US" sz="1600" spc="-1" strike="noStrike">
              <a:solidFill>
                <a:srgbClr val="000000"/>
              </a:solidFill>
              <a:latin typeface="Arial"/>
            </a:endParaRPr>
          </a:p>
        </p:txBody>
      </p:sp>
      <p:pic>
        <p:nvPicPr>
          <p:cNvPr id="1063" name="Picture 1" descr=""/>
          <p:cNvPicPr/>
          <p:nvPr/>
        </p:nvPicPr>
        <p:blipFill>
          <a:blip r:embed="rId2"/>
          <a:stretch/>
        </p:blipFill>
        <p:spPr>
          <a:xfrm>
            <a:off x="411120" y="1117440"/>
            <a:ext cx="5608800" cy="3835440"/>
          </a:xfrm>
          <a:prstGeom prst="rect">
            <a:avLst/>
          </a:prstGeom>
          <a:ln w="0">
            <a:noFill/>
          </a:ln>
        </p:spPr>
      </p:pic>
      <p:sp>
        <p:nvSpPr>
          <p:cNvPr id="1064" name="TextBox 14"/>
          <p:cNvSpPr/>
          <p:nvPr/>
        </p:nvSpPr>
        <p:spPr>
          <a:xfrm>
            <a:off x="347760" y="5032440"/>
            <a:ext cx="509436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rrows show net plate motion relative to the Australian Plate. The Solomon Sea micro plate moves fast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86 mm/yr (3.4 in/yr) northeasterly with respect to the Pacific than does the Australia Plate due to sea-floor Plate spreading in the Woodlark Basin.</a:t>
            </a:r>
            <a:endParaRPr b="0" lang="en-US" sz="1600" spc="-1" strike="noStrike">
              <a:solidFill>
                <a:srgbClr val="000000"/>
              </a:solidFill>
              <a:latin typeface="Arial"/>
            </a:endParaRPr>
          </a:p>
        </p:txBody>
      </p:sp>
      <p:sp>
        <p:nvSpPr>
          <p:cNvPr id="1065" name="Rectangle 6"/>
          <p:cNvSpPr/>
          <p:nvPr/>
        </p:nvSpPr>
        <p:spPr>
          <a:xfrm>
            <a:off x="1066680" y="3062160"/>
            <a:ext cx="304920" cy="366840"/>
          </a:xfrm>
          <a:prstGeom prst="rect">
            <a:avLst/>
          </a:prstGeom>
          <a:noFill/>
          <a:ln w="64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Straight Connector 8"/>
          <p:cNvSpPr/>
          <p:nvPr/>
        </p:nvSpPr>
        <p:spPr>
          <a:xfrm flipV="1">
            <a:off x="1371600" y="2877840"/>
            <a:ext cx="4070520" cy="183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Straight Connector 11"/>
          <p:cNvSpPr/>
          <p:nvPr/>
        </p:nvSpPr>
        <p:spPr>
          <a:xfrm>
            <a:off x="1371600" y="3429000"/>
            <a:ext cx="4070520" cy="3276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68" name="Picture 2" descr=""/>
          <p:cNvPicPr/>
          <p:nvPr/>
        </p:nvPicPr>
        <p:blipFill>
          <a:blip r:embed="rId3"/>
          <a:stretch/>
        </p:blipFill>
        <p:spPr>
          <a:xfrm>
            <a:off x="5442120" y="2889360"/>
            <a:ext cx="3585960" cy="3827520"/>
          </a:xfrm>
          <a:prstGeom prst="rect">
            <a:avLst/>
          </a:prstGeom>
          <a:ln w="9360">
            <a:solidFill>
              <a:srgbClr val="000000"/>
            </a:solidFill>
            <a:miter/>
          </a:ln>
          <a:effectLst>
            <a:outerShdw dist="38160" dir="10800000" blurRad="0" rotWithShape="0">
              <a:srgbClr val="808080">
                <a:alpha val="40000"/>
              </a:srgbClr>
            </a:outerShdw>
          </a:effectLst>
        </p:spPr>
      </p:pic>
      <p:sp>
        <p:nvSpPr>
          <p:cNvPr id="1069" name="Rectangle 13"/>
          <p:cNvSpPr/>
          <p:nvPr/>
        </p:nvSpPr>
        <p:spPr>
          <a:xfrm>
            <a:off x="996840" y="645156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Image courtesy OSU; </a:t>
            </a:r>
            <a:r>
              <a:rPr b="0" i="1" lang="es-VE" sz="1400" spc="-1" strike="noStrike">
                <a:solidFill>
                  <a:srgbClr val="000000"/>
                </a:solidFill>
                <a:latin typeface="Arial"/>
                <a:ea typeface="Arial"/>
              </a:rPr>
              <a:t>simplified from Hamilton (1979)</a:t>
            </a:r>
            <a:r>
              <a:rPr b="0" i="1"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1070"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1 BOUGAINVILLE REGION, PAPUA NEW GUINEA</a:t>
            </a:r>
            <a:br>
              <a:rPr sz="3500"/>
            </a:br>
            <a:r>
              <a:rPr b="1" lang="en-US" sz="1500" spc="-1" strike="noStrike">
                <a:solidFill>
                  <a:srgbClr val="11488b"/>
                </a:solidFill>
                <a:latin typeface="Arial"/>
              </a:rPr>
              <a:t>Thursday,  May 7, 2015 at 07:10:2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TextBox 8"/>
          <p:cNvSpPr/>
          <p:nvPr/>
        </p:nvSpPr>
        <p:spPr>
          <a:xfrm>
            <a:off x="2443320" y="4867200"/>
            <a:ext cx="216036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he tension axis (T) is minimum compressive stress direction.  The pressure axis (P) is maximum compressive stress direction.</a:t>
            </a:r>
            <a:endParaRPr b="0" lang="en-US" sz="1400" spc="-1" strike="noStrike">
              <a:solidFill>
                <a:srgbClr val="000000"/>
              </a:solidFill>
              <a:latin typeface="Arial"/>
            </a:endParaRPr>
          </a:p>
        </p:txBody>
      </p:sp>
      <p:sp>
        <p:nvSpPr>
          <p:cNvPr id="1072" name="TextBox 11"/>
          <p:cNvSpPr/>
          <p:nvPr/>
        </p:nvSpPr>
        <p:spPr>
          <a:xfrm>
            <a:off x="444600" y="6470640"/>
            <a:ext cx="2469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entroid Moment Tensor Solution</a:t>
            </a:r>
            <a:endParaRPr b="0" lang="en-US" sz="1200" spc="-1" strike="noStrike">
              <a:solidFill>
                <a:srgbClr val="000000"/>
              </a:solidFill>
              <a:latin typeface="Arial"/>
            </a:endParaRPr>
          </a:p>
        </p:txBody>
      </p:sp>
      <p:sp>
        <p:nvSpPr>
          <p:cNvPr id="1073" name="Rectangle 14"/>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4" name="Picture 8" descr="IRIS_TMlogo.png"/>
          <p:cNvPicPr/>
          <p:nvPr/>
        </p:nvPicPr>
        <p:blipFill>
          <a:blip r:embed="rId1"/>
          <a:stretch/>
        </p:blipFill>
        <p:spPr>
          <a:xfrm>
            <a:off x="239760" y="76320"/>
            <a:ext cx="903240" cy="927000"/>
          </a:xfrm>
          <a:prstGeom prst="rect">
            <a:avLst/>
          </a:prstGeom>
          <a:ln w="0">
            <a:noFill/>
          </a:ln>
        </p:spPr>
      </p:pic>
      <p:grpSp>
        <p:nvGrpSpPr>
          <p:cNvPr id="1075" name="Group 6"/>
          <p:cNvGrpSpPr/>
          <p:nvPr/>
        </p:nvGrpSpPr>
        <p:grpSpPr>
          <a:xfrm>
            <a:off x="444600" y="4527720"/>
            <a:ext cx="1798200" cy="1698480"/>
            <a:chOff x="444600" y="4527720"/>
            <a:chExt cx="1798200" cy="1698480"/>
          </a:xfrm>
        </p:grpSpPr>
        <p:pic>
          <p:nvPicPr>
            <p:cNvPr id="1076" name="Picture 5" descr="FM.tiff"/>
            <p:cNvPicPr/>
            <p:nvPr/>
          </p:nvPicPr>
          <p:blipFill>
            <a:blip r:embed="rId2"/>
            <a:srcRect l="15911" t="6004" r="14805" b="3344"/>
            <a:stretch/>
          </p:blipFill>
          <p:spPr>
            <a:xfrm>
              <a:off x="491040" y="4527720"/>
              <a:ext cx="1709280" cy="1698480"/>
            </a:xfrm>
            <a:prstGeom prst="rect">
              <a:avLst/>
            </a:prstGeom>
            <a:ln w="0">
              <a:noFill/>
            </a:ln>
          </p:spPr>
        </p:pic>
        <p:sp>
          <p:nvSpPr>
            <p:cNvPr id="1077" name="Rectangle 3"/>
            <p:cNvSpPr/>
            <p:nvPr/>
          </p:nvSpPr>
          <p:spPr>
            <a:xfrm rot="1800000">
              <a:off x="490320" y="4773240"/>
              <a:ext cx="17136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Rectangle 12"/>
            <p:cNvSpPr/>
            <p:nvPr/>
          </p:nvSpPr>
          <p:spPr>
            <a:xfrm rot="2043600">
              <a:off x="2024280" y="5741640"/>
              <a:ext cx="169560" cy="226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9" name="TextBox 7"/>
          <p:cNvSpPr/>
          <p:nvPr/>
        </p:nvSpPr>
        <p:spPr>
          <a:xfrm>
            <a:off x="297000" y="1184400"/>
            <a:ext cx="4348080" cy="31395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This earthquake occurred as the result of normal faulting within the Solomon Sea (micro)Plate where it bends into the New Britain Trench to begin its descent beneath the Solomon Islands.  </a:t>
            </a:r>
            <a:endParaRPr b="0" lang="en-US" sz="1800" spc="-1" strike="noStrike">
              <a:solidFill>
                <a:srgbClr val="000000"/>
              </a:solidFill>
              <a:latin typeface="Arial"/>
            </a:endParaRPr>
          </a:p>
          <a:p>
            <a:pPr>
              <a:lnSpc>
                <a:spcPts val="19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ts val="19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The bending of the plate is associated with tension in the upper 20 km, and that tension causes shallow extensional earthquakes.  </a:t>
            </a:r>
            <a:endParaRPr b="0" lang="en-US" sz="1800" spc="-1" strike="noStrike">
              <a:solidFill>
                <a:srgbClr val="000000"/>
              </a:solidFill>
              <a:latin typeface="Arial"/>
            </a:endParaRPr>
          </a:p>
          <a:p>
            <a:pPr>
              <a:lnSpc>
                <a:spcPts val="19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ts val="19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1080" name="Group 2"/>
          <p:cNvGrpSpPr/>
          <p:nvPr/>
        </p:nvGrpSpPr>
        <p:grpSpPr>
          <a:xfrm>
            <a:off x="4992840" y="763560"/>
            <a:ext cx="3657600" cy="2741760"/>
            <a:chOff x="4992840" y="763560"/>
            <a:chExt cx="3657600" cy="2741760"/>
          </a:xfrm>
        </p:grpSpPr>
        <p:sp>
          <p:nvSpPr>
            <p:cNvPr id="1081" name="TextBox 1"/>
            <p:cNvSpPr/>
            <p:nvPr/>
          </p:nvSpPr>
          <p:spPr>
            <a:xfrm>
              <a:off x="6458760" y="2312280"/>
              <a:ext cx="1434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lomon Sea Plate</a:t>
              </a:r>
              <a:endParaRPr b="0" lang="en-US" sz="1000" spc="-1" strike="noStrike">
                <a:solidFill>
                  <a:srgbClr val="000000"/>
                </a:solidFill>
                <a:latin typeface="Arial"/>
              </a:endParaRPr>
            </a:p>
          </p:txBody>
        </p:sp>
        <p:sp>
          <p:nvSpPr>
            <p:cNvPr id="1082" name="TextBox 12"/>
            <p:cNvSpPr/>
            <p:nvPr/>
          </p:nvSpPr>
          <p:spPr>
            <a:xfrm>
              <a:off x="7431840" y="874080"/>
              <a:ext cx="121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cific Plate</a:t>
              </a:r>
              <a:endParaRPr b="0" lang="en-US" sz="1200" spc="-1" strike="noStrike">
                <a:solidFill>
                  <a:srgbClr val="000000"/>
                </a:solidFill>
                <a:latin typeface="Arial"/>
              </a:endParaRPr>
            </a:p>
          </p:txBody>
        </p:sp>
        <p:sp>
          <p:nvSpPr>
            <p:cNvPr id="1083" name="TextBox 13"/>
            <p:cNvSpPr/>
            <p:nvPr/>
          </p:nvSpPr>
          <p:spPr>
            <a:xfrm>
              <a:off x="5627160" y="3055320"/>
              <a:ext cx="1663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stralian Plate</a:t>
              </a:r>
              <a:endParaRPr b="0" lang="en-US" sz="1200" spc="-1" strike="noStrike">
                <a:solidFill>
                  <a:srgbClr val="000000"/>
                </a:solidFill>
                <a:latin typeface="Arial"/>
              </a:endParaRPr>
            </a:p>
          </p:txBody>
        </p:sp>
        <p:sp>
          <p:nvSpPr>
            <p:cNvPr id="1084" name="TextBox 15"/>
            <p:cNvSpPr/>
            <p:nvPr/>
          </p:nvSpPr>
          <p:spPr>
            <a:xfrm>
              <a:off x="5232240" y="1093680"/>
              <a:ext cx="16048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North Bismarck Plate</a:t>
              </a:r>
              <a:endParaRPr b="0" lang="en-US" sz="1000" spc="-1" strike="noStrike">
                <a:solidFill>
                  <a:srgbClr val="000000"/>
                </a:solidFill>
                <a:latin typeface="Arial"/>
              </a:endParaRPr>
            </a:p>
          </p:txBody>
        </p:sp>
        <p:sp>
          <p:nvSpPr>
            <p:cNvPr id="1085" name="TextBox 16"/>
            <p:cNvSpPr/>
            <p:nvPr/>
          </p:nvSpPr>
          <p:spPr>
            <a:xfrm>
              <a:off x="5672520" y="1465920"/>
              <a:ext cx="1483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th Bismarck Plate</a:t>
              </a:r>
              <a:endParaRPr b="0" lang="en-US" sz="1000" spc="-1" strike="noStrike">
                <a:solidFill>
                  <a:srgbClr val="000000"/>
                </a:solidFill>
                <a:latin typeface="Arial"/>
              </a:endParaRPr>
            </a:p>
          </p:txBody>
        </p:sp>
        <p:grpSp>
          <p:nvGrpSpPr>
            <p:cNvPr id="1086" name="Group 1"/>
            <p:cNvGrpSpPr/>
            <p:nvPr/>
          </p:nvGrpSpPr>
          <p:grpSpPr>
            <a:xfrm>
              <a:off x="4992840" y="763560"/>
              <a:ext cx="3657600" cy="2741760"/>
              <a:chOff x="4992840" y="763560"/>
              <a:chExt cx="3657600" cy="2741760"/>
            </a:xfrm>
          </p:grpSpPr>
          <p:grpSp>
            <p:nvGrpSpPr>
              <p:cNvPr id="1087" name="Group 4"/>
              <p:cNvGrpSpPr/>
              <p:nvPr/>
            </p:nvGrpSpPr>
            <p:grpSpPr>
              <a:xfrm>
                <a:off x="4992840" y="763560"/>
                <a:ext cx="3657600" cy="2741760"/>
                <a:chOff x="4992840" y="763560"/>
                <a:chExt cx="3657600" cy="2741760"/>
              </a:xfrm>
            </p:grpSpPr>
            <p:pic>
              <p:nvPicPr>
                <p:cNvPr id="1088" name="Picture 2" descr=""/>
                <p:cNvPicPr/>
                <p:nvPr/>
              </p:nvPicPr>
              <p:blipFill>
                <a:blip r:embed="rId3"/>
                <a:stretch/>
              </p:blipFill>
              <p:spPr>
                <a:xfrm>
                  <a:off x="4992840" y="763560"/>
                  <a:ext cx="3657600" cy="2741760"/>
                </a:xfrm>
                <a:prstGeom prst="rect">
                  <a:avLst/>
                </a:prstGeom>
                <a:ln w="0">
                  <a:noFill/>
                </a:ln>
              </p:spPr>
            </p:pic>
            <p:sp>
              <p:nvSpPr>
                <p:cNvPr id="1089" name="TextBox 3"/>
                <p:cNvSpPr/>
                <p:nvPr/>
              </p:nvSpPr>
              <p:spPr>
                <a:xfrm>
                  <a:off x="6982920" y="2529000"/>
                  <a:ext cx="895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Woodlark Basin</a:t>
                  </a:r>
                  <a:endParaRPr b="0" lang="en-US" sz="800" spc="-1" strike="noStrike">
                    <a:solidFill>
                      <a:srgbClr val="000000"/>
                    </a:solidFill>
                    <a:latin typeface="Arial"/>
                  </a:endParaRPr>
                </a:p>
              </p:txBody>
            </p:sp>
          </p:grpSp>
          <p:sp>
            <p:nvSpPr>
              <p:cNvPr id="1090" name="5-Point Star 31"/>
              <p:cNvSpPr/>
              <p:nvPr/>
            </p:nvSpPr>
            <p:spPr>
              <a:xfrm>
                <a:off x="7750440" y="222876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ffff00"/>
              </a:solidFill>
              <a:ln w="9360">
                <a:solidFill>
                  <a:srgbClr val="4a7ebb"/>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091"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1 BOUGAINVILLE REGION, PAPUA NEW GUINEA</a:t>
            </a:r>
            <a:br>
              <a:rPr sz="3500"/>
            </a:br>
            <a:r>
              <a:rPr b="1" lang="en-US" sz="1500" spc="-1" strike="noStrike">
                <a:solidFill>
                  <a:srgbClr val="11488b"/>
                </a:solidFill>
                <a:latin typeface="Arial"/>
              </a:rPr>
              <a:t>Thursday,  May 7, 2015 at 07:10:22 UTC </a:t>
            </a:r>
            <a:endParaRPr b="0" lang="en-US" sz="1500" spc="-1" strike="noStrike">
              <a:solidFill>
                <a:srgbClr val="000000"/>
              </a:solidFill>
              <a:latin typeface="Arial"/>
            </a:endParaRPr>
          </a:p>
        </p:txBody>
      </p:sp>
      <p:sp>
        <p:nvSpPr>
          <p:cNvPr id="1092" name="TextBox 8"/>
          <p:cNvSpPr/>
          <p:nvPr/>
        </p:nvSpPr>
        <p:spPr>
          <a:xfrm>
            <a:off x="5078520" y="5992920"/>
            <a:ext cx="37843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rmal faults produced by bending stress within oceanic plates prior to subduction are called “outer-rise” normal faults.</a:t>
            </a:r>
            <a:endParaRPr b="0" lang="en-US" sz="1400" spc="-1" strike="noStrike">
              <a:solidFill>
                <a:srgbClr val="000000"/>
              </a:solidFill>
              <a:latin typeface="Arial"/>
            </a:endParaRPr>
          </a:p>
        </p:txBody>
      </p:sp>
      <p:pic>
        <p:nvPicPr>
          <p:cNvPr id="1093" name="Picture 28" descr=""/>
          <p:cNvPicPr/>
          <p:nvPr/>
        </p:nvPicPr>
        <p:blipFill>
          <a:blip r:embed="rId4"/>
          <a:stretch/>
        </p:blipFill>
        <p:spPr>
          <a:xfrm>
            <a:off x="5180040" y="3719520"/>
            <a:ext cx="3429000" cy="23050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4" name="Picture 2" descr="20150507 PNG.JPG"/>
          <p:cNvPicPr/>
          <p:nvPr/>
        </p:nvPicPr>
        <p:blipFill>
          <a:blip r:embed="rId1"/>
          <a:srcRect l="0" t="2963" r="0" b="5281"/>
          <a:stretch/>
        </p:blipFill>
        <p:spPr>
          <a:xfrm>
            <a:off x="169920" y="1873080"/>
            <a:ext cx="8978760" cy="4632480"/>
          </a:xfrm>
          <a:prstGeom prst="rect">
            <a:avLst/>
          </a:prstGeom>
          <a:ln w="0">
            <a:noFill/>
          </a:ln>
        </p:spPr>
      </p:pic>
      <p:sp>
        <p:nvSpPr>
          <p:cNvPr id="109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6" name="Picture 18" descr="IRIS_TMlogo.png"/>
          <p:cNvPicPr/>
          <p:nvPr/>
        </p:nvPicPr>
        <p:blipFill>
          <a:blip r:embed="rId2"/>
          <a:stretch/>
        </p:blipFill>
        <p:spPr>
          <a:xfrm>
            <a:off x="239760" y="76320"/>
            <a:ext cx="903240" cy="927000"/>
          </a:xfrm>
          <a:prstGeom prst="rect">
            <a:avLst/>
          </a:prstGeom>
          <a:ln w="0">
            <a:noFill/>
          </a:ln>
        </p:spPr>
      </p:pic>
      <p:sp>
        <p:nvSpPr>
          <p:cNvPr id="1097" name="TextBox 7"/>
          <p:cNvSpPr/>
          <p:nvPr/>
        </p:nvSpPr>
        <p:spPr>
          <a:xfrm>
            <a:off x="239760" y="1168560"/>
            <a:ext cx="855648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cord of the earthquake on the University of Portland seismometer (UPOR) is illustrated below. Portland is 10,003 km (6216 miles, 90.1°) from the location of this earthquake. </a:t>
            </a:r>
            <a:endParaRPr b="0" lang="en-US" sz="1600" spc="-1" strike="noStrike">
              <a:solidFill>
                <a:srgbClr val="000000"/>
              </a:solidFill>
              <a:latin typeface="Arial"/>
            </a:endParaRPr>
          </a:p>
        </p:txBody>
      </p:sp>
      <p:sp>
        <p:nvSpPr>
          <p:cNvPr id="1098" name="TextBox 4"/>
          <p:cNvSpPr/>
          <p:nvPr/>
        </p:nvSpPr>
        <p:spPr>
          <a:xfrm>
            <a:off x="587520" y="1994040"/>
            <a:ext cx="733716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llowing the earthquake, it </a:t>
            </a:r>
            <a:r>
              <a:rPr b="0" lang="en-US" sz="1400" spc="-1" strike="noStrike">
                <a:solidFill>
                  <a:srgbClr val="000000"/>
                </a:solidFill>
                <a:latin typeface="Arial"/>
              </a:rPr>
              <a:t>took 13 minutes 1 second for </a:t>
            </a:r>
            <a:r>
              <a:rPr b="0" lang="en-US" sz="1400" spc="-1" strike="noStrike">
                <a:solidFill>
                  <a:srgbClr val="000000"/>
                </a:solidFill>
                <a:latin typeface="Arial"/>
              </a:rPr>
              <a:t>the compressional P waves to travel a curved path through the mantle from the earthquake to Portland, Oregon.</a:t>
            </a:r>
            <a:endParaRPr b="0" lang="en-US" sz="1400" spc="-1" strike="noStrike">
              <a:solidFill>
                <a:srgbClr val="000000"/>
              </a:solidFill>
              <a:latin typeface="Arial"/>
            </a:endParaRPr>
          </a:p>
        </p:txBody>
      </p:sp>
      <p:sp>
        <p:nvSpPr>
          <p:cNvPr id="1099" name="TextBox 6"/>
          <p:cNvSpPr/>
          <p:nvPr/>
        </p:nvSpPr>
        <p:spPr>
          <a:xfrm>
            <a:off x="5205240" y="5029200"/>
            <a:ext cx="37087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rface waves, both Love and Rayleigh, traveled the 10,003 km (6216 miles) along the perimeter of the Earth from the earthquake to the recording station. </a:t>
            </a:r>
            <a:endParaRPr b="0" lang="en-US" sz="1400" spc="-1" strike="noStrike">
              <a:solidFill>
                <a:srgbClr val="000000"/>
              </a:solidFill>
              <a:latin typeface="Arial"/>
            </a:endParaRPr>
          </a:p>
        </p:txBody>
      </p:sp>
      <p:sp>
        <p:nvSpPr>
          <p:cNvPr id="1100" name="TextBox 9"/>
          <p:cNvSpPr/>
          <p:nvPr/>
        </p:nvSpPr>
        <p:spPr>
          <a:xfrm>
            <a:off x="2514600" y="2743200"/>
            <a:ext cx="51814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 waves are shear waves that follow the same path through the mantle as P waves </a:t>
            </a:r>
            <a:r>
              <a:rPr b="0" lang="en-US" sz="1400" spc="-1" strike="noStrike">
                <a:solidFill>
                  <a:srgbClr val="000000"/>
                </a:solidFill>
                <a:latin typeface="Arial"/>
              </a:rPr>
              <a:t>and took 23 minutes 56 seconds </a:t>
            </a:r>
            <a:r>
              <a:rPr b="0" lang="en-US" sz="1400" spc="-1" strike="noStrike">
                <a:solidFill>
                  <a:srgbClr val="000000"/>
                </a:solidFill>
                <a:latin typeface="Arial"/>
              </a:rPr>
              <a:t>to arrive. </a:t>
            </a:r>
            <a:endParaRPr b="0" lang="en-US" sz="1400" spc="-1" strike="noStrike">
              <a:solidFill>
                <a:srgbClr val="000000"/>
              </a:solidFill>
              <a:latin typeface="Arial"/>
            </a:endParaRPr>
          </a:p>
        </p:txBody>
      </p:sp>
      <p:sp>
        <p:nvSpPr>
          <p:cNvPr id="1101"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1 BOUGAINVILLE REGION, PAPUA NEW GUINEA</a:t>
            </a:r>
            <a:br>
              <a:rPr sz="3500"/>
            </a:br>
            <a:r>
              <a:rPr b="1" lang="en-US" sz="1500" spc="-1" strike="noStrike">
                <a:solidFill>
                  <a:srgbClr val="11488b"/>
                </a:solidFill>
                <a:latin typeface="Arial"/>
              </a:rPr>
              <a:t>Thursday,  May 7, 2015 at 07:10:2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3" name="TextBox 9"/>
          <p:cNvSpPr/>
          <p:nvPr/>
        </p:nvSpPr>
        <p:spPr>
          <a:xfrm>
            <a:off x="762120" y="2408400"/>
            <a:ext cx="78595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rPr>
              <a:t>Teachable Moments are a service o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IS Education &amp; Public Outreach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niversity of Portland </a:t>
            </a:r>
            <a:endParaRPr b="0" lang="en-US" sz="1800" spc="-1" strike="noStrike">
              <a:solidFill>
                <a:srgbClr val="000000"/>
              </a:solidFill>
              <a:latin typeface="Arial"/>
            </a:endParaRPr>
          </a:p>
        </p:txBody>
      </p:sp>
      <p:pic>
        <p:nvPicPr>
          <p:cNvPr id="1104" name="Picture 8" descr="IRIS_TMlogo.png"/>
          <p:cNvPicPr/>
          <p:nvPr/>
        </p:nvPicPr>
        <p:blipFill>
          <a:blip r:embed="rId1"/>
          <a:stretch/>
        </p:blipFill>
        <p:spPr>
          <a:xfrm>
            <a:off x="239760" y="76320"/>
            <a:ext cx="903240" cy="927000"/>
          </a:xfrm>
          <a:prstGeom prst="rect">
            <a:avLst/>
          </a:prstGeom>
          <a:ln w="0">
            <a:noFill/>
          </a:ln>
        </p:spPr>
      </p:pic>
      <p:pic>
        <p:nvPicPr>
          <p:cNvPr id="1105" name="Picture 1" descr=""/>
          <p:cNvPicPr/>
          <p:nvPr/>
        </p:nvPicPr>
        <p:blipFill>
          <a:blip r:embed="rId2"/>
          <a:stretch/>
        </p:blipFill>
        <p:spPr>
          <a:xfrm>
            <a:off x="6210360" y="5181480"/>
            <a:ext cx="2705040" cy="1435320"/>
          </a:xfrm>
          <a:prstGeom prst="rect">
            <a:avLst/>
          </a:prstGeom>
          <a:ln w="0">
            <a:noFill/>
          </a:ln>
        </p:spPr>
      </p:pic>
      <p:pic>
        <p:nvPicPr>
          <p:cNvPr id="1106" name="Picture 2" descr=""/>
          <p:cNvPicPr/>
          <p:nvPr/>
        </p:nvPicPr>
        <p:blipFill>
          <a:blip r:embed="rId3"/>
          <a:stretch/>
        </p:blipFill>
        <p:spPr>
          <a:xfrm>
            <a:off x="503280" y="5334120"/>
            <a:ext cx="1460520" cy="1150920"/>
          </a:xfrm>
          <a:prstGeom prst="rect">
            <a:avLst/>
          </a:prstGeom>
          <a:ln w="0">
            <a:noFill/>
          </a:ln>
        </p:spPr>
      </p:pic>
      <p:pic>
        <p:nvPicPr>
          <p:cNvPr id="1107" name="Picture 1" descr=""/>
          <p:cNvPicPr/>
          <p:nvPr/>
        </p:nvPicPr>
        <p:blipFill>
          <a:blip r:embed="rId4"/>
          <a:stretch/>
        </p:blipFill>
        <p:spPr>
          <a:xfrm>
            <a:off x="3798720" y="5400720"/>
            <a:ext cx="1200240" cy="1206360"/>
          </a:xfrm>
          <a:prstGeom prst="rect">
            <a:avLst/>
          </a:prstGeom>
          <a:ln w="0">
            <a:noFill/>
          </a:ln>
        </p:spPr>
      </p:pic>
      <p:sp>
        <p:nvSpPr>
          <p:cNvPr id="1108"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1 BOUGAINVILLE REGION, PAPUA NEW GUINEA</a:t>
            </a:r>
            <a:br>
              <a:rPr sz="3500"/>
            </a:br>
            <a:r>
              <a:rPr b="1" lang="en-US" sz="1500" spc="-1" strike="noStrike">
                <a:solidFill>
                  <a:srgbClr val="11488b"/>
                </a:solidFill>
                <a:latin typeface="Arial"/>
              </a:rPr>
              <a:t>Thursday,  May 7, 2015 at 07:10:2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Kate</cp:lastModifiedBy>
  <cp:lastPrinted>2013-04-07T18:50:57Z</cp:lastPrinted>
  <dcterms:modified xsi:type="dcterms:W3CDTF">2015-05-08T00:09:40Z</dcterms:modified>
  <cp:revision>741</cp:revision>
  <dc:subject/>
  <dc:title>Slide 1</dc:title>
</cp:coreProperties>
</file>