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2.png" ContentType="image/png"/>
  <Override PartName="/ppt/media/image10.png" ContentType="image/png"/>
  <Override PartName="/ppt/media/image9.png" ContentType="image/png"/>
  <Override PartName="/ppt/media/image16.jpeg" ContentType="image/jpeg"/>
  <Override PartName="/ppt/media/image15.png" ContentType="image/png"/>
  <Override PartName="/ppt/media/image5.jpeg" ContentType="image/jpeg"/>
  <Override PartName="/ppt/media/image1.png" ContentType="image/png"/>
  <Override PartName="/ppt/media/image2.jpeg" ContentType="image/jpe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26"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PlaceHolder 2"/>
          <p:cNvSpPr>
            <a:spLocks noGrp="1"/>
          </p:cNvSpPr>
          <p:nvPr>
            <p:ph type="dt" idx="76"/>
          </p:nvPr>
        </p:nvSpPr>
        <p:spPr>
          <a:xfrm>
            <a:off x="4142880" y="0"/>
            <a:ext cx="317052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lt;date/time&gt;</a:t>
            </a:r>
            <a:endParaRPr b="0" lang="en-US" sz="1300" spc="-1" strike="noStrike">
              <a:solidFill>
                <a:srgbClr val="000000"/>
              </a:solidFill>
              <a:latin typeface="Arial"/>
            </a:endParaRPr>
          </a:p>
        </p:txBody>
      </p:sp>
      <p:sp>
        <p:nvSpPr>
          <p:cNvPr id="1028"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029"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0" name="PlaceHolder 5"/>
          <p:cNvSpPr>
            <a:spLocks noGrp="1"/>
          </p:cNvSpPr>
          <p:nvPr>
            <p:ph type="ftr" idx="77"/>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PlaceHolder 6"/>
          <p:cNvSpPr>
            <a:spLocks noGrp="1"/>
          </p:cNvSpPr>
          <p:nvPr>
            <p:ph type="sldNum" idx="78"/>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54629-7BD1-4D73-8EB9-3A0998222DB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257480" y="720720"/>
            <a:ext cx="4800600" cy="3600360"/>
          </a:xfrm>
          <a:prstGeom prst="rect">
            <a:avLst/>
          </a:prstGeom>
          <a:ln w="0">
            <a:noFill/>
          </a:ln>
        </p:spPr>
      </p:sp>
      <p:sp>
        <p:nvSpPr>
          <p:cNvPr id="111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11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7AAB6-585E-4304-A028-B3812DC10628}"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257480" y="720720"/>
            <a:ext cx="4800600" cy="3600360"/>
          </a:xfrm>
          <a:prstGeom prst="rect">
            <a:avLst/>
          </a:prstGeom>
          <a:ln w="0">
            <a:noFill/>
          </a:ln>
        </p:spPr>
      </p:sp>
      <p:sp>
        <p:nvSpPr>
          <p:cNvPr id="111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scalas de intensidad de movimiento fueron desarrolladas para estandarizar las mediciones y facilitar la comparación de diferentes terremotos. La modificación de la escala de intensidad de  Marcelli una escala de doce niveles, numeradas del  I al XII. Los números bajos representan los niveles de movimientos imperceptibles, XII representa destrucción total.</a:t>
            </a:r>
            <a:endParaRPr b="0" lang="en-US" sz="1200" spc="-1" strike="noStrike">
              <a:solidFill>
                <a:srgbClr val="000000"/>
              </a:solidFill>
              <a:latin typeface="Calibri"/>
            </a:endParaRPr>
          </a:p>
        </p:txBody>
      </p:sp>
      <p:sp>
        <p:nvSpPr>
          <p:cNvPr id="111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3C2B3-227B-45A0-BAEA-0739612FD973}"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257480" y="720720"/>
            <a:ext cx="4800600" cy="3600360"/>
          </a:xfrm>
          <a:prstGeom prst="rect">
            <a:avLst/>
          </a:prstGeom>
          <a:ln w="0">
            <a:noFill/>
          </a:ln>
        </p:spPr>
      </p:sp>
      <p:sp>
        <p:nvSpPr>
          <p:cNvPr id="111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D7AD8-CAE1-4919-9237-05405A630D9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257480" y="720720"/>
            <a:ext cx="4800600" cy="3600360"/>
          </a:xfrm>
          <a:prstGeom prst="rect">
            <a:avLst/>
          </a:prstGeom>
          <a:ln w="0">
            <a:noFill/>
          </a:ln>
        </p:spPr>
      </p:sp>
      <p:sp>
        <p:nvSpPr>
          <p:cNvPr id="11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95F4A-62C8-4AF3-8E52-F9DEF22B138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257480" y="720720"/>
            <a:ext cx="4800600" cy="3600360"/>
          </a:xfrm>
          <a:prstGeom prst="rect">
            <a:avLst/>
          </a:prstGeom>
          <a:ln w="0">
            <a:noFill/>
          </a:ln>
        </p:spPr>
      </p:sp>
      <p:sp>
        <p:nvSpPr>
          <p:cNvPr id="112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393996"/>
                </a:solidFill>
                <a:latin typeface="Calibri"/>
              </a:rPr>
              <a:t>Animación releva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Calibri"/>
              </a:rPr>
              <a:t>Mecanismo Focal del Terremoto </a:t>
            </a:r>
            <a:r>
              <a:rPr b="0" lang="es-VE" sz="1200" spc="-1" strike="noStrike">
                <a:solidFill>
                  <a:srgbClr val="000000"/>
                </a:solidFill>
                <a:latin typeface="Calibri"/>
              </a:rPr>
              <a:t>http://www.iris.edu/hq/programs/education_and_outreach/animations/25</a:t>
            </a:r>
            <a:endParaRPr b="0" lang="en-US" sz="1200" spc="-1" strike="noStrike">
              <a:solidFill>
                <a:srgbClr val="000000"/>
              </a:solidFill>
              <a:latin typeface="Calibri"/>
            </a:endParaRPr>
          </a:p>
        </p:txBody>
      </p:sp>
      <p:sp>
        <p:nvSpPr>
          <p:cNvPr id="112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2255D-6DB1-409C-BE81-C67522A2F984}"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257480" y="720720"/>
            <a:ext cx="4800600" cy="3600360"/>
          </a:xfrm>
          <a:prstGeom prst="rect">
            <a:avLst/>
          </a:prstGeom>
          <a:ln w="0">
            <a:noFill/>
          </a:ln>
        </p:spPr>
      </p:sp>
      <p:sp>
        <p:nvSpPr>
          <p:cNvPr id="11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12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9FCAB-E177-4C3E-ACDB-B6FDFD09B2A0}" type="slidenum">
              <a:rPr b="0" lang="en-US" sz="1100" spc="-1" strike="noStrike">
                <a:solidFill>
                  <a:srgbClr val="000000"/>
                </a:solidFill>
                <a:latin typeface="Calibri"/>
                <a:ea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257480" y="720720"/>
            <a:ext cx="4800600" cy="3600360"/>
          </a:xfrm>
          <a:prstGeom prst="rect">
            <a:avLst/>
          </a:prstGeom>
          <a:ln w="0">
            <a:noFill/>
          </a:ln>
        </p:spPr>
      </p:sp>
      <p:sp>
        <p:nvSpPr>
          <p:cNvPr id="113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483B6-0507-499A-B45C-56AF60C0D2B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03B024-68BC-4904-98ED-719A8FB1CF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BEAF9-44C1-4859-938B-A70D182E5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511728-0BD6-4C67-87A0-E04C3A2261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6A4834-F575-468F-9E91-8CD54E8FB5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CD11BF-CE3A-49E3-9EE5-BF9770D66B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2517B7-805B-4F2B-B587-C84835B97F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224BCE-C8E4-41B9-A6C8-CA0E63B485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448756-4D41-4282-98A6-6799FEBD88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3A7E5A-3F95-413B-9DA3-A47C0AD439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FF6A2F4-25D7-43C0-A827-C97BC7B66D5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87A4A5C-84D5-4C05-8D86-B5117F5CA6D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A27B2E7-4171-42F7-8AB7-78692A77423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4881AF-8AA6-49DA-B4DC-50E9D75F7D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7034FA2-5440-4233-889A-75C6537CBC8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D81AC24-0DB5-489A-BC39-C5B08D215E2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5FDC57B-841E-4606-9AA3-8BFAB2DCB2F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F20CF70-1C3D-4177-993A-F493639C8E9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67C249D-BD56-4601-AB14-DE283CD26D7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5F78E03-7115-44E9-B4E6-8BF3A7A483F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E6A384C-BFD1-4E4E-A94A-4D25A08A326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7528796-7D8B-4DF0-8F28-40524451067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88D0AEE-9406-4D63-82CA-D74B9B06DBC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07F3AFF-8573-453E-8140-617C8617A6D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D5A646-6C73-4B40-9CDC-3A9D840083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E816322-D731-4B32-9C4C-0239C960F23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E365391-35C9-445C-A487-EE179012D13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74802F1-CA45-4553-A0C3-773190C1214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85F2D6E-0B1E-42C6-A5E0-BB776B7D88D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80A3AFB-FA5E-41F6-8ED7-68F02FE78DF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0260B7D-F04D-4A2B-94A5-D788CBBD899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D3E14E4-7281-4AF8-85B2-0E02CD42A5B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5CBF66D-B156-460C-9B3E-FFCA7B6B0EE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5C3DCA7-138B-4F4E-B327-8BDE0B2D2B7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F444110-13C3-4DF1-8376-F53991B997E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158D1C-B563-40D1-8954-EA6C580301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1B9ACE1-EA48-49F4-8B5E-E94D5A75311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53835EC-C25D-48A6-9C0C-3869489E874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9E5DC16-933E-458C-BBDF-8056F5BAE43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237962D-19D8-4541-9C5B-10C8AE2D370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12D7A33-1488-4E19-B8F3-A79967D8768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1127C16-957B-4F9E-80FE-87D5936C087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D8500B3-B9E9-4A14-963D-EE53EEE5445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C35C203-85A0-4B87-9A97-8B819C0FC38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94C608B-5A7F-47D8-A01F-4069AFF594C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7F62379-9E40-4323-A1BC-842F4ABBB10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318EAE-36D6-4F63-97D7-A7F275E6BF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E26E524-73E9-4AF5-811C-BD539CB4F22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B80E5BC-60C9-4DC1-BD0D-7C1B500B8B6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1E7FB08-3748-4123-9980-3C693C65429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887EC9B-5BAD-4A7D-A011-6855F56E159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E330E85-6FBE-4398-908E-6040DFEAAD2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E5E9A42-C6F0-41A4-A62F-230F3100879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ECE8F57-544C-4734-909B-0C12EBCBBFF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6A33BA0-18FA-448A-8FE6-21868C8E7D3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0B50517-29A7-4CD3-8E4A-3387969A4D5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DA696EF-4EF0-49A5-A613-2D5A1984003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4465A8-3102-4DC7-AE3E-E1CCB4E582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EAE8CB9-804C-47F2-80CD-38D7824345C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0AB63D8-1E5D-4F2F-9C76-D47EBB35AD2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4BCD482-6DB3-457D-8234-19C9C0FA95B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4FAF65E-6FDD-4460-9012-2BE0B180BC4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AC217AF-36F9-47A0-B30C-83CB8FDF6CC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7163A2C-96DF-44D5-B6BA-3AE8E819E77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19D1AC9-9514-4F09-BEAC-CA99D70A361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5D6CA4B-FF0F-43CF-9784-7B88280C113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E54416D-05C2-411C-AC42-D5D5DE8145B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9E1E3E2-B2F9-4755-9861-A7CED883330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705996-1BC3-4E56-834C-963945F3F3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85FD7C5-E27D-4DBA-BC1E-15377CF27D8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E718EE1-B463-49DB-BBAC-B28703BFBC7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42C4DE2-57C3-4AE6-AA7D-63F59BFBF17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1C4C2AB-1379-4FEC-829A-E5D75BE3279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F7CF17A-49C4-4EC1-8552-74E1E009EF7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676AFC6-607C-45E5-853E-6A2EED98A57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EEA3EBC-86C5-4CD9-9884-EB6BE7D4A1F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2CEE311-D7F0-4080-B1C2-91E7F58358F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249398D-B612-49F4-809D-02EE98C6335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556FFAC-6CCC-4522-B4D4-E467A7FCE89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6D91A0-1940-449A-832D-B1D60B6D75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288E17D-5E88-462F-ACD0-F99458695E0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3A5E8B5-891B-4B27-943B-1950C554763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9724612-B3B8-4BB4-A101-ED82E7F0FE3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3761D65-0A65-4FE0-876C-E4E15C1795F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16C1E16-68CA-4DEC-B99B-BCD38BBD184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259E3BB-18EB-4411-B29E-F6117020B31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653BC01-F041-490B-9B71-A0432A08A57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EBC39C4-5ABF-4001-9A01-D7777EC8314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9678FAC-3EB1-4B30-A393-D22D2D4B335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4EA8F62-7C9F-4957-B3EF-8618C435384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B25578-E65D-49A9-B290-963CB27A38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5D29540-BDC0-4072-B618-1835CD4C8E2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F286E04-22DC-4D10-8002-B17C5779D57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27CF0AF-E1BC-453C-BBD2-0AA888117A7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55053E0-56F8-4B12-A237-5322C1B3394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4B8C7DD-5B26-4FD7-8DD7-B0885B2A18F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D54D807-7D07-4C0D-911E-0F1BD021911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6732FD2-616D-4A85-9A99-C41597304FE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1898A9D-A904-414E-A417-82EF2A12ADD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BEA1CA3-9DCD-418B-9476-1E9029AC07F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17A55CB-BFE0-44D2-845F-8A2AD503FFF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CCC00C-77EA-4EA7-BA1E-5AEC517265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2D26ECE-AA88-4715-A766-D4A78D9F8F6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E8BE5B4-8B80-4343-B54C-390A63B83F0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84C887C-0B82-4040-9CB1-49EF02A0A9E0}"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052D21D0-3549-46B2-AA21-4FF48D01B218}"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2053605-AE45-4067-BB19-C07C1ECBE96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60740BE-A11A-48EF-8E7B-3E6EADEC9A3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5C07787-776C-4D02-9B3B-0A7E43FB3F1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CD2B34C-A6D6-44F2-84E4-BE05C8604AB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24B8CE5-5BA2-4A5A-8946-FCC2BBC6DF7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C266E32-48BD-452B-A31E-87C7D6A2F32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8133A-F86E-4F7A-B021-F609003D9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25367A-25BF-4115-9C74-675D035EE9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CA3D402-68E2-431C-9D60-7A24FE7FE7E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11BD895-80F4-454C-ACD6-8292B6C9555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A671973-D864-46EC-B111-B9B3EFDE7CD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65160054-FD92-46A2-B29E-E33B62A121C4}"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F4172FAA-5D88-4FA5-8E96-075B570032B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36E6EE12-5B62-42AC-8ABC-01428FBE691B}"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053F44D-597B-470F-9F02-F154355ED31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6484D9C-6A43-4CC9-8A21-1966D4D0167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5F2C335-B49B-436A-8138-0FC51A31A11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22EFF8D-3658-477A-B88C-AD3F88C3B11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254081-7026-4A56-8D20-5AAE9AEF32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7CFA5D8-1A4B-426B-BE98-6B7D607DF28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5041D1A-3F68-42F0-A1AF-8553A76456D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A706C0A-0BBF-455D-93DF-AD3B8C8B2D2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9158721-7B09-4B12-858C-F9E609F20EA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050F24A-FD39-407C-951C-8DC46FDDDF0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7A5AFEC7-F0FC-401A-9442-00131916AC51}"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402FC40C-25E3-4849-A7A7-2F9FB3F097C7}"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B3029CE0-C0D2-4C16-B701-A33A134617BD}"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4509E9D-45D6-4F0B-927F-98AF57EFB47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16895A6-C051-4452-97D2-A582F7AC635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57966B-1CFE-4F78-B881-AB3D417450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272D633-3704-4CA7-BBC6-0D2F88A6102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1D612BB-CC07-4753-8FDB-11C97AA7262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9F13117-B67E-42E1-AF01-F2C43FE5822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F656047-3085-4322-8C1B-80B1FC4C6C6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C50B659-D1DD-4B40-9157-0758E8426E7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0A808BA-C029-4B85-9FC7-3A87B4AF684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080EF1C-2749-4358-8786-34208E83374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940DA86D-4F44-440C-B8C2-864367A0B63B}"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DBECEE32-0857-4A2C-829C-DF8BD345AEED}"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AE6E16B0-EFA3-4D9A-8D11-F1AD27B50B47}"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FC5147-1D6B-4F21-8DF2-468583EFF0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88876C3-9996-45B2-BF3E-7ACD10660E4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E275DCA-7629-467E-8E00-554284A5D1B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4D79E2F-1435-4997-AB51-89C1D927FA1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21226A7-A379-4487-9D1A-39D8FE2079F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0C3B2AD-E611-41FC-994C-15ABC6B162B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004DB73-DB26-4A1B-9BE0-CAB93FD53B6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D4957BB-E4CC-40E0-9A98-A7AF17040C4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1743949-4D90-4997-B899-850B71A953E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3C6A250-374D-4CCB-BEF1-050D59B1227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63F3C711-4397-42CD-BCAC-050663D0D85E}"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585264-2A91-44E8-A2BC-9AAC3581B2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A4FE973B-31B8-4836-9970-C41BCED61520}"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B3017499-6262-42F0-B9BA-50A1493C29FA}"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07E23CA4-A51D-4B41-87D0-41DC62C5D77B}"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95FD950-0A96-4B4F-BD8F-C871BFB00BA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8ACAD3C-2977-4CA6-885B-AE0AD3D64C1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AE552E8-2342-443E-A56D-2634C0B166D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588E63E-3D73-4513-94C2-1044D7FAD31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CDE4E7E-F3C2-4883-BA30-9A2F76E0C5A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35754FB-5830-4FAA-9309-3E02D30D4F6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83239A1-D88C-4781-86CF-4136EB3E90E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B0D3ED-BFEA-4DD4-B04C-D48A98034E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E4DEAE4-65BB-4420-B5E8-126F2A6D56C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3C6957DB-BA51-4189-A4D1-32D708F3AFA8}"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68270FD6-4330-47A7-990F-F9EC363ED861}"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0A1B9CB9-E519-4B0C-BD1E-1CFBC048FAB3}"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07B56153-7151-4AD6-9291-39492B9EE3B3}"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B728D488-3DBE-472C-AA85-36DEBB777D53}"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D0C6C611-8220-42C0-BB43-F261ECEFB389}"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87E32889-75F9-4467-943D-E3C8D632BC6F}"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6F33715D-FCF9-4A27-93A3-DD87CA09DA81}"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455FBD9-7195-40B6-AE94-EFF56F8404A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7CB594-DB5A-4E3F-A7BF-363DA4660D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7CE8CE6-FFE0-43DC-AE88-5415216B5A7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4F0CFD2-8231-46D2-8C92-160520AA0A5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A5E6B5D-19DF-45A3-8B03-C99E8E6A83B3}"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6C406304-F75E-481A-9843-6C75885E624E}"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D190C8F8-4080-4310-B317-5B5ABA2F8C82}"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F2A45EA5-E980-4AA7-893A-CD62D63A92D6}"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4AC6749F-2E6C-4986-B8F0-03EE4BAA09F7}"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306460D3-EC04-4081-85A6-FEE0B0903D37}"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45AB265-074C-47DD-972F-432E7F465C8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222911C5-D0F4-43A0-8715-CF176603821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9C1E11-7B80-47FF-A138-FEE2FFFF33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0FF1364-D396-4AF8-9BAA-344C5BA9E8E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CA5A4F7-1724-4843-AFE6-C5303587D51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72B2043-373E-4433-A814-600EDEF9C98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1986454-7E3E-403A-8D44-083E209DC79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E351D57C-F425-4A3A-B9A3-554A7413A569}"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9CD1FA9A-D50B-45E2-8FBA-77D14EA2E64D}"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2E33FF77-CC93-4E74-94CF-21E53A5F6DA0}"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DAC5A583-BD26-44A3-8667-685257938D58}"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6EE5C8E3-6403-4AD0-ACFD-8FF897DB9A61}"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A8B8C6B9-F394-4870-9886-18F85EC47B38}"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666FDC-5B9D-47DD-885F-A13A258116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07FCED06-298C-4248-8BEA-2417E042BD45}"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752414E5-62B3-4478-8FB2-22D3BD48D51C}"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6867E28F-7A69-40E1-9096-90BB2F23CAB1}"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B83B844-6A85-46A2-9ED2-091D69F65DC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E1DB26A-58B8-421B-8FDC-802244A7B69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E6695DC-BF6D-436E-9A1E-11F0EC2DEB6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CC9F70DF-A827-4B3E-8687-A5984D91CA21}"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7DCEF4A8-BA53-42F5-8CB9-0BAA3428F96E}"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3B6E7149-1314-4CAD-A072-357DDB678BC5}"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558AC74B-405E-43DB-8B3F-5C862B8B0DFA}"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E027CA-3BE4-4488-B1EC-903267B1C8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8ADC08C6-C593-4B21-93FF-EDCF2C4F9C09}"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82C8BB9B-1CD1-426A-9EEF-49AA32EF48AE}"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DA953AED-37DA-4DF0-A312-EE595833BEFE}"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DFFC348D-FB48-46AB-AEA6-E16FCBD26D11}"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FF08AB48-C08E-4343-85C3-AA14887D5E66}"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E67B062-D287-441E-8E95-1608AD51569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9E83C4D-30CE-4FAA-97A6-BCB7DEC2C04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EEA00CA-E507-4B52-AFED-1DC5961A102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07A9AE83-C03E-46BD-A897-7C70B77C39DD}"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697DC9F7-D6FA-4B9C-AA53-14ADF4E5FFCB}"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8C635-61C6-43C4-8306-E8ABCF4E3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0385E2-8510-4463-85DD-E35EBB5B50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36EFDB84-7CFA-4914-8FE0-E12DB156F236}"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6385F3-AEE8-4CAD-8D84-4E41CF606B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029CA2-1B38-49A9-87E6-8309D93910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EB0901-3D2B-4785-9D75-8B125B7B82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42FE71-2B0D-4781-9D5F-6D63859B5C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FE8D8D-2F64-42B8-B3A4-45B6D9D800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5EE71B-E6B0-4B9D-BD61-15C03671C8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B48146E-CF98-4B2E-B22C-BEC23F3B80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A29678-70A6-4011-9694-306CA0F461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989F83-3773-4F4E-A228-C4AFCDE5DD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9D1BB-DB44-4DCA-950E-E639F24ED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90875B-38CA-48D1-84D0-9E5AC0741A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EF1DF9-F299-4BFF-BC9F-800D5E8D1C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E08795-137C-4F22-BDD7-CBD9D7C8C4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EC1B61-2EA8-4012-8D85-003332939B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265C39-5981-4990-8963-1434684C84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A17655-0FBF-4602-937E-D055883CF3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3AC141-38B1-40E6-9C5D-7090F97B83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B5C212-12D9-44FC-9444-FAB99C5128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0D51AE-B2E4-4041-9A3A-610E8285EA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5AFA3D5-8FB0-4457-8FDE-3A3962FFA4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F5A38-9090-4A16-9C2D-A9B4948E1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3C2817-61BE-4452-B0B4-D1F1B9C087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D427A1-1C5D-4BBE-A35B-C2A30A9781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553D14-B598-4401-B4D2-9A0688A8B6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2D8506-8C79-441D-AFD9-EFCA914610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C7E847-1ED9-4E5E-A83E-2370A51407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5AFCA9-BBCB-44A1-92AF-3C35AF67E9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B17969-D497-45CE-9612-296732ED2A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970DA9-B31B-4274-A268-290006ADD1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CD763B-6212-4319-9520-35233B74C4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88C17B-482A-4C23-B69A-D163215D53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03FA2-CB60-475A-A67B-40CF2FE14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786426-A38F-4CFF-89FE-5C0C671BEB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473DCDD-9747-4090-845E-BA9D68D444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CD8D20-755D-4C70-82B5-718ED66F87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F66370-7C9A-4143-848F-DE3D91342A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46D417-0854-472C-9FF6-8D59912503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4D1CD1-D052-4145-BFA7-28F4DC546A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2EBCC8-5615-4E19-9D86-A6813C4863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167B2A-98A6-4102-B836-7097357FB6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7E995C-CA92-4E40-8A25-06932DEE5F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7AC23C-89EB-4D28-855A-6B552138D9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89207-EBC2-49E1-BE82-808E1E72F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3E3872-4112-4A5B-A0EC-69196CF233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2C67B88-2739-42E7-88C5-377D98EF8D5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1C08AEC-E2DD-4CE4-9373-BE532EE45A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79DD221-57A2-4CE5-9BF7-B7EB65A8FE8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3312E7-D4C6-4EC9-953E-69960F32CC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450B43-5886-4A98-999A-17D4F63610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F23CC1-780B-4C59-BAF1-339940BA40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B73703-83D6-4029-BF7C-B8A9E1D4A8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5C96A6-902C-467C-95FF-20728DE39A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335E81-4650-4547-9384-EE557B9347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2507D-9844-4CC2-917E-50324D246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C492AF-E789-4E7A-992B-A39ED06C2C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621E6A-F808-40AA-96D1-16C2C54C4F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D06982-7F69-4893-8672-7F34CF9BB1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060B541-1658-4C48-9D46-718AF74F094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BFF724C-E879-45E2-A24B-30FD6EFEAD9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6EC6F4D-3894-45FD-B1AE-B86386723BC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A4F1C1-3A7C-41FD-9BFE-D3675826F7A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9CBF4D-F67F-4ABD-8AE3-A81E1A169BA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08A5E9-B9FD-4406-9FEA-393068B743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4663C6-975D-4C87-B4AF-11F22ADB6D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1698C-F0A5-41B9-8A76-38FF180C7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7E99C5-F8C0-4186-B9D4-A2CAAFDD64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EBB569-E349-484D-B012-2202639B30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3D324A-EF9A-478A-B1B0-71356C229D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EFBFF7-94E4-4BA3-8E0B-473B5E32A9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C9BA99-7FF6-4B1E-9905-8CA19B962D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13CC34D-DFF4-46AA-9C0B-46B0A4F7216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133B95D-D8B7-453A-B815-11B6F06433E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0606594-0229-4FF7-999E-B788742461E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E3A3137-9F64-45C3-B408-B08B7BD74C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68DA07-3EB2-4201-9861-4CFE810B475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200C0-9EA5-4D18-8822-D71ACAB99D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9356F-668F-414F-8B82-DD50C3B5923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3786D-E13E-452F-9D86-D48D2972F95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5F6EA-A099-4EBC-AAC7-D269C457ACF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FB34B-818A-4DE4-BD68-C961637097C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5"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536"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87C22-2CA6-4D58-BFBA-F9B166DC800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6"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577"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31457-36E5-421A-A14F-91D0CAC062E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618"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E3D9D-0DCB-4FD7-92D9-489172FC25A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58"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659"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A317D-E8B4-4CD1-906B-37AD2D110D7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9"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700"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490A0-C813-4636-B412-29E458B1F32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40"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741"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04AA1-102E-4AD3-AB13-7B4648BA6E3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1D03DE-137C-43DC-B647-140AD916DC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81"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782"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726ED-D7DF-4A6A-83E8-5C5931CED2C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2"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823"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8FAD0-F2CF-4DD5-AB01-83D0DEB421E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3"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864"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2DF75-6A86-4B12-892C-DDDA0F11133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4"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905"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C0FDB-48D5-4096-B15E-47899239407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45"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946"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B717E-6EC9-4A3E-847A-B4AA07ECDCB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86"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987"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AFF33-0D8A-4150-B5E4-E2247FC7F2A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030DE8-64D0-4A1C-855B-CB2A54F7C3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279E4-EF7E-463B-84DE-5A06502719A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4EF12-7845-4B38-8475-9F2FE7DC02D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BE942-7044-4D95-BA94-9399A0919E7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08D65-0FE6-48E7-96FA-E39D5EAF0A1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3DB72-3361-42BA-B6E2-BBE9BD6232E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43C9F-A3FB-4A0F-941C-520071CC3DE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37.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3" name="Picture 8" descr="IRIS_TMlogo.png"/>
          <p:cNvPicPr/>
          <p:nvPr/>
        </p:nvPicPr>
        <p:blipFill>
          <a:blip r:embed="rId1"/>
          <a:stretch/>
        </p:blipFill>
        <p:spPr>
          <a:xfrm>
            <a:off x="239760" y="76320"/>
            <a:ext cx="903240" cy="927000"/>
          </a:xfrm>
          <a:prstGeom prst="rect">
            <a:avLst/>
          </a:prstGeom>
          <a:ln w="0">
            <a:noFill/>
          </a:ln>
        </p:spPr>
      </p:pic>
      <p:sp>
        <p:nvSpPr>
          <p:cNvPr id="1034" name="TextBox 14"/>
          <p:cNvSpPr/>
          <p:nvPr/>
        </p:nvSpPr>
        <p:spPr>
          <a:xfrm>
            <a:off x="241200" y="947880"/>
            <a:ext cx="7074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Un fuerte terremoto de magnitud 7.1 golpeó la costa occidental de la isla de Bougainville el jueves, aproximadamente 144 km (89 millas) al suroeste de Panguna. No hubo reportes inmediatos de daños o víctim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Según el Servicio Geológico de los EEUU, las características del sismo son consistentes con su aparición cerca de lo que se ha denominado la región de elevación exterior de la zona de subducción, en lugar de más al norte en la interfaz (empuje) del límite de placa.</a:t>
            </a:r>
            <a:endParaRPr b="0" lang="en-US" sz="1800" spc="-1" strike="noStrike">
              <a:solidFill>
                <a:srgbClr val="000000"/>
              </a:solidFill>
              <a:latin typeface="Arial"/>
            </a:endParaRPr>
          </a:p>
        </p:txBody>
      </p:sp>
      <p:pic>
        <p:nvPicPr>
          <p:cNvPr id="1035" name="Picture 2" descr=""/>
          <p:cNvPicPr/>
          <p:nvPr/>
        </p:nvPicPr>
        <p:blipFill>
          <a:blip r:embed="rId2"/>
          <a:stretch/>
        </p:blipFill>
        <p:spPr>
          <a:xfrm>
            <a:off x="7315200" y="681120"/>
            <a:ext cx="1681200" cy="1681200"/>
          </a:xfrm>
          <a:prstGeom prst="rect">
            <a:avLst/>
          </a:prstGeom>
          <a:ln w="0">
            <a:noFill/>
          </a:ln>
        </p:spPr>
      </p:pic>
      <p:sp>
        <p:nvSpPr>
          <p:cNvPr id="1036"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1" lang="es-VE" sz="1800" spc="-1" strike="noStrike">
                <a:solidFill>
                  <a:srgbClr val="11488b"/>
                </a:solidFill>
                <a:latin typeface="Arial"/>
              </a:rPr>
              <a:t>Magnitud 7.1 REGIÓN DE BOUGAINVILLE, PAPÚA NUEVA GUINEA</a:t>
            </a:r>
            <a:br>
              <a:rPr sz="3200"/>
            </a:br>
            <a:r>
              <a:rPr b="1" lang="es-VE" sz="1400" spc="-1" strike="noStrike">
                <a:solidFill>
                  <a:srgbClr val="11488b"/>
                </a:solidFill>
                <a:latin typeface="Arial"/>
              </a:rPr>
              <a:t>Martes, 7 de Mayo, 2015 a las 07:10:22 UTC </a:t>
            </a:r>
            <a:endParaRPr b="0" lang="en-US" sz="1400" spc="-1" strike="noStrike">
              <a:solidFill>
                <a:srgbClr val="000000"/>
              </a:solidFill>
              <a:latin typeface="Arial"/>
            </a:endParaRPr>
          </a:p>
        </p:txBody>
      </p:sp>
      <p:grpSp>
        <p:nvGrpSpPr>
          <p:cNvPr id="1037" name="Group 2"/>
          <p:cNvGrpSpPr/>
          <p:nvPr/>
        </p:nvGrpSpPr>
        <p:grpSpPr>
          <a:xfrm>
            <a:off x="914400" y="3886200"/>
            <a:ext cx="7601040" cy="2819520"/>
            <a:chOff x="914400" y="3886200"/>
            <a:chExt cx="7601040" cy="2819520"/>
          </a:xfrm>
        </p:grpSpPr>
        <p:pic>
          <p:nvPicPr>
            <p:cNvPr id="1038" name="Picture 1" descr=""/>
            <p:cNvPicPr/>
            <p:nvPr/>
          </p:nvPicPr>
          <p:blipFill>
            <a:blip r:embed="rId3"/>
            <a:stretch/>
          </p:blipFill>
          <p:spPr>
            <a:xfrm>
              <a:off x="914400" y="3886200"/>
              <a:ext cx="7601040" cy="2819520"/>
            </a:xfrm>
            <a:prstGeom prst="rect">
              <a:avLst/>
            </a:prstGeom>
            <a:ln w="0">
              <a:noFill/>
            </a:ln>
          </p:spPr>
        </p:pic>
        <p:sp>
          <p:nvSpPr>
            <p:cNvPr id="1039" name="TextBox 1"/>
            <p:cNvSpPr/>
            <p:nvPr/>
          </p:nvSpPr>
          <p:spPr>
            <a:xfrm>
              <a:off x="6705720" y="4800600"/>
              <a:ext cx="1809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ougainville Island</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0" name="Picture 1" descr=""/>
          <p:cNvPicPr/>
          <p:nvPr/>
        </p:nvPicPr>
        <p:blipFill>
          <a:blip r:embed="rId1"/>
          <a:stretch/>
        </p:blipFill>
        <p:spPr>
          <a:xfrm>
            <a:off x="4267080" y="1447920"/>
            <a:ext cx="4489560" cy="4535280"/>
          </a:xfrm>
          <a:prstGeom prst="rect">
            <a:avLst/>
          </a:prstGeom>
          <a:ln w="0">
            <a:noFill/>
          </a:ln>
        </p:spPr>
      </p:pic>
      <p:sp>
        <p:nvSpPr>
          <p:cNvPr id="104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2" name="Picture 12" descr="scale.jpg"/>
          <p:cNvPicPr/>
          <p:nvPr/>
        </p:nvPicPr>
        <p:blipFill>
          <a:blip r:embed="rId2"/>
          <a:stretch/>
        </p:blipFill>
        <p:spPr>
          <a:xfrm>
            <a:off x="380880" y="4070520"/>
            <a:ext cx="2127240" cy="2319120"/>
          </a:xfrm>
          <a:prstGeom prst="rect">
            <a:avLst/>
          </a:prstGeom>
          <a:ln w="0">
            <a:noFill/>
          </a:ln>
        </p:spPr>
      </p:pic>
      <p:pic>
        <p:nvPicPr>
          <p:cNvPr id="1043" name="Picture 8" descr="IRIS_TMlogo.png"/>
          <p:cNvPicPr/>
          <p:nvPr/>
        </p:nvPicPr>
        <p:blipFill>
          <a:blip r:embed="rId3"/>
          <a:stretch/>
        </p:blipFill>
        <p:spPr>
          <a:xfrm>
            <a:off x="239760" y="76320"/>
            <a:ext cx="903240" cy="927000"/>
          </a:xfrm>
          <a:prstGeom prst="rect">
            <a:avLst/>
          </a:prstGeom>
          <a:ln w="0">
            <a:noFill/>
          </a:ln>
        </p:spPr>
      </p:pic>
      <p:sp>
        <p:nvSpPr>
          <p:cNvPr id="1044" name="5-Point Star 13"/>
          <p:cNvSpPr/>
          <p:nvPr/>
        </p:nvSpPr>
        <p:spPr>
          <a:xfrm>
            <a:off x="6400800" y="350532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ffff00"/>
          </a:solidFill>
          <a:ln w="9360">
            <a:solidFill>
              <a:srgbClr val="4a7ebb"/>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5"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1" lang="es-VE" sz="1800" spc="-1" strike="noStrike">
                <a:solidFill>
                  <a:srgbClr val="11488b"/>
                </a:solidFill>
                <a:latin typeface="Arial"/>
              </a:rPr>
              <a:t>Magnitud 7.1 REGIÓN DE BOUGAINVILLE, PAPÚA NUEVA GUINEA</a:t>
            </a:r>
            <a:br>
              <a:rPr sz="3200"/>
            </a:br>
            <a:r>
              <a:rPr b="1" lang="es-VE" sz="1400" spc="-1" strike="noStrike">
                <a:solidFill>
                  <a:srgbClr val="11488b"/>
                </a:solidFill>
                <a:latin typeface="Arial"/>
              </a:rPr>
              <a:t>Martes, 7 de Mayo, 2015 a las 07:10:22 UTC </a:t>
            </a:r>
            <a:endParaRPr b="0" lang="en-US" sz="1400" spc="-1" strike="noStrike">
              <a:solidFill>
                <a:srgbClr val="000000"/>
              </a:solidFill>
              <a:latin typeface="Arial"/>
            </a:endParaRPr>
          </a:p>
        </p:txBody>
      </p:sp>
      <p:sp>
        <p:nvSpPr>
          <p:cNvPr id="1046" name="TextBox 15"/>
          <p:cNvSpPr/>
          <p:nvPr/>
        </p:nvSpPr>
        <p:spPr>
          <a:xfrm>
            <a:off x="212760" y="1170000"/>
            <a:ext cx="3722760" cy="216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La escala de Intensidad Mercalli Modificada (MMI) describe la severidad de los movimientos telúricos.</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Las Islas más cercanas experimentaron fuertes movimientos telúricos debido a este terremoto.</a:t>
            </a:r>
            <a:endParaRPr b="0" lang="en-US" sz="1700" spc="-1" strike="noStrike">
              <a:solidFill>
                <a:srgbClr val="000000"/>
              </a:solidFill>
              <a:latin typeface="Arial"/>
            </a:endParaRPr>
          </a:p>
        </p:txBody>
      </p:sp>
      <p:sp>
        <p:nvSpPr>
          <p:cNvPr id="1047" name="TextBox 13"/>
          <p:cNvSpPr/>
          <p:nvPr/>
        </p:nvSpPr>
        <p:spPr>
          <a:xfrm>
            <a:off x="271440" y="3686040"/>
            <a:ext cx="300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rPr>
              <a:t>Intensidad de Mercalli modificada</a:t>
            </a:r>
            <a:endParaRPr b="0" lang="en-US" sz="1200" spc="-1" strike="noStrike">
              <a:solidFill>
                <a:srgbClr val="000000"/>
              </a:solidFill>
              <a:latin typeface="Arial"/>
            </a:endParaRPr>
          </a:p>
        </p:txBody>
      </p:sp>
      <p:sp>
        <p:nvSpPr>
          <p:cNvPr id="1048" name="TextBox 14"/>
          <p:cNvSpPr/>
          <p:nvPr/>
        </p:nvSpPr>
        <p:spPr>
          <a:xfrm>
            <a:off x="2576520" y="3527280"/>
            <a:ext cx="1538280" cy="292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Percibida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 </a:t>
            </a:r>
            <a:r>
              <a:rPr b="1" lang="es-VE" sz="1400" spc="-1" strike="noStrike">
                <a:solidFill>
                  <a:srgbClr val="000000"/>
                </a:solidFill>
                <a:latin typeface="Arial"/>
              </a:rPr>
              <a:t>Temblor</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c00000"/>
                </a:solidFill>
                <a:latin typeface="Arial"/>
              </a:rPr>
              <a:t>Extremo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Arial"/>
              </a:rPr>
              <a:t>Violent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Sev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Muy 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00"/>
                </a:solidFill>
                <a:latin typeface="Arial"/>
              </a:rPr>
              <a:t>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Moderad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ig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Débil</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Imperceptible</a:t>
            </a:r>
            <a:endParaRPr b="0" lang="en-US" sz="1400" spc="-1" strike="noStrike">
              <a:solidFill>
                <a:srgbClr val="000000"/>
              </a:solidFill>
              <a:latin typeface="Arial"/>
            </a:endParaRPr>
          </a:p>
        </p:txBody>
      </p:sp>
      <p:sp>
        <p:nvSpPr>
          <p:cNvPr id="1049" name="TextBox 15"/>
          <p:cNvSpPr/>
          <p:nvPr/>
        </p:nvSpPr>
        <p:spPr>
          <a:xfrm>
            <a:off x="152280" y="6550200"/>
            <a:ext cx="4800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sp>
        <p:nvSpPr>
          <p:cNvPr id="1050" name="TextBox 15"/>
          <p:cNvSpPr/>
          <p:nvPr/>
        </p:nvSpPr>
        <p:spPr>
          <a:xfrm>
            <a:off x="3962520" y="6308640"/>
            <a:ext cx="5257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USGS Intensidad de Movimiento Estimada del Terremoto M7.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2" name="Picture 8" descr="IRIS_TMlogo.png"/>
          <p:cNvPicPr/>
          <p:nvPr/>
        </p:nvPicPr>
        <p:blipFill>
          <a:blip r:embed="rId1"/>
          <a:stretch/>
        </p:blipFill>
        <p:spPr>
          <a:xfrm>
            <a:off x="239760" y="76320"/>
            <a:ext cx="903240" cy="927000"/>
          </a:xfrm>
          <a:prstGeom prst="rect">
            <a:avLst/>
          </a:prstGeom>
          <a:ln w="0">
            <a:noFill/>
          </a:ln>
        </p:spPr>
      </p:pic>
      <p:sp>
        <p:nvSpPr>
          <p:cNvPr id="1053" name="TextBox 18"/>
          <p:cNvSpPr/>
          <p:nvPr/>
        </p:nvSpPr>
        <p:spPr>
          <a:xfrm>
            <a:off x="-4724280" y="1295280"/>
            <a:ext cx="4405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GS PAGER map shows the population exposed to different Modified Mercalli Intensity (MMI) leve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9,000 people experienced moderate shaking from this earthquake.</a:t>
            </a:r>
            <a:endParaRPr b="0" lang="en-US" sz="1800" spc="-1" strike="noStrike">
              <a:solidFill>
                <a:srgbClr val="000000"/>
              </a:solidFill>
              <a:latin typeface="Arial"/>
            </a:endParaRPr>
          </a:p>
        </p:txBody>
      </p:sp>
      <p:pic>
        <p:nvPicPr>
          <p:cNvPr id="1054" name="Picture 2" descr=""/>
          <p:cNvPicPr/>
          <p:nvPr/>
        </p:nvPicPr>
        <p:blipFill>
          <a:blip r:embed="rId2"/>
          <a:stretch/>
        </p:blipFill>
        <p:spPr>
          <a:xfrm>
            <a:off x="4876920" y="1295280"/>
            <a:ext cx="4082760" cy="4202280"/>
          </a:xfrm>
          <a:prstGeom prst="rect">
            <a:avLst/>
          </a:prstGeom>
          <a:ln w="0">
            <a:noFill/>
          </a:ln>
        </p:spPr>
      </p:pic>
      <p:pic>
        <p:nvPicPr>
          <p:cNvPr id="1055" name="Picture 1" descr=""/>
          <p:cNvPicPr/>
          <p:nvPr/>
        </p:nvPicPr>
        <p:blipFill>
          <a:blip r:embed="rId3"/>
          <a:stretch/>
        </p:blipFill>
        <p:spPr>
          <a:xfrm>
            <a:off x="738360" y="3276720"/>
            <a:ext cx="2342880" cy="3390840"/>
          </a:xfrm>
          <a:prstGeom prst="rect">
            <a:avLst/>
          </a:prstGeom>
          <a:ln w="0">
            <a:noFill/>
          </a:ln>
        </p:spPr>
      </p:pic>
      <p:sp>
        <p:nvSpPr>
          <p:cNvPr id="1056"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1" lang="es-VE" sz="1800" spc="-1" strike="noStrike">
                <a:solidFill>
                  <a:srgbClr val="11488b"/>
                </a:solidFill>
                <a:latin typeface="Arial"/>
              </a:rPr>
              <a:t>Magnitud 7.1 REGIÓN DE BOUGAINVILLE, PAPÚA NUEVA GUINEA</a:t>
            </a:r>
            <a:br>
              <a:rPr sz="3200"/>
            </a:br>
            <a:r>
              <a:rPr b="1" lang="es-VE" sz="1400" spc="-1" strike="noStrike">
                <a:solidFill>
                  <a:srgbClr val="11488b"/>
                </a:solidFill>
                <a:latin typeface="Arial"/>
              </a:rPr>
              <a:t>Martes, 7 de Mayo, 2015 a las 07:10:22 UTC </a:t>
            </a:r>
            <a:endParaRPr b="0" lang="en-US" sz="1400" spc="-1" strike="noStrike">
              <a:solidFill>
                <a:srgbClr val="000000"/>
              </a:solidFill>
              <a:latin typeface="Arial"/>
            </a:endParaRPr>
          </a:p>
        </p:txBody>
      </p:sp>
      <p:sp>
        <p:nvSpPr>
          <p:cNvPr id="1057" name="TextBox 15"/>
          <p:cNvSpPr/>
          <p:nvPr/>
        </p:nvSpPr>
        <p:spPr>
          <a:xfrm>
            <a:off x="5186520" y="655560"/>
            <a:ext cx="3886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opulation Exposed to Earthquake Shaking</a:t>
            </a:r>
            <a:endParaRPr b="0" lang="en-US" sz="1400" spc="-1" strike="noStrike">
              <a:solidFill>
                <a:srgbClr val="000000"/>
              </a:solidFill>
              <a:latin typeface="Arial"/>
            </a:endParaRPr>
          </a:p>
        </p:txBody>
      </p:sp>
      <p:sp>
        <p:nvSpPr>
          <p:cNvPr id="1058" name="TextBox 20"/>
          <p:cNvSpPr/>
          <p:nvPr/>
        </p:nvSpPr>
        <p:spPr>
          <a:xfrm>
            <a:off x="3333600" y="5521320"/>
            <a:ext cx="576756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El código de intensidad MMI. La población total expuesta a un valor de MMI dado es obtenida sumando la población entre las líneas de contorno. La estimación de la población expuesta a cada intensidad  MMI es mostrada en la tabla de la parte inferior</a:t>
            </a:r>
            <a:endParaRPr b="0" lang="en-US" sz="1400" spc="-1" strike="noStrike">
              <a:solidFill>
                <a:srgbClr val="000000"/>
              </a:solidFill>
              <a:latin typeface="Arial"/>
            </a:endParaRPr>
          </a:p>
        </p:txBody>
      </p:sp>
      <p:sp>
        <p:nvSpPr>
          <p:cNvPr id="1059" name="TextBox 18"/>
          <p:cNvSpPr/>
          <p:nvPr/>
        </p:nvSpPr>
        <p:spPr>
          <a:xfrm>
            <a:off x="243000" y="1041480"/>
            <a:ext cx="4405320" cy="216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l  mapa localizador del Servicio Geológico de los EE.UU. muestra la población expuesta a diferentes niveles de intensidad modificada Mercalli (MMI).</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29.000 personas estuvieron expuestas a sismos moderados debido a este terremotot.</a:t>
            </a:r>
            <a:endParaRPr b="0" lang="en-US" sz="1700" spc="-1" strike="noStrike">
              <a:solidFill>
                <a:srgbClr val="000000"/>
              </a:solidFill>
              <a:latin typeface="Arial"/>
            </a:endParaRPr>
          </a:p>
        </p:txBody>
      </p:sp>
      <p:sp>
        <p:nvSpPr>
          <p:cNvPr id="1060" name="TextBox 15"/>
          <p:cNvSpPr/>
          <p:nvPr/>
        </p:nvSpPr>
        <p:spPr>
          <a:xfrm>
            <a:off x="4570560" y="6477120"/>
            <a:ext cx="4497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Imagen Cortesía del Servicio Geológico de los EE.U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2" name="Picture 8" descr="IRIS_TMlogo.png"/>
          <p:cNvPicPr/>
          <p:nvPr/>
        </p:nvPicPr>
        <p:blipFill>
          <a:blip r:embed="rId1"/>
          <a:stretch/>
        </p:blipFill>
        <p:spPr>
          <a:xfrm>
            <a:off x="239760" y="76320"/>
            <a:ext cx="903240" cy="927000"/>
          </a:xfrm>
          <a:prstGeom prst="rect">
            <a:avLst/>
          </a:prstGeom>
          <a:ln w="0">
            <a:noFill/>
          </a:ln>
        </p:spPr>
      </p:pic>
      <p:pic>
        <p:nvPicPr>
          <p:cNvPr id="1063" name="Picture 1" descr=""/>
          <p:cNvPicPr/>
          <p:nvPr/>
        </p:nvPicPr>
        <p:blipFill>
          <a:blip r:embed="rId2"/>
          <a:stretch/>
        </p:blipFill>
        <p:spPr>
          <a:xfrm>
            <a:off x="411120" y="1117440"/>
            <a:ext cx="5608800" cy="3835440"/>
          </a:xfrm>
          <a:prstGeom prst="rect">
            <a:avLst/>
          </a:prstGeom>
          <a:ln w="0">
            <a:noFill/>
          </a:ln>
        </p:spPr>
      </p:pic>
      <p:sp>
        <p:nvSpPr>
          <p:cNvPr id="1064" name="Rectangle 6"/>
          <p:cNvSpPr/>
          <p:nvPr/>
        </p:nvSpPr>
        <p:spPr>
          <a:xfrm>
            <a:off x="1066680" y="3062160"/>
            <a:ext cx="304920" cy="366840"/>
          </a:xfrm>
          <a:prstGeom prst="rect">
            <a:avLst/>
          </a:prstGeom>
          <a:noFill/>
          <a:ln w="64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Straight Connector 8"/>
          <p:cNvSpPr/>
          <p:nvPr/>
        </p:nvSpPr>
        <p:spPr>
          <a:xfrm flipV="1">
            <a:off x="1371600" y="2877840"/>
            <a:ext cx="4070520" cy="183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Straight Connector 11"/>
          <p:cNvSpPr/>
          <p:nvPr/>
        </p:nvSpPr>
        <p:spPr>
          <a:xfrm>
            <a:off x="1371600" y="3429000"/>
            <a:ext cx="4070520" cy="3276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67" name="Picture 2" descr=""/>
          <p:cNvPicPr/>
          <p:nvPr/>
        </p:nvPicPr>
        <p:blipFill>
          <a:blip r:embed="rId3"/>
          <a:stretch/>
        </p:blipFill>
        <p:spPr>
          <a:xfrm>
            <a:off x="5442120" y="2889360"/>
            <a:ext cx="3585960" cy="3827520"/>
          </a:xfrm>
          <a:prstGeom prst="rect">
            <a:avLst/>
          </a:prstGeom>
          <a:ln w="9360">
            <a:solidFill>
              <a:srgbClr val="000000"/>
            </a:solidFill>
            <a:miter/>
          </a:ln>
          <a:effectLst>
            <a:outerShdw dist="38160" dir="10800000" blurRad="0" rotWithShape="0">
              <a:srgbClr val="808080">
                <a:alpha val="40000"/>
              </a:srgbClr>
            </a:outerShdw>
          </a:effectLst>
        </p:spPr>
      </p:pic>
      <p:sp>
        <p:nvSpPr>
          <p:cNvPr id="1068"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1" lang="es-VE" sz="1800" spc="-1" strike="noStrike">
                <a:solidFill>
                  <a:srgbClr val="11488b"/>
                </a:solidFill>
                <a:latin typeface="Arial"/>
              </a:rPr>
              <a:t>Magnitud 7.1 REGIÓN DE BOUGAINVILLE, PAPÚA NUEVA GUINEA</a:t>
            </a:r>
            <a:br>
              <a:rPr sz="3200"/>
            </a:br>
            <a:r>
              <a:rPr b="1" lang="es-VE" sz="1400" spc="-1" strike="noStrike">
                <a:solidFill>
                  <a:srgbClr val="11488b"/>
                </a:solidFill>
                <a:latin typeface="Arial"/>
              </a:rPr>
              <a:t>Martes, 7 de Mayo, 2015 a las 07:10:22 UTC </a:t>
            </a:r>
            <a:endParaRPr b="0" lang="en-US" sz="1400" spc="-1" strike="noStrike">
              <a:solidFill>
                <a:srgbClr val="000000"/>
              </a:solidFill>
              <a:latin typeface="Arial"/>
            </a:endParaRPr>
          </a:p>
        </p:txBody>
      </p:sp>
      <p:sp>
        <p:nvSpPr>
          <p:cNvPr id="1069" name="TextBox 14"/>
          <p:cNvSpPr/>
          <p:nvPr/>
        </p:nvSpPr>
        <p:spPr>
          <a:xfrm>
            <a:off x="6097680" y="1081080"/>
            <a:ext cx="28573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n esta región del Pacífico, la Placa Australiana se subduce debajo de la Placa del Pacífico.</a:t>
            </a:r>
            <a:endParaRPr b="0" lang="en-US" sz="1800" spc="-1" strike="noStrike">
              <a:solidFill>
                <a:srgbClr val="000000"/>
              </a:solidFill>
              <a:latin typeface="Arial"/>
            </a:endParaRPr>
          </a:p>
        </p:txBody>
      </p:sp>
      <p:sp>
        <p:nvSpPr>
          <p:cNvPr id="1070" name="TextBox 14"/>
          <p:cNvSpPr/>
          <p:nvPr/>
        </p:nvSpPr>
        <p:spPr>
          <a:xfrm>
            <a:off x="368280" y="5372280"/>
            <a:ext cx="488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En detalle, existen un gran número de micro-placas tectónicas (fragmentos de placas más grandes). Las flechas muestran el movimiento neto de las placas relativo a la Placa de Australia.</a:t>
            </a:r>
            <a:endParaRPr b="0" lang="en-US" sz="1600" spc="-1" strike="noStrike">
              <a:solidFill>
                <a:srgbClr val="000000"/>
              </a:solidFill>
              <a:latin typeface="Arial"/>
            </a:endParaRPr>
          </a:p>
        </p:txBody>
      </p:sp>
      <p:sp>
        <p:nvSpPr>
          <p:cNvPr id="1071" name="Rectangle 13"/>
          <p:cNvSpPr/>
          <p:nvPr/>
        </p:nvSpPr>
        <p:spPr>
          <a:xfrm>
            <a:off x="411120" y="6431040"/>
            <a:ext cx="515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Imagen Cortesía  de </a:t>
            </a:r>
            <a:r>
              <a:rPr b="0" i="1" lang="en-US" sz="1400" spc="-1" strike="noStrike">
                <a:solidFill>
                  <a:srgbClr val="000000"/>
                </a:solidFill>
                <a:latin typeface="Arial"/>
                <a:ea typeface="Arial"/>
              </a:rPr>
              <a:t>OSU; </a:t>
            </a:r>
            <a:r>
              <a:rPr b="0" i="1" lang="es-VE" sz="1400" spc="-1" strike="noStrike">
                <a:solidFill>
                  <a:srgbClr val="000000"/>
                </a:solidFill>
                <a:latin typeface="Arial"/>
                <a:ea typeface="Arial"/>
              </a:rPr>
              <a:t>simplificada por  Hamilton (1979)</a:t>
            </a:r>
            <a:r>
              <a:rPr b="0" i="1"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072" name="TextBox 15"/>
          <p:cNvSpPr/>
          <p:nvPr/>
        </p:nvSpPr>
        <p:spPr>
          <a:xfrm>
            <a:off x="411120" y="4952880"/>
            <a:ext cx="4497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Imagen Cortesía del Servicio Geológico de los EE.U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TextBox 8"/>
          <p:cNvSpPr/>
          <p:nvPr/>
        </p:nvSpPr>
        <p:spPr>
          <a:xfrm>
            <a:off x="2387520" y="4280040"/>
            <a:ext cx="216072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El eje de tensión (T) refleja la dirección mínima del esfuerzo de compresió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El eje de presión (P) refleja la dirección del esfuerzo máximo de compresión.</a:t>
            </a:r>
            <a:endParaRPr b="0" lang="en-US" sz="1400" spc="-1" strike="noStrike">
              <a:solidFill>
                <a:srgbClr val="000000"/>
              </a:solidFill>
              <a:latin typeface="Arial"/>
            </a:endParaRPr>
          </a:p>
        </p:txBody>
      </p:sp>
      <p:sp>
        <p:nvSpPr>
          <p:cNvPr id="1074" name="TextBox 11"/>
          <p:cNvSpPr/>
          <p:nvPr/>
        </p:nvSpPr>
        <p:spPr>
          <a:xfrm>
            <a:off x="444600" y="6470640"/>
            <a:ext cx="367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Solución Tensor  Momento Sísmico Centroide</a:t>
            </a:r>
            <a:endParaRPr b="0" lang="en-US" sz="1200" spc="-1" strike="noStrike">
              <a:solidFill>
                <a:srgbClr val="000000"/>
              </a:solidFill>
              <a:latin typeface="Arial"/>
            </a:endParaRPr>
          </a:p>
        </p:txBody>
      </p:sp>
      <p:sp>
        <p:nvSpPr>
          <p:cNvPr id="1075"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6" name="Picture 8" descr="IRIS_TMlogo.png"/>
          <p:cNvPicPr/>
          <p:nvPr/>
        </p:nvPicPr>
        <p:blipFill>
          <a:blip r:embed="rId1"/>
          <a:stretch/>
        </p:blipFill>
        <p:spPr>
          <a:xfrm>
            <a:off x="239760" y="76320"/>
            <a:ext cx="903240" cy="927000"/>
          </a:xfrm>
          <a:prstGeom prst="rect">
            <a:avLst/>
          </a:prstGeom>
          <a:ln w="0">
            <a:noFill/>
          </a:ln>
        </p:spPr>
      </p:pic>
      <p:grpSp>
        <p:nvGrpSpPr>
          <p:cNvPr id="1077" name="Group 6"/>
          <p:cNvGrpSpPr/>
          <p:nvPr/>
        </p:nvGrpSpPr>
        <p:grpSpPr>
          <a:xfrm>
            <a:off x="444600" y="4527720"/>
            <a:ext cx="1798200" cy="1698480"/>
            <a:chOff x="444600" y="4527720"/>
            <a:chExt cx="1798200" cy="1698480"/>
          </a:xfrm>
        </p:grpSpPr>
        <p:pic>
          <p:nvPicPr>
            <p:cNvPr id="1078" name="Picture 5" descr="FM.tiff"/>
            <p:cNvPicPr/>
            <p:nvPr/>
          </p:nvPicPr>
          <p:blipFill>
            <a:blip r:embed="rId2"/>
            <a:srcRect l="15911" t="6004" r="14805" b="3344"/>
            <a:stretch/>
          </p:blipFill>
          <p:spPr>
            <a:xfrm>
              <a:off x="491040" y="4527720"/>
              <a:ext cx="1709280" cy="1698480"/>
            </a:xfrm>
            <a:prstGeom prst="rect">
              <a:avLst/>
            </a:prstGeom>
            <a:ln w="0">
              <a:noFill/>
            </a:ln>
          </p:spPr>
        </p:pic>
        <p:sp>
          <p:nvSpPr>
            <p:cNvPr id="1079" name="Rectangle 3"/>
            <p:cNvSpPr/>
            <p:nvPr/>
          </p:nvSpPr>
          <p:spPr>
            <a:xfrm rot="1800000">
              <a:off x="490320" y="4773240"/>
              <a:ext cx="17136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Rectangle 12"/>
            <p:cNvSpPr/>
            <p:nvPr/>
          </p:nvSpPr>
          <p:spPr>
            <a:xfrm rot="2043600">
              <a:off x="2024280" y="5741640"/>
              <a:ext cx="169560" cy="226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1" name="TextBox 7"/>
          <p:cNvSpPr/>
          <p:nvPr/>
        </p:nvSpPr>
        <p:spPr>
          <a:xfrm>
            <a:off x="297000" y="1184400"/>
            <a:ext cx="4348080" cy="36471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a:ea typeface="Arial"/>
              </a:rPr>
              <a:t>Este terremoto se produjo como resultado de fallas normales dentro de la (micro) Placa oceánica de Salomón donde se dobla en la Fosa de Nueva Bretaña para comenzar su descenso por debajo de las Islas Salomón.</a:t>
            </a:r>
            <a:endParaRPr b="0" lang="en-US" sz="1800" spc="-1" strike="noStrike">
              <a:solidFill>
                <a:srgbClr val="000000"/>
              </a:solidFill>
              <a:latin typeface="Arial"/>
            </a:endParaRPr>
          </a:p>
          <a:p>
            <a:pPr>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a:ea typeface="Arial"/>
              </a:rPr>
              <a:t>La flexión de la placa está asociada con la tensión en los primeros 20 km de la parte superior, y esa tensión provoca terremotos extensionales poco profundos.</a:t>
            </a:r>
            <a:endParaRPr b="0" lang="en-US" sz="1800" spc="-1" strike="noStrike">
              <a:solidFill>
                <a:srgbClr val="000000"/>
              </a:solidFill>
              <a:latin typeface="Arial"/>
            </a:endParaRPr>
          </a:p>
          <a:p>
            <a:pPr>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082" name="Group 2"/>
          <p:cNvGrpSpPr/>
          <p:nvPr/>
        </p:nvGrpSpPr>
        <p:grpSpPr>
          <a:xfrm>
            <a:off x="4992840" y="763560"/>
            <a:ext cx="3657600" cy="2741760"/>
            <a:chOff x="4992840" y="763560"/>
            <a:chExt cx="3657600" cy="2741760"/>
          </a:xfrm>
        </p:grpSpPr>
        <p:sp>
          <p:nvSpPr>
            <p:cNvPr id="1083" name="TextBox 1"/>
            <p:cNvSpPr/>
            <p:nvPr/>
          </p:nvSpPr>
          <p:spPr>
            <a:xfrm>
              <a:off x="6458760" y="2312280"/>
              <a:ext cx="143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lomon Sea Plate</a:t>
              </a:r>
              <a:endParaRPr b="0" lang="en-US" sz="1000" spc="-1" strike="noStrike">
                <a:solidFill>
                  <a:srgbClr val="000000"/>
                </a:solidFill>
                <a:latin typeface="Arial"/>
              </a:endParaRPr>
            </a:p>
          </p:txBody>
        </p:sp>
        <p:sp>
          <p:nvSpPr>
            <p:cNvPr id="1084" name="TextBox 12"/>
            <p:cNvSpPr/>
            <p:nvPr/>
          </p:nvSpPr>
          <p:spPr>
            <a:xfrm>
              <a:off x="7431840" y="874080"/>
              <a:ext cx="121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cific Plate</a:t>
              </a:r>
              <a:endParaRPr b="0" lang="en-US" sz="1200" spc="-1" strike="noStrike">
                <a:solidFill>
                  <a:srgbClr val="000000"/>
                </a:solidFill>
                <a:latin typeface="Arial"/>
              </a:endParaRPr>
            </a:p>
          </p:txBody>
        </p:sp>
        <p:sp>
          <p:nvSpPr>
            <p:cNvPr id="1085" name="TextBox 13"/>
            <p:cNvSpPr/>
            <p:nvPr/>
          </p:nvSpPr>
          <p:spPr>
            <a:xfrm>
              <a:off x="5627160" y="3055320"/>
              <a:ext cx="1663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stralian Plate</a:t>
              </a:r>
              <a:endParaRPr b="0" lang="en-US" sz="1200" spc="-1" strike="noStrike">
                <a:solidFill>
                  <a:srgbClr val="000000"/>
                </a:solidFill>
                <a:latin typeface="Arial"/>
              </a:endParaRPr>
            </a:p>
          </p:txBody>
        </p:sp>
        <p:sp>
          <p:nvSpPr>
            <p:cNvPr id="1086" name="TextBox 15"/>
            <p:cNvSpPr/>
            <p:nvPr/>
          </p:nvSpPr>
          <p:spPr>
            <a:xfrm>
              <a:off x="5232240" y="1093680"/>
              <a:ext cx="16048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North Bismarck Plate</a:t>
              </a:r>
              <a:endParaRPr b="0" lang="en-US" sz="1000" spc="-1" strike="noStrike">
                <a:solidFill>
                  <a:srgbClr val="000000"/>
                </a:solidFill>
                <a:latin typeface="Arial"/>
              </a:endParaRPr>
            </a:p>
          </p:txBody>
        </p:sp>
        <p:sp>
          <p:nvSpPr>
            <p:cNvPr id="1087" name="TextBox 16"/>
            <p:cNvSpPr/>
            <p:nvPr/>
          </p:nvSpPr>
          <p:spPr>
            <a:xfrm>
              <a:off x="5672520" y="1465920"/>
              <a:ext cx="1483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th Bismarck Plate</a:t>
              </a:r>
              <a:endParaRPr b="0" lang="en-US" sz="1000" spc="-1" strike="noStrike">
                <a:solidFill>
                  <a:srgbClr val="000000"/>
                </a:solidFill>
                <a:latin typeface="Arial"/>
              </a:endParaRPr>
            </a:p>
          </p:txBody>
        </p:sp>
        <p:grpSp>
          <p:nvGrpSpPr>
            <p:cNvPr id="1088" name="Group 1"/>
            <p:cNvGrpSpPr/>
            <p:nvPr/>
          </p:nvGrpSpPr>
          <p:grpSpPr>
            <a:xfrm>
              <a:off x="4992840" y="763560"/>
              <a:ext cx="3657600" cy="2741760"/>
              <a:chOff x="4992840" y="763560"/>
              <a:chExt cx="3657600" cy="2741760"/>
            </a:xfrm>
          </p:grpSpPr>
          <p:grpSp>
            <p:nvGrpSpPr>
              <p:cNvPr id="1089" name="Group 4"/>
              <p:cNvGrpSpPr/>
              <p:nvPr/>
            </p:nvGrpSpPr>
            <p:grpSpPr>
              <a:xfrm>
                <a:off x="4992840" y="763560"/>
                <a:ext cx="3657600" cy="2741760"/>
                <a:chOff x="4992840" y="763560"/>
                <a:chExt cx="3657600" cy="2741760"/>
              </a:xfrm>
            </p:grpSpPr>
            <p:pic>
              <p:nvPicPr>
                <p:cNvPr id="1090" name="Picture 2" descr=""/>
                <p:cNvPicPr/>
                <p:nvPr/>
              </p:nvPicPr>
              <p:blipFill>
                <a:blip r:embed="rId3"/>
                <a:stretch/>
              </p:blipFill>
              <p:spPr>
                <a:xfrm>
                  <a:off x="4992840" y="763560"/>
                  <a:ext cx="3657600" cy="2741760"/>
                </a:xfrm>
                <a:prstGeom prst="rect">
                  <a:avLst/>
                </a:prstGeom>
                <a:ln w="0">
                  <a:noFill/>
                </a:ln>
              </p:spPr>
            </p:pic>
            <p:sp>
              <p:nvSpPr>
                <p:cNvPr id="1091" name="TextBox 3"/>
                <p:cNvSpPr/>
                <p:nvPr/>
              </p:nvSpPr>
              <p:spPr>
                <a:xfrm>
                  <a:off x="6982920" y="2529000"/>
                  <a:ext cx="895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Woodlark Basin</a:t>
                  </a:r>
                  <a:endParaRPr b="0" lang="en-US" sz="800" spc="-1" strike="noStrike">
                    <a:solidFill>
                      <a:srgbClr val="000000"/>
                    </a:solidFill>
                    <a:latin typeface="Arial"/>
                  </a:endParaRPr>
                </a:p>
              </p:txBody>
            </p:sp>
          </p:grpSp>
          <p:sp>
            <p:nvSpPr>
              <p:cNvPr id="1092" name="5-Point Star 31"/>
              <p:cNvSpPr/>
              <p:nvPr/>
            </p:nvSpPr>
            <p:spPr>
              <a:xfrm>
                <a:off x="7750440" y="222876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ffff00"/>
              </a:solidFill>
              <a:ln w="9360">
                <a:solidFill>
                  <a:srgbClr val="4a7ebb"/>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093" name="TextBox 8"/>
          <p:cNvSpPr/>
          <p:nvPr/>
        </p:nvSpPr>
        <p:spPr>
          <a:xfrm>
            <a:off x="5180040" y="5867280"/>
            <a:ext cx="36828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Fallas normales producidas por la tensión de  flexión dentro de las placas oceánicas antes de la subducción se llaman fallas normales de “elevación externa".</a:t>
            </a:r>
            <a:endParaRPr b="0" lang="en-US" sz="1400" spc="-1" strike="noStrike">
              <a:solidFill>
                <a:srgbClr val="000000"/>
              </a:solidFill>
              <a:latin typeface="Arial"/>
            </a:endParaRPr>
          </a:p>
        </p:txBody>
      </p:sp>
      <p:pic>
        <p:nvPicPr>
          <p:cNvPr id="1094" name="Picture 28" descr=""/>
          <p:cNvPicPr/>
          <p:nvPr/>
        </p:nvPicPr>
        <p:blipFill>
          <a:blip r:embed="rId4"/>
          <a:stretch/>
        </p:blipFill>
        <p:spPr>
          <a:xfrm>
            <a:off x="5180040" y="3719520"/>
            <a:ext cx="3429000" cy="2097000"/>
          </a:xfrm>
          <a:prstGeom prst="rect">
            <a:avLst/>
          </a:prstGeom>
          <a:ln w="9360">
            <a:solidFill>
              <a:srgbClr val="000000"/>
            </a:solidFill>
            <a:miter/>
          </a:ln>
        </p:spPr>
      </p:pic>
      <p:sp>
        <p:nvSpPr>
          <p:cNvPr id="1095"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1" lang="es-VE" sz="1800" spc="-1" strike="noStrike">
                <a:solidFill>
                  <a:srgbClr val="11488b"/>
                </a:solidFill>
                <a:latin typeface="Arial"/>
              </a:rPr>
              <a:t>Magnitud 7.1 REGIÓN DE BOUGAINVILLE, PAPÚA NUEVA GUINEA</a:t>
            </a:r>
            <a:br>
              <a:rPr sz="3200"/>
            </a:br>
            <a:r>
              <a:rPr b="1" lang="es-VE" sz="1400" spc="-1" strike="noStrike">
                <a:solidFill>
                  <a:srgbClr val="11488b"/>
                </a:solidFill>
                <a:latin typeface="Arial"/>
              </a:rPr>
              <a:t>Martes, 7 de Mayo, 2015 a las 07:10:22 UTC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6" name="Picture 2" descr="20150507 PNG.JPG"/>
          <p:cNvPicPr/>
          <p:nvPr/>
        </p:nvPicPr>
        <p:blipFill>
          <a:blip r:embed="rId1"/>
          <a:srcRect l="0" t="2963" r="0" b="5281"/>
          <a:stretch/>
        </p:blipFill>
        <p:spPr>
          <a:xfrm>
            <a:off x="169920" y="1873080"/>
            <a:ext cx="8978760" cy="4632480"/>
          </a:xfrm>
          <a:prstGeom prst="rect">
            <a:avLst/>
          </a:prstGeom>
          <a:ln w="0">
            <a:noFill/>
          </a:ln>
        </p:spPr>
      </p:pic>
      <p:sp>
        <p:nvSpPr>
          <p:cNvPr id="109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8" name="Picture 18" descr="IRIS_TMlogo.png"/>
          <p:cNvPicPr/>
          <p:nvPr/>
        </p:nvPicPr>
        <p:blipFill>
          <a:blip r:embed="rId2"/>
          <a:stretch/>
        </p:blipFill>
        <p:spPr>
          <a:xfrm>
            <a:off x="239760" y="76320"/>
            <a:ext cx="903240" cy="927000"/>
          </a:xfrm>
          <a:prstGeom prst="rect">
            <a:avLst/>
          </a:prstGeom>
          <a:ln w="0">
            <a:noFill/>
          </a:ln>
        </p:spPr>
      </p:pic>
      <p:sp>
        <p:nvSpPr>
          <p:cNvPr id="1099"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1" lang="es-VE" sz="1800" spc="-1" strike="noStrike">
                <a:solidFill>
                  <a:srgbClr val="11488b"/>
                </a:solidFill>
                <a:latin typeface="Arial"/>
              </a:rPr>
              <a:t>Magnitud 7.1 REGIÓN DE BOUGAINVILLE, PAPÚA NUEVA GUINEA</a:t>
            </a:r>
            <a:br>
              <a:rPr sz="3200"/>
            </a:br>
            <a:r>
              <a:rPr b="1" lang="es-VE" sz="1400" spc="-1" strike="noStrike">
                <a:solidFill>
                  <a:srgbClr val="11488b"/>
                </a:solidFill>
                <a:latin typeface="Arial"/>
              </a:rPr>
              <a:t>Martes, 7 de Mayo, 2015 a las 07:10:22 UTC </a:t>
            </a:r>
            <a:endParaRPr b="0" lang="en-US" sz="1400" spc="-1" strike="noStrike">
              <a:solidFill>
                <a:srgbClr val="000000"/>
              </a:solidFill>
              <a:latin typeface="Arial"/>
            </a:endParaRPr>
          </a:p>
        </p:txBody>
      </p:sp>
      <p:sp>
        <p:nvSpPr>
          <p:cNvPr id="1100" name="TextBox 7"/>
          <p:cNvSpPr/>
          <p:nvPr/>
        </p:nvSpPr>
        <p:spPr>
          <a:xfrm>
            <a:off x="239760" y="990720"/>
            <a:ext cx="855648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registro observado en el sismógrafo de la Universidad de Portland (UPOR) es ilustrado en la parte inferior. Portland está ubicada aproximadamente 10.003 km (6216 millas, 90.1°) desde la localización de este terremoto.</a:t>
            </a:r>
            <a:endParaRPr b="0" lang="en-US" sz="1600" spc="-1" strike="noStrike">
              <a:solidFill>
                <a:srgbClr val="000000"/>
              </a:solidFill>
              <a:latin typeface="Arial"/>
            </a:endParaRPr>
          </a:p>
        </p:txBody>
      </p:sp>
      <p:sp>
        <p:nvSpPr>
          <p:cNvPr id="1101" name="TextBox 4"/>
          <p:cNvSpPr/>
          <p:nvPr/>
        </p:nvSpPr>
        <p:spPr>
          <a:xfrm>
            <a:off x="587520" y="1981080"/>
            <a:ext cx="733716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guido del terremoto, las ondas P compresionales se tomaros 13 minutos 1 segundo en viajar la trayectoria curva de la Tierra a través del manto desde el terremoto hasta Portland, Oregón.</a:t>
            </a:r>
            <a:endParaRPr b="0" lang="en-US" sz="1400" spc="-1" strike="noStrike">
              <a:solidFill>
                <a:srgbClr val="000000"/>
              </a:solidFill>
              <a:latin typeface="Arial"/>
            </a:endParaRPr>
          </a:p>
        </p:txBody>
      </p:sp>
      <p:sp>
        <p:nvSpPr>
          <p:cNvPr id="1102" name="TextBox 9"/>
          <p:cNvSpPr/>
          <p:nvPr/>
        </p:nvSpPr>
        <p:spPr>
          <a:xfrm>
            <a:off x="2286000" y="2590920"/>
            <a:ext cx="5410080" cy="687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Las Ondas S son ondas cortantes  que siguen la misma trayectoria a través del manto  como las ondas P, tomándose 23 minutos 56 segundos en arribar. </a:t>
            </a:r>
            <a:endParaRPr b="0" lang="en-US" sz="1300" spc="-1" strike="noStrike">
              <a:solidFill>
                <a:srgbClr val="000000"/>
              </a:solidFill>
              <a:latin typeface="Arial"/>
            </a:endParaRPr>
          </a:p>
        </p:txBody>
      </p:sp>
      <p:sp>
        <p:nvSpPr>
          <p:cNvPr id="1103" name="TextBox 6"/>
          <p:cNvSpPr/>
          <p:nvPr/>
        </p:nvSpPr>
        <p:spPr>
          <a:xfrm>
            <a:off x="5205240" y="5029200"/>
            <a:ext cx="3708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s ondas de superficie , ambas Love and Rayleigh, viajaron 10.003 km (6216 millas) a lo largo del perímetro de la Tierra desde el terremoto hasta la estación de registr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5" name="Picture 8" descr="IRIS_TMlogo.png"/>
          <p:cNvPicPr/>
          <p:nvPr/>
        </p:nvPicPr>
        <p:blipFill>
          <a:blip r:embed="rId1"/>
          <a:stretch/>
        </p:blipFill>
        <p:spPr>
          <a:xfrm>
            <a:off x="239760" y="76320"/>
            <a:ext cx="903240" cy="927000"/>
          </a:xfrm>
          <a:prstGeom prst="rect">
            <a:avLst/>
          </a:prstGeom>
          <a:ln w="0">
            <a:noFill/>
          </a:ln>
        </p:spPr>
      </p:pic>
      <p:pic>
        <p:nvPicPr>
          <p:cNvPr id="1106" name="Picture 1" descr=""/>
          <p:cNvPicPr/>
          <p:nvPr/>
        </p:nvPicPr>
        <p:blipFill>
          <a:blip r:embed="rId2"/>
          <a:stretch/>
        </p:blipFill>
        <p:spPr>
          <a:xfrm>
            <a:off x="6210360" y="5181480"/>
            <a:ext cx="2705040" cy="1435320"/>
          </a:xfrm>
          <a:prstGeom prst="rect">
            <a:avLst/>
          </a:prstGeom>
          <a:ln w="0">
            <a:noFill/>
          </a:ln>
        </p:spPr>
      </p:pic>
      <p:pic>
        <p:nvPicPr>
          <p:cNvPr id="1107" name="Picture 2" descr=""/>
          <p:cNvPicPr/>
          <p:nvPr/>
        </p:nvPicPr>
        <p:blipFill>
          <a:blip r:embed="rId3"/>
          <a:stretch/>
        </p:blipFill>
        <p:spPr>
          <a:xfrm>
            <a:off x="503280" y="5334120"/>
            <a:ext cx="1460520" cy="1150920"/>
          </a:xfrm>
          <a:prstGeom prst="rect">
            <a:avLst/>
          </a:prstGeom>
          <a:ln w="0">
            <a:noFill/>
          </a:ln>
        </p:spPr>
      </p:pic>
      <p:pic>
        <p:nvPicPr>
          <p:cNvPr id="1108" name="Picture 1" descr=""/>
          <p:cNvPicPr/>
          <p:nvPr/>
        </p:nvPicPr>
        <p:blipFill>
          <a:blip r:embed="rId4"/>
          <a:stretch/>
        </p:blipFill>
        <p:spPr>
          <a:xfrm>
            <a:off x="3798720" y="5400720"/>
            <a:ext cx="1200240" cy="1206360"/>
          </a:xfrm>
          <a:prstGeom prst="rect">
            <a:avLst/>
          </a:prstGeom>
          <a:ln w="0">
            <a:noFill/>
          </a:ln>
        </p:spPr>
      </p:pic>
      <p:sp>
        <p:nvSpPr>
          <p:cNvPr id="1109"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1" lang="es-VE" sz="1800" spc="-1" strike="noStrike">
                <a:solidFill>
                  <a:srgbClr val="11488b"/>
                </a:solidFill>
                <a:latin typeface="Arial"/>
              </a:rPr>
              <a:t>Magnitud 7.1 REGIÓN DE BOUGAINVILLE, PAPÚA NUEVA GUINEA</a:t>
            </a:r>
            <a:br>
              <a:rPr sz="3200"/>
            </a:br>
            <a:r>
              <a:rPr b="1" lang="es-VE" sz="1400" spc="-1" strike="noStrike">
                <a:solidFill>
                  <a:srgbClr val="11488b"/>
                </a:solidFill>
                <a:latin typeface="Arial"/>
              </a:rPr>
              <a:t>Martes, 7 de Mayo, 2015 a las 07:10:22 UTC </a:t>
            </a:r>
            <a:endParaRPr b="0" lang="en-US" sz="1400" spc="-1" strike="noStrike">
              <a:solidFill>
                <a:srgbClr val="000000"/>
              </a:solidFill>
              <a:latin typeface="Arial"/>
            </a:endParaRPr>
          </a:p>
        </p:txBody>
      </p:sp>
      <p:sp>
        <p:nvSpPr>
          <p:cNvPr id="1110"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rPr>
              <a:t>Momentos de Enseñanzas son servicios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ducación IRIS &amp; Alcance Públic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La Universidad de Portlan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Douglas Alfredo Bravo Bustamante</cp:lastModifiedBy>
  <cp:lastPrinted>2013-04-07T18:50:57Z</cp:lastPrinted>
  <dcterms:modified xsi:type="dcterms:W3CDTF">2015-05-08T15:24:12Z</dcterms:modified>
  <cp:revision>750</cp:revision>
  <dc:subject/>
  <dc:title>Slide 1</dc:title>
</cp:coreProperties>
</file>