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73CA-284F-4CC1-ACE4-DE01444C676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jules.unavco.org/Voyager%5Dr/Earth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iris.edu/ieb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08BB-D519-4FA9-B158-A20E28329B5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El  mapa localizador del Servicio Geológico de los EE.UU. muestra la población expuesta a diferentes niveles de intensidad modificada Mercalli (MMI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MMI describe la severidad de un terremoto en términos de sus efectos en estructuras humanas y es una vasta medida de la cantidad de movimientos telúricos en un lugar d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CBE6-D06D-4658-A003-0322CED84C4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Explora</a:t>
            </a:r>
            <a:r>
              <a:rPr b="1" lang="en-US" sz="1200" spc="-1" strike="noStrike">
                <a:solidFill>
                  <a:srgbClr val="393996"/>
                </a:solidFill>
                <a:latin typeface="Calibri"/>
              </a:rPr>
              <a:t> la Tierr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93996"/>
                </a:solidFill>
                <a:latin typeface="Calibri"/>
              </a:rPr>
              <a:t>Jules </a:t>
            </a:r>
            <a:r>
              <a:rPr b="0" lang="es-VE" sz="1200" spc="-1" strike="noStrike">
                <a:solidFill>
                  <a:srgbClr val="393996"/>
                </a:solidFill>
                <a:latin typeface="Calibri"/>
              </a:rPr>
              <a:t>Verne</a:t>
            </a:r>
            <a:r>
              <a:rPr b="0" lang="en-US" sz="1200" spc="-1" strike="noStrike">
                <a:solidFill>
                  <a:srgbClr val="393996"/>
                </a:solidFill>
                <a:latin typeface="Calibri"/>
              </a:rPr>
              <a:t> Voyager Jr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jules.unavco.org/Voyager]r/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B935-E319-4FFC-A150-5C655B1D609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Explorando Sismicida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Navegador Interactivo de Terremotos—Mapa Mundial 3D </a:t>
            </a:r>
            <a:r>
              <a:rPr b="0" lang="es-VE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ris.edu/ie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6810-C54E-48DB-91C1-5AB1D5812FB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Mientras las placas oceanicas se alejan del centro de dispersion de donde se formo, se enfria debido a que su superficie esta en contacto con aguas oceanicas profundas. Mientras la placa se enfia y envejese, se encoje por lo tanto se vuelve mas den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F6A2-BD2C-4E2B-9E64-5AF763F87B2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Imagen cortesía del Laboratorio sismológico de la Universidad de California en Berkely:  http://seismo.berkeley.edu/blog/seismoblog.php/2015/05/30/it-doesn-t-get-dee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3957-290C-4DF5-98B0-3C9F3D70FDA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8D3C-3AB2-4A65-9E71-A50B3C2D3C6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9A95-077B-445F-BC95-CDB0D0EF38A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AFA-7C7C-45F7-8987-F9AFA4AE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B38-9C72-4AEB-9D5B-CB3903C0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A37-060E-4CC7-8753-C2872C86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D78-A08D-4D38-9B40-2D73D615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F6D-A44D-4C99-A65E-5625B278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44A-A675-4354-A4AD-D65A6955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B39-4035-4C1F-AEF6-85B79BF6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4C2-A4F6-425F-B2F4-9934C9D1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726-129F-4218-9B0F-085B6676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A89-C9CA-451A-A84E-17E3FCDD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31F-B7EE-4FFB-BA0B-4D419A0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20D-7277-4D38-B5ED-9DB1BCB0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FE86-12ED-4447-B916-D3FEEE307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314280" y="1363680"/>
            <a:ext cx="84250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Un fuerte terremoto profundo de magnitud 7,8 ocurrió cerca de las Islas Bonin. El terremoto fue localizado a unos 874 kilómetros (543 millas) al sur de Tokio, Japón, y al oeste de la Fosa de Izu. Este terremoto se produjo a una profundidad de 678 km (421 millas) dentro de la Placa del Pacífico donde se subduce debajo de la Placa Filipin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230480" y="109440"/>
            <a:ext cx="746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300" spc="-1" strike="noStrike">
                <a:solidFill>
                  <a:srgbClr val="11488b"/>
                </a:solidFill>
                <a:latin typeface="Arial"/>
              </a:rPr>
              <a:t>Magnitud 7,8 ISLAS BONIN, JAPÓN</a:t>
            </a:r>
            <a:br>
              <a:rPr sz="4200"/>
            </a:br>
            <a:r>
              <a:rPr b="1" lang="es-VE" sz="1800" spc="-1" strike="noStrike">
                <a:solidFill>
                  <a:srgbClr val="11488b"/>
                </a:solidFill>
                <a:latin typeface="Arial"/>
              </a:rPr>
              <a:t>Sábado, 30 de Mayo, 2015 a las 11:23:02 U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8680" y="2763720"/>
            <a:ext cx="3746520" cy="388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7711920" y="92160"/>
            <a:ext cx="1279800" cy="1279440"/>
          </a:xfrm>
          <a:prstGeom prst="rect">
            <a:avLst/>
          </a:prstGeom>
          <a:ln w="0">
            <a:noFill/>
          </a:ln>
        </p:spPr>
      </p:pic>
      <p:sp>
        <p:nvSpPr>
          <p:cNvPr id="54" name="5-Point Star 10"/>
          <p:cNvSpPr/>
          <p:nvPr/>
        </p:nvSpPr>
        <p:spPr>
          <a:xfrm>
            <a:off x="2617920" y="3809880"/>
            <a:ext cx="201600" cy="158760"/>
          </a:xfrm>
          <a:custGeom>
            <a:avLst/>
            <a:gdLst/>
            <a:ahLst/>
            <a:rect l="l" t="t" r="r" b="b"/>
            <a:pathLst>
              <a:path w="201612" h="158750">
                <a:moveTo>
                  <a:pt x="0" y="60637"/>
                </a:moveTo>
                <a:lnTo>
                  <a:pt x="77009" y="60637"/>
                </a:lnTo>
                <a:lnTo>
                  <a:pt x="100806" y="0"/>
                </a:lnTo>
                <a:lnTo>
                  <a:pt x="124603" y="60637"/>
                </a:lnTo>
                <a:lnTo>
                  <a:pt x="201612" y="60637"/>
                </a:lnTo>
                <a:lnTo>
                  <a:pt x="139310" y="98112"/>
                </a:lnTo>
                <a:lnTo>
                  <a:pt x="163107" y="158750"/>
                </a:lnTo>
                <a:lnTo>
                  <a:pt x="100806" y="121273"/>
                </a:lnTo>
                <a:lnTo>
                  <a:pt x="38505" y="158750"/>
                </a:lnTo>
                <a:lnTo>
                  <a:pt x="62302" y="98112"/>
                </a:lnTo>
                <a:lnTo>
                  <a:pt x="0" y="6063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419720" y="5715000"/>
            <a:ext cx="459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islas Bonin, también conocidas como las islas de Ogasawara, son un archipiélago de más de 30 islas subtropicales y tropicales, unos 1.000 kiló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540 nmi; 620 mi) directamente al sur de Tokio, Jap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4951440" y="2994120"/>
            <a:ext cx="39495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PAGER.png"/>
          <p:cNvPicPr/>
          <p:nvPr/>
        </p:nvPicPr>
        <p:blipFill>
          <a:blip r:embed="rId1"/>
          <a:stretch/>
        </p:blipFill>
        <p:spPr>
          <a:xfrm>
            <a:off x="4952880" y="1170000"/>
            <a:ext cx="4159440" cy="4297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8"/>
          <p:cNvSpPr/>
          <p:nvPr/>
        </p:nvSpPr>
        <p:spPr>
          <a:xfrm>
            <a:off x="264960" y="1055520"/>
            <a:ext cx="4496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bido a la profundidad de este terremoto a 678 km (421 millas) y las pocas islas que se encuentran en la región, el Servicio Geológico de los EEUU. Estimo que solamente 2.000 personas experimentaron fuertes temblores como consecuencia de este terremo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demás, un tsunami no se generó debido a que el fondo del océano  no fue desplazado como consecuencia de un terremoto a esta profund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PAGER Table.tiff"/>
          <p:cNvPicPr/>
          <p:nvPr/>
        </p:nvPicPr>
        <p:blipFill>
          <a:blip r:embed="rId3"/>
          <a:srcRect l="0" t="0" r="0" b="30072"/>
          <a:stretch/>
        </p:blipFill>
        <p:spPr>
          <a:xfrm>
            <a:off x="777960" y="3886200"/>
            <a:ext cx="2379600" cy="2803680"/>
          </a:xfrm>
          <a:prstGeom prst="rect">
            <a:avLst/>
          </a:prstGeom>
          <a:ln w="0">
            <a:noFill/>
          </a:ln>
        </p:spPr>
      </p:pic>
      <p:sp>
        <p:nvSpPr>
          <p:cNvPr id="62" name="Title 1"/>
          <p:cNvSpPr/>
          <p:nvPr/>
        </p:nvSpPr>
        <p:spPr>
          <a:xfrm>
            <a:off x="1230480" y="109440"/>
            <a:ext cx="746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11488b"/>
                </a:solidFill>
                <a:latin typeface="Arial"/>
              </a:rPr>
              <a:t>Magnitud 7,8 ISLAS BONIN, JAPÓN</a:t>
            </a:r>
            <a:br>
              <a:rPr sz="4200"/>
            </a:br>
            <a:r>
              <a:rPr b="1" lang="es-ES_tradnl" sz="1800" spc="-1" strike="noStrike">
                <a:solidFill>
                  <a:srgbClr val="11488b"/>
                </a:solidFill>
                <a:latin typeface="Arial"/>
              </a:rPr>
              <a:t>Sábado, 30 de Mayo, 2015 a las 11:23:02 U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3333600" y="5521320"/>
            <a:ext cx="576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ódigo de intensidad MMI. La población total expuesta a un valor de MMI dado es obtenida sumando la población entre las líneas de contorno. La estimación de la población expuesta a cada intensidad  MMI es mostrada en la tabla de la parte 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4572000" y="6473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4648320" y="68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USGS PA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217440" y="1131840"/>
            <a:ext cx="32749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ste mapa muestra la velocidad y dirección del movimiento de la Placa del Pacífico con respecto a la Placa de las Filipinas en las cercanías de la Fosa de Iz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n esta localización de terremoto, la Placa del Pacífico se mueve aproximadamente hacia el oeste con respecto a la Placa Oceánica de las Filipinas a una velocidad de 39 mm/añ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28600" y="4913280"/>
            <a:ext cx="3726000" cy="19447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8"/>
          <p:cNvGrpSpPr/>
          <p:nvPr/>
        </p:nvGrpSpPr>
        <p:grpSpPr>
          <a:xfrm>
            <a:off x="3619440" y="1030320"/>
            <a:ext cx="5981760" cy="3895560"/>
            <a:chOff x="3619440" y="1030320"/>
            <a:chExt cx="5981760" cy="3895560"/>
          </a:xfrm>
        </p:grpSpPr>
        <p:grpSp>
          <p:nvGrpSpPr>
            <p:cNvPr id="71" name="Group 6"/>
            <p:cNvGrpSpPr/>
            <p:nvPr/>
          </p:nvGrpSpPr>
          <p:grpSpPr>
            <a:xfrm>
              <a:off x="3619440" y="1030320"/>
              <a:ext cx="5981760" cy="3895560"/>
              <a:chOff x="3619440" y="1030320"/>
              <a:chExt cx="5981760" cy="3895560"/>
            </a:xfrm>
          </p:grpSpPr>
          <p:grpSp>
            <p:nvGrpSpPr>
              <p:cNvPr id="72" name="Group 5"/>
              <p:cNvGrpSpPr/>
              <p:nvPr/>
            </p:nvGrpSpPr>
            <p:grpSpPr>
              <a:xfrm>
                <a:off x="3619440" y="1030320"/>
                <a:ext cx="5981760" cy="3895560"/>
                <a:chOff x="3619440" y="1030320"/>
                <a:chExt cx="5981760" cy="3895560"/>
              </a:xfrm>
            </p:grpSpPr>
            <p:pic>
              <p:nvPicPr>
                <p:cNvPr id="73" name="Picture 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19440" y="1030320"/>
                  <a:ext cx="5182200" cy="389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TextBox 4"/>
                <p:cNvSpPr/>
                <p:nvPr/>
              </p:nvSpPr>
              <p:spPr>
                <a:xfrm>
                  <a:off x="3836160" y="1840680"/>
                  <a:ext cx="259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VE" sz="1400" spc="-1" strike="noStrike">
                      <a:solidFill>
                        <a:srgbClr val="ffff00"/>
                      </a:solidFill>
                      <a:latin typeface="Arial"/>
                    </a:rPr>
                    <a:t>Placa Euroasiat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Box 12"/>
                <p:cNvSpPr/>
                <p:nvPr/>
              </p:nvSpPr>
              <p:spPr>
                <a:xfrm>
                  <a:off x="7010280" y="4015440"/>
                  <a:ext cx="259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VE" sz="1400" spc="-1" strike="noStrike">
                      <a:solidFill>
                        <a:srgbClr val="ffff00"/>
                      </a:solidFill>
                      <a:latin typeface="Arial"/>
                    </a:rPr>
                    <a:t>Placa del Pacífic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Box 13"/>
                <p:cNvSpPr/>
                <p:nvPr/>
              </p:nvSpPr>
              <p:spPr>
                <a:xfrm>
                  <a:off x="4415760" y="4221720"/>
                  <a:ext cx="259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VE" sz="1400" spc="-1" strike="noStrike">
                      <a:solidFill>
                        <a:srgbClr val="ffff00"/>
                      </a:solidFill>
                      <a:latin typeface="Arial"/>
                    </a:rPr>
                    <a:t>Placa Filipin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5-Point Star 2"/>
                <p:cNvSpPr/>
                <p:nvPr/>
              </p:nvSpPr>
              <p:spPr>
                <a:xfrm>
                  <a:off x="5505480" y="3689280"/>
                  <a:ext cx="260280" cy="206280"/>
                </a:xfrm>
                <a:custGeom>
                  <a:avLst/>
                  <a:gdLst/>
                  <a:ahLst/>
                  <a:rect l="l" t="t" r="r" b="b"/>
                  <a:pathLst>
                    <a:path w="260322" h="206375">
                      <a:moveTo>
                        <a:pt x="0" y="78828"/>
                      </a:moveTo>
                      <a:lnTo>
                        <a:pt x="99435" y="78829"/>
                      </a:lnTo>
                      <a:lnTo>
                        <a:pt x="130161" y="0"/>
                      </a:lnTo>
                      <a:lnTo>
                        <a:pt x="160887" y="78829"/>
                      </a:lnTo>
                      <a:lnTo>
                        <a:pt x="260322" y="78828"/>
                      </a:lnTo>
                      <a:lnTo>
                        <a:pt x="179877" y="127546"/>
                      </a:lnTo>
                      <a:lnTo>
                        <a:pt x="210605" y="206374"/>
                      </a:lnTo>
                      <a:lnTo>
                        <a:pt x="130161" y="157655"/>
                      </a:lnTo>
                      <a:lnTo>
                        <a:pt x="49717" y="206374"/>
                      </a:lnTo>
                      <a:lnTo>
                        <a:pt x="80445" y="127546"/>
                      </a:lnTo>
                      <a:lnTo>
                        <a:pt x="0" y="7882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78" name="Straight Arrow Connector 18"/>
              <p:cNvCxnSpPr>
                <a:stCxn id="79" idx="1"/>
              </p:cNvCxnSpPr>
              <p:nvPr/>
            </p:nvCxnSpPr>
            <p:spPr>
              <a:xfrm flipH="1">
                <a:off x="5981400" y="2843640"/>
                <a:ext cx="305280" cy="75240"/>
              </a:xfrm>
              <a:prstGeom prst="straightConnector1">
                <a:avLst/>
              </a:prstGeom>
              <a:ln w="25560">
                <a:solidFill>
                  <a:srgbClr val="ffff00"/>
                </a:solidFill>
                <a:miter/>
                <a:tailEnd len="med" type="arrow" w="med"/>
              </a:ln>
            </p:spPr>
          </p:cxnSp>
          <p:sp>
            <p:nvSpPr>
              <p:cNvPr id="79" name="TextBox 15"/>
              <p:cNvSpPr/>
              <p:nvPr/>
            </p:nvSpPr>
            <p:spPr>
              <a:xfrm>
                <a:off x="6286680" y="269100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VE" sz="1400" spc="-1" strike="noStrike">
                    <a:solidFill>
                      <a:srgbClr val="ffff00"/>
                    </a:solidFill>
                    <a:latin typeface="Arial"/>
                  </a:rPr>
                  <a:t>Fosa de Jap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0" name="Straight Arrow Connector 19"/>
            <p:cNvCxnSpPr>
              <a:stCxn id="81" idx="1"/>
            </p:cNvCxnSpPr>
            <p:nvPr/>
          </p:nvCxnSpPr>
          <p:spPr>
            <a:xfrm flipH="1">
              <a:off x="5905080" y="3508920"/>
              <a:ext cx="305280" cy="7524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  <a:tailEnd len="med" type="arrow" w="med"/>
            </a:ln>
          </p:spPr>
        </p:cxnSp>
        <p:sp>
          <p:nvSpPr>
            <p:cNvPr id="81" name="TextBox 15"/>
            <p:cNvSpPr/>
            <p:nvPr/>
          </p:nvSpPr>
          <p:spPr>
            <a:xfrm>
              <a:off x="6210360" y="335556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400" spc="-1" strike="noStrike">
                  <a:solidFill>
                    <a:srgbClr val="ffff00"/>
                  </a:solidFill>
                  <a:latin typeface="Arial"/>
                </a:rPr>
                <a:t>Fosa de Iz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9"/>
          <p:cNvSpPr/>
          <p:nvPr/>
        </p:nvSpPr>
        <p:spPr>
          <a:xfrm>
            <a:off x="4005360" y="6095880"/>
            <a:ext cx="339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Imagen cortesía de la Agencia Japonesa para las Ciencias de la Tierra – Marinas y Tecn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"/>
          <p:cNvPicPr/>
          <p:nvPr/>
        </p:nvPicPr>
        <p:blipFill>
          <a:blip r:embed="rId4"/>
          <a:stretch/>
        </p:blipFill>
        <p:spPr>
          <a:xfrm>
            <a:off x="7743960" y="5045040"/>
            <a:ext cx="105732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Title 1"/>
          <p:cNvSpPr/>
          <p:nvPr/>
        </p:nvSpPr>
        <p:spPr>
          <a:xfrm>
            <a:off x="1230480" y="109440"/>
            <a:ext cx="746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11488b"/>
                </a:solidFill>
                <a:latin typeface="Arial"/>
              </a:rPr>
              <a:t>Magnitud 7,8 ISLAS BONIN, JAPÓN</a:t>
            </a:r>
            <a:br>
              <a:rPr sz="4200"/>
            </a:br>
            <a:r>
              <a:rPr b="1" lang="es-ES_tradnl" sz="1800" spc="-1" strike="noStrike">
                <a:solidFill>
                  <a:srgbClr val="11488b"/>
                </a:solidFill>
                <a:latin typeface="Arial"/>
              </a:rPr>
              <a:t>Sábado, 30 de Mayo, 2015 a las 11:23:02 U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Seismicity.tiff"/>
          <p:cNvPicPr/>
          <p:nvPr/>
        </p:nvPicPr>
        <p:blipFill>
          <a:blip r:embed="rId1"/>
          <a:srcRect l="1079" t="0" r="0" b="0"/>
          <a:stretch/>
        </p:blipFill>
        <p:spPr>
          <a:xfrm>
            <a:off x="4059360" y="914400"/>
            <a:ext cx="4930560" cy="54864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8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9"/>
          <p:cNvSpPr/>
          <p:nvPr/>
        </p:nvSpPr>
        <p:spPr>
          <a:xfrm>
            <a:off x="271440" y="1100160"/>
            <a:ext cx="369108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l epicentro de este terremoto de magnitud 7,8 es mostrado en el mapa de sismicidad histórica regional de la parte derecha. En el corte transversal orientado E-O de la parte inferior, terremotos intermedios y profundos dentro de la placa del Pacífico ilustra el ángulo agudo de subducción debajo de la Placa Filipin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26"/>
          <p:cNvCxnSpPr/>
          <p:nvPr/>
        </p:nvCxnSpPr>
        <p:spPr>
          <a:xfrm flipV="1">
            <a:off x="5738400" y="5562360"/>
            <a:ext cx="1067400" cy="3052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90" name="Picture 2" descr="CrossSection.tiff"/>
          <p:cNvPicPr/>
          <p:nvPr/>
        </p:nvPicPr>
        <p:blipFill>
          <a:blip r:embed="rId3"/>
          <a:srcRect l="17809" t="15852" r="10193" b="6031"/>
          <a:stretch/>
        </p:blipFill>
        <p:spPr>
          <a:xfrm>
            <a:off x="709560" y="4191120"/>
            <a:ext cx="2743200" cy="25207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91" name="Picture 7" descr="MagLegend.tiff"/>
          <p:cNvPicPr/>
          <p:nvPr/>
        </p:nvPicPr>
        <p:blipFill>
          <a:blip r:embed="rId4"/>
          <a:stretch/>
        </p:blipFill>
        <p:spPr>
          <a:xfrm>
            <a:off x="4138560" y="4038480"/>
            <a:ext cx="1427040" cy="54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DepthLegend.tiff"/>
          <p:cNvPicPr/>
          <p:nvPr/>
        </p:nvPicPr>
        <p:blipFill>
          <a:blip r:embed="rId5"/>
          <a:stretch/>
        </p:blipFill>
        <p:spPr>
          <a:xfrm>
            <a:off x="8407440" y="2209680"/>
            <a:ext cx="584280" cy="28702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3"/>
          <p:cNvSpPr/>
          <p:nvPr/>
        </p:nvSpPr>
        <p:spPr>
          <a:xfrm>
            <a:off x="4139640" y="5715000"/>
            <a:ext cx="157536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7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 May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0"/>
          <p:cNvSpPr/>
          <p:nvPr/>
        </p:nvSpPr>
        <p:spPr>
          <a:xfrm>
            <a:off x="5891040" y="5029200"/>
            <a:ext cx="2438640" cy="137268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600" spc="-1" strike="noStrike">
                <a:solidFill>
                  <a:srgbClr val="ffffff"/>
                </a:solidFill>
                <a:latin typeface="Arial"/>
              </a:rPr>
              <a:t>Area del corte trans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eft Arrow 18"/>
          <p:cNvSpPr/>
          <p:nvPr/>
        </p:nvSpPr>
        <p:spPr>
          <a:xfrm>
            <a:off x="2843280" y="4876920"/>
            <a:ext cx="2971800" cy="83808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33"/>
          <p:cNvCxnSpPr>
            <a:stCxn id="93" idx="1"/>
          </p:cNvCxnSpPr>
          <p:nvPr/>
        </p:nvCxnSpPr>
        <p:spPr>
          <a:xfrm flipH="1">
            <a:off x="2004120" y="6038640"/>
            <a:ext cx="2134440" cy="36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7" name="TextBox 15"/>
          <p:cNvSpPr/>
          <p:nvPr/>
        </p:nvSpPr>
        <p:spPr>
          <a:xfrm>
            <a:off x="3505320" y="647712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Mapa generado usando el </a:t>
            </a: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Navegador Interactivo de Terremotos de </a:t>
            </a: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I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1230480" y="109440"/>
            <a:ext cx="746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11488b"/>
                </a:solidFill>
                <a:latin typeface="Arial"/>
              </a:rPr>
              <a:t>Magnitud 7,8 ISLAS BONIN, JAPÓN</a:t>
            </a:r>
            <a:br>
              <a:rPr sz="4200"/>
            </a:br>
            <a:r>
              <a:rPr b="1" lang="es-ES_tradnl" sz="1800" spc="-1" strike="noStrike">
                <a:solidFill>
                  <a:srgbClr val="11488b"/>
                </a:solidFill>
                <a:latin typeface="Arial"/>
              </a:rPr>
              <a:t>Sábado, 30 de Mayo, 2015 a las 11:23:02 U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655560" y="838080"/>
            <a:ext cx="7848720" cy="4483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438280" y="5410080"/>
            <a:ext cx="4800600" cy="446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225360" y="5791320"/>
            <a:ext cx="885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Placa del Pacífico que se subduce, adyacente a la Fosa de Izu tiene mas de 120 millones de años y es por lo tanto muy fría cuando se subduce debajo de la Placa Filipina. Como consecuencia, la placa que se subduce es bien definida por sismicidad hasta profundidades de 700 k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le 1"/>
          <p:cNvSpPr/>
          <p:nvPr/>
        </p:nvSpPr>
        <p:spPr>
          <a:xfrm>
            <a:off x="1230480" y="109440"/>
            <a:ext cx="746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11488b"/>
                </a:solidFill>
                <a:latin typeface="Arial"/>
              </a:rPr>
              <a:t>Magnitud 7,8 ISLAS BONIN, JAPÓN</a:t>
            </a:r>
            <a:br>
              <a:rPr sz="4200"/>
            </a:br>
            <a:r>
              <a:rPr b="1" lang="es-ES_tradnl" sz="1800" spc="-1" strike="noStrike">
                <a:solidFill>
                  <a:srgbClr val="11488b"/>
                </a:solidFill>
                <a:latin typeface="Arial"/>
              </a:rPr>
              <a:t>Sábado, 30 de Mayo, 2015 a las 11:23:02 U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228600" y="1049400"/>
            <a:ext cx="861552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Para producir terremotos, rocas deben ser frágiles para que puedan acumular energía elástica mientras se doblan luego liberan dicha energía rápidamente durante la ruptura del terremoto. Las rocas son quebradizas a bajas temperaturas pero se vuelven viscoelásticas cuando alcanzan temperaturas de aproximadamente 600 ° C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on la excepción de las placas oceánicas que se subducen, las rocas en el manto de la Tierra por debajo de unos 100 km de profundidad son viscoelásticas y no puede romperse para producir terremot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43000" y="3224160"/>
            <a:ext cx="3033720" cy="34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in embargo, las placas oceánicas más frías que se subducen pueden alcanzar profundidades de hasta unos 700 kilómetros hacia el manto caliente y continuar produciendo terremotos. Los terremotos más profundos se cree que es debido a los cambios de fase de los minerales en la alta presión y condiciones de temperatura en esas profundidad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3505320" y="3220920"/>
            <a:ext cx="5352840" cy="34466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6400800" y="59040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magen cortesía del Laboratorio sismológico de la Universidad de California en Berk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1230480" y="109440"/>
            <a:ext cx="746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11488b"/>
                </a:solidFill>
                <a:latin typeface="Arial"/>
              </a:rPr>
              <a:t>Magnitud 7,8 ISLAS BONIN, JAPÓN</a:t>
            </a:r>
            <a:br>
              <a:rPr sz="4200"/>
            </a:br>
            <a:r>
              <a:rPr b="1" lang="es-ES_tradnl" sz="1800" spc="-1" strike="noStrike">
                <a:solidFill>
                  <a:srgbClr val="11488b"/>
                </a:solidFill>
                <a:latin typeface="Arial"/>
              </a:rPr>
              <a:t>Sábado, 30 de Mayo, 2015 a las 11:23:02 U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20150530 Japan.JPG"/>
          <p:cNvPicPr/>
          <p:nvPr/>
        </p:nvPicPr>
        <p:blipFill>
          <a:blip r:embed="rId1"/>
          <a:srcRect l="0" t="3076" r="0" b="5492"/>
          <a:stretch/>
        </p:blipFill>
        <p:spPr>
          <a:xfrm>
            <a:off x="222120" y="1827360"/>
            <a:ext cx="8898120" cy="4573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1219320" y="2128680"/>
            <a:ext cx="7010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Seguido del terremoto, las ondas compresionales  P se tomaron 11 minutos y 42 segundos en viajar una trayectoria curva a través del manto hasta Portland, Oreg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752480" y="2738520"/>
            <a:ext cx="6096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Ondas PP son ondas compresionales que rebotan fuera de la superficie de la Tierra a mitad de camino entre el terremoto y la estación de regis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3352680" y="3424320"/>
            <a:ext cx="54864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Ondas S y SS son ondas cortantes que siguen la misma trayectoria a través del manto como las ondas P. Las ondas S se tomaron 21 minutos y 22 segundos en viajar desde el terremoto hasta Port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114800" y="4572000"/>
            <a:ext cx="4867200" cy="15858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Calibri"/>
              </a:rPr>
              <a:t>Las ondas de superficie, ambas Love and Rayleigh, viajaron 8316 km (5167 millas) a lo largo del perímetro de la Tierra desde el terremoto hasta la estación de registro. Debido a que este terremolto ocurrio a mas de 600 km por debajo de la superficie de la Tierra, solamente un pequeño porcentaje de energia sismica se projecto desde el terremoto como ondas de superfic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1230480" y="109440"/>
            <a:ext cx="746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11488b"/>
                </a:solidFill>
                <a:latin typeface="Arial"/>
              </a:rPr>
              <a:t>Magnitud 7,8 ISLAS BONIN, JAPÓN</a:t>
            </a:r>
            <a:br>
              <a:rPr sz="4200"/>
            </a:br>
            <a:r>
              <a:rPr b="1" lang="es-ES_tradnl" sz="1800" spc="-1" strike="noStrike">
                <a:solidFill>
                  <a:srgbClr val="11488b"/>
                </a:solidFill>
                <a:latin typeface="Arial"/>
              </a:rPr>
              <a:t>Sábado, 30 de Mayo, 2015 a las 11:23:02 U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152280" y="914400"/>
            <a:ext cx="883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l registro del terremoto observado en el sismógrafo de la Universidad de Portland (UPOR) es ilustrado en la parte inferior. Portland está ubicada aproximadamente 8316 km (5167 millas, 74.9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) desde la localización de este terremo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sp>
        <p:nvSpPr>
          <p:cNvPr id="125" name="Title 1"/>
          <p:cNvSpPr/>
          <p:nvPr/>
        </p:nvSpPr>
        <p:spPr>
          <a:xfrm>
            <a:off x="1230480" y="109440"/>
            <a:ext cx="7465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11488b"/>
                </a:solidFill>
                <a:latin typeface="Arial"/>
              </a:rPr>
              <a:t>Magnitud 7,8 ISLAS BONIN, JAPÓN</a:t>
            </a:r>
            <a:br>
              <a:rPr sz="4200"/>
            </a:br>
            <a:r>
              <a:rPr b="1" lang="es-ES_tradnl" sz="1800" spc="-1" strike="noStrike">
                <a:solidFill>
                  <a:srgbClr val="11488b"/>
                </a:solidFill>
                <a:latin typeface="Arial"/>
              </a:rPr>
              <a:t>Sábado, 30 de Mayo, 2015 a las 11:23:02 U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</a:rPr>
              <a:t>Momentos de Enseñanzas son servici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ducación IRIS &amp; Alcance Pu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Douglas Alfredo Bravo Bustamante</cp:lastModifiedBy>
  <dcterms:modified xsi:type="dcterms:W3CDTF">2015-06-02T15:39:08Z</dcterms:modified>
  <cp:revision>582</cp:revision>
  <dc:subject/>
  <dc:title>Slide 1</dc:title>
</cp:coreProperties>
</file>