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6743-024C-4EB5-B5BD-BABAEE173252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iris.edu/ieb" TargetMode="External"/><Relationship Id="rId2" Type="http://schemas.openxmlformats.org/officeDocument/2006/relationships/slide" Target="../slides/slide5.xml"/><Relationship Id="rId3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0302-E394-4ED8-8BE7-D547FE1E9009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king intensity scales were developed to standardize the measurements and ease comparison of different earthquakes. The Modified-Mercalli Intensity scale is a twelve-stage scale, from I to XII.  Lower numbers represent imperceptible shaking while XII represents total destru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7B89-84D5-499A-A325-2C5483E77CF2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F870-F319-4631-B9DB-153FFAABBA3F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3996"/>
                </a:solidFill>
                <a:latin typeface="Calibri"/>
              </a:rPr>
              <a:t>Relevant Animations: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arthquake focal mechanism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ris.edu/hq/programs/education_and_outreach/animations/25  (at 2 minutes 22 seconds into the animation there is a good description of how the focal mechanisms in this part of the world are determin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mage Caption: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ded areas show quadrants of the focal sphere in which the P-wave first-motions were away from the source, and unshaded areas show quadrants in which the P-wave first-motions were toward the source. The letter P shows the axis of maximum compressional strain, called the "P-axis῀, and the letter T shows the axis of maximum extensional strain, called the "T-axis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7BFE-46A0-41B9-A878-4C176C4BF8B2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3996"/>
                </a:solidFill>
                <a:latin typeface="Calibri"/>
              </a:rPr>
              <a:t>Exploring Seismicit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active Earthquake Browser—World map or 3D viewer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iris.edu/ieb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2E86-69D3-4F53-B39D-46F0BB67E527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E277-C868-4B0A-B4BA-15B7B8E56844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1205-5F62-45E7-BAD0-4D160E0A4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F83A-BD93-404B-9E4D-3FDB85FD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747F-BBE8-49E6-B820-B80DA4FFB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621C-1548-45AA-A93C-B2D1ABA3D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3A8A-37E5-417F-942B-182FCEA9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18B9-F88B-40F1-86C1-2B076CDA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70B5-0AC3-417C-B810-15FB8A24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A9F2-F9E8-4787-87FB-850D4F57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535A-4AEA-468E-BA63-BACA5465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8F02-51F1-472E-A618-EBA35AA8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CB59-2B71-4B25-946F-F494F55B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010C-B9F9-409C-8B31-88F4AC61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86E6-1F43-4688-977C-A7E16C8E75A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4"/>
          <p:cNvSpPr/>
          <p:nvPr/>
        </p:nvSpPr>
        <p:spPr>
          <a:xfrm>
            <a:off x="276120" y="1143000"/>
            <a:ext cx="84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ajor, magnitude 7.0 earthquake occurred in the Southern Atlantic Ocean.  The earthquake was located about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750 km (1709 mi) SE of Arraial do Cabo, Brazil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is shallow earthquake occurred on or near a transform fault forming part of the South American - African Plate bound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5359320" y="5396040"/>
            <a:ext cx="3646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is earthquake occurred 494 km (307 mi) WNW of Edinburgh of the Seven Seas, the main settlement of the island of Tristan da Cunha, a British territory and one of the most remote inhabited places on eart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1231920" y="-324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n-US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e 7.0 SOUTHERN MID-ATLANTIC RIDGE</a:t>
            </a:r>
            <a:br>
              <a:rPr sz="3500"/>
            </a:br>
            <a:r>
              <a:rPr b="1" lang="en-US" sz="1500" spc="-1" strike="noStrike">
                <a:solidFill>
                  <a:srgbClr val="11488b"/>
                </a:solidFill>
                <a:latin typeface="Arial"/>
                <a:ea typeface="Arial"/>
              </a:rPr>
              <a:t>Wednesday,  June 17, 2015 at 12:51:33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2"/>
          <a:stretch/>
        </p:blipFill>
        <p:spPr>
          <a:xfrm>
            <a:off x="420840" y="2471760"/>
            <a:ext cx="4647960" cy="3776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3"/>
          <a:stretch/>
        </p:blipFill>
        <p:spPr>
          <a:xfrm>
            <a:off x="5433840" y="3413160"/>
            <a:ext cx="3467160" cy="19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scale.jpg"/>
          <p:cNvPicPr/>
          <p:nvPr/>
        </p:nvPicPr>
        <p:blipFill>
          <a:blip r:embed="rId1"/>
          <a:stretch/>
        </p:blipFill>
        <p:spPr>
          <a:xfrm>
            <a:off x="380880" y="3976560"/>
            <a:ext cx="2127240" cy="2319480"/>
          </a:xfrm>
          <a:prstGeom prst="rect">
            <a:avLst/>
          </a:prstGeom>
          <a:ln w="0">
            <a:noFill/>
          </a:ln>
        </p:spPr>
      </p:pic>
      <p:sp>
        <p:nvSpPr>
          <p:cNvPr id="57" name="TextBox 13"/>
          <p:cNvSpPr/>
          <p:nvPr/>
        </p:nvSpPr>
        <p:spPr>
          <a:xfrm>
            <a:off x="271440" y="366876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ified Mercalli Int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2576520" y="3429000"/>
            <a:ext cx="1219320" cy="31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iv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a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Extre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Vio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Arial"/>
              </a:rPr>
              <a:t>Sev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Arial"/>
              </a:rPr>
              <a:t>Very 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Fe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257040" y="1131840"/>
            <a:ext cx="353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dified-Mercalli Inten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 is a twelve-stage scale, from I to XII, that indicates the severity of ground shak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of the remote location, no one was shaken by this earthqua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IRIS_TMlogo.png"/>
          <p:cNvPicPr/>
          <p:nvPr/>
        </p:nvPicPr>
        <p:blipFill>
          <a:blip r:embed="rId2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61" name="TextBox 15"/>
          <p:cNvSpPr/>
          <p:nvPr/>
        </p:nvSpPr>
        <p:spPr>
          <a:xfrm>
            <a:off x="165240" y="652464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mage courtesy of the US Geological Surv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5"/>
          <p:cNvSpPr/>
          <p:nvPr/>
        </p:nvSpPr>
        <p:spPr>
          <a:xfrm>
            <a:off x="4114800" y="6095880"/>
            <a:ext cx="480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USGS Estimated shaking Intensity from M 7.0 Earthqua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itle 1"/>
          <p:cNvSpPr/>
          <p:nvPr/>
        </p:nvSpPr>
        <p:spPr>
          <a:xfrm>
            <a:off x="1231920" y="-324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n-US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e 7.0 SOUTHERN MID-ATLANTIC RIDGE</a:t>
            </a:r>
            <a:br>
              <a:rPr sz="3500"/>
            </a:br>
            <a:r>
              <a:rPr b="1" lang="en-US" sz="1500" spc="-1" strike="noStrike">
                <a:solidFill>
                  <a:srgbClr val="11488b"/>
                </a:solidFill>
                <a:latin typeface="Arial"/>
                <a:ea typeface="Arial"/>
              </a:rPr>
              <a:t>Wednesday,  June 17, 2015 at 12:51:33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" descr="Shake.jpg"/>
          <p:cNvPicPr/>
          <p:nvPr/>
        </p:nvPicPr>
        <p:blipFill>
          <a:blip r:embed="rId3"/>
          <a:srcRect l="5345" t="8437" r="8874" b="21448"/>
          <a:stretch/>
        </p:blipFill>
        <p:spPr>
          <a:xfrm>
            <a:off x="4002120" y="1371600"/>
            <a:ext cx="4761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228600" y="1033560"/>
            <a:ext cx="3505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id-Atlantic Ridge is a divergent tectonic plate boundary located along the floor of the Atlantic Ocean, and part of the longest mountain range in the wor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itle 1"/>
          <p:cNvSpPr/>
          <p:nvPr/>
        </p:nvSpPr>
        <p:spPr>
          <a:xfrm>
            <a:off x="1231920" y="-324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n-US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e 7.0 SOUTHERN MID-ATLANTIC RIDGE</a:t>
            </a:r>
            <a:br>
              <a:rPr sz="3500"/>
            </a:br>
            <a:r>
              <a:rPr b="1" lang="en-US" sz="1500" spc="-1" strike="noStrike">
                <a:solidFill>
                  <a:srgbClr val="11488b"/>
                </a:solidFill>
                <a:latin typeface="Arial"/>
                <a:ea typeface="Arial"/>
              </a:rPr>
              <a:t>Wednesday,  June 17, 2015 at 12:51:33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2" descr=""/>
          <p:cNvPicPr/>
          <p:nvPr/>
        </p:nvPicPr>
        <p:blipFill>
          <a:blip r:embed="rId2"/>
          <a:stretch/>
        </p:blipFill>
        <p:spPr>
          <a:xfrm>
            <a:off x="4227480" y="887400"/>
            <a:ext cx="4552920" cy="5587920"/>
          </a:xfrm>
          <a:prstGeom prst="rect">
            <a:avLst/>
          </a:prstGeom>
          <a:ln w="0">
            <a:noFill/>
          </a:ln>
        </p:spPr>
      </p:pic>
      <p:sp>
        <p:nvSpPr>
          <p:cNvPr id="70" name="TextBox 15"/>
          <p:cNvSpPr/>
          <p:nvPr/>
        </p:nvSpPr>
        <p:spPr>
          <a:xfrm>
            <a:off x="4140360" y="655308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mage courtesy of the US Geological Surv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3"/>
          <a:stretch/>
        </p:blipFill>
        <p:spPr>
          <a:xfrm>
            <a:off x="353880" y="2971800"/>
            <a:ext cx="338004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239760" y="1143000"/>
            <a:ext cx="227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id-Atlantic Ridge is a divergent plate boundary.  This spreading ridge is offset by many transform fa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1" descr=""/>
          <p:cNvPicPr/>
          <p:nvPr/>
        </p:nvPicPr>
        <p:blipFill>
          <a:blip r:embed="rId2"/>
          <a:stretch/>
        </p:blipFill>
        <p:spPr>
          <a:xfrm>
            <a:off x="2743200" y="914400"/>
            <a:ext cx="6222960" cy="353376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2514600" y="4572000"/>
            <a:ext cx="64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an earthquake, focal mechanisms can be used to remotely determine type of fault motion that generated the seismic wav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"/>
          <p:cNvSpPr/>
          <p:nvPr/>
        </p:nvSpPr>
        <p:spPr>
          <a:xfrm>
            <a:off x="2514600" y="5572080"/>
            <a:ext cx="652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focal mechanism is consistent with left-lateral strike-slip faulting on a near-vertical fault.  Along with the epicenter location, this helps indicate this earthquake occurred as the result of left-lateral strike-slip faulting on a transform fa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1"/>
          <p:cNvSpPr/>
          <p:nvPr/>
        </p:nvSpPr>
        <p:spPr>
          <a:xfrm>
            <a:off x="406440" y="6172200"/>
            <a:ext cx="183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GS Centroid Moment Tensor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itle 1"/>
          <p:cNvSpPr/>
          <p:nvPr/>
        </p:nvSpPr>
        <p:spPr>
          <a:xfrm>
            <a:off x="1231920" y="-324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n-US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e 7.0 SOUTHERN MID-ATLANTIC RIDGE</a:t>
            </a:r>
            <a:br>
              <a:rPr sz="3500"/>
            </a:br>
            <a:r>
              <a:rPr b="1" lang="en-US" sz="1500" spc="-1" strike="noStrike">
                <a:solidFill>
                  <a:srgbClr val="11488b"/>
                </a:solidFill>
                <a:latin typeface="Arial"/>
                <a:ea typeface="Arial"/>
              </a:rPr>
              <a:t>Wednesday,  June 17, 2015 at 12:51:33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482760" y="4195800"/>
            <a:ext cx="1777680" cy="1873080"/>
            <a:chOff x="482760" y="4195800"/>
            <a:chExt cx="1777680" cy="1873080"/>
          </a:xfrm>
        </p:grpSpPr>
        <p:pic>
          <p:nvPicPr>
            <p:cNvPr id="81" name="Picture 1" descr="MomentTensor.tiff"/>
            <p:cNvPicPr/>
            <p:nvPr/>
          </p:nvPicPr>
          <p:blipFill>
            <a:blip r:embed="rId3"/>
            <a:srcRect l="24262" t="0" r="8109" b="13734"/>
            <a:stretch/>
          </p:blipFill>
          <p:spPr>
            <a:xfrm>
              <a:off x="482760" y="4195800"/>
              <a:ext cx="17776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Rectangle 2"/>
            <p:cNvSpPr/>
            <p:nvPr/>
          </p:nvSpPr>
          <p:spPr>
            <a:xfrm>
              <a:off x="1565280" y="5992920"/>
              <a:ext cx="533160" cy="7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1"/>
          <p:cNvGrpSpPr/>
          <p:nvPr/>
        </p:nvGrpSpPr>
        <p:grpSpPr>
          <a:xfrm>
            <a:off x="341280" y="1949400"/>
            <a:ext cx="5461200" cy="4638600"/>
            <a:chOff x="341280" y="1949400"/>
            <a:chExt cx="5461200" cy="4638600"/>
          </a:xfrm>
        </p:grpSpPr>
        <p:pic>
          <p:nvPicPr>
            <p:cNvPr id="84" name="Picture 2" descr="Historic.tiff"/>
            <p:cNvPicPr/>
            <p:nvPr/>
          </p:nvPicPr>
          <p:blipFill>
            <a:blip r:embed="rId1"/>
            <a:stretch/>
          </p:blipFill>
          <p:spPr>
            <a:xfrm>
              <a:off x="380880" y="2097000"/>
              <a:ext cx="5421600" cy="438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Box 24"/>
            <p:cNvSpPr/>
            <p:nvPr/>
          </p:nvSpPr>
          <p:spPr>
            <a:xfrm rot="17366400">
              <a:off x="3034800" y="2614680"/>
              <a:ext cx="1628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id-Atlantic Rid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Box 25"/>
            <p:cNvSpPr/>
            <p:nvPr/>
          </p:nvSpPr>
          <p:spPr>
            <a:xfrm rot="4831200">
              <a:off x="2596680" y="5605560"/>
              <a:ext cx="1628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id-Atlantic Rid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Straight Arrow Connector 12"/>
            <p:cNvCxnSpPr/>
            <p:nvPr/>
          </p:nvCxnSpPr>
          <p:spPr>
            <a:xfrm>
              <a:off x="2438280" y="3468240"/>
              <a:ext cx="234000" cy="199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88" name="TextBox 7"/>
            <p:cNvSpPr/>
            <p:nvPr/>
          </p:nvSpPr>
          <p:spPr>
            <a:xfrm>
              <a:off x="1135440" y="3316320"/>
              <a:ext cx="1389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 7.0 Earthquak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Box 9"/>
            <p:cNvSpPr/>
            <p:nvPr/>
          </p:nvSpPr>
          <p:spPr>
            <a:xfrm>
              <a:off x="442800" y="4390920"/>
              <a:ext cx="220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istan De Cunha Fracture Zo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19"/>
            <p:cNvSpPr/>
            <p:nvPr/>
          </p:nvSpPr>
          <p:spPr>
            <a:xfrm>
              <a:off x="341280" y="2325600"/>
              <a:ext cx="285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outh American Pl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20"/>
            <p:cNvSpPr/>
            <p:nvPr/>
          </p:nvSpPr>
          <p:spPr>
            <a:xfrm>
              <a:off x="3810240" y="4420080"/>
              <a:ext cx="195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frican Pl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9"/>
            <p:cNvSpPr/>
            <p:nvPr/>
          </p:nvSpPr>
          <p:spPr>
            <a:xfrm>
              <a:off x="1030320" y="4938840"/>
              <a:ext cx="1676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ough Fracture Zo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Straight Connector 22"/>
            <p:cNvSpPr/>
            <p:nvPr/>
          </p:nvSpPr>
          <p:spPr>
            <a:xfrm flipV="1">
              <a:off x="3962520" y="5601960"/>
              <a:ext cx="457200" cy="7596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29"/>
            <p:cNvSpPr/>
            <p:nvPr/>
          </p:nvSpPr>
          <p:spPr>
            <a:xfrm>
              <a:off x="4453200" y="5478480"/>
              <a:ext cx="133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nsform Faul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32" descr="IEB Mag Scale.tiff"/>
            <p:cNvPicPr/>
            <p:nvPr/>
          </p:nvPicPr>
          <p:blipFill>
            <a:blip r:embed="rId2"/>
            <a:stretch/>
          </p:blipFill>
          <p:spPr>
            <a:xfrm>
              <a:off x="3962520" y="5754960"/>
              <a:ext cx="1816200" cy="67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TextBox 7"/>
          <p:cNvSpPr/>
          <p:nvPr/>
        </p:nvSpPr>
        <p:spPr>
          <a:xfrm>
            <a:off x="306360" y="110340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onal historical seismicity outlines the Mid-Atlantic Ridge System in the South Atlantic Ocean that forms the plate boundary between the South American Plate and the African Plat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IRIS_TMlogo.png"/>
          <p:cNvPicPr/>
          <p:nvPr/>
        </p:nvPicPr>
        <p:blipFill>
          <a:blip r:embed="rId3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11"/>
          <p:cNvSpPr/>
          <p:nvPr/>
        </p:nvSpPr>
        <p:spPr>
          <a:xfrm>
            <a:off x="5945040" y="2324160"/>
            <a:ext cx="2600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earthquake occurred on an unnamed transform fault that offsets the Mid-Atlantic Rid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latitude of this earthquake, the South American Plate moves approximately westward at a rate of 33 mm/yr with respect to the African Pl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1"/>
          <p:cNvSpPr/>
          <p:nvPr/>
        </p:nvSpPr>
        <p:spPr>
          <a:xfrm>
            <a:off x="306360" y="6543720"/>
            <a:ext cx="556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ap created using the IRIS Earthquake Browser:  www.iris.edu/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itle 1"/>
          <p:cNvSpPr/>
          <p:nvPr/>
        </p:nvSpPr>
        <p:spPr>
          <a:xfrm>
            <a:off x="1231920" y="-324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n-US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e 7.0 SOUTHERN MID-ATLANTIC RIDGE</a:t>
            </a:r>
            <a:br>
              <a:rPr sz="3500"/>
            </a:br>
            <a:r>
              <a:rPr b="1" lang="en-US" sz="1500" spc="-1" strike="noStrike">
                <a:solidFill>
                  <a:srgbClr val="11488b"/>
                </a:solidFill>
                <a:latin typeface="Arial"/>
                <a:ea typeface="Arial"/>
              </a:rPr>
              <a:t>Wednesday,  June 17, 2015 at 12:51:33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15"/>
          <p:cNvSpPr/>
          <p:nvPr/>
        </p:nvSpPr>
        <p:spPr>
          <a:xfrm flipV="1">
            <a:off x="2452680" y="3679560"/>
            <a:ext cx="838080" cy="7596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18"/>
          <p:cNvSpPr/>
          <p:nvPr/>
        </p:nvSpPr>
        <p:spPr>
          <a:xfrm flipV="1">
            <a:off x="2666880" y="4495680"/>
            <a:ext cx="533520" cy="7632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9"/>
          <p:cNvSpPr/>
          <p:nvPr/>
        </p:nvSpPr>
        <p:spPr>
          <a:xfrm flipV="1">
            <a:off x="2666880" y="5029200"/>
            <a:ext cx="457200" cy="7632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21"/>
          <p:cNvSpPr/>
          <p:nvPr/>
        </p:nvSpPr>
        <p:spPr>
          <a:xfrm>
            <a:off x="3352680" y="2895480"/>
            <a:ext cx="30492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762120" y="2408400"/>
            <a:ext cx="785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3996"/>
                </a:solidFill>
                <a:latin typeface="Arial"/>
              </a:rPr>
              <a:t>Teachable Moments are a servic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IS Education &amp; Public Outre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niversity of Portl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" descr=""/>
          <p:cNvPicPr/>
          <p:nvPr/>
        </p:nvPicPr>
        <p:blipFill>
          <a:blip r:embed="rId2"/>
          <a:stretch/>
        </p:blipFill>
        <p:spPr>
          <a:xfrm>
            <a:off x="6210360" y="5181480"/>
            <a:ext cx="2705040" cy="1435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3"/>
          <a:stretch/>
        </p:blipFill>
        <p:spPr>
          <a:xfrm>
            <a:off x="503280" y="5334120"/>
            <a:ext cx="1460520" cy="1150920"/>
          </a:xfrm>
          <a:prstGeom prst="rect">
            <a:avLst/>
          </a:prstGeom>
          <a:ln w="0">
            <a:noFill/>
          </a:ln>
        </p:spPr>
      </p:pic>
      <p:sp>
        <p:nvSpPr>
          <p:cNvPr id="111" name="Title 1"/>
          <p:cNvSpPr/>
          <p:nvPr/>
        </p:nvSpPr>
        <p:spPr>
          <a:xfrm>
            <a:off x="1231920" y="-324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n-US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e 7.0 SOUTHERN MID-ATLANTIC RIDGE</a:t>
            </a:r>
            <a:br>
              <a:rPr sz="3500"/>
            </a:br>
            <a:r>
              <a:rPr b="1" lang="en-US" sz="1500" spc="-1" strike="noStrike">
                <a:solidFill>
                  <a:srgbClr val="11488b"/>
                </a:solidFill>
                <a:latin typeface="Arial"/>
                <a:ea typeface="Arial"/>
              </a:rPr>
              <a:t>Wednesday,  June 17, 2015 at 12:51:33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20:07:40Z</dcterms:created>
  <dc:creator>tkb</dc:creator>
  <dc:description/>
  <dc:language>en-US</dc:language>
  <cp:lastModifiedBy>Kate</cp:lastModifiedBy>
  <dcterms:modified xsi:type="dcterms:W3CDTF">2015-06-19T03:52:03Z</dcterms:modified>
  <cp:revision>328</cp:revision>
  <dc:subject/>
  <dc:title>Slide 1</dc:title>
</cp:coreProperties>
</file>