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CDF-046B-446A-B6B5-17A5622D6C8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iris.edu/ieb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F3C-B9C3-4F16-B3C8-C9814AFEC36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es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108-D7DE-432D-9F38-407EF758690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F423-485D-4182-BFF7-BC873046BE0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Arial"/>
                <a:ea typeface="Arial"/>
              </a:rPr>
              <a:t>Animaciones Relevantes: </a:t>
            </a:r>
            <a:r>
              <a:rPr b="0" lang="es-VE" sz="1200" spc="-1" strike="noStrike">
                <a:solidFill>
                  <a:srgbClr val="393996"/>
                </a:solidFill>
                <a:latin typeface="Arial"/>
                <a:ea typeface="Arial"/>
              </a:rPr>
              <a:t>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  <a:ea typeface="Arial"/>
              </a:rPr>
              <a:t>Mecanismo Focal de un Terremoto</a:t>
            </a:r>
            <a:r>
              <a:rPr b="0" lang="es-VE" sz="1200" spc="-1" strike="noStrike">
                <a:solidFill>
                  <a:srgbClr val="000000"/>
                </a:solidFill>
                <a:latin typeface="Arial"/>
                <a:ea typeface="Arial"/>
              </a:rPr>
              <a:t> 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(en 2 minutos 22 segundos de la animación hay una buena descripción de como los mecanismos focales son determinados en esta parte del mundo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Pie de Foto:</a:t>
            </a:r>
            <a:r>
              <a:rPr b="1" lang="es-VE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Las áreas sombreadas muestran los cuadrantes de la esfera focal en la cual los primeros Movimientos de las ondas P están lejos de la fuente, y las áreas sin sombra muestran los cuadrantes en la cual los primeros movimientos de las ondas P fueron hacia la fuente. La letra P muestra  el eje de máximo esfuerzo compresional,  llamado el “eje P”,  y la letra T muestra el eje de máximo esfuerzo extensional, llamado “eje 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1F1A-39C1-484F-B319-2CAF16A4D32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Calibri"/>
              </a:rPr>
              <a:t>Explora la sismicidad con más detalles: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Imagen del Visualizador de Terremotos de IRIS (</a:t>
            </a:r>
            <a:r>
              <a:rPr b="0" lang="es-V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ris.edu/ieb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5586-A04C-4BA1-B239-B99EED1CD21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E874-E822-4B34-9E46-67B6324EEF1B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F89-4A16-4256-990A-CFA86D16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779-2883-4583-9DE2-51232AB2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EAE-30CF-4ABA-B249-21DF379E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9AA-378A-42DE-8EC5-4D27AF67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86B-A3F1-4FF1-A908-D7FF272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5E1-F08B-4BE2-B236-3ABCA72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608-5F15-46B4-918A-93EEDC5B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627-FF17-4A21-B6C4-1088ECBA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D02-A2A2-409E-BD49-5A31BC0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9A4-1E65-4677-A8BD-AFDD7E3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C70-97D1-471B-888D-2B81CAF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5E3-D411-474C-BDAA-BC8A08F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98E2-C390-4654-B2E6-0900C8265A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76120" y="11430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Un gran terremoto, de magnitud 7,0 se produjo en el Océano Atlántico Sur. El terremoto se encuentra a unos 2750 kilómetros (1.709 millas) al SE de Arraial do Cabo, Brasil. Este terremoto de poca profundidad ocurrió dentro o cerca de una parte falla transformante formación de la América del Sur - límite Placa Afr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59320" y="5396040"/>
            <a:ext cx="3646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Este terremoto ocurrió a 494 kilómetros (307 millas) ONO de Edimburgo de los Siete Mares, el principal asentamiento de la isla de Tristán da Cunha, un territorio británico y uno de los lugares habitados más remotos de la tier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420840" y="2471760"/>
            <a:ext cx="4647960" cy="3776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433840" y="3413160"/>
            <a:ext cx="34671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le.jpg"/>
          <p:cNvPicPr/>
          <p:nvPr/>
        </p:nvPicPr>
        <p:blipFill>
          <a:blip r:embed="rId1"/>
          <a:stretch/>
        </p:blipFill>
        <p:spPr>
          <a:xfrm>
            <a:off x="380880" y="3976560"/>
            <a:ext cx="2127240" cy="231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Shake.jpg"/>
          <p:cNvPicPr/>
          <p:nvPr/>
        </p:nvPicPr>
        <p:blipFill>
          <a:blip r:embed="rId3"/>
          <a:srcRect l="5345" t="8437" r="8874" b="21448"/>
          <a:stretch/>
        </p:blipFill>
        <p:spPr>
          <a:xfrm>
            <a:off x="4002120" y="1371600"/>
            <a:ext cx="476100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271440" y="368604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2576520" y="352728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15228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962520" y="6248520"/>
            <a:ext cx="51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USGS Intensidad de Movimiento Estimada del Terremoto M7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257040" y="949320"/>
            <a:ext cx="35388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La modificación de la escala de intensidad de  Marcelli es una escala de doce niveles, numeradas del  I al XII, que indica la intensidad de movimientos telúric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</a:rPr>
              <a:t>Debido a su ubicación remota, nadie fue afectado por este terremo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28600" y="103356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Dorsal Meso-Atlántica es un límite de placa tectónica divergente situada a lo largo del fondo del Océano Atlántico, y parte de la cordillera más larga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2"/>
          <a:stretch/>
        </p:blipFill>
        <p:spPr>
          <a:xfrm>
            <a:off x="4227480" y="887400"/>
            <a:ext cx="4552920" cy="558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53880" y="2971800"/>
            <a:ext cx="3380040" cy="364968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4572000" y="6550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</a:rPr>
              <a:t>Imagen Cortesía del Servicio Geológico de los 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39760" y="1143000"/>
            <a:ext cx="227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entras la Dorsal Meso-Atlántica es un límite de placa diver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dorsal meso-oceánica es compensada hacia la derecha o a la izquierda por fallas transform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2"/>
          <a:stretch/>
        </p:blipFill>
        <p:spPr>
          <a:xfrm>
            <a:off x="2743200" y="914400"/>
            <a:ext cx="6222960" cy="3533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514600" y="45720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pués de un terremoto, los mecanismos focales son usados para describir la deformación en la región fuente que genera las ondas sísm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14600" y="5572080"/>
            <a:ext cx="65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mecanismo focal es consistente con el fallado lateral derecho en una falla casi vertical. Junto con la ubicación, que ayuda a definir este terremoto que ha ocurrido como resultado de un fallado lateral derecho sobre una falla transform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404640" y="617220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 </a:t>
            </a: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Solución Tensor  Momento Centro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482760" y="4195800"/>
            <a:ext cx="1777680" cy="1873080"/>
            <a:chOff x="482760" y="4195800"/>
            <a:chExt cx="1777680" cy="1873080"/>
          </a:xfrm>
        </p:grpSpPr>
        <p:pic>
          <p:nvPicPr>
            <p:cNvPr id="80" name="Picture 1" descr="MomentTensor.tiff"/>
            <p:cNvPicPr/>
            <p:nvPr/>
          </p:nvPicPr>
          <p:blipFill>
            <a:blip r:embed="rId3"/>
            <a:srcRect l="24262" t="0" r="8109" b="13734"/>
            <a:stretch/>
          </p:blipFill>
          <p:spPr>
            <a:xfrm>
              <a:off x="482760" y="4195800"/>
              <a:ext cx="17776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2"/>
            <p:cNvSpPr/>
            <p:nvPr/>
          </p:nvSpPr>
          <p:spPr>
            <a:xfrm>
              <a:off x="1565280" y="5992920"/>
              <a:ext cx="53316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306360" y="11034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La sismicidad histórica regional describe el Sistema  Dorsal Meso-Atlántico al Sur del Océano Atlántico que forma el limite de placa entre la Placa Sudamericana y la Placa Afric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1"/>
          <p:cNvSpPr/>
          <p:nvPr/>
        </p:nvSpPr>
        <p:spPr>
          <a:xfrm>
            <a:off x="5945040" y="2057400"/>
            <a:ext cx="2895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ste terremoto ocurrió en una falla transformante  sin nombre que compensa la Dorsal del Atlántico Medi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En la latitud de este terremoto, la Placa Sudamericana se mueve aproximadamente hacia el oeste a una velocidad de 33 mm / año con respecto a la Placa Afric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"/>
          <p:cNvGrpSpPr/>
          <p:nvPr/>
        </p:nvGrpSpPr>
        <p:grpSpPr>
          <a:xfrm>
            <a:off x="341280" y="1949400"/>
            <a:ext cx="5461200" cy="4638600"/>
            <a:chOff x="341280" y="1949400"/>
            <a:chExt cx="5461200" cy="4638600"/>
          </a:xfrm>
        </p:grpSpPr>
        <p:pic>
          <p:nvPicPr>
            <p:cNvPr id="88" name="Picture 2" descr="Historic.tiff"/>
            <p:cNvPicPr/>
            <p:nvPr/>
          </p:nvPicPr>
          <p:blipFill>
            <a:blip r:embed="rId2"/>
            <a:stretch/>
          </p:blipFill>
          <p:spPr>
            <a:xfrm>
              <a:off x="380880" y="2097000"/>
              <a:ext cx="5421600" cy="43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24"/>
            <p:cNvSpPr/>
            <p:nvPr/>
          </p:nvSpPr>
          <p:spPr>
            <a:xfrm rot="17366400">
              <a:off x="3034800" y="261468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d-Atlantic 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5"/>
            <p:cNvSpPr/>
            <p:nvPr/>
          </p:nvSpPr>
          <p:spPr>
            <a:xfrm rot="4831200">
              <a:off x="2596680" y="5605560"/>
              <a:ext cx="162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d-Atlantic Ri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Straight Arrow Connector 12"/>
            <p:cNvCxnSpPr/>
            <p:nvPr/>
          </p:nvCxnSpPr>
          <p:spPr>
            <a:xfrm>
              <a:off x="2438280" y="3468240"/>
              <a:ext cx="234000" cy="199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92" name="TextBox 7"/>
            <p:cNvSpPr/>
            <p:nvPr/>
          </p:nvSpPr>
          <p:spPr>
            <a:xfrm>
              <a:off x="1128960" y="3316320"/>
              <a:ext cx="13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Arial"/>
                </a:rPr>
                <a:t>Terremoto M 7,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9"/>
            <p:cNvSpPr/>
            <p:nvPr/>
          </p:nvSpPr>
          <p:spPr>
            <a:xfrm>
              <a:off x="442800" y="4390920"/>
              <a:ext cx="220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000" spc="-1" strike="noStrike">
                  <a:solidFill>
                    <a:srgbClr val="000000"/>
                  </a:solidFill>
                  <a:latin typeface="Arial"/>
                </a:rPr>
                <a:t>Zona de fractura de </a:t>
              </a:r>
              <a:r>
                <a:rPr b="0" lang="es-VE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stán da Cun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9"/>
            <p:cNvSpPr/>
            <p:nvPr/>
          </p:nvSpPr>
          <p:spPr>
            <a:xfrm>
              <a:off x="341280" y="232560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000" spc="-1" strike="noStrike">
                  <a:solidFill>
                    <a:srgbClr val="000000"/>
                  </a:solidFill>
                  <a:latin typeface="Arial"/>
                </a:rPr>
                <a:t>Placa de Sur Amé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0"/>
            <p:cNvSpPr/>
            <p:nvPr/>
          </p:nvSpPr>
          <p:spPr>
            <a:xfrm>
              <a:off x="3810240" y="4420080"/>
              <a:ext cx="195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000" spc="-1" strike="noStrike">
                  <a:solidFill>
                    <a:srgbClr val="000000"/>
                  </a:solidFill>
                  <a:latin typeface="Arial"/>
                </a:rPr>
                <a:t>Placa Afric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9"/>
            <p:cNvSpPr/>
            <p:nvPr/>
          </p:nvSpPr>
          <p:spPr>
            <a:xfrm>
              <a:off x="1030320" y="4938840"/>
              <a:ext cx="1676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100" spc="-1" strike="noStrike">
                  <a:solidFill>
                    <a:srgbClr val="000000"/>
                  </a:solidFill>
                  <a:latin typeface="Arial"/>
                </a:rPr>
                <a:t>Zona de Fractura de Goug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22"/>
            <p:cNvSpPr/>
            <p:nvPr/>
          </p:nvSpPr>
          <p:spPr>
            <a:xfrm flipV="1">
              <a:off x="3962520" y="5601960"/>
              <a:ext cx="457200" cy="759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9"/>
            <p:cNvSpPr/>
            <p:nvPr/>
          </p:nvSpPr>
          <p:spPr>
            <a:xfrm>
              <a:off x="4100400" y="5325480"/>
              <a:ext cx="17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1200" spc="-1" strike="noStrike">
                  <a:solidFill>
                    <a:srgbClr val="000000"/>
                  </a:solidFill>
                  <a:latin typeface="Arial"/>
                </a:rPr>
                <a:t>Fallas Transform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32" descr="IEB Mag Scale.tiff"/>
            <p:cNvPicPr/>
            <p:nvPr/>
          </p:nvPicPr>
          <p:blipFill>
            <a:blip r:embed="rId3"/>
            <a:stretch/>
          </p:blipFill>
          <p:spPr>
            <a:xfrm>
              <a:off x="3962520" y="5754960"/>
              <a:ext cx="1816200" cy="67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306360" y="6545160"/>
            <a:ext cx="70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</a:rPr>
              <a:t>Mapa creado usando el Visualizador de Terremotos de IRIS.:  www.iris.edu/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5"/>
          <p:cNvSpPr/>
          <p:nvPr/>
        </p:nvSpPr>
        <p:spPr>
          <a:xfrm flipV="1">
            <a:off x="2452680" y="3679560"/>
            <a:ext cx="838080" cy="75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8"/>
          <p:cNvSpPr/>
          <p:nvPr/>
        </p:nvSpPr>
        <p:spPr>
          <a:xfrm flipV="1">
            <a:off x="2666880" y="4495680"/>
            <a:ext cx="533520" cy="763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9"/>
          <p:cNvSpPr/>
          <p:nvPr/>
        </p:nvSpPr>
        <p:spPr>
          <a:xfrm flipV="1">
            <a:off x="2666880" y="5029200"/>
            <a:ext cx="457200" cy="7632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21"/>
          <p:cNvSpPr/>
          <p:nvPr/>
        </p:nvSpPr>
        <p:spPr>
          <a:xfrm>
            <a:off x="3352680" y="2895480"/>
            <a:ext cx="30492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1231920" y="-324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  <a:ea typeface="Arial"/>
              </a:rPr>
              <a:t>Magnitud 7,0 SUR DORSAL MESOATLANTICA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  <a:ea typeface="Arial"/>
              </a:rPr>
              <a:t>Miércoles, 17 de Junio, 2015 a las 12:51:33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Kate</cp:lastModifiedBy>
  <dcterms:modified xsi:type="dcterms:W3CDTF">2015-06-19T03:55:30Z</dcterms:modified>
  <cp:revision>335</cp:revision>
  <dc:subject/>
  <dc:title>Slide 1</dc:title>
</cp:coreProperties>
</file>