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551C-CF97-403D-9621-0F4B062C39E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257480" y="720720"/>
            <a:ext cx="4800600" cy="3600360"/>
          </a:xfrm>
          <a:prstGeom prst="rect">
            <a:avLst/>
          </a:prstGeom>
          <a:ln w="0">
            <a:noFill/>
          </a:ln>
        </p:spPr>
      </p:sp>
      <p:sp>
        <p:nvSpPr>
          <p:cNvPr id="6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6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3E1E-C748-4CA4-9557-151E7DDBFD9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257480" y="720720"/>
            <a:ext cx="4800600" cy="3600360"/>
          </a:xfrm>
          <a:prstGeom prst="rect">
            <a:avLst/>
          </a:prstGeom>
          <a:ln w="0">
            <a:noFill/>
          </a:ln>
        </p:spPr>
      </p:sp>
      <p:sp>
        <p:nvSpPr>
          <p:cNvPr id="60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45BB-D930-4492-B1FF-41031E6B971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257480" y="720720"/>
            <a:ext cx="4800600" cy="3600360"/>
          </a:xfrm>
          <a:prstGeom prst="rect">
            <a:avLst/>
          </a:prstGeom>
          <a:ln w="0">
            <a:noFill/>
          </a:ln>
        </p:spPr>
      </p:sp>
      <p:sp>
        <p:nvSpPr>
          <p:cNvPr id="61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D42C-26CC-420F-84C2-4907346177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257480" y="720720"/>
            <a:ext cx="4800600" cy="3600360"/>
          </a:xfrm>
          <a:prstGeom prst="rect">
            <a:avLst/>
          </a:prstGeom>
          <a:ln w="0">
            <a:noFill/>
          </a:ln>
        </p:spPr>
      </p:sp>
      <p:sp>
        <p:nvSpPr>
          <p:cNvPr id="6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C7D8-6F31-443E-B57D-DB9F87A315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257480" y="720720"/>
            <a:ext cx="4800600" cy="3600360"/>
          </a:xfrm>
          <a:prstGeom prst="rect">
            <a:avLst/>
          </a:prstGeom>
          <a:ln w="0">
            <a:noFill/>
          </a:ln>
        </p:spPr>
      </p:sp>
      <p:sp>
        <p:nvSpPr>
          <p:cNvPr id="61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rthquake focal mechanisms </a:t>
            </a:r>
            <a:r>
              <a:rPr b="0" lang="en-US"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p:txBody>
      </p:sp>
      <p:sp>
        <p:nvSpPr>
          <p:cNvPr id="6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589B-AE22-47D5-ACAC-233F8334035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257480" y="720720"/>
            <a:ext cx="4800600" cy="3600360"/>
          </a:xfrm>
          <a:prstGeom prst="rect">
            <a:avLst/>
          </a:prstGeom>
          <a:ln w="0">
            <a:noFill/>
          </a:ln>
        </p:spPr>
      </p:sp>
      <p:sp>
        <p:nvSpPr>
          <p:cNvPr id="6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EE62-C0E6-4C0E-8440-A7FB2B4F476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1A361-53AB-4ADC-90FE-ED034F2F9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82EC6-291F-42CC-88DF-243606445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82D907-A9BB-4ABC-8865-CD34186029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4D5441-FA41-45C6-B485-4A6555FC0D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402283-9840-4DD7-A121-3DE72ACC51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DD13F8-ABB2-4971-B1CA-153F0D74B4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397F79-C6A9-4A05-AE2D-C806D127DC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0974ED-B624-4F44-96DE-39230B4731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E6BB1B-5C5A-4504-BE85-A4D6DD818E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9E16CF-1158-4BB2-810E-EF72586DD3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4F8707-3CD4-4554-ACE2-0394AECAFB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9BCF7C-3CD8-4B8E-B1C2-E33A7FE72A6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83A59-95BC-4BDC-B31D-C10CD0EF3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0F09F5-8509-428D-A4D1-5D5B961868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34CD18-E52A-4A5F-995D-4B6059AA7D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DEE2F6-842E-4C11-97BF-2F686F03FF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CAD812-634E-4888-8470-BFD8F5A93E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3C987F-0113-46E8-9CB3-192C562D5B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BA1054-963B-4431-872C-82523E8970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F28B92-ABCE-4201-9183-C7AB34E8FD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68B605-C802-43FF-8D21-9E68B40CD6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1069AC-FE05-4735-AA48-F2F79ED6F3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192ECD5-18B4-4C43-A950-83BEA3BBB1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B8722-2BB9-40A3-86D6-EDBD16AD9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92FD8B-C112-4DB8-B308-320DC128A1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17DE51-8591-4893-B49D-F1B5E7F5C1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F7F803-3CF5-4055-AFAF-EC0057CD50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4050E1-29CA-4ED3-B0E8-191873403F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1007FA-F114-4868-A218-419F071305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585FEE-8C7E-4DE9-9B11-72FC07E056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9A5194-E23B-42C3-93B6-7BA06C2540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C20A95-4E73-450B-B47F-66EE386B6E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77F5D3-7A33-445F-AD66-5C3EFD49C2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2D4407-93E7-4844-AFA9-B838A1EECB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3449E-87AE-4B6E-8486-532E4CEB2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FCD730-24A2-43BC-838F-A8EAF299C3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3867A91-F872-4627-AFED-7A4D0E58052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7B44FD1-EC01-4E0B-BEA0-DACD00B981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2F6F00-743C-401D-8EB3-5F6B0467B06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ABC072-3B29-45D8-8FED-649C685CD9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616B11-6015-4F93-AF36-4C75736778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DF92D6-5614-45E1-8FF3-2AC041D596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7FEE66-DF34-4AB9-ACCA-EA95710A24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5E4267-CF6B-404D-9695-196268CBD8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968700-DC46-4FA6-B588-345E3805A5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C49A9-C7BD-41D2-8689-EA05D6A00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42EB6E-9ED3-4ADF-945A-783E7FF431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0BFB5C-7E9A-4371-83E9-B9D16FF7C3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CC9170-2AF1-4BE9-A27F-E3218CF07F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4ED29C0-08BE-404D-9B1B-19988D3D782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848D8D7-DC59-4118-ABE3-ABECB1B2747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5AFCE3C-8C72-4B63-B993-0B04BE9A921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96E3C59-D249-4721-988F-B0254D36DD5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918EAD-0B22-496F-82D8-DC0BD3E42D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089A97-1081-4A63-BEF8-B364254D27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505663-2F4F-46EF-9AF9-B32FEB074E1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7978C-660A-4B7E-BC7C-6A463F3A8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7FBC01-271C-4FF4-AF2E-7CD313585A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C938BA-FEBA-4E5A-8F46-6AC5413493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AD52EC-B093-4A52-AFE2-F914BBEB99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DCE855-8CDA-412E-B0A9-9586443742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D7E825-75C6-47FF-94AC-6F603DED18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9080245-CBF3-4D91-A474-7B82BC2AABF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709E9B6-0681-4983-A344-42BBD1853D7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1765C-7DAE-4ECA-9795-50A16E850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D3E6B-9FFE-40F0-B3AD-79544296F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D4ECD-EF8C-4ADD-89C7-3506C0A3E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8ED2E-FC27-4E5D-8923-218781D36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7FD84-B78F-4569-BB68-B263BBDB2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4F9F4-2830-404C-A4CC-5B666B23E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8C77C-3EAC-48DA-B9FA-A075C9556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261FA-F263-4DAA-9358-11D66D7E6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CE33C-09DF-4154-8CA2-9E985D550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84D32-104A-4FF9-AEB4-AA2180CA88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739F7A-E871-44C7-8088-7EB3387E02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BB7005-50D0-45D4-8BC1-5535415930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E28F86-5FD4-4D30-9000-5E1396FFCF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6AF293-9FCF-452B-81B9-817AB7A280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B182D3-EBC8-4575-8C0F-5C5FB5CE4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F72F0-FC4E-46D2-9D89-06CFE779D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B47252-781A-492C-B2B3-881D660974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D5DFFF-0E12-4332-8CB4-54FE4A064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AB0B46-8E65-416C-BA75-B4FB7A2F0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BDE98-DA86-410F-85AD-75010057A8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ECCE97-F764-449F-98DE-9EB56FC902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FF4B64-DCD3-41DD-8FF7-F47C10D6A8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656097-6B6C-412C-8868-7098503CAD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0F339A-120B-4C65-80BA-60676DBC1D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E8CE5E-0682-4AEB-B732-DB4D7D73C7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9EC40D-B80D-4F4F-9A92-D1BE6BDF05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5C35E-C1D2-4181-B954-D1482E744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3F2228-4AF8-4FFD-A6DA-46918AB03D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BDD74C-C0CB-4D1D-B08A-7B7E37EB7A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F8EDD7-EEAC-4792-8F67-F02951FAF9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BAECF8-6967-4B7F-A4B4-977F31ADD5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B43637-7CD3-413E-AAA9-B0F054F154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A081AB-B83A-4473-B699-88CCC3277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D1DF3E-DAA4-4710-9C3B-C7FD50A27A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8F4424-6708-4E7C-A0CD-A6DDE5428F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B2102C-7D9F-431C-ABAD-183A28795A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9AFDFB-CA34-45E1-968E-EA9B387874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6A1A3-C42E-4691-838C-1DD9DE34A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74A45E-D594-4282-9539-ED96A201D2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5F4609-2CF3-479F-BDAF-8D84C427EC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F618BD-FEC8-4611-A92B-D5A469AF29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1DA91D-FA50-4737-9D38-E4A72E6188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48CD31-D1A7-4C4C-B84D-18CE8E8534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B5BC32-397A-4E5D-9556-11025AEEF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25BCC1-DCFF-4B32-A4E4-EC8A39D8EE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0596BA-AB25-4712-887C-1311B0B8D6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3372EE-1C6A-4A28-8456-85F78EAEE7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A97897-CEE5-4664-A6DF-940B138DE3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F6DE0-5917-4743-BA40-5D027C8BD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1C48B8-8EF2-4901-8602-A8AC6A3172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6F7B20-0566-41C5-A388-C20A590D1E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A13662-CDB3-480B-9C2D-7F2CB44ECD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46B913-676A-423D-BB3C-D2E3E55DB3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4F1623-2E63-4AD5-8362-EF0F3171F1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72005F-E9D5-4933-A130-B457A8DEB2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538B09-4DB1-4BBC-8126-BC5204E8F1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8E8875-AEB5-4ADF-AA09-87CFE9AAE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D12F47-3F37-498F-A3E3-78EEB21C1F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D3447F-273D-4425-AAE4-6FC420E205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37439-62A0-4E83-B2A0-9302C8C3D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02F2D5-719A-4E65-BF5A-83C50DC34B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81C851-2C8F-48C2-B678-9729E1D69F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B36034-5FDA-4A68-A612-A1522AE2E6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0108A5-202A-4B03-A973-A247DAA4B3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78D4C7-4AA4-449B-A181-1BB0CF01E9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59E3F7-AFE3-4AF7-94D6-BA4EE425F5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C93BF1-7607-4640-BC88-A2CB863694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F723C2-B127-4656-AD96-5A03F3B8E8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839D56-4B2B-41C3-A352-AA8EBBFA42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CE3BBC-AAC2-4B49-A64C-90BFE526D7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B7A84-FA17-4865-8B91-C864839EA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CD4DDA-90D2-48BA-9990-1C2B157CB1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C30DF3-6327-4F17-BED8-A103022E66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ADFCB2-5B87-4FD7-BFCB-8C1C257A4E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349E4A-58C4-422B-871A-A1F4C6D597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9ABDE9-0935-4A81-8512-DDC075987D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D86BDF-5E41-4719-8926-079C746D73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82E189-377B-4A79-98B4-5A745E9047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1B7ECC-B958-4258-A7FE-4D22E8428F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5FC91F-8276-470F-84DD-936DBE0947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6E01CD-5F18-43D3-8BE8-9F509B860F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401FB-4C4E-470F-B56E-8945E6862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211B4F-BE9F-46B1-A39A-9D9E437780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1DF0CC-67D6-4015-895E-44691FB066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D73F6C-57BB-4770-8AFE-0EEE0A3199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2E82A3-1255-4FDA-B751-2D3C48EE47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1C3006-5255-4037-85AD-A8804A5887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7C2DFA-18A1-472C-A276-023A8CBAB8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2BC473-EC82-4260-8755-3AD7ABEC73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09A568-7F98-4404-853A-7F4107FA6F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B0A57E-79A8-4EF6-902C-B9A463E102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0C918F-2B5D-4B3C-99BC-077C42DBD81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5231-6551-4F3F-8E5F-CAA11605A7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DD0C-F3F9-49B9-A783-50A86B4EDD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81B2-332C-41C4-9AA8-430A93397E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5824-E6A9-48E4-A203-53FA5CCFBA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FAF8-2AB6-480B-BB7A-8BD12FA90B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F94BE-9C84-4941-8F9D-BB043054E8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C5BC-3F1B-480F-B2AE-9ECD28D97C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463D-D324-4086-A724-D20407714B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1129-8D5D-47DB-8FF2-09D4180949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7B4D-F054-4874-BA4C-7995DD90F0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6F2E-2566-4C77-9ABD-33D56F76CD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9CF7-6098-48A2-BD99-4AF3EA9D05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B6F4E-1506-418C-AF3E-6631DC4B55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2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NEW GUINEA</a:t>
            </a:r>
            <a:br>
              <a:rPr sz="3500"/>
            </a:br>
            <a:r>
              <a:rPr b="1" lang="en-US" sz="1500" spc="-1" strike="noStrike">
                <a:solidFill>
                  <a:srgbClr val="11488b"/>
                </a:solidFill>
                <a:latin typeface="Arial"/>
                <a:ea typeface="Arial"/>
              </a:rPr>
              <a:t>Monday,  July 27, 2015 at 21:41:21 UTC </a:t>
            </a:r>
            <a:endParaRPr b="0" lang="en-US" sz="1500" spc="-1" strike="noStrike">
              <a:solidFill>
                <a:srgbClr val="000000"/>
              </a:solidFill>
              <a:latin typeface="Arial"/>
            </a:endParaRPr>
          </a:p>
        </p:txBody>
      </p:sp>
      <p:sp>
        <p:nvSpPr>
          <p:cNvPr id="543" name="TextBox 14"/>
          <p:cNvSpPr/>
          <p:nvPr/>
        </p:nvSpPr>
        <p:spPr>
          <a:xfrm>
            <a:off x="243000" y="1022400"/>
            <a:ext cx="8596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0 earthquake struck New Guinea Monday at a depth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8 km and approximately 250 km west of the provincial capital Jayapura. New Guinea is the world's second-largest island, after Greenland, covering a land area of 786,000 km</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 tsunami warning was issued after the quake, which struck inland.  There were no immediate reports of casualties or damage. However, the area has steep mountain ranges and limited communications so reporting can be delay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Box 15"/>
          <p:cNvSpPr/>
          <p:nvPr/>
        </p:nvSpPr>
        <p:spPr>
          <a:xfrm>
            <a:off x="228600" y="655020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Aljazeera</a:t>
            </a:r>
            <a:endParaRPr b="0" lang="en-US" sz="1400" spc="-1" strike="noStrike">
              <a:solidFill>
                <a:srgbClr val="000000"/>
              </a:solidFill>
              <a:latin typeface="Arial"/>
            </a:endParaRPr>
          </a:p>
        </p:txBody>
      </p:sp>
      <p:grpSp>
        <p:nvGrpSpPr>
          <p:cNvPr id="545" name="Group 5"/>
          <p:cNvGrpSpPr/>
          <p:nvPr/>
        </p:nvGrpSpPr>
        <p:grpSpPr>
          <a:xfrm>
            <a:off x="347760" y="3429000"/>
            <a:ext cx="5519520" cy="3105000"/>
            <a:chOff x="347760" y="3429000"/>
            <a:chExt cx="5519520" cy="3105000"/>
          </a:xfrm>
        </p:grpSpPr>
        <p:pic>
          <p:nvPicPr>
            <p:cNvPr id="546" name="Picture 2" descr=""/>
            <p:cNvPicPr/>
            <p:nvPr/>
          </p:nvPicPr>
          <p:blipFill>
            <a:blip r:embed="rId2"/>
            <a:stretch/>
          </p:blipFill>
          <p:spPr>
            <a:xfrm>
              <a:off x="347760" y="3429000"/>
              <a:ext cx="5519520" cy="3105000"/>
            </a:xfrm>
            <a:prstGeom prst="rect">
              <a:avLst/>
            </a:prstGeom>
            <a:ln w="0">
              <a:noFill/>
            </a:ln>
          </p:spPr>
        </p:pic>
        <p:sp>
          <p:nvSpPr>
            <p:cNvPr id="547" name="5-Point Star 4"/>
            <p:cNvSpPr/>
            <p:nvPr/>
          </p:nvSpPr>
          <p:spPr>
            <a:xfrm>
              <a:off x="4413240" y="4873680"/>
              <a:ext cx="152280" cy="142560"/>
            </a:xfrm>
            <a:custGeom>
              <a:avLst/>
              <a:gdLst/>
              <a:ahLst/>
              <a:rect l="l" t="t" r="r" b="b"/>
              <a:pathLst>
                <a:path w="152415" h="142875">
                  <a:moveTo>
                    <a:pt x="0" y="54573"/>
                  </a:moveTo>
                  <a:lnTo>
                    <a:pt x="58218" y="54574"/>
                  </a:lnTo>
                  <a:lnTo>
                    <a:pt x="76208" y="0"/>
                  </a:lnTo>
                  <a:lnTo>
                    <a:pt x="94197" y="54574"/>
                  </a:lnTo>
                  <a:lnTo>
                    <a:pt x="152415" y="54573"/>
                  </a:lnTo>
                  <a:lnTo>
                    <a:pt x="105316" y="88301"/>
                  </a:lnTo>
                  <a:lnTo>
                    <a:pt x="123306" y="142875"/>
                  </a:lnTo>
                  <a:lnTo>
                    <a:pt x="76208" y="109146"/>
                  </a:lnTo>
                  <a:lnTo>
                    <a:pt x="29109" y="142875"/>
                  </a:lnTo>
                  <a:lnTo>
                    <a:pt x="47099" y="88301"/>
                  </a:lnTo>
                  <a:lnTo>
                    <a:pt x="0" y="54573"/>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548" name="Picture 6" descr=""/>
          <p:cNvPicPr/>
          <p:nvPr/>
        </p:nvPicPr>
        <p:blipFill>
          <a:blip r:embed="rId3"/>
          <a:stretch/>
        </p:blipFill>
        <p:spPr>
          <a:xfrm>
            <a:off x="5715000" y="3352680"/>
            <a:ext cx="3198960" cy="2400480"/>
          </a:xfrm>
          <a:prstGeom prst="rect">
            <a:avLst/>
          </a:prstGeom>
          <a:ln w="0">
            <a:noFill/>
          </a:ln>
        </p:spPr>
      </p:pic>
      <p:sp>
        <p:nvSpPr>
          <p:cNvPr id="549" name="TextBox 20"/>
          <p:cNvSpPr/>
          <p:nvPr/>
        </p:nvSpPr>
        <p:spPr>
          <a:xfrm>
            <a:off x="3178080" y="5856120"/>
            <a:ext cx="57675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mena Mountain Rang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 New Guine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1" name="Picture 12" descr="scale.jpg"/>
          <p:cNvPicPr/>
          <p:nvPr/>
        </p:nvPicPr>
        <p:blipFill>
          <a:blip r:embed="rId1"/>
          <a:stretch/>
        </p:blipFill>
        <p:spPr>
          <a:xfrm>
            <a:off x="380880" y="4081320"/>
            <a:ext cx="2127240" cy="2319480"/>
          </a:xfrm>
          <a:prstGeom prst="rect">
            <a:avLst/>
          </a:prstGeom>
          <a:ln w="0">
            <a:noFill/>
          </a:ln>
        </p:spPr>
      </p:pic>
      <p:sp>
        <p:nvSpPr>
          <p:cNvPr id="552" name="TextBox 13"/>
          <p:cNvSpPr/>
          <p:nvPr/>
        </p:nvSpPr>
        <p:spPr>
          <a:xfrm>
            <a:off x="271440" y="37609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553" name="TextBox 14"/>
          <p:cNvSpPr/>
          <p:nvPr/>
        </p:nvSpPr>
        <p:spPr>
          <a:xfrm>
            <a:off x="2541600" y="351648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TextBox 15"/>
          <p:cNvSpPr/>
          <p:nvPr/>
        </p:nvSpPr>
        <p:spPr>
          <a:xfrm>
            <a:off x="4114800" y="624852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0 Earthquake</a:t>
            </a:r>
            <a:endParaRPr b="0" lang="en-US" sz="1400" spc="-1" strike="noStrike">
              <a:solidFill>
                <a:srgbClr val="000000"/>
              </a:solidFill>
              <a:latin typeface="Arial"/>
            </a:endParaRPr>
          </a:p>
        </p:txBody>
      </p:sp>
      <p:sp>
        <p:nvSpPr>
          <p:cNvPr id="555" name="TextBox 15"/>
          <p:cNvSpPr/>
          <p:nvPr/>
        </p:nvSpPr>
        <p:spPr>
          <a:xfrm>
            <a:off x="239760" y="1143000"/>
            <a:ext cx="3722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ale is a twelve-stage scal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to XII, that indicates the seve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urrent population of the island of New Guinea is about eleven mill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8" descr="IRIS_TMlogo.png"/>
          <p:cNvPicPr/>
          <p:nvPr/>
        </p:nvPicPr>
        <p:blipFill>
          <a:blip r:embed="rId2"/>
          <a:stretch/>
        </p:blipFill>
        <p:spPr>
          <a:xfrm>
            <a:off x="239760" y="76320"/>
            <a:ext cx="903240" cy="927000"/>
          </a:xfrm>
          <a:prstGeom prst="rect">
            <a:avLst/>
          </a:prstGeom>
          <a:ln w="0">
            <a:noFill/>
          </a:ln>
        </p:spPr>
      </p:pic>
      <p:sp>
        <p:nvSpPr>
          <p:cNvPr id="557" name="TextBox 15"/>
          <p:cNvSpPr/>
          <p:nvPr/>
        </p:nvSpPr>
        <p:spPr>
          <a:xfrm>
            <a:off x="152280" y="639756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pic>
        <p:nvPicPr>
          <p:cNvPr id="558" name="Picture 1" descr=""/>
          <p:cNvPicPr/>
          <p:nvPr/>
        </p:nvPicPr>
        <p:blipFill>
          <a:blip r:embed="rId3"/>
          <a:stretch/>
        </p:blipFill>
        <p:spPr>
          <a:xfrm>
            <a:off x="3995640" y="1349280"/>
            <a:ext cx="4886280" cy="4800600"/>
          </a:xfrm>
          <a:prstGeom prst="rect">
            <a:avLst/>
          </a:prstGeom>
          <a:ln w="0">
            <a:noFill/>
          </a:ln>
        </p:spPr>
      </p:pic>
      <p:sp>
        <p:nvSpPr>
          <p:cNvPr id="5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NEW GUINEA</a:t>
            </a:r>
            <a:br>
              <a:rPr sz="3500"/>
            </a:br>
            <a:r>
              <a:rPr b="1" lang="en-US" sz="1500" spc="-1" strike="noStrike">
                <a:solidFill>
                  <a:srgbClr val="11488b"/>
                </a:solidFill>
                <a:latin typeface="Arial"/>
                <a:ea typeface="Arial"/>
              </a:rPr>
              <a:t>Monday,  July 27, 2015 at 21: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Box 15"/>
          <p:cNvSpPr/>
          <p:nvPr/>
        </p:nvSpPr>
        <p:spPr>
          <a:xfrm>
            <a:off x="5126040" y="48420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Population Exposed to Earthquake Shaking</a:t>
            </a:r>
            <a:endParaRPr b="0" lang="en-US" sz="1400" spc="-1" strike="noStrike">
              <a:solidFill>
                <a:srgbClr val="000000"/>
              </a:solidFill>
              <a:latin typeface="Arial"/>
            </a:endParaRPr>
          </a:p>
        </p:txBody>
      </p:sp>
      <p:pic>
        <p:nvPicPr>
          <p:cNvPr id="562" name="Picture 8" descr="IRIS_TMlogo.png"/>
          <p:cNvPicPr/>
          <p:nvPr/>
        </p:nvPicPr>
        <p:blipFill>
          <a:blip r:embed="rId1"/>
          <a:stretch/>
        </p:blipFill>
        <p:spPr>
          <a:xfrm>
            <a:off x="239760" y="76320"/>
            <a:ext cx="903240" cy="927000"/>
          </a:xfrm>
          <a:prstGeom prst="rect">
            <a:avLst/>
          </a:prstGeom>
          <a:ln w="0">
            <a:noFill/>
          </a:ln>
        </p:spPr>
      </p:pic>
      <p:sp>
        <p:nvSpPr>
          <p:cNvPr id="563" name="TextBox 15"/>
          <p:cNvSpPr/>
          <p:nvPr/>
        </p:nvSpPr>
        <p:spPr>
          <a:xfrm>
            <a:off x="536724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mage courtesy of the US Geological Survey</a:t>
            </a:r>
            <a:endParaRPr b="0" lang="en-US" sz="1400" spc="-1" strike="noStrike">
              <a:solidFill>
                <a:srgbClr val="000000"/>
              </a:solidFill>
              <a:latin typeface="Arial"/>
            </a:endParaRPr>
          </a:p>
        </p:txBody>
      </p:sp>
      <p:sp>
        <p:nvSpPr>
          <p:cNvPr id="564" name="TextBox 20"/>
          <p:cNvSpPr/>
          <p:nvPr/>
        </p:nvSpPr>
        <p:spPr>
          <a:xfrm>
            <a:off x="3273480" y="5521320"/>
            <a:ext cx="57672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565" name="TextBox 18"/>
          <p:cNvSpPr/>
          <p:nvPr/>
        </p:nvSpPr>
        <p:spPr>
          <a:xfrm>
            <a:off x="243000" y="1120680"/>
            <a:ext cx="4405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6,000 people were exposed to strong shaking from this earthquake.</a:t>
            </a:r>
            <a:endParaRPr b="0" lang="en-US" sz="1800" spc="-1" strike="noStrike">
              <a:solidFill>
                <a:srgbClr val="000000"/>
              </a:solidFill>
              <a:latin typeface="Arial"/>
            </a:endParaRPr>
          </a:p>
        </p:txBody>
      </p:sp>
      <p:pic>
        <p:nvPicPr>
          <p:cNvPr id="566" name="Picture 1" descr=""/>
          <p:cNvPicPr/>
          <p:nvPr/>
        </p:nvPicPr>
        <p:blipFill>
          <a:blip r:embed="rId2"/>
          <a:stretch/>
        </p:blipFill>
        <p:spPr>
          <a:xfrm>
            <a:off x="4648320" y="1008000"/>
            <a:ext cx="4340160" cy="4519800"/>
          </a:xfrm>
          <a:prstGeom prst="rect">
            <a:avLst/>
          </a:prstGeom>
          <a:ln w="0">
            <a:noFill/>
          </a:ln>
        </p:spPr>
      </p:pic>
      <p:pic>
        <p:nvPicPr>
          <p:cNvPr id="567" name="Picture 2" descr=""/>
          <p:cNvPicPr/>
          <p:nvPr/>
        </p:nvPicPr>
        <p:blipFill>
          <a:blip r:embed="rId3"/>
          <a:stretch/>
        </p:blipFill>
        <p:spPr>
          <a:xfrm>
            <a:off x="419040" y="3546360"/>
            <a:ext cx="2781360" cy="3189240"/>
          </a:xfrm>
          <a:prstGeom prst="rect">
            <a:avLst/>
          </a:prstGeom>
          <a:ln w="0">
            <a:noFill/>
          </a:ln>
        </p:spPr>
      </p:pic>
      <p:sp>
        <p:nvSpPr>
          <p:cNvPr id="56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NEW GUINEA</a:t>
            </a:r>
            <a:br>
              <a:rPr sz="3500"/>
            </a:br>
            <a:r>
              <a:rPr b="1" lang="en-US" sz="1500" spc="-1" strike="noStrike">
                <a:solidFill>
                  <a:srgbClr val="11488b"/>
                </a:solidFill>
                <a:latin typeface="Arial"/>
                <a:ea typeface="Arial"/>
              </a:rPr>
              <a:t>Monday,  July 27, 2015 at 21: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8" descr="IRIS_TMlogo.png"/>
          <p:cNvPicPr/>
          <p:nvPr/>
        </p:nvPicPr>
        <p:blipFill>
          <a:blip r:embed="rId1"/>
          <a:stretch/>
        </p:blipFill>
        <p:spPr>
          <a:xfrm>
            <a:off x="239760" y="76320"/>
            <a:ext cx="903240" cy="927000"/>
          </a:xfrm>
          <a:prstGeom prst="rect">
            <a:avLst/>
          </a:prstGeom>
          <a:ln w="0">
            <a:noFill/>
          </a:ln>
        </p:spPr>
      </p:pic>
      <p:sp>
        <p:nvSpPr>
          <p:cNvPr id="571" name="TextBox 14"/>
          <p:cNvSpPr/>
          <p:nvPr/>
        </p:nvSpPr>
        <p:spPr>
          <a:xfrm>
            <a:off x="6097680" y="1081080"/>
            <a:ext cx="2857320" cy="1694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ew Guinea occupies a region that is marked by a complicated arrangement of tectonic microplates crushed between the greater Pacific and Australian Plates. </a:t>
            </a:r>
            <a:endParaRPr b="0" lang="en-US" sz="1800" spc="-1" strike="noStrike">
              <a:solidFill>
                <a:srgbClr val="000000"/>
              </a:solidFill>
              <a:latin typeface="Arial"/>
            </a:endParaRPr>
          </a:p>
        </p:txBody>
      </p:sp>
      <p:pic>
        <p:nvPicPr>
          <p:cNvPr id="572" name="Picture 1" descr=""/>
          <p:cNvPicPr/>
          <p:nvPr/>
        </p:nvPicPr>
        <p:blipFill>
          <a:blip r:embed="rId2"/>
          <a:stretch/>
        </p:blipFill>
        <p:spPr>
          <a:xfrm>
            <a:off x="411120" y="1117440"/>
            <a:ext cx="5608800" cy="3835440"/>
          </a:xfrm>
          <a:prstGeom prst="rect">
            <a:avLst/>
          </a:prstGeom>
          <a:ln w="0">
            <a:noFill/>
          </a:ln>
        </p:spPr>
      </p:pic>
      <p:sp>
        <p:nvSpPr>
          <p:cNvPr id="573" name="TextBox 14"/>
          <p:cNvSpPr/>
          <p:nvPr/>
        </p:nvSpPr>
        <p:spPr>
          <a:xfrm>
            <a:off x="368280" y="5372280"/>
            <a:ext cx="3822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se microplates take up the overall convergence between the  Australian Plate and the Pacific Pl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6"/>
          <p:cNvSpPr/>
          <p:nvPr/>
        </p:nvSpPr>
        <p:spPr>
          <a:xfrm>
            <a:off x="890640" y="2971800"/>
            <a:ext cx="457200" cy="385920"/>
          </a:xfrm>
          <a:prstGeom prst="rect">
            <a:avLst/>
          </a:prstGeom>
          <a:noFill/>
          <a:ln w="6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Straight Connector 8"/>
          <p:cNvSpPr/>
          <p:nvPr/>
        </p:nvSpPr>
        <p:spPr>
          <a:xfrm>
            <a:off x="1347840" y="2976480"/>
            <a:ext cx="3058920" cy="219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traight Connector 11"/>
          <p:cNvSpPr/>
          <p:nvPr/>
        </p:nvSpPr>
        <p:spPr>
          <a:xfrm>
            <a:off x="1335240" y="3344760"/>
            <a:ext cx="3071520" cy="336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TextBox 15"/>
          <p:cNvSpPr/>
          <p:nvPr/>
        </p:nvSpPr>
        <p:spPr>
          <a:xfrm>
            <a:off x="368280" y="498312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mage courtesy of the US Geological Survey</a:t>
            </a:r>
            <a:endParaRPr b="0" lang="en-US" sz="1400" spc="-1" strike="noStrike">
              <a:solidFill>
                <a:srgbClr val="000000"/>
              </a:solidFill>
              <a:latin typeface="Arial"/>
            </a:endParaRPr>
          </a:p>
        </p:txBody>
      </p:sp>
      <p:sp>
        <p:nvSpPr>
          <p:cNvPr id="578" name="Rectangle 13"/>
          <p:cNvSpPr/>
          <p:nvPr/>
        </p:nvSpPr>
        <p:spPr>
          <a:xfrm>
            <a:off x="1587600" y="6461280"/>
            <a:ext cx="2819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mage courtesy Kelsey Lamothe</a:t>
            </a:r>
            <a:r>
              <a:rPr b="0" i="1"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pic>
        <p:nvPicPr>
          <p:cNvPr id="579" name="Picture 1" descr=""/>
          <p:cNvPicPr/>
          <p:nvPr/>
        </p:nvPicPr>
        <p:blipFill>
          <a:blip r:embed="rId3"/>
          <a:stretch/>
        </p:blipFill>
        <p:spPr>
          <a:xfrm>
            <a:off x="4406760" y="3198960"/>
            <a:ext cx="4572000" cy="3514680"/>
          </a:xfrm>
          <a:prstGeom prst="rect">
            <a:avLst/>
          </a:prstGeom>
          <a:ln w="0">
            <a:noFill/>
          </a:ln>
        </p:spPr>
      </p:pic>
      <p:sp>
        <p:nvSpPr>
          <p:cNvPr id="58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NEW GUINEA</a:t>
            </a:r>
            <a:br>
              <a:rPr sz="3500"/>
            </a:br>
            <a:r>
              <a:rPr b="1" lang="en-US" sz="1500" spc="-1" strike="noStrike">
                <a:solidFill>
                  <a:srgbClr val="11488b"/>
                </a:solidFill>
                <a:latin typeface="Arial"/>
                <a:ea typeface="Arial"/>
              </a:rPr>
              <a:t>Monday,  July 27, 2015 at 21: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Box 7"/>
          <p:cNvSpPr/>
          <p:nvPr/>
        </p:nvSpPr>
        <p:spPr>
          <a:xfrm>
            <a:off x="258840" y="1139760"/>
            <a:ext cx="3246480" cy="32943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he dominant convergence between the Australian Plate and the Pacific Plate is accommodated both by shortening and uplift in northern New Guinea, as well as subduction of the Pacific plate north of New Guinea at the New Guinea trench. </a:t>
            </a: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he Australia-Pacific plate relative velocity is approximately 110 mm/yr towards the northeast.</a:t>
            </a:r>
            <a:endParaRPr b="0" lang="en-US" sz="1800" spc="-1" strike="noStrike">
              <a:solidFill>
                <a:srgbClr val="000000"/>
              </a:solidFill>
              <a:latin typeface="Arial"/>
            </a:endParaRPr>
          </a:p>
        </p:txBody>
      </p:sp>
      <p:sp>
        <p:nvSpPr>
          <p:cNvPr id="582" name="TextBox 11"/>
          <p:cNvSpPr/>
          <p:nvPr/>
        </p:nvSpPr>
        <p:spPr>
          <a:xfrm>
            <a:off x="380880" y="6261120"/>
            <a:ext cx="2239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GS Centroid Moment Tensor Solution</a:t>
            </a:r>
            <a:endParaRPr b="0" lang="en-US" sz="1400" spc="-1" strike="noStrike">
              <a:solidFill>
                <a:srgbClr val="000000"/>
              </a:solidFill>
              <a:latin typeface="Arial"/>
            </a:endParaRPr>
          </a:p>
        </p:txBody>
      </p:sp>
      <p:sp>
        <p:nvSpPr>
          <p:cNvPr id="583"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Picture 8" descr="IRIS_TMlogo.png"/>
          <p:cNvPicPr/>
          <p:nvPr/>
        </p:nvPicPr>
        <p:blipFill>
          <a:blip r:embed="rId1"/>
          <a:stretch/>
        </p:blipFill>
        <p:spPr>
          <a:xfrm>
            <a:off x="239760" y="76320"/>
            <a:ext cx="903240" cy="927000"/>
          </a:xfrm>
          <a:prstGeom prst="rect">
            <a:avLst/>
          </a:prstGeom>
          <a:ln w="0">
            <a:noFill/>
          </a:ln>
        </p:spPr>
      </p:pic>
      <p:pic>
        <p:nvPicPr>
          <p:cNvPr id="585" name="Picture 2" descr=""/>
          <p:cNvPicPr/>
          <p:nvPr/>
        </p:nvPicPr>
        <p:blipFill>
          <a:blip r:embed="rId2"/>
          <a:stretch/>
        </p:blipFill>
        <p:spPr>
          <a:xfrm>
            <a:off x="380880" y="4449600"/>
            <a:ext cx="2239920" cy="1874880"/>
          </a:xfrm>
          <a:prstGeom prst="rect">
            <a:avLst/>
          </a:prstGeom>
          <a:ln w="0">
            <a:noFill/>
          </a:ln>
        </p:spPr>
      </p:pic>
      <p:pic>
        <p:nvPicPr>
          <p:cNvPr id="586" name="Picture 3" descr=""/>
          <p:cNvPicPr/>
          <p:nvPr/>
        </p:nvPicPr>
        <p:blipFill>
          <a:blip r:embed="rId3"/>
          <a:stretch/>
        </p:blipFill>
        <p:spPr>
          <a:xfrm>
            <a:off x="3489480" y="1170000"/>
            <a:ext cx="5483160" cy="2030400"/>
          </a:xfrm>
          <a:prstGeom prst="rect">
            <a:avLst/>
          </a:prstGeom>
          <a:ln w="0">
            <a:noFill/>
          </a:ln>
        </p:spPr>
      </p:pic>
      <p:sp>
        <p:nvSpPr>
          <p:cNvPr id="5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NEW GUINEA</a:t>
            </a:r>
            <a:br>
              <a:rPr sz="3500"/>
            </a:br>
            <a:r>
              <a:rPr b="1" lang="en-US" sz="1500" spc="-1" strike="noStrike">
                <a:solidFill>
                  <a:srgbClr val="11488b"/>
                </a:solidFill>
                <a:latin typeface="Arial"/>
                <a:ea typeface="Arial"/>
              </a:rPr>
              <a:t>Monday,  July 27, 2015 at 21:41:21 UTC </a:t>
            </a:r>
            <a:endParaRPr b="0" lang="en-US" sz="1500" spc="-1" strike="noStrike">
              <a:solidFill>
                <a:srgbClr val="000000"/>
              </a:solidFill>
              <a:latin typeface="Arial"/>
            </a:endParaRPr>
          </a:p>
        </p:txBody>
      </p:sp>
      <p:sp>
        <p:nvSpPr>
          <p:cNvPr id="588" name="5-Point Star 16"/>
          <p:cNvSpPr/>
          <p:nvPr/>
        </p:nvSpPr>
        <p:spPr>
          <a:xfrm>
            <a:off x="6681960" y="1471680"/>
            <a:ext cx="152280" cy="142920"/>
          </a:xfrm>
          <a:custGeom>
            <a:avLst/>
            <a:gdLst/>
            <a:ahLst/>
            <a:rect l="l" t="t" r="r" b="b"/>
            <a:pathLst>
              <a:path w="152400" h="142875">
                <a:moveTo>
                  <a:pt x="0" y="54573"/>
                </a:moveTo>
                <a:lnTo>
                  <a:pt x="58212" y="54574"/>
                </a:lnTo>
                <a:lnTo>
                  <a:pt x="76200" y="0"/>
                </a:lnTo>
                <a:lnTo>
                  <a:pt x="94188" y="54574"/>
                </a:lnTo>
                <a:lnTo>
                  <a:pt x="152400" y="54573"/>
                </a:lnTo>
                <a:lnTo>
                  <a:pt x="105305" y="88301"/>
                </a:lnTo>
                <a:lnTo>
                  <a:pt x="123294" y="142875"/>
                </a:lnTo>
                <a:lnTo>
                  <a:pt x="76200" y="109146"/>
                </a:lnTo>
                <a:lnTo>
                  <a:pt x="29106" y="142875"/>
                </a:lnTo>
                <a:lnTo>
                  <a:pt x="47095" y="88301"/>
                </a:lnTo>
                <a:lnTo>
                  <a:pt x="0" y="54573"/>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89" name="Picture 4" descr=""/>
          <p:cNvPicPr/>
          <p:nvPr/>
        </p:nvPicPr>
        <p:blipFill>
          <a:blip r:embed="rId4"/>
          <a:stretch/>
        </p:blipFill>
        <p:spPr>
          <a:xfrm>
            <a:off x="3051000" y="3409920"/>
            <a:ext cx="3730680" cy="1589040"/>
          </a:xfrm>
          <a:prstGeom prst="rect">
            <a:avLst/>
          </a:prstGeom>
          <a:ln w="0">
            <a:noFill/>
          </a:ln>
        </p:spPr>
      </p:pic>
      <p:pic>
        <p:nvPicPr>
          <p:cNvPr id="590" name="Picture 4" descr=""/>
          <p:cNvPicPr/>
          <p:nvPr/>
        </p:nvPicPr>
        <p:blipFill>
          <a:blip r:embed="rId5"/>
          <a:stretch/>
        </p:blipFill>
        <p:spPr>
          <a:xfrm>
            <a:off x="3121200" y="4973760"/>
            <a:ext cx="3795480" cy="461880"/>
          </a:xfrm>
          <a:prstGeom prst="rect">
            <a:avLst/>
          </a:prstGeom>
          <a:ln w="0">
            <a:noFill/>
          </a:ln>
        </p:spPr>
      </p:pic>
      <p:sp>
        <p:nvSpPr>
          <p:cNvPr id="591" name="TextBox 8"/>
          <p:cNvSpPr/>
          <p:nvPr/>
        </p:nvSpPr>
        <p:spPr>
          <a:xfrm>
            <a:off x="2849400" y="5442120"/>
            <a:ext cx="58374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haded areas show quadrants of the focal sphere in which the P-wave first-motions are away from the source, and unshaded areas show quadrants in which the P-wave first-motions are toward the source. The letters represent the axis of maximum compressional strain (P) and the axis of maximum extensional strain (T) resulting from the earthquake.</a:t>
            </a:r>
            <a:endParaRPr b="0" lang="en-US" sz="1400" spc="-1" strike="noStrike">
              <a:solidFill>
                <a:srgbClr val="000000"/>
              </a:solidFill>
              <a:latin typeface="Arial"/>
            </a:endParaRPr>
          </a:p>
        </p:txBody>
      </p:sp>
      <p:pic>
        <p:nvPicPr>
          <p:cNvPr id="592" name="Picture 5" descr=""/>
          <p:cNvPicPr/>
          <p:nvPr/>
        </p:nvPicPr>
        <p:blipFill>
          <a:blip r:embed="rId6"/>
          <a:stretch/>
        </p:blipFill>
        <p:spPr>
          <a:xfrm>
            <a:off x="7761240" y="2863800"/>
            <a:ext cx="1190520" cy="324000"/>
          </a:xfrm>
          <a:prstGeom prst="rect">
            <a:avLst/>
          </a:prstGeom>
          <a:ln w="0">
            <a:noFill/>
          </a:ln>
        </p:spPr>
      </p:pic>
      <p:sp>
        <p:nvSpPr>
          <p:cNvPr id="593" name="TextBox 11"/>
          <p:cNvSpPr/>
          <p:nvPr/>
        </p:nvSpPr>
        <p:spPr>
          <a:xfrm>
            <a:off x="7075440" y="3251160"/>
            <a:ext cx="20192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rrows show the motion of the Australian Plate and adjacent microplates relative to the Pacific Plate.</a:t>
            </a:r>
            <a:endParaRPr b="0" lang="en-US" sz="1400" spc="-1" strike="noStrike">
              <a:solidFill>
                <a:srgbClr val="000000"/>
              </a:solidFill>
              <a:latin typeface="Arial"/>
            </a:endParaRPr>
          </a:p>
        </p:txBody>
      </p:sp>
      <p:grpSp>
        <p:nvGrpSpPr>
          <p:cNvPr id="594" name="Group 7"/>
          <p:cNvGrpSpPr/>
          <p:nvPr/>
        </p:nvGrpSpPr>
        <p:grpSpPr>
          <a:xfrm>
            <a:off x="5019840" y="1154160"/>
            <a:ext cx="4354200" cy="1667520"/>
            <a:chOff x="5019840" y="1154160"/>
            <a:chExt cx="4354200" cy="1667520"/>
          </a:xfrm>
        </p:grpSpPr>
        <p:sp>
          <p:nvSpPr>
            <p:cNvPr id="595" name="TextBox 6"/>
            <p:cNvSpPr/>
            <p:nvPr/>
          </p:nvSpPr>
          <p:spPr>
            <a:xfrm>
              <a:off x="5019840" y="2514600"/>
              <a:ext cx="2372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ＭＳ Ｐゴシック"/>
                </a:rPr>
                <a:t>Australian Plate</a:t>
              </a:r>
              <a:endParaRPr b="0" lang="en-US" sz="1400" spc="-1" strike="noStrike">
                <a:solidFill>
                  <a:srgbClr val="000000"/>
                </a:solidFill>
                <a:latin typeface="Arial"/>
              </a:endParaRPr>
            </a:p>
          </p:txBody>
        </p:sp>
        <p:sp>
          <p:nvSpPr>
            <p:cNvPr id="596" name="TextBox 22"/>
            <p:cNvSpPr/>
            <p:nvPr/>
          </p:nvSpPr>
          <p:spPr>
            <a:xfrm>
              <a:off x="7002000" y="1154160"/>
              <a:ext cx="2372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ＭＳ Ｐゴシック"/>
                </a:rPr>
                <a:t>Pacific Plat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niversity of Portland </a:t>
            </a:r>
            <a:endParaRPr b="0" lang="en-US" sz="1800" spc="-1" strike="noStrike">
              <a:solidFill>
                <a:srgbClr val="000000"/>
              </a:solidFill>
              <a:latin typeface="Arial"/>
            </a:endParaRPr>
          </a:p>
        </p:txBody>
      </p:sp>
      <p:pic>
        <p:nvPicPr>
          <p:cNvPr id="599" name="Picture 8" descr="IRIS_TMlogo.png"/>
          <p:cNvPicPr/>
          <p:nvPr/>
        </p:nvPicPr>
        <p:blipFill>
          <a:blip r:embed="rId1"/>
          <a:stretch/>
        </p:blipFill>
        <p:spPr>
          <a:xfrm>
            <a:off x="239760" y="76320"/>
            <a:ext cx="903240" cy="927000"/>
          </a:xfrm>
          <a:prstGeom prst="rect">
            <a:avLst/>
          </a:prstGeom>
          <a:ln w="0">
            <a:noFill/>
          </a:ln>
        </p:spPr>
      </p:pic>
      <p:pic>
        <p:nvPicPr>
          <p:cNvPr id="600" name="Picture 1" descr=""/>
          <p:cNvPicPr/>
          <p:nvPr/>
        </p:nvPicPr>
        <p:blipFill>
          <a:blip r:embed="rId2"/>
          <a:stretch/>
        </p:blipFill>
        <p:spPr>
          <a:xfrm>
            <a:off x="6210360" y="5181480"/>
            <a:ext cx="2705040" cy="1435320"/>
          </a:xfrm>
          <a:prstGeom prst="rect">
            <a:avLst/>
          </a:prstGeom>
          <a:ln w="0">
            <a:noFill/>
          </a:ln>
        </p:spPr>
      </p:pic>
      <p:pic>
        <p:nvPicPr>
          <p:cNvPr id="601" name="Picture 2" descr=""/>
          <p:cNvPicPr/>
          <p:nvPr/>
        </p:nvPicPr>
        <p:blipFill>
          <a:blip r:embed="rId3"/>
          <a:stretch/>
        </p:blipFill>
        <p:spPr>
          <a:xfrm>
            <a:off x="503280" y="5334120"/>
            <a:ext cx="1460520" cy="1150920"/>
          </a:xfrm>
          <a:prstGeom prst="rect">
            <a:avLst/>
          </a:prstGeom>
          <a:ln w="0">
            <a:noFill/>
          </a:ln>
        </p:spPr>
      </p:pic>
      <p:pic>
        <p:nvPicPr>
          <p:cNvPr id="602" name="Picture 1" descr=""/>
          <p:cNvPicPr/>
          <p:nvPr/>
        </p:nvPicPr>
        <p:blipFill>
          <a:blip r:embed="rId4"/>
          <a:stretch/>
        </p:blipFill>
        <p:spPr>
          <a:xfrm>
            <a:off x="3798720" y="5400720"/>
            <a:ext cx="1200240" cy="1206360"/>
          </a:xfrm>
          <a:prstGeom prst="rect">
            <a:avLst/>
          </a:prstGeom>
          <a:ln w="0">
            <a:noFill/>
          </a:ln>
        </p:spPr>
      </p:pic>
      <p:sp>
        <p:nvSpPr>
          <p:cNvPr id="60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NEW GUINEA</a:t>
            </a:r>
            <a:br>
              <a:rPr sz="3500"/>
            </a:br>
            <a:r>
              <a:rPr b="1" lang="en-US" sz="1500" spc="-1" strike="noStrike">
                <a:solidFill>
                  <a:srgbClr val="11488b"/>
                </a:solidFill>
                <a:latin typeface="Arial"/>
                <a:ea typeface="Arial"/>
              </a:rPr>
              <a:t>Monday,  July 27, 2015 at 21: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5-07-28T04:15:31Z</dcterms:modified>
  <cp:revision>684</cp:revision>
  <dc:subject/>
  <dc:title>Slide 1</dc:title>
</cp:coreProperties>
</file>