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2B6F-CC21-42DB-8156-40AEFACBDA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69D1-7BE6-4AC0-8A47-DF723C1CCF0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8B8E-A762-4910-816F-AB8E5F7C0BA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El  mapa localizador del Servicio Geológico de los EE.UU. muestra la población expuesta a diferentes niveles de intensidad modificada Mercalli (MMI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745A-1041-455C-8D05-8B438F0251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5083-041B-4970-A523-3A8D7DAF5E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300" spc="-1" strike="noStrike">
                <a:solidFill>
                  <a:srgbClr val="000000"/>
                </a:solidFill>
                <a:latin typeface="Calibri"/>
              </a:rPr>
              <a:t>Mecanismo Focal del Terremoto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9C9A-21B3-42F6-851D-95948AB3AB4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F49-C497-4015-B29E-89CAC414301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71B-F692-4808-8BF3-0CA7BCBE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0F5-A0F4-40F8-9FB5-C6E0F9C5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95F3B-0286-4CC6-904C-592C8758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DB2D1-06A1-4BC7-86A2-3CD99E3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3BB5D-5CD6-426C-8B06-4AE78D81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1CC24-BBBA-4CC8-89F0-236FE927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69504-5CF4-4826-BC4E-D5FCE1F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34A72-6899-4764-BA9C-74EC1D6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3BF8-8FAD-48E2-9C16-4BC0F826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6753-5D05-404F-A4D8-C1AEF568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AB3A1-3D90-4C9A-AB39-5EC1CF49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C180F-0987-47BB-B4CF-6F3C0C7F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DA8-92A4-4883-87C7-CD3105B3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1CFA2-5632-405B-AAE2-5067647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F5BC6-0908-41C4-A511-E35250AF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EE86D-9DD8-461D-9A9C-3A382F8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303F5-3A7D-4C73-B01D-ABEEADDC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DC73F-0226-4952-B48C-6EE97C2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C4B1C-FD39-48C4-ABD8-23D3680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08EB5-1DB3-4036-841F-2A65F053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AA236-42CF-4ADD-AD72-21FD82D7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8C3F1-567B-45AC-9BA9-9B188484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53CCD-A77F-4E8F-8A30-54B8AC3B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3AC-5C8A-49DE-BD03-D5E5256D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6015A-AE4E-4538-98E9-5B4CE98E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AB611-7CD7-41DC-A1FD-750EB525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CF42-555E-47BD-A354-E9C6855D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25DAB-B5A1-4893-87D8-9A06A62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8E96B-6849-4DFF-9DB1-3642694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32245-E31A-4A00-9652-3D04B802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0DC6F-A77E-46C7-9011-D9082EE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8F7AA-233A-4B5A-8906-84ED79B9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B2B1B-8CC3-4873-A2C2-46C2D6A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95AD-F99A-48AE-BFAA-BE4DF9D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28C-CD09-41A7-912F-6B8951B6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23139-DBFF-4BE7-AEA6-E5A95761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F000C-8067-4879-AAD3-7D823A79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ED631-A025-4674-A66C-964A6C78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D29F0-B65D-4B9E-A9D9-DBF286CC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9F40D-517E-4D92-8B4A-7DEFAEFD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E22D4-5860-4FA8-8AEC-4D34CFE7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B6DEA-0F38-4D43-81BE-A561051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5731E-20BB-44CB-8ACD-9B84847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6DF6A-7630-4FBC-86A8-F906417E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FD505-AA92-4E1D-8278-114881A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073-6417-4F81-819E-649733E1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65994-75B9-4050-A414-1DBA4E6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2211B-7D3C-4E97-A70B-3FB2849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1CF53-5E7E-4ED6-AE22-04525A06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C3A0B-6C4F-4669-ACE0-642DFB49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41A68-6F9D-4317-8A5F-7CFB209A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A7122-B53D-43C7-B315-67FAD4B6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7466F-3225-45C1-881B-D09DE66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D38FC-19C7-4421-BDAA-9838A7E8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1ACA0-C0BE-4696-A45D-0503E2EF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46813-5921-4100-9AA9-4F942309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BEA3-B0A8-4C9C-9EBD-EB02D8AD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12109-F212-4FE5-8C74-DC984FFC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DB067-15A6-487C-9C7F-95EED67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CED15-F31D-4A3E-B119-2122ED60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D957E-908A-484A-B8B8-A48B3A0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DE715-D4DD-47AE-A6C5-72C5C78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18967-2EBA-4743-ABBD-A2E868EC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220E4-3D51-488E-A574-A3D2AD9C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4DF8-7672-4225-BB21-940B334A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87BB-FCDC-4C10-ADC1-7F3FE3AC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5DED-9E34-4635-8A96-BA08F816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FDD-A3E1-47C3-8CB3-FB5DFF3B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0AE-84B4-44C2-B910-92C3AE9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14BD-9E4D-4271-999D-8F353AC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168-2030-45FA-BAAA-3D12A0F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D2CF-0B6F-4658-BCAB-819AC76E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CAB1-97B7-4D10-B0B8-C4A4B819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5519-4A48-4762-8346-103E2507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213B-8CF0-45CC-A068-035A1F12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B43B-81B1-46F1-A4B6-3801383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09D4-5941-4A99-AE5A-F6C3328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DD27-8682-4B5D-8B80-18999567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2C02-27E8-46D4-AC67-99C533FB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F81-4934-4FA7-9508-C3294753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2690-D9D4-4137-AA30-5A3B41D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6179-69FB-48E9-B345-EB200BF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3D24-E832-4FE3-B4E6-0C502C42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6F94-78F4-4565-BA83-B3998A0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0F61-B21D-45CC-8449-3B81CFD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F40A-9550-472E-9DB3-7F891187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818F-8A0D-4CD8-8A22-8AA9684A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B1F3-00F7-49EF-A48C-D5622404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E0A0-6CC5-4D4E-8454-E6E81347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D119-5E95-4721-9166-DA3A85CA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3F9-74AB-4DD1-B8B3-3CFA5FDF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1716-B151-4454-9ACA-361B143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41EE-4026-48B4-9BA6-CD797D6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B4BF-3495-483E-840F-0918469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AD23-B265-4008-8F20-38C8044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7A866-A30A-466E-B3C6-E71761D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6BC5-2D17-4177-BBD2-FB623D6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42E4-DDDA-4E6D-A4CA-6112205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3BF7-23C2-4D92-9AB5-28AF6D9D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E59B-CD26-49C4-A377-58B8F55A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69D6B-9EFD-4408-B206-B825CDDB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64F-FCC7-4656-9526-F6EDB782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87D1-550F-45F9-9810-11137054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F2BF6-3F6A-49D1-90A0-22D4D1AB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36296-9F6A-4881-8F19-EFD4B1F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4BA5-D1F8-415F-B07E-BE2D554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9FBC-54A5-412D-B803-813CC24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3112A-D90E-4FEC-9647-97A36D9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651E-0173-479D-9D3D-D10CE04A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04D0-FB89-46D3-AA11-92ECEE4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083E-59B8-411F-B1B2-8E3ACDB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C738-0EB6-4916-BEBC-0E8C4D20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46F-FC0F-45FC-8768-F79865E9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FD9CC-EE19-4D84-AFD3-90412529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A834-D91B-4065-AE98-D387C999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5B8EB-6207-4B9C-A314-DB66C971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7E8D1-9FFB-43F8-BD91-50EAC660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DB6C1-478B-4A9E-BE29-89648EA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8C0D-5E3A-4407-97C1-004B28EF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1D2F-7390-4481-9AB2-E1D033D2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A4F3-D6CD-4398-9C48-FFADBFA7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D6144-DB51-4DA2-8B2C-0132568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B73E9-2944-4086-B91E-1D14503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FFC-689A-4E88-88D6-C1C356F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67EE2-AA05-42AD-ABDC-AD4EF7ED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B0B46-DEA6-443D-B755-477A7155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ACAD-D8BC-4C64-B667-DEBED133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3F3BE-07A7-41CC-9422-DA5E6E09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524E2-70C9-4001-9583-FB33D5DF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2DE9-1B54-4BFA-8765-D9DD42C6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51AF-F46F-4D37-9708-3FBC597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9084-753B-4E39-8EB7-CBE4398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E563-73A4-4B52-B9BA-E108D750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25DE1-E88D-49D1-9667-44C10FDF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6C5-DC33-457B-BEC2-2C31EF6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E1FB-C16C-465F-AF15-35C2622C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8D9C-3E97-4458-892B-D2255A0C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45D32-94D1-44AB-88EC-783A2D42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33EB7-7AFE-443C-98C9-9B80B664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D6F3-462B-48EE-AB6A-B686B87C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15B9C-A08F-4BD5-8F94-42F9647B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02DA-68A3-4E60-829F-4D6DECE1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1CCC-EAA2-40B0-8631-69DC116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F79B0-EE20-4ADD-8A43-6D67DC55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55E7-5886-45E3-B99D-3337D996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549-B361-4B77-9BB1-5822A10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64149-E297-4781-9B13-C8AFB4C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75EF-BDCA-415D-A4F7-7E4655F7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DA520-1BF8-4294-8A59-CB434A96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3F2F4-88BC-4F69-9392-7E4EC07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617A2-2C62-4977-924F-ACBB8686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806AC-B4E7-4515-90E4-E5EAC27F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B480F-37E2-4A02-A3AB-5041965A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B6038-B191-4D51-BB01-30A5AA27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AE0B3-1F3B-4D60-842D-7330A309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2F368-0F63-461C-B3FE-8708F00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6AD1-01D9-4B53-A3E3-E5EFE7CE6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711-0817-44B5-8D84-A1AEF84F47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F2F1-141B-41AE-B09F-169843221F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171E-1550-4D9D-942A-C1FBEF54F2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F81C-9D50-4465-A935-1FCF1C00FE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08FCC-7CAB-4FA1-AD6D-4A3FCB281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42B8-905B-4665-9A9E-8279D2BFA0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BE63-E644-43F7-B215-3762DF0357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93D-8243-4456-8F8A-FEBF3419F7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6E6-6BF5-4A8C-AE37-3D3CE79D3A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2D5F-A9C9-45AF-B736-2AA61487B2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9EF3-D109-4A25-A04E-278CE4BD35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C880-4483-455D-97BC-A77E917013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4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NUEVA GUINE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27 de Julio, 2015 a las 21:41:21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4"/>
          <p:cNvSpPr/>
          <p:nvPr/>
        </p:nvSpPr>
        <p:spPr>
          <a:xfrm>
            <a:off x="243000" y="919080"/>
            <a:ext cx="85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 terremoto de magnitud 7,0 estremeció Nueva Guinea el pasado lunes, a una profundidad de 48km y aproximadamente 250 km al oeste de la ciudad capital Jayapura. Nueva Guinea es la segunda isla mas grande del mundo, después de Groenlandia, cubriendo un territorio de 786.000 km2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inguna advertencia de tsunami fue generada después del terremoto, a pesar de estar ubicado en el interior. No hubieron reportes inmediatos de daños o casualidades. Sin embargo, el área tiene montañas altas y comunicación limitada lo cual pudo haber retardado algún repor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5"/>
          <p:cNvSpPr/>
          <p:nvPr/>
        </p:nvSpPr>
        <p:spPr>
          <a:xfrm>
            <a:off x="228600" y="65502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Imagen cortesía de Aljaze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5"/>
          <p:cNvGrpSpPr/>
          <p:nvPr/>
        </p:nvGrpSpPr>
        <p:grpSpPr>
          <a:xfrm>
            <a:off x="347760" y="3581280"/>
            <a:ext cx="5519520" cy="2952720"/>
            <a:chOff x="347760" y="3581280"/>
            <a:chExt cx="5519520" cy="2952720"/>
          </a:xfrm>
        </p:grpSpPr>
        <p:pic>
          <p:nvPicPr>
            <p:cNvPr id="546" name="Picture 2" descr=""/>
            <p:cNvPicPr/>
            <p:nvPr/>
          </p:nvPicPr>
          <p:blipFill>
            <a:blip r:embed="rId2"/>
            <a:stretch/>
          </p:blipFill>
          <p:spPr>
            <a:xfrm>
              <a:off x="347760" y="3581280"/>
              <a:ext cx="55195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5-Point Star 4"/>
            <p:cNvSpPr/>
            <p:nvPr/>
          </p:nvSpPr>
          <p:spPr>
            <a:xfrm>
              <a:off x="4413240" y="4955040"/>
              <a:ext cx="152280" cy="135720"/>
            </a:xfrm>
            <a:custGeom>
              <a:avLst/>
              <a:gdLst/>
              <a:ahLst/>
              <a:rect l="l" t="t" r="r" b="b"/>
              <a:pathLst>
                <a:path w="152415" h="142875">
                  <a:moveTo>
                    <a:pt x="0" y="54573"/>
                  </a:moveTo>
                  <a:lnTo>
                    <a:pt x="58218" y="54574"/>
                  </a:lnTo>
                  <a:lnTo>
                    <a:pt x="76208" y="0"/>
                  </a:lnTo>
                  <a:lnTo>
                    <a:pt x="94197" y="54574"/>
                  </a:lnTo>
                  <a:lnTo>
                    <a:pt x="152415" y="54573"/>
                  </a:lnTo>
                  <a:lnTo>
                    <a:pt x="105316" y="88301"/>
                  </a:lnTo>
                  <a:lnTo>
                    <a:pt x="123306" y="142875"/>
                  </a:lnTo>
                  <a:lnTo>
                    <a:pt x="76208" y="109146"/>
                  </a:lnTo>
                  <a:lnTo>
                    <a:pt x="29109" y="142875"/>
                  </a:lnTo>
                  <a:lnTo>
                    <a:pt x="47099" y="88301"/>
                  </a:lnTo>
                  <a:lnTo>
                    <a:pt x="0" y="5457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6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3198960" cy="24004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0"/>
          <p:cNvSpPr/>
          <p:nvPr/>
        </p:nvSpPr>
        <p:spPr>
          <a:xfrm>
            <a:off x="3178080" y="5856120"/>
            <a:ext cx="576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ntañas de Wam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Oeste de Nueva Gui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2" descr="scale.jpg"/>
          <p:cNvPicPr/>
          <p:nvPr/>
        </p:nvPicPr>
        <p:blipFill>
          <a:blip r:embed="rId1"/>
          <a:stretch/>
        </p:blipFill>
        <p:spPr>
          <a:xfrm>
            <a:off x="380880" y="408132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5"/>
          <p:cNvSpPr/>
          <p:nvPr/>
        </p:nvSpPr>
        <p:spPr>
          <a:xfrm>
            <a:off x="239760" y="1143000"/>
            <a:ext cx="372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escala de Intensidad Mercalli Modificada (MMI) describe la severidad de los movimientos telú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población de la Isla de Nueva Guinea actualmente es de once mill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3995640" y="1349280"/>
            <a:ext cx="4886280" cy="4800600"/>
          </a:xfrm>
          <a:prstGeom prst="rect">
            <a:avLst/>
          </a:prstGeom>
          <a:ln w="0">
            <a:noFill/>
          </a:ln>
        </p:spPr>
      </p:pic>
      <p:sp>
        <p:nvSpPr>
          <p:cNvPr id="55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NUEVA GUINE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27 de Julio, 2015 a las 21:41:21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271440" y="36860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5"/>
          <p:cNvSpPr/>
          <p:nvPr/>
        </p:nvSpPr>
        <p:spPr>
          <a:xfrm>
            <a:off x="15228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962520" y="630864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USGS Intensidad de Movimiento Estimada del Terremoto M7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62" name="TextBox 18"/>
          <p:cNvSpPr/>
          <p:nvPr/>
        </p:nvSpPr>
        <p:spPr>
          <a:xfrm>
            <a:off x="243000" y="1120680"/>
            <a:ext cx="44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 mapa localizador del Servicio Geológico de los EE.UU. muestra la población expuesta a diferentes niveles de intensidad modificada Mercalli (MM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.000 personas estuvieron expuestas a fuertes movimientos sísm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"/>
          <p:cNvPicPr/>
          <p:nvPr/>
        </p:nvPicPr>
        <p:blipFill>
          <a:blip r:embed="rId2"/>
          <a:stretch/>
        </p:blipFill>
        <p:spPr>
          <a:xfrm>
            <a:off x="4648320" y="1008000"/>
            <a:ext cx="4340160" cy="4519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" descr=""/>
          <p:cNvPicPr/>
          <p:nvPr/>
        </p:nvPicPr>
        <p:blipFill>
          <a:blip r:embed="rId3"/>
          <a:stretch/>
        </p:blipFill>
        <p:spPr>
          <a:xfrm>
            <a:off x="419040" y="3546360"/>
            <a:ext cx="2781360" cy="3189240"/>
          </a:xfrm>
          <a:prstGeom prst="rect">
            <a:avLst/>
          </a:prstGeom>
          <a:ln w="0">
            <a:noFill/>
          </a:ln>
        </p:spPr>
      </p:pic>
      <p:sp>
        <p:nvSpPr>
          <p:cNvPr id="56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NUEVA GUINE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27 de Julio, 2015 a las 21:41:21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0"/>
          <p:cNvSpPr/>
          <p:nvPr/>
        </p:nvSpPr>
        <p:spPr>
          <a:xfrm>
            <a:off x="3333600" y="5521320"/>
            <a:ext cx="576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ódigo de intensidad MMI. La población total expuesta a un valor de MMI dado es obtenida sumando la población entre las líneas de contorno. La estimación de la población expuesta a cada intensidad  MMI es mostrada en la tabla de la parte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4570560" y="6477120"/>
            <a:ext cx="44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4648320" y="533520"/>
            <a:ext cx="4462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4"/>
          <p:cNvSpPr/>
          <p:nvPr/>
        </p:nvSpPr>
        <p:spPr>
          <a:xfrm>
            <a:off x="6097680" y="1081080"/>
            <a:ext cx="28573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eva Guinea ocupa una región que está marcada por un arreglo complicado de micro-placas aplastadas entre las Placas mayores del Pacífico y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" descr=""/>
          <p:cNvPicPr/>
          <p:nvPr/>
        </p:nvPicPr>
        <p:blipFill>
          <a:blip r:embed="rId2"/>
          <a:stretch/>
        </p:blipFill>
        <p:spPr>
          <a:xfrm>
            <a:off x="411120" y="1117440"/>
            <a:ext cx="5608800" cy="38354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4"/>
          <p:cNvSpPr/>
          <p:nvPr/>
        </p:nvSpPr>
        <p:spPr>
          <a:xfrm>
            <a:off x="368280" y="5372280"/>
            <a:ext cx="38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s micro-placas toman el total de la convergencia entre las Placas de Australia y del Pacíf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890640" y="2971800"/>
            <a:ext cx="457200" cy="38592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8"/>
          <p:cNvSpPr/>
          <p:nvPr/>
        </p:nvSpPr>
        <p:spPr>
          <a:xfrm>
            <a:off x="1347840" y="2976480"/>
            <a:ext cx="3058920" cy="219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11"/>
          <p:cNvSpPr/>
          <p:nvPr/>
        </p:nvSpPr>
        <p:spPr>
          <a:xfrm>
            <a:off x="1335240" y="3344760"/>
            <a:ext cx="3071520" cy="3368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368280" y="49831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 courtesy of the US Geological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"/>
          <p:cNvSpPr/>
          <p:nvPr/>
        </p:nvSpPr>
        <p:spPr>
          <a:xfrm>
            <a:off x="1587600" y="646128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n Cortesí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lsey Lamoth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"/>
          <p:cNvPicPr/>
          <p:nvPr/>
        </p:nvPicPr>
        <p:blipFill>
          <a:blip r:embed="rId3"/>
          <a:stretch/>
        </p:blipFill>
        <p:spPr>
          <a:xfrm>
            <a:off x="4406760" y="3198960"/>
            <a:ext cx="4572000" cy="3514680"/>
          </a:xfrm>
          <a:prstGeom prst="rect">
            <a:avLst/>
          </a:prstGeom>
          <a:ln w="0">
            <a:noFill/>
          </a:ln>
        </p:spPr>
      </p:pic>
      <p:sp>
        <p:nvSpPr>
          <p:cNvPr id="58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NUEVA GUINE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27 de Julio, 2015 a las 21:41:21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7"/>
          <p:cNvSpPr/>
          <p:nvPr/>
        </p:nvSpPr>
        <p:spPr>
          <a:xfrm>
            <a:off x="258840" y="1139760"/>
            <a:ext cx="3246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vergencia dominante entre las Placas de Australia y del Pacífico es facilitada por el acortamiento y levantamiento en el norte de Nueva Guinea, así como también la subducción de la Placa del Pacífico al norte de Nueva Guinea, exactamente en la Fosa de Nueva Gui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velocidad relativa de la Placa Australia- Pacífico  es de aproximadamente 110 mm/año hacia el n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1"/>
          <p:cNvSpPr/>
          <p:nvPr/>
        </p:nvSpPr>
        <p:spPr>
          <a:xfrm>
            <a:off x="239760" y="6261120"/>
            <a:ext cx="23810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ción Tensor  Momento Sísmico Centroide US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380880" y="4449600"/>
            <a:ext cx="2239920" cy="1874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3"/>
          <a:stretch/>
        </p:blipFill>
        <p:spPr>
          <a:xfrm>
            <a:off x="3489480" y="1170000"/>
            <a:ext cx="5483160" cy="2030400"/>
          </a:xfrm>
          <a:prstGeom prst="rect">
            <a:avLst/>
          </a:prstGeom>
          <a:ln w="0">
            <a:noFill/>
          </a:ln>
        </p:spPr>
      </p:pic>
      <p:sp>
        <p:nvSpPr>
          <p:cNvPr id="587" name="5-Point Star 16"/>
          <p:cNvSpPr/>
          <p:nvPr/>
        </p:nvSpPr>
        <p:spPr>
          <a:xfrm>
            <a:off x="6681960" y="1471680"/>
            <a:ext cx="152280" cy="142920"/>
          </a:xfrm>
          <a:custGeom>
            <a:avLst/>
            <a:gdLst/>
            <a:ahLst/>
            <a:rect l="l" t="t" r="r" b="b"/>
            <a:pathLst>
              <a:path w="152400" h="142875">
                <a:moveTo>
                  <a:pt x="0" y="54573"/>
                </a:moveTo>
                <a:lnTo>
                  <a:pt x="58212" y="54574"/>
                </a:lnTo>
                <a:lnTo>
                  <a:pt x="76200" y="0"/>
                </a:lnTo>
                <a:lnTo>
                  <a:pt x="94188" y="54574"/>
                </a:lnTo>
                <a:lnTo>
                  <a:pt x="152400" y="54573"/>
                </a:lnTo>
                <a:lnTo>
                  <a:pt x="105305" y="88301"/>
                </a:lnTo>
                <a:lnTo>
                  <a:pt x="123294" y="142875"/>
                </a:lnTo>
                <a:lnTo>
                  <a:pt x="76200" y="109146"/>
                </a:lnTo>
                <a:lnTo>
                  <a:pt x="29106" y="142875"/>
                </a:lnTo>
                <a:lnTo>
                  <a:pt x="47095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4"/>
          <a:stretch/>
        </p:blipFill>
        <p:spPr>
          <a:xfrm>
            <a:off x="3051000" y="3409920"/>
            <a:ext cx="3730680" cy="1589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"/>
          <p:cNvPicPr/>
          <p:nvPr/>
        </p:nvPicPr>
        <p:blipFill>
          <a:blip r:embed="rId5"/>
          <a:stretch/>
        </p:blipFill>
        <p:spPr>
          <a:xfrm>
            <a:off x="3121200" y="4973760"/>
            <a:ext cx="3795480" cy="4618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2849400" y="5442120"/>
            <a:ext cx="6123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 Las letras representan los ejes de máximo esfuerzo compresional (P) y el eje de máximo esfuerzo extensional (en blanco, llamado (T) como resultado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6"/>
          <a:stretch/>
        </p:blipFill>
        <p:spPr>
          <a:xfrm>
            <a:off x="7761240" y="2863800"/>
            <a:ext cx="1190520" cy="324000"/>
          </a:xfrm>
          <a:prstGeom prst="rect">
            <a:avLst/>
          </a:prstGeom>
          <a:ln w="0">
            <a:noFill/>
          </a:ln>
        </p:spPr>
      </p:pic>
      <p:sp>
        <p:nvSpPr>
          <p:cNvPr id="592" name="TextBox 11"/>
          <p:cNvSpPr/>
          <p:nvPr/>
        </p:nvSpPr>
        <p:spPr>
          <a:xfrm>
            <a:off x="7075440" y="3251160"/>
            <a:ext cx="201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Flechas muestran el movimiento de la Placa de Australia y las micro-placas adyacentes relativas a la Placa del Pacíf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5019840" y="1154160"/>
            <a:ext cx="4354200" cy="1667520"/>
            <a:chOff x="5019840" y="1154160"/>
            <a:chExt cx="4354200" cy="1667520"/>
          </a:xfrm>
        </p:grpSpPr>
        <p:sp>
          <p:nvSpPr>
            <p:cNvPr id="594" name="TextBox 6"/>
            <p:cNvSpPr/>
            <p:nvPr/>
          </p:nvSpPr>
          <p:spPr>
            <a:xfrm>
              <a:off x="5019840" y="2514600"/>
              <a:ext cx="237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Australian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22"/>
            <p:cNvSpPr/>
            <p:nvPr/>
          </p:nvSpPr>
          <p:spPr>
            <a:xfrm>
              <a:off x="7002000" y="1154160"/>
              <a:ext cx="237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Pacific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NUEVA GUINE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27 de Julio, 2015 a las 21:41:21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602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NUEVA GUINE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27 de Julio, 2015 a las 21:41:21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Douglas A. Bravo</cp:lastModifiedBy>
  <cp:lastPrinted>2013-04-07T18:50:57Z</cp:lastPrinted>
  <dcterms:modified xsi:type="dcterms:W3CDTF">2015-07-30T05:31:07Z</dcterms:modified>
  <cp:revision>697</cp:revision>
  <dc:subject/>
  <dc:title>Slide 1</dc:title>
</cp:coreProperties>
</file>