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E57B-26EE-4EB7-AFC7-CD4F4EC8C2A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20DF-0DC1-45CC-9227-48C6D4CD7F73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scalas de intensidad de movimiento fueron desarrolladas para estandarizar las mediciones y facilitar la comparación de diferentes terremotos. La modificación de la escala de intensidad de  Marcelli una escala de doce niveles, numeradas del  I al XII. Los números bajos representan los niveles de movimientos imperceptibles, XII representa destrucción to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F2A8-1567-4922-B909-EACA618201C2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200" spc="-1" strike="noStrike">
                <a:solidFill>
                  <a:srgbClr val="000000"/>
                </a:solidFill>
                <a:latin typeface="Arial"/>
              </a:rPr>
              <a:t>El  mapa localizador del Servicio Geológico de los EE.UU. muestra la población expuesta a diferentes niveles de intensidad modificada Mercalli (MMI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s-VE" sz="1200" spc="-1" strike="noStrike">
                <a:solidFill>
                  <a:srgbClr val="000000"/>
                </a:solidFill>
                <a:latin typeface="Calibri"/>
              </a:rPr>
              <a:t>MMI describe la severidad de un terremoto en términos de sus efectos en estructuras humanas y es una vasta medida de la cantidad de movimientos telúricos en un lugar da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DFA6-FEF5-458E-A7EB-95AF35320B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000" spc="-1" strike="noStrike">
                <a:solidFill>
                  <a:srgbClr val="393996"/>
                </a:solidFill>
                <a:latin typeface="Calibri"/>
                <a:ea typeface="MS PGothic"/>
              </a:rPr>
              <a:t>Explora la Sismicidad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Visualizador de Terremotos de IRIS:  http://ds.iris.edu/ieb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A797-F0E8-43F5-B378-6EE9DF7C6F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7B7F-E897-4861-93E5-F8DD146B2BC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393996"/>
                </a:solidFill>
                <a:latin typeface="Calibri"/>
              </a:rPr>
              <a:t>Animación Relevan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is.edu/hq/programs/education_and_outreach/animations/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A553-7C5B-4D6C-9B93-0A85BCA8BB1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8D1B-8814-4BFA-B6FF-3F277713B90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3E82-47CF-4139-886A-7551FE0D8291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126E-F77A-4BA0-A76C-E75D554779CC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BB65-62A9-4B02-A9F8-E4285EEE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6B54-45C6-407A-8B31-A5B78663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683-3A1A-45AB-9852-268A00A5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927-1E3E-4DAA-B36F-F6B99085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6B6-5664-4BCB-956A-A59EC297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B059-4BD7-4856-A04C-91A98A59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E22-8DFD-43EC-8DCF-4D4574AB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AB3-9624-486B-A7BF-A12AF0E9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253-DB9A-4185-A3BC-5E7F3B25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8F5-DF15-432D-8015-DD995421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47D-4846-4AE1-A09C-52353406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53D-97FA-4F9F-8E42-F4A74C0C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2FF8-B048-412F-941A-2942D95D9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0 ISLAS SA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iércoles, 18 de Noviembre, 2015 a las 18:31:0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243000" y="1082520"/>
            <a:ext cx="6995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Un terremoto de magnitud 7,0 estremeció la costa afuera de Las Islas Salomón. El terremoto ocurrió a 178 km (111 mi) Oeste-Noroeste de Honiara, Islas Salomón a una profundidad de 13.4 km (8.3 mi), de acuerdo con lo descrito por el Servicio Geológico de los EE.U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No se han reportado heridos o daños y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Arial"/>
              </a:rPr>
              <a:t>se esperan tsunam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7467480" y="303120"/>
            <a:ext cx="1390680" cy="1390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3"/>
          <a:stretch/>
        </p:blipFill>
        <p:spPr>
          <a:xfrm>
            <a:off x="4871880" y="2514600"/>
            <a:ext cx="4000680" cy="3638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ttp://media.maps.com/magellan/Images/solomonislandsrah.gif"/>
          <p:cNvPicPr/>
          <p:nvPr/>
        </p:nvPicPr>
        <p:blipFill>
          <a:blip r:embed="rId4"/>
          <a:stretch/>
        </p:blipFill>
        <p:spPr>
          <a:xfrm>
            <a:off x="577800" y="3429000"/>
            <a:ext cx="395928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scale.jpg"/>
          <p:cNvPicPr/>
          <p:nvPr/>
        </p:nvPicPr>
        <p:blipFill>
          <a:blip r:embed="rId1"/>
          <a:stretch/>
        </p:blipFill>
        <p:spPr>
          <a:xfrm>
            <a:off x="380880" y="4233960"/>
            <a:ext cx="2127240" cy="2319120"/>
          </a:xfrm>
          <a:prstGeom prst="rect">
            <a:avLst/>
          </a:prstGeom>
          <a:ln w="0">
            <a:noFill/>
          </a:ln>
        </p:spPr>
      </p:pic>
      <p:sp>
        <p:nvSpPr>
          <p:cNvPr id="57" name="TextBox 15"/>
          <p:cNvSpPr/>
          <p:nvPr/>
        </p:nvSpPr>
        <p:spPr>
          <a:xfrm>
            <a:off x="210960" y="1012680"/>
            <a:ext cx="372456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  <a:ea typeface="Arial"/>
              </a:rPr>
              <a:t>Las Islas experimentaron sacudidas de ligeras a moderadas a fuert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700" spc="-1" strike="noStrike">
                <a:solidFill>
                  <a:srgbClr val="000000"/>
                </a:solidFill>
                <a:latin typeface="Arial"/>
                <a:ea typeface="Arial"/>
              </a:rPr>
              <a:t>En general, la población en esta región reside en estructuras que son vulnerables a los movimientos de terremoto, aunque exciten algunas estructuras resistent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3"/>
          <a:stretch/>
        </p:blipFill>
        <p:spPr>
          <a:xfrm>
            <a:off x="3767040" y="1371600"/>
            <a:ext cx="5216760" cy="5094360"/>
          </a:xfrm>
          <a:prstGeom prst="rect">
            <a:avLst/>
          </a:prstGeom>
          <a:ln w="0">
            <a:noFill/>
          </a:ln>
        </p:spPr>
      </p:pic>
      <p:sp>
        <p:nvSpPr>
          <p:cNvPr id="6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0 ISLAS SA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iércoles, 18 de Noviembre, 2015 a las 18:31:0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3962520" y="6438960"/>
            <a:ext cx="51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USGS Intensidad de Movimiento Estimada del Terremoto M7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271440" y="3762360"/>
            <a:ext cx="300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ensidad de Mercalli modific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2576520" y="3603600"/>
            <a:ext cx="153828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Percibid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Temb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c00000"/>
                </a:solidFill>
                <a:latin typeface="Arial"/>
                <a:ea typeface="MS PGothic"/>
              </a:rPr>
              <a:t>Extrem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0000"/>
                </a:solidFill>
                <a:latin typeface="Arial"/>
                <a:ea typeface="MS PGothic"/>
              </a:rPr>
              <a:t>Viol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  <a:ea typeface="MS PGothic"/>
              </a:rPr>
              <a:t>Sev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c000"/>
                </a:solidFill>
                <a:latin typeface="Arial"/>
                <a:ea typeface="MS PGothic"/>
              </a:rPr>
              <a:t>Muy 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400" spc="-1" strike="noStrike">
                <a:solidFill>
                  <a:srgbClr val="ffff00"/>
                </a:solidFill>
                <a:latin typeface="Arial"/>
                <a:ea typeface="MS PGothic"/>
              </a:rPr>
              <a:t>Fue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Lig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Déb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Imper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152280" y="6553080"/>
            <a:ext cx="40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200" spc="-1" strike="noStrike">
                <a:solidFill>
                  <a:srgbClr val="000000"/>
                </a:solidFill>
                <a:latin typeface="Arial"/>
                <a:ea typeface="MS PGothic"/>
              </a:rPr>
              <a:t>Imagen Cortesía del Servicio Geológico de los EEU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5"/>
          <p:cNvSpPr/>
          <p:nvPr/>
        </p:nvSpPr>
        <p:spPr>
          <a:xfrm>
            <a:off x="4653000" y="549360"/>
            <a:ext cx="433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MS PGothic"/>
              </a:rPr>
              <a:t>USGS P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Arial"/>
                <a:ea typeface="MS PGothic"/>
              </a:rPr>
              <a:t>Población Expuesta a los Movimientos Telúr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0"/>
          <p:cNvSpPr/>
          <p:nvPr/>
        </p:nvSpPr>
        <p:spPr>
          <a:xfrm>
            <a:off x="3429000" y="5105520"/>
            <a:ext cx="5614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MS PGothic"/>
              </a:rPr>
              <a:t>El código de colores de las líneas de contorno marca las regiones de intensidad MMI. La población total expuesta a un valor de MMI dado es obtenida sumando la población entre las líneas de contorno. La estimación de la población expuesta a cada intensidad  MMI es mostrada en la tabla de la parte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8"/>
          <p:cNvSpPr/>
          <p:nvPr/>
        </p:nvSpPr>
        <p:spPr>
          <a:xfrm>
            <a:off x="243000" y="1120680"/>
            <a:ext cx="42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El  mapa localizador del Servicio Geológico de los EE.UU. muestra la población expuesta a diferentes niveles de intensidad modificada Mercalli (MM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272880" y="2666880"/>
            <a:ext cx="42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6.000 personas experimentaron fuertes movimientos telúricos y 30.000 experimentaron movimientos telúricos moderados durante este terremo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" descr=""/>
          <p:cNvPicPr/>
          <p:nvPr/>
        </p:nvPicPr>
        <p:blipFill>
          <a:blip r:embed="rId2"/>
          <a:stretch/>
        </p:blipFill>
        <p:spPr>
          <a:xfrm>
            <a:off x="4653000" y="1057320"/>
            <a:ext cx="3836880" cy="397188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6"/>
          <p:cNvGrpSpPr/>
          <p:nvPr/>
        </p:nvGrpSpPr>
        <p:grpSpPr>
          <a:xfrm>
            <a:off x="266760" y="3987720"/>
            <a:ext cx="3162240" cy="2629080"/>
            <a:chOff x="266760" y="3987720"/>
            <a:chExt cx="3162240" cy="2629080"/>
          </a:xfrm>
        </p:grpSpPr>
        <p:pic>
          <p:nvPicPr>
            <p:cNvPr id="73" name="Picture 4" descr=""/>
            <p:cNvPicPr/>
            <p:nvPr/>
          </p:nvPicPr>
          <p:blipFill>
            <a:blip r:embed="rId3"/>
            <a:stretch/>
          </p:blipFill>
          <p:spPr>
            <a:xfrm>
              <a:off x="266760" y="3994920"/>
              <a:ext cx="1851120" cy="262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5" descr=""/>
            <p:cNvPicPr/>
            <p:nvPr/>
          </p:nvPicPr>
          <p:blipFill>
            <a:blip r:embed="rId4"/>
            <a:stretch/>
          </p:blipFill>
          <p:spPr>
            <a:xfrm>
              <a:off x="1823040" y="3987720"/>
              <a:ext cx="1605960" cy="261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0 ISLAS SA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iércoles, 18 de Noviembre, 2015 a las 18:31:0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"/>
          <p:cNvSpPr/>
          <p:nvPr/>
        </p:nvSpPr>
        <p:spPr>
          <a:xfrm>
            <a:off x="4191120" y="6473880"/>
            <a:ext cx="48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Imagen Cortesía del Servicio Geológico de los EE.U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7"/>
          <p:cNvSpPr/>
          <p:nvPr/>
        </p:nvSpPr>
        <p:spPr>
          <a:xfrm>
            <a:off x="203040" y="1200240"/>
            <a:ext cx="30416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Este mapa muestra la sismicidad a lo largo del complejo de la zona de convergencia de placas entre las placas Australiana y del Pacífico en la región entre Papúa Nueva Guinea y Nueva Caledo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MS PGothic"/>
              </a:rPr>
              <a:t>Los terremotos están coloreados para representar la profundidad. Ha habido 4189 terremotos de magnitud 5,0 o mayor en esta región desde el 1 de enero del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8"/>
          <p:cNvSpPr/>
          <p:nvPr/>
        </p:nvSpPr>
        <p:spPr>
          <a:xfrm>
            <a:off x="3827520" y="6041880"/>
            <a:ext cx="53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MS PGothic"/>
              </a:rPr>
              <a:t>Esta figura fue creada usando el visualizador de terremotos de IRIS (IEB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"/>
          <p:cNvGrpSpPr/>
          <p:nvPr/>
        </p:nvGrpSpPr>
        <p:grpSpPr>
          <a:xfrm>
            <a:off x="3244680" y="1336680"/>
            <a:ext cx="5761080" cy="4572000"/>
            <a:chOff x="3244680" y="1336680"/>
            <a:chExt cx="5761080" cy="4572000"/>
          </a:xfrm>
        </p:grpSpPr>
        <p:grpSp>
          <p:nvGrpSpPr>
            <p:cNvPr id="82" name="Group 2"/>
            <p:cNvGrpSpPr/>
            <p:nvPr/>
          </p:nvGrpSpPr>
          <p:grpSpPr>
            <a:xfrm>
              <a:off x="3244680" y="1336680"/>
              <a:ext cx="5761080" cy="4572000"/>
              <a:chOff x="3244680" y="1336680"/>
              <a:chExt cx="5761080" cy="4572000"/>
            </a:xfrm>
          </p:grpSpPr>
          <p:pic>
            <p:nvPicPr>
              <p:cNvPr id="83" name="Picture 1" descr="IEB 20151118.tiff"/>
              <p:cNvPicPr/>
              <p:nvPr/>
            </p:nvPicPr>
            <p:blipFill>
              <a:blip r:embed="rId2"/>
              <a:srcRect l="1822" t="2278" r="1019" b="2278"/>
              <a:stretch/>
            </p:blipFill>
            <p:spPr>
              <a:xfrm>
                <a:off x="3244680" y="1336680"/>
                <a:ext cx="5761080" cy="4572000"/>
              </a:xfrm>
              <a:prstGeom prst="rect">
                <a:avLst/>
              </a:prstGeom>
              <a:ln w="28440">
                <a:solidFill>
                  <a:srgbClr val="660066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</p:pic>
          <p:sp>
            <p:nvSpPr>
              <p:cNvPr id="84" name="TextBox 11"/>
              <p:cNvSpPr/>
              <p:nvPr/>
            </p:nvSpPr>
            <p:spPr>
              <a:xfrm>
                <a:off x="6684120" y="2485440"/>
                <a:ext cx="627120" cy="307080"/>
              </a:xfrm>
              <a:prstGeom prst="rect">
                <a:avLst/>
              </a:prstGeom>
              <a:solidFill>
                <a:srgbClr val="ffffff">
                  <a:alpha val="80000"/>
                </a:srgbClr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 7.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5" name="Straight Arrow Connector 17"/>
              <p:cNvCxnSpPr/>
              <p:nvPr/>
            </p:nvCxnSpPr>
            <p:spPr>
              <a:xfrm flipH="1">
                <a:off x="6712560" y="2828520"/>
                <a:ext cx="216360" cy="446760"/>
              </a:xfrm>
              <a:prstGeom prst="straightConnector1">
                <a:avLst/>
              </a:prstGeom>
              <a:ln w="25560">
                <a:solidFill>
                  <a:srgbClr val="ff6600"/>
                </a:solidFill>
                <a:miter/>
                <a:tailEnd len="med" type="arrow" w="med"/>
              </a:ln>
            </p:spPr>
          </p:cxnSp>
        </p:grpSp>
        <p:pic>
          <p:nvPicPr>
            <p:cNvPr id="86" name="Picture 7" descr="DepthLegend.tiff"/>
            <p:cNvPicPr/>
            <p:nvPr/>
          </p:nvPicPr>
          <p:blipFill>
            <a:blip r:embed="rId3"/>
            <a:srcRect l="7149" t="0" r="8135" b="0"/>
            <a:stretch/>
          </p:blipFill>
          <p:spPr>
            <a:xfrm>
              <a:off x="3252240" y="3769560"/>
              <a:ext cx="365760" cy="2120400"/>
            </a:xfrm>
            <a:prstGeom prst="rect">
              <a:avLst/>
            </a:prstGeom>
            <a:ln w="12600">
              <a:solidFill>
                <a:srgbClr val="660066"/>
              </a:solidFill>
              <a:miter/>
            </a:ln>
          </p:spPr>
        </p:pic>
      </p:grpSp>
      <p:sp>
        <p:nvSpPr>
          <p:cNvPr id="8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0 ISLAS SA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iércoles, 18 de Noviembre, 2015 a las 18:31:0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239760" y="985680"/>
            <a:ext cx="85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Este mapa regional muestra la complejidad de placas tectónicas importantes y micro-placas debido a la convergencia entre las Placas de Australia y del Pacíf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"/>
          <p:cNvGrpSpPr/>
          <p:nvPr/>
        </p:nvGrpSpPr>
        <p:grpSpPr>
          <a:xfrm>
            <a:off x="838080" y="1752480"/>
            <a:ext cx="7620120" cy="4859280"/>
            <a:chOff x="838080" y="1752480"/>
            <a:chExt cx="7620120" cy="4859280"/>
          </a:xfrm>
        </p:grpSpPr>
        <p:pic>
          <p:nvPicPr>
            <p:cNvPr id="92" name="Picture 3" descr="N.Guinea2Tonga copy.jpg"/>
            <p:cNvPicPr/>
            <p:nvPr/>
          </p:nvPicPr>
          <p:blipFill>
            <a:blip r:embed="rId2"/>
            <a:stretch/>
          </p:blipFill>
          <p:spPr>
            <a:xfrm>
              <a:off x="838080" y="1752480"/>
              <a:ext cx="7620120" cy="48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5-Point Star 1"/>
            <p:cNvSpPr/>
            <p:nvPr/>
          </p:nvSpPr>
          <p:spPr>
            <a:xfrm>
              <a:off x="3657600" y="350496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400">
                  <a:moveTo>
                    <a:pt x="0" y="58211"/>
                  </a:moveTo>
                  <a:lnTo>
                    <a:pt x="58212" y="58212"/>
                  </a:lnTo>
                  <a:lnTo>
                    <a:pt x="76200" y="0"/>
                  </a:lnTo>
                  <a:lnTo>
                    <a:pt x="94188" y="58212"/>
                  </a:lnTo>
                  <a:lnTo>
                    <a:pt x="152400" y="58211"/>
                  </a:lnTo>
                  <a:lnTo>
                    <a:pt x="105305" y="94188"/>
                  </a:lnTo>
                  <a:lnTo>
                    <a:pt x="123294" y="152400"/>
                  </a:lnTo>
                  <a:lnTo>
                    <a:pt x="76200" y="116422"/>
                  </a:lnTo>
                  <a:lnTo>
                    <a:pt x="29106" y="152400"/>
                  </a:lnTo>
                  <a:lnTo>
                    <a:pt x="47095" y="94188"/>
                  </a:lnTo>
                  <a:lnTo>
                    <a:pt x="0" y="5821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0 ISLAS SA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iércoles, 18 de Noviembre, 2015 a las 18:31:0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2"/>
          <a:stretch/>
        </p:blipFill>
        <p:spPr>
          <a:xfrm>
            <a:off x="2158920" y="838080"/>
            <a:ext cx="6848640" cy="5634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8"/>
          <p:cNvSpPr/>
          <p:nvPr/>
        </p:nvSpPr>
        <p:spPr>
          <a:xfrm>
            <a:off x="239760" y="5257800"/>
            <a:ext cx="183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Complejidades de la tectónica regional envolviendo la convergencia de las Placas de Australia y del Pacífic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4038480" y="6548400"/>
            <a:ext cx="60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iris.edu/hq/programs/education_and_outreach/animations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0 ISLAS SA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iércoles, 18 de Noviembre, 2015 a las 18:31:0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7"/>
          <p:cNvSpPr/>
          <p:nvPr/>
        </p:nvSpPr>
        <p:spPr>
          <a:xfrm>
            <a:off x="293760" y="1114560"/>
            <a:ext cx="862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te terremoto se produjo como resultado de un fallado de empuje. En la región de este terremoto, la placa Australiana converge con y se subduce debajo de la Placa del Pacífico, se mueve hacia el este-noreste a una velocidad de aproximadamente 94 mm /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4427640" y="4724280"/>
            <a:ext cx="4335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Áreas sombreadas muestran el cuadrante de la esfera focal en la cual los primeros movimientos de las ondas P están alejas de la fuente, y las áreas sin sombra muestran los cuadrantes en la cual los primeros movimientos de las ondas P se acercan a la fuente. Las letras representan los ejes de máximo esfuerzo compresional (P) y el eje de máximo esfuerzo extensional (en blanco, llamado (T) como resultado del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304920" y="6477120"/>
            <a:ext cx="37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1400" spc="-1" strike="noStrike">
                <a:solidFill>
                  <a:srgbClr val="000000"/>
                </a:solidFill>
                <a:latin typeface="Arial"/>
                <a:ea typeface="Arial"/>
              </a:rPr>
              <a:t>Solución Momento Sísmico Centro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4202280" y="4010040"/>
            <a:ext cx="4518000" cy="550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" descr=""/>
          <p:cNvPicPr/>
          <p:nvPr/>
        </p:nvPicPr>
        <p:blipFill>
          <a:blip r:embed="rId3"/>
          <a:stretch/>
        </p:blipFill>
        <p:spPr>
          <a:xfrm>
            <a:off x="528480" y="3336840"/>
            <a:ext cx="3257640" cy="2940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4"/>
          <a:stretch/>
        </p:blipFill>
        <p:spPr>
          <a:xfrm>
            <a:off x="4162320" y="2085840"/>
            <a:ext cx="4518000" cy="1924200"/>
          </a:xfrm>
          <a:prstGeom prst="rect">
            <a:avLst/>
          </a:prstGeom>
          <a:ln w="0">
            <a:noFill/>
          </a:ln>
        </p:spPr>
      </p:pic>
      <p:sp>
        <p:nvSpPr>
          <p:cNvPr id="109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0 ISLAS SA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iércoles, 18 de Noviembre, 2015 a las 18:31:0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Solomon20151118.JPG"/>
          <p:cNvPicPr/>
          <p:nvPr/>
        </p:nvPicPr>
        <p:blipFill>
          <a:blip r:embed="rId1"/>
          <a:srcRect l="0" t="4090" r="313" b="5295"/>
          <a:stretch/>
        </p:blipFill>
        <p:spPr>
          <a:xfrm>
            <a:off x="255600" y="1854360"/>
            <a:ext cx="8869320" cy="45320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8" descr="IRIS_TMlogo.png"/>
          <p:cNvPicPr/>
          <p:nvPr/>
        </p:nvPicPr>
        <p:blipFill>
          <a:blip r:embed="rId2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695160" y="1854360"/>
            <a:ext cx="73375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Seguido del terremoto, las ondas P compresionales se tomaros 12 minutos 55 segundos en viajar la trayectoria curva de la Tierra a través del manto desde el terremoto hasta Portland, Oreg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3200400" y="4952880"/>
            <a:ext cx="55688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s ondas de superficie , ambas Love and Rayleigh, viajar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9847 km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(6119 millas) a lo largo del perímetro de la Tierra desde el terremoto hasta la estación de regist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255600" y="990720"/>
            <a:ext cx="80755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El registro del terremoto  en el sismógrafo de la Universidad de Portland (UPOR) es ilustrado en la parte inferior. Portland está ubicada aproximadamen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9847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km  (6119 millas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8.71°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) desde la localización de este terremo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827360" y="2639880"/>
            <a:ext cx="558324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Las Ondas S son ondas cortantes  que siguen la misma trayectoria a través del manto  como las ondas P, tomándose 23 minutos 43 segundos en arriba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0 ISLAS SA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iércoles, 18 de Noviembre, 2015 a las 18:31:0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39399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IRIS_TMlogo.png"/>
          <p:cNvPicPr/>
          <p:nvPr/>
        </p:nvPicPr>
        <p:blipFill>
          <a:blip r:embed="rId1"/>
          <a:stretch/>
        </p:blipFill>
        <p:spPr>
          <a:xfrm>
            <a:off x="239760" y="76320"/>
            <a:ext cx="903240" cy="927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" descr=""/>
          <p:cNvPicPr/>
          <p:nvPr/>
        </p:nvPicPr>
        <p:blipFill>
          <a:blip r:embed="rId2"/>
          <a:stretch/>
        </p:blipFill>
        <p:spPr>
          <a:xfrm>
            <a:off x="6210360" y="5181480"/>
            <a:ext cx="2705040" cy="1435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3"/>
          <a:stretch/>
        </p:blipFill>
        <p:spPr>
          <a:xfrm>
            <a:off x="503280" y="5334120"/>
            <a:ext cx="1460520" cy="1150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" descr=""/>
          <p:cNvPicPr/>
          <p:nvPr/>
        </p:nvPicPr>
        <p:blipFill>
          <a:blip r:embed="rId4"/>
          <a:stretch/>
        </p:blipFill>
        <p:spPr>
          <a:xfrm>
            <a:off x="3798720" y="5400720"/>
            <a:ext cx="1200240" cy="1206360"/>
          </a:xfrm>
          <a:prstGeom prst="rect">
            <a:avLst/>
          </a:prstGeom>
          <a:ln w="0">
            <a:noFill/>
          </a:ln>
        </p:spPr>
      </p:pic>
      <p:sp>
        <p:nvSpPr>
          <p:cNvPr id="123" name="Title 1"/>
          <p:cNvSpPr/>
          <p:nvPr/>
        </p:nvSpPr>
        <p:spPr>
          <a:xfrm>
            <a:off x="1233360" y="0"/>
            <a:ext cx="7899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s-VE" sz="2000" spc="-1" strike="noStrike">
                <a:solidFill>
                  <a:srgbClr val="11488b"/>
                </a:solidFill>
                <a:latin typeface="Arial"/>
              </a:rPr>
              <a:t>Magnitud 7,0 ISLAS SALOMÓN</a:t>
            </a:r>
            <a:br>
              <a:rPr sz="3500"/>
            </a:br>
            <a:r>
              <a:rPr b="1" lang="es-VE" sz="1500" spc="-1" strike="noStrike">
                <a:solidFill>
                  <a:srgbClr val="11488b"/>
                </a:solidFill>
                <a:latin typeface="Arial"/>
              </a:rPr>
              <a:t>Miércoles, 18 de Noviembre, 2015 a las 18:31:04 UT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762120" y="2408400"/>
            <a:ext cx="785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393996"/>
                </a:solidFill>
                <a:latin typeface="Arial"/>
                <a:ea typeface="MS PGothic"/>
              </a:rPr>
              <a:t>Momentos de Enseñanzas son servicios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Educación IRIS &amp; Alcance 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  <a:ea typeface="MS PGothic"/>
              </a:rPr>
              <a:t>La Universidad de Portl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1T20:07:40Z</dcterms:created>
  <dc:creator>tkb</dc:creator>
  <dc:description/>
  <dc:language>en-US</dc:language>
  <cp:lastModifiedBy>Douglas A. Bravo</cp:lastModifiedBy>
  <dcterms:modified xsi:type="dcterms:W3CDTF">2015-11-20T07:24:38Z</dcterms:modified>
  <cp:revision>635</cp:revision>
  <dc:subject/>
  <dc:title>Slide 1</dc:title>
</cp:coreProperties>
</file>