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0B7E-008A-4298-8C02-55D638C85B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9E8-4DD4-4477-A01A-D32F9AEFD8F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l  mapa localizador del Servicio Geológico de los EE.UU. muestra la población expuesta a diferentes niveles de intensidad modificada Mercalli (MMI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4DE0-1920-4A65-A5C4-C5D07A00F1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xplora la sismicidad un poco más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magen tomada del Navegador de Terremotos de IR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iris.edu/i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CED2-1D93-493F-8337-63D549BAFA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18FF-8BF8-4263-9E13-4525B5C51F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Mecanismo Focal de los Terremoto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is.edu/hq/inclass/animation/focal_mechanisms_expla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033A-2E4A-4989-9603-5AEB83A38AD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ones Relevan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Curvas de tiempo de viaje: Como son creadas? </a:t>
            </a: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http://www.iris.edu/hq/inclass/animation/traveltime_curves_how_they_are_crea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Zonas de sombra sísmicas </a:t>
            </a: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http://www.iris.edu/hq/inclass/animation/seismic_shadow_zone_basic_introdu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Zonas de sombra sísmicas vs sombras ligeras  http://www.iris.edu/hq/inclass/animation/seismic_shadow_zones_vs_light_shad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Zonas de sombra sísmicas: Ondas P  http://www.iris.edu/hq/inclass/animation/seismic_shadow_zones_p_wa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Zonas de sombra sísmicas: Zona de sombra de las ondas S http://www.iris.edu/hq/inclass/animation/seismic_shadow_zones_s_wave_shadow_z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6C23-5D82-41F5-BD45-1A960A4E027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9013-17E4-4E15-A81E-24EAE7C3C17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0F3-8384-4BDA-A93D-73AC8B40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396-AF08-4374-9AFE-7D371A7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551-101C-431D-B508-02D28089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34-2379-4006-B6BB-57545D75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DF4-7D31-428E-AC9F-C367108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EC4-9ABD-4B78-9189-1CB1A899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ACC-7FA7-4FFC-8FEF-318E1B79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A07-C577-43E9-8903-15593E7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E82-BD50-4E04-8E5F-07359C3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E35-8D6C-4225-8A6D-A676DDC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AEC-664E-44F9-99FB-346EBB3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82D-1551-4752-AEB0-73B920F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1BAD-9AD3-4543-93AB-FB4AB6076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18960" y="1112760"/>
            <a:ext cx="53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inusual terremoto de magnitud 7,1  estremeció en el sur del Océano Índico, aproximadamente 1022 kilómetros (635 millas) al ENE de Islas Heard y McDonald. No hay riesgo de un tsun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4400" y="888840"/>
            <a:ext cx="8350560" cy="5740560"/>
            <a:chOff x="374400" y="888840"/>
            <a:chExt cx="8350560" cy="5740560"/>
          </a:xfrm>
        </p:grpSpPr>
        <p:pic>
          <p:nvPicPr>
            <p:cNvPr id="53" name="Picture 12" descr="Screen Shot 2015-12-05 at 00.37.09"/>
            <p:cNvPicPr/>
            <p:nvPr/>
          </p:nvPicPr>
          <p:blipFill>
            <a:blip r:embed="rId2"/>
            <a:stretch/>
          </p:blipFill>
          <p:spPr>
            <a:xfrm>
              <a:off x="374760" y="2724120"/>
              <a:ext cx="7142760" cy="39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" descr=""/>
            <p:cNvPicPr/>
            <p:nvPr/>
          </p:nvPicPr>
          <p:blipFill>
            <a:blip r:embed="rId3"/>
            <a:stretch/>
          </p:blipFill>
          <p:spPr>
            <a:xfrm>
              <a:off x="5639040" y="888840"/>
              <a:ext cx="308592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2"/>
            <p:cNvSpPr/>
            <p:nvPr/>
          </p:nvSpPr>
          <p:spPr>
            <a:xfrm>
              <a:off x="5943600" y="2285640"/>
              <a:ext cx="1447560" cy="761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5"/>
            <p:cNvSpPr/>
            <p:nvPr/>
          </p:nvSpPr>
          <p:spPr>
            <a:xfrm>
              <a:off x="7391520" y="3047760"/>
              <a:ext cx="125280" cy="358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traight Connector 14"/>
            <p:cNvSpPr/>
            <p:nvPr/>
          </p:nvSpPr>
          <p:spPr>
            <a:xfrm flipH="1">
              <a:off x="374400" y="2285640"/>
              <a:ext cx="5568840" cy="43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4495680" y="6473880"/>
            <a:ext cx="459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3276720" y="5521320"/>
            <a:ext cx="57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l código de colores de las líneas de contorno marca las regiones de intensidad MMI. La población total expuesta a un valor de MMI dado es obtenida sumando la población entre las líneas de contorno. La estimación de la población expuesta a cada intensidad  MMI es mostrada en la tabla de la izqui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43000" y="914400"/>
            <a:ext cx="425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  mapa localizador del Servicio Geológico de los EE.UU. muestra la población expuesta a diferentes niveles de intensidad modificada Mercalli (MM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52360" y="2362320"/>
            <a:ext cx="51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Nadie fue afectado por el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4749840" y="1174680"/>
            <a:ext cx="4160880" cy="430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60360" y="2822400"/>
            <a:ext cx="2916360" cy="3818160"/>
          </a:xfrm>
          <a:prstGeom prst="rect">
            <a:avLst/>
          </a:prstGeom>
          <a:ln w="0">
            <a:noFill/>
          </a:ln>
        </p:spPr>
      </p:pic>
      <p:sp>
        <p:nvSpPr>
          <p:cNvPr id="6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653000" y="54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19240" y="1087560"/>
            <a:ext cx="328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1"/>
          <p:cNvSpPr/>
          <p:nvPr/>
        </p:nvSpPr>
        <p:spPr>
          <a:xfrm>
            <a:off x="2895480" y="6400800"/>
            <a:ext cx="62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Mapa creado usando el Navegador de Terremotos de IRIS: www.iris.edu/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92240" y="1143000"/>
            <a:ext cx="294156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 mapa de la derecha muestra epicentros de 1000 terremotos más recientes en esta reg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 terremoto del 4 de diciembre, 2015 es inusual en dos aspectos. No hay terremotos mayores que  M5,0 que se sepan hallan ocurrido dentro de un radio de 400 km a este terremoto en el siglo pa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También se encuentra entre la  Dorsal Índica del Sureste y la meseta de Kerguelen. Este terremoto es, así un evento "intraplac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"/>
          <p:cNvGrpSpPr/>
          <p:nvPr/>
        </p:nvGrpSpPr>
        <p:grpSpPr>
          <a:xfrm>
            <a:off x="3200400" y="1228680"/>
            <a:ext cx="5791320" cy="4791240"/>
            <a:chOff x="3200400" y="1228680"/>
            <a:chExt cx="5791320" cy="4791240"/>
          </a:xfrm>
        </p:grpSpPr>
        <p:pic>
          <p:nvPicPr>
            <p:cNvPr id="74" name="Picture 2" descr="RegionalSeismicityTopo.tiff"/>
            <p:cNvPicPr/>
            <p:nvPr/>
          </p:nvPicPr>
          <p:blipFill>
            <a:blip r:embed="rId2"/>
            <a:srcRect l="0" t="2129" r="1596" b="20853"/>
            <a:stretch/>
          </p:blipFill>
          <p:spPr>
            <a:xfrm>
              <a:off x="3200400" y="1228680"/>
              <a:ext cx="5791320" cy="479124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</p:pic>
        <p:pic>
          <p:nvPicPr>
            <p:cNvPr id="75" name="Picture 5" descr="IEBMagnitudeLegend.tiff"/>
            <p:cNvPicPr/>
            <p:nvPr/>
          </p:nvPicPr>
          <p:blipFill>
            <a:blip r:embed="rId3"/>
            <a:stretch/>
          </p:blipFill>
          <p:spPr>
            <a:xfrm>
              <a:off x="7650360" y="5328720"/>
              <a:ext cx="1207080" cy="4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"/>
            <p:cNvSpPr/>
            <p:nvPr/>
          </p:nvSpPr>
          <p:spPr>
            <a:xfrm>
              <a:off x="5034960" y="4914000"/>
              <a:ext cx="154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Magnitud 7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 de Decie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8"/>
            <p:cNvCxnSpPr/>
            <p:nvPr/>
          </p:nvCxnSpPr>
          <p:spPr>
            <a:xfrm flipH="1" flipV="1">
              <a:off x="5303880" y="4706280"/>
              <a:ext cx="133560" cy="2768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8" name="TextBox 1"/>
            <p:cNvSpPr/>
            <p:nvPr/>
          </p:nvSpPr>
          <p:spPr>
            <a:xfrm rot="1913400">
              <a:off x="5475240" y="3751200"/>
              <a:ext cx="23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rsal Índica del Sure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"/>
            <p:cNvSpPr/>
            <p:nvPr/>
          </p:nvSpPr>
          <p:spPr>
            <a:xfrm rot="2930400">
              <a:off x="3350880" y="4840560"/>
              <a:ext cx="172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Meseta de Kergue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2" descr="unavco-logo-red-black-shadow.jpg"/>
          <p:cNvPicPr/>
          <p:nvPr/>
        </p:nvPicPr>
        <p:blipFill>
          <a:blip r:embed="rId2"/>
          <a:stretch/>
        </p:blipFill>
        <p:spPr>
          <a:xfrm>
            <a:off x="2917800" y="6413400"/>
            <a:ext cx="1295280" cy="324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8684"/>
          <p:cNvSpPr/>
          <p:nvPr/>
        </p:nvSpPr>
        <p:spPr>
          <a:xfrm>
            <a:off x="254160" y="1082520"/>
            <a:ext cx="360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Las flechas azules muestran el movimiento de la Placa Antártica con respecto a la placa de Australia. El epicentro del terremoto se muestra con la estrella ro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n el lugar del terremoto, la placa Antártica se está moviendo hacia el suroeste aproximadamente a una velocidad de 66 mm / año con respecto a la placa de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4227480" y="2951280"/>
            <a:ext cx="4789440" cy="3746520"/>
            <a:chOff x="4227480" y="2951280"/>
            <a:chExt cx="4789440" cy="3746520"/>
          </a:xfrm>
        </p:grpSpPr>
        <p:pic>
          <p:nvPicPr>
            <p:cNvPr id="86" name="Picture 7" descr=""/>
            <p:cNvPicPr/>
            <p:nvPr/>
          </p:nvPicPr>
          <p:blipFill>
            <a:blip r:embed="rId3"/>
            <a:stretch/>
          </p:blipFill>
          <p:spPr>
            <a:xfrm>
              <a:off x="4227480" y="2951280"/>
              <a:ext cx="4789440" cy="374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Group 2"/>
            <p:cNvGrpSpPr/>
            <p:nvPr/>
          </p:nvGrpSpPr>
          <p:grpSpPr>
            <a:xfrm>
              <a:off x="5790960" y="4031640"/>
              <a:ext cx="2971800" cy="1834560"/>
              <a:chOff x="5790960" y="4031640"/>
              <a:chExt cx="2971800" cy="1834560"/>
            </a:xfrm>
          </p:grpSpPr>
          <p:sp>
            <p:nvSpPr>
              <p:cNvPr id="88" name="Text Box 5"/>
              <p:cNvSpPr/>
              <p:nvPr/>
            </p:nvSpPr>
            <p:spPr>
              <a:xfrm>
                <a:off x="6054480" y="5294880"/>
                <a:ext cx="12571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600" spc="-1" strike="noStrike">
                    <a:solidFill>
                      <a:srgbClr val="ffff00"/>
                    </a:solidFill>
                    <a:latin typeface="Arial"/>
                    <a:ea typeface="MS PGothic"/>
                  </a:rPr>
                  <a:t>Placa Antárt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7"/>
              <p:cNvSpPr/>
              <p:nvPr/>
            </p:nvSpPr>
            <p:spPr>
              <a:xfrm>
                <a:off x="5790960" y="436896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56" h="228658">
                    <a:moveTo>
                      <a:pt x="0" y="87339"/>
                    </a:moveTo>
                    <a:lnTo>
                      <a:pt x="87339" y="87340"/>
                    </a:lnTo>
                    <a:lnTo>
                      <a:pt x="114328" y="0"/>
                    </a:lnTo>
                    <a:lnTo>
                      <a:pt x="141317" y="87340"/>
                    </a:lnTo>
                    <a:lnTo>
                      <a:pt x="228656" y="87339"/>
                    </a:lnTo>
                    <a:lnTo>
                      <a:pt x="157997" y="141318"/>
                    </a:lnTo>
                    <a:lnTo>
                      <a:pt x="184986" y="228657"/>
                    </a:lnTo>
                    <a:lnTo>
                      <a:pt x="114328" y="174678"/>
                    </a:lnTo>
                    <a:lnTo>
                      <a:pt x="43670" y="228657"/>
                    </a:lnTo>
                    <a:lnTo>
                      <a:pt x="70659" y="141318"/>
                    </a:lnTo>
                    <a:lnTo>
                      <a:pt x="0" y="8733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5"/>
              <p:cNvSpPr/>
              <p:nvPr/>
            </p:nvSpPr>
            <p:spPr>
              <a:xfrm>
                <a:off x="7397640" y="4031640"/>
                <a:ext cx="1365120" cy="57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600" spc="-1" strike="noStrike">
                    <a:solidFill>
                      <a:srgbClr val="ffff00"/>
                    </a:solidFill>
                    <a:latin typeface="Arial"/>
                    <a:ea typeface="MS PGothic"/>
                  </a:rPr>
                  <a:t>Placa Australia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5"/>
            <p:cNvSpPr/>
            <p:nvPr/>
          </p:nvSpPr>
          <p:spPr>
            <a:xfrm>
              <a:off x="5029200" y="3361320"/>
              <a:ext cx="3213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Dorsal Índica del Sure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Straight Arrow Connector 5"/>
            <p:cNvCxnSpPr/>
            <p:nvPr/>
          </p:nvCxnSpPr>
          <p:spPr>
            <a:xfrm flipH="1">
              <a:off x="6536520" y="3692160"/>
              <a:ext cx="170280" cy="29412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6019920" y="577800"/>
            <a:ext cx="2241360" cy="2239920"/>
          </a:xfrm>
          <a:prstGeom prst="rect">
            <a:avLst/>
          </a:prstGeom>
          <a:ln w="0">
            <a:noFill/>
          </a:ln>
        </p:spPr>
      </p:pic>
      <p:sp>
        <p:nvSpPr>
          <p:cNvPr id="9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57200" y="2689200"/>
            <a:ext cx="3657600" cy="1558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2674800" y="4876920"/>
            <a:ext cx="601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. Las letras representan los ejes de máximo esfuerzo compresional (P) y el eje de máximo esfuerzo extensional (en blanco, llamado (T) como resultado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80880" y="4098960"/>
            <a:ext cx="3657600" cy="45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FM.tiff"/>
          <p:cNvPicPr/>
          <p:nvPr/>
        </p:nvPicPr>
        <p:blipFill>
          <a:blip r:embed="rId4"/>
          <a:srcRect l="4953" t="6418" r="5730" b="4373"/>
          <a:stretch/>
        </p:blipFill>
        <p:spPr>
          <a:xfrm>
            <a:off x="228600" y="4800600"/>
            <a:ext cx="2133720" cy="2006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228600" y="1122480"/>
            <a:ext cx="4114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ste terremoto se produjo como resultado de fallado normal debido a las fuerzas extensionales dentro de la Placa Antártica. El origen de estas fuerzas de extensión es incie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Location.tiff"/>
          <p:cNvPicPr/>
          <p:nvPr/>
        </p:nvPicPr>
        <p:blipFill>
          <a:blip r:embed="rId5"/>
          <a:stretch/>
        </p:blipFill>
        <p:spPr>
          <a:xfrm>
            <a:off x="4495680" y="1066680"/>
            <a:ext cx="4496040" cy="3102120"/>
          </a:xfrm>
          <a:prstGeom prst="rect">
            <a:avLst/>
          </a:prstGeom>
          <a:ln w="28440">
            <a:solidFill>
              <a:srgbClr val="660066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03" name="TextBox 11"/>
          <p:cNvSpPr/>
          <p:nvPr/>
        </p:nvSpPr>
        <p:spPr>
          <a:xfrm>
            <a:off x="2209680" y="652320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MS PGothic"/>
              </a:rPr>
              <a:t>USGS Fase W </a:t>
            </a: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Arial"/>
              </a:rPr>
              <a:t>Solución Momento Sísmico-Centro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20151204 SE Indian.jpg"/>
          <p:cNvPicPr/>
          <p:nvPr/>
        </p:nvPicPr>
        <p:blipFill>
          <a:blip r:embed="rId1"/>
          <a:srcRect l="0" t="2682" r="0" b="5285"/>
          <a:stretch/>
        </p:blipFill>
        <p:spPr>
          <a:xfrm>
            <a:off x="228600" y="2057400"/>
            <a:ext cx="8915400" cy="4613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685800" y="3124080"/>
            <a:ext cx="4572000" cy="3196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s ondas P y S que viajaron a través del interior de la Tierra desde el terremoto hasta Portland son difíciles de identificar en este sismogr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s tormentas de invierno con fuertes vientos están causando grandes olas en el Noreste del Océano Pacífico. Estas olas oscilan la Tierra sólida para producir "ruido micro-sísmico" que se superpone en frecuencia con ondas sísmicas P y 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Además, ondas directas  P y S no pueden viajar a las estaciones en distancia epicentral &gt; 103 ° debido a la gran disminución de velocidades de las ondas a través del límite entre el manto inferior y el núcleo externo líquido. Hay una "zona de sombra" para las ondas P directas en un rango de 103 ° &lt;Δ &lt;143 °. Existe la zona de sombra de onda S de Δ&gt; 103 ° porque el núcleo exterior liquido bloquea ondas S que no pueden viajar a través de líqu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39760" y="914400"/>
            <a:ext cx="87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registro del terremoto observado en el sismógrafo de la Universidad de Portland (UPOR) es ilustrado en la parte inferior. Portland está ubicada aproximada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7.860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km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1.09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milla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60,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 desde la localización de este terremoto. Animaciones relevantes se mencionan en las notas de esta diaposi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384880" y="3429000"/>
            <a:ext cx="3657600" cy="1189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s ondas superficiales viajaron los 17,860 km desde el terremoto hasta Portland a lo largo del perímetro de la Tierra. A pesar de esta gran distancia y el ruido micro-sísmico, las ondas superficiales Rayleigh and Love son fácilmente visibles en este sismogr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12621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1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1 DORSAL ÍNDICA DEL SUREST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Viernes,  4 de Diciembre, 2015 a las 22:24:55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  <a:ea typeface="MS PGothic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 A. Bravo</cp:lastModifiedBy>
  <dcterms:modified xsi:type="dcterms:W3CDTF">2015-12-08T06:40:07Z</dcterms:modified>
  <cp:revision>655</cp:revision>
  <dc:subject/>
  <dc:title>Slide 1</dc:title>
</cp:coreProperties>
</file>