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6196-E3F7-49A3-ADDB-0856F6FADC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iris.edu/hq/programs/education_and_outreach/animations#K" TargetMode="External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52D-126A-4447-818E-1B2E271075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calas de intensidad de movimiento fueron desarrolladas para estandarizar las mediciones y facilitar la comparación de diferentes terremotos. La modificación de la escala de intensidad de  Marcelli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4839-9935-4EEB-8E92-3EC3521430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mapa USGS PAGER muestra la población expuesta a diferentes niveles de intensidad de Mercalli Modificada (MMI). MMI describe la severidad de un terremoto en términos de su efecto sobre los seres humanos y las estructuras y es una medida aproximada de la intensidad de los temblores en un lugar determin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C49B-1679-44A2-AD77-AD1CDC11B9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9DF-1311-47B1-85F5-3158A8DC178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623B-19A0-4051-BC56-8BB0E497306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B153-47E5-4C8E-8602-5E5DAA5D7F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Aprende como trabajan los mecanismos foca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https://youtu.be/MomVOkyDd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5599-F239-4F78-8562-5680DF680FD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93996"/>
                </a:solidFill>
                <a:latin typeface="Calibri"/>
              </a:rPr>
              <a:t>Animación Relevant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93996"/>
                </a:solidFill>
                <a:latin typeface="Calibri"/>
              </a:rPr>
              <a:t>¿De donde provienen las curvas de tiempo de viaje?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ris.edu/hq/programs/education_and_outreach/animations#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A258-973C-4B00-B70C-5BFFAA3B0D9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8308-6E4C-49E4-871C-89ED55729C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66A-28AA-4F29-A7F2-19CBE56C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2E2-4B82-4EF0-9809-CD5ECE4E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24F-8128-490D-ACA0-82D594A5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28F-8423-4E98-990F-16570DE9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D60-79B1-4DFB-97C0-98255F45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640-B2F6-4726-88CA-30DC45A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60D-72B0-481D-8B1F-9DE45474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C76-B324-45B8-916C-CAA336BB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459-E471-4971-A9C7-3E391F7B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249-E9DE-4BE0-A1D6-9728B6C6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95E-5D53-4AF1-8D2B-F55187B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724-DE58-428C-82D5-A7D92E5A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645B-CF61-4EE3-8B30-499884A27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6105600" y="241308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 fuerte terremoto estremeció el suroeste del Océano Pacífico, a una profundidad de 27 km por debajo de la isla de Melampa en la cadena de islas de Vanu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hay informes de d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globe.jpg"/>
          <p:cNvPicPr/>
          <p:nvPr/>
        </p:nvPicPr>
        <p:blipFill>
          <a:blip r:embed="rId2"/>
          <a:stretch/>
        </p:blipFill>
        <p:spPr>
          <a:xfrm>
            <a:off x="7010280" y="22860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3"/>
          <a:stretch/>
        </p:blipFill>
        <p:spPr>
          <a:xfrm>
            <a:off x="290520" y="1122480"/>
            <a:ext cx="56055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scale.jpg"/>
          <p:cNvPicPr/>
          <p:nvPr/>
        </p:nvPicPr>
        <p:blipFill>
          <a:blip r:embed="rId1"/>
          <a:stretch/>
        </p:blipFill>
        <p:spPr>
          <a:xfrm>
            <a:off x="380880" y="397656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257040" y="1227240"/>
            <a:ext cx="353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odificación de la escala de intensidad de  Marcelli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indica la severidad de los movimientos telú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región experimentó sacudidas severas en el epi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3"/>
          <a:stretch/>
        </p:blipFill>
        <p:spPr>
          <a:xfrm>
            <a:off x="3700440" y="1181160"/>
            <a:ext cx="5315040" cy="511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271440" y="368604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2576520" y="352728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152280" y="6550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3962520" y="630864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USGS Intensidad de Movimiento Estimada del Terremoto M7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892760" y="68580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USGS P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8"/>
          <p:cNvSpPr/>
          <p:nvPr/>
        </p:nvSpPr>
        <p:spPr>
          <a:xfrm>
            <a:off x="228600" y="1219320"/>
            <a:ext cx="44956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l mapa USGS PAGER muestra la población expuesta a diferentes niveles de intensidad de Mercalli Modificada (MMI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648320" y="647388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3333600" y="5257800"/>
            <a:ext cx="576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ódigo de colores de las líneas de contorno marca las regiones de intensidad MMI. La población total expuesta a un valor MMI dado es obtenida sumando la población entre las líneas de contorno. La estimación de la población expuesta a cada intensidad  MMI es mostrada en la tabla de la izqui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39760" y="2138400"/>
            <a:ext cx="44085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proximadamente  6.000 personas experimentaron Fuertes movimientos telúricos como consecuencia de este terremo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4892760" y="1171440"/>
            <a:ext cx="3873240" cy="401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555480" y="3276720"/>
            <a:ext cx="2644920" cy="3414600"/>
          </a:xfrm>
          <a:prstGeom prst="rect">
            <a:avLst/>
          </a:prstGeom>
          <a:ln w="0">
            <a:noFill/>
          </a:ln>
        </p:spPr>
      </p:pic>
      <p:sp>
        <p:nvSpPr>
          <p:cNvPr id="73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5"/>
          <p:cNvSpPr/>
          <p:nvPr/>
        </p:nvSpPr>
        <p:spPr>
          <a:xfrm>
            <a:off x="3048120" y="6483240"/>
            <a:ext cx="653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Flechas muestran el movimiento neto de la placa con respecto a la Placa del Pacíf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2" descr="unavco-logo-red-black-shadow.jpg"/>
          <p:cNvPicPr/>
          <p:nvPr/>
        </p:nvPicPr>
        <p:blipFill>
          <a:blip r:embed="rId2"/>
          <a:stretch/>
        </p:blipFill>
        <p:spPr>
          <a:xfrm>
            <a:off x="2209680" y="6159600"/>
            <a:ext cx="1295640" cy="323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2"/>
          <p:cNvSpPr/>
          <p:nvPr/>
        </p:nvSpPr>
        <p:spPr>
          <a:xfrm>
            <a:off x="244440" y="1155600"/>
            <a:ext cx="3470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picentro del terremoto se encuentra a unos 100 km al este de la Fosa de  Nuevas Hebrides, la expresión batimétrica del limite entre las Placas de Australia y del Pacífico, donde la litosfera de la Placa de Australia se subduce en el manto por debajo de la Cuenca Norte de F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ubicación de este terremoto, la Placa de  Australia se mueve al este-noreste con respecto a la Placa del Pacífico a una velocidad de aproximadamente 84 mm /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3662280" y="1308240"/>
            <a:ext cx="5288040" cy="5113080"/>
            <a:chOff x="3662280" y="1308240"/>
            <a:chExt cx="5288040" cy="5113080"/>
          </a:xfrm>
        </p:grpSpPr>
        <p:pic>
          <p:nvPicPr>
            <p:cNvPr id="80" name="Picture 41" descr="pacific.png"/>
            <p:cNvPicPr/>
            <p:nvPr/>
          </p:nvPicPr>
          <p:blipFill>
            <a:blip r:embed="rId3"/>
            <a:stretch/>
          </p:blipFill>
          <p:spPr>
            <a:xfrm>
              <a:off x="3662280" y="1308240"/>
              <a:ext cx="528804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Line 15"/>
            <p:cNvSpPr/>
            <p:nvPr/>
          </p:nvSpPr>
          <p:spPr>
            <a:xfrm flipV="1">
              <a:off x="7778880" y="3498120"/>
              <a:ext cx="262440" cy="174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3520" bIns="83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9"/>
            <p:cNvSpPr/>
            <p:nvPr/>
          </p:nvSpPr>
          <p:spPr>
            <a:xfrm>
              <a:off x="5151240" y="2906640"/>
              <a:ext cx="261720" cy="261720"/>
            </a:xfrm>
            <a:custGeom>
              <a:avLst/>
              <a:gdLst/>
              <a:ahLst/>
              <a:rect l="l" t="t" r="r" b="b"/>
              <a:pathLst>
                <a:path w="227888" h="227863">
                  <a:moveTo>
                    <a:pt x="0" y="87036"/>
                  </a:moveTo>
                  <a:lnTo>
                    <a:pt x="87046" y="87036"/>
                  </a:lnTo>
                  <a:lnTo>
                    <a:pt x="113944" y="0"/>
                  </a:lnTo>
                  <a:lnTo>
                    <a:pt x="140842" y="87036"/>
                  </a:lnTo>
                  <a:lnTo>
                    <a:pt x="227888" y="87036"/>
                  </a:lnTo>
                  <a:lnTo>
                    <a:pt x="157466" y="140826"/>
                  </a:lnTo>
                  <a:lnTo>
                    <a:pt x="184365" y="227862"/>
                  </a:lnTo>
                  <a:lnTo>
                    <a:pt x="113944" y="174071"/>
                  </a:lnTo>
                  <a:lnTo>
                    <a:pt x="43523" y="227862"/>
                  </a:lnTo>
                  <a:lnTo>
                    <a:pt x="70422" y="140826"/>
                  </a:lnTo>
                  <a:lnTo>
                    <a:pt x="0" y="870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 flipV="1">
              <a:off x="5414040" y="3395880"/>
              <a:ext cx="444960" cy="321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4" descr="leg.png"/>
            <p:cNvPicPr/>
            <p:nvPr/>
          </p:nvPicPr>
          <p:blipFill>
            <a:blip r:embed="rId4"/>
            <a:stretch/>
          </p:blipFill>
          <p:spPr>
            <a:xfrm>
              <a:off x="3749760" y="1483200"/>
              <a:ext cx="1313640" cy="16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 Box 18"/>
          <p:cNvSpPr/>
          <p:nvPr/>
        </p:nvSpPr>
        <p:spPr>
          <a:xfrm>
            <a:off x="5481720" y="3014640"/>
            <a:ext cx="1600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Fosa de Nueva Heb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810560" y="2933640"/>
            <a:ext cx="1257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Fosa de To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4419720" y="5067360"/>
            <a:ext cx="1257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Placa de Austral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7086600" y="5753160"/>
            <a:ext cx="182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Nueva Zel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7581960" y="4648320"/>
            <a:ext cx="1257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Placa del Pac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512640" y="4330800"/>
            <a:ext cx="39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380880" y="4757760"/>
            <a:ext cx="389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Islas de Vanuatu se sientan sobre de la zona de subducción, donde la placa australiana se sumerge debajo de la Placa del Pa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477720" y="1305000"/>
            <a:ext cx="402300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4815000" y="1309680"/>
            <a:ext cx="40226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Rectangle 7"/>
          <p:cNvSpPr/>
          <p:nvPr/>
        </p:nvSpPr>
        <p:spPr>
          <a:xfrm>
            <a:off x="4746600" y="4321080"/>
            <a:ext cx="435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extraída del Visualizador de Terremotos de IRIS (IEB por sus siglas en Ing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689040" y="2570040"/>
            <a:ext cx="99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Arial"/>
              </a:rPr>
              <a:t>Placa Australi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2806560" y="224964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laca del Pací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5278320" y="260496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Arial"/>
              </a:rPr>
              <a:t>Placa Australi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7547040" y="2282760"/>
            <a:ext cx="99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laca del Pací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Notched Right Arrow 11"/>
          <p:cNvSpPr/>
          <p:nvPr/>
        </p:nvSpPr>
        <p:spPr>
          <a:xfrm rot="20653800">
            <a:off x="1163520" y="2985840"/>
            <a:ext cx="533520" cy="228600"/>
          </a:xfrm>
          <a:custGeom>
            <a:avLst/>
            <a:gdLst>
              <a:gd name="textAreaLeft" fmla="*/ 56880 w 533520"/>
              <a:gd name="textAreaRight" fmla="*/ 47664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71" y="5400"/>
                </a:ln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16971" y="16200"/>
                </a:lnTo>
                <a:lnTo>
                  <a:pt x="0" y="16200"/>
                </a:lnTo>
                <a:lnTo>
                  <a:pt x="23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23"/>
          <p:cNvSpPr/>
          <p:nvPr/>
        </p:nvSpPr>
        <p:spPr>
          <a:xfrm rot="20653800">
            <a:off x="5680080" y="3053880"/>
            <a:ext cx="533520" cy="228600"/>
          </a:xfrm>
          <a:custGeom>
            <a:avLst/>
            <a:gdLst>
              <a:gd name="textAreaLeft" fmla="*/ 56880 w 533520"/>
              <a:gd name="textAreaRight" fmla="*/ 47664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71" y="5400"/>
                </a:ln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16971" y="16200"/>
                </a:lnTo>
                <a:lnTo>
                  <a:pt x="0" y="16200"/>
                </a:lnTo>
                <a:lnTo>
                  <a:pt x="23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746600" y="47530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erremotos ocurren cuando las placas se trituran entre si mismas. Ellos son poco profundos en el oeste, cerca del área donde las placas hacen contacto, y más profundas  hacia el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3679920" y="1486080"/>
            <a:ext cx="528948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230040" y="1424160"/>
            <a:ext cx="341964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e mapa muestra la ubicación de los 1000 terremotos más recientes a lo largo de la Fosa de Nueva Hebrides donde la Placa de Australia se subduce debajo de la cuenca norte de Fiji que es parte de la Placa del Pacífi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hipocentro del terremoto se ajusta al patrón general de incremento de la profundidad de los terremotos de oeste a este a través de la zona de subduc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1"/>
          <p:cNvSpPr/>
          <p:nvPr/>
        </p:nvSpPr>
        <p:spPr>
          <a:xfrm flipV="1">
            <a:off x="6058080" y="3456000"/>
            <a:ext cx="1066680" cy="38088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5747760" y="366876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1f442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7051320" y="3227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1f442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304920" y="58672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íneas dibujadas a mano sobre la vista 3D de la sección transversal extraída del IEB revela una placa que se sumerge abrup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/>
          <p:nvPr/>
        </p:nvCxnSpPr>
        <p:spPr>
          <a:xfrm flipV="1">
            <a:off x="2973240" y="3790080"/>
            <a:ext cx="2742480" cy="237240"/>
          </a:xfrm>
          <a:prstGeom prst="straightConnector1">
            <a:avLst/>
          </a:prstGeom>
          <a:ln w="25560">
            <a:solidFill>
              <a:srgbClr val="71f442"/>
            </a:solidFill>
            <a:miter/>
            <a:tailEnd len="med" type="arrow" w="med"/>
          </a:ln>
        </p:spPr>
      </p:cxnSp>
      <p:sp>
        <p:nvSpPr>
          <p:cNvPr id="115" name="TextBox 8"/>
          <p:cNvSpPr/>
          <p:nvPr/>
        </p:nvSpPr>
        <p:spPr>
          <a:xfrm>
            <a:off x="3679920" y="6362640"/>
            <a:ext cx="53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Creado usando el visualizador de terremotos de IRIS (IE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DepthLegend.tiff"/>
          <p:cNvPicPr/>
          <p:nvPr/>
        </p:nvPicPr>
        <p:blipFill>
          <a:blip r:embed="rId3"/>
          <a:srcRect l="7149" t="0" r="8135" b="0"/>
          <a:stretch/>
        </p:blipFill>
        <p:spPr>
          <a:xfrm>
            <a:off x="4029120" y="4097160"/>
            <a:ext cx="344520" cy="199404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sp>
        <p:nvSpPr>
          <p:cNvPr id="117" name="Text Box 18"/>
          <p:cNvSpPr/>
          <p:nvPr/>
        </p:nvSpPr>
        <p:spPr>
          <a:xfrm>
            <a:off x="3773520" y="3036960"/>
            <a:ext cx="2017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00"/>
                </a:solidFill>
                <a:latin typeface="Arial"/>
              </a:rPr>
              <a:t>Profundidad = 127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5745240" y="3314880"/>
            <a:ext cx="758880" cy="266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7386480" y="1866960"/>
            <a:ext cx="1257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laca del Pac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718160" y="5424480"/>
            <a:ext cx="1257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laca de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4"/>
          <a:stretch/>
        </p:blipFill>
        <p:spPr>
          <a:xfrm>
            <a:off x="341280" y="3844800"/>
            <a:ext cx="3144960" cy="203832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23"/>
          <p:cNvCxnSpPr/>
          <p:nvPr/>
        </p:nvCxnSpPr>
        <p:spPr>
          <a:xfrm flipH="1">
            <a:off x="1748880" y="4027320"/>
            <a:ext cx="308520" cy="138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Box 21"/>
          <p:cNvSpPr/>
          <p:nvPr/>
        </p:nvSpPr>
        <p:spPr>
          <a:xfrm>
            <a:off x="1998720" y="38354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ce1"/>
                </a:solidFill>
                <a:latin typeface="Arial"/>
              </a:rPr>
              <a:t>27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4191120" y="4890960"/>
            <a:ext cx="467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Áreas sombreadas muestran el cuadrante de la esfera focal en la cual los primeros movimientos de las ondas P están alejas de la fuente, y las áreas sin sombra muestran los cuadrantes en la cual los primeros movimientos de las ondas P se acercan a la fuente Las letras representan los ejes de máximo esfuerzo de compresión (P) y el eje de máximo esfuerzo extensional (en blanco, llamado (T) como resultado del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04920" y="6477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USGS Solución Tensor  Momento Sísmico Centro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44440" y="1143000"/>
            <a:ext cx="844236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el USGS, la ubicación preliminar, la profundidad y el mecanismo focal del evento indican que la ruptura ocurrió en una falla de empuje con inmersión hacia el este  consistente con la localización y orientación de la interfaz de la zona de subducción a esta profundidad en la 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717480" y="3541680"/>
            <a:ext cx="3060720" cy="26989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4933800" y="2503440"/>
            <a:ext cx="3753000" cy="2068560"/>
            <a:chOff x="4933800" y="2503440"/>
            <a:chExt cx="3753000" cy="2068560"/>
          </a:xfrm>
        </p:grpSpPr>
        <p:pic>
          <p:nvPicPr>
            <p:cNvPr id="132" name="Picture 4" descr=""/>
            <p:cNvPicPr/>
            <p:nvPr/>
          </p:nvPicPr>
          <p:blipFill>
            <a:blip r:embed="rId3"/>
            <a:stretch/>
          </p:blipFill>
          <p:spPr>
            <a:xfrm>
              <a:off x="4933800" y="2503440"/>
              <a:ext cx="3731400" cy="15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" descr=""/>
            <p:cNvPicPr/>
            <p:nvPr/>
          </p:nvPicPr>
          <p:blipFill>
            <a:blip r:embed="rId4"/>
            <a:stretch/>
          </p:blipFill>
          <p:spPr>
            <a:xfrm>
              <a:off x="5150520" y="4098240"/>
              <a:ext cx="3536280" cy="47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272880" y="2017800"/>
            <a:ext cx="8871120" cy="4578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1143000" y="2286000"/>
            <a:ext cx="7010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s el terremoto, las ondas de compresión P se tomaron  12 minutos y 52 segundos en  recorrer una trayectoria curva a través del manto hasta  Portland, Oreg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96920" y="1249200"/>
            <a:ext cx="830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El registro observado en el sismógrafo de la Universidad de Portland (UPOR) es ilustrado en la parte inferi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Portland está ubicada aproximadamen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777 km (6075 miles, 88.09°)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desde la localización de este terremo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4349880" y="5410080"/>
            <a:ext cx="468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ndas de superficie viajaron el 9777 kilómetros (6075 millas) a lo largo del perímetro de la Tierra desde el terremoto hasta la estación de regis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932200" y="2919240"/>
            <a:ext cx="54864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ndas S son ondas de corte que siguen la misma trayectoria a través del manto al igual que las ondas P. Las ondas S se tomaron 23 minutos y 37 segundos en viajar desde el terremoto hasta  Port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437480" y="372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2596320" y="475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4876920" y="4794120"/>
            <a:ext cx="21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" descr=""/>
          <p:cNvPicPr/>
          <p:nvPr/>
        </p:nvPicPr>
        <p:blipFill>
          <a:blip r:embed="rId4"/>
          <a:stretch/>
        </p:blipFill>
        <p:spPr>
          <a:xfrm>
            <a:off x="3798720" y="5400720"/>
            <a:ext cx="1200240" cy="1206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9"/>
          <p:cNvSpPr/>
          <p:nvPr/>
        </p:nvSpPr>
        <p:spPr>
          <a:xfrm>
            <a:off x="709560" y="1676520"/>
            <a:ext cx="785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ducación IRIS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or favor enviar comentarios a tkb@iri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t bravo</cp:lastModifiedBy>
  <dcterms:modified xsi:type="dcterms:W3CDTF">2016-04-29T17:23:19Z</dcterms:modified>
  <cp:revision>698</cp:revision>
  <dc:subject/>
  <dc:title>Slide 1</dc:title>
</cp:coreProperties>
</file>