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0.png" ContentType="image/png"/>
  <Override PartName="/ppt/media/image19.jpeg" ContentType="image/jpeg"/>
  <Override PartName="/ppt/media/image5.png" ContentType="image/png"/>
  <Override PartName="/ppt/media/image1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D87A-906A-4958-B4C9-680318D7B7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257480" y="720720"/>
            <a:ext cx="4800600" cy="3600360"/>
          </a:xfrm>
          <a:prstGeom prst="rect">
            <a:avLst/>
          </a:prstGeom>
          <a:ln w="0">
            <a:noFill/>
          </a:ln>
        </p:spPr>
      </p:sp>
      <p:sp>
        <p:nvSpPr>
          <p:cNvPr id="1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ED35-9B80-4A69-BDB4-FD2DCF8A54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47F3-56EA-4527-B072-243FA2E3903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0FAB-46B9-4282-9C26-F13415F817A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2072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AC7F-A2C3-4D14-BEF8-8B18F8EEF1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2072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5101-05CB-41F1-B3A0-F46831547FA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2072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26B6-FA98-400C-AACA-802B210BAB4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2072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9B3C-2E3B-47B7-81F1-21C5312C8B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2072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4DB6-D119-4714-A766-3D13564FC8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E7C11-F4D1-4552-BBE5-EE41C0C7D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99C36-22D9-4ADE-8BAD-7FD2C9E85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B215A-D931-4C5A-B91B-29B393155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6588F-A408-4CBA-ADA1-CE1D30816E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29C0AF-5BE6-41B6-B13D-AEE5720BB7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4530F-D26D-4B49-97D4-09F6A7B8D1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194C6D-1993-4A57-9D90-4954678892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CCD30-E16C-405F-91B9-B568F37CB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7473C9-CA8A-4715-B4D6-CF1FB9EF3C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0F3079-165F-4FDA-BF8A-061BD04834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7F15C3-94B4-4281-8C26-52F38FF3FE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A7D43D-1339-4AEB-B255-95CBCC8D19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99C9F-BC14-457B-B371-17D400223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97802C-F197-4FB6-898E-B6AACECE3F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0BE139-02F6-4B7E-9FD5-C7180D3648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F5FDB9-C284-4BD1-B3EE-F0A98AF4E8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8B49E4-2B17-486B-8D16-BD26D85D62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9981EE-1AC7-4BAC-A0BE-386EDCBF52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FC4AB2-DD99-4173-9AB0-389C3C7739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07DB97-21BC-4CF7-A780-08B88F66FC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418C79-350A-4540-8F01-D3428753A6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3ED5D4-F918-4074-A544-7993ECC1E8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D4A552-5CE0-4EFB-8E45-DB058B9785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1A245-D8A8-451E-B421-F8AC48586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DDDE69-6AE3-4D24-B7AE-D3E07DDDED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A88B54-DCA6-4917-8AE2-68C4BFB01E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D1C5F4-5654-49BE-BB5C-466787EDE9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329B21-DE0D-4D72-B3C7-9E4EAF6F4E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3C8157-4683-402E-9E26-8C03DF9827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90128A-7C2C-4806-AD31-FAA4B4CB81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E148DC-EA7A-44A0-AF6E-F4F9E306A0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BF6C0A-8D80-43DF-AB6A-C4E41A069E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CA033-8D71-4063-8FEB-84491C00EA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1A6F43-1980-4C44-A47E-DDD9E67050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C80A3-8BC6-4371-8EC1-C6806550E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A42BE8-A308-45D5-8946-A95E3F2B51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D573B5-11F1-4A54-82AC-6BC842A6DB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B5D092-2A0D-49CC-9A8E-C8C54FC402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903EA2-792B-434B-809B-E4A8CA3734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70BBA2-4756-440F-AB82-2024C16C47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848B17-C291-429D-8E98-8F7B6F3BDA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8EBBBE-B649-42BB-9886-6844DB68DE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84B1DF-C34C-4879-8A93-34A4168C97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685990-953C-43C8-8D02-A781BA064D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22368E-2BA2-469C-BD53-58B90CE32F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59F65-21FB-41D9-83CD-90A63916D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A528E1-3C5A-403D-AB40-C2A7210FF9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88C222-A6B4-4B3F-943A-FBF70EC67B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456023-856D-40CA-B002-24C131A479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9C5BD6-1294-4F02-B34A-68976EA66D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4F3E2E-8485-4387-B65A-402F312B73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51EC32-2C4D-4993-9468-364A5454D1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27C6F1-605C-4316-984A-0E79B43D82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17759D-E3C2-4DBA-9FD7-845C065C57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2DCD1E-B5A4-4DE9-A175-345F44CF7B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8A0727-CF50-49F8-BB00-41C9A4CD6F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74B7F-D6BD-48D4-B730-CA77060F4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A0401C-DDD0-47BD-B4B0-E4EF82198F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AD74A6-F4E5-40D8-A60E-D6082D20A5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902A07-748A-4CF4-B549-62D7C9D6C0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728D36-32DE-475E-BFDF-6AFD852472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160495-8F58-4C14-916F-374E010CB6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2F1315-C9FC-4D6A-96D2-750F31C44B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84C4B8-42DB-44BC-BEB8-923074D299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4C0AA02-A846-4877-AD5B-3FF94B8F9D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0567B8-9EC0-4AEF-ACDD-CD97D370E7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DB727F-E45B-4787-A120-74D1CDB854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89004-626A-4959-B4FA-ACD96AD48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5A7A7B-E805-4936-84B8-E57D5BE284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2C78CA-CA95-4EE1-BA67-2A39DA558C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5C339B-C578-4A7F-B5A8-4F46B43EB5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AC0B7A-B8D9-4931-951C-4710949AEC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F4C8A1-2131-4C1B-A16F-ECE3A33FA6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D865B9-F268-4336-8997-6DFD125916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2FF778-B1B2-4C94-8842-B86E5263A46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C48FD5-81A3-4739-B017-8B70E0135B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84DB5A-6FE3-424C-9355-A49FF6D1F68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1C7EC7-86AF-452C-BEA0-78ADE545A7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4A602-EA97-4C72-BD84-6834FA6C6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247520-4F30-4435-A436-B784FB2ADB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DDFC31-61F1-4B54-942B-BD0887192D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66CEA5-4FF5-464E-8ACE-AE1A9A4833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D7637D-C678-422F-B079-10D518CB66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E89004-554D-4443-96F3-A0F4DD0FB6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9583E9-825E-4FF7-8FEE-C5A3F95DED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A43406-AF18-4661-8F10-DD2F5AB0DB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76484B-73D4-4B6E-994B-63C9ACD809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900735-6E4E-4128-BEE3-C75329A8E18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DACB01-EFF5-44F2-9CA5-9143EE68147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972FA-41BE-4FB2-B17F-BE1CAD3E0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373AA31-7FCA-45CA-936A-32ED09332B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B89B085-A9E7-444B-9173-E8AA01E54E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1CB0CA-AE82-4DF7-A815-0F59C58AE5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14217C-D465-4870-8DD1-61E9D884C1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7FA408-0F46-4C97-92D5-C73FCCE70E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11CEE0-AE5D-43D9-8C65-287A47FB10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3EA23A4-8B3D-4372-B9E3-6C0A80D0EF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380A91-950F-4A03-A960-E91911AEA4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8A33A2-D064-409A-B40E-448C458333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8B2DBE-7EC8-4A2B-8AA7-FEC962015E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96F05-D4E2-4A69-83B6-8AAFB43DA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CFE650-FF12-4DF5-BFF7-A3867A5F70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816F15-0954-4FD8-B739-282FDC1AD15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2EBD14A-E207-4E7F-971B-D3004D9CA77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010EBD4-7CB3-4ECC-BD5A-EAE888FF59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4A6EF4-307C-4CC7-ACEF-7673253771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554F16-DE97-4196-BD22-431405E164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7CECAF-AA56-456B-AA71-781FA20F01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EDF596-7EE2-4A77-B891-09FF0ECAA1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DA7B42-C063-4A0B-A6C1-74D2016DE1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A4B69C-103A-4D05-A8B8-8E058F092A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E6EE0-9707-4302-93DF-868CB2913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FF6FA-5DBF-41C8-BA1F-9B334F06C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B60F7D-6B89-4BE9-964E-FBA2372EE3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DEFC09-083F-454C-A672-3BD23D487C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3A35EE5-2210-493F-8171-17D3BD839B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05EA37A-9FD1-4BFB-848E-8F0EDCC544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D38D2CF-19B4-4D05-B049-9A713914372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EC1ADAD-EF04-455E-8515-B4910065D1A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20E11DD-C931-412B-AF1D-9FF05AB6A6C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A097368-D619-461C-A8DD-140739288F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84821B-34D4-42D3-8902-8214108122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318EAF-6CFB-49F1-A32B-B7EB160A86A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28ACA-B7D8-4FD7-9A52-ACCF90F9C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1C586AE-7535-4D5D-A584-C54FF17F569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106C1C-52BF-4F0C-9058-CF3D79E149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68EC70-F09B-4558-BA91-EDE9AF5E57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448E20-524C-4219-95E1-FF250AD584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AE6E3A-8234-4E9B-9E69-869191215C1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E3860B5-3C38-4B2D-B3BC-39B5D9D96EC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379F8F3-938B-472B-9DC0-E5E8EB414AE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AA3A380-6A5B-4838-9F4E-11A440363B9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246D69-733C-4EAE-A578-915B7257B9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7B4118E-F96B-4729-B4BF-24D95D1405F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ACC36-010D-48D8-B1FA-E13B33860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F8AFECA-59F7-46FC-9F28-22D2CCB8AA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AE32174-DBF0-4ACD-9A6E-3E69CFAC5DA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819A46B-1ECD-4A48-A513-229BF77EBCA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25460C-4BE1-4875-B95D-F7F98C28425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3D40CF-ACC5-4E0C-A1EF-FAB8FEC530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0EA1E1-7E2F-4D93-9BC2-677827242B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6965DF-2148-4EF7-8161-168C5E44D7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C33A447-59E1-44BC-AC6D-F2908697412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330CAC3-A0D4-4502-8959-88DF01C033F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3647B8D-01AB-4E43-8F1E-6F3D4EA9C51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5FA5E-017A-48E0-A4AB-DDA7B22F1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65A1971-B19C-4BD9-AFB6-A338569D805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63DBD9E-EFBC-4492-87DA-8EA59F3A565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95F1CEA-DBD8-41AF-860C-BE1703F2E3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7634106-A4C1-43D7-848B-E14CB941555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7409738-6180-409D-A26F-0500BB42829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822C39-6FD5-4205-9CA6-FCC340A9DC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2E7ACF-8B09-4321-B7AB-D176DBA90E7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DA37B6-1DD5-4193-9082-6A103398B6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E9DF32-FEE1-4737-90BC-E8D73CCAE34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204567C-6CEA-4204-9202-C3F2364F4F6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C353A-E5B7-4303-9E53-6ADFFEBA8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1ABDA50-2BCB-4D01-B3B2-ACBBCF9CEB9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A44B82C-2CFA-4053-B356-D8DDF6F19AB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CD8C241-401D-480F-B93A-347F5A943BA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A62CB73-E4A6-402E-A3EC-6C7F2CF86B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38E714F-BE40-4DBD-949F-D6C4EC80604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7C8E98-A8D5-44A2-84A8-02CB7DCDD99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A21909E-FBFE-4943-AEC1-DF1DCAB6EC3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CEA134-DBE0-4A26-A69A-0038570BC2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4FD91F-D817-4E36-8A62-5CF8C4A221A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E9EADB-BA3B-465B-B319-A2DBFAF486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5F829-447A-4D24-815C-1C6F52A93D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D0F384-4DEE-4EBE-A008-94E188D7E78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6A40E0-7579-4219-A6D3-84E9C8493AE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5D19B56-67F3-435E-9B83-C66C7AB11DF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822BAEC-3560-4C2C-99A0-E71B96F533E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52D1BCF-D765-4549-9399-2CE89EC0CF0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C5314FE-00CE-4BDF-BFF1-C40223C2847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BD44963-9DCC-478B-A740-C0E89D43525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B0DD862-CE13-4616-865C-252E8E44073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284CDAF-54C4-4604-A6B1-5F409CCBA49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B2BE25-C224-4C62-8D33-5FDCA5A64D6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2062C-29FE-4ECA-BD66-2F2D35C24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D484D22-2C2C-4428-BF80-79E567AA26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D37D01-692E-4622-A35C-CC37DFD3312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A504757-D8CF-4D95-90FA-F724E6ECB97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6839CEB-FE10-489E-ABDA-B3B115FEB8C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9A1A0E8-AC96-46E1-8F9B-7294C5C4D3A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28A6F30-8B68-4167-BD89-2DA2D11C932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30510B7-182E-4D7E-AD8A-21AA3C73FAF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555C72C-5B91-4B4E-80BC-5340AC3D19A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EA01F61-D669-4403-A0DD-0F7AA4D49A2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CABB2C-A386-4783-9761-A40F4A6C158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2A295-B39F-45B7-B898-3E721DD1D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3A534F6-5B26-4F69-92A0-A0F955DE5CA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617800-1ACD-49DE-B4D6-DBCACF64B8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4263648-0582-4A96-9757-0E217F6423F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CF272D-DD0C-4105-A653-FD99036D665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16AA456-03EA-4CCD-A497-002D471C5C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0A834E0-97AB-422F-876A-31B4C5B495E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4C06F71-8D63-476C-81FE-B7BD5EE19A9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95927EB-690F-40DC-9990-C500372F1C5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394642-85BE-422A-85E9-D333AC47898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A947F27-3B62-4D92-9B0C-90595373173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B6687-0218-4DC3-B960-CABFD33ED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C92C4B7-6829-4A8E-B7FD-EF654F6519F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60BD5DF-2187-4933-BEC2-A0CAF5EA3DD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EF671CC-A78F-4DA0-BC91-DFFD51C4997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14DAA1D-C2F0-476D-9617-1A4B6CD9BCB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FB4E81-8A31-4465-A22C-39377012EA8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1B09910-9F03-4E6D-8057-12B282E478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84C7373-E592-4317-B251-764A6A67937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42393E-D5B8-4138-B038-E25964251CC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6C34D56-9AB6-4A5C-9B4F-DCC3E4D2AB3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BB0902B-7214-4BD3-B7E5-7879047BB38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72B3F-217D-45FE-8552-FCF1A65FD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632C1A0-B7B2-4E5F-AA14-87D7324B55C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094B06F-1B6A-4CAF-8F86-8161C1DDFC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33E7C82-56CB-4A3B-AC2E-F8AD8C9B15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92CC8D8-35E4-42E9-BABF-7C182001615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C25AD81-3821-4B1C-A74C-1CD94FCFFA1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1F28108-DDF9-4403-91F6-2A50C95D5A9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9FF187-C186-4E6F-954E-F1858745D66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915A63E-EF8F-4B99-9183-EDE8EC706EB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369F98C-2AA8-4F68-9F6E-8FE968C4159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C29EBB1-7181-4AEE-8674-FB444668260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FCD3-2510-407B-B2B1-741271226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72209-7E57-4037-858C-30D7E9412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A6BB032-EBC7-4C12-ADD5-4F3075A216B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8C304-93C6-4F66-B79F-69E02CD57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5C6C6-AE1C-405F-BEFA-81EF67AC5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2ED6B-FDC7-4B7E-987D-3C3691801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848D4-FC82-49A7-A4A9-61F50CCD4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DBF552-8B57-4225-BA15-47BFD53C9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8301E-3F97-4EC1-A928-C8BD397591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7562AF-B8AF-493F-804B-779024D44E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36AA5-8D95-4536-BD52-B8EF474175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98961-E50F-4414-8A35-A2FC3214F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DE2B3-574A-4C17-BFED-DDDD1CB81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4E3FD-C547-4A03-925E-E921C6909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05962C-9B32-4543-833E-DA17CFE94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BD45D-C018-4A26-941F-BE66C2548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F022B-3845-4A52-BCCC-D1924C02C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A38C3-3D37-42F5-9629-D6F0A53EF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38F2C-76FA-4447-B51D-E8E8A8B1B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D3D2C-1DE1-4E88-87F2-97C72A870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B91A2-B195-40AB-A228-D1004955D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1BFBE-E9CD-49DC-9507-8E2CE94FA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A587E0-D4A3-4284-8BD0-C27FC4D99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26E6B-4DDC-418C-9776-584E26C5B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EE71E-88AC-4BF8-A8B8-D772C0D3C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4FB17D-A907-4E6C-B728-118CEA41ED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F27EE-AD56-4800-B348-B8CDBA5BD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DAB1F-BAEE-451B-871A-11143599A2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54A72-960A-42FE-80C4-87E05A308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74914-6413-4732-A83C-90C03AB13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46B5D-AA5B-4C3B-A635-41A062322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D95CF-C124-4EDC-9A5E-A450EDFE0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B9090-F1D4-43C9-91C1-F486D2163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EB1029-26F1-49EE-AAC9-C565A8FF5C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42C4-DD10-4510-8047-1AD7DF910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700712-B0A2-4EEE-983A-F94A8E925B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BE29D3-D25E-416D-BFDB-F143935FAF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CAB2C0-3D7B-4EE8-8E0F-5E97D27D7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B71A22-F6B0-4519-9270-BA74614A9F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B9786E-FF87-40A2-9D4D-F5EDB878E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B1DB9-1066-49C9-AB80-29B209C0C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1CFF8-62D5-4E06-9BDB-D2F4CEC2B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3F8FF-9364-477A-8273-FB87D7830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0DF70-A128-4776-9A2E-7F46E368B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AF8D1-0BC7-4395-93AA-6460E3E74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2DE15-CA60-45D3-A1EB-BBE80333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F4122C-C80C-4CAF-BBD7-242D43422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AA38A-541D-4040-9B92-A6DC7401D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3EF3F-23FD-4D6B-8187-7D494280B1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F1B835-CCE7-4A4F-90CF-598DDDAC73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B2A89F-9532-4D9B-A29B-1CDD20BEA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091C63-3FDC-4895-A860-1C6106133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10FF0-3818-4FD6-ADDE-FC7FE00F2F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42CA23-808E-4F94-92C0-3A634BAE4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8A2AE2-A2E7-41CF-AA86-EF64667C5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62DB4-60F5-4712-9D6F-B286B8C73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F2A2-5958-41DD-B9C2-8EA4A8D2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C9AD5-9E27-48DA-B27C-03CBF7DCD5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0741E-CDA3-4C20-BB1C-5E006D4BC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BD6A69-424E-4F21-B072-9F69C97CCE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B1B928-49F5-4162-8C06-4261AACA33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67AE5F-5F45-4858-AF02-8A31FBEADB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4091CB-60A0-4AA6-A4DD-8BF78ED123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953BBA-E995-4582-A0F8-B886B035FE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457A81-D75A-4A8D-A2F2-B1239836CC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396B39-4106-4B24-8A4F-4ADB2136A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84CFD-9E30-4C92-BE99-5C2B2AC20A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1E28-95FE-4467-9CFC-4B5D1DA5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11830-876F-42D4-B0A7-A2E1AD0056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1A9D4-F3FD-45F7-9EFB-56FBD2899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1605D-00B0-4E48-A72E-D1CE7814DD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E6078-987F-4192-9EE3-006599E48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5DBB5-6AC4-409F-903C-35AFDCABB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57105B-2FD8-4CAE-99E8-1877AD63EE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1522AF-EA44-4486-AA3D-12CF23371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FBEB7F-029C-4618-BEE3-62575E8497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E78426-0EF5-4240-87B5-6585F37846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F5DCE5-1079-4853-B349-81AAF6F3EF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7D49-1C66-44BC-91D5-6E47A7440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5D7E-9A7E-461A-8484-9F81576E22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2D29-4111-4CE0-B4A9-1A094D4F3F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9E6E-8326-4D30-AD49-4E3BC225EB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C5F7-22CE-46A6-A848-C43EEB76A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8815-B879-4941-BC66-66EE5C9F5B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FEAB-8868-4AE1-AD12-B570A74A1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1FFC-94D3-48C6-B681-E7843D20F0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8EDC-87FD-4C35-A729-6974DBF158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0F78-AB2B-4432-82D4-5A17BFBBC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7146-5B55-436C-A497-BFD60D8B8D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83EC-7371-410A-9DBA-2A678FA7BD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6F06-8EBB-4D90-A03B-E56BEAFC9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4F05-8237-4081-BAAF-DB61C3E818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5073-AD1C-4B41-8960-680632EE60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7772-ED80-4A3B-B33E-9295E06E87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62E7-13EC-4278-9247-6B916876E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0D40-223A-4998-BEBE-B3E245E533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09AD-7514-4ED1-A9BC-D19002DD9B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AA27-711A-443A-9709-7194BCE674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C393-9375-48C3-B326-E6096BDDD7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3D53-20C5-450F-8D74-8A4A01CB6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E1F9-4558-4FC6-B7BD-A174C35871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DA4D-1B74-420F-AE31-711683CED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F57A-739D-4009-8DD7-C8C5DE352B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
        <p:nvSpPr>
          <p:cNvPr id="1035" name="TextBox 9"/>
          <p:cNvSpPr/>
          <p:nvPr/>
        </p:nvSpPr>
        <p:spPr>
          <a:xfrm>
            <a:off x="5867280" y="1185840"/>
            <a:ext cx="2438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jor earthquake struck in the southwest Pacific Ocean </a:t>
            </a:r>
            <a:r>
              <a:rPr b="0" lang="it-IT" sz="1800" spc="-1" strike="noStrike">
                <a:solidFill>
                  <a:srgbClr val="000000"/>
                </a:solidFill>
                <a:latin typeface="Arial"/>
                <a:ea typeface="Arial"/>
              </a:rPr>
              <a:t>515.8 km (320.5 mi) southeast of Vanuat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reports of damage and no threat of a tsunami.</a:t>
            </a:r>
            <a:endParaRPr b="0" lang="en-US" sz="1800" spc="-1" strike="noStrike">
              <a:solidFill>
                <a:srgbClr val="000000"/>
              </a:solidFill>
              <a:latin typeface="Arial"/>
            </a:endParaRPr>
          </a:p>
        </p:txBody>
      </p:sp>
      <p:pic>
        <p:nvPicPr>
          <p:cNvPr id="1036" name="Picture 2" descr=""/>
          <p:cNvPicPr/>
          <p:nvPr/>
        </p:nvPicPr>
        <p:blipFill>
          <a:blip r:embed="rId2"/>
          <a:stretch/>
        </p:blipFill>
        <p:spPr>
          <a:xfrm>
            <a:off x="457200" y="1185840"/>
            <a:ext cx="5257800" cy="554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12" descr="scale.jpg"/>
          <p:cNvPicPr/>
          <p:nvPr/>
        </p:nvPicPr>
        <p:blipFill>
          <a:blip r:embed="rId1"/>
          <a:stretch/>
        </p:blipFill>
        <p:spPr>
          <a:xfrm>
            <a:off x="380880" y="4137120"/>
            <a:ext cx="2127240" cy="2319120"/>
          </a:xfrm>
          <a:prstGeom prst="rect">
            <a:avLst/>
          </a:prstGeom>
          <a:ln w="0">
            <a:noFill/>
          </a:ln>
        </p:spPr>
      </p:pic>
      <p:sp>
        <p:nvSpPr>
          <p:cNvPr id="1039"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040"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1"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1042" name="TextBox 15"/>
          <p:cNvSpPr/>
          <p:nvPr/>
        </p:nvSpPr>
        <p:spPr>
          <a:xfrm>
            <a:off x="243000" y="1079640"/>
            <a:ext cx="351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populated islands near the epi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Picture 8" descr="IRIS_TMlogo.png"/>
          <p:cNvPicPr/>
          <p:nvPr/>
        </p:nvPicPr>
        <p:blipFill>
          <a:blip r:embed="rId2"/>
          <a:stretch/>
        </p:blipFill>
        <p:spPr>
          <a:xfrm>
            <a:off x="239760" y="76320"/>
            <a:ext cx="903240" cy="927000"/>
          </a:xfrm>
          <a:prstGeom prst="rect">
            <a:avLst/>
          </a:prstGeom>
          <a:ln w="0">
            <a:noFill/>
          </a:ln>
        </p:spPr>
      </p:pic>
      <p:sp>
        <p:nvSpPr>
          <p:cNvPr id="1044"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1045" name="Picture 1" descr=""/>
          <p:cNvPicPr/>
          <p:nvPr/>
        </p:nvPicPr>
        <p:blipFill>
          <a:blip r:embed="rId3"/>
          <a:stretch/>
        </p:blipFill>
        <p:spPr>
          <a:xfrm>
            <a:off x="3884760" y="1447920"/>
            <a:ext cx="5130720" cy="4952880"/>
          </a:xfrm>
          <a:prstGeom prst="rect">
            <a:avLst/>
          </a:prstGeom>
          <a:ln w="0">
            <a:noFill/>
          </a:ln>
        </p:spPr>
      </p:pic>
      <p:sp>
        <p:nvSpPr>
          <p:cNvPr id="104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7" name="Picture 1" descr=""/>
          <p:cNvPicPr/>
          <p:nvPr/>
        </p:nvPicPr>
        <p:blipFill>
          <a:blip r:embed="rId1"/>
          <a:srcRect l="0" t="1329" r="0" b="0"/>
          <a:stretch/>
        </p:blipFill>
        <p:spPr>
          <a:xfrm>
            <a:off x="3255840" y="914400"/>
            <a:ext cx="5810400" cy="5413320"/>
          </a:xfrm>
          <a:prstGeom prst="rect">
            <a:avLst/>
          </a:prstGeom>
          <a:ln w="0">
            <a:noFill/>
          </a:ln>
        </p:spPr>
      </p:pic>
      <p:sp>
        <p:nvSpPr>
          <p:cNvPr id="10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9" name="Picture 18" descr="IRIS_TMlogo.png"/>
          <p:cNvPicPr/>
          <p:nvPr/>
        </p:nvPicPr>
        <p:blipFill>
          <a:blip r:embed="rId2"/>
          <a:stretch/>
        </p:blipFill>
        <p:spPr>
          <a:xfrm>
            <a:off x="239760" y="76320"/>
            <a:ext cx="903240" cy="927000"/>
          </a:xfrm>
          <a:prstGeom prst="rect">
            <a:avLst/>
          </a:prstGeom>
          <a:ln w="0">
            <a:noFill/>
          </a:ln>
        </p:spPr>
      </p:pic>
      <p:sp>
        <p:nvSpPr>
          <p:cNvPr id="1050" name="TextBox 14"/>
          <p:cNvSpPr/>
          <p:nvPr/>
        </p:nvSpPr>
        <p:spPr>
          <a:xfrm>
            <a:off x="162000" y="990720"/>
            <a:ext cx="317340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epicenter of the August 12, 2016 earthquake is labeled on this seismicity map showing the most recent 3000 earthquakes in the surrounding region.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rthquake depths increase from east to west across the Tonga Trench where the Pacific Plate subducts beneath the Australian Plate.  Across the North New Hebrides Trench, earthquake depths increase from west to east where the Australia Plate subducts beneath the Pacific Plate.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August 12 earthquake occurred along the New Hebrides Trench, a topographic feature associated with left-lateral strike-slip faulting along a transform fault that links the subduction zones.</a:t>
            </a:r>
            <a:endParaRPr b="0" lang="en-US" sz="1600" spc="-1" strike="noStrike">
              <a:solidFill>
                <a:srgbClr val="000000"/>
              </a:solidFill>
              <a:latin typeface="Arial"/>
            </a:endParaRPr>
          </a:p>
        </p:txBody>
      </p:sp>
      <p:cxnSp>
        <p:nvCxnSpPr>
          <p:cNvPr id="1051" name="Straight Arrow Connector 20"/>
          <p:cNvCxnSpPr/>
          <p:nvPr/>
        </p:nvCxnSpPr>
        <p:spPr>
          <a:xfrm flipH="1" flipV="1">
            <a:off x="5314680" y="3688920"/>
            <a:ext cx="351360" cy="372240"/>
          </a:xfrm>
          <a:prstGeom prst="straightConnector1">
            <a:avLst/>
          </a:prstGeom>
          <a:ln w="19080">
            <a:solidFill>
              <a:srgbClr val="ffffff"/>
            </a:solidFill>
            <a:miter/>
            <a:tailEnd len="med" type="arrow" w="med"/>
          </a:ln>
        </p:spPr>
      </p:cxnSp>
      <p:pic>
        <p:nvPicPr>
          <p:cNvPr id="1052" name="Picture 28" descr=""/>
          <p:cNvPicPr/>
          <p:nvPr/>
        </p:nvPicPr>
        <p:blipFill>
          <a:blip r:embed="rId3"/>
          <a:srcRect l="0" t="0" r="64625" b="18755"/>
          <a:stretch/>
        </p:blipFill>
        <p:spPr>
          <a:xfrm>
            <a:off x="8516880" y="1090440"/>
            <a:ext cx="550800" cy="2667240"/>
          </a:xfrm>
          <a:prstGeom prst="rect">
            <a:avLst/>
          </a:prstGeom>
          <a:ln w="0">
            <a:noFill/>
          </a:ln>
        </p:spPr>
      </p:pic>
      <p:sp>
        <p:nvSpPr>
          <p:cNvPr id="1053" name="TextBox 16"/>
          <p:cNvSpPr/>
          <p:nvPr/>
        </p:nvSpPr>
        <p:spPr>
          <a:xfrm>
            <a:off x="8091360" y="3979800"/>
            <a:ext cx="97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late</a:t>
            </a:r>
            <a:endParaRPr b="0" lang="en-US" sz="2000" spc="-1" strike="noStrike">
              <a:solidFill>
                <a:srgbClr val="000000"/>
              </a:solidFill>
              <a:latin typeface="Arial"/>
            </a:endParaRPr>
          </a:p>
        </p:txBody>
      </p:sp>
      <p:sp>
        <p:nvSpPr>
          <p:cNvPr id="1054" name="TextBox 30"/>
          <p:cNvSpPr/>
          <p:nvPr/>
        </p:nvSpPr>
        <p:spPr>
          <a:xfrm>
            <a:off x="3506760" y="440064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ustralianPlate</a:t>
            </a:r>
            <a:endParaRPr b="0" lang="en-US" sz="2000" spc="-1" strike="noStrike">
              <a:solidFill>
                <a:srgbClr val="000000"/>
              </a:solidFill>
              <a:latin typeface="Arial"/>
            </a:endParaRPr>
          </a:p>
        </p:txBody>
      </p:sp>
      <p:sp>
        <p:nvSpPr>
          <p:cNvPr id="1055" name="TextBox 16"/>
          <p:cNvSpPr/>
          <p:nvPr/>
        </p:nvSpPr>
        <p:spPr>
          <a:xfrm>
            <a:off x="4209840" y="637380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p created with the IRIS Earthquake Browser</a:t>
            </a:r>
            <a:endParaRPr b="0" lang="en-US" sz="1400" spc="-1" strike="noStrike">
              <a:solidFill>
                <a:srgbClr val="000000"/>
              </a:solidFill>
              <a:latin typeface="Arial"/>
            </a:endParaRPr>
          </a:p>
        </p:txBody>
      </p:sp>
      <p:sp>
        <p:nvSpPr>
          <p:cNvPr id="1056" name="TextBox 33"/>
          <p:cNvSpPr/>
          <p:nvPr/>
        </p:nvSpPr>
        <p:spPr>
          <a:xfrm>
            <a:off x="7726320" y="47862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nga Trench</a:t>
            </a:r>
            <a:endParaRPr b="0" lang="en-US" sz="1600" spc="-1" strike="noStrike">
              <a:solidFill>
                <a:srgbClr val="000000"/>
              </a:solidFill>
              <a:latin typeface="Arial"/>
            </a:endParaRPr>
          </a:p>
        </p:txBody>
      </p:sp>
      <p:cxnSp>
        <p:nvCxnSpPr>
          <p:cNvPr id="1057" name="Straight Arrow Connector 34"/>
          <p:cNvCxnSpPr/>
          <p:nvPr/>
        </p:nvCxnSpPr>
        <p:spPr>
          <a:xfrm flipH="1" flipV="1">
            <a:off x="7391160" y="4784400"/>
            <a:ext cx="381600" cy="224640"/>
          </a:xfrm>
          <a:prstGeom prst="straightConnector1">
            <a:avLst/>
          </a:prstGeom>
          <a:ln w="28440">
            <a:solidFill>
              <a:srgbClr val="ffffff"/>
            </a:solidFill>
            <a:miter/>
            <a:tailEnd len="med" type="triangle" w="med"/>
          </a:ln>
        </p:spPr>
      </p:cxnSp>
      <p:sp>
        <p:nvSpPr>
          <p:cNvPr id="1058" name="TextBox 12"/>
          <p:cNvSpPr/>
          <p:nvPr/>
        </p:nvSpPr>
        <p:spPr>
          <a:xfrm>
            <a:off x="4486320" y="4043520"/>
            <a:ext cx="174780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7.2 August 12, 2016</a:t>
            </a:r>
            <a:endParaRPr b="0" lang="en-US" sz="1200" spc="-1" strike="noStrike">
              <a:solidFill>
                <a:srgbClr val="000000"/>
              </a:solidFill>
              <a:latin typeface="Arial"/>
            </a:endParaRPr>
          </a:p>
        </p:txBody>
      </p:sp>
      <p:pic>
        <p:nvPicPr>
          <p:cNvPr id="1059" name="Picture 2" descr=""/>
          <p:cNvPicPr/>
          <p:nvPr/>
        </p:nvPicPr>
        <p:blipFill>
          <a:blip r:embed="rId4"/>
          <a:srcRect l="0" t="0" r="1418" b="14391"/>
          <a:stretch/>
        </p:blipFill>
        <p:spPr>
          <a:xfrm>
            <a:off x="3349800" y="5778360"/>
            <a:ext cx="1422360" cy="470160"/>
          </a:xfrm>
          <a:prstGeom prst="rect">
            <a:avLst/>
          </a:prstGeom>
          <a:ln w="0">
            <a:noFill/>
          </a:ln>
        </p:spPr>
      </p:pic>
      <p:sp>
        <p:nvSpPr>
          <p:cNvPr id="1060" name="TextBox 33"/>
          <p:cNvSpPr/>
          <p:nvPr/>
        </p:nvSpPr>
        <p:spPr>
          <a:xfrm>
            <a:off x="4114800" y="121932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rth New Hebrides Trench</a:t>
            </a:r>
            <a:endParaRPr b="0" lang="en-US" sz="1600" spc="-1" strike="noStrike">
              <a:solidFill>
                <a:srgbClr val="000000"/>
              </a:solidFill>
              <a:latin typeface="Arial"/>
            </a:endParaRPr>
          </a:p>
        </p:txBody>
      </p:sp>
      <p:cxnSp>
        <p:nvCxnSpPr>
          <p:cNvPr id="1061" name="Straight Arrow Connector 22"/>
          <p:cNvCxnSpPr/>
          <p:nvPr/>
        </p:nvCxnSpPr>
        <p:spPr>
          <a:xfrm flipH="1">
            <a:off x="3979440" y="1419120"/>
            <a:ext cx="440640" cy="486720"/>
          </a:xfrm>
          <a:prstGeom prst="straightConnector1">
            <a:avLst/>
          </a:prstGeom>
          <a:ln w="28440">
            <a:solidFill>
              <a:srgbClr val="ffffff"/>
            </a:solidFill>
            <a:miter/>
            <a:tailEnd len="med" type="triangle" w="med"/>
          </a:ln>
        </p:spPr>
      </p:cxnSp>
      <p:sp>
        <p:nvSpPr>
          <p:cNvPr id="1062" name="TextBox 9"/>
          <p:cNvSpPr/>
          <p:nvPr/>
        </p:nvSpPr>
        <p:spPr>
          <a:xfrm rot="1617000">
            <a:off x="4367520" y="36288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ew</a:t>
            </a:r>
            <a:endParaRPr b="0" lang="en-US" sz="1200" spc="-1" strike="noStrike">
              <a:solidFill>
                <a:srgbClr val="000000"/>
              </a:solidFill>
              <a:latin typeface="Arial"/>
            </a:endParaRPr>
          </a:p>
        </p:txBody>
      </p:sp>
      <p:sp>
        <p:nvSpPr>
          <p:cNvPr id="1063" name="TextBox 10"/>
          <p:cNvSpPr/>
          <p:nvPr/>
        </p:nvSpPr>
        <p:spPr>
          <a:xfrm>
            <a:off x="4731480" y="37242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ebrides</a:t>
            </a:r>
            <a:endParaRPr b="0" lang="en-US" sz="1200" spc="-1" strike="noStrike">
              <a:solidFill>
                <a:srgbClr val="000000"/>
              </a:solidFill>
              <a:latin typeface="Arial"/>
            </a:endParaRPr>
          </a:p>
        </p:txBody>
      </p:sp>
      <p:sp>
        <p:nvSpPr>
          <p:cNvPr id="1064" name="TextBox 11"/>
          <p:cNvSpPr/>
          <p:nvPr/>
        </p:nvSpPr>
        <p:spPr>
          <a:xfrm rot="19544400">
            <a:off x="5346000" y="35812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ench</a:t>
            </a:r>
            <a:endParaRPr b="0" lang="en-US" sz="1200" spc="-1" strike="noStrike">
              <a:solidFill>
                <a:srgbClr val="000000"/>
              </a:solidFill>
              <a:latin typeface="Arial"/>
            </a:endParaRPr>
          </a:p>
        </p:txBody>
      </p:sp>
      <p:sp>
        <p:nvSpPr>
          <p:cNvPr id="10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7" name="Picture 18" descr="IRIS_TMlogo.png"/>
          <p:cNvPicPr/>
          <p:nvPr/>
        </p:nvPicPr>
        <p:blipFill>
          <a:blip r:embed="rId1"/>
          <a:stretch/>
        </p:blipFill>
        <p:spPr>
          <a:xfrm>
            <a:off x="239760" y="76320"/>
            <a:ext cx="903240" cy="927000"/>
          </a:xfrm>
          <a:prstGeom prst="rect">
            <a:avLst/>
          </a:prstGeom>
          <a:ln w="0">
            <a:noFill/>
          </a:ln>
        </p:spPr>
      </p:pic>
      <p:sp>
        <p:nvSpPr>
          <p:cNvPr id="1068" name="TextBox 8"/>
          <p:cNvSpPr/>
          <p:nvPr/>
        </p:nvSpPr>
        <p:spPr>
          <a:xfrm>
            <a:off x="4191120" y="4890960"/>
            <a:ext cx="467820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069"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070" name="TextBox 7"/>
          <p:cNvSpPr/>
          <p:nvPr/>
        </p:nvSpPr>
        <p:spPr>
          <a:xfrm>
            <a:off x="244440" y="1143000"/>
            <a:ext cx="4695840" cy="14907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al mechanism solution indicates motion on a strike-slip fault. At the southern end of the North New Hebrides Trench, the plate boundary curves east into an oceanic transform-like structure.</a:t>
            </a:r>
            <a:endParaRPr b="0" lang="en-US" sz="1800" spc="-1" strike="noStrike">
              <a:solidFill>
                <a:srgbClr val="000000"/>
              </a:solidFill>
              <a:latin typeface="Arial"/>
            </a:endParaRPr>
          </a:p>
        </p:txBody>
      </p:sp>
      <p:pic>
        <p:nvPicPr>
          <p:cNvPr id="1071" name="Picture 1" descr=""/>
          <p:cNvPicPr/>
          <p:nvPr/>
        </p:nvPicPr>
        <p:blipFill>
          <a:blip r:embed="rId2"/>
          <a:stretch/>
        </p:blipFill>
        <p:spPr>
          <a:xfrm>
            <a:off x="304920" y="4417920"/>
            <a:ext cx="2514600" cy="2059200"/>
          </a:xfrm>
          <a:prstGeom prst="rect">
            <a:avLst/>
          </a:prstGeom>
          <a:ln w="0">
            <a:noFill/>
          </a:ln>
        </p:spPr>
      </p:pic>
      <p:pic>
        <p:nvPicPr>
          <p:cNvPr id="1072" name="Picture 2" descr=""/>
          <p:cNvPicPr/>
          <p:nvPr/>
        </p:nvPicPr>
        <p:blipFill>
          <a:blip r:embed="rId3"/>
          <a:stretch/>
        </p:blipFill>
        <p:spPr>
          <a:xfrm>
            <a:off x="1450800" y="2736720"/>
            <a:ext cx="3326040" cy="1609920"/>
          </a:xfrm>
          <a:prstGeom prst="rect">
            <a:avLst/>
          </a:prstGeom>
          <a:ln w="0">
            <a:noFill/>
          </a:ln>
        </p:spPr>
      </p:pic>
      <p:pic>
        <p:nvPicPr>
          <p:cNvPr id="1073" name="Picture 4" descr=""/>
          <p:cNvPicPr/>
          <p:nvPr/>
        </p:nvPicPr>
        <p:blipFill>
          <a:blip r:embed="rId4"/>
          <a:stretch/>
        </p:blipFill>
        <p:spPr>
          <a:xfrm>
            <a:off x="5100480" y="685800"/>
            <a:ext cx="3824280" cy="4062240"/>
          </a:xfrm>
          <a:prstGeom prst="rect">
            <a:avLst/>
          </a:prstGeom>
          <a:ln w="0">
            <a:noFill/>
          </a:ln>
        </p:spPr>
      </p:pic>
      <p:sp>
        <p:nvSpPr>
          <p:cNvPr id="1074" name="5-Point Star 5"/>
          <p:cNvSpPr/>
          <p:nvPr/>
        </p:nvSpPr>
        <p:spPr>
          <a:xfrm>
            <a:off x="7835760" y="3340080"/>
            <a:ext cx="317520" cy="317520"/>
          </a:xfrm>
          <a:custGeom>
            <a:avLst/>
            <a:gdLst/>
            <a:ahLst/>
            <a:rect l="l" t="t" r="r" b="b"/>
            <a:pathLst>
              <a:path w="317500" h="317500">
                <a:moveTo>
                  <a:pt x="0" y="121274"/>
                </a:moveTo>
                <a:lnTo>
                  <a:pt x="121275" y="121275"/>
                </a:lnTo>
                <a:lnTo>
                  <a:pt x="158750" y="0"/>
                </a:lnTo>
                <a:lnTo>
                  <a:pt x="196225" y="121275"/>
                </a:lnTo>
                <a:lnTo>
                  <a:pt x="317500" y="121274"/>
                </a:lnTo>
                <a:lnTo>
                  <a:pt x="219386" y="196225"/>
                </a:lnTo>
                <a:lnTo>
                  <a:pt x="256863" y="317499"/>
                </a:lnTo>
                <a:lnTo>
                  <a:pt x="158750" y="242547"/>
                </a:lnTo>
                <a:lnTo>
                  <a:pt x="60637" y="317499"/>
                </a:lnTo>
                <a:lnTo>
                  <a:pt x="98114" y="196225"/>
                </a:lnTo>
                <a:lnTo>
                  <a:pt x="0" y="121274"/>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6" name="Picture 1" descr=""/>
          <p:cNvPicPr/>
          <p:nvPr/>
        </p:nvPicPr>
        <p:blipFill>
          <a:blip r:embed="rId1"/>
          <a:stretch/>
        </p:blipFill>
        <p:spPr>
          <a:xfrm>
            <a:off x="3639960" y="1204920"/>
            <a:ext cx="5391360" cy="4735440"/>
          </a:xfrm>
          <a:prstGeom prst="rect">
            <a:avLst/>
          </a:prstGeom>
          <a:ln w="0">
            <a:noFill/>
          </a:ln>
        </p:spPr>
      </p:pic>
      <p:sp>
        <p:nvSpPr>
          <p:cNvPr id="10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Box 15"/>
          <p:cNvSpPr/>
          <p:nvPr/>
        </p:nvSpPr>
        <p:spPr>
          <a:xfrm>
            <a:off x="214200" y="1295280"/>
            <a:ext cx="3517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s of earthquakes occurring between 1900 and 2014 are shown on this tectonic map of the Australia – Pacific convergent plate boundary in the southwestern Pacific Oce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ific Plate subducts beneath the Australia Plate at the Tonga Trench whereas the Australian Plate subducts beneath the Pacific Plate at the North New Hebrides Trench.  The August 12 earthquake occurred on a left-lateral transform fault that connects between these subduction zones.  </a:t>
            </a:r>
            <a:endParaRPr b="0" lang="en-US" sz="1800" spc="-1" strike="noStrike">
              <a:solidFill>
                <a:srgbClr val="000000"/>
              </a:solidFill>
              <a:latin typeface="Arial"/>
            </a:endParaRPr>
          </a:p>
        </p:txBody>
      </p:sp>
      <p:pic>
        <p:nvPicPr>
          <p:cNvPr id="1079" name="Picture 8" descr="IRIS_TMlogo.png"/>
          <p:cNvPicPr/>
          <p:nvPr/>
        </p:nvPicPr>
        <p:blipFill>
          <a:blip r:embed="rId2"/>
          <a:stretch/>
        </p:blipFill>
        <p:spPr>
          <a:xfrm>
            <a:off x="239760" y="76320"/>
            <a:ext cx="903240" cy="927000"/>
          </a:xfrm>
          <a:prstGeom prst="rect">
            <a:avLst/>
          </a:prstGeom>
          <a:ln w="0">
            <a:noFill/>
          </a:ln>
        </p:spPr>
      </p:pic>
      <p:sp>
        <p:nvSpPr>
          <p:cNvPr id="1080" name="TextBox 15"/>
          <p:cNvSpPr/>
          <p:nvPr/>
        </p:nvSpPr>
        <p:spPr>
          <a:xfrm>
            <a:off x="4429080" y="5950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cxnSp>
        <p:nvCxnSpPr>
          <p:cNvPr id="1081" name="Straight Arrow Connector 24"/>
          <p:cNvCxnSpPr/>
          <p:nvPr/>
        </p:nvCxnSpPr>
        <p:spPr>
          <a:xfrm flipV="1">
            <a:off x="5714640" y="3331440"/>
            <a:ext cx="135720" cy="322920"/>
          </a:xfrm>
          <a:prstGeom prst="straightConnector1">
            <a:avLst/>
          </a:prstGeom>
          <a:ln w="31680">
            <a:solidFill>
              <a:srgbClr val="ff0000"/>
            </a:solidFill>
            <a:miter/>
            <a:tailEnd len="med" type="triangle" w="med"/>
          </a:ln>
        </p:spPr>
      </p:cxnSp>
      <p:pic>
        <p:nvPicPr>
          <p:cNvPr id="1082" name="Picture 2" descr=""/>
          <p:cNvPicPr/>
          <p:nvPr/>
        </p:nvPicPr>
        <p:blipFill>
          <a:blip r:embed="rId3"/>
          <a:stretch/>
        </p:blipFill>
        <p:spPr>
          <a:xfrm>
            <a:off x="3917880" y="1346040"/>
            <a:ext cx="4919760" cy="425520"/>
          </a:xfrm>
          <a:prstGeom prst="rect">
            <a:avLst/>
          </a:prstGeom>
          <a:ln w="0">
            <a:noFill/>
          </a:ln>
        </p:spPr>
      </p:pic>
      <p:sp>
        <p:nvSpPr>
          <p:cNvPr id="1083" name="Straight Connector 5"/>
          <p:cNvSpPr/>
          <p:nvPr/>
        </p:nvSpPr>
        <p:spPr>
          <a:xfrm flipV="1">
            <a:off x="5688000" y="2437920"/>
            <a:ext cx="129528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4" name="Straight Arrow Connector 8"/>
          <p:cNvCxnSpPr/>
          <p:nvPr/>
        </p:nvCxnSpPr>
        <p:spPr>
          <a:xfrm flipH="1">
            <a:off x="6145920" y="2660400"/>
            <a:ext cx="337320" cy="229320"/>
          </a:xfrm>
          <a:prstGeom prst="straightConnector1">
            <a:avLst/>
          </a:prstGeom>
          <a:ln w="19080">
            <a:solidFill>
              <a:srgbClr val="000000"/>
            </a:solidFill>
            <a:miter/>
            <a:tailEnd len="med" type="triangle" w="med"/>
          </a:ln>
        </p:spPr>
      </p:cxnSp>
      <p:cxnSp>
        <p:nvCxnSpPr>
          <p:cNvPr id="1085" name="Straight Arrow Connector 34"/>
          <p:cNvCxnSpPr/>
          <p:nvPr/>
        </p:nvCxnSpPr>
        <p:spPr>
          <a:xfrm flipV="1">
            <a:off x="6259680" y="2764800"/>
            <a:ext cx="336600" cy="229320"/>
          </a:xfrm>
          <a:prstGeom prst="straightConnector1">
            <a:avLst/>
          </a:prstGeom>
          <a:ln w="19080">
            <a:solidFill>
              <a:srgbClr val="000000"/>
            </a:solidFill>
            <a:miter/>
            <a:tailEnd len="med" type="triangle" w="med"/>
          </a:ln>
        </p:spPr>
      </p:cxnSp>
      <p:pic>
        <p:nvPicPr>
          <p:cNvPr id="1086" name="Picture 12" descr=""/>
          <p:cNvPicPr/>
          <p:nvPr/>
        </p:nvPicPr>
        <p:blipFill>
          <a:blip r:embed="rId4"/>
          <a:srcRect l="4528" t="40205" r="13289" b="25465"/>
          <a:stretch/>
        </p:blipFill>
        <p:spPr>
          <a:xfrm>
            <a:off x="4552920" y="4419720"/>
            <a:ext cx="1390680" cy="914400"/>
          </a:xfrm>
          <a:prstGeom prst="rect">
            <a:avLst/>
          </a:prstGeom>
          <a:ln w="0">
            <a:noFill/>
          </a:ln>
        </p:spPr>
      </p:pic>
      <p:pic>
        <p:nvPicPr>
          <p:cNvPr id="1087" name="Picture 37" descr=""/>
          <p:cNvPicPr/>
          <p:nvPr/>
        </p:nvPicPr>
        <p:blipFill>
          <a:blip r:embed="rId5"/>
          <a:stretch/>
        </p:blipFill>
        <p:spPr>
          <a:xfrm>
            <a:off x="3913200" y="4621320"/>
            <a:ext cx="639720" cy="639720"/>
          </a:xfrm>
          <a:prstGeom prst="rect">
            <a:avLst/>
          </a:prstGeom>
          <a:ln w="0">
            <a:noFill/>
          </a:ln>
        </p:spPr>
      </p:pic>
      <p:sp>
        <p:nvSpPr>
          <p:cNvPr id="1088" name="5-Point Star 20"/>
          <p:cNvSpPr/>
          <p:nvPr/>
        </p:nvSpPr>
        <p:spPr>
          <a:xfrm>
            <a:off x="5688000" y="2971800"/>
            <a:ext cx="324000" cy="324000"/>
          </a:xfrm>
          <a:custGeom>
            <a:avLst/>
            <a:gdLst/>
            <a:ahLst/>
            <a:rect l="l" t="t" r="r" b="b"/>
            <a:pathLst>
              <a:path w="323850" h="323850">
                <a:moveTo>
                  <a:pt x="0" y="123699"/>
                </a:moveTo>
                <a:lnTo>
                  <a:pt x="123700" y="123700"/>
                </a:lnTo>
                <a:lnTo>
                  <a:pt x="161925" y="0"/>
                </a:lnTo>
                <a:lnTo>
                  <a:pt x="200150" y="123700"/>
                </a:lnTo>
                <a:lnTo>
                  <a:pt x="323850" y="123699"/>
                </a:lnTo>
                <a:lnTo>
                  <a:pt x="223774" y="200149"/>
                </a:lnTo>
                <a:lnTo>
                  <a:pt x="262000" y="323849"/>
                </a:lnTo>
                <a:lnTo>
                  <a:pt x="161925" y="247398"/>
                </a:lnTo>
                <a:lnTo>
                  <a:pt x="61850" y="323849"/>
                </a:lnTo>
                <a:lnTo>
                  <a:pt x="100076" y="200149"/>
                </a:lnTo>
                <a:lnTo>
                  <a:pt x="0" y="123699"/>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TextBox 22"/>
          <p:cNvSpPr/>
          <p:nvPr/>
        </p:nvSpPr>
        <p:spPr>
          <a:xfrm>
            <a:off x="4629600" y="3635280"/>
            <a:ext cx="184176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6</a:t>
            </a:r>
            <a:endParaRPr b="0" lang="en-US" sz="1800" spc="-1" strike="noStrike">
              <a:solidFill>
                <a:srgbClr val="000000"/>
              </a:solidFill>
              <a:latin typeface="Arial"/>
            </a:endParaRPr>
          </a:p>
        </p:txBody>
      </p:sp>
      <p:sp>
        <p:nvSpPr>
          <p:cNvPr id="10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Picture 1" descr=""/>
          <p:cNvPicPr/>
          <p:nvPr/>
        </p:nvPicPr>
        <p:blipFill>
          <a:blip r:embed="rId1"/>
          <a:stretch/>
        </p:blipFill>
        <p:spPr>
          <a:xfrm>
            <a:off x="960480" y="1351080"/>
            <a:ext cx="6900840" cy="5486400"/>
          </a:xfrm>
          <a:prstGeom prst="rect">
            <a:avLst/>
          </a:prstGeom>
          <a:ln w="0">
            <a:noFill/>
          </a:ln>
        </p:spPr>
      </p:pic>
      <p:sp>
        <p:nvSpPr>
          <p:cNvPr id="10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3" name="Picture 18" descr="IRIS_TMlogo.png"/>
          <p:cNvPicPr/>
          <p:nvPr/>
        </p:nvPicPr>
        <p:blipFill>
          <a:blip r:embed="rId2"/>
          <a:stretch/>
        </p:blipFill>
        <p:spPr>
          <a:xfrm>
            <a:off x="239760" y="76320"/>
            <a:ext cx="903240" cy="927000"/>
          </a:xfrm>
          <a:prstGeom prst="rect">
            <a:avLst/>
          </a:prstGeom>
          <a:ln w="0">
            <a:noFill/>
          </a:ln>
        </p:spPr>
      </p:pic>
      <p:sp>
        <p:nvSpPr>
          <p:cNvPr id="1094" name="TextBox 4"/>
          <p:cNvSpPr/>
          <p:nvPr/>
        </p:nvSpPr>
        <p:spPr>
          <a:xfrm>
            <a:off x="1905120" y="1347840"/>
            <a:ext cx="6764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the earthquake, it took 13 minutes for the compressional P waves to travel a curved path through the mantle to Bend, Oregon.</a:t>
            </a:r>
            <a:endParaRPr b="0" lang="en-US" sz="1400" spc="-1" strike="noStrike">
              <a:solidFill>
                <a:srgbClr val="000000"/>
              </a:solidFill>
              <a:latin typeface="Arial"/>
            </a:endParaRPr>
          </a:p>
        </p:txBody>
      </p:sp>
      <p:sp>
        <p:nvSpPr>
          <p:cNvPr id="1095"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record of the earthquake in Bend, Oregon (BNOR) is illustrated below. Bend is 9960 km (6189 miles, 89.5°) from the location of this earthquake. </a:t>
            </a:r>
            <a:endParaRPr b="0" lang="en-US" sz="1400" spc="-1" strike="noStrike">
              <a:solidFill>
                <a:srgbClr val="000000"/>
              </a:solidFill>
              <a:latin typeface="Arial"/>
            </a:endParaRPr>
          </a:p>
        </p:txBody>
      </p:sp>
      <p:sp>
        <p:nvSpPr>
          <p:cNvPr id="1096" name="TextBox 6"/>
          <p:cNvSpPr/>
          <p:nvPr/>
        </p:nvSpPr>
        <p:spPr>
          <a:xfrm>
            <a:off x="1600200" y="4923000"/>
            <a:ext cx="6781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rface waves traveled the 9960 km (6189 miles) along the perimeter of the Earth from the earthquake to the recording station. The surface wave began to arrive in Bend 47 minutes after the earthquake occurred in New Caledonia.  </a:t>
            </a:r>
            <a:endParaRPr b="0" lang="en-US" sz="1400" spc="-1" strike="noStrike">
              <a:solidFill>
                <a:srgbClr val="000000"/>
              </a:solidFill>
              <a:latin typeface="Arial"/>
            </a:endParaRPr>
          </a:p>
        </p:txBody>
      </p:sp>
      <p:sp>
        <p:nvSpPr>
          <p:cNvPr id="1097" name="TextBox 9"/>
          <p:cNvSpPr/>
          <p:nvPr/>
        </p:nvSpPr>
        <p:spPr>
          <a:xfrm>
            <a:off x="1523880" y="4191120"/>
            <a:ext cx="685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 waves are shear waves that follow the same path through the mantle as P waves.  S waves took 23 minutes and</a:t>
            </a:r>
            <a:r>
              <a:rPr b="0" lang="en-US" sz="1400" spc="-1" strike="noStrike">
                <a:solidFill>
                  <a:srgbClr val="000000"/>
                </a:solidFill>
                <a:latin typeface="Arial"/>
                <a:ea typeface="Arial"/>
              </a:rPr>
              <a:t> 53</a:t>
            </a:r>
            <a:r>
              <a:rPr b="0" lang="en-US" sz="1400" spc="-1" strike="noStrike">
                <a:solidFill>
                  <a:srgbClr val="ff0000"/>
                </a:solidFill>
                <a:latin typeface="Arial"/>
                <a:ea typeface="Arial"/>
              </a:rPr>
              <a:t> </a:t>
            </a:r>
            <a:r>
              <a:rPr b="0" lang="en-US" sz="1400" spc="-1" strike="noStrike">
                <a:solidFill>
                  <a:srgbClr val="000000"/>
                </a:solidFill>
                <a:latin typeface="Arial"/>
                <a:ea typeface="Arial"/>
              </a:rPr>
              <a:t>seconds to travel from the earthquake to Bend.</a:t>
            </a:r>
            <a:endParaRPr b="0" lang="en-US" sz="1400" spc="-1" strike="noStrike">
              <a:solidFill>
                <a:srgbClr val="000000"/>
              </a:solidFill>
              <a:latin typeface="Arial"/>
            </a:endParaRPr>
          </a:p>
        </p:txBody>
      </p:sp>
      <p:sp>
        <p:nvSpPr>
          <p:cNvPr id="1098" name="TextBox 4"/>
          <p:cNvSpPr/>
          <p:nvPr/>
        </p:nvSpPr>
        <p:spPr>
          <a:xfrm>
            <a:off x="2401920" y="21448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1099" name="TextBox 11"/>
          <p:cNvSpPr/>
          <p:nvPr/>
        </p:nvSpPr>
        <p:spPr>
          <a:xfrm>
            <a:off x="3474360" y="20574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1100" name="TextBox 11"/>
          <p:cNvSpPr/>
          <p:nvPr/>
        </p:nvSpPr>
        <p:spPr>
          <a:xfrm>
            <a:off x="5410080" y="21700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101" name="TextBox 5"/>
          <p:cNvSpPr/>
          <p:nvPr/>
        </p:nvSpPr>
        <p:spPr>
          <a:xfrm>
            <a:off x="2057400" y="3594240"/>
            <a:ext cx="513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102" name="TextBox 4"/>
          <p:cNvSpPr/>
          <p:nvPr/>
        </p:nvSpPr>
        <p:spPr>
          <a:xfrm>
            <a:off x="2702160" y="2057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103" name="Straight Connector 4"/>
          <p:cNvSpPr/>
          <p:nvPr/>
        </p:nvSpPr>
        <p:spPr>
          <a:xfrm>
            <a:off x="5638680" y="2886120"/>
            <a:ext cx="0" cy="3657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107" name="Picture 8" descr="IRIS_TMlogo.png"/>
          <p:cNvPicPr/>
          <p:nvPr/>
        </p:nvPicPr>
        <p:blipFill>
          <a:blip r:embed="rId1"/>
          <a:stretch/>
        </p:blipFill>
        <p:spPr>
          <a:xfrm>
            <a:off x="239760" y="76320"/>
            <a:ext cx="903240" cy="927000"/>
          </a:xfrm>
          <a:prstGeom prst="rect">
            <a:avLst/>
          </a:prstGeom>
          <a:ln w="0">
            <a:noFill/>
          </a:ln>
        </p:spPr>
      </p:pic>
      <p:sp>
        <p:nvSpPr>
          <p:cNvPr id="1108" name="TextBox 18"/>
          <p:cNvSpPr/>
          <p:nvPr/>
        </p:nvSpPr>
        <p:spPr>
          <a:xfrm>
            <a:off x="228600" y="12193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11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1111" name="TextBox 4"/>
          <p:cNvSpPr/>
          <p:nvPr/>
        </p:nvSpPr>
        <p:spPr>
          <a:xfrm>
            <a:off x="239760" y="2286000"/>
            <a:ext cx="456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not widely felt because the area is sparsely populated.</a:t>
            </a:r>
            <a:endParaRPr b="0" lang="en-US" sz="1800" spc="-1" strike="noStrike">
              <a:solidFill>
                <a:srgbClr val="000000"/>
              </a:solidFill>
              <a:latin typeface="Arial"/>
            </a:endParaRPr>
          </a:p>
        </p:txBody>
      </p:sp>
      <p:pic>
        <p:nvPicPr>
          <p:cNvPr id="1112" name="Picture 1" descr=""/>
          <p:cNvPicPr/>
          <p:nvPr/>
        </p:nvPicPr>
        <p:blipFill>
          <a:blip r:embed="rId2"/>
          <a:stretch/>
        </p:blipFill>
        <p:spPr>
          <a:xfrm>
            <a:off x="4834080" y="1317600"/>
            <a:ext cx="4027320" cy="4168800"/>
          </a:xfrm>
          <a:prstGeom prst="rect">
            <a:avLst/>
          </a:prstGeom>
          <a:ln w="0">
            <a:noFill/>
          </a:ln>
        </p:spPr>
      </p:pic>
      <p:pic>
        <p:nvPicPr>
          <p:cNvPr id="1113" name="Picture 4" descr=""/>
          <p:cNvPicPr/>
          <p:nvPr/>
        </p:nvPicPr>
        <p:blipFill>
          <a:blip r:embed="rId3"/>
          <a:stretch/>
        </p:blipFill>
        <p:spPr>
          <a:xfrm>
            <a:off x="360360" y="2975040"/>
            <a:ext cx="3297240" cy="3830400"/>
          </a:xfrm>
          <a:prstGeom prst="rect">
            <a:avLst/>
          </a:prstGeom>
          <a:ln w="0">
            <a:noFill/>
          </a:ln>
        </p:spPr>
      </p:pic>
      <p:sp>
        <p:nvSpPr>
          <p:cNvPr id="1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NEW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Friday,  August 12, 2016, 01:26:3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a:t>
            </a:r>
            <a:r>
              <a:rPr b="0" lang="en-US" sz="1800" spc="-1" strike="noStrike" u="sng">
                <a:solidFill>
                  <a:srgbClr val="0000ff"/>
                </a:solidFill>
                <a:uFillTx/>
                <a:latin typeface="Arial"/>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a:t>
            </a:r>
            <a:r>
              <a:rPr b="0" lang="en-US" sz="1800" spc="-1" strike="noStrike" u="sng">
                <a:solidFill>
                  <a:srgbClr val="0000ff"/>
                </a:solidFill>
                <a:uFillTx/>
                <a:latin typeface="Arial"/>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7" name="Picture 1" descr=""/>
          <p:cNvPicPr/>
          <p:nvPr/>
        </p:nvPicPr>
        <p:blipFill>
          <a:blip r:embed="rId3"/>
          <a:stretch/>
        </p:blipFill>
        <p:spPr>
          <a:xfrm>
            <a:off x="6400800" y="5262480"/>
            <a:ext cx="2413080" cy="1281240"/>
          </a:xfrm>
          <a:prstGeom prst="rect">
            <a:avLst/>
          </a:prstGeom>
          <a:ln w="0">
            <a:noFill/>
          </a:ln>
        </p:spPr>
      </p:pic>
      <p:pic>
        <p:nvPicPr>
          <p:cNvPr id="1118" name="Picture 1" descr=""/>
          <p:cNvPicPr/>
          <p:nvPr/>
        </p:nvPicPr>
        <p:blipFill>
          <a:blip r:embed="rId4"/>
          <a:stretch/>
        </p:blipFill>
        <p:spPr>
          <a:xfrm>
            <a:off x="709560" y="5337000"/>
            <a:ext cx="1200240" cy="1206720"/>
          </a:xfrm>
          <a:prstGeom prst="rect">
            <a:avLst/>
          </a:prstGeom>
          <a:ln w="0">
            <a:noFill/>
          </a:ln>
        </p:spPr>
      </p:pic>
      <p:sp>
        <p:nvSpPr>
          <p:cNvPr id="1119"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120"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12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20"/>
                    </p:tgtEl>
                  </p:cond>
                </p:stCondLst>
                <p:childTnLst>
                  <p:par>
                    <p:cTn id="8" nodeType="clickEffect" fill="hold">
                      <p:stCondLst>
                        <p:cond evt="onClick">
                          <p:tgtEl>
                            <p:spTgt spid="1120"/>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8-12T16:31:56Z</dcterms:modified>
  <cp:revision>697</cp:revision>
  <dc:subject/>
  <dc:title>Slide 1</dc:title>
</cp:coreProperties>
</file>