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20.png" ContentType="image/png"/>
  <Override PartName="/ppt/media/image19.jpeg" ContentType="image/jpeg"/>
  <Override PartName="/ppt/media/image5.png" ContentType="image/png"/>
  <Override PartName="/ppt/media/image1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6"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2"/>
          <p:cNvSpPr>
            <a:spLocks noGrp="1"/>
          </p:cNvSpPr>
          <p:nvPr>
            <p:ph type="dt" idx="76"/>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028"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29"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6"/>
          <p:cNvSpPr>
            <a:spLocks noGrp="1"/>
          </p:cNvSpPr>
          <p:nvPr>
            <p:ph type="sldNum" idx="78"/>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481C-803E-489F-B693-D01EB1E192C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257480" y="720720"/>
            <a:ext cx="4800600" cy="3600360"/>
          </a:xfrm>
          <a:prstGeom prst="rect">
            <a:avLst/>
          </a:prstGeom>
          <a:ln w="0">
            <a:noFill/>
          </a:ln>
        </p:spPr>
      </p:sp>
      <p:sp>
        <p:nvSpPr>
          <p:cNvPr id="11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8C8B-A232-47B2-93E2-D5767EF74F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257480" y="720720"/>
            <a:ext cx="4800600" cy="3600360"/>
          </a:xfrm>
          <a:prstGeom prst="rect">
            <a:avLst/>
          </a:prstGeom>
          <a:ln w="0">
            <a:noFill/>
          </a:ln>
        </p:spPr>
      </p:sp>
      <p:sp>
        <p:nvSpPr>
          <p:cNvPr id="11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A3F3-8C9F-44CE-B39F-79F08C1E76B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257480" y="720720"/>
            <a:ext cx="4800600" cy="3600360"/>
          </a:xfrm>
          <a:prstGeom prst="rect">
            <a:avLst/>
          </a:prstGeom>
          <a:ln w="0">
            <a:noFill/>
          </a:ln>
        </p:spPr>
      </p:sp>
      <p:sp>
        <p:nvSpPr>
          <p:cNvPr id="11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Explorando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Navegador de terremotos interactivo – Mapa Mundial o visualizador 3D </a:t>
            </a:r>
            <a:r>
              <a:rPr b="0" lang="es-VE"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1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A713-10FD-4ECB-9D79-5282AB09C00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257480" y="720720"/>
            <a:ext cx="4800600" cy="3600360"/>
          </a:xfrm>
          <a:prstGeom prst="rect">
            <a:avLst/>
          </a:prstGeom>
          <a:ln w="0">
            <a:noFill/>
          </a:ln>
        </p:spPr>
      </p:sp>
      <p:sp>
        <p:nvSpPr>
          <p:cNvPr id="1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384F-E757-4F3F-8F87-4DCC07A231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257480" y="720720"/>
            <a:ext cx="4800600" cy="3600360"/>
          </a:xfrm>
          <a:prstGeom prst="rect">
            <a:avLst/>
          </a:prstGeom>
          <a:ln w="0">
            <a:noFill/>
          </a:ln>
        </p:spPr>
      </p:sp>
      <p:sp>
        <p:nvSpPr>
          <p:cNvPr id="1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C021-3D0F-4625-9398-FDB9B983620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257480" y="720720"/>
            <a:ext cx="4800600" cy="3600360"/>
          </a:xfrm>
          <a:prstGeom prst="rect">
            <a:avLst/>
          </a:prstGeom>
          <a:ln w="0">
            <a:noFill/>
          </a:ln>
        </p:spPr>
      </p:sp>
      <p:sp>
        <p:nvSpPr>
          <p:cNvPr id="11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D859-A257-4CCC-9836-25DFBDCD80C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257480" y="720720"/>
            <a:ext cx="4800600" cy="3600360"/>
          </a:xfrm>
          <a:prstGeom prst="rect">
            <a:avLst/>
          </a:prstGeom>
          <a:ln w="0">
            <a:noFill/>
          </a:ln>
        </p:spPr>
      </p:sp>
      <p:sp>
        <p:nvSpPr>
          <p:cNvPr id="11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USGS PAGER muestra la población expuesta a diferentes niveles de intensidad de Mercalli Modificada (MMI). MMI describe la severidad de un terremoto en términos de su efecto sobre los seres humanos y las estructuras y es una medida aproximada de la intensidad de los temblores en un lugar determin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B583-E9E1-45A1-A241-3CF80A9E306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257480" y="720720"/>
            <a:ext cx="4800600" cy="3600360"/>
          </a:xfrm>
          <a:prstGeom prst="rect">
            <a:avLst/>
          </a:prstGeom>
          <a:ln w="0">
            <a:noFill/>
          </a:ln>
        </p:spPr>
      </p:sp>
      <p:sp>
        <p:nvSpPr>
          <p:cNvPr id="1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127D-20C8-4C22-BC15-725F69BF8D8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25753-0FA3-4B32-95C5-053079708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9DE26-DD0C-48E6-AD56-F49EA81AF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5C2869-9BA8-4F90-9AE5-D56EA908EB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1194EA-5CE1-48A0-98DC-A7ACED6668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F78D89-F9BF-4AF2-9710-7807AE6840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931AF5-EEB3-48A5-B7D2-B2EE768AE4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4D2C1C-0CE6-4F64-BF50-6740012B00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0F6D51-347B-49FF-800A-8843AB77DB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15137B-570C-4014-B964-3F0F62A059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818198-4D61-4F1C-A305-A6267D8545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10FE71-0299-460C-9575-9F123FD799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AEE67D1-5D69-4865-8C35-73E5793D05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98FCC-B751-4221-A649-5CEBBB30D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0FAA8A-0FEB-4D3C-A10C-E35FEA6602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973DB2-ED31-4ACA-BA36-5E4287A045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74A525-86DA-4994-AE65-3BBC87654D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A89ECC-F1BD-46A2-8101-0A93DD6C72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78706F-8576-49C4-9FC6-0E81EAD5FA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FA3B5B-B1B5-40CB-AAD3-3411B1735E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5F532B-16BD-4B28-A9EE-CEDC573B10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F91200-92B3-4E41-AE38-B2701C9459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891F69-70FC-45EA-B824-81528B8857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53B52D-FDE6-4631-B3D9-04B9656024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BE4A5-E0A3-4DC6-B3BB-95CE991B1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38D93C-CFFC-4A32-B1C5-0F6775AB34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A6C877-A2B5-4BBC-9CBC-C124640DD2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F02DAF-BAC0-48A4-8ED0-6021EBAEBC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5861D4-4C30-4001-AFDC-696F06E925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621F1D-2CA3-4260-A4EC-07C628F23B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0D87C1-E768-402A-B832-B66068102A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2CB029-3A4D-4DD4-BFDF-A58468ACDE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6CEBE5-7DA9-4575-BB90-AFDD6DD78C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26975D-5AD0-4520-A407-C777B063A0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FC55E5-AB9D-49A7-A259-ABF2332A37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60B8B-7FD5-46EF-BDDA-77A0B5FA0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D46541-FF2F-4A5A-8347-CDCE38303A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918AF4-AD9A-4C1D-8E1F-2D4EAD46BC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0E03A2-21E7-4E5C-A138-A60E06F756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978007-4291-4FF5-B98C-49F82D7FC3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8C7A2D-9656-4BC8-863D-CD6350C7A6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5E9DBF-8BD3-4429-98DD-BF8DD27237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9B24C9-46CA-4249-9764-43D8E68CEC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A0D537-33E8-4B6D-89FE-BAADC4C7B5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575049-5AD4-4D07-83B2-B1ED45B822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F0841A-0290-4E82-B3D4-C18F12EBA0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E4297-5212-405A-B0E2-8B510334F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3F583C-5248-45E2-9EE3-606FE6C75A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8D7BBA-D26F-4EFB-9741-A758750689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2C9AE9-E7D5-4BCB-B56C-AFB455FDCB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9E52F4C-0867-4F54-91E5-36F2CC3F0A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638B98E-C56C-4904-B215-31E12C81831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7EDBC14-D627-4C10-8191-C2B652DD3DA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FC97BC-5A11-4B95-8D95-3291D6F69C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9E5196-25FC-4BF4-8C15-2F546B2ABE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7E47BE-DD20-4E58-A36B-741735C588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96AE8B-F14E-439D-ACE6-DDC4028233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639F3-34F3-4AC0-AEE4-6EEB97BB9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D244B4-C49F-422D-B59F-C5A50FDD14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B21938-205C-443F-BD8B-9B71641E7D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7AD025-9090-4447-8DB4-F39BAF5094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4F4DCF-2058-4B26-9A42-989A7766CC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D90863-4D35-48BA-B0BA-9F9FFF01BA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741EF85-0C2D-4053-864B-71F47B14ED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4707B8F-7468-47B4-AD3E-CE1C88B21AD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907A4A9-C1FA-436B-9549-EB7B6C54C25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DDE772C-E3A2-4A89-AAD0-CB12363655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B4BEEAA-BF37-4D58-8F1E-2EB015AD81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296BA-984D-4C3C-9BCE-74F843883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516679-1C3D-48F6-9ADD-4363959D76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174BBD-0F0C-4940-8647-24DD9AA092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7778F1-7604-4269-8897-097671AE5F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4D0E66-7245-4DA7-A8E6-79A5A30BE6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4180A2-A9E8-4FE9-A47D-034698234D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930A9B-6849-4E21-BC0E-A7A4683CF0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BE6C84-5965-4F98-BDCC-09339A4952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B82875D-270A-4F37-A9FC-DD0B963C014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FAFFBC3-78C7-4984-941A-8FB2E849BEE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27FA8B7-1AEC-447B-98D7-AD338D39A41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23A1C-FC47-459F-BC88-8BEB129C7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1C7D65-AE8C-4390-ACDB-A71ABD9DBDC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33994B3-0A52-4FAF-884A-0D821F59FDF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FD84086-FA11-4B7F-814E-3D8592D8180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126E07-FCF1-44A3-BB58-49F50F832B1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B601B5B-EFAF-4FD6-A8B4-F76243DC358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2E1FD5-410B-471F-9CBC-CE3D587D45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F16EE1-4534-400C-A35D-4561532D06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CDE693-78DF-4824-8AEB-AE4CB6DBC9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074DD77-7488-4DD1-A247-381BB0A62F0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6484325-A1F5-4D68-B377-7CFEDE0BD7C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2D774-407E-424A-A177-D25EEA0BA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2C12CF8-E344-4D8F-9FE6-AABB990D565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B35E098-09AC-4541-B9DE-27EEC4671A9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AAEE67-98E4-4F9A-B26B-1A49B34FC8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CE90720-35C6-4DB6-A6F3-2658A0CC79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5D9CD49-B405-45BE-989F-D16EEA98B1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A63129F-F113-4EEC-AE54-1DCE3E85869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4CD8CFB-F830-40C6-964C-31DB67CCCB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E5C413-6B22-4F7C-8479-CB89A81E73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D0C0F4-2A89-44D1-8528-4005E1D839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EAB82F8-749D-4E58-B29D-C72376108E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6B56A-1902-4232-A1CF-5A53DB1C4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0250225-5D19-43D7-A527-FA9623EFB3A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4AB375D-E3B6-4873-8E9F-D72CFDC7D4D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EC7613A-B176-4F56-BC29-5508F44BB21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577741D-3872-4948-9AF2-FD6413C4E3C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030094C-357B-4A2E-9B06-603F38F0BB8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753497A-CF0A-4DC6-9EEC-4B6EF72F9DA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036958B-7661-41D9-88DE-1700BEDD89B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131C7FE-8092-468D-988B-5089ABCDEE4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E8D73CF-9BAF-4878-A364-926E40C204B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869826-DC78-403F-A4A0-2FF53C9947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8C367-D68A-4244-8548-78A3455FA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B67F3-D10C-4846-B2E4-DDBC38A41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843F5E-B63D-44B1-86F0-7CAC680CC9D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E19E0BF-FC7D-4867-B463-A3377D23E4C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451865-21EC-4072-A782-1B3A475C780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DC80661-6E94-436B-A2CA-0C917482D9B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3E53ABA-428F-4B8C-9331-4372C9D2126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95CEEC4-E038-473A-873E-B49AB939EF5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321B086-273E-47FF-AE69-CBAE557226E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8A2C37D-58DA-4577-8AF5-B8E3BF447E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FC7C822-8C9F-4BCD-AED5-DCA2AECCB1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CCBA691-0CAF-4CDB-AA68-396A6CA88A8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E917A-D447-4D69-85F1-384D1507B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31E4750-6B9F-4457-8785-7BC628AF7DA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1A6ED3-EF88-4307-A421-B18CD8710F7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55F0A7-E534-4D9F-A947-C9ADCF95B4F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6AC939-3BB0-4F01-8005-839106572DC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A0F2F9E-57D6-4818-AFD9-1DBEC04022C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2C26285-898E-46F1-A512-EB3C2803AEE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4C3424B-1104-435B-A845-2160CA43E51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E068591-5537-48B0-83CC-0CC29474CDD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8AD5D89-4B99-46EC-B5A5-FF1E6F77EAF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F79E850-5B92-4CDD-8C79-685BD22BB42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333CF-4CE7-4416-91F6-78D40BF3C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C900ABD-6066-4F29-97CE-553CE13EB19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09047BA-0E1E-4FF3-86CE-4474DD439E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C6520B9-831F-446D-9C27-1365673BF7A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6FEA89-A5EE-46A9-A79D-BC56BF07F79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F32290C-4C37-49DF-A386-F99249F57F3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F0C3443-8369-4E08-9284-C24F928A911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A7E8426-6391-4ACC-B2C0-0EB32C65B99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B1C453C-822A-408C-B407-17F13BBAB65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A683D30-4844-4D7D-AC9C-5A62F815286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52A417F-8E96-448F-80BC-3784B2A698D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A8940-63D4-4AAE-8BF8-08BE2869B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81B14EA-615E-45B9-9EA9-3A7248D42D3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0637CE6-439A-489B-96A1-8FA2F33B30D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CCE5811-00D2-4426-8C34-459AE2DE254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503D926-2E8C-4B86-AA59-475FB5DF6DE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D2BF6A4-4FFF-4F82-9AF6-DDE8377A48B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2808BDB-71F7-4985-B2CB-5BCB872858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C50E1B5-0199-495F-A982-139B31652F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FFF5340-F37B-4E56-B834-ACC7183A5C9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2E8D292-8574-452C-ADC5-75D8A185BB9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C2E166B-8E2E-4655-890F-C39734AF3B2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21B5D-473A-473D-9C21-DFE2656DA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6F38973-ABE2-41EF-BB87-F78178FD151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BEF2E03-F1F7-4C99-8DD3-FD6F119A23C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0EC51E5-81B9-4B68-8687-645A752BF11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990112A-6A37-4EFB-B592-45A6B7284FE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A55B723-F8CC-4649-96BA-81325BCDEDE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A7149E6-0BC3-48D1-B434-A1A7A43B218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FD563A1-8435-4376-87A8-5AAA3DCD27A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A87FD80-5FD1-4EE4-81C7-331942D3C0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26623D0-A7AB-4524-96FC-B1A2DAD168C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C83ED10-2851-42B6-8B15-75F8616B21A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A54BD0-3CE7-4B4F-B77E-68E806E483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81B569A-02F8-4A7B-87C2-6348EB7A9AF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F189798-22CA-47AF-B5AB-6142064702E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6A2884F-9E3C-483F-8141-F3305735DF3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E7DDD00-577E-4D2D-A55A-FDAD24CF915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E871BD4-0875-4706-A1E7-81C4597C234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D6C7A24-E2CE-40CE-9CD6-A403437A552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1A9D31D-4144-4516-81B5-DE8A276182E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67B3AA0-CEB1-481B-A863-68F2176EC66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1CFFF34-4AB2-4CF8-A287-CA3793651E4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029B858-86F0-4165-86D0-34CDFBF457D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4F2EE5-0752-4620-9578-6C9E22823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DE71924-BE85-42E7-A6D5-AE3600CB750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57E9E78-6E6A-4EB0-96B0-A5426C9BA3B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405E1FC-CF54-4935-9CA3-176FEA86709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E27DB90-7835-4F88-8541-D358FEDC1E8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870D603-DF52-4A43-A9B7-F94945D08ED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E7F9AE5-57C8-4E0B-9754-1B8E6F20057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A865168-F3B8-4857-A154-35F9502F21A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98A7C28-7BCB-4E04-9F26-5805A5A9863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C99513C-EA39-44EE-A235-16E9745DB17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2932118-4487-4C27-BB8F-056C177328E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3ED77F-0217-4E9D-A7DB-70422EBDF8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EEECFF7-5D6D-4EAC-A2BC-BC244F863FE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60D932B-8200-4353-B121-3CDEB321139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54EA998-BA64-4160-BAE8-A5C9047A713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E70A462-4A13-45DB-B684-6961FFB615A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E764665-1121-477A-91E7-4EB78BF5452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F218D6A-81E5-4E3A-BFC2-2A7409C9B6F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9473DB8-6C12-4CD5-B94A-88E819B316F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88246E3-A38E-40A8-87FF-FF1B79B295D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88B77B7-16BE-451B-988C-772475C62CD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ACA3871-DDD8-4549-A21D-90985F46A1C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202718-4D9F-47A8-846E-354FDAC86B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4EDED0F-D0C5-4FFB-BCEB-FE1F6676E59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0942683-31DD-4E09-9076-92931547A60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4CC88B9-E4E4-4401-98B7-B7FDCA74F5C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01A27B0-F969-47A4-9B8F-A55B1C4F2B9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32B6925-EC5E-4DCE-B662-8E7F8D97094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60D42DB-08F7-4D30-ADEF-2CFE434FF7B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09BC279-D6DA-4A0E-A2D5-D618E3632E7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F9ACABA-E817-4AA5-ADD7-DE08185761C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059DCA0-E46E-44C4-B2F3-0AAFC560DD6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098987D-E8AD-42F7-8920-4B54833E8BC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D11A58-A1F7-4359-8B5D-38182BDDA3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2EE3C3A-7747-45F2-B62C-BEFEE514A96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5B4B4F6-81E7-41DB-97C7-2D8CE42E2C8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8E1CB8D-CD9D-4237-A0DC-23478287A13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393F518-DCD3-4441-AED7-94061E66588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7FD4C43-133F-4FE5-AC6B-55615BF7306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F5A28FF-F43E-4686-9E17-92D10F82C06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B608E39-4BC6-4244-B5CD-B753E80CEEA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16C0680-C49B-422D-8148-0B543AE47EF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5205B4E-2FA9-48F9-8DBC-F7C5503A095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2379D7A-7440-482B-9E64-02CA00D330E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65832-3089-463C-B904-18DFB15E4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229340-4A78-4AD5-AD58-ADCF983950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5BF9708-C1B6-463A-B792-94CB0A1CFB0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22797-873D-4439-ACAA-9F76808A5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97276-500A-4437-8FA8-27F572323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A30BE-343F-48BA-B1CD-DD17E0CC6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477A81-2748-4B8C-9349-7F8387787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A8E603-E3AC-493B-8DC8-6626E86026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4EE7A0-66EC-4ADF-92C7-8F45FD38B2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D01C17-434D-4707-A4A3-D0FB041784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F3371-65A7-4217-A157-E69DFCA964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2D39FC-618F-4DBE-9005-6DF8CBD5D0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1BA6E-F768-4A72-B268-1F212AEFD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2E5AA-CE13-4A52-873C-384277B40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5CAD4-1D06-4C80-A4E8-B23809091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76E7D7-9F8D-4B2A-82B7-6DBA299E8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991CF0-9AD0-4902-81E3-480374939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E53A0-2E60-4C2B-A634-A4F8ED48C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B1586-067B-4F07-805B-B08B783C2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52981-EBFF-4B72-B2AD-76CF226E8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5BC915-3B68-4823-B32F-CCF8AA279B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4454F7-86FC-4ED5-9406-0F7B9359F0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D9138E-63FB-4447-8DC1-AD0DDA2300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8B793-E27E-43F9-9E5F-C319FACFE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72C738-5ACD-40D4-9786-06577032A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46B42-40F9-4D2A-AEFF-BEE5B1AF89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90E2C6-EF62-4146-9CEB-C1509B430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0D8792-10FE-4F9F-BA91-66364F93BC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41A37E-B388-424C-B3DA-3156C984D0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E02CC-9407-4A26-BAB9-34EA5E4E2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9EA6B7-7A06-4E6F-BE8B-C4F35CFE9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77BB5-6D45-4258-A111-AD7291091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8E093E-4C34-4481-95F7-BAD4269223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DFC19F-7941-4C6B-8C91-660F341AB9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C3CD3-994A-42DE-BD0D-C1E3CE344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FA0A11-CBF6-422A-A9DD-5525546D20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F33307-3C27-4C50-9502-11C0AF2999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2AE86C-4ECD-482C-9EEA-EC99CDC4A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9AA0FC-402B-4448-AAEA-CFDFD81FE2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F9C2D2-B015-4B5C-9CD2-10574C0C08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4228B-F095-4D59-BEEE-D692DA0C0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B5766B-3103-4566-862F-E40BEEF857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3CCAF0-BDB3-40DF-B8A7-6FE69E95D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73DA33-4453-4E66-9ADB-357B6CF1E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4C5BA-5B62-4D6C-B24C-B026FC287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8F277-FC9C-4995-9800-0E7F12268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31507B-C1EB-42E4-AB60-19BD651FE1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D6E495-9EFE-4845-826A-FFD7B67A5C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FDA52A-F809-433B-A0C3-76F5C3315A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43DF20-65D7-4666-9A95-0327A49F21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152381-36C2-4256-9EE5-AFE9B1A065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1F961F-7C01-43E5-9E18-7D022ED73A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913227-4251-4E7A-BF35-323DD8F52B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ED94C6-B1D4-49AD-A9C8-7E46E625DA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DD42CB-519D-4707-A28D-72F29D5605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4F79CC-732F-470E-81C6-407827353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9EA26-B736-4CBE-A76F-0A9E5815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0EBBC4-EAF0-4DC9-A0DC-DEBC6FA85D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6B451B-DE31-4FA3-9203-244F91ABA5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3D08BE-7794-4451-AB69-BA2917C26C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A81A97-5A7B-4353-A7EF-FBA108D299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67F50C-7C04-4CD8-90D4-9E457ACC9E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79E963-AF2B-4A16-AD40-4B761447C3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2539C0-820C-46B2-99E3-13D58A3273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E61DC3-44EA-4471-AB60-DA4E18688F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00E712-E8A6-4A65-AE85-D009B30062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3888B1-10F9-488A-A651-E9947743A7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F5239-CFAC-40EF-B0EB-11A717477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2A52D3-D69A-4771-B006-CB4F784715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34DBDC-6DB1-46CC-8169-ED9B398421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71D9DE-04F8-44EC-A38E-879F3BB2A7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0B29B3-6ADA-4525-A880-760B5D5023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C317FF-2E58-4650-90C5-36FFB0911C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88EB5B-321A-424A-94D0-3284EDCC7F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F9086A-2BC1-4099-893C-8A99047252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5ECFB1-DD8D-42B1-9AAC-15F6DB35D1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CD8488-709B-4C7A-9A6C-D62FCAB2F6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C4A61F-E5BE-4217-88CA-70AE2A3C95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C1E5-96E1-4741-83B5-E46F78BD9D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E506-94E5-4C64-B3CE-875BEE6364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7926-6690-4504-B178-75AF686E02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FC00-FE4D-477C-9D36-1537A38C72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9D38-33BF-45B5-A094-49A57104B9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7459-B715-4B65-B2A7-466691343C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A435-1BB4-4224-8361-23C4C21CE2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3827-B37F-4073-AD6B-8157FA1029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CEF2-61AC-497E-B76F-51D04BF1B9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D5B4-E7B8-4162-B9C5-1AE2DEB667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9B6E-76DC-4153-B84B-72B74C132A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99DA-59C3-4C96-91A0-D833A3E45B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FB7D-D6F8-4B19-9A14-D7D15C9026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84FE-B5FE-4054-84A4-9951A08198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88A9-0DD3-4452-86A6-8D975D90D4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F8E1-7746-403C-BBC0-F1C6FFFC2D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3CB6-23FF-43B2-B3F3-233410E1EF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0EC8-F809-4246-A546-EDB85B2A54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C522-394E-4B27-9A18-FFCBF2B799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9259-8C1C-4565-ACE9-0663BACB9B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63A9-137E-483C-A75B-CFC7FFAE27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CFF8-FCA5-4E16-B58B-B21397019F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053A-DD37-4E63-AC6B-9AF95DF503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970E-38F5-4687-B9C0-A66120191A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6C9F-13F3-4CDA-A3AE-3F4D4E5CB8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69.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mailto:tkb@iris.edu" TargetMode="External"/><Relationship Id="rId5" Type="http://schemas.openxmlformats.org/officeDocument/2006/relationships/hyperlink" Target="http://www.iris.edu/hq/retm"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3" name="Picture 8" descr="IRIS_TMlogo.png"/>
          <p:cNvPicPr/>
          <p:nvPr/>
        </p:nvPicPr>
        <p:blipFill>
          <a:blip r:embed="rId1"/>
          <a:stretch/>
        </p:blipFill>
        <p:spPr>
          <a:xfrm>
            <a:off x="239760" y="76320"/>
            <a:ext cx="903240" cy="927000"/>
          </a:xfrm>
          <a:prstGeom prst="rect">
            <a:avLst/>
          </a:prstGeom>
          <a:ln w="0">
            <a:noFill/>
          </a:ln>
        </p:spPr>
      </p:pic>
      <p:sp>
        <p:nvSpPr>
          <p:cNvPr id="10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Viernes,  12 de Agosto, 2016, 01:26:35 UTC </a:t>
            </a:r>
            <a:endParaRPr b="0" lang="en-US" sz="1500" spc="-1" strike="noStrike">
              <a:solidFill>
                <a:srgbClr val="000000"/>
              </a:solidFill>
              <a:latin typeface="Arial"/>
            </a:endParaRPr>
          </a:p>
        </p:txBody>
      </p:sp>
      <p:sp>
        <p:nvSpPr>
          <p:cNvPr id="1035" name="TextBox 9"/>
          <p:cNvSpPr/>
          <p:nvPr/>
        </p:nvSpPr>
        <p:spPr>
          <a:xfrm>
            <a:off x="5867280" y="1185840"/>
            <a:ext cx="24386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Un gran terremoto estremeció el suroeste del Océano Pacífico 515,8 kilómetros (320,5 millas) al sureste de Vanuat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No hay informes de daños y no hay amenaza de tsunami.</a:t>
            </a:r>
            <a:endParaRPr b="0" lang="en-US" sz="1800" spc="-1" strike="noStrike">
              <a:solidFill>
                <a:srgbClr val="000000"/>
              </a:solidFill>
              <a:latin typeface="Arial"/>
            </a:endParaRPr>
          </a:p>
        </p:txBody>
      </p:sp>
      <p:pic>
        <p:nvPicPr>
          <p:cNvPr id="1036" name="Picture 2" descr=""/>
          <p:cNvPicPr/>
          <p:nvPr/>
        </p:nvPicPr>
        <p:blipFill>
          <a:blip r:embed="rId2"/>
          <a:stretch/>
        </p:blipFill>
        <p:spPr>
          <a:xfrm>
            <a:off x="457200" y="1185840"/>
            <a:ext cx="5257800" cy="554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8" name="Picture 12" descr="scale.jpg"/>
          <p:cNvPicPr/>
          <p:nvPr/>
        </p:nvPicPr>
        <p:blipFill>
          <a:blip r:embed="rId1"/>
          <a:stretch/>
        </p:blipFill>
        <p:spPr>
          <a:xfrm>
            <a:off x="380880" y="4137120"/>
            <a:ext cx="2127240" cy="2319120"/>
          </a:xfrm>
          <a:prstGeom prst="rect">
            <a:avLst/>
          </a:prstGeom>
          <a:ln w="0">
            <a:noFill/>
          </a:ln>
        </p:spPr>
      </p:pic>
      <p:sp>
        <p:nvSpPr>
          <p:cNvPr id="1039" name="TextBox 15"/>
          <p:cNvSpPr/>
          <p:nvPr/>
        </p:nvSpPr>
        <p:spPr>
          <a:xfrm>
            <a:off x="3962520" y="6400800"/>
            <a:ext cx="5181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r>
              <a:rPr b="0" i="1" lang="es-ES" sz="1400" spc="-1" strike="noStrike">
                <a:solidFill>
                  <a:srgbClr val="000000"/>
                </a:solidFill>
                <a:latin typeface="Arial"/>
              </a:rPr>
              <a:t> Intensidad de Movimiento Estimada del terremoto M7,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0" name="TextBox 15"/>
          <p:cNvSpPr/>
          <p:nvPr/>
        </p:nvSpPr>
        <p:spPr>
          <a:xfrm>
            <a:off x="243000" y="1079640"/>
            <a:ext cx="351792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modificación de la escala de intensidad de  Marcelli es una escala de doce niveles numeradas del  I al XII, que indican la severidad de los movimientos telúrico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No hay islas pobladas cercanas al epicentro.</a:t>
            </a:r>
            <a:endParaRPr b="0" lang="en-US" sz="1700" spc="-1" strike="noStrike">
              <a:solidFill>
                <a:srgbClr val="000000"/>
              </a:solidFill>
              <a:latin typeface="Arial"/>
            </a:endParaRPr>
          </a:p>
        </p:txBody>
      </p:sp>
      <p:pic>
        <p:nvPicPr>
          <p:cNvPr id="1041" name="Picture 8" descr="IRIS_TMlogo.png"/>
          <p:cNvPicPr/>
          <p:nvPr/>
        </p:nvPicPr>
        <p:blipFill>
          <a:blip r:embed="rId2"/>
          <a:stretch/>
        </p:blipFill>
        <p:spPr>
          <a:xfrm>
            <a:off x="239760" y="76320"/>
            <a:ext cx="903240" cy="927000"/>
          </a:xfrm>
          <a:prstGeom prst="rect">
            <a:avLst/>
          </a:prstGeom>
          <a:ln w="0">
            <a:noFill/>
          </a:ln>
        </p:spPr>
      </p:pic>
      <p:pic>
        <p:nvPicPr>
          <p:cNvPr id="1042" name="Picture 1" descr=""/>
          <p:cNvPicPr/>
          <p:nvPr/>
        </p:nvPicPr>
        <p:blipFill>
          <a:blip r:embed="rId3"/>
          <a:stretch/>
        </p:blipFill>
        <p:spPr>
          <a:xfrm>
            <a:off x="3884760" y="1447920"/>
            <a:ext cx="5130720" cy="4952880"/>
          </a:xfrm>
          <a:prstGeom prst="rect">
            <a:avLst/>
          </a:prstGeom>
          <a:ln w="0">
            <a:noFill/>
          </a:ln>
        </p:spPr>
      </p:pic>
      <p:sp>
        <p:nvSpPr>
          <p:cNvPr id="10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Viernes,  12 de Agosto, 2016, 01:26:35 UTC </a:t>
            </a:r>
            <a:endParaRPr b="0" lang="en-US" sz="1500" spc="-1" strike="noStrike">
              <a:solidFill>
                <a:srgbClr val="000000"/>
              </a:solidFill>
              <a:latin typeface="Arial"/>
            </a:endParaRPr>
          </a:p>
        </p:txBody>
      </p:sp>
      <p:sp>
        <p:nvSpPr>
          <p:cNvPr id="1044" name="TextBox 14"/>
          <p:cNvSpPr/>
          <p:nvPr/>
        </p:nvSpPr>
        <p:spPr>
          <a:xfrm>
            <a:off x="2576520" y="3505320"/>
            <a:ext cx="1538280" cy="28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Temblor Percibi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1045" name="TextBox 16"/>
          <p:cNvSpPr/>
          <p:nvPr/>
        </p:nvSpPr>
        <p:spPr>
          <a:xfrm>
            <a:off x="271440" y="3657600"/>
            <a:ext cx="323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1046" name="TextBox 15"/>
          <p:cNvSpPr/>
          <p:nvPr/>
        </p:nvSpPr>
        <p:spPr>
          <a:xfrm>
            <a:off x="152280" y="655020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7" name="Picture 1" descr=""/>
          <p:cNvPicPr/>
          <p:nvPr/>
        </p:nvPicPr>
        <p:blipFill>
          <a:blip r:embed="rId1"/>
          <a:srcRect l="0" t="1329" r="0" b="0"/>
          <a:stretch/>
        </p:blipFill>
        <p:spPr>
          <a:xfrm>
            <a:off x="3255840" y="914400"/>
            <a:ext cx="5810400" cy="5413320"/>
          </a:xfrm>
          <a:prstGeom prst="rect">
            <a:avLst/>
          </a:prstGeom>
          <a:ln w="0">
            <a:noFill/>
          </a:ln>
        </p:spPr>
      </p:pic>
      <p:sp>
        <p:nvSpPr>
          <p:cNvPr id="10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9" name="Picture 18" descr="IRIS_TMlogo.png"/>
          <p:cNvPicPr/>
          <p:nvPr/>
        </p:nvPicPr>
        <p:blipFill>
          <a:blip r:embed="rId2"/>
          <a:stretch/>
        </p:blipFill>
        <p:spPr>
          <a:xfrm>
            <a:off x="239760" y="76320"/>
            <a:ext cx="903240" cy="927000"/>
          </a:xfrm>
          <a:prstGeom prst="rect">
            <a:avLst/>
          </a:prstGeom>
          <a:ln w="0">
            <a:noFill/>
          </a:ln>
        </p:spPr>
      </p:pic>
      <p:sp>
        <p:nvSpPr>
          <p:cNvPr id="1050" name="TextBox 14"/>
          <p:cNvSpPr/>
          <p:nvPr/>
        </p:nvSpPr>
        <p:spPr>
          <a:xfrm>
            <a:off x="162000" y="990720"/>
            <a:ext cx="3173400" cy="58089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epicentro del terremoto del 12 de agosto, 2016 está marcado en este mapa de sismicidad que muestra los 3000 terremotos más recientes en la región circundante.</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s profundidades de los terremotos aumentan de este a oeste a través de la fosa de Tonga, donde la Placa del Pacífico se subduce por debajo de la Placa Australiana. Al otro lado del Norte de la fosa de Nuevas Hebrides, las profundidades de los terremotos aumentan de oeste a este, donde la Placa Australiana se subduce por debajo de la Placa del Pacífico.</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terremoto del 12 agosto ocurrió a lo largo de la Fosa de Nueva Hebrides, una característica topográfica asociada con un fallado de desgarre lateral izquierdo a lo largo de una falla de transformante que une las zonas de subducción</a:t>
            </a:r>
            <a:endParaRPr b="0" lang="en-US" sz="1400" spc="-1" strike="noStrike">
              <a:solidFill>
                <a:srgbClr val="000000"/>
              </a:solidFill>
              <a:latin typeface="Arial"/>
            </a:endParaRPr>
          </a:p>
        </p:txBody>
      </p:sp>
      <p:cxnSp>
        <p:nvCxnSpPr>
          <p:cNvPr id="1051" name="Straight Arrow Connector 20"/>
          <p:cNvCxnSpPr/>
          <p:nvPr/>
        </p:nvCxnSpPr>
        <p:spPr>
          <a:xfrm flipH="1" flipV="1">
            <a:off x="5314680" y="3688920"/>
            <a:ext cx="351360" cy="372240"/>
          </a:xfrm>
          <a:prstGeom prst="straightConnector1">
            <a:avLst/>
          </a:prstGeom>
          <a:ln w="19080">
            <a:solidFill>
              <a:srgbClr val="ffffff"/>
            </a:solidFill>
            <a:miter/>
            <a:tailEnd len="med" type="arrow" w="med"/>
          </a:ln>
        </p:spPr>
      </p:cxnSp>
      <p:pic>
        <p:nvPicPr>
          <p:cNvPr id="1052" name="Picture 28" descr=""/>
          <p:cNvPicPr/>
          <p:nvPr/>
        </p:nvPicPr>
        <p:blipFill>
          <a:blip r:embed="rId3"/>
          <a:srcRect l="0" t="0" r="64625" b="18755"/>
          <a:stretch/>
        </p:blipFill>
        <p:spPr>
          <a:xfrm>
            <a:off x="8516880" y="1090440"/>
            <a:ext cx="550800" cy="2667240"/>
          </a:xfrm>
          <a:prstGeom prst="rect">
            <a:avLst/>
          </a:prstGeom>
          <a:ln w="0">
            <a:noFill/>
          </a:ln>
        </p:spPr>
      </p:pic>
      <p:sp>
        <p:nvSpPr>
          <p:cNvPr id="1053" name="TextBox 16"/>
          <p:cNvSpPr/>
          <p:nvPr/>
        </p:nvSpPr>
        <p:spPr>
          <a:xfrm>
            <a:off x="7772400" y="3979800"/>
            <a:ext cx="129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ea typeface="Arial"/>
              </a:rPr>
              <a:t>Placa del Pacífico</a:t>
            </a:r>
            <a:endParaRPr b="0" lang="en-US" sz="2000" spc="-1" strike="noStrike">
              <a:solidFill>
                <a:srgbClr val="000000"/>
              </a:solidFill>
              <a:latin typeface="Arial"/>
            </a:endParaRPr>
          </a:p>
        </p:txBody>
      </p:sp>
      <p:sp>
        <p:nvSpPr>
          <p:cNvPr id="1054" name="TextBox 30"/>
          <p:cNvSpPr/>
          <p:nvPr/>
        </p:nvSpPr>
        <p:spPr>
          <a:xfrm>
            <a:off x="3506760" y="4400640"/>
            <a:ext cx="13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ea typeface="Arial"/>
              </a:rPr>
              <a:t>Placa de Australia</a:t>
            </a:r>
            <a:endParaRPr b="0" lang="en-US" sz="2000" spc="-1" strike="noStrike">
              <a:solidFill>
                <a:srgbClr val="000000"/>
              </a:solidFill>
              <a:latin typeface="Arial"/>
            </a:endParaRPr>
          </a:p>
        </p:txBody>
      </p:sp>
      <p:sp>
        <p:nvSpPr>
          <p:cNvPr id="1055" name="TextBox 16"/>
          <p:cNvSpPr/>
          <p:nvPr/>
        </p:nvSpPr>
        <p:spPr>
          <a:xfrm>
            <a:off x="3255840" y="6373800"/>
            <a:ext cx="5769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Mapa creado usando el Navegador de Terremotos de IR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6" name="TextBox 33"/>
          <p:cNvSpPr/>
          <p:nvPr/>
        </p:nvSpPr>
        <p:spPr>
          <a:xfrm>
            <a:off x="7726320" y="4786200"/>
            <a:ext cx="106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ea typeface="Arial"/>
              </a:rPr>
              <a:t>Fosa de Tong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057" name="Straight Arrow Connector 34"/>
          <p:cNvCxnSpPr/>
          <p:nvPr/>
        </p:nvCxnSpPr>
        <p:spPr>
          <a:xfrm flipH="1" flipV="1">
            <a:off x="7391160" y="4784400"/>
            <a:ext cx="381600" cy="224640"/>
          </a:xfrm>
          <a:prstGeom prst="straightConnector1">
            <a:avLst/>
          </a:prstGeom>
          <a:ln w="28440">
            <a:solidFill>
              <a:srgbClr val="ffffff"/>
            </a:solidFill>
            <a:miter/>
            <a:tailEnd len="med" type="triangle" w="med"/>
          </a:ln>
        </p:spPr>
      </p:cxnSp>
      <p:sp>
        <p:nvSpPr>
          <p:cNvPr id="1058" name="TextBox 12"/>
          <p:cNvSpPr/>
          <p:nvPr/>
        </p:nvSpPr>
        <p:spPr>
          <a:xfrm>
            <a:off x="4486320" y="4043520"/>
            <a:ext cx="1747800" cy="45900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7.2   12 de Agosto, 2016</a:t>
            </a:r>
            <a:endParaRPr b="0" lang="en-US" sz="1200" spc="-1" strike="noStrike">
              <a:solidFill>
                <a:srgbClr val="000000"/>
              </a:solidFill>
              <a:latin typeface="Arial"/>
            </a:endParaRPr>
          </a:p>
        </p:txBody>
      </p:sp>
      <p:pic>
        <p:nvPicPr>
          <p:cNvPr id="1059" name="Picture 2" descr=""/>
          <p:cNvPicPr/>
          <p:nvPr/>
        </p:nvPicPr>
        <p:blipFill>
          <a:blip r:embed="rId4"/>
          <a:srcRect l="0" t="0" r="1418" b="14391"/>
          <a:stretch/>
        </p:blipFill>
        <p:spPr>
          <a:xfrm>
            <a:off x="3349800" y="5778360"/>
            <a:ext cx="1422360" cy="470160"/>
          </a:xfrm>
          <a:prstGeom prst="rect">
            <a:avLst/>
          </a:prstGeom>
          <a:ln w="0">
            <a:noFill/>
          </a:ln>
        </p:spPr>
      </p:pic>
      <p:sp>
        <p:nvSpPr>
          <p:cNvPr id="1060" name="TextBox 33"/>
          <p:cNvSpPr/>
          <p:nvPr/>
        </p:nvSpPr>
        <p:spPr>
          <a:xfrm>
            <a:off x="4114800" y="1219320"/>
            <a:ext cx="3200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ea typeface="Arial"/>
              </a:rPr>
              <a:t>Norte de la Fosa de Nueva Hebrides</a:t>
            </a:r>
            <a:endParaRPr b="0" lang="en-US" sz="1600" spc="-1" strike="noStrike">
              <a:solidFill>
                <a:srgbClr val="000000"/>
              </a:solidFill>
              <a:latin typeface="Arial"/>
            </a:endParaRPr>
          </a:p>
        </p:txBody>
      </p:sp>
      <p:cxnSp>
        <p:nvCxnSpPr>
          <p:cNvPr id="1061" name="Straight Arrow Connector 22"/>
          <p:cNvCxnSpPr/>
          <p:nvPr/>
        </p:nvCxnSpPr>
        <p:spPr>
          <a:xfrm flipH="1">
            <a:off x="3979440" y="1419120"/>
            <a:ext cx="440640" cy="486720"/>
          </a:xfrm>
          <a:prstGeom prst="straightConnector1">
            <a:avLst/>
          </a:prstGeom>
          <a:ln w="28440">
            <a:solidFill>
              <a:srgbClr val="ffffff"/>
            </a:solidFill>
            <a:miter/>
            <a:tailEnd len="med" type="triangle" w="med"/>
          </a:ln>
        </p:spPr>
      </p:cxnSp>
      <p:sp>
        <p:nvSpPr>
          <p:cNvPr id="1062" name="TextBox 9"/>
          <p:cNvSpPr/>
          <p:nvPr/>
        </p:nvSpPr>
        <p:spPr>
          <a:xfrm rot="1617000">
            <a:off x="4222080" y="3629160"/>
            <a:ext cx="77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ea typeface="Arial"/>
              </a:rPr>
              <a:t>Fosa  de</a:t>
            </a:r>
            <a:endParaRPr b="0" lang="en-US" sz="1200" spc="-1" strike="noStrike">
              <a:solidFill>
                <a:srgbClr val="000000"/>
              </a:solidFill>
              <a:latin typeface="Arial"/>
            </a:endParaRPr>
          </a:p>
        </p:txBody>
      </p:sp>
      <p:sp>
        <p:nvSpPr>
          <p:cNvPr id="1063" name="TextBox 10"/>
          <p:cNvSpPr/>
          <p:nvPr/>
        </p:nvSpPr>
        <p:spPr>
          <a:xfrm>
            <a:off x="4894920" y="375300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ea typeface="Arial"/>
              </a:rPr>
              <a:t>Nueva </a:t>
            </a:r>
            <a:endParaRPr b="0" lang="en-US" sz="1200" spc="-1" strike="noStrike">
              <a:solidFill>
                <a:srgbClr val="000000"/>
              </a:solidFill>
              <a:latin typeface="Arial"/>
            </a:endParaRPr>
          </a:p>
        </p:txBody>
      </p:sp>
      <p:sp>
        <p:nvSpPr>
          <p:cNvPr id="1064" name="TextBox 11"/>
          <p:cNvSpPr/>
          <p:nvPr/>
        </p:nvSpPr>
        <p:spPr>
          <a:xfrm rot="19544400">
            <a:off x="5367960" y="355284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ebrides</a:t>
            </a:r>
            <a:endParaRPr b="0" lang="en-US" sz="1200" spc="-1" strike="noStrike">
              <a:solidFill>
                <a:srgbClr val="000000"/>
              </a:solidFill>
              <a:latin typeface="Arial"/>
            </a:endParaRPr>
          </a:p>
        </p:txBody>
      </p:sp>
      <p:sp>
        <p:nvSpPr>
          <p:cNvPr id="10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Viernes,  12 de Agosto, 2016, 01:26: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7" name="Picture 18" descr="IRIS_TMlogo.png"/>
          <p:cNvPicPr/>
          <p:nvPr/>
        </p:nvPicPr>
        <p:blipFill>
          <a:blip r:embed="rId1"/>
          <a:stretch/>
        </p:blipFill>
        <p:spPr>
          <a:xfrm>
            <a:off x="239760" y="76320"/>
            <a:ext cx="903240" cy="927000"/>
          </a:xfrm>
          <a:prstGeom prst="rect">
            <a:avLst/>
          </a:prstGeom>
          <a:ln w="0">
            <a:noFill/>
          </a:ln>
        </p:spPr>
      </p:pic>
      <p:sp>
        <p:nvSpPr>
          <p:cNvPr id="1068" name="TextBox 8"/>
          <p:cNvSpPr/>
          <p:nvPr/>
        </p:nvSpPr>
        <p:spPr>
          <a:xfrm>
            <a:off x="4191120" y="4876920"/>
            <a:ext cx="494172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s sombreadas muestran el cuadrante de la esfera focal en la cual los primeros movimientos de las ondas P cuando se alejan de la fuente, y las áreas sin sombra muestran los cuadrantes en la cual los primeros movimientos de las ondas P se acercan a la fuente. Los puntos representan los ejes de máximo esfuerzo de compresión (en negro, llamado el "eje P") y el eje de máximo esfuerzo extensional (en blanco, llamado “eje T") como resultado del terremoto.</a:t>
            </a:r>
            <a:endParaRPr b="0" lang="en-US" sz="1200" spc="-1" strike="noStrike">
              <a:solidFill>
                <a:srgbClr val="000000"/>
              </a:solidFill>
              <a:latin typeface="Arial"/>
            </a:endParaRPr>
          </a:p>
        </p:txBody>
      </p:sp>
      <p:sp>
        <p:nvSpPr>
          <p:cNvPr id="1069" name="TextBox 11"/>
          <p:cNvSpPr/>
          <p:nvPr/>
        </p:nvSpPr>
        <p:spPr>
          <a:xfrm>
            <a:off x="304920" y="647712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USGS fase - W Solución del Tensor Momento Sísmico</a:t>
            </a:r>
            <a:endParaRPr b="0" lang="en-US" sz="1200" spc="-1" strike="noStrike">
              <a:solidFill>
                <a:srgbClr val="000000"/>
              </a:solidFill>
              <a:latin typeface="Arial"/>
            </a:endParaRPr>
          </a:p>
        </p:txBody>
      </p:sp>
      <p:sp>
        <p:nvSpPr>
          <p:cNvPr id="1070" name="TextBox 7"/>
          <p:cNvSpPr/>
          <p:nvPr/>
        </p:nvSpPr>
        <p:spPr>
          <a:xfrm>
            <a:off x="244440" y="1066680"/>
            <a:ext cx="4938840" cy="149076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solución mecanismo focal indica movimiento en una falla de desgarre. Al sur del extremo Norte de la Fosa de Nueva Hebrides, el límite de placa se curva hacia el este dentro de una estructura oceánica similar a una transformante.</a:t>
            </a:r>
            <a:endParaRPr b="0" lang="en-US" sz="1700" spc="-1" strike="noStrike">
              <a:solidFill>
                <a:srgbClr val="000000"/>
              </a:solidFill>
              <a:latin typeface="Arial"/>
            </a:endParaRPr>
          </a:p>
        </p:txBody>
      </p:sp>
      <p:pic>
        <p:nvPicPr>
          <p:cNvPr id="1071" name="Picture 1" descr=""/>
          <p:cNvPicPr/>
          <p:nvPr/>
        </p:nvPicPr>
        <p:blipFill>
          <a:blip r:embed="rId2"/>
          <a:stretch/>
        </p:blipFill>
        <p:spPr>
          <a:xfrm>
            <a:off x="304920" y="4417920"/>
            <a:ext cx="2514600" cy="2059200"/>
          </a:xfrm>
          <a:prstGeom prst="rect">
            <a:avLst/>
          </a:prstGeom>
          <a:ln w="0">
            <a:noFill/>
          </a:ln>
        </p:spPr>
      </p:pic>
      <p:pic>
        <p:nvPicPr>
          <p:cNvPr id="1072" name="Picture 2" descr=""/>
          <p:cNvPicPr/>
          <p:nvPr/>
        </p:nvPicPr>
        <p:blipFill>
          <a:blip r:embed="rId3"/>
          <a:stretch/>
        </p:blipFill>
        <p:spPr>
          <a:xfrm>
            <a:off x="1450800" y="2736720"/>
            <a:ext cx="3326040" cy="1609920"/>
          </a:xfrm>
          <a:prstGeom prst="rect">
            <a:avLst/>
          </a:prstGeom>
          <a:ln w="0">
            <a:noFill/>
          </a:ln>
        </p:spPr>
      </p:pic>
      <p:pic>
        <p:nvPicPr>
          <p:cNvPr id="1073" name="Picture 4" descr=""/>
          <p:cNvPicPr/>
          <p:nvPr/>
        </p:nvPicPr>
        <p:blipFill>
          <a:blip r:embed="rId4"/>
          <a:stretch/>
        </p:blipFill>
        <p:spPr>
          <a:xfrm>
            <a:off x="5100480" y="685800"/>
            <a:ext cx="3824280" cy="4062240"/>
          </a:xfrm>
          <a:prstGeom prst="rect">
            <a:avLst/>
          </a:prstGeom>
          <a:ln w="0">
            <a:noFill/>
          </a:ln>
        </p:spPr>
      </p:pic>
      <p:sp>
        <p:nvSpPr>
          <p:cNvPr id="1074" name="5-Point Star 5"/>
          <p:cNvSpPr/>
          <p:nvPr/>
        </p:nvSpPr>
        <p:spPr>
          <a:xfrm>
            <a:off x="7835760" y="3340080"/>
            <a:ext cx="317520" cy="317520"/>
          </a:xfrm>
          <a:custGeom>
            <a:avLst/>
            <a:gdLst/>
            <a:ahLst/>
            <a:rect l="l" t="t" r="r" b="b"/>
            <a:pathLst>
              <a:path w="317500" h="317500">
                <a:moveTo>
                  <a:pt x="0" y="121274"/>
                </a:moveTo>
                <a:lnTo>
                  <a:pt x="121275" y="121275"/>
                </a:lnTo>
                <a:lnTo>
                  <a:pt x="158750" y="0"/>
                </a:lnTo>
                <a:lnTo>
                  <a:pt x="196225" y="121275"/>
                </a:lnTo>
                <a:lnTo>
                  <a:pt x="317500" y="121274"/>
                </a:lnTo>
                <a:lnTo>
                  <a:pt x="219386" y="196225"/>
                </a:lnTo>
                <a:lnTo>
                  <a:pt x="256863" y="317499"/>
                </a:lnTo>
                <a:lnTo>
                  <a:pt x="158750" y="242547"/>
                </a:lnTo>
                <a:lnTo>
                  <a:pt x="60637" y="317499"/>
                </a:lnTo>
                <a:lnTo>
                  <a:pt x="98114" y="196225"/>
                </a:lnTo>
                <a:lnTo>
                  <a:pt x="0" y="121274"/>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Viernes,  12 de Agosto, 2016, 01:26: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6" name="Picture 1" descr=""/>
          <p:cNvPicPr/>
          <p:nvPr/>
        </p:nvPicPr>
        <p:blipFill>
          <a:blip r:embed="rId1"/>
          <a:stretch/>
        </p:blipFill>
        <p:spPr>
          <a:xfrm>
            <a:off x="3639960" y="1204920"/>
            <a:ext cx="5391360" cy="4735440"/>
          </a:xfrm>
          <a:prstGeom prst="rect">
            <a:avLst/>
          </a:prstGeom>
          <a:ln w="0">
            <a:noFill/>
          </a:ln>
        </p:spPr>
      </p:pic>
      <p:sp>
        <p:nvSpPr>
          <p:cNvPr id="107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Box 15"/>
          <p:cNvSpPr/>
          <p:nvPr/>
        </p:nvSpPr>
        <p:spPr>
          <a:xfrm>
            <a:off x="214200" y="1295280"/>
            <a:ext cx="3517920" cy="47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ubicación de los terremotos ocurridos entre 1900 y 2014 se muestran en este mapa tectónico del limite de placa convergente Australia - Pacífico en el suroeste del Océano Pacífic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Placa del Pacífico se subduce por debajo de la Placa de Australia en la Fosa de Tonga, mientras que la  Placa Australiana se subduce por debajo de la Placa del Pacífico en el extremo norte de la Fosa de Nueva Hebrides. El terremoto del 12 de agosto ocurrió en una falla transformante  lateral izquierda que se conecta entre estas zonas de subducción.</a:t>
            </a:r>
            <a:endParaRPr b="0" lang="en-US" sz="1700" spc="-1" strike="noStrike">
              <a:solidFill>
                <a:srgbClr val="000000"/>
              </a:solidFill>
              <a:latin typeface="Arial"/>
            </a:endParaRPr>
          </a:p>
        </p:txBody>
      </p:sp>
      <p:pic>
        <p:nvPicPr>
          <p:cNvPr id="1079" name="Picture 8" descr="IRIS_TMlogo.png"/>
          <p:cNvPicPr/>
          <p:nvPr/>
        </p:nvPicPr>
        <p:blipFill>
          <a:blip r:embed="rId2"/>
          <a:stretch/>
        </p:blipFill>
        <p:spPr>
          <a:xfrm>
            <a:off x="239760" y="76320"/>
            <a:ext cx="903240" cy="927000"/>
          </a:xfrm>
          <a:prstGeom prst="rect">
            <a:avLst/>
          </a:prstGeom>
          <a:ln w="0">
            <a:noFill/>
          </a:ln>
        </p:spPr>
      </p:pic>
      <p:cxnSp>
        <p:nvCxnSpPr>
          <p:cNvPr id="1080" name="Straight Arrow Connector 24"/>
          <p:cNvCxnSpPr/>
          <p:nvPr/>
        </p:nvCxnSpPr>
        <p:spPr>
          <a:xfrm flipV="1">
            <a:off x="5714640" y="3331440"/>
            <a:ext cx="135720" cy="322920"/>
          </a:xfrm>
          <a:prstGeom prst="straightConnector1">
            <a:avLst/>
          </a:prstGeom>
          <a:ln w="31680">
            <a:solidFill>
              <a:srgbClr val="ff0000"/>
            </a:solidFill>
            <a:miter/>
            <a:tailEnd len="med" type="triangle" w="med"/>
          </a:ln>
        </p:spPr>
      </p:cxnSp>
      <p:pic>
        <p:nvPicPr>
          <p:cNvPr id="1081" name="Picture 2" descr=""/>
          <p:cNvPicPr/>
          <p:nvPr/>
        </p:nvPicPr>
        <p:blipFill>
          <a:blip r:embed="rId3"/>
          <a:stretch/>
        </p:blipFill>
        <p:spPr>
          <a:xfrm>
            <a:off x="3917880" y="1346040"/>
            <a:ext cx="4919760" cy="425520"/>
          </a:xfrm>
          <a:prstGeom prst="rect">
            <a:avLst/>
          </a:prstGeom>
          <a:ln w="0">
            <a:noFill/>
          </a:ln>
        </p:spPr>
      </p:pic>
      <p:sp>
        <p:nvSpPr>
          <p:cNvPr id="1082" name="Straight Connector 5"/>
          <p:cNvSpPr/>
          <p:nvPr/>
        </p:nvSpPr>
        <p:spPr>
          <a:xfrm flipV="1">
            <a:off x="5688000" y="2437920"/>
            <a:ext cx="129528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83" name="Straight Arrow Connector 8"/>
          <p:cNvCxnSpPr/>
          <p:nvPr/>
        </p:nvCxnSpPr>
        <p:spPr>
          <a:xfrm flipH="1">
            <a:off x="6145920" y="2660400"/>
            <a:ext cx="337320" cy="229320"/>
          </a:xfrm>
          <a:prstGeom prst="straightConnector1">
            <a:avLst/>
          </a:prstGeom>
          <a:ln w="19080">
            <a:solidFill>
              <a:srgbClr val="000000"/>
            </a:solidFill>
            <a:miter/>
            <a:tailEnd len="med" type="triangle" w="med"/>
          </a:ln>
        </p:spPr>
      </p:cxnSp>
      <p:cxnSp>
        <p:nvCxnSpPr>
          <p:cNvPr id="1084" name="Straight Arrow Connector 34"/>
          <p:cNvCxnSpPr/>
          <p:nvPr/>
        </p:nvCxnSpPr>
        <p:spPr>
          <a:xfrm flipV="1">
            <a:off x="6259680" y="2764800"/>
            <a:ext cx="336600" cy="229320"/>
          </a:xfrm>
          <a:prstGeom prst="straightConnector1">
            <a:avLst/>
          </a:prstGeom>
          <a:ln w="19080">
            <a:solidFill>
              <a:srgbClr val="000000"/>
            </a:solidFill>
            <a:miter/>
            <a:tailEnd len="med" type="triangle" w="med"/>
          </a:ln>
        </p:spPr>
      </p:cxnSp>
      <p:pic>
        <p:nvPicPr>
          <p:cNvPr id="1085" name="Picture 12" descr=""/>
          <p:cNvPicPr/>
          <p:nvPr/>
        </p:nvPicPr>
        <p:blipFill>
          <a:blip r:embed="rId4"/>
          <a:srcRect l="4528" t="40205" r="13289" b="25465"/>
          <a:stretch/>
        </p:blipFill>
        <p:spPr>
          <a:xfrm>
            <a:off x="4552920" y="4419720"/>
            <a:ext cx="1390680" cy="914400"/>
          </a:xfrm>
          <a:prstGeom prst="rect">
            <a:avLst/>
          </a:prstGeom>
          <a:ln w="0">
            <a:noFill/>
          </a:ln>
        </p:spPr>
      </p:pic>
      <p:pic>
        <p:nvPicPr>
          <p:cNvPr id="1086" name="Picture 37" descr=""/>
          <p:cNvPicPr/>
          <p:nvPr/>
        </p:nvPicPr>
        <p:blipFill>
          <a:blip r:embed="rId5"/>
          <a:stretch/>
        </p:blipFill>
        <p:spPr>
          <a:xfrm>
            <a:off x="3913200" y="4621320"/>
            <a:ext cx="639720" cy="639720"/>
          </a:xfrm>
          <a:prstGeom prst="rect">
            <a:avLst/>
          </a:prstGeom>
          <a:ln w="0">
            <a:noFill/>
          </a:ln>
        </p:spPr>
      </p:pic>
      <p:sp>
        <p:nvSpPr>
          <p:cNvPr id="1087" name="5-Point Star 20"/>
          <p:cNvSpPr/>
          <p:nvPr/>
        </p:nvSpPr>
        <p:spPr>
          <a:xfrm>
            <a:off x="5688000" y="2971800"/>
            <a:ext cx="324000" cy="324000"/>
          </a:xfrm>
          <a:custGeom>
            <a:avLst/>
            <a:gdLst/>
            <a:ahLst/>
            <a:rect l="l" t="t" r="r" b="b"/>
            <a:pathLst>
              <a:path w="323850" h="323850">
                <a:moveTo>
                  <a:pt x="0" y="123699"/>
                </a:moveTo>
                <a:lnTo>
                  <a:pt x="123700" y="123700"/>
                </a:lnTo>
                <a:lnTo>
                  <a:pt x="161925" y="0"/>
                </a:lnTo>
                <a:lnTo>
                  <a:pt x="200150" y="123700"/>
                </a:lnTo>
                <a:lnTo>
                  <a:pt x="323850" y="123699"/>
                </a:lnTo>
                <a:lnTo>
                  <a:pt x="223774" y="200149"/>
                </a:lnTo>
                <a:lnTo>
                  <a:pt x="262000" y="323849"/>
                </a:lnTo>
                <a:lnTo>
                  <a:pt x="161925" y="247398"/>
                </a:lnTo>
                <a:lnTo>
                  <a:pt x="61850" y="323849"/>
                </a:lnTo>
                <a:lnTo>
                  <a:pt x="100076" y="200149"/>
                </a:lnTo>
                <a:lnTo>
                  <a:pt x="0" y="123699"/>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 name="TextBox 22"/>
          <p:cNvSpPr/>
          <p:nvPr/>
        </p:nvSpPr>
        <p:spPr>
          <a:xfrm>
            <a:off x="4624200" y="3635280"/>
            <a:ext cx="2158920" cy="368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de Agosto, 2016</a:t>
            </a:r>
            <a:endParaRPr b="0" lang="en-US" sz="1800" spc="-1" strike="noStrike">
              <a:solidFill>
                <a:srgbClr val="000000"/>
              </a:solidFill>
              <a:latin typeface="Arial"/>
            </a:endParaRPr>
          </a:p>
        </p:txBody>
      </p:sp>
      <p:sp>
        <p:nvSpPr>
          <p:cNvPr id="108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Viernes,  12 de Agosto, 2016, 01:26:35 UTC </a:t>
            </a:r>
            <a:endParaRPr b="0" lang="en-US" sz="1500" spc="-1" strike="noStrike">
              <a:solidFill>
                <a:srgbClr val="000000"/>
              </a:solidFill>
              <a:latin typeface="Arial"/>
            </a:endParaRPr>
          </a:p>
        </p:txBody>
      </p:sp>
      <p:sp>
        <p:nvSpPr>
          <p:cNvPr id="1090" name="TextBox 15"/>
          <p:cNvSpPr/>
          <p:nvPr/>
        </p:nvSpPr>
        <p:spPr>
          <a:xfrm>
            <a:off x="3911760" y="5950080"/>
            <a:ext cx="45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Picture 1" descr=""/>
          <p:cNvPicPr/>
          <p:nvPr/>
        </p:nvPicPr>
        <p:blipFill>
          <a:blip r:embed="rId1"/>
          <a:stretch/>
        </p:blipFill>
        <p:spPr>
          <a:xfrm>
            <a:off x="960480" y="1351080"/>
            <a:ext cx="6900840" cy="5486400"/>
          </a:xfrm>
          <a:prstGeom prst="rect">
            <a:avLst/>
          </a:prstGeom>
          <a:ln w="0">
            <a:noFill/>
          </a:ln>
        </p:spPr>
      </p:pic>
      <p:sp>
        <p:nvSpPr>
          <p:cNvPr id="109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3" name="Picture 18" descr="IRIS_TMlogo.png"/>
          <p:cNvPicPr/>
          <p:nvPr/>
        </p:nvPicPr>
        <p:blipFill>
          <a:blip r:embed="rId2"/>
          <a:stretch/>
        </p:blipFill>
        <p:spPr>
          <a:xfrm>
            <a:off x="239760" y="76320"/>
            <a:ext cx="903240" cy="927000"/>
          </a:xfrm>
          <a:prstGeom prst="rect">
            <a:avLst/>
          </a:prstGeom>
          <a:ln w="0">
            <a:noFill/>
          </a:ln>
        </p:spPr>
      </p:pic>
      <p:sp>
        <p:nvSpPr>
          <p:cNvPr id="1094" name="TextBox 4"/>
          <p:cNvSpPr/>
          <p:nvPr/>
        </p:nvSpPr>
        <p:spPr>
          <a:xfrm>
            <a:off x="1905120" y="1347840"/>
            <a:ext cx="67640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s el terremoto, las ondas de compresión P se tardaron 13 minutos en recorrer una trayectoria curva a través del manto hasta  Bend, Oregón.</a:t>
            </a:r>
            <a:endParaRPr b="0" lang="en-US" sz="1400" spc="-1" strike="noStrike">
              <a:solidFill>
                <a:srgbClr val="000000"/>
              </a:solidFill>
              <a:latin typeface="Arial"/>
            </a:endParaRPr>
          </a:p>
        </p:txBody>
      </p:sp>
      <p:sp>
        <p:nvSpPr>
          <p:cNvPr id="1095" name="TextBox 7"/>
          <p:cNvSpPr/>
          <p:nvPr/>
        </p:nvSpPr>
        <p:spPr>
          <a:xfrm>
            <a:off x="1371600" y="752400"/>
            <a:ext cx="6332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registro del terremoto en Bend, Oregón (BNOR) es ilustrado en la parte inferior. Bend se encuentra a </a:t>
            </a:r>
            <a:r>
              <a:rPr b="0" lang="en-US" sz="1200" spc="-1" strike="noStrike">
                <a:solidFill>
                  <a:srgbClr val="000000"/>
                </a:solidFill>
                <a:latin typeface="Arial"/>
                <a:ea typeface="Arial"/>
              </a:rPr>
              <a:t>9960 km </a:t>
            </a:r>
            <a:r>
              <a:rPr b="0" lang="es-VE" sz="1200" spc="-1" strike="noStrike">
                <a:solidFill>
                  <a:srgbClr val="000000"/>
                </a:solidFill>
                <a:latin typeface="Arial"/>
              </a:rPr>
              <a:t>(6189 millas, 89.5°) de la ubicación del terremoto.</a:t>
            </a:r>
            <a:endParaRPr b="0" lang="en-US" sz="1200" spc="-1" strike="noStrike">
              <a:solidFill>
                <a:srgbClr val="000000"/>
              </a:solidFill>
              <a:latin typeface="Arial"/>
            </a:endParaRPr>
          </a:p>
        </p:txBody>
      </p:sp>
      <p:sp>
        <p:nvSpPr>
          <p:cNvPr id="1096" name="TextBox 6"/>
          <p:cNvSpPr/>
          <p:nvPr/>
        </p:nvSpPr>
        <p:spPr>
          <a:xfrm>
            <a:off x="1600200" y="4923000"/>
            <a:ext cx="678168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superficiales viajaron 9960 km (6189 millas) a lo largo del perímetro de la Tierra desde el terremoto hasta la estación de registro. Las ondas de superficie empezaron a llegar a Bend 47 minutos después de que terremoto ocurrió en Nueva Caledonia</a:t>
            </a:r>
            <a:r>
              <a:rPr b="0" lang="es-ES" sz="1400" spc="-1" strike="noStrike">
                <a:solidFill>
                  <a:srgbClr val="000000"/>
                </a:solidFill>
                <a:latin typeface="Arial"/>
              </a:rPr>
              <a:t>.</a:t>
            </a:r>
            <a:endParaRPr b="0" lang="en-US" sz="1400" spc="-1" strike="noStrike">
              <a:solidFill>
                <a:srgbClr val="000000"/>
              </a:solidFill>
              <a:latin typeface="Arial"/>
            </a:endParaRPr>
          </a:p>
        </p:txBody>
      </p:sp>
      <p:sp>
        <p:nvSpPr>
          <p:cNvPr id="1097" name="TextBox 9"/>
          <p:cNvSpPr/>
          <p:nvPr/>
        </p:nvSpPr>
        <p:spPr>
          <a:xfrm>
            <a:off x="1523880" y="4114800"/>
            <a:ext cx="6858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S son ondas cortantes que siguen la misma trayectoria a través del manto como las ondas P</a:t>
            </a:r>
            <a:r>
              <a:rPr b="0" lang="en-US" sz="1400" spc="-1" strike="noStrike">
                <a:solidFill>
                  <a:srgbClr val="000000"/>
                </a:solidFill>
                <a:latin typeface="Arial"/>
              </a:rPr>
              <a:t>. </a:t>
            </a:r>
            <a:r>
              <a:rPr b="0" lang="es-ES" sz="1400" spc="-1" strike="noStrike">
                <a:solidFill>
                  <a:srgbClr val="000000"/>
                </a:solidFill>
                <a:latin typeface="Arial"/>
              </a:rPr>
              <a:t>Las ondas S se tomaron 23 minutos y 53 segundos  en viajar desde el terremoto hasta Bend.</a:t>
            </a:r>
            <a:endParaRPr b="0" lang="en-US" sz="1400" spc="-1" strike="noStrike">
              <a:solidFill>
                <a:srgbClr val="000000"/>
              </a:solidFill>
              <a:latin typeface="Arial"/>
            </a:endParaRPr>
          </a:p>
        </p:txBody>
      </p:sp>
      <p:sp>
        <p:nvSpPr>
          <p:cNvPr id="1098" name="TextBox 4"/>
          <p:cNvSpPr/>
          <p:nvPr/>
        </p:nvSpPr>
        <p:spPr>
          <a:xfrm>
            <a:off x="2401920" y="214488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1099" name="TextBox 11"/>
          <p:cNvSpPr/>
          <p:nvPr/>
        </p:nvSpPr>
        <p:spPr>
          <a:xfrm>
            <a:off x="3474360" y="205740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1100" name="TextBox 11"/>
          <p:cNvSpPr/>
          <p:nvPr/>
        </p:nvSpPr>
        <p:spPr>
          <a:xfrm>
            <a:off x="5410080" y="217008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rface Waves</a:t>
            </a:r>
            <a:endParaRPr b="0" lang="en-US" sz="1800" spc="-1" strike="noStrike">
              <a:solidFill>
                <a:srgbClr val="000000"/>
              </a:solidFill>
              <a:latin typeface="Arial"/>
            </a:endParaRPr>
          </a:p>
        </p:txBody>
      </p:sp>
      <p:sp>
        <p:nvSpPr>
          <p:cNvPr id="1101" name="TextBox 5"/>
          <p:cNvSpPr/>
          <p:nvPr/>
        </p:nvSpPr>
        <p:spPr>
          <a:xfrm>
            <a:off x="2057400" y="3429000"/>
            <a:ext cx="6324480" cy="68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ea typeface="Arial"/>
              </a:rPr>
              <a:t>PP es una de compresión </a:t>
            </a:r>
            <a:r>
              <a:rPr b="0" lang="es-VE" sz="1300" spc="-1" strike="noStrike">
                <a:solidFill>
                  <a:srgbClr val="000000"/>
                </a:solidFill>
                <a:latin typeface="Arial"/>
              </a:rPr>
              <a:t>que dejó el terremoto y viajó sobre la superficie de la Tierra y luego rebotó en la superficie y viajó a través del manto hasta la estación de registro.</a:t>
            </a:r>
            <a:endParaRPr b="0" lang="en-US" sz="1300" spc="-1" strike="noStrike">
              <a:solidFill>
                <a:srgbClr val="000000"/>
              </a:solidFill>
              <a:latin typeface="Arial"/>
            </a:endParaRPr>
          </a:p>
        </p:txBody>
      </p:sp>
      <p:sp>
        <p:nvSpPr>
          <p:cNvPr id="1102" name="TextBox 4"/>
          <p:cNvSpPr/>
          <p:nvPr/>
        </p:nvSpPr>
        <p:spPr>
          <a:xfrm>
            <a:off x="2702160" y="205740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P</a:t>
            </a:r>
            <a:endParaRPr b="0" lang="en-US" sz="1800" spc="-1" strike="noStrike">
              <a:solidFill>
                <a:srgbClr val="000000"/>
              </a:solidFill>
              <a:latin typeface="Arial"/>
            </a:endParaRPr>
          </a:p>
        </p:txBody>
      </p:sp>
      <p:sp>
        <p:nvSpPr>
          <p:cNvPr id="1103" name="Straight Connector 4"/>
          <p:cNvSpPr/>
          <p:nvPr/>
        </p:nvSpPr>
        <p:spPr>
          <a:xfrm>
            <a:off x="5638680" y="2886120"/>
            <a:ext cx="0" cy="3657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Viernes,  12 de Agosto, 2016, 01:26: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6" name="Picture 8" descr="IRIS_TMlogo.png"/>
          <p:cNvPicPr/>
          <p:nvPr/>
        </p:nvPicPr>
        <p:blipFill>
          <a:blip r:embed="rId1"/>
          <a:stretch/>
        </p:blipFill>
        <p:spPr>
          <a:xfrm>
            <a:off x="239760" y="76320"/>
            <a:ext cx="903240" cy="927000"/>
          </a:xfrm>
          <a:prstGeom prst="rect">
            <a:avLst/>
          </a:prstGeom>
          <a:ln w="0">
            <a:noFill/>
          </a:ln>
        </p:spPr>
      </p:pic>
      <p:sp>
        <p:nvSpPr>
          <p:cNvPr id="1107" name="TextBox 18"/>
          <p:cNvSpPr/>
          <p:nvPr/>
        </p:nvSpPr>
        <p:spPr>
          <a:xfrm>
            <a:off x="228600" y="1219320"/>
            <a:ext cx="4495680" cy="184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mapa USGS PAGER muestra la población expuesta a diferentes niveles de intensidad de Mercalli Modificada (MM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8" name="TextBox 4"/>
          <p:cNvSpPr/>
          <p:nvPr/>
        </p:nvSpPr>
        <p:spPr>
          <a:xfrm>
            <a:off x="239760" y="2133720"/>
            <a:ext cx="471960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ste terremoto no fue sentido ampliamente debido a que el área está escasamente poblada</a:t>
            </a:r>
            <a:r>
              <a:rPr b="0" lang="en-US" sz="1700" spc="-1" strike="noStrike">
                <a:solidFill>
                  <a:srgbClr val="000000"/>
                </a:solidFill>
                <a:latin typeface="Arial"/>
              </a:rPr>
              <a:t>.</a:t>
            </a:r>
            <a:endParaRPr b="0" lang="en-US" sz="1700" spc="-1" strike="noStrike">
              <a:solidFill>
                <a:srgbClr val="000000"/>
              </a:solidFill>
              <a:latin typeface="Arial"/>
            </a:endParaRPr>
          </a:p>
        </p:txBody>
      </p:sp>
      <p:pic>
        <p:nvPicPr>
          <p:cNvPr id="1109" name="Picture 1" descr=""/>
          <p:cNvPicPr/>
          <p:nvPr/>
        </p:nvPicPr>
        <p:blipFill>
          <a:blip r:embed="rId2"/>
          <a:stretch/>
        </p:blipFill>
        <p:spPr>
          <a:xfrm>
            <a:off x="4959360" y="1309680"/>
            <a:ext cx="4003560" cy="4143240"/>
          </a:xfrm>
          <a:prstGeom prst="rect">
            <a:avLst/>
          </a:prstGeom>
          <a:ln w="0">
            <a:noFill/>
          </a:ln>
        </p:spPr>
      </p:pic>
      <p:pic>
        <p:nvPicPr>
          <p:cNvPr id="1110" name="Picture 4" descr=""/>
          <p:cNvPicPr/>
          <p:nvPr/>
        </p:nvPicPr>
        <p:blipFill>
          <a:blip r:embed="rId3"/>
          <a:stretch/>
        </p:blipFill>
        <p:spPr>
          <a:xfrm>
            <a:off x="360360" y="2975040"/>
            <a:ext cx="3297240" cy="3830400"/>
          </a:xfrm>
          <a:prstGeom prst="rect">
            <a:avLst/>
          </a:prstGeom>
          <a:ln w="0">
            <a:noFill/>
          </a:ln>
        </p:spPr>
      </p:pic>
      <p:sp>
        <p:nvSpPr>
          <p:cNvPr id="11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Viernes,  12 de Agosto, 2016, 01:26:35 UTC </a:t>
            </a:r>
            <a:endParaRPr b="0" lang="en-US" sz="1500" spc="-1" strike="noStrike">
              <a:solidFill>
                <a:srgbClr val="000000"/>
              </a:solidFill>
              <a:latin typeface="Arial"/>
            </a:endParaRPr>
          </a:p>
        </p:txBody>
      </p:sp>
      <p:sp>
        <p:nvSpPr>
          <p:cNvPr id="1112" name="TextBox 15"/>
          <p:cNvSpPr/>
          <p:nvPr/>
        </p:nvSpPr>
        <p:spPr>
          <a:xfrm>
            <a:off x="4191120" y="6473880"/>
            <a:ext cx="4952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1113" name="TextBox 20"/>
          <p:cNvSpPr/>
          <p:nvPr/>
        </p:nvSpPr>
        <p:spPr>
          <a:xfrm>
            <a:off x="3581280" y="5460840"/>
            <a:ext cx="546264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 de la izquierda</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14" name="TextBox 15"/>
          <p:cNvSpPr/>
          <p:nvPr/>
        </p:nvSpPr>
        <p:spPr>
          <a:xfrm>
            <a:off x="4191120" y="760320"/>
            <a:ext cx="4778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6" name="Picture 1" descr=""/>
          <p:cNvPicPr/>
          <p:nvPr/>
        </p:nvPicPr>
        <p:blipFill>
          <a:blip r:embed="rId1"/>
          <a:stretch/>
        </p:blipFill>
        <p:spPr>
          <a:xfrm>
            <a:off x="6400800" y="5262480"/>
            <a:ext cx="2413080" cy="1281240"/>
          </a:xfrm>
          <a:prstGeom prst="rect">
            <a:avLst/>
          </a:prstGeom>
          <a:ln w="0">
            <a:noFill/>
          </a:ln>
        </p:spPr>
      </p:pic>
      <p:pic>
        <p:nvPicPr>
          <p:cNvPr id="1117" name="Picture 1" descr=""/>
          <p:cNvPicPr/>
          <p:nvPr/>
        </p:nvPicPr>
        <p:blipFill>
          <a:blip r:embed="rId2"/>
          <a:stretch/>
        </p:blipFill>
        <p:spPr>
          <a:xfrm>
            <a:off x="709560" y="5337000"/>
            <a:ext cx="1200240" cy="1206720"/>
          </a:xfrm>
          <a:prstGeom prst="rect">
            <a:avLst/>
          </a:prstGeom>
          <a:ln w="0">
            <a:noFill/>
          </a:ln>
        </p:spPr>
      </p:pic>
      <p:sp>
        <p:nvSpPr>
          <p:cNvPr id="1118"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119" name="IRIS Logo _For TMs.mp4" descr=""/>
          <p:cNvPicPr/>
          <p:nvPr/>
        </p:nvPicPr>
        <p:blipFill>
          <a:blip r:embed="rId3"/>
          <a:stretch/>
        </p:blipFill>
        <p:spPr>
          <a:xfrm>
            <a:off x="3693960" y="4754520"/>
            <a:ext cx="1828800" cy="1731960"/>
          </a:xfrm>
          <a:prstGeom prst="rect">
            <a:avLst/>
          </a:prstGeom>
          <a:ln w="0">
            <a:noFill/>
          </a:ln>
        </p:spPr>
      </p:pic>
      <p:sp>
        <p:nvSpPr>
          <p:cNvPr id="1120"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or favor enviar comentarios a </a:t>
            </a:r>
            <a:r>
              <a:rPr b="0" lang="es-VE" sz="1800" spc="-1" strike="noStrike" u="sng">
                <a:solidFill>
                  <a:srgbClr val="0000ff"/>
                </a:solidFill>
                <a:uFillTx/>
                <a:latin typeface="Arial"/>
                <a:hlinkClick r:id="rId4"/>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ara recibir notificaciones automáticas de nuevos Momentos de enseñanzas suscribirse en </a:t>
            </a:r>
            <a:r>
              <a:rPr b="0" lang="es-VE" sz="1800" spc="-1" strike="noStrike" u="sng">
                <a:solidFill>
                  <a:srgbClr val="0000ff"/>
                </a:solidFill>
                <a:uFillTx/>
                <a:latin typeface="Arial"/>
                <a:hlinkClick r:id="rId5"/>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111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119"/>
                    </p:tgtEl>
                  </p:cond>
                </p:stCondLst>
                <p:childTnLst>
                  <p:par>
                    <p:cTn id="8" nodeType="clickEffect" fill="hold">
                      <p:stCondLst>
                        <p:cond evt="onClick">
                          <p:tgtEl>
                            <p:spTgt spid="111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 Bravo</cp:lastModifiedBy>
  <dcterms:modified xsi:type="dcterms:W3CDTF">2016-08-13T08:00:06Z</dcterms:modified>
  <cp:revision>715</cp:revision>
  <dc:subject/>
  <dc:title>Slide 1</dc:title>
</cp:coreProperties>
</file>