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808E-4D5C-4BE6-9BB9-19658F1E972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iris.edu/ieb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D7C0-1EA5-4777-B5EA-41D32AF839D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Calibri"/>
              </a:rPr>
              <a:t>Explora la sismicidad con mas detalles: 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Imagen del Visualizador de Terremotos de IRIS (www.iris.edu/ie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BAB5-AD48-4906-9D0E-D5596621415C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1E3A-9460-418B-B5BA-72F45AC21D6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Escalas de intensidad de movimiento fueron desarrolladas para estandarizar las mediciones y facilitar la comparación de diferentes terremotos. La modificación de la escala de intensidad de  Marcelli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9078-CFA2-4A30-8C2A-FE196B84955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 mapa localizador del Servicio Geológico de los EE.UU. (USGS) muestra la población expuesta a diferentes niveles de intensidad modificada Mercalli (MMI).  MMI describe la severidad de un terremoto en términos de sus efectos en estructuras humanas y es una vasta medida de la cantidad de movimientos telúricos en un lugar d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75BB-02E1-4FA3-9B0C-4E44B2DD51D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Explorando la Sismicida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Navegador de Terremotos Interactivo—Mapa Mundial o Visualizador 3D </a:t>
            </a:r>
            <a:r>
              <a:rPr b="0" lang="es-VE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ris.edu/ie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C741-041B-4DDC-A17C-04D349455B5A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FE9A-8408-43E2-BD2B-C03623A0FA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A708-433E-4048-B026-C677D1E0B8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E20D-9A8F-47FF-BA50-4DD6AFBB55F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393996"/>
                </a:solidFill>
                <a:latin typeface="Arial"/>
                <a:ea typeface="Arial"/>
              </a:rPr>
              <a:t>Animaciones Relevan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Entendiendo mecanismo focal http://www.iris.edu/hq/programs/education_and_outreach/animations/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alibri"/>
              </a:rPr>
              <a:t>Las áreas sombreadas muestran los cuadrantes de la esfera focal en la cual los primeros movimientos de las ondas P se alejan de la fuente, y las áreas sin sombra muestran los cuadrantes en la cual los primeros movimientos de las ondas P se acercan a la fuente. Las letra P representa el eje de máximo esfuerzo de compresión, llamado el “eje P” y la letra S representa el eje de máximo esfuerzo extensional, llamado “eje T” como resultado del terremo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238F-436D-495F-B348-69613B17087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Animación Releva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¿De donde provienen las curvas de tiempo de viaje?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ris.edu/hq/programs/education_and_outreach/animations#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A003-EE2F-4A04-8517-B7764C1D9C4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BF8-DCCC-4AC9-B7AE-D326288D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3C7-3B2B-452B-A688-7AC685F8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5AB-0793-4C11-9433-7918649F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38B-07C7-40F5-9810-64742278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29F-31FF-4DDC-91D0-7E8F85D9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7B0-2250-4317-929A-BF486A7E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A07-6CFA-454E-897C-873891E3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1F9-63DE-4B02-850D-9A07D79C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6FD-2B5D-411E-BA0E-232D379A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862-B90E-4509-97B5-6041D31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924-B565-47BB-B8C1-C702A55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1BB-C5A5-4C31-9550-95A3DFE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AA8E-8931-415E-8E78-3D13601B92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video" Target="file:///C:\Users\Kate\Desktop\IRIS%20Logo%20_For%20TMs.mp4" TargetMode="External"/><Relationship Id="rId4" Type="http://schemas.microsoft.com/office/2007/relationships/media" Target="file:///C:\Users\Kate\Desktop\IRIS%20Logo%20_For%20TMs.mp4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43000" y="1082520"/>
            <a:ext cx="7224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n terremoto de magnitud 7,7 fue registrado costa afuera de las Islas Salom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terremoto se produjo a menos de 30 kilómetros de la isla de Makira, a una profundidad de 48,7 km, y a 70 kilómetros al suroeste de la ciudad de Kirakira, alrededor de las 4:38 de la mañana del viernes, hora local. No hay advertencias de Tsunami en estos mo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7432560" y="23328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3"/>
          <a:stretch/>
        </p:blipFill>
        <p:spPr>
          <a:xfrm>
            <a:off x="1905120" y="2859120"/>
            <a:ext cx="69530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733920" y="340668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magen y Texto Cortesía del Servicio Geológico de los EE.U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231840" y="1209600"/>
            <a:ext cx="4187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Secuencias de réplicas  siguen patrones predecibles como grupo, aunque los terremotos individuales por sí mismos no son predeci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l gráfico de la derecha  muestra cómo el número de réplicas y la magnitud de las réplicas decae al incrementarse el tiempo desde el sismo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usgs.jpg"/>
          <p:cNvPicPr/>
          <p:nvPr/>
        </p:nvPicPr>
        <p:blipFill>
          <a:blip r:embed="rId2"/>
          <a:stretch/>
        </p:blipFill>
        <p:spPr>
          <a:xfrm>
            <a:off x="4587840" y="993600"/>
            <a:ext cx="4175280" cy="24703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4"/>
          <p:cNvSpPr/>
          <p:nvPr/>
        </p:nvSpPr>
        <p:spPr>
          <a:xfrm>
            <a:off x="236520" y="6351480"/>
            <a:ext cx="882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Sismicidad Regional  Dic 07, 2015 – Dic 07,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4629240" y="6351480"/>
            <a:ext cx="40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Sismicidad Regional Dic 08,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3"/>
          <a:stretch/>
        </p:blipFill>
        <p:spPr>
          <a:xfrm>
            <a:off x="230040" y="3998880"/>
            <a:ext cx="4357800" cy="2311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4"/>
          <a:stretch/>
        </p:blipFill>
        <p:spPr>
          <a:xfrm>
            <a:off x="4665600" y="4040280"/>
            <a:ext cx="4146480" cy="227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"/>
          <p:cNvPicPr/>
          <p:nvPr/>
        </p:nvPicPr>
        <p:blipFill>
          <a:blip r:embed="rId5"/>
          <a:stretch/>
        </p:blipFill>
        <p:spPr>
          <a:xfrm>
            <a:off x="8445600" y="4249800"/>
            <a:ext cx="426960" cy="2228760"/>
          </a:xfrm>
          <a:prstGeom prst="rect">
            <a:avLst/>
          </a:prstGeom>
          <a:ln w="0">
            <a:noFill/>
          </a:ln>
        </p:spPr>
      </p:pic>
      <p:sp>
        <p:nvSpPr>
          <p:cNvPr id="18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6400800" y="5262480"/>
            <a:ext cx="2413080" cy="1281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"/>
          <p:cNvPicPr/>
          <p:nvPr/>
        </p:nvPicPr>
        <p:blipFill>
          <a:blip r:embed="rId2"/>
          <a:stretch/>
        </p:blipFill>
        <p:spPr>
          <a:xfrm>
            <a:off x="709560" y="5337000"/>
            <a:ext cx="1200240" cy="1206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3370320" y="6462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44ab"/>
                </a:solidFill>
                <a:latin typeface="Arial"/>
              </a:rPr>
              <a:t>www.iris.edu/earthqu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693960" y="4754520"/>
            <a:ext cx="1828800" cy="1731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9"/>
          <p:cNvSpPr/>
          <p:nvPr/>
        </p:nvSpPr>
        <p:spPr>
          <a:xfrm>
            <a:off x="709560" y="773280"/>
            <a:ext cx="785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Momentos de Enseñanzas son un servici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rporated Research Institutions for Seism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ducación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or favor enviar comentarios a tkb@iri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recibir notificaciones automáticas de nuevos Momentos de enseñanzas suscribirse en www.iris.edu/hq/re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199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/>
                <p:tgtEl>
                  <p:spTgt spid="185"/>
                </p:tgtEl>
              </p:cMediaNode>
            </p:video>
            <p:seq>
              <p:cTn id="1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scale.jpg"/>
          <p:cNvPicPr/>
          <p:nvPr/>
        </p:nvPicPr>
        <p:blipFill>
          <a:blip r:embed="rId1"/>
          <a:stretch/>
        </p:blipFill>
        <p:spPr>
          <a:xfrm>
            <a:off x="380880" y="4137120"/>
            <a:ext cx="2127240" cy="2319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5"/>
          <p:cNvSpPr/>
          <p:nvPr/>
        </p:nvSpPr>
        <p:spPr>
          <a:xfrm>
            <a:off x="227160" y="1150920"/>
            <a:ext cx="365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 isla de Makira, que era la más cercana al epicentro del terremoto, se informó de temblores muy fuertes a sev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rtes temblores fueron reportados cerca de la capital de Honiara, al norte del epicentr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3"/>
          <a:stretch/>
        </p:blipFill>
        <p:spPr>
          <a:xfrm>
            <a:off x="4003560" y="1360440"/>
            <a:ext cx="5000760" cy="4762440"/>
          </a:xfrm>
          <a:prstGeom prst="rect">
            <a:avLst/>
          </a:prstGeom>
          <a:ln w="0">
            <a:noFill/>
          </a:ln>
        </p:spPr>
      </p:pic>
      <p:sp>
        <p:nvSpPr>
          <p:cNvPr id="59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52280" y="3686040"/>
            <a:ext cx="323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2728800" y="3605040"/>
            <a:ext cx="153828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Temblor Percib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152280" y="65502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4224240" y="620064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G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Intensidad de Movimiento Estimada del terremoto M7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8"/>
          <p:cNvSpPr/>
          <p:nvPr/>
        </p:nvSpPr>
        <p:spPr>
          <a:xfrm>
            <a:off x="304920" y="990720"/>
            <a:ext cx="4495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mapa USGS PAGER muestra la población expuesta a diferentes niveles de intensidad de Mercalli Modificada (MM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Servicio Geológico de los EEUU (USGS) aproxima que 20.000 personas estuvieron expuestas a severos movimientos telúricos como consecuencia de este terremo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4952880" y="1335240"/>
            <a:ext cx="3970440" cy="410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684360" y="3197160"/>
            <a:ext cx="2585880" cy="3584520"/>
          </a:xfrm>
          <a:prstGeom prst="rect">
            <a:avLst/>
          </a:prstGeom>
          <a:ln w="0">
            <a:noFill/>
          </a:ln>
        </p:spPr>
      </p:pic>
      <p:sp>
        <p:nvSpPr>
          <p:cNvPr id="69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4572000" y="6473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3333600" y="5521320"/>
            <a:ext cx="57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l código de colores de las líneas de contorno marca las regiones de intensidad MMI. La población total expuesta a un valor MMI dado es obtenida sumando la población entre las líneas de contorno. La estimación de la población expuesta a cada intensidad  MMI es mostrada en la tab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4724280" y="736560"/>
            <a:ext cx="43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USGS P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5800680" cy="557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4"/>
          <p:cNvSpPr/>
          <p:nvPr/>
        </p:nvSpPr>
        <p:spPr>
          <a:xfrm>
            <a:off x="162000" y="1230480"/>
            <a:ext cx="303192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l epicentro del terremoto del 8 de diciembre de 2016 está marcado en este mapa de sismicidad que muestra los 3.000 terremotos más recientes en la región circundan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s profundidades de los terremotos aumentan de suroeste a noreste a través de la Fosa de Salomón, donde la Placa Australiana se subduce por debajo de la Placa del Pacífico. A través del extremo norte de la Fosa de Nueva Hébridas , las profundidades del terremoto aumentan de oeste al este donde la Placa de Australia se subduce por debajo de la Placa del Pacífic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l terremoto del 8 de Diciembre ocurrió a lo largo de la Fosa de Salomón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20"/>
          <p:cNvCxnSpPr/>
          <p:nvPr/>
        </p:nvCxnSpPr>
        <p:spPr>
          <a:xfrm flipV="1">
            <a:off x="4912920" y="3552480"/>
            <a:ext cx="515160" cy="264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78" name="Picture 28" descr=""/>
          <p:cNvPicPr/>
          <p:nvPr/>
        </p:nvPicPr>
        <p:blipFill>
          <a:blip r:embed="rId3"/>
          <a:srcRect l="0" t="0" r="64625" b="18755"/>
          <a:stretch/>
        </p:blipFill>
        <p:spPr>
          <a:xfrm>
            <a:off x="3386160" y="3095640"/>
            <a:ext cx="5508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6"/>
          <p:cNvSpPr/>
          <p:nvPr/>
        </p:nvSpPr>
        <p:spPr>
          <a:xfrm>
            <a:off x="7620120" y="2082960"/>
            <a:ext cx="112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Placa del Pacíf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3960720" y="4065480"/>
            <a:ext cx="16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ffffff"/>
                </a:solidFill>
                <a:latin typeface="Arial"/>
              </a:rPr>
              <a:t>Placa Austral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 rot="4319400">
            <a:off x="5767560" y="3983040"/>
            <a:ext cx="143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ffffff"/>
                </a:solidFill>
                <a:latin typeface="Arial"/>
              </a:rPr>
              <a:t>Extremo Norte de la Fosa de Nueva Hébr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5880240" y="14605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es-VE" sz="1400" spc="-1" strike="noStrike">
                <a:solidFill>
                  <a:srgbClr val="ffc000"/>
                </a:solidFill>
                <a:latin typeface="Arial"/>
              </a:rPr>
              <a:t>M7.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ffc000"/>
                </a:solidFill>
                <a:latin typeface="Arial"/>
              </a:rPr>
              <a:t>08 de Diciembre, 20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4"/>
          <a:srcRect l="0" t="0" r="1418" b="14391"/>
          <a:stretch/>
        </p:blipFill>
        <p:spPr>
          <a:xfrm>
            <a:off x="3429000" y="5902200"/>
            <a:ext cx="1422360" cy="470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 rot="1617000">
            <a:off x="4594680" y="290808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ffffff"/>
                </a:solidFill>
                <a:latin typeface="Arial"/>
              </a:rPr>
              <a:t>Salom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 rot="1927800">
            <a:off x="3982320" y="253800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ffffff"/>
                </a:solidFill>
                <a:latin typeface="Arial"/>
              </a:rPr>
              <a:t>Fos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7634160" y="428292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ffffff"/>
                </a:solidFill>
                <a:latin typeface="Arial"/>
              </a:rPr>
              <a:t>Placa de Kerme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4219200" y="6550200"/>
            <a:ext cx="408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Mapa creado con el navegador de terremotos de  IR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239760" y="1035000"/>
            <a:ext cx="85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e mapa regional muestra la complejidad de placas tectónicas importantes y micro-placas debido a la convergencia entre las Placas de Australia y del Pacífico. El rectángulo delinea el área del mapa en la siguiente diaposi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"/>
          <p:cNvGrpSpPr/>
          <p:nvPr/>
        </p:nvGrpSpPr>
        <p:grpSpPr>
          <a:xfrm>
            <a:off x="838080" y="1967040"/>
            <a:ext cx="7620120" cy="4859280"/>
            <a:chOff x="838080" y="1967040"/>
            <a:chExt cx="7620120" cy="4859280"/>
          </a:xfrm>
        </p:grpSpPr>
        <p:pic>
          <p:nvPicPr>
            <p:cNvPr id="93" name="Picture 3" descr="N.Guinea2Tonga copy.jpg"/>
            <p:cNvPicPr/>
            <p:nvPr/>
          </p:nvPicPr>
          <p:blipFill>
            <a:blip r:embed="rId2"/>
            <a:stretch/>
          </p:blipFill>
          <p:spPr>
            <a:xfrm>
              <a:off x="838080" y="1967040"/>
              <a:ext cx="762012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29"/>
            <p:cNvSpPr/>
            <p:nvPr/>
          </p:nvSpPr>
          <p:spPr>
            <a:xfrm>
              <a:off x="3741480" y="3753000"/>
              <a:ext cx="1515960" cy="129528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6264360" y="690480"/>
            <a:ext cx="2787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e terremoto ocurrió a lo largo de una porción del límite de la Placa Australiana y del Pacífico. La Placa Australiana se subduce por debajo de la Placa del Pacífico en las Fosas de Salomón y de Nueva Hébridas al norte. Junto con su ubicación y profundidad, el mecanismo de falla de empuje del terremoto M7,8 del 8 de diciembre de 2016 indica que ocurrió en el límite de la zona de subducción de la Fosa de Solom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os grandes terremotos ocurrieron en Abril de 2014 sobre o cerca de la falla transformante lateral izquierda que conecta los límites de placa convergente en las fosas de Salomón y el norte de las Nuevas Hébri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28600" y="6548400"/>
            <a:ext cx="88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flecha grande muestra el movimiento relativo de la Placa Australiana con respecto a la Placa del Pacíf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7" descr="SolomonGeoMapp.tiff"/>
          <p:cNvPicPr/>
          <p:nvPr/>
        </p:nvPicPr>
        <p:blipFill>
          <a:blip r:embed="rId2"/>
          <a:stretch/>
        </p:blipFill>
        <p:spPr>
          <a:xfrm>
            <a:off x="317520" y="1015920"/>
            <a:ext cx="5827680" cy="5486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Text Box 1"/>
          <p:cNvSpPr/>
          <p:nvPr/>
        </p:nvSpPr>
        <p:spPr>
          <a:xfrm>
            <a:off x="2743200" y="5257800"/>
            <a:ext cx="167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60066"/>
                </a:solidFill>
                <a:latin typeface="Arial"/>
              </a:rPr>
              <a:t>Extremo Norte de la Fosa de Nueva Hébr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"/>
          <p:cNvSpPr/>
          <p:nvPr/>
        </p:nvSpPr>
        <p:spPr>
          <a:xfrm flipH="1">
            <a:off x="3581280" y="4495680"/>
            <a:ext cx="655920" cy="776520"/>
          </a:xfrm>
          <a:prstGeom prst="line">
            <a:avLst/>
          </a:prstGeom>
          <a:ln w="2844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"/>
          <p:cNvSpPr/>
          <p:nvPr/>
        </p:nvSpPr>
        <p:spPr>
          <a:xfrm flipH="1">
            <a:off x="976320" y="3338640"/>
            <a:ext cx="396720" cy="190440"/>
          </a:xfrm>
          <a:prstGeom prst="line">
            <a:avLst/>
          </a:prstGeom>
          <a:ln w="2844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22120" y="3270240"/>
            <a:ext cx="97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660066"/>
                </a:solidFill>
                <a:latin typeface="Arial"/>
              </a:rPr>
              <a:t>Fosa de Salom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sosceles Triangle 84"/>
          <p:cNvSpPr/>
          <p:nvPr/>
        </p:nvSpPr>
        <p:spPr>
          <a:xfrm rot="3976800">
            <a:off x="4050360" y="3535920"/>
            <a:ext cx="236520" cy="20304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85"/>
          <p:cNvSpPr/>
          <p:nvPr/>
        </p:nvSpPr>
        <p:spPr>
          <a:xfrm rot="4500000">
            <a:off x="4202640" y="4096440"/>
            <a:ext cx="236520" cy="20304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sosceles Triangle 86"/>
          <p:cNvSpPr/>
          <p:nvPr/>
        </p:nvSpPr>
        <p:spPr>
          <a:xfrm rot="4500000">
            <a:off x="4354560" y="464868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sosceles Triangle 87"/>
          <p:cNvSpPr/>
          <p:nvPr/>
        </p:nvSpPr>
        <p:spPr>
          <a:xfrm rot="4500000">
            <a:off x="4507560" y="5201280"/>
            <a:ext cx="236520" cy="20304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sosceles Triangle 88"/>
          <p:cNvSpPr/>
          <p:nvPr/>
        </p:nvSpPr>
        <p:spPr>
          <a:xfrm rot="4500000">
            <a:off x="4660560" y="575280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sosceles Triangle 89"/>
          <p:cNvSpPr/>
          <p:nvPr/>
        </p:nvSpPr>
        <p:spPr>
          <a:xfrm rot="4500000">
            <a:off x="4777560" y="6259320"/>
            <a:ext cx="236520" cy="20484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sosceles Triangle 90"/>
          <p:cNvSpPr/>
          <p:nvPr/>
        </p:nvSpPr>
        <p:spPr>
          <a:xfrm rot="1800000">
            <a:off x="2104560" y="3494160"/>
            <a:ext cx="236520" cy="20484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sosceles Triangle 91"/>
          <p:cNvSpPr/>
          <p:nvPr/>
        </p:nvSpPr>
        <p:spPr>
          <a:xfrm rot="1800000">
            <a:off x="1644120" y="3260880"/>
            <a:ext cx="236880" cy="20448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sosceles Triangle 92"/>
          <p:cNvSpPr/>
          <p:nvPr/>
        </p:nvSpPr>
        <p:spPr>
          <a:xfrm rot="1800000">
            <a:off x="1184040" y="3027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sosceles Triangle 93"/>
          <p:cNvSpPr/>
          <p:nvPr/>
        </p:nvSpPr>
        <p:spPr>
          <a:xfrm rot="1800000">
            <a:off x="723600" y="279396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sosceles Triangle 94"/>
          <p:cNvSpPr/>
          <p:nvPr/>
        </p:nvSpPr>
        <p:spPr>
          <a:xfrm rot="1800000">
            <a:off x="263160" y="2560680"/>
            <a:ext cx="236520" cy="203040"/>
          </a:xfrm>
          <a:prstGeom prst="triangle">
            <a:avLst>
              <a:gd name="adj" fmla="val 50000"/>
            </a:avLst>
          </a:prstGeom>
          <a:solidFill>
            <a:srgbClr val="b928ea"/>
          </a:solidFill>
          <a:ln w="3240">
            <a:solidFill>
              <a:srgbClr val="4468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95"/>
          <p:cNvSpPr/>
          <p:nvPr/>
        </p:nvSpPr>
        <p:spPr>
          <a:xfrm flipV="1">
            <a:off x="2540160" y="3505320"/>
            <a:ext cx="1269720" cy="263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-Point Star 2"/>
          <p:cNvSpPr/>
          <p:nvPr/>
        </p:nvSpPr>
        <p:spPr>
          <a:xfrm>
            <a:off x="2490840" y="3505320"/>
            <a:ext cx="252360" cy="252360"/>
          </a:xfrm>
          <a:custGeom>
            <a:avLst/>
            <a:gdLst/>
            <a:ahLst/>
            <a:rect l="l" t="t" r="r" b="b"/>
            <a:pathLst>
              <a:path w="252499" h="252499">
                <a:moveTo>
                  <a:pt x="0" y="96446"/>
                </a:moveTo>
                <a:lnTo>
                  <a:pt x="96447" y="96446"/>
                </a:lnTo>
                <a:lnTo>
                  <a:pt x="126250" y="0"/>
                </a:lnTo>
                <a:lnTo>
                  <a:pt x="156052" y="96446"/>
                </a:lnTo>
                <a:lnTo>
                  <a:pt x="252499" y="96446"/>
                </a:lnTo>
                <a:lnTo>
                  <a:pt x="174472" y="156052"/>
                </a:lnTo>
                <a:lnTo>
                  <a:pt x="204276" y="252498"/>
                </a:lnTo>
                <a:lnTo>
                  <a:pt x="126250" y="192891"/>
                </a:lnTo>
                <a:lnTo>
                  <a:pt x="48223" y="252498"/>
                </a:lnTo>
                <a:lnTo>
                  <a:pt x="78027" y="156052"/>
                </a:lnTo>
                <a:lnTo>
                  <a:pt x="0" y="964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"/>
          <p:cNvSpPr/>
          <p:nvPr/>
        </p:nvSpPr>
        <p:spPr>
          <a:xfrm flipV="1">
            <a:off x="2666880" y="3276720"/>
            <a:ext cx="223920" cy="304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516040" y="2992320"/>
            <a:ext cx="1827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660066"/>
                </a:solidFill>
                <a:latin typeface="Arial"/>
              </a:rPr>
              <a:t>M7.6 Abril 12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"/>
          <p:cNvSpPr/>
          <p:nvPr/>
        </p:nvSpPr>
        <p:spPr>
          <a:xfrm flipH="1">
            <a:off x="2089080" y="3973680"/>
            <a:ext cx="223920" cy="304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2160" y="4232160"/>
            <a:ext cx="18986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M7.4 Abril 13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ight Arrow 103"/>
          <p:cNvSpPr/>
          <p:nvPr/>
        </p:nvSpPr>
        <p:spPr>
          <a:xfrm rot="19747200">
            <a:off x="325080" y="3740040"/>
            <a:ext cx="1657440" cy="5400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648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 rot="19753200">
            <a:off x="525240" y="3843000"/>
            <a:ext cx="1261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660066"/>
                </a:solidFill>
                <a:latin typeface="Arial"/>
              </a:rPr>
              <a:t>96 mm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3"/>
          <p:cNvSpPr/>
          <p:nvPr/>
        </p:nvSpPr>
        <p:spPr>
          <a:xfrm flipV="1">
            <a:off x="4343400" y="4114440"/>
            <a:ext cx="9144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3"/>
          <p:cNvSpPr/>
          <p:nvPr/>
        </p:nvSpPr>
        <p:spPr>
          <a:xfrm>
            <a:off x="5257800" y="4114800"/>
            <a:ext cx="30492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07"/>
          <p:cNvSpPr/>
          <p:nvPr/>
        </p:nvSpPr>
        <p:spPr>
          <a:xfrm>
            <a:off x="5537160" y="4254480"/>
            <a:ext cx="330120" cy="12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11"/>
          <p:cNvSpPr/>
          <p:nvPr/>
        </p:nvSpPr>
        <p:spPr>
          <a:xfrm>
            <a:off x="5842080" y="4267080"/>
            <a:ext cx="279360" cy="25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116"/>
          <p:cNvSpPr/>
          <p:nvPr/>
        </p:nvSpPr>
        <p:spPr>
          <a:xfrm>
            <a:off x="3809880" y="3497400"/>
            <a:ext cx="217440" cy="74520"/>
          </a:xfrm>
          <a:prstGeom prst="line">
            <a:avLst/>
          </a:prstGeom>
          <a:ln w="57240">
            <a:solidFill>
              <a:srgbClr val="b92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82"/>
          <p:cNvSpPr/>
          <p:nvPr/>
        </p:nvSpPr>
        <p:spPr>
          <a:xfrm>
            <a:off x="228600" y="2666880"/>
            <a:ext cx="2127240" cy="1135080"/>
          </a:xfrm>
          <a:prstGeom prst="line">
            <a:avLst/>
          </a:prstGeom>
          <a:ln w="57240">
            <a:solidFill>
              <a:srgbClr val="b92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83"/>
          <p:cNvSpPr/>
          <p:nvPr/>
        </p:nvSpPr>
        <p:spPr>
          <a:xfrm>
            <a:off x="4075200" y="3679920"/>
            <a:ext cx="758880" cy="2814480"/>
          </a:xfrm>
          <a:prstGeom prst="line">
            <a:avLst/>
          </a:prstGeom>
          <a:ln w="57240">
            <a:solidFill>
              <a:srgbClr val="b92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311"/>
          <p:cNvSpPr/>
          <p:nvPr/>
        </p:nvSpPr>
        <p:spPr>
          <a:xfrm>
            <a:off x="4800600" y="44956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Placa de  Kermed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9"/>
          <p:cNvSpPr/>
          <p:nvPr/>
        </p:nvSpPr>
        <p:spPr>
          <a:xfrm>
            <a:off x="4170240" y="1143000"/>
            <a:ext cx="14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Placa del Pac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0"/>
          <p:cNvSpPr/>
          <p:nvPr/>
        </p:nvSpPr>
        <p:spPr>
          <a:xfrm>
            <a:off x="1278000" y="5470560"/>
            <a:ext cx="18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Placa Austral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5-Point Star 2"/>
          <p:cNvSpPr/>
          <p:nvPr/>
        </p:nvSpPr>
        <p:spPr>
          <a:xfrm>
            <a:off x="2287440" y="3672000"/>
            <a:ext cx="252720" cy="252360"/>
          </a:xfrm>
          <a:custGeom>
            <a:avLst/>
            <a:gdLst/>
            <a:ahLst/>
            <a:rect l="l" t="t" r="r" b="b"/>
            <a:pathLst>
              <a:path w="252499" h="252499">
                <a:moveTo>
                  <a:pt x="0" y="96446"/>
                </a:moveTo>
                <a:lnTo>
                  <a:pt x="96447" y="96446"/>
                </a:lnTo>
                <a:lnTo>
                  <a:pt x="126250" y="0"/>
                </a:lnTo>
                <a:lnTo>
                  <a:pt x="156052" y="96446"/>
                </a:lnTo>
                <a:lnTo>
                  <a:pt x="252499" y="96446"/>
                </a:lnTo>
                <a:lnTo>
                  <a:pt x="174472" y="156052"/>
                </a:lnTo>
                <a:lnTo>
                  <a:pt x="204276" y="252498"/>
                </a:lnTo>
                <a:lnTo>
                  <a:pt x="126250" y="192891"/>
                </a:lnTo>
                <a:lnTo>
                  <a:pt x="48223" y="252498"/>
                </a:lnTo>
                <a:lnTo>
                  <a:pt x="78027" y="156052"/>
                </a:lnTo>
                <a:lnTo>
                  <a:pt x="0" y="964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-Point Star 2"/>
          <p:cNvSpPr/>
          <p:nvPr/>
        </p:nvSpPr>
        <p:spPr>
          <a:xfrm>
            <a:off x="1917720" y="3259080"/>
            <a:ext cx="252360" cy="252360"/>
          </a:xfrm>
          <a:custGeom>
            <a:avLst/>
            <a:gdLst/>
            <a:ahLst/>
            <a:rect l="l" t="t" r="r" b="b"/>
            <a:pathLst>
              <a:path w="252499" h="252499">
                <a:moveTo>
                  <a:pt x="0" y="96446"/>
                </a:moveTo>
                <a:lnTo>
                  <a:pt x="96447" y="96446"/>
                </a:lnTo>
                <a:lnTo>
                  <a:pt x="126250" y="0"/>
                </a:lnTo>
                <a:lnTo>
                  <a:pt x="156052" y="96446"/>
                </a:lnTo>
                <a:lnTo>
                  <a:pt x="252499" y="96446"/>
                </a:lnTo>
                <a:lnTo>
                  <a:pt x="174472" y="156052"/>
                </a:lnTo>
                <a:lnTo>
                  <a:pt x="204276" y="252498"/>
                </a:lnTo>
                <a:lnTo>
                  <a:pt x="126250" y="192891"/>
                </a:lnTo>
                <a:lnTo>
                  <a:pt x="48223" y="252498"/>
                </a:lnTo>
                <a:lnTo>
                  <a:pt x="78027" y="156052"/>
                </a:lnTo>
                <a:lnTo>
                  <a:pt x="0" y="964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07920" y="2405160"/>
            <a:ext cx="2759040" cy="3841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660066"/>
                </a:solidFill>
                <a:latin typeface="Arial"/>
              </a:rPr>
              <a:t>M7.8 Diciembre 8,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"/>
          <p:cNvSpPr/>
          <p:nvPr/>
        </p:nvSpPr>
        <p:spPr>
          <a:xfrm flipV="1">
            <a:off x="2079720" y="2747880"/>
            <a:ext cx="255600" cy="604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2"/>
          <p:cNvCxnSpPr/>
          <p:nvPr/>
        </p:nvCxnSpPr>
        <p:spPr>
          <a:xfrm flipH="1">
            <a:off x="2848680" y="3668400"/>
            <a:ext cx="67716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arrow" w="med"/>
          </a:ln>
        </p:spPr>
      </p:cxnSp>
      <p:cxnSp>
        <p:nvCxnSpPr>
          <p:cNvPr id="139" name="Straight Arrow Connector 48"/>
          <p:cNvCxnSpPr/>
          <p:nvPr/>
        </p:nvCxnSpPr>
        <p:spPr>
          <a:xfrm flipV="1">
            <a:off x="2870640" y="3436200"/>
            <a:ext cx="67716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14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25480" y="6400800"/>
            <a:ext cx="82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ris.edu/hq/inclass/animation/solomon__vanuatu_islands_earthquakes__tecto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5791320" y="2367000"/>
            <a:ext cx="293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nimación completa (URL a continuación) examina tres áreas en un corte transversal para revelar un cambio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ducción en pendiente pronunciada a lo largo de la Fosa de   Nuevas Hébr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lizamiento a lo largo de las Islas Salom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Zona de subducción poco profunda al oes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506520" y="1417680"/>
            <a:ext cx="84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animación corta forma parte de una animación de IRIS más larga que analiza la sismicidad y la tectónica de esta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Solomon-Vanuatu First 30sec.mp4" descr="/Users/taber/Downloads/161208Solomon/Solomon-Vanuatu First 30sec.mp4"/>
          <p:cNvPicPr/>
          <p:nvPr/>
        </p:nvPicPr>
        <p:blipFill>
          <a:blip r:embed="rId2"/>
          <a:stretch/>
        </p:blipFill>
        <p:spPr>
          <a:xfrm>
            <a:off x="506520" y="2162160"/>
            <a:ext cx="5116320" cy="378144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>
            <a:off x="249120" y="1158840"/>
            <a:ext cx="82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terremoto ocurrió como resultado de fallas de empuje sobre o cerca del límite entre las placas del Pacífico y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3905280" y="523224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eje de tensión (T) refleja la dirección mínima de la tensión de compresión. El eje de presión (P) refleja la dirección máxima de la tensión de compre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181080" y="6334200"/>
            <a:ext cx="32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USGS Fase-W Solución del Tensor de Momento sís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3800520" y="3909960"/>
            <a:ext cx="4802040" cy="59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3917880" y="1998720"/>
            <a:ext cx="4518000" cy="1852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4"/>
          <a:stretch/>
        </p:blipFill>
        <p:spPr>
          <a:xfrm>
            <a:off x="339840" y="3589200"/>
            <a:ext cx="3305160" cy="2611440"/>
          </a:xfrm>
          <a:prstGeom prst="rect">
            <a:avLst/>
          </a:prstGeom>
          <a:ln w="0">
            <a:noFill/>
          </a:ln>
        </p:spPr>
      </p:pic>
      <p:sp>
        <p:nvSpPr>
          <p:cNvPr id="15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914400" y="1347840"/>
            <a:ext cx="5994360" cy="54864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905120" y="1347840"/>
            <a:ext cx="69339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pués de ocurrido el terremoto, las ondas P de compresión se tomaron  12 minutos y 54 segundos en viajar la trayectoria curva de la Tierra a través del manto hasta Bend, Oreg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1744560" y="828720"/>
            <a:ext cx="671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registro del terremoto en Bend, Oregón (BNOR) es ilustrado en la parte inferior. Bend se encuentra a 9838 km (6113 millas, 88.63°) de la ubicación del terremo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676520" y="4916520"/>
            <a:ext cx="678168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ndas superficiales recorrier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838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km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13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millas) a lo largo del perímetro de la Tierra desde el terremoto hasta la estación de registro. La onda superficial comenzó a llegar a Bend uno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minutos después del terremoto ocurrido en las Islas Salomó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1676520" y="4191120"/>
            <a:ext cx="6858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ndas S son ondas cortantes que siguen la misma trayectoria a través del manto que las ondas P. Las Ondas S se tomaron 23 minutos y 43 segundos para viajar desde el terremoto hasta B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2270160" y="2249640"/>
            <a:ext cx="37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3515760" y="2282760"/>
            <a:ext cx="33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844880" y="2008080"/>
            <a:ext cx="330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Onda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2057400" y="3594240"/>
            <a:ext cx="5135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P es una onda de compresión que rebotó en la superficie a medio camino entre el terremoto y la estación de regis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2847960" y="2225520"/>
            <a:ext cx="48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7 ISLAS SO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8 de Diciembre, 2016 a las 17:38:47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Douglas Alfredo Bravo Bustamante</cp:lastModifiedBy>
  <dcterms:modified xsi:type="dcterms:W3CDTF">2016-12-20T06:25:44Z</dcterms:modified>
  <cp:revision>636</cp:revision>
  <dc:subject/>
  <dc:title>Slide 1</dc:title>
</cp:coreProperties>
</file>