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8D73-F646-4652-AEC9-78053514178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257480" y="720720"/>
            <a:ext cx="4800600" cy="3600360"/>
          </a:xfrm>
          <a:prstGeom prst="rect">
            <a:avLst/>
          </a:prstGeom>
          <a:ln w="0">
            <a:noFill/>
          </a:ln>
        </p:spPr>
      </p:sp>
      <p:sp>
        <p:nvSpPr>
          <p:cNvPr id="6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2416-0327-4362-89D8-404A96BE09F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257480" y="720720"/>
            <a:ext cx="4800600" cy="3600360"/>
          </a:xfrm>
          <a:prstGeom prst="rect">
            <a:avLst/>
          </a:prstGeom>
          <a:ln w="0">
            <a:noFill/>
          </a:ln>
        </p:spPr>
      </p:sp>
      <p:sp>
        <p:nvSpPr>
          <p:cNvPr id="61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F8BC-5E5D-48CA-8CF0-79E9B592C4E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257480" y="720720"/>
            <a:ext cx="4800600" cy="3600360"/>
          </a:xfrm>
          <a:prstGeom prst="rect">
            <a:avLst/>
          </a:prstGeom>
          <a:ln w="0">
            <a:noFill/>
          </a:ln>
        </p:spPr>
      </p:sp>
      <p:sp>
        <p:nvSpPr>
          <p:cNvPr id="62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76AC-6018-42BC-9A7F-5D4581453B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257480" y="720720"/>
            <a:ext cx="4800600" cy="3600360"/>
          </a:xfrm>
          <a:prstGeom prst="rect">
            <a:avLst/>
          </a:prstGeom>
          <a:ln w="0">
            <a:noFill/>
          </a:ln>
        </p:spPr>
      </p:sp>
      <p:sp>
        <p:nvSpPr>
          <p:cNvPr id="62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aska tectonics and earthquakes </a:t>
            </a:r>
            <a:r>
              <a:rPr b="0" lang="en-US" sz="1200" spc="-1" strike="noStrike">
                <a:solidFill>
                  <a:srgbClr val="0070c0"/>
                </a:solidFill>
                <a:latin typeface="Calibri"/>
              </a:rPr>
              <a:t>http://www.iris.edu/hq/inclass/animation/alaska_tectonics_and_earthquakes</a:t>
            </a:r>
            <a:endParaRPr b="0" lang="en-US" sz="1200" spc="-1" strike="noStrike">
              <a:solidFill>
                <a:srgbClr val="000000"/>
              </a:solidFill>
              <a:latin typeface="Calibri"/>
            </a:endParaRPr>
          </a:p>
        </p:txBody>
      </p:sp>
      <p:sp>
        <p:nvSpPr>
          <p:cNvPr id="6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5668-D40B-44FA-A09C-E0B0C2B5001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257480" y="720720"/>
            <a:ext cx="4800600" cy="3600360"/>
          </a:xfrm>
          <a:prstGeom prst="rect">
            <a:avLst/>
          </a:prstGeom>
          <a:ln w="0">
            <a:noFill/>
          </a:ln>
        </p:spPr>
      </p:sp>
      <p:sp>
        <p:nvSpPr>
          <p:cNvPr id="62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rthquake focal mechanisms? </a:t>
            </a:r>
            <a:r>
              <a:rPr b="0" lang="en-US"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aska Regional Seismotectonics Animation:  http://www.iris.edu/hq/programs/education_and_outreach/animations/34</a:t>
            </a:r>
            <a:endParaRPr b="0" lang="en-US" sz="1200" spc="-1" strike="noStrike">
              <a:solidFill>
                <a:srgbClr val="000000"/>
              </a:solidFill>
              <a:latin typeface="Calibri"/>
            </a:endParaRPr>
          </a:p>
        </p:txBody>
      </p:sp>
      <p:sp>
        <p:nvSpPr>
          <p:cNvPr id="6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3BF3-F650-4212-B915-D73AE1BBA8A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257480" y="720720"/>
            <a:ext cx="4800600" cy="3600360"/>
          </a:xfrm>
          <a:prstGeom prst="rect">
            <a:avLst/>
          </a:prstGeom>
          <a:ln w="0">
            <a:noFill/>
          </a:ln>
        </p:spPr>
      </p:sp>
      <p:sp>
        <p:nvSpPr>
          <p:cNvPr id="6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levant animation: </a:t>
            </a:r>
            <a:r>
              <a:rPr b="0" lang="en-US" sz="1200" spc="-1" strike="noStrike">
                <a:solidFill>
                  <a:srgbClr val="000000"/>
                </a:solidFill>
                <a:latin typeface="Calibri"/>
              </a:rPr>
              <a:t>Great</a:t>
            </a:r>
            <a:r>
              <a:rPr b="1" lang="en-US" sz="1200" spc="-1" strike="noStrike">
                <a:solidFill>
                  <a:srgbClr val="000000"/>
                </a:solidFill>
                <a:latin typeface="Calibri"/>
              </a:rPr>
              <a:t> </a:t>
            </a:r>
            <a:r>
              <a:rPr b="0" lang="en-US" sz="1200" spc="-1" strike="noStrike">
                <a:solidFill>
                  <a:srgbClr val="000000"/>
                </a:solidFill>
                <a:latin typeface="Calibri"/>
              </a:rPr>
              <a:t>Alaska Earthquake of 1964 (http://www.iris.edu/hq/inclass/animation/alaska_the_great_alaska_earthquake_of_1964)</a:t>
            </a:r>
            <a:endParaRPr b="0" lang="en-US" sz="1200" spc="-1" strike="noStrike">
              <a:solidFill>
                <a:srgbClr val="000000"/>
              </a:solidFill>
              <a:latin typeface="Calibri"/>
            </a:endParaRPr>
          </a:p>
        </p:txBody>
      </p:sp>
      <p:sp>
        <p:nvSpPr>
          <p:cNvPr id="6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2F05-5AF0-4F69-AF33-5ECE6B0D970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257480" y="720720"/>
            <a:ext cx="4800600" cy="3600360"/>
          </a:xfrm>
          <a:prstGeom prst="rect">
            <a:avLst/>
          </a:prstGeom>
          <a:ln w="0">
            <a:noFill/>
          </a:ln>
        </p:spPr>
      </p:sp>
      <p:sp>
        <p:nvSpPr>
          <p:cNvPr id="63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6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AA76-7453-4F44-96DC-EA855A348BC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257480" y="720720"/>
            <a:ext cx="4800600" cy="3600360"/>
          </a:xfrm>
          <a:prstGeom prst="rect">
            <a:avLst/>
          </a:prstGeom>
          <a:ln w="0">
            <a:noFill/>
          </a:ln>
        </p:spPr>
      </p:sp>
      <p:sp>
        <p:nvSpPr>
          <p:cNvPr id="6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7E6F-A314-472D-BC8C-D55980CA1D4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4E0CF-674C-483A-80A0-420A85C33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84D83-7D7C-4CBC-8855-83084F631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C60E61-9197-488E-9945-806AD1D867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E259F6-C0FA-4388-B00B-0A3F321D54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BE3067-9C73-463F-8312-3879C06382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B746FF-F1B6-4A17-9320-BCAA4BAC72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45B95A-467C-4483-BB99-274F1FE1C8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0982BA-BDEC-4572-9E5C-ED741A094B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3F9E35-1456-4EB4-AFF7-DD46DA24D1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174E3F-2E3F-4E0C-944D-9CA499EDD5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E4E35B-FD82-4EA1-AC7B-186A8DC9D7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509826E-4857-4C1E-8CD6-94E0FFB51BD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B0316-CD4D-4F77-BFF7-6AA16AE39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741BBF-A0C2-416D-A161-DDFFF1904A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CE0649-C452-46AD-8378-5326FD5D1B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140042-CC9E-401A-979D-2BB64532C2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60462B-5817-4069-A00D-E8C7714E08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4E3828-F674-4126-98A4-D0A95D3C7B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FE3BE7-6CC1-4DAF-8EB8-A5F29DBFC1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AE9B8E-54BE-4D8F-BC2E-522D5416D5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F6DEBE-EA40-4278-B384-28BF74D88E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CBF3E5-AF17-4DC0-AF00-3E8A440BCF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F01A8AF-5795-4233-AB9B-98CC7165930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48B4A-05B0-4775-A371-CCF16977C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6A006A8-A0C2-4F8E-9D52-E9676160945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AF3DE9-F0BC-4FC8-A815-48DBCE5D3C5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E38076-8368-470E-A45B-8E086171E3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7622E1-8A14-4BFB-8807-7EA719B6C3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B18181-1335-46A7-9A3B-896CD29439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6127EC-04B5-46EC-8E9B-AD4B888228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1B4E73-B1FC-4F7F-8DDC-EEF68354A1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599A88-8F17-4FF9-922C-D879B87865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225ACF-9691-47F9-88E8-A829267030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F34C25-26A7-41C4-97E3-2B637DE4C6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2312ED-15FB-45AE-BC41-E3BE26D51B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BF636E-70F4-4831-92B3-0D21CEC7FD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B3857F1-4762-41DC-8450-A8753374232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63A5C3-A774-4C50-BC88-2490D693D21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19D5A22-0820-45B5-A090-6EB379AD5E0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A4C2DE-728E-4B78-AA0F-D3C77B6AA3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76F270-2215-44D7-BB3F-C6F8EFA3EEB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377636-67B0-4368-83EA-CFFFA81C4E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2417FD-DFF2-46C8-84F9-DFB6DE9B9B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34CD67-BC12-43FC-8A6A-5F29BA9A38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461598-0146-44CB-B309-1868A5F90D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053A2-5142-4593-B8A9-171A10AA0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C30065-C82B-463E-854C-0B7FC08B8E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3866CA-CA8E-4B79-9019-E95EBA475D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F6B7C7-5A78-473B-834D-109D90770E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3D75D54-0D55-40BC-B8BE-0BCFD598003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41D1B8F-9C97-4D0F-B5C3-99F1ED691DD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9E8BC05-0772-4CFB-AF75-05641A18031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8D7408-CECD-41BB-B67E-08B48332A1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78A6AA1-1953-45D9-9216-D3C738F2C7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0E51F33-142C-4EAB-93DE-E5AF70D59F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B15857-B2CA-4205-8D3A-086B0F9698F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12CC4-3D31-448A-A1D7-A4E61C97A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B39274-43D3-41B6-AC15-0AA8D087C04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8DFA2C-DE7D-4DBD-9FEC-9549A6590F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0B4C3D-DB8E-4210-B7E7-EF25E98574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B8654A-C573-48DE-AB99-B7E2553381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B8AE88-182C-49AB-85EF-F2B1678988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1717056-893E-4258-8986-D9A47A8E914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D3A543C-5E71-4628-834F-FF37E6E3021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3B3F8-7034-4687-9512-A58D3A106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22F43-E28F-4DFA-9026-567BACE96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EA140-BF3E-46C2-961C-A06E736D3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92E13-F8A7-4112-88B5-1C194C8CF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0CA32-C1E8-408C-9488-715C94371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58249-DB52-4B70-B7EF-545C996E7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BDB6F-C0B7-450E-B4CA-19A859C88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AA44D-900E-409E-ACCF-3C5308C36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9373DE-9E5C-4D90-8532-672DED67B3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36E0C-E8E0-43DE-8997-4B3BFEC0D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E9BFCF-049C-404B-9F6E-D16A9125C4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F6FE8A-63AD-4AA5-98B8-9FC90CA474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E5A192-DDDB-4CAA-A273-EF830EBA5A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C08DBF-3C75-4FB2-8552-C200989B4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58D1CA-AADC-4BD3-AD33-167BDC1998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B1D72-08D7-4540-BFE3-1ECC52C8D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F77DB9-A280-4780-80F3-33A61FFFAF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14B2E-BE1B-4D15-8175-C6ADFB417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847D63-816C-4306-ABC3-696EBBD1FA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16EFC2-F980-4340-8979-57E4EF5125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7B5B9A-A1AC-4101-B02A-20D86ECF06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B7FF0E-14ED-4C73-A13E-A5DFC3F6C2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6C8394-F59D-4640-B58B-BF44E2388A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9D5B51-3EE7-4E80-8FA9-7C30EC8F3B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C26009-BD15-4629-BC3C-F5C5B477AC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9EADB9-C970-4BEF-AE47-2942F47591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82D2F-FB1C-4747-9C44-6F1905035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1CFE59-459B-4DCB-B3EB-58798767EA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921CFC-E54E-4FEB-A380-06225B8408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9F4DB6-1EDF-4FEA-BCD2-0A59B314BA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E3302-AB2A-4AE6-9F0F-304008F3F6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F858D9-77B5-4021-8403-BBE2BDC916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FC8ECF-C9D7-48BE-B703-01C932EC0B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240EDD-4763-46C3-A180-2AE3CC13C7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113FF0-0329-4BE5-8636-8BBD9B5330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87DC44-FDE6-4FDC-8EC4-65F8CE8BB9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587459-1B7C-4CE5-80EA-0ACFBBC318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E5F04-2673-45A3-86CE-2563726C5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622E3B-A177-42E7-9A1C-E969BC3C9F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AC41C1-1C92-4596-9A6C-339BCDE1DA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4E79A7-6EB9-4D7D-9541-B7ADAEDC69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2F34C7-3F1E-44AB-965D-E62D58C7C9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DF2F68-73BD-4410-AFBA-831FF5FA13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FB8A04-22F4-4AFD-8FC1-4840D30762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98151B-5A45-48E3-BC88-D0FD474BED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A761B1-06F0-4E62-B751-40013B9B32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B91012-500D-443C-9EBF-EC41E106CD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240C29-9B3E-4A83-97A2-EF53DFAC48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037A4-0AB5-4A8F-B812-48C9A10FE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8B20B0-816C-4265-B4B1-60CF19B43A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404255-F68C-4639-B50F-3D33712170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956D9A-52ED-4257-9FD6-C58ABB328B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548B89-CD87-444B-B245-0AC2FC492A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9C559C-58DC-4EEB-A1AC-64FE4D889E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DE9DBE-8A0E-4191-8E9D-B477E1477D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9883C1-EBE8-4A65-91B1-5DCDA82A15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0D98FF-8E44-4F47-B1D4-0B1D5575AE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8FFDF4-F14E-4F3D-8778-60D2CE3A4F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60B9CA-8F06-4939-95B2-384C19C84A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7DDF7-4C10-4E81-85D7-1A1C74D3C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A956F8-982A-46C2-958F-9F95980764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13E8AB-7896-4414-9382-8FB73F5486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797541-A1ED-485F-9D39-687AB0F918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D478B5-E35E-4D78-AED9-19C6EF3D0E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89D802-BDF2-4C5A-997F-1640D73810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70D5B2-ADF5-4B36-BAA5-4EB5C0350C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B042BF-F379-4481-A71D-09CEB895BD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991D7E-6DAA-440B-8C8A-C63BF67639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F033CB-D2A0-4107-9D33-310E256059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568D1E-A863-4E18-A8DE-D8BA017A65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7DC18-D227-425A-9456-E70B59DAE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7939BE-7325-4AFC-B901-9E664B2F2F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62822E-DEAD-4EC6-8722-50D23695D8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8542C8-7A9E-45D4-A2E4-35955B9576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3D292E-DC88-4E4B-9950-1E6CF83802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3F0E87-303A-4D2B-800C-254D272253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33C353-A63E-4120-B141-08D65A672E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D4D9A2-30FE-4B6B-8433-982BA719AF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95E1A0-58FC-45F3-962E-70B6B55FF8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464A3C-B920-44AC-A71C-B7AE09190B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A5AE0F-DBFA-467F-9797-6851A53C51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18E6A-331E-4682-923A-11FF5D4D5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2BEF26-E2CB-45C1-962F-D603CFEB9A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77EB5D-A047-4B88-9832-58C861BB70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D3E9BD-0107-4D73-9B3A-B643C30CB3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C40FD4-53D2-4242-9A47-0B2FAB5D73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8FAA21-926A-4F9F-A274-8986A13EBE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3918F4-FA49-40C2-A46E-0B1A89EBED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DC493E-95DB-4FD0-B316-9CBA989D02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8A7C85-211A-4E38-AE2B-6690717DF6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75393F-3166-499D-9F00-9A006D116D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1A8478-4DB5-4BA2-9D1B-C62A4172B93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67C2-3D68-4735-BA0D-A0EDA8DF71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1272-99B1-4575-8E27-85B0EC21B4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3E8F3-822D-4822-B88F-6EAC3CFD07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B5FC-5CD6-4AF8-A42F-152B3202C1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1CEA7-23D7-4A72-9383-F2DAFD0E08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EE740A-2715-4B8C-AB49-16255187B3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0E41-E534-4CDB-B0A5-656B835927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91B1-6ECF-416E-BA2D-865D5E76BB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D9EF-4F21-4BDC-B773-8C51EE62D1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7A81-A34F-46DD-955F-8A7494276C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C121-D71A-4F47-9DA2-50A89D3173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C87D-6ED6-43A5-B6AE-F539CE9E5D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263C-34A0-4990-87F8-92AD14D21A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tkb@iris.edu" TargetMode="External"/><Relationship Id="rId2" Type="http://schemas.openxmlformats.org/officeDocument/2006/relationships/hyperlink" Target="http://www.iris.edu/hq/retm"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extBox 14"/>
          <p:cNvSpPr/>
          <p:nvPr/>
        </p:nvSpPr>
        <p:spPr>
          <a:xfrm>
            <a:off x="249120" y="1066680"/>
            <a:ext cx="8666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gnitude 7.7 earthquake occurred near the westernmost extension of the Aleutian Island chain.  The epicenter was located 688.6 km (427.9 miles) E of Petropavlovsk-Kamchatsky, Russia, at a depth of 11.7 km below Earth’s surf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14"/>
          <p:cNvSpPr/>
          <p:nvPr/>
        </p:nvSpPr>
        <p:spPr>
          <a:xfrm>
            <a:off x="4952880" y="2120760"/>
            <a:ext cx="39070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omandorskie Islands are a group of treeless, sparsely populated Russian Bering Sea islands located 175 kilometres east of the Kamchatka Peninsula in the Russian Far Eas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courtesy cortezawwris</a:t>
            </a:r>
            <a:endParaRPr b="0" lang="en-US" sz="1400" spc="-1" strike="noStrike">
              <a:solidFill>
                <a:srgbClr val="000000"/>
              </a:solidFill>
              <a:latin typeface="Arial"/>
            </a:endParaRPr>
          </a:p>
        </p:txBody>
      </p:sp>
      <p:sp>
        <p:nvSpPr>
          <p:cNvPr id="54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KOMANDORSKIYE OSTROVA, RUSSIA</a:t>
            </a:r>
            <a:br>
              <a:rPr sz="3500"/>
            </a:br>
            <a:r>
              <a:rPr b="1" lang="en-US" sz="1500" spc="-1" strike="noStrike">
                <a:solidFill>
                  <a:srgbClr val="11488b"/>
                </a:solidFill>
                <a:latin typeface="Arial"/>
                <a:ea typeface="Arial"/>
              </a:rPr>
              <a:t>Monday,  July 17, 2017 at 23:34:14 UTC </a:t>
            </a:r>
            <a:endParaRPr b="0" lang="en-US" sz="1500" spc="-1" strike="noStrike">
              <a:solidFill>
                <a:srgbClr val="000000"/>
              </a:solidFill>
              <a:latin typeface="Arial"/>
            </a:endParaRPr>
          </a:p>
        </p:txBody>
      </p:sp>
      <p:pic>
        <p:nvPicPr>
          <p:cNvPr id="545" name="Picture 1" descr=""/>
          <p:cNvPicPr/>
          <p:nvPr/>
        </p:nvPicPr>
        <p:blipFill>
          <a:blip r:embed="rId2"/>
          <a:stretch/>
        </p:blipFill>
        <p:spPr>
          <a:xfrm>
            <a:off x="533520" y="3573360"/>
            <a:ext cx="8229600" cy="3208320"/>
          </a:xfrm>
          <a:prstGeom prst="rect">
            <a:avLst/>
          </a:prstGeom>
          <a:ln w="0">
            <a:noFill/>
          </a:ln>
        </p:spPr>
      </p:pic>
      <p:pic>
        <p:nvPicPr>
          <p:cNvPr id="546" name="Picture 2" descr=""/>
          <p:cNvPicPr/>
          <p:nvPr/>
        </p:nvPicPr>
        <p:blipFill>
          <a:blip r:embed="rId3"/>
          <a:stretch/>
        </p:blipFill>
        <p:spPr>
          <a:xfrm>
            <a:off x="1201680" y="2077920"/>
            <a:ext cx="3684600" cy="18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12" descr="scale.jpg"/>
          <p:cNvPicPr/>
          <p:nvPr/>
        </p:nvPicPr>
        <p:blipFill>
          <a:blip r:embed="rId1"/>
          <a:stretch/>
        </p:blipFill>
        <p:spPr>
          <a:xfrm>
            <a:off x="380880" y="4070520"/>
            <a:ext cx="2127240" cy="2319120"/>
          </a:xfrm>
          <a:prstGeom prst="rect">
            <a:avLst/>
          </a:prstGeom>
          <a:ln w="0">
            <a:noFill/>
          </a:ln>
        </p:spPr>
      </p:pic>
      <p:sp>
        <p:nvSpPr>
          <p:cNvPr id="549" name="TextBox 13"/>
          <p:cNvSpPr/>
          <p:nvPr/>
        </p:nvSpPr>
        <p:spPr>
          <a:xfrm>
            <a:off x="271440" y="37195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550" name="TextBox 14"/>
          <p:cNvSpPr/>
          <p:nvPr/>
        </p:nvSpPr>
        <p:spPr>
          <a:xfrm>
            <a:off x="2541600" y="35053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TextBox 15"/>
          <p:cNvSpPr/>
          <p:nvPr/>
        </p:nvSpPr>
        <p:spPr>
          <a:xfrm>
            <a:off x="4089240" y="6261120"/>
            <a:ext cx="4876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7 Earthquake</a:t>
            </a:r>
            <a:endParaRPr b="0" lang="en-US" sz="1400" spc="-1" strike="noStrike">
              <a:solidFill>
                <a:srgbClr val="000000"/>
              </a:solidFill>
              <a:latin typeface="Arial"/>
            </a:endParaRPr>
          </a:p>
        </p:txBody>
      </p:sp>
      <p:sp>
        <p:nvSpPr>
          <p:cNvPr id="552" name="TextBox 15"/>
          <p:cNvSpPr/>
          <p:nvPr/>
        </p:nvSpPr>
        <p:spPr>
          <a:xfrm>
            <a:off x="212760" y="1170000"/>
            <a:ext cx="3722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ale is a twelve-stage scal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to XII, that indicates the seve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nearest island experienced strong shaking from this 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Picture 8" descr="IRIS_TMlogo.png"/>
          <p:cNvPicPr/>
          <p:nvPr/>
        </p:nvPicPr>
        <p:blipFill>
          <a:blip r:embed="rId2"/>
          <a:stretch/>
        </p:blipFill>
        <p:spPr>
          <a:xfrm>
            <a:off x="239760" y="76320"/>
            <a:ext cx="903240" cy="927000"/>
          </a:xfrm>
          <a:prstGeom prst="rect">
            <a:avLst/>
          </a:prstGeom>
          <a:ln w="0">
            <a:noFill/>
          </a:ln>
        </p:spPr>
      </p:pic>
      <p:sp>
        <p:nvSpPr>
          <p:cNvPr id="554" name="TextBox 15"/>
          <p:cNvSpPr/>
          <p:nvPr/>
        </p:nvSpPr>
        <p:spPr>
          <a:xfrm>
            <a:off x="252360" y="652608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pic>
        <p:nvPicPr>
          <p:cNvPr id="555" name="Picture 1" descr=""/>
          <p:cNvPicPr/>
          <p:nvPr/>
        </p:nvPicPr>
        <p:blipFill>
          <a:blip r:embed="rId3"/>
          <a:stretch/>
        </p:blipFill>
        <p:spPr>
          <a:xfrm>
            <a:off x="3848040" y="1170000"/>
            <a:ext cx="5111640" cy="5022720"/>
          </a:xfrm>
          <a:prstGeom prst="rect">
            <a:avLst/>
          </a:prstGeom>
          <a:ln w="0">
            <a:noFill/>
          </a:ln>
        </p:spPr>
      </p:pic>
      <p:sp>
        <p:nvSpPr>
          <p:cNvPr id="55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KOMANDORSKIYE OSTROVA, RUSSIA</a:t>
            </a:r>
            <a:br>
              <a:rPr sz="3500"/>
            </a:br>
            <a:r>
              <a:rPr b="1" lang="en-US" sz="1500" spc="-1" strike="noStrike">
                <a:solidFill>
                  <a:srgbClr val="11488b"/>
                </a:solidFill>
                <a:latin typeface="Arial"/>
                <a:ea typeface="Arial"/>
              </a:rPr>
              <a:t>Monday,  July 17, 2017 at 23:34: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TextBox 15"/>
          <p:cNvSpPr/>
          <p:nvPr/>
        </p:nvSpPr>
        <p:spPr>
          <a:xfrm>
            <a:off x="5186520" y="6555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559" name="Picture 8" descr="IRIS_TMlogo.png"/>
          <p:cNvPicPr/>
          <p:nvPr/>
        </p:nvPicPr>
        <p:blipFill>
          <a:blip r:embed="rId1"/>
          <a:stretch/>
        </p:blipFill>
        <p:spPr>
          <a:xfrm>
            <a:off x="239760" y="76320"/>
            <a:ext cx="903240" cy="927000"/>
          </a:xfrm>
          <a:prstGeom prst="rect">
            <a:avLst/>
          </a:prstGeom>
          <a:ln w="0">
            <a:noFill/>
          </a:ln>
        </p:spPr>
      </p:pic>
      <p:sp>
        <p:nvSpPr>
          <p:cNvPr id="560"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561"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562" name="TextBox 18"/>
          <p:cNvSpPr/>
          <p:nvPr/>
        </p:nvSpPr>
        <p:spPr>
          <a:xfrm>
            <a:off x="243000" y="1095480"/>
            <a:ext cx="44053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rea is sparsely populated.  The USGS estimates only 1000 people may have felt moderate shaking.</a:t>
            </a:r>
            <a:endParaRPr b="0" lang="en-US" sz="1800" spc="-1" strike="noStrike">
              <a:solidFill>
                <a:srgbClr val="000000"/>
              </a:solidFill>
              <a:latin typeface="Arial"/>
            </a:endParaRPr>
          </a:p>
        </p:txBody>
      </p:sp>
      <p:pic>
        <p:nvPicPr>
          <p:cNvPr id="563" name="Picture 4" descr=""/>
          <p:cNvPicPr/>
          <p:nvPr/>
        </p:nvPicPr>
        <p:blipFill>
          <a:blip r:embed="rId2"/>
          <a:stretch/>
        </p:blipFill>
        <p:spPr>
          <a:xfrm>
            <a:off x="649440" y="3138480"/>
            <a:ext cx="2474640" cy="3656160"/>
          </a:xfrm>
          <a:prstGeom prst="rect">
            <a:avLst/>
          </a:prstGeom>
          <a:ln w="0">
            <a:noFill/>
          </a:ln>
        </p:spPr>
      </p:pic>
      <p:pic>
        <p:nvPicPr>
          <p:cNvPr id="564" name="Picture 5" descr=""/>
          <p:cNvPicPr/>
          <p:nvPr/>
        </p:nvPicPr>
        <p:blipFill>
          <a:blip r:embed="rId3"/>
          <a:stretch/>
        </p:blipFill>
        <p:spPr>
          <a:xfrm>
            <a:off x="4649760" y="1179360"/>
            <a:ext cx="4303800" cy="4303800"/>
          </a:xfrm>
          <a:prstGeom prst="rect">
            <a:avLst/>
          </a:prstGeom>
          <a:ln w="0">
            <a:noFill/>
          </a:ln>
        </p:spPr>
      </p:pic>
      <p:sp>
        <p:nvSpPr>
          <p:cNvPr id="56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KOMANDORSKIYE OSTROVA, RUSSIA</a:t>
            </a:r>
            <a:br>
              <a:rPr sz="3500"/>
            </a:br>
            <a:r>
              <a:rPr b="1" lang="en-US" sz="1500" spc="-1" strike="noStrike">
                <a:solidFill>
                  <a:srgbClr val="11488b"/>
                </a:solidFill>
                <a:latin typeface="Arial"/>
                <a:ea typeface="Arial"/>
              </a:rPr>
              <a:t>Monday,  July 17, 2017 at 23:34: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7" name="Picture 18" descr="IRIS_TMlogo.png"/>
          <p:cNvPicPr/>
          <p:nvPr/>
        </p:nvPicPr>
        <p:blipFill>
          <a:blip r:embed="rId1"/>
          <a:stretch/>
        </p:blipFill>
        <p:spPr>
          <a:xfrm>
            <a:off x="239760" y="76320"/>
            <a:ext cx="903240" cy="927000"/>
          </a:xfrm>
          <a:prstGeom prst="rect">
            <a:avLst/>
          </a:prstGeom>
          <a:ln w="0">
            <a:noFill/>
          </a:ln>
        </p:spPr>
      </p:pic>
      <p:pic>
        <p:nvPicPr>
          <p:cNvPr id="568" name="Picture 4" descr=""/>
          <p:cNvPicPr/>
          <p:nvPr/>
        </p:nvPicPr>
        <p:blipFill>
          <a:blip r:embed="rId2"/>
          <a:srcRect l="12500" t="7775" r="19714" b="6001"/>
          <a:stretch/>
        </p:blipFill>
        <p:spPr>
          <a:xfrm>
            <a:off x="2908440" y="1219320"/>
            <a:ext cx="6197400" cy="4647960"/>
          </a:xfrm>
          <a:prstGeom prst="rect">
            <a:avLst/>
          </a:prstGeom>
          <a:ln w="0">
            <a:noFill/>
          </a:ln>
        </p:spPr>
      </p:pic>
      <p:sp>
        <p:nvSpPr>
          <p:cNvPr id="569" name="TextBox 9"/>
          <p:cNvSpPr/>
          <p:nvPr/>
        </p:nvSpPr>
        <p:spPr>
          <a:xfrm>
            <a:off x="196920" y="1123920"/>
            <a:ext cx="266688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hite arrows on this map show the motion of the Pacific Plate with respect to the North American Plate. The red star is the epicenter of this earthquak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hospheric plates are spherical caps so plate motions are best described as relative rotations. This geometry and the 4000 km length of the Aleutian Trench produce changes in rates and directions of relative plate motion along the Aleutian subduction zone.  </a:t>
            </a:r>
            <a:endParaRPr b="0" lang="en-US" sz="1600" spc="-1" strike="noStrike">
              <a:solidFill>
                <a:srgbClr val="000000"/>
              </a:solidFill>
              <a:latin typeface="Arial"/>
            </a:endParaRPr>
          </a:p>
        </p:txBody>
      </p:sp>
      <p:sp>
        <p:nvSpPr>
          <p:cNvPr id="570" name="TextBox 5"/>
          <p:cNvSpPr/>
          <p:nvPr/>
        </p:nvSpPr>
        <p:spPr>
          <a:xfrm>
            <a:off x="3894120" y="2590920"/>
            <a:ext cx="23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rth American Plate</a:t>
            </a:r>
            <a:endParaRPr b="0" lang="en-US" sz="1800" spc="-1" strike="noStrike">
              <a:solidFill>
                <a:srgbClr val="000000"/>
              </a:solidFill>
              <a:latin typeface="Arial"/>
            </a:endParaRPr>
          </a:p>
        </p:txBody>
      </p:sp>
      <p:sp>
        <p:nvSpPr>
          <p:cNvPr id="571" name="TextBox 18"/>
          <p:cNvSpPr/>
          <p:nvPr/>
        </p:nvSpPr>
        <p:spPr>
          <a:xfrm>
            <a:off x="5952240" y="5497560"/>
            <a:ext cx="143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cific Plate</a:t>
            </a:r>
            <a:endParaRPr b="0" lang="en-US" sz="1800" spc="-1" strike="noStrike">
              <a:solidFill>
                <a:srgbClr val="000000"/>
              </a:solidFill>
              <a:latin typeface="Arial"/>
            </a:endParaRPr>
          </a:p>
        </p:txBody>
      </p:sp>
      <p:sp>
        <p:nvSpPr>
          <p:cNvPr id="572" name="5-Point Star 6"/>
          <p:cNvSpPr/>
          <p:nvPr/>
        </p:nvSpPr>
        <p:spPr>
          <a:xfrm>
            <a:off x="3168720" y="28465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TextBox 7"/>
          <p:cNvSpPr/>
          <p:nvPr/>
        </p:nvSpPr>
        <p:spPr>
          <a:xfrm>
            <a:off x="239760" y="5894280"/>
            <a:ext cx="854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the eastern Aleutian Trench, subduction is nearly orthogonal to the plate boundary and thrust faulting dominates. In the western Aleutian Trench, relative plate motion is nearly parallel to the plate boundary and right-lateral strike-slip faulting is common.</a:t>
            </a:r>
            <a:endParaRPr b="0" lang="en-US" sz="1600" spc="-1" strike="noStrike">
              <a:solidFill>
                <a:srgbClr val="000000"/>
              </a:solidFill>
              <a:latin typeface="Arial"/>
            </a:endParaRPr>
          </a:p>
        </p:txBody>
      </p:sp>
      <p:sp>
        <p:nvSpPr>
          <p:cNvPr id="5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KOMANDORSKIYE OSTROVA, RUSSIA</a:t>
            </a:r>
            <a:br>
              <a:rPr sz="3500"/>
            </a:br>
            <a:r>
              <a:rPr b="1" lang="en-US" sz="1500" spc="-1" strike="noStrike">
                <a:solidFill>
                  <a:srgbClr val="11488b"/>
                </a:solidFill>
                <a:latin typeface="Arial"/>
                <a:ea typeface="Arial"/>
              </a:rPr>
              <a:t>Monday,  July 17, 2017 at 23:34: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Box 7"/>
          <p:cNvSpPr/>
          <p:nvPr/>
        </p:nvSpPr>
        <p:spPr>
          <a:xfrm>
            <a:off x="228600" y="1179360"/>
            <a:ext cx="8620200" cy="29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he focal mechanism is how seismologists plot the 3-D stress orientations of an earthquake. Since an earthquake occurs as slip on a fault, it generates primary (P) waves in quadrants of compression (shaded) and extension (white). The orientation of these quadrants determined from recorded seismic waves determines the type of fault that produced the earthquake. </a:t>
            </a:r>
            <a:endParaRPr b="0" lang="en-US" sz="18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n this case, the focal mechanism indicates this earthquake occurred as the result of strike-slip faulting. In the westernmost extension of the Aleutian Trench, relative plate motion is nearly parallel to the plate boundary and right-lateral strike-slip faulting is common.</a:t>
            </a:r>
            <a:endParaRPr b="0" lang="en-US" sz="1800" spc="-1" strike="noStrike">
              <a:solidFill>
                <a:srgbClr val="000000"/>
              </a:solidFill>
              <a:latin typeface="Arial"/>
            </a:endParaRPr>
          </a:p>
        </p:txBody>
      </p:sp>
      <p:sp>
        <p:nvSpPr>
          <p:cNvPr id="576" name="TextBox 8"/>
          <p:cNvSpPr/>
          <p:nvPr/>
        </p:nvSpPr>
        <p:spPr>
          <a:xfrm>
            <a:off x="3100320" y="5848200"/>
            <a:ext cx="602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T) reflects the minimum compressive stress direction.  </a:t>
            </a:r>
            <a:endParaRPr b="0" lang="en-US" sz="1400" spc="-1" strike="noStrike">
              <a:solidFill>
                <a:srgbClr val="000000"/>
              </a:solidFill>
              <a:latin typeface="Arial"/>
            </a:endParaRPr>
          </a:p>
        </p:txBody>
      </p:sp>
      <p:sp>
        <p:nvSpPr>
          <p:cNvPr id="577" name="TextBox 11"/>
          <p:cNvSpPr/>
          <p:nvPr/>
        </p:nvSpPr>
        <p:spPr>
          <a:xfrm>
            <a:off x="380880" y="64008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GS Centroid Moment Tensor Solution</a:t>
            </a:r>
            <a:endParaRPr b="0" lang="en-US" sz="1400" spc="-1" strike="noStrike">
              <a:solidFill>
                <a:srgbClr val="000000"/>
              </a:solidFill>
              <a:latin typeface="Arial"/>
            </a:endParaRPr>
          </a:p>
        </p:txBody>
      </p:sp>
      <p:sp>
        <p:nvSpPr>
          <p:cNvPr id="578"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9" name="Picture 8" descr="IRIS_TMlogo.png"/>
          <p:cNvPicPr/>
          <p:nvPr/>
        </p:nvPicPr>
        <p:blipFill>
          <a:blip r:embed="rId1"/>
          <a:stretch/>
        </p:blipFill>
        <p:spPr>
          <a:xfrm>
            <a:off x="239760" y="76320"/>
            <a:ext cx="903240" cy="927000"/>
          </a:xfrm>
          <a:prstGeom prst="rect">
            <a:avLst/>
          </a:prstGeom>
          <a:ln w="0">
            <a:noFill/>
          </a:ln>
        </p:spPr>
      </p:pic>
      <p:pic>
        <p:nvPicPr>
          <p:cNvPr id="580" name="Picture 1" descr=""/>
          <p:cNvPicPr/>
          <p:nvPr/>
        </p:nvPicPr>
        <p:blipFill>
          <a:blip r:embed="rId2"/>
          <a:stretch/>
        </p:blipFill>
        <p:spPr>
          <a:xfrm>
            <a:off x="368280" y="4152960"/>
            <a:ext cx="2641680" cy="2217600"/>
          </a:xfrm>
          <a:prstGeom prst="rect">
            <a:avLst/>
          </a:prstGeom>
          <a:ln w="0">
            <a:noFill/>
          </a:ln>
        </p:spPr>
      </p:pic>
      <p:pic>
        <p:nvPicPr>
          <p:cNvPr id="581" name="Picture 2" descr=""/>
          <p:cNvPicPr/>
          <p:nvPr/>
        </p:nvPicPr>
        <p:blipFill>
          <a:blip r:embed="rId3"/>
          <a:stretch/>
        </p:blipFill>
        <p:spPr>
          <a:xfrm>
            <a:off x="4384800" y="4033800"/>
            <a:ext cx="4464000" cy="1581120"/>
          </a:xfrm>
          <a:prstGeom prst="rect">
            <a:avLst/>
          </a:prstGeom>
          <a:ln w="0">
            <a:noFill/>
          </a:ln>
        </p:spPr>
      </p:pic>
      <p:sp>
        <p:nvSpPr>
          <p:cNvPr id="58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KOMANDORSKIYE OSTROVA, RUSSIA</a:t>
            </a:r>
            <a:br>
              <a:rPr sz="3500"/>
            </a:br>
            <a:r>
              <a:rPr b="1" lang="en-US" sz="1500" spc="-1" strike="noStrike">
                <a:solidFill>
                  <a:srgbClr val="11488b"/>
                </a:solidFill>
                <a:latin typeface="Arial"/>
                <a:ea typeface="Arial"/>
              </a:rPr>
              <a:t>Monday,  July 17, 2017 at 23:34: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2" descr=""/>
          <p:cNvPicPr/>
          <p:nvPr/>
        </p:nvPicPr>
        <p:blipFill>
          <a:blip r:embed="rId1"/>
          <a:srcRect l="609" t="1288" r="929" b="1616"/>
          <a:stretch/>
        </p:blipFill>
        <p:spPr>
          <a:xfrm>
            <a:off x="554040" y="2693880"/>
            <a:ext cx="7358040" cy="4114800"/>
          </a:xfrm>
          <a:prstGeom prst="rect">
            <a:avLst/>
          </a:prstGeom>
          <a:ln w="0">
            <a:noFill/>
          </a:ln>
        </p:spPr>
      </p:pic>
      <p:sp>
        <p:nvSpPr>
          <p:cNvPr id="584" name="Freeform 9"/>
          <p:cNvSpPr/>
          <p:nvPr/>
        </p:nvSpPr>
        <p:spPr>
          <a:xfrm>
            <a:off x="6235560" y="3681360"/>
            <a:ext cx="1490760" cy="1316160"/>
          </a:xfrm>
          <a:custGeom>
            <a:avLst/>
            <a:gdLst/>
            <a:ahLst/>
            <a:rect l="l" t="t" r="r" b="b"/>
            <a:pathLst>
              <a:path w="1490630" h="1316736">
                <a:moveTo>
                  <a:pt x="1161446" y="557784"/>
                </a:moveTo>
                <a:cubicBezTo>
                  <a:pt x="1258200" y="533595"/>
                  <a:pt x="1144264" y="566436"/>
                  <a:pt x="1225454" y="530352"/>
                </a:cubicBezTo>
                <a:cubicBezTo>
                  <a:pt x="1243070" y="522523"/>
                  <a:pt x="1262030" y="518160"/>
                  <a:pt x="1280318" y="512064"/>
                </a:cubicBezTo>
                <a:cubicBezTo>
                  <a:pt x="1289462" y="509016"/>
                  <a:pt x="1298299" y="504810"/>
                  <a:pt x="1307750" y="502920"/>
                </a:cubicBezTo>
                <a:cubicBezTo>
                  <a:pt x="1322990" y="499872"/>
                  <a:pt x="1338476" y="497865"/>
                  <a:pt x="1353470" y="493776"/>
                </a:cubicBezTo>
                <a:cubicBezTo>
                  <a:pt x="1372068" y="488704"/>
                  <a:pt x="1392294" y="486181"/>
                  <a:pt x="1408334" y="475488"/>
                </a:cubicBezTo>
                <a:lnTo>
                  <a:pt x="1463198" y="438912"/>
                </a:lnTo>
                <a:lnTo>
                  <a:pt x="1481486" y="384048"/>
                </a:lnTo>
                <a:lnTo>
                  <a:pt x="1490630" y="356616"/>
                </a:lnTo>
                <a:cubicBezTo>
                  <a:pt x="1487582" y="310896"/>
                  <a:pt x="1486546" y="264997"/>
                  <a:pt x="1481486" y="219456"/>
                </a:cubicBezTo>
                <a:cubicBezTo>
                  <a:pt x="1480422" y="209876"/>
                  <a:pt x="1478363" y="199550"/>
                  <a:pt x="1472342" y="192024"/>
                </a:cubicBezTo>
                <a:cubicBezTo>
                  <a:pt x="1465477" y="183442"/>
                  <a:pt x="1454054" y="179832"/>
                  <a:pt x="1444910" y="173736"/>
                </a:cubicBezTo>
                <a:cubicBezTo>
                  <a:pt x="1438814" y="164592"/>
                  <a:pt x="1435204" y="153169"/>
                  <a:pt x="1426622" y="146304"/>
                </a:cubicBezTo>
                <a:cubicBezTo>
                  <a:pt x="1419096" y="140283"/>
                  <a:pt x="1407616" y="141841"/>
                  <a:pt x="1399190" y="137160"/>
                </a:cubicBezTo>
                <a:cubicBezTo>
                  <a:pt x="1379977" y="126486"/>
                  <a:pt x="1362614" y="112776"/>
                  <a:pt x="1344326" y="100584"/>
                </a:cubicBezTo>
                <a:cubicBezTo>
                  <a:pt x="1336306" y="95237"/>
                  <a:pt x="1325515" y="95751"/>
                  <a:pt x="1316894" y="91440"/>
                </a:cubicBezTo>
                <a:cubicBezTo>
                  <a:pt x="1307064" y="86525"/>
                  <a:pt x="1299505" y="77615"/>
                  <a:pt x="1289462" y="73152"/>
                </a:cubicBezTo>
                <a:lnTo>
                  <a:pt x="1207166" y="45720"/>
                </a:lnTo>
                <a:lnTo>
                  <a:pt x="1124870" y="18288"/>
                </a:lnTo>
                <a:cubicBezTo>
                  <a:pt x="1115726" y="15240"/>
                  <a:pt x="1106789" y="11482"/>
                  <a:pt x="1097438" y="9144"/>
                </a:cubicBezTo>
                <a:lnTo>
                  <a:pt x="1060862" y="0"/>
                </a:lnTo>
                <a:cubicBezTo>
                  <a:pt x="970758" y="5632"/>
                  <a:pt x="944282" y="-1602"/>
                  <a:pt x="877982" y="18288"/>
                </a:cubicBezTo>
                <a:cubicBezTo>
                  <a:pt x="859518" y="23827"/>
                  <a:pt x="839158" y="25883"/>
                  <a:pt x="823118" y="36576"/>
                </a:cubicBezTo>
                <a:lnTo>
                  <a:pt x="795686" y="54864"/>
                </a:lnTo>
                <a:cubicBezTo>
                  <a:pt x="789590" y="64008"/>
                  <a:pt x="785169" y="74525"/>
                  <a:pt x="777398" y="82296"/>
                </a:cubicBezTo>
                <a:cubicBezTo>
                  <a:pt x="769627" y="90067"/>
                  <a:pt x="757203" y="92313"/>
                  <a:pt x="749966" y="100584"/>
                </a:cubicBezTo>
                <a:cubicBezTo>
                  <a:pt x="735492" y="117125"/>
                  <a:pt x="725582" y="137160"/>
                  <a:pt x="713390" y="155448"/>
                </a:cubicBezTo>
                <a:lnTo>
                  <a:pt x="658526" y="237744"/>
                </a:lnTo>
                <a:cubicBezTo>
                  <a:pt x="652430" y="246888"/>
                  <a:pt x="648009" y="257405"/>
                  <a:pt x="640238" y="265176"/>
                </a:cubicBezTo>
                <a:lnTo>
                  <a:pt x="612806" y="292608"/>
                </a:lnTo>
                <a:cubicBezTo>
                  <a:pt x="609758" y="301752"/>
                  <a:pt x="608343" y="311614"/>
                  <a:pt x="603662" y="320040"/>
                </a:cubicBezTo>
                <a:cubicBezTo>
                  <a:pt x="592988" y="339253"/>
                  <a:pt x="574037" y="354052"/>
                  <a:pt x="567086" y="374904"/>
                </a:cubicBezTo>
                <a:cubicBezTo>
                  <a:pt x="560990" y="393192"/>
                  <a:pt x="559491" y="413728"/>
                  <a:pt x="548798" y="429768"/>
                </a:cubicBezTo>
                <a:cubicBezTo>
                  <a:pt x="542702" y="438912"/>
                  <a:pt x="535425" y="447370"/>
                  <a:pt x="530510" y="457200"/>
                </a:cubicBezTo>
                <a:cubicBezTo>
                  <a:pt x="526199" y="465821"/>
                  <a:pt x="525677" y="476011"/>
                  <a:pt x="521366" y="484632"/>
                </a:cubicBezTo>
                <a:cubicBezTo>
                  <a:pt x="516451" y="494462"/>
                  <a:pt x="507541" y="502021"/>
                  <a:pt x="503078" y="512064"/>
                </a:cubicBezTo>
                <a:lnTo>
                  <a:pt x="475646" y="594360"/>
                </a:lnTo>
                <a:lnTo>
                  <a:pt x="466502" y="621792"/>
                </a:lnTo>
                <a:lnTo>
                  <a:pt x="457358" y="649224"/>
                </a:lnTo>
                <a:cubicBezTo>
                  <a:pt x="454310" y="670560"/>
                  <a:pt x="452069" y="692027"/>
                  <a:pt x="448214" y="713232"/>
                </a:cubicBezTo>
                <a:cubicBezTo>
                  <a:pt x="441068" y="752537"/>
                  <a:pt x="439719" y="742964"/>
                  <a:pt x="429926" y="777240"/>
                </a:cubicBezTo>
                <a:cubicBezTo>
                  <a:pt x="427141" y="786989"/>
                  <a:pt x="418086" y="829641"/>
                  <a:pt x="411638" y="841248"/>
                </a:cubicBezTo>
                <a:cubicBezTo>
                  <a:pt x="400964" y="860461"/>
                  <a:pt x="393350" y="883920"/>
                  <a:pt x="375062" y="896112"/>
                </a:cubicBezTo>
                <a:lnTo>
                  <a:pt x="320198" y="932688"/>
                </a:lnTo>
                <a:cubicBezTo>
                  <a:pt x="271430" y="1005840"/>
                  <a:pt x="335438" y="917448"/>
                  <a:pt x="274478" y="978408"/>
                </a:cubicBezTo>
                <a:cubicBezTo>
                  <a:pt x="233118" y="1019768"/>
                  <a:pt x="282162" y="997183"/>
                  <a:pt x="228758" y="1014984"/>
                </a:cubicBezTo>
                <a:cubicBezTo>
                  <a:pt x="210470" y="1033272"/>
                  <a:pt x="195413" y="1055502"/>
                  <a:pt x="173894" y="1069848"/>
                </a:cubicBezTo>
                <a:cubicBezTo>
                  <a:pt x="155606" y="1082040"/>
                  <a:pt x="134572" y="1090882"/>
                  <a:pt x="119030" y="1106424"/>
                </a:cubicBezTo>
                <a:cubicBezTo>
                  <a:pt x="95361" y="1130093"/>
                  <a:pt x="69546" y="1159495"/>
                  <a:pt x="36734" y="1170432"/>
                </a:cubicBezTo>
                <a:lnTo>
                  <a:pt x="9302" y="1179576"/>
                </a:lnTo>
                <a:cubicBezTo>
                  <a:pt x="-3139" y="1216898"/>
                  <a:pt x="-3063" y="1200307"/>
                  <a:pt x="9302" y="1243584"/>
                </a:cubicBezTo>
                <a:cubicBezTo>
                  <a:pt x="11950" y="1252852"/>
                  <a:pt x="11630" y="1264200"/>
                  <a:pt x="18446" y="1271016"/>
                </a:cubicBezTo>
                <a:cubicBezTo>
                  <a:pt x="25262" y="1277832"/>
                  <a:pt x="37257" y="1275849"/>
                  <a:pt x="45878" y="1280160"/>
                </a:cubicBezTo>
                <a:cubicBezTo>
                  <a:pt x="55708" y="1285075"/>
                  <a:pt x="63267" y="1293985"/>
                  <a:pt x="73310" y="1298448"/>
                </a:cubicBezTo>
                <a:cubicBezTo>
                  <a:pt x="90926" y="1306277"/>
                  <a:pt x="128174" y="1316736"/>
                  <a:pt x="128174" y="1316736"/>
                </a:cubicBezTo>
                <a:cubicBezTo>
                  <a:pt x="167798" y="1313688"/>
                  <a:pt x="207791" y="1313790"/>
                  <a:pt x="247046" y="1307592"/>
                </a:cubicBezTo>
                <a:cubicBezTo>
                  <a:pt x="266087" y="1304585"/>
                  <a:pt x="301910" y="1289304"/>
                  <a:pt x="301910" y="1289304"/>
                </a:cubicBezTo>
                <a:cubicBezTo>
                  <a:pt x="342810" y="1227953"/>
                  <a:pt x="294629" y="1288062"/>
                  <a:pt x="347630" y="1252728"/>
                </a:cubicBezTo>
                <a:cubicBezTo>
                  <a:pt x="358390" y="1245555"/>
                  <a:pt x="364854" y="1233235"/>
                  <a:pt x="375062" y="1225296"/>
                </a:cubicBezTo>
                <a:cubicBezTo>
                  <a:pt x="392412" y="1211802"/>
                  <a:pt x="411638" y="1200912"/>
                  <a:pt x="429926" y="1188720"/>
                </a:cubicBezTo>
                <a:lnTo>
                  <a:pt x="457358" y="1170432"/>
                </a:lnTo>
                <a:cubicBezTo>
                  <a:pt x="463454" y="1161288"/>
                  <a:pt x="467375" y="1150237"/>
                  <a:pt x="475646" y="1143000"/>
                </a:cubicBezTo>
                <a:cubicBezTo>
                  <a:pt x="492187" y="1128526"/>
                  <a:pt x="530510" y="1106424"/>
                  <a:pt x="530510" y="1106424"/>
                </a:cubicBezTo>
                <a:cubicBezTo>
                  <a:pt x="542702" y="1088136"/>
                  <a:pt x="548798" y="1063752"/>
                  <a:pt x="567086" y="1051560"/>
                </a:cubicBezTo>
                <a:lnTo>
                  <a:pt x="621950" y="1014984"/>
                </a:lnTo>
                <a:cubicBezTo>
                  <a:pt x="631094" y="1008888"/>
                  <a:pt x="641611" y="1004467"/>
                  <a:pt x="649382" y="996696"/>
                </a:cubicBezTo>
                <a:cubicBezTo>
                  <a:pt x="658526" y="987552"/>
                  <a:pt x="666606" y="977203"/>
                  <a:pt x="676814" y="969264"/>
                </a:cubicBezTo>
                <a:lnTo>
                  <a:pt x="759110" y="914400"/>
                </a:lnTo>
                <a:lnTo>
                  <a:pt x="786542" y="896112"/>
                </a:lnTo>
                <a:cubicBezTo>
                  <a:pt x="795686" y="890016"/>
                  <a:pt x="806203" y="885595"/>
                  <a:pt x="813974" y="877824"/>
                </a:cubicBezTo>
                <a:cubicBezTo>
                  <a:pt x="894117" y="797681"/>
                  <a:pt x="792455" y="895757"/>
                  <a:pt x="868838" y="832104"/>
                </a:cubicBezTo>
                <a:cubicBezTo>
                  <a:pt x="912552" y="795675"/>
                  <a:pt x="881864" y="816473"/>
                  <a:pt x="914558" y="777240"/>
                </a:cubicBezTo>
                <a:cubicBezTo>
                  <a:pt x="922837" y="767306"/>
                  <a:pt x="933711" y="759742"/>
                  <a:pt x="941990" y="749808"/>
                </a:cubicBezTo>
                <a:cubicBezTo>
                  <a:pt x="949025" y="741365"/>
                  <a:pt x="953243" y="730819"/>
                  <a:pt x="960278" y="722376"/>
                </a:cubicBezTo>
                <a:cubicBezTo>
                  <a:pt x="968557" y="712442"/>
                  <a:pt x="979771" y="705152"/>
                  <a:pt x="987710" y="694944"/>
                </a:cubicBezTo>
                <a:cubicBezTo>
                  <a:pt x="1045153" y="621089"/>
                  <a:pt x="998612" y="657196"/>
                  <a:pt x="1051718" y="621792"/>
                </a:cubicBezTo>
                <a:cubicBezTo>
                  <a:pt x="1057814" y="612648"/>
                  <a:pt x="1061424" y="601225"/>
                  <a:pt x="1070006" y="594360"/>
                </a:cubicBezTo>
                <a:cubicBezTo>
                  <a:pt x="1077532" y="588339"/>
                  <a:pt x="1088817" y="589527"/>
                  <a:pt x="1097438" y="585216"/>
                </a:cubicBezTo>
                <a:cubicBezTo>
                  <a:pt x="1172407" y="547731"/>
                  <a:pt x="1052475" y="574168"/>
                  <a:pt x="1216310" y="557784"/>
                </a:cubicBezTo>
                <a:lnTo>
                  <a:pt x="1252886" y="548640"/>
                </a:lnTo>
              </a:path>
            </a:pathLst>
          </a:custGeom>
          <a:solidFill>
            <a:srgbClr val="f79646">
              <a:alpha val="49000"/>
            </a:srgbClr>
          </a:solidFill>
          <a:ln w="25560">
            <a:solidFill>
              <a:srgbClr val="f7964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6" name="Picture 8" descr="IRIS_TMlogo.png"/>
          <p:cNvPicPr/>
          <p:nvPr/>
        </p:nvPicPr>
        <p:blipFill>
          <a:blip r:embed="rId2"/>
          <a:stretch/>
        </p:blipFill>
        <p:spPr>
          <a:xfrm>
            <a:off x="239760" y="76320"/>
            <a:ext cx="903240" cy="927000"/>
          </a:xfrm>
          <a:prstGeom prst="rect">
            <a:avLst/>
          </a:prstGeom>
          <a:ln w="0">
            <a:noFill/>
          </a:ln>
        </p:spPr>
      </p:pic>
      <p:sp>
        <p:nvSpPr>
          <p:cNvPr id="587" name="TextBox 18"/>
          <p:cNvSpPr/>
          <p:nvPr/>
        </p:nvSpPr>
        <p:spPr>
          <a:xfrm>
            <a:off x="228600" y="1828800"/>
            <a:ext cx="44226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Box 9"/>
          <p:cNvSpPr/>
          <p:nvPr/>
        </p:nvSpPr>
        <p:spPr>
          <a:xfrm>
            <a:off x="239760" y="880920"/>
            <a:ext cx="8766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p below shows the locations of the most recent 2767 earthquakes of magnitude </a:t>
            </a:r>
            <a:r>
              <a:rPr b="0" lang="en-US" sz="1600" spc="-1" strike="noStrike" u="sng">
                <a:solidFill>
                  <a:srgbClr val="000000"/>
                </a:solidFill>
                <a:uFillTx/>
                <a:latin typeface="Arial"/>
              </a:rPr>
              <a:t>&gt;</a:t>
            </a:r>
            <a:r>
              <a:rPr b="0" lang="en-US" sz="1600" spc="-1" strike="noStrike">
                <a:solidFill>
                  <a:srgbClr val="000000"/>
                </a:solidFill>
                <a:latin typeface="Arial"/>
              </a:rPr>
              <a:t> 5.0 in the region.  Magnitude and depth scales are shown on the right.  The epicenter of the July 17, 2017 earthquake is labeled near the western end of the Aleutian Trench.  Earthquakes deeper than 100 km are within the subducting Pacific Plate.  According to the USGS, six great (M&gt;8) earthquakes have occurred on the shallow megathrust plate boundary since 1906.  The rupture zone of the 1964 Alaska earthquake is shown in orange.  At M9.2, this was the second largest earthquake recorded by modern seismometers.</a:t>
            </a:r>
            <a:endParaRPr b="0" lang="en-US" sz="1600" spc="-1" strike="noStrike">
              <a:solidFill>
                <a:srgbClr val="000000"/>
              </a:solidFill>
              <a:latin typeface="Arial"/>
            </a:endParaRPr>
          </a:p>
        </p:txBody>
      </p:sp>
      <p:pic>
        <p:nvPicPr>
          <p:cNvPr id="589" name="Picture 1" descr=""/>
          <p:cNvPicPr/>
          <p:nvPr/>
        </p:nvPicPr>
        <p:blipFill>
          <a:blip r:embed="rId3"/>
          <a:srcRect l="5556" t="1882" r="7022" b="1364"/>
          <a:stretch/>
        </p:blipFill>
        <p:spPr>
          <a:xfrm>
            <a:off x="8221680" y="3532320"/>
            <a:ext cx="506520" cy="2931840"/>
          </a:xfrm>
          <a:prstGeom prst="rect">
            <a:avLst/>
          </a:prstGeom>
          <a:ln w="0">
            <a:noFill/>
          </a:ln>
        </p:spPr>
      </p:pic>
      <p:pic>
        <p:nvPicPr>
          <p:cNvPr id="590" name="Picture 1" descr=""/>
          <p:cNvPicPr/>
          <p:nvPr/>
        </p:nvPicPr>
        <p:blipFill>
          <a:blip r:embed="rId4"/>
          <a:srcRect l="2854" t="16030" r="36914" b="16621"/>
          <a:stretch/>
        </p:blipFill>
        <p:spPr>
          <a:xfrm>
            <a:off x="7980480" y="2695680"/>
            <a:ext cx="1062000" cy="549000"/>
          </a:xfrm>
          <a:prstGeom prst="rect">
            <a:avLst/>
          </a:prstGeom>
          <a:ln w="0">
            <a:noFill/>
          </a:ln>
        </p:spPr>
      </p:pic>
      <p:sp>
        <p:nvSpPr>
          <p:cNvPr id="591" name="TextBox 4"/>
          <p:cNvSpPr/>
          <p:nvPr/>
        </p:nvSpPr>
        <p:spPr>
          <a:xfrm>
            <a:off x="4507560" y="6278400"/>
            <a:ext cx="143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cific Plate</a:t>
            </a:r>
            <a:endParaRPr b="0" lang="en-US" sz="1800" spc="-1" strike="noStrike">
              <a:solidFill>
                <a:srgbClr val="000000"/>
              </a:solidFill>
              <a:latin typeface="Arial"/>
            </a:endParaRPr>
          </a:p>
        </p:txBody>
      </p:sp>
      <p:sp>
        <p:nvSpPr>
          <p:cNvPr id="592" name="TextBox 16"/>
          <p:cNvSpPr/>
          <p:nvPr/>
        </p:nvSpPr>
        <p:spPr>
          <a:xfrm>
            <a:off x="2481120" y="3311640"/>
            <a:ext cx="23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rth American Plate</a:t>
            </a:r>
            <a:endParaRPr b="0" lang="en-US" sz="1800" spc="-1" strike="noStrike">
              <a:solidFill>
                <a:srgbClr val="000000"/>
              </a:solidFill>
              <a:latin typeface="Arial"/>
            </a:endParaRPr>
          </a:p>
        </p:txBody>
      </p:sp>
      <p:sp>
        <p:nvSpPr>
          <p:cNvPr id="593" name="TextBox 19"/>
          <p:cNvSpPr/>
          <p:nvPr/>
        </p:nvSpPr>
        <p:spPr>
          <a:xfrm>
            <a:off x="1145160" y="4691160"/>
            <a:ext cx="128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uly 17, 2017</a:t>
            </a:r>
            <a:endParaRPr b="0" lang="en-US" sz="1400" spc="-1" strike="noStrike">
              <a:solidFill>
                <a:srgbClr val="000000"/>
              </a:solidFill>
              <a:latin typeface="Arial"/>
            </a:endParaRPr>
          </a:p>
        </p:txBody>
      </p:sp>
      <p:cxnSp>
        <p:nvCxnSpPr>
          <p:cNvPr id="594" name="Straight Arrow Connector 7"/>
          <p:cNvCxnSpPr/>
          <p:nvPr/>
        </p:nvCxnSpPr>
        <p:spPr>
          <a:xfrm flipH="1">
            <a:off x="1447200" y="4998960"/>
            <a:ext cx="229320" cy="364320"/>
          </a:xfrm>
          <a:prstGeom prst="straightConnector1">
            <a:avLst/>
          </a:prstGeom>
          <a:ln w="25560">
            <a:solidFill>
              <a:srgbClr val="ffffff"/>
            </a:solidFill>
            <a:miter/>
            <a:tailEnd len="med" type="arrow" w="med"/>
          </a:ln>
        </p:spPr>
      </p:cxnSp>
      <p:sp>
        <p:nvSpPr>
          <p:cNvPr id="595" name="TextBox 10"/>
          <p:cNvSpPr/>
          <p:nvPr/>
        </p:nvSpPr>
        <p:spPr>
          <a:xfrm rot="18797400">
            <a:off x="6446880" y="4057560"/>
            <a:ext cx="125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964 M9.2</a:t>
            </a:r>
            <a:endParaRPr b="0" lang="en-US" sz="1800" spc="-1" strike="noStrike">
              <a:solidFill>
                <a:srgbClr val="000000"/>
              </a:solidFill>
              <a:latin typeface="Arial"/>
            </a:endParaRPr>
          </a:p>
        </p:txBody>
      </p:sp>
      <p:sp>
        <p:nvSpPr>
          <p:cNvPr id="5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KOMANDORSKIYE OSTROVA, RUSSIA</a:t>
            </a:r>
            <a:br>
              <a:rPr sz="3500"/>
            </a:br>
            <a:r>
              <a:rPr b="1" lang="en-US" sz="1500" spc="-1" strike="noStrike">
                <a:solidFill>
                  <a:srgbClr val="11488b"/>
                </a:solidFill>
                <a:latin typeface="Arial"/>
                <a:ea typeface="Arial"/>
              </a:rPr>
              <a:t>Monday,  July 17, 2017 at 23:34: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1" descr=""/>
          <p:cNvPicPr/>
          <p:nvPr/>
        </p:nvPicPr>
        <p:blipFill>
          <a:blip r:embed="rId1"/>
          <a:srcRect l="986" t="0" r="0" b="0"/>
          <a:stretch/>
        </p:blipFill>
        <p:spPr>
          <a:xfrm>
            <a:off x="1157400" y="1312920"/>
            <a:ext cx="7503840" cy="5486400"/>
          </a:xfrm>
          <a:prstGeom prst="rect">
            <a:avLst/>
          </a:prstGeom>
          <a:ln w="0">
            <a:noFill/>
          </a:ln>
        </p:spPr>
      </p:pic>
      <p:sp>
        <p:nvSpPr>
          <p:cNvPr id="59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9" name="Picture 18" descr="IRIS_TMlogo.png"/>
          <p:cNvPicPr/>
          <p:nvPr/>
        </p:nvPicPr>
        <p:blipFill>
          <a:blip r:embed="rId2"/>
          <a:stretch/>
        </p:blipFill>
        <p:spPr>
          <a:xfrm>
            <a:off x="239760" y="76320"/>
            <a:ext cx="903240" cy="927000"/>
          </a:xfrm>
          <a:prstGeom prst="rect">
            <a:avLst/>
          </a:prstGeom>
          <a:ln w="0">
            <a:noFill/>
          </a:ln>
        </p:spPr>
      </p:pic>
      <p:sp>
        <p:nvSpPr>
          <p:cNvPr id="600" name="TextBox 4"/>
          <p:cNvSpPr/>
          <p:nvPr/>
        </p:nvSpPr>
        <p:spPr>
          <a:xfrm>
            <a:off x="1941480" y="3484440"/>
            <a:ext cx="6764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he earthquake, it </a:t>
            </a:r>
            <a:r>
              <a:rPr b="0" lang="en-US" sz="1400" spc="-1" strike="noStrike">
                <a:solidFill>
                  <a:srgbClr val="000000"/>
                </a:solidFill>
                <a:latin typeface="Arial"/>
                <a:ea typeface="ＭＳ Ｐゴシック"/>
              </a:rPr>
              <a:t>took 8 minutes and 11</a:t>
            </a:r>
            <a:r>
              <a:rPr b="0" lang="en-US" sz="1400" spc="-1" strike="noStrike">
                <a:solidFill>
                  <a:srgbClr val="ff0000"/>
                </a:solidFill>
                <a:latin typeface="Arial"/>
                <a:ea typeface="ＭＳ Ｐゴシック"/>
              </a:rPr>
              <a:t> </a:t>
            </a:r>
            <a:r>
              <a:rPr b="0" lang="en-US" sz="1400" spc="-1" strike="noStrike">
                <a:solidFill>
                  <a:srgbClr val="000000"/>
                </a:solidFill>
                <a:latin typeface="Arial"/>
                <a:ea typeface="ＭＳ Ｐゴシック"/>
              </a:rPr>
              <a:t>seconds </a:t>
            </a:r>
            <a:r>
              <a:rPr b="0" lang="en-US" sz="1400" spc="-1" strike="noStrike">
                <a:solidFill>
                  <a:srgbClr val="000000"/>
                </a:solidFill>
                <a:latin typeface="Arial"/>
                <a:ea typeface="ＭＳ Ｐゴシック"/>
              </a:rPr>
              <a:t>for the compressional P waves to travel a curved path through the mantle to Bend, Oregon.</a:t>
            </a:r>
            <a:endParaRPr b="0" lang="en-US" sz="1400" spc="-1" strike="noStrike">
              <a:solidFill>
                <a:srgbClr val="000000"/>
              </a:solidFill>
              <a:latin typeface="Arial"/>
            </a:endParaRPr>
          </a:p>
        </p:txBody>
      </p:sp>
      <p:sp>
        <p:nvSpPr>
          <p:cNvPr id="601" name="TextBox 7"/>
          <p:cNvSpPr/>
          <p:nvPr/>
        </p:nvSpPr>
        <p:spPr>
          <a:xfrm>
            <a:off x="1744560" y="828720"/>
            <a:ext cx="663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record of the earthquake in Bend, Oregon (BNOR) is illustrated below. </a:t>
            </a:r>
            <a:br>
              <a:rPr sz="1400"/>
            </a:br>
            <a:r>
              <a:rPr b="0" lang="en-US" sz="1400" spc="-1" strike="noStrike">
                <a:solidFill>
                  <a:srgbClr val="000000"/>
                </a:solidFill>
                <a:latin typeface="Arial"/>
                <a:ea typeface="ＭＳ Ｐゴシック"/>
              </a:rPr>
              <a:t>Bend is 4982 km (3096 miles, 44.9°) from the location of this earthquake. </a:t>
            </a:r>
            <a:endParaRPr b="0" lang="en-US" sz="1400" spc="-1" strike="noStrike">
              <a:solidFill>
                <a:srgbClr val="000000"/>
              </a:solidFill>
              <a:latin typeface="Arial"/>
            </a:endParaRPr>
          </a:p>
        </p:txBody>
      </p:sp>
      <p:sp>
        <p:nvSpPr>
          <p:cNvPr id="602" name="TextBox 6"/>
          <p:cNvSpPr/>
          <p:nvPr/>
        </p:nvSpPr>
        <p:spPr>
          <a:xfrm>
            <a:off x="1628640" y="4998960"/>
            <a:ext cx="73915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rface waves traveled the 4982 km (3096 miles) along the perimeter of the Earth from the earthquake to the recording station. </a:t>
            </a:r>
            <a:r>
              <a:rPr b="0" lang="en-US" sz="1400" spc="-1" strike="noStrike">
                <a:solidFill>
                  <a:srgbClr val="000000"/>
                </a:solidFill>
                <a:latin typeface="Arial"/>
                <a:ea typeface="ＭＳ Ｐゴシック"/>
              </a:rPr>
              <a:t>The surface waves began to arrive in Bend approximately 26 minutes </a:t>
            </a:r>
            <a:r>
              <a:rPr b="0" lang="en-US" sz="1400" spc="-1" strike="noStrike">
                <a:solidFill>
                  <a:srgbClr val="000000"/>
                </a:solidFill>
                <a:latin typeface="Arial"/>
                <a:ea typeface="ＭＳ Ｐゴシック"/>
              </a:rPr>
              <a:t>after the earthquake occurred</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
        <p:nvSpPr>
          <p:cNvPr id="603" name="TextBox 9"/>
          <p:cNvSpPr/>
          <p:nvPr/>
        </p:nvSpPr>
        <p:spPr>
          <a:xfrm>
            <a:off x="1895400" y="4240080"/>
            <a:ext cx="6858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 waves are shear waves that follow the same path through the mantle as P waves.  S waves </a:t>
            </a:r>
            <a:r>
              <a:rPr b="0" lang="en-US" sz="1400" spc="-1" strike="noStrike">
                <a:solidFill>
                  <a:srgbClr val="000000"/>
                </a:solidFill>
                <a:latin typeface="Arial"/>
                <a:ea typeface="ＭＳ Ｐゴシック"/>
              </a:rPr>
              <a:t>took 14 minutes and 46</a:t>
            </a:r>
            <a:r>
              <a:rPr b="0" lang="en-US" sz="1400" spc="-1" strike="noStrike">
                <a:solidFill>
                  <a:srgbClr val="ff0000"/>
                </a:solidFill>
                <a:latin typeface="Arial"/>
                <a:ea typeface="ＭＳ Ｐゴシック"/>
              </a:rPr>
              <a:t> </a:t>
            </a:r>
            <a:r>
              <a:rPr b="0" lang="en-US" sz="1400" spc="-1" strike="noStrike">
                <a:solidFill>
                  <a:srgbClr val="000000"/>
                </a:solidFill>
                <a:latin typeface="Arial"/>
                <a:ea typeface="ＭＳ Ｐゴシック"/>
              </a:rPr>
              <a:t>seconds to travel from the earthquake to Bend.</a:t>
            </a:r>
            <a:endParaRPr b="0" lang="en-US" sz="1400" spc="-1" strike="noStrike">
              <a:solidFill>
                <a:srgbClr val="000000"/>
              </a:solidFill>
              <a:latin typeface="Arial"/>
            </a:endParaRPr>
          </a:p>
        </p:txBody>
      </p:sp>
      <p:sp>
        <p:nvSpPr>
          <p:cNvPr id="604" name="TextBox 4"/>
          <p:cNvSpPr/>
          <p:nvPr/>
        </p:nvSpPr>
        <p:spPr>
          <a:xfrm>
            <a:off x="2971800" y="202248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ＭＳ Ｐゴシック"/>
              </a:rPr>
              <a:t>P</a:t>
            </a:r>
            <a:endParaRPr b="0" lang="en-US" sz="1800" spc="-1" strike="noStrike">
              <a:solidFill>
                <a:srgbClr val="000000"/>
              </a:solidFill>
              <a:latin typeface="Arial"/>
            </a:endParaRPr>
          </a:p>
        </p:txBody>
      </p:sp>
      <p:sp>
        <p:nvSpPr>
          <p:cNvPr id="605" name="TextBox 11"/>
          <p:cNvSpPr/>
          <p:nvPr/>
        </p:nvSpPr>
        <p:spPr>
          <a:xfrm>
            <a:off x="4269600" y="213048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ＭＳ Ｐゴシック"/>
              </a:rPr>
              <a:t>S</a:t>
            </a:r>
            <a:endParaRPr b="0" lang="en-US" sz="1800" spc="-1" strike="noStrike">
              <a:solidFill>
                <a:srgbClr val="000000"/>
              </a:solidFill>
              <a:latin typeface="Arial"/>
            </a:endParaRPr>
          </a:p>
        </p:txBody>
      </p:sp>
      <p:sp>
        <p:nvSpPr>
          <p:cNvPr id="606" name="TextBox 11"/>
          <p:cNvSpPr/>
          <p:nvPr/>
        </p:nvSpPr>
        <p:spPr>
          <a:xfrm>
            <a:off x="6253200" y="1940040"/>
            <a:ext cx="2152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Surface Waves</a:t>
            </a:r>
            <a:endParaRPr b="0" lang="en-US" sz="1800" spc="-1" strike="noStrike">
              <a:solidFill>
                <a:srgbClr val="000000"/>
              </a:solidFill>
              <a:latin typeface="Arial"/>
            </a:endParaRPr>
          </a:p>
        </p:txBody>
      </p:sp>
      <p:sp>
        <p:nvSpPr>
          <p:cNvPr id="607" name="Rectangle 2"/>
          <p:cNvSpPr/>
          <p:nvPr/>
        </p:nvSpPr>
        <p:spPr>
          <a:xfrm>
            <a:off x="6553080" y="5638680"/>
            <a:ext cx="2108160" cy="6858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KOMANDORSKIYE OSTROVA, RUSSIA</a:t>
            </a:r>
            <a:br>
              <a:rPr sz="3500"/>
            </a:br>
            <a:r>
              <a:rPr b="1" lang="en-US" sz="1500" spc="-1" strike="noStrike">
                <a:solidFill>
                  <a:srgbClr val="11488b"/>
                </a:solidFill>
                <a:latin typeface="Arial"/>
                <a:ea typeface="Arial"/>
              </a:rPr>
              <a:t>Monday,  July 17, 2017 at 23:34: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ＭＳ Ｐゴシック"/>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lease send feedback to </a:t>
            </a:r>
            <a:r>
              <a:rPr b="0" lang="en-US" sz="1800" spc="-1" strike="noStrike" u="sng">
                <a:solidFill>
                  <a:srgbClr val="0000ff"/>
                </a:solidFill>
                <a:uFillTx/>
                <a:latin typeface="Arial"/>
                <a:ea typeface="ＭＳ Ｐゴシック"/>
                <a:hlinkClick r:id="rId1"/>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ubscribe at </a:t>
            </a:r>
            <a:r>
              <a:rPr b="0" lang="en-US" sz="1800" spc="-1" strike="noStrike" u="sng">
                <a:solidFill>
                  <a:srgbClr val="0000ff"/>
                </a:solidFill>
                <a:uFillTx/>
                <a:latin typeface="Arial"/>
                <a:ea typeface="ＭＳ Ｐゴシック"/>
                <a:hlinkClick r:id="rId2"/>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1" name="Picture 1" descr=""/>
          <p:cNvPicPr/>
          <p:nvPr/>
        </p:nvPicPr>
        <p:blipFill>
          <a:blip r:embed="rId3"/>
          <a:stretch/>
        </p:blipFill>
        <p:spPr>
          <a:xfrm>
            <a:off x="6400800" y="5262480"/>
            <a:ext cx="2413080" cy="1281240"/>
          </a:xfrm>
          <a:prstGeom prst="rect">
            <a:avLst/>
          </a:prstGeom>
          <a:ln w="0">
            <a:noFill/>
          </a:ln>
        </p:spPr>
      </p:pic>
      <p:pic>
        <p:nvPicPr>
          <p:cNvPr id="612" name="Picture 1" descr=""/>
          <p:cNvPicPr/>
          <p:nvPr/>
        </p:nvPicPr>
        <p:blipFill>
          <a:blip r:embed="rId4"/>
          <a:stretch/>
        </p:blipFill>
        <p:spPr>
          <a:xfrm>
            <a:off x="709560" y="5337000"/>
            <a:ext cx="1200240" cy="1206720"/>
          </a:xfrm>
          <a:prstGeom prst="rect">
            <a:avLst/>
          </a:prstGeom>
          <a:ln w="0">
            <a:noFill/>
          </a:ln>
        </p:spPr>
      </p:pic>
      <p:sp>
        <p:nvSpPr>
          <p:cNvPr id="613"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ea typeface="ＭＳ Ｐゴシック"/>
              </a:rPr>
              <a:t>www.iris.edu/earthquake</a:t>
            </a:r>
            <a:endParaRPr b="0" lang="en-US" sz="1400" spc="-1" strike="noStrike">
              <a:solidFill>
                <a:srgbClr val="000000"/>
              </a:solidFill>
              <a:latin typeface="Arial"/>
            </a:endParaRPr>
          </a:p>
        </p:txBody>
      </p:sp>
      <p:pic>
        <p:nvPicPr>
          <p:cNvPr id="614" name="IRIS Logo _For TMs.mp4" descr=""/>
          <p:cNvPicPr/>
          <p:nvPr/>
        </p:nvPicPr>
        <p:blipFill>
          <a:blip r:embed="rId5"/>
          <a:stretch/>
        </p:blipFill>
        <p:spPr>
          <a:xfrm>
            <a:off x="3693960" y="4754520"/>
            <a:ext cx="1828800" cy="1731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0199" fill="hold"/>
                                        <p:tgtEl>
                                          <p:spTgt spid="61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14"/>
                    </p:tgtEl>
                  </p:cond>
                </p:stCondLst>
                <p:childTnLst>
                  <p:par>
                    <p:cTn id="8" nodeType="clickEffect" fill="hold">
                      <p:stCondLst>
                        <p:cond evt="onClick">
                          <p:tgtEl>
                            <p:spTgt spid="614"/>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6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3-04-07T18:50:57Z</cp:lastPrinted>
  <dcterms:modified xsi:type="dcterms:W3CDTF">2017-07-18T04:57:23Z</dcterms:modified>
  <cp:revision>740</cp:revision>
  <dc:subject/>
  <dc:title>Slide 1</dc:title>
</cp:coreProperties>
</file>