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93AE-C357-404C-AD5C-FC00A244398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iris.edu/hq/programs/education_and_outreach/animations#K"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257480" y="720720"/>
            <a:ext cx="4800600" cy="3600360"/>
          </a:xfrm>
          <a:prstGeom prst="rect">
            <a:avLst/>
          </a:prstGeom>
          <a:ln w="0">
            <a:noFill/>
          </a:ln>
        </p:spPr>
      </p:sp>
      <p:sp>
        <p:nvSpPr>
          <p:cNvPr id="6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E26F-252D-4163-A3C9-D1C41B38530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257480" y="720720"/>
            <a:ext cx="4800600" cy="3600360"/>
          </a:xfrm>
          <a:prstGeom prst="rect">
            <a:avLst/>
          </a:prstGeom>
          <a:ln w="0">
            <a:noFill/>
          </a:ln>
        </p:spPr>
      </p:sp>
      <p:sp>
        <p:nvSpPr>
          <p:cNvPr id="6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p:txBody>
      </p:sp>
      <p:sp>
        <p:nvSpPr>
          <p:cNvPr id="6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CA281-89D4-4D94-87D5-27746BB00809}"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257480" y="720720"/>
            <a:ext cx="4800600" cy="3600360"/>
          </a:xfrm>
          <a:prstGeom prst="rect">
            <a:avLst/>
          </a:prstGeom>
          <a:ln w="0">
            <a:noFill/>
          </a:ln>
        </p:spPr>
      </p:sp>
      <p:sp>
        <p:nvSpPr>
          <p:cNvPr id="6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DF45-9392-4168-ABF6-A13D39EF39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257480" y="720720"/>
            <a:ext cx="4800600" cy="3600360"/>
          </a:xfrm>
          <a:prstGeom prst="rect">
            <a:avLst/>
          </a:prstGeom>
          <a:ln w="0">
            <a:noFill/>
          </a:ln>
        </p:spPr>
      </p:sp>
      <p:sp>
        <p:nvSpPr>
          <p:cNvPr id="62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rPr>
              <a:t>Tectónica y terremotos en Alaska </a:t>
            </a:r>
            <a:r>
              <a:rPr b="0" lang="es-VE" sz="1200" spc="-1" strike="noStrike">
                <a:solidFill>
                  <a:srgbClr val="0070c0"/>
                </a:solidFill>
                <a:latin typeface="Calibri"/>
              </a:rPr>
              <a:t>http://www.iris.edu/hq/inclass/animation/alaska_tectonics_and_earthquakes</a:t>
            </a:r>
            <a:endParaRPr b="0" lang="en-US" sz="1200" spc="-1" strike="noStrike">
              <a:solidFill>
                <a:srgbClr val="000000"/>
              </a:solidFill>
              <a:latin typeface="Calibri"/>
            </a:endParaRPr>
          </a:p>
        </p:txBody>
      </p:sp>
      <p:sp>
        <p:nvSpPr>
          <p:cNvPr id="6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F1CA3-27CF-44B5-A046-A276934967D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257480" y="720720"/>
            <a:ext cx="4800600" cy="3600360"/>
          </a:xfrm>
          <a:prstGeom prst="rect">
            <a:avLst/>
          </a:prstGeom>
          <a:ln w="0">
            <a:noFill/>
          </a:ln>
        </p:spPr>
      </p:sp>
      <p:sp>
        <p:nvSpPr>
          <p:cNvPr id="62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Calibri"/>
              </a:rPr>
              <a:t>Mecanismo Focal del Terremoto </a:t>
            </a:r>
            <a:r>
              <a:rPr b="0" lang="es-VE" sz="1400" spc="-1" strike="noStrike">
                <a:solidFill>
                  <a:srgbClr val="000000"/>
                </a:solidFill>
                <a:latin typeface="Calibri"/>
              </a:rPr>
              <a:t>http://www.iris.edu/hq/programs/education_and_outreach/animations/25</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Animación Sismo-tectónica de Alaska:  http://www.iris.edu/hq/programs/education_and_outreach/animations/34</a:t>
            </a:r>
            <a:endParaRPr b="0" lang="en-US" sz="1200" spc="-1" strike="noStrike">
              <a:solidFill>
                <a:srgbClr val="000000"/>
              </a:solidFill>
              <a:latin typeface="Calibri"/>
            </a:endParaRPr>
          </a:p>
        </p:txBody>
      </p:sp>
      <p:sp>
        <p:nvSpPr>
          <p:cNvPr id="6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B3B0D-24C8-416F-A051-78072A6E845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257480" y="720720"/>
            <a:ext cx="4800600" cy="3600360"/>
          </a:xfrm>
          <a:prstGeom prst="rect">
            <a:avLst/>
          </a:prstGeom>
          <a:ln w="0">
            <a:noFill/>
          </a:ln>
        </p:spPr>
      </p:sp>
      <p:sp>
        <p:nvSpPr>
          <p:cNvPr id="63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Calibri"/>
              </a:rPr>
              <a:t>Explore aún más la sismicidad:  </a:t>
            </a:r>
            <a:r>
              <a:rPr b="0" lang="es-VE" sz="1200" spc="-1" strike="noStrike">
                <a:solidFill>
                  <a:srgbClr val="000000"/>
                </a:solidFill>
                <a:latin typeface="Calibri"/>
              </a:rPr>
              <a:t>Imagen tomada del Visualizador de Terremotos de IRIS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r>
              <a:rPr b="1" lang="es-VE" sz="1200" spc="-1" strike="noStrike">
                <a:solidFill>
                  <a:srgbClr val="000000"/>
                </a:solidFill>
                <a:latin typeface="Calibri"/>
              </a:rPr>
              <a:t>: </a:t>
            </a:r>
            <a:r>
              <a:rPr b="0" lang="es-VE" sz="1200" spc="-1" strike="noStrike">
                <a:solidFill>
                  <a:srgbClr val="000000"/>
                </a:solidFill>
                <a:latin typeface="Calibri"/>
              </a:rPr>
              <a:t>Gran Terremoto de Alaska en 1964 (http://www.iris.edu/hq/inclass/animation/alaska_the_great_alaska_earthquake_of_1964)</a:t>
            </a:r>
            <a:endParaRPr b="0" lang="en-US" sz="1200" spc="-1" strike="noStrike">
              <a:solidFill>
                <a:srgbClr val="000000"/>
              </a:solidFill>
              <a:latin typeface="Calibri"/>
            </a:endParaRPr>
          </a:p>
        </p:txBody>
      </p:sp>
      <p:sp>
        <p:nvSpPr>
          <p:cNvPr id="6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5353-FBCB-4AC6-BD3C-88175C9901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257480" y="720720"/>
            <a:ext cx="4800600" cy="3600360"/>
          </a:xfrm>
          <a:prstGeom prst="rect">
            <a:avLst/>
          </a:prstGeom>
          <a:ln w="0">
            <a:noFill/>
          </a:ln>
        </p:spPr>
      </p:sp>
      <p:sp>
        <p:nvSpPr>
          <p:cNvPr id="63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393996"/>
                </a:solidFill>
                <a:latin typeface="Calibri"/>
              </a:rPr>
              <a:t>Animación relevante</a:t>
            </a:r>
            <a:r>
              <a:rPr b="1" lang="es-VE"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93996"/>
                </a:solidFill>
                <a:latin typeface="Calibri"/>
              </a:rPr>
              <a:t>¿De donde provienen las curvas de tiempo de viaje?</a:t>
            </a:r>
            <a:r>
              <a:rPr b="1" lang="es-ES" sz="1400" spc="-1" strike="noStrike">
                <a:solidFill>
                  <a:srgbClr val="393996"/>
                </a:solidFill>
                <a:latin typeface="Calibri"/>
              </a:rPr>
              <a:t> </a:t>
            </a:r>
            <a:r>
              <a:rPr b="0" lang="en-US" sz="1400" spc="-1" strike="noStrike">
                <a:solidFill>
                  <a:srgbClr val="000000"/>
                </a:solidFill>
                <a:latin typeface="Calibri"/>
              </a:rPr>
              <a:t> </a:t>
            </a:r>
            <a:r>
              <a:rPr b="0" lang="en-US" sz="1400" spc="-1" strike="noStrike" u="sng">
                <a:solidFill>
                  <a:srgbClr val="0000ff"/>
                </a:solidFill>
                <a:uFillTx/>
                <a:latin typeface="Calibri"/>
                <a:hlinkClick r:id="rId1"/>
              </a:rPr>
              <a:t>http://www.iris.edu/hq/programs/education_and_outreach/animations#K</a:t>
            </a:r>
            <a:endParaRPr b="0" lang="en-US" sz="1400" spc="-1" strike="noStrike">
              <a:solidFill>
                <a:srgbClr val="000000"/>
              </a:solidFill>
              <a:latin typeface="Calibri"/>
            </a:endParaRPr>
          </a:p>
        </p:txBody>
      </p:sp>
      <p:sp>
        <p:nvSpPr>
          <p:cNvPr id="6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DD27-767A-43E6-88DD-6C6AAFB474A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257480" y="720720"/>
            <a:ext cx="4800600" cy="3600360"/>
          </a:xfrm>
          <a:prstGeom prst="rect">
            <a:avLst/>
          </a:prstGeom>
          <a:ln w="0">
            <a:noFill/>
          </a:ln>
        </p:spPr>
      </p:sp>
      <p:sp>
        <p:nvSpPr>
          <p:cNvPr id="6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BBB1-6893-46BF-9663-1AC36DFB24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257A9-3079-45C6-9CC0-8C1C3F2C4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D20B1-266D-4342-9940-0420ECC2D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901B9A-03F7-4BF7-B770-0A63753090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D856A1-F9E1-4E5E-BFB1-B361FD776A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55EBC4-1849-4C05-AB75-36B4D7DB56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E71D31-4A5B-4109-896F-1593706AD6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BA0C1-7AD4-4D59-8660-4A0283BCBB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8B15C-446E-41D9-9918-54BDC57509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50506B-2D1B-47CC-9AD2-D619925BE9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3819E8-9870-4506-893C-06D31BD3C0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E90CF5-FBA5-4072-BDC6-740F918640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973081-664B-494A-ACAB-C7EFD23D83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09698-F11B-4A91-9361-59E8AB15E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8A0DDB-4772-4EB7-B3BA-329BA2C0BE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881539-A68C-4B40-8CF4-4FAC94259C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801BAE-A977-4710-A2EA-1CDCEA1DB7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1AEA8B-2056-483B-9247-FA65FF11EF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4114D2-F513-4483-B5FA-C263DE08EC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FE6490-7BA6-4B44-8B0D-D8589EC8D2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5ABE80-EF3F-4327-BC1F-97051352D0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86C497-B815-4B92-86CE-AF606C7E49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1B9A75-C092-434B-AE47-4B2EDF0DEA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B1BBE5-EB60-4CF4-B141-F95C6C1546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9A150-3C87-4D85-B76C-25C4D98D1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52DB64-53D9-43A8-B105-0E38F5869B6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473089-6BE2-4798-B31B-0E1AEE82E9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6D6F80-60EC-4529-9309-9588AF1EA4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63D733-2BDF-4D6A-8905-D8F56EF765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096B33-BC31-4308-BFF2-964E037B36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7FE101-4CE5-4C43-97A7-67245AA97A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4A6281-AE8E-4CB3-BB66-3E514C1891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61D1E9-66B6-4530-A2F3-73395F06F5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83B73B-E367-42B7-9981-4612D17A71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2DE203-C36D-472C-90DF-0BB61A051F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EB72B-B644-4522-AE0F-59B4CB888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A2322A-A7C0-455C-85A1-403A1E61FB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47B535-305E-444D-8CDE-E285931FAF1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BF93B1-2E33-433E-8FF1-B0774C9A349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3BEDE5-768E-40E2-A430-0EA97D62042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2D2001-6FB2-4C56-8424-CAA7FF4E21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C6CD89-D280-491E-BD66-9A24D36A09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B5A9AC-5E50-4EF7-A8DE-B889A76C79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09C2C6-47E7-4118-B20E-3046B9A026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932B61-E73C-4AE7-8B79-EFECA23420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3B8591-71ED-473D-A8D0-83C98A5798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BD81B-C41D-4236-9275-A2929FC1E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502A54-A3F6-4B1D-AE14-9C534F9657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BC4BD2-C1D0-47D2-94D7-E9C70D49E8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ED338B-7C86-49D7-A684-B2443486D0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1C3067-DAC8-4099-B014-8D9ABDC8F7E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269C2A-B96F-4679-8A5E-6B8E47A7ED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62427D1-6703-48C9-9F47-4B6031967B2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8FCBA7-C215-40C5-939D-D95D73BF2F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A4D2345-6B3D-4C44-9E13-011305AC688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C4C794-25AB-45FA-93D0-ECD5BF8E00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639F64-8EC6-44B6-80BF-B6ED9F2E51C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C1D84-3C12-4016-8A74-16F7FEB07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43E332-AE00-4FD8-9FD0-9A28D8D3EF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1E22CA-BA36-42E6-879A-AFC03FA4D9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27C9E0-09D4-4598-841F-DE24FB3115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467764-143F-4787-937E-1775131B31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72B0EB-1FFF-4083-9FC7-96C872ABEE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2C2261-067E-475C-87A6-DEC2A2817BA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35C403-B892-4E60-BAD6-EDD28A8C45A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A1725-898B-4AC7-9310-BC6B18D96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DCD72-801C-404C-9FB1-9E6AD0F2D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D5576-CEAD-438C-B276-286C7426A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357B0-DEBD-4F7E-ADA8-1AD553E6B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B2AF1-DAD8-480D-B6FB-BB42B9D12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1D6C1-FC70-4350-9EF9-903FC77BB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C425E-B9D2-4F25-A40A-0B834A661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24827-62BA-420E-A671-450551193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F6CE7-8F66-450A-8413-9F0F5D031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B0357-A2D2-4863-8DAA-D68AA9726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430245-B8DB-4C1A-8455-95052CC7F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9FDFB-D479-4874-BB20-6AF48FC37C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DBD28-A7D6-4A46-8BBA-23010EDFAC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7E46E-CC28-4990-AC97-F9EC6677E5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CA620-C224-4152-AA4D-077E3355A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9751A-27AA-43BC-B41D-E8DC792A9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F24F27-DA76-4972-8DC0-49AA53D30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06926-01D1-4258-A746-160951F40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B494D-DB40-48A3-8D1E-F6C6BCBD6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B4679D-891A-40B9-BAD4-3A1D3F1AEC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55CBC-2CEA-4875-B05B-BB472B5A8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AB9932-0250-4B4B-AFFE-C7F88CF8AC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5EF309-BCF6-4B1F-8324-06782E3DF8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8C1C6A-87F6-4EFC-9CCE-E4FA1F092B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5C872-DA7B-408C-A9EA-A21F7E66D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5373D9-B6CE-4D3A-BF75-D02C9C8D8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E64B3-F7E4-4904-A0A9-076A8DE5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4A6A2-E305-4A61-B864-49C9592480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391710-0595-47BC-A944-A872708F2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C08D9E-7B29-4154-A73E-DEF8A1D44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0B9CC7-B41A-4F81-95E0-2F41F31B6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48887-2AFA-4F96-ACD9-8E024654A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0CEA8-2491-437C-A0A2-B427A9471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2183F-143E-44F2-A14E-30795A6FF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3FF6C7-3069-4208-9C37-06728B4514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9876FE-76B9-43DA-9E3B-15AFCFCD5F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96F517-AE77-493B-8536-0D5CA9F5AA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4003E-DE0F-495A-B6CD-482E227F3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C1BBF0-BC9F-42D4-8598-B874D007F9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8014B8-9F9D-4D38-8919-09242F8A0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9EFD6-8F4C-49D3-9C74-4FB3B2426C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B7FF74-E67E-459B-AC9A-9F6641F08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7976A3-2E6C-4731-BF49-65C94A395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6FF549-5FDC-455B-BFD0-7A0E8D043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7545D3-FB35-44B0-9879-C87B67C82A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13CFE-0875-4F2A-9AE4-617071BC9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71B53A-A74E-480E-8736-797110E780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DF010E-B941-4CAC-95BA-A1637BE9A5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169DA-5643-4D15-A019-1C14044CD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F94937-7B8B-47D0-8BB0-3CEA474328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091ECC-3291-4B90-B1E2-54F005A163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048901-958F-486E-96A8-006BC52E81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D4F0F9-06AC-4428-8E42-C094D9347C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D34D6E-6844-434A-A0BD-3D3AAF0394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DFAC2B-058A-44A9-8334-1B67AFD446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F494D1-2167-424C-86C3-E1A1276EEB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F924AF-D704-4271-9DC2-1C45199B51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85FD4-FD03-4047-A9E9-CBDCB18A9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75F0F3-0172-462B-A387-4D7236920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793E-898E-4B5E-9B5D-04E07C4E4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D3F358-ED22-486D-A0BB-6CDBEADD8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EECC3B-A052-436D-8DB3-F3440DDA1A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587C74-6559-45B9-B8D2-A1F0E3E9C4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EB821A-97F1-4CFE-8574-5B6A039492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027A36-F057-4C6B-A797-75BECD69E2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FB970D-850B-4344-81DB-1D66F4AA2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58CBFA-DC10-4748-9E52-EA21248F54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99D4B-9BF6-4D24-AE3E-017A6F2763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A3517F-BF2F-400A-8E9C-283530F822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F772D9-29FC-4F9F-9E76-A3B41150F0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B8F55-D906-4952-9F4C-58A4CAF6B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3C774D-B4D9-4447-A1CD-C41786EA41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D07122-FAE6-432E-B713-4A929C6640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AA008E-39B4-435B-A477-FD8E03BF2E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7D2D29-CA64-4F9F-95AF-5840D9F7BC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DFF731-AE3C-4480-A6B9-61D64D4E62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43F07B-0341-4156-A9AE-E9A5B2D6B1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453F19-A861-45AD-A7A0-FB7DCF6D21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646491-2B4C-43B4-8B67-3EFDF2EF4B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1B78D2-A8E3-4DBA-977B-2094CF4090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3A4A16-E981-4C25-B9A2-DA2EA5168A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519A-4FA7-4C1F-94EA-F93DA31FD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B5487B-EADF-4B8D-B6B1-38F79F8444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C83C8-86F0-4E06-AA98-4BD0B0071F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2C04A8-8A66-44B0-83BB-6B242C15A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FDCBAE-1E46-4305-9A5A-1452128A59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CB71C0-231E-4835-9744-9266C6AD8A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D6E08F-061C-470A-A5EB-1AF27C478B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E8F02D-912D-4F05-9C6D-D82CC049D7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3F2E29-209C-4BA1-ADE2-36D305C278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9B11FF-80B4-4516-B379-F25FDF946E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23F629-DD70-405E-8832-E00666836D7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9E39-AC95-4DA2-8AC8-C88BE2268D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B5B2-0C5C-4B95-93D4-5A979A5FCF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5131-7E87-41EF-9248-0297753011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59CB-94A1-49B0-9E17-F1E023FB8EC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7BA3-F810-4BAD-9A91-C60F9417ED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7C531-ED8A-4F8F-9E46-2971ECD903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288B-6F61-413E-966B-844ADC98FB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4D756-62AD-439C-8E1B-8B4BA5FB43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4C69-8536-46DA-B26A-779082772C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01E2-655F-4AD9-9846-2309E2AF40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5921-6BA9-4DA7-9749-2DAF25C4AF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BDB0-17E9-4628-B4A9-C8DEDDCAA0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C395-0E4A-44B5-BD23-64EBDB3A3F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hyperlink" Target="mailto:tkb@iris.edu" TargetMode="External"/><Relationship Id="rId5" Type="http://schemas.openxmlformats.org/officeDocument/2006/relationships/hyperlink" Target="http://www.iris.edu/hq/retm" TargetMode="External"/><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249120" y="990720"/>
            <a:ext cx="88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terremoto de magnitud 7,7 ocurrió cerca de la extensión más occidental de la cadena de las islas Aleutianas. El epicentro se localizó a 688,6 km (427,9 millas) al este de Petropavlovsk-Kamchatsky, Rusia, a una profundidad de 11,7 km bajo la superficie de la Tierra.</a:t>
            </a:r>
            <a:endParaRPr b="0" lang="en-US" sz="1800" spc="-1" strike="noStrike">
              <a:solidFill>
                <a:srgbClr val="000000"/>
              </a:solidFill>
              <a:latin typeface="Arial"/>
            </a:endParaRPr>
          </a:p>
        </p:txBody>
      </p:sp>
      <p:sp>
        <p:nvSpPr>
          <p:cNvPr id="543" name="Rectangle 14"/>
          <p:cNvSpPr/>
          <p:nvPr/>
        </p:nvSpPr>
        <p:spPr>
          <a:xfrm>
            <a:off x="4952880" y="2120760"/>
            <a:ext cx="403884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Las islas Komandorskie son un grupo de islas escasamente pobladas y que carecen de arboles, localizadas en el Mar de Bering  a 175 kilómetros al este de la península de Kamchatka, en el Lejano Oriente ruso.</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Imagen Cortesía de cortezawwris</a:t>
            </a:r>
            <a:endParaRPr b="0" lang="en-US" sz="1300" spc="-1" strike="noStrike">
              <a:solidFill>
                <a:srgbClr val="000000"/>
              </a:solidFill>
              <a:latin typeface="Arial"/>
            </a:endParaRPr>
          </a:p>
        </p:txBody>
      </p:sp>
      <p:sp>
        <p:nvSpPr>
          <p:cNvPr id="5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KOMANDORSKIYE OSTROVA, RUSIA</a:t>
            </a:r>
            <a:br>
              <a:rPr sz="3500"/>
            </a:br>
            <a:r>
              <a:rPr b="1" lang="es-VE" sz="1500" spc="-1" strike="noStrike">
                <a:solidFill>
                  <a:srgbClr val="11488b"/>
                </a:solidFill>
                <a:latin typeface="Arial"/>
                <a:ea typeface="Arial"/>
              </a:rPr>
              <a:t>Lunes,  17 de Julio, 2017 a las 23:34:14 UTC </a:t>
            </a:r>
            <a:endParaRPr b="0" lang="en-US" sz="1500" spc="-1" strike="noStrike">
              <a:solidFill>
                <a:srgbClr val="000000"/>
              </a:solidFill>
              <a:latin typeface="Arial"/>
            </a:endParaRPr>
          </a:p>
        </p:txBody>
      </p:sp>
      <p:pic>
        <p:nvPicPr>
          <p:cNvPr id="545" name="Picture 1" descr=""/>
          <p:cNvPicPr/>
          <p:nvPr/>
        </p:nvPicPr>
        <p:blipFill>
          <a:blip r:embed="rId2"/>
          <a:stretch/>
        </p:blipFill>
        <p:spPr>
          <a:xfrm>
            <a:off x="533520" y="3666960"/>
            <a:ext cx="8229600" cy="3114720"/>
          </a:xfrm>
          <a:prstGeom prst="rect">
            <a:avLst/>
          </a:prstGeom>
          <a:ln w="0">
            <a:noFill/>
          </a:ln>
        </p:spPr>
      </p:pic>
      <p:pic>
        <p:nvPicPr>
          <p:cNvPr id="546" name="Picture 2" descr=""/>
          <p:cNvPicPr/>
          <p:nvPr/>
        </p:nvPicPr>
        <p:blipFill>
          <a:blip r:embed="rId3"/>
          <a:stretch/>
        </p:blipFill>
        <p:spPr>
          <a:xfrm>
            <a:off x="1201680" y="2209680"/>
            <a:ext cx="3684600" cy="180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2" descr="scale.jpg"/>
          <p:cNvPicPr/>
          <p:nvPr/>
        </p:nvPicPr>
        <p:blipFill>
          <a:blip r:embed="rId1"/>
          <a:stretch/>
        </p:blipFill>
        <p:spPr>
          <a:xfrm>
            <a:off x="380880" y="4070520"/>
            <a:ext cx="2127240" cy="2319120"/>
          </a:xfrm>
          <a:prstGeom prst="rect">
            <a:avLst/>
          </a:prstGeom>
          <a:ln w="0">
            <a:noFill/>
          </a:ln>
        </p:spPr>
      </p:pic>
      <p:sp>
        <p:nvSpPr>
          <p:cNvPr id="549" name="TextBox 15"/>
          <p:cNvSpPr/>
          <p:nvPr/>
        </p:nvSpPr>
        <p:spPr>
          <a:xfrm>
            <a:off x="212760" y="1170000"/>
            <a:ext cx="37227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escala de Intensidad Mercalli Modificada (MMI) describe la severidad de los movimientos telúri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s Islas más cercanas experimentaron fuertes movimientos telúricos debido a este terremo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0" name="Picture 8" descr="IRIS_TMlogo.png"/>
          <p:cNvPicPr/>
          <p:nvPr/>
        </p:nvPicPr>
        <p:blipFill>
          <a:blip r:embed="rId2"/>
          <a:stretch/>
        </p:blipFill>
        <p:spPr>
          <a:xfrm>
            <a:off x="239760" y="76320"/>
            <a:ext cx="903240" cy="927000"/>
          </a:xfrm>
          <a:prstGeom prst="rect">
            <a:avLst/>
          </a:prstGeom>
          <a:ln w="0">
            <a:noFill/>
          </a:ln>
        </p:spPr>
      </p:pic>
      <p:pic>
        <p:nvPicPr>
          <p:cNvPr id="551" name="Picture 1" descr=""/>
          <p:cNvPicPr/>
          <p:nvPr/>
        </p:nvPicPr>
        <p:blipFill>
          <a:blip r:embed="rId3"/>
          <a:stretch/>
        </p:blipFill>
        <p:spPr>
          <a:xfrm>
            <a:off x="3848040" y="1170000"/>
            <a:ext cx="5111640" cy="5022720"/>
          </a:xfrm>
          <a:prstGeom prst="rect">
            <a:avLst/>
          </a:prstGeom>
          <a:ln w="0">
            <a:noFill/>
          </a:ln>
        </p:spPr>
      </p:pic>
      <p:sp>
        <p:nvSpPr>
          <p:cNvPr id="55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KOMANDORSKIYE OSTROVA, RUSIA</a:t>
            </a:r>
            <a:br>
              <a:rPr sz="3500"/>
            </a:br>
            <a:r>
              <a:rPr b="1" lang="es-VE" sz="1500" spc="-1" strike="noStrike">
                <a:solidFill>
                  <a:srgbClr val="11488b"/>
                </a:solidFill>
                <a:latin typeface="Arial"/>
                <a:ea typeface="Arial"/>
              </a:rPr>
              <a:t>Lunes,  17 de Julio, 2017 a las 23:34:14 UTC </a:t>
            </a:r>
            <a:endParaRPr b="0" lang="en-US" sz="1500" spc="-1" strike="noStrike">
              <a:solidFill>
                <a:srgbClr val="000000"/>
              </a:solidFill>
              <a:latin typeface="Arial"/>
            </a:endParaRPr>
          </a:p>
        </p:txBody>
      </p:sp>
      <p:sp>
        <p:nvSpPr>
          <p:cNvPr id="553"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554" name="TextBox 15"/>
          <p:cNvSpPr/>
          <p:nvPr/>
        </p:nvSpPr>
        <p:spPr>
          <a:xfrm>
            <a:off x="3962520" y="6308640"/>
            <a:ext cx="525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7</a:t>
            </a:r>
            <a:endParaRPr b="0" lang="en-US" sz="1400" spc="-1" strike="noStrike">
              <a:solidFill>
                <a:srgbClr val="000000"/>
              </a:solidFill>
              <a:latin typeface="Arial"/>
            </a:endParaRPr>
          </a:p>
        </p:txBody>
      </p:sp>
      <p:sp>
        <p:nvSpPr>
          <p:cNvPr id="555"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556"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8" name="Picture 8" descr="IRIS_TMlogo.png"/>
          <p:cNvPicPr/>
          <p:nvPr/>
        </p:nvPicPr>
        <p:blipFill>
          <a:blip r:embed="rId1"/>
          <a:stretch/>
        </p:blipFill>
        <p:spPr>
          <a:xfrm>
            <a:off x="239760" y="76320"/>
            <a:ext cx="903240" cy="927000"/>
          </a:xfrm>
          <a:prstGeom prst="rect">
            <a:avLst/>
          </a:prstGeom>
          <a:ln w="0">
            <a:noFill/>
          </a:ln>
        </p:spPr>
      </p:pic>
      <p:sp>
        <p:nvSpPr>
          <p:cNvPr id="559" name="TextBox 20"/>
          <p:cNvSpPr/>
          <p:nvPr/>
        </p:nvSpPr>
        <p:spPr>
          <a:xfrm>
            <a:off x="3333600" y="5521320"/>
            <a:ext cx="576756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l código de colores de las líneas de contorno marca las regiones de intensidad MMI. La población total expuesta a un valor MMI dado es obtenida sumando la población entre las líneas de contorno. La estimación de la población expuesta a cada intensidad  MMI es mostrada en la tabla.</a:t>
            </a:r>
            <a:endParaRPr b="0" lang="en-US" sz="1300" spc="-1" strike="noStrike">
              <a:solidFill>
                <a:srgbClr val="000000"/>
              </a:solidFill>
              <a:latin typeface="Arial"/>
            </a:endParaRPr>
          </a:p>
        </p:txBody>
      </p:sp>
      <p:sp>
        <p:nvSpPr>
          <p:cNvPr id="560" name="TextBox 18"/>
          <p:cNvSpPr/>
          <p:nvPr/>
        </p:nvSpPr>
        <p:spPr>
          <a:xfrm>
            <a:off x="243000" y="1095480"/>
            <a:ext cx="44067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mapa USGS PAGER muestra la población expuesta a diferentes niveles de intensidad de Mercalli Modificada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sta área es escasamente poblada. El Servicio Geológico de los EE.UU estima que Unas 1.000 personas estuvieron expuestas a moderados movimientos telúricos.</a:t>
            </a:r>
            <a:endParaRPr b="0" lang="en-US" sz="1600" spc="-1" strike="noStrike">
              <a:solidFill>
                <a:srgbClr val="000000"/>
              </a:solidFill>
              <a:latin typeface="Arial"/>
            </a:endParaRPr>
          </a:p>
        </p:txBody>
      </p:sp>
      <p:pic>
        <p:nvPicPr>
          <p:cNvPr id="561" name="Picture 4" descr=""/>
          <p:cNvPicPr/>
          <p:nvPr/>
        </p:nvPicPr>
        <p:blipFill>
          <a:blip r:embed="rId2"/>
          <a:stretch/>
        </p:blipFill>
        <p:spPr>
          <a:xfrm>
            <a:off x="995400" y="3157560"/>
            <a:ext cx="2349360" cy="3470400"/>
          </a:xfrm>
          <a:prstGeom prst="rect">
            <a:avLst/>
          </a:prstGeom>
          <a:ln w="0">
            <a:noFill/>
          </a:ln>
        </p:spPr>
      </p:pic>
      <p:pic>
        <p:nvPicPr>
          <p:cNvPr id="562" name="Picture 5" descr=""/>
          <p:cNvPicPr/>
          <p:nvPr/>
        </p:nvPicPr>
        <p:blipFill>
          <a:blip r:embed="rId3"/>
          <a:stretch/>
        </p:blipFill>
        <p:spPr>
          <a:xfrm>
            <a:off x="4649760" y="1179360"/>
            <a:ext cx="4303800" cy="4303800"/>
          </a:xfrm>
          <a:prstGeom prst="rect">
            <a:avLst/>
          </a:prstGeom>
          <a:ln w="0">
            <a:noFill/>
          </a:ln>
        </p:spPr>
      </p:pic>
      <p:sp>
        <p:nvSpPr>
          <p:cNvPr id="5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KOMANDORSKIYE OSTROVA, RUSIA</a:t>
            </a:r>
            <a:br>
              <a:rPr sz="3500"/>
            </a:br>
            <a:r>
              <a:rPr b="1" lang="es-VE" sz="1500" spc="-1" strike="noStrike">
                <a:solidFill>
                  <a:srgbClr val="11488b"/>
                </a:solidFill>
                <a:latin typeface="Arial"/>
                <a:ea typeface="Arial"/>
              </a:rPr>
              <a:t>Lunes,  17 de Julio, 2017 a las 23:34:14 UTC </a:t>
            </a:r>
            <a:endParaRPr b="0" lang="en-US" sz="1500" spc="-1" strike="noStrike">
              <a:solidFill>
                <a:srgbClr val="000000"/>
              </a:solidFill>
              <a:latin typeface="Arial"/>
            </a:endParaRPr>
          </a:p>
        </p:txBody>
      </p:sp>
      <p:sp>
        <p:nvSpPr>
          <p:cNvPr id="564" name="TextBox 15"/>
          <p:cNvSpPr/>
          <p:nvPr/>
        </p:nvSpPr>
        <p:spPr>
          <a:xfrm>
            <a:off x="4495680" y="6473880"/>
            <a:ext cx="464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565" name="TextBox 15"/>
          <p:cNvSpPr/>
          <p:nvPr/>
        </p:nvSpPr>
        <p:spPr>
          <a:xfrm>
            <a:off x="4952880" y="655560"/>
            <a:ext cx="411984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18" descr="IRIS_TMlogo.png"/>
          <p:cNvPicPr/>
          <p:nvPr/>
        </p:nvPicPr>
        <p:blipFill>
          <a:blip r:embed="rId1"/>
          <a:stretch/>
        </p:blipFill>
        <p:spPr>
          <a:xfrm>
            <a:off x="239760" y="76320"/>
            <a:ext cx="903240" cy="927000"/>
          </a:xfrm>
          <a:prstGeom prst="rect">
            <a:avLst/>
          </a:prstGeom>
          <a:ln w="0">
            <a:noFill/>
          </a:ln>
        </p:spPr>
      </p:pic>
      <p:pic>
        <p:nvPicPr>
          <p:cNvPr id="568" name="Picture 4" descr=""/>
          <p:cNvPicPr/>
          <p:nvPr/>
        </p:nvPicPr>
        <p:blipFill>
          <a:blip r:embed="rId2"/>
          <a:srcRect l="12500" t="7775" r="19714" b="6001"/>
          <a:stretch/>
        </p:blipFill>
        <p:spPr>
          <a:xfrm>
            <a:off x="2908440" y="1219320"/>
            <a:ext cx="6197400" cy="4647960"/>
          </a:xfrm>
          <a:prstGeom prst="rect">
            <a:avLst/>
          </a:prstGeom>
          <a:ln w="0">
            <a:noFill/>
          </a:ln>
        </p:spPr>
      </p:pic>
      <p:sp>
        <p:nvSpPr>
          <p:cNvPr id="569" name="TextBox 9"/>
          <p:cNvSpPr/>
          <p:nvPr/>
        </p:nvSpPr>
        <p:spPr>
          <a:xfrm>
            <a:off x="196920" y="1123920"/>
            <a:ext cx="2666880" cy="465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s flechas blancas en este mapa muestran el movimiento de la Placa del Pacífico con respecto a la Placa Norteamericana. La estrella roja es el epicentro de este terremot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as placas litosféricas son tapas esféricas, por lo que los movimientos de la placa se describen mejor como rotaciones relativas. Esta geometría y los 4000 km de longitud de la Fosa Aleutiana producen cambios en las velocidades y direcciones del movimiento relativo de la placa a lo largo de la zona de subducción aleutiana.</a:t>
            </a:r>
            <a:endParaRPr b="0" lang="en-US" sz="1500" spc="-1" strike="noStrike">
              <a:solidFill>
                <a:srgbClr val="000000"/>
              </a:solidFill>
              <a:latin typeface="Arial"/>
            </a:endParaRPr>
          </a:p>
        </p:txBody>
      </p:sp>
      <p:sp>
        <p:nvSpPr>
          <p:cNvPr id="570" name="TextBox 5"/>
          <p:cNvSpPr/>
          <p:nvPr/>
        </p:nvSpPr>
        <p:spPr>
          <a:xfrm>
            <a:off x="3902040" y="2590920"/>
            <a:ext cx="250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Placa de Norteamérica</a:t>
            </a:r>
            <a:endParaRPr b="0" lang="en-US" sz="1800" spc="-1" strike="noStrike">
              <a:solidFill>
                <a:srgbClr val="000000"/>
              </a:solidFill>
              <a:latin typeface="Arial"/>
            </a:endParaRPr>
          </a:p>
        </p:txBody>
      </p:sp>
      <p:sp>
        <p:nvSpPr>
          <p:cNvPr id="571" name="TextBox 18"/>
          <p:cNvSpPr/>
          <p:nvPr/>
        </p:nvSpPr>
        <p:spPr>
          <a:xfrm>
            <a:off x="5948640" y="549756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Placa del Pacífico</a:t>
            </a:r>
            <a:endParaRPr b="0" lang="en-US" sz="1800" spc="-1" strike="noStrike">
              <a:solidFill>
                <a:srgbClr val="000000"/>
              </a:solidFill>
              <a:latin typeface="Arial"/>
            </a:endParaRPr>
          </a:p>
        </p:txBody>
      </p:sp>
      <p:sp>
        <p:nvSpPr>
          <p:cNvPr id="572" name="5-Point Star 6"/>
          <p:cNvSpPr/>
          <p:nvPr/>
        </p:nvSpPr>
        <p:spPr>
          <a:xfrm>
            <a:off x="3168720" y="284652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TextBox 7"/>
          <p:cNvSpPr/>
          <p:nvPr/>
        </p:nvSpPr>
        <p:spPr>
          <a:xfrm>
            <a:off x="239760" y="5894280"/>
            <a:ext cx="89042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En la fosa aleutiana oriental, la subducción es casi ortogonal al límite de la placa y domina la falla de empuje. En la fosa Aleutiana occidental, el movimiento relativo de la placa es casi paralelo al límite de la placa y es común que se produzca una falla transcurrente lateral-derecha.</a:t>
            </a:r>
            <a:endParaRPr b="0" lang="en-US" sz="1500" spc="-1" strike="noStrike">
              <a:solidFill>
                <a:srgbClr val="000000"/>
              </a:solidFill>
              <a:latin typeface="Arial"/>
            </a:endParaRPr>
          </a:p>
        </p:txBody>
      </p:sp>
      <p:sp>
        <p:nvSpPr>
          <p:cNvPr id="5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KOMANDORSKIYE OSTROVA, RUSIA</a:t>
            </a:r>
            <a:br>
              <a:rPr sz="3500"/>
            </a:br>
            <a:r>
              <a:rPr b="1" lang="es-VE" sz="1500" spc="-1" strike="noStrike">
                <a:solidFill>
                  <a:srgbClr val="11488b"/>
                </a:solidFill>
                <a:latin typeface="Arial"/>
                <a:ea typeface="Arial"/>
              </a:rPr>
              <a:t>Lunes,  17 de Julio, 2017 a las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Box 7"/>
          <p:cNvSpPr/>
          <p:nvPr/>
        </p:nvSpPr>
        <p:spPr>
          <a:xfrm>
            <a:off x="228600" y="1179360"/>
            <a:ext cx="8620200" cy="26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ea typeface="Arial"/>
              </a:rPr>
              <a:t>El mecanismo focal es la forma en que los sismólogos trazan las orientaciones tridimensionales del estrés de un terremoto. Dado que un terremoto se produce como deslizamiento en una falla, genera ondas primarias (P) en cuadrantes de compresión (sombreado) y extensión (blanco). La orientación de estos cuadrantes determinada a partir de ondas sísmicas registradas determina el tipo de falla que produjo el terremoto.</a:t>
            </a:r>
            <a:endParaRPr b="0" lang="en-US" sz="1600" spc="-1" strike="noStrike">
              <a:solidFill>
                <a:srgbClr val="000000"/>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00"/>
                </a:solidFill>
                <a:latin typeface="Arial"/>
                <a:ea typeface="Arial"/>
              </a:rPr>
              <a:t>En este caso, el mecanismo focal indica que este terremoto ocurrió como resultado de una falla transcurrente. En la extensión más occidental de la Fosa Aleutiana, el movimiento relativo de la placa es casi paralelo al límite de la placa y es común que se produzca una falla transcurrente lateral-derecha.</a:t>
            </a:r>
            <a:endParaRPr b="0" lang="en-US" sz="1600" spc="-1" strike="noStrike">
              <a:solidFill>
                <a:srgbClr val="000000"/>
              </a:solidFill>
              <a:latin typeface="Arial"/>
            </a:endParaRPr>
          </a:p>
        </p:txBody>
      </p:sp>
      <p:sp>
        <p:nvSpPr>
          <p:cNvPr id="576" name="TextBox 8"/>
          <p:cNvSpPr/>
          <p:nvPr/>
        </p:nvSpPr>
        <p:spPr>
          <a:xfrm>
            <a:off x="2982960" y="5816520"/>
            <a:ext cx="6362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eje de tensión (T) refleja la dirección mínima del esfuerzo de compresión.</a:t>
            </a:r>
            <a:endParaRPr b="0" lang="en-US" sz="1400" spc="-1" strike="noStrike">
              <a:solidFill>
                <a:srgbClr val="000000"/>
              </a:solidFill>
              <a:latin typeface="Arial"/>
            </a:endParaRPr>
          </a:p>
        </p:txBody>
      </p:sp>
      <p:sp>
        <p:nvSpPr>
          <p:cNvPr id="577" name="TextBox 11"/>
          <p:cNvSpPr/>
          <p:nvPr/>
        </p:nvSpPr>
        <p:spPr>
          <a:xfrm>
            <a:off x="380880" y="6400800"/>
            <a:ext cx="358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lución Tensor  Momento Sísmico Centroide USGS</a:t>
            </a:r>
            <a:endParaRPr b="0" lang="en-US" sz="1400" spc="-1" strike="noStrike">
              <a:solidFill>
                <a:srgbClr val="000000"/>
              </a:solidFill>
              <a:latin typeface="Arial"/>
            </a:endParaRPr>
          </a:p>
        </p:txBody>
      </p:sp>
      <p:sp>
        <p:nvSpPr>
          <p:cNvPr id="578"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Picture 8" descr="IRIS_TMlogo.png"/>
          <p:cNvPicPr/>
          <p:nvPr/>
        </p:nvPicPr>
        <p:blipFill>
          <a:blip r:embed="rId1"/>
          <a:stretch/>
        </p:blipFill>
        <p:spPr>
          <a:xfrm>
            <a:off x="239760" y="76320"/>
            <a:ext cx="903240" cy="927000"/>
          </a:xfrm>
          <a:prstGeom prst="rect">
            <a:avLst/>
          </a:prstGeom>
          <a:ln w="0">
            <a:noFill/>
          </a:ln>
        </p:spPr>
      </p:pic>
      <p:pic>
        <p:nvPicPr>
          <p:cNvPr id="580" name="Picture 1" descr=""/>
          <p:cNvPicPr/>
          <p:nvPr/>
        </p:nvPicPr>
        <p:blipFill>
          <a:blip r:embed="rId2"/>
          <a:stretch/>
        </p:blipFill>
        <p:spPr>
          <a:xfrm>
            <a:off x="368280" y="4152960"/>
            <a:ext cx="2641680" cy="2217600"/>
          </a:xfrm>
          <a:prstGeom prst="rect">
            <a:avLst/>
          </a:prstGeom>
          <a:ln w="0">
            <a:noFill/>
          </a:ln>
        </p:spPr>
      </p:pic>
      <p:pic>
        <p:nvPicPr>
          <p:cNvPr id="581" name="Picture 2" descr=""/>
          <p:cNvPicPr/>
          <p:nvPr/>
        </p:nvPicPr>
        <p:blipFill>
          <a:blip r:embed="rId3"/>
          <a:stretch/>
        </p:blipFill>
        <p:spPr>
          <a:xfrm>
            <a:off x="4384800" y="4033800"/>
            <a:ext cx="4464000" cy="1581120"/>
          </a:xfrm>
          <a:prstGeom prst="rect">
            <a:avLst/>
          </a:prstGeom>
          <a:ln w="0">
            <a:noFill/>
          </a:ln>
        </p:spPr>
      </p:pic>
      <p:sp>
        <p:nvSpPr>
          <p:cNvPr id="5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KOMANDORSKIYE OSTROVA, RUSIA</a:t>
            </a:r>
            <a:br>
              <a:rPr sz="3500"/>
            </a:br>
            <a:r>
              <a:rPr b="1" lang="es-VE" sz="1500" spc="-1" strike="noStrike">
                <a:solidFill>
                  <a:srgbClr val="11488b"/>
                </a:solidFill>
                <a:latin typeface="Arial"/>
                <a:ea typeface="Arial"/>
              </a:rPr>
              <a:t>Lunes,  17 de Julio, 2017 a las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2" descr=""/>
          <p:cNvPicPr/>
          <p:nvPr/>
        </p:nvPicPr>
        <p:blipFill>
          <a:blip r:embed="rId1"/>
          <a:srcRect l="609" t="1288" r="929" b="1616"/>
          <a:stretch/>
        </p:blipFill>
        <p:spPr>
          <a:xfrm>
            <a:off x="554040" y="2693880"/>
            <a:ext cx="7358040" cy="4114800"/>
          </a:xfrm>
          <a:prstGeom prst="rect">
            <a:avLst/>
          </a:prstGeom>
          <a:ln w="0">
            <a:noFill/>
          </a:ln>
        </p:spPr>
      </p:pic>
      <p:sp>
        <p:nvSpPr>
          <p:cNvPr id="584" name="Freeform 9"/>
          <p:cNvSpPr/>
          <p:nvPr/>
        </p:nvSpPr>
        <p:spPr>
          <a:xfrm>
            <a:off x="6235560" y="3681360"/>
            <a:ext cx="1490760" cy="1316160"/>
          </a:xfrm>
          <a:custGeom>
            <a:avLst/>
            <a:gdLst/>
            <a:ahLst/>
            <a:rect l="l" t="t" r="r" b="b"/>
            <a:pathLst>
              <a:path w="1490630" h="1316736">
                <a:moveTo>
                  <a:pt x="1161446" y="557784"/>
                </a:moveTo>
                <a:cubicBezTo>
                  <a:pt x="1258200" y="533595"/>
                  <a:pt x="1144264" y="566436"/>
                  <a:pt x="1225454" y="530352"/>
                </a:cubicBezTo>
                <a:cubicBezTo>
                  <a:pt x="1243070" y="522523"/>
                  <a:pt x="1262030" y="518160"/>
                  <a:pt x="1280318" y="512064"/>
                </a:cubicBezTo>
                <a:cubicBezTo>
                  <a:pt x="1289462" y="509016"/>
                  <a:pt x="1298299" y="504810"/>
                  <a:pt x="1307750" y="502920"/>
                </a:cubicBezTo>
                <a:cubicBezTo>
                  <a:pt x="1322990" y="499872"/>
                  <a:pt x="1338476" y="497865"/>
                  <a:pt x="1353470" y="493776"/>
                </a:cubicBezTo>
                <a:cubicBezTo>
                  <a:pt x="1372068" y="488704"/>
                  <a:pt x="1392294" y="486181"/>
                  <a:pt x="1408334" y="475488"/>
                </a:cubicBezTo>
                <a:lnTo>
                  <a:pt x="1463198" y="438912"/>
                </a:lnTo>
                <a:lnTo>
                  <a:pt x="1481486" y="384048"/>
                </a:lnTo>
                <a:lnTo>
                  <a:pt x="1490630" y="356616"/>
                </a:lnTo>
                <a:cubicBezTo>
                  <a:pt x="1487582" y="310896"/>
                  <a:pt x="1486546" y="264997"/>
                  <a:pt x="1481486" y="219456"/>
                </a:cubicBezTo>
                <a:cubicBezTo>
                  <a:pt x="1480422" y="209876"/>
                  <a:pt x="1478363" y="199550"/>
                  <a:pt x="1472342" y="192024"/>
                </a:cubicBezTo>
                <a:cubicBezTo>
                  <a:pt x="1465477" y="183442"/>
                  <a:pt x="1454054" y="179832"/>
                  <a:pt x="1444910" y="173736"/>
                </a:cubicBezTo>
                <a:cubicBezTo>
                  <a:pt x="1438814" y="164592"/>
                  <a:pt x="1435204" y="153169"/>
                  <a:pt x="1426622" y="146304"/>
                </a:cubicBezTo>
                <a:cubicBezTo>
                  <a:pt x="1419096" y="140283"/>
                  <a:pt x="1407616" y="141841"/>
                  <a:pt x="1399190" y="137160"/>
                </a:cubicBezTo>
                <a:cubicBezTo>
                  <a:pt x="1379977" y="126486"/>
                  <a:pt x="1362614" y="112776"/>
                  <a:pt x="1344326" y="100584"/>
                </a:cubicBezTo>
                <a:cubicBezTo>
                  <a:pt x="1336306" y="95237"/>
                  <a:pt x="1325515" y="95751"/>
                  <a:pt x="1316894" y="91440"/>
                </a:cubicBezTo>
                <a:cubicBezTo>
                  <a:pt x="1307064" y="86525"/>
                  <a:pt x="1299505" y="77615"/>
                  <a:pt x="1289462" y="73152"/>
                </a:cubicBezTo>
                <a:lnTo>
                  <a:pt x="1207166" y="45720"/>
                </a:lnTo>
                <a:lnTo>
                  <a:pt x="1124870" y="18288"/>
                </a:lnTo>
                <a:cubicBezTo>
                  <a:pt x="1115726" y="15240"/>
                  <a:pt x="1106789" y="11482"/>
                  <a:pt x="1097438" y="9144"/>
                </a:cubicBezTo>
                <a:lnTo>
                  <a:pt x="1060862" y="0"/>
                </a:lnTo>
                <a:cubicBezTo>
                  <a:pt x="970758" y="5632"/>
                  <a:pt x="944282" y="-1602"/>
                  <a:pt x="877982" y="18288"/>
                </a:cubicBezTo>
                <a:cubicBezTo>
                  <a:pt x="859518" y="23827"/>
                  <a:pt x="839158" y="25883"/>
                  <a:pt x="823118" y="36576"/>
                </a:cubicBezTo>
                <a:lnTo>
                  <a:pt x="795686" y="54864"/>
                </a:lnTo>
                <a:cubicBezTo>
                  <a:pt x="789590" y="64008"/>
                  <a:pt x="785169" y="74525"/>
                  <a:pt x="777398" y="82296"/>
                </a:cubicBezTo>
                <a:cubicBezTo>
                  <a:pt x="769627" y="90067"/>
                  <a:pt x="757203" y="92313"/>
                  <a:pt x="749966" y="100584"/>
                </a:cubicBezTo>
                <a:cubicBezTo>
                  <a:pt x="735492" y="117125"/>
                  <a:pt x="725582" y="137160"/>
                  <a:pt x="713390" y="155448"/>
                </a:cubicBezTo>
                <a:lnTo>
                  <a:pt x="658526" y="237744"/>
                </a:lnTo>
                <a:cubicBezTo>
                  <a:pt x="652430" y="246888"/>
                  <a:pt x="648009" y="257405"/>
                  <a:pt x="640238" y="265176"/>
                </a:cubicBezTo>
                <a:lnTo>
                  <a:pt x="612806" y="292608"/>
                </a:lnTo>
                <a:cubicBezTo>
                  <a:pt x="609758" y="301752"/>
                  <a:pt x="608343" y="311614"/>
                  <a:pt x="603662" y="320040"/>
                </a:cubicBezTo>
                <a:cubicBezTo>
                  <a:pt x="592988" y="339253"/>
                  <a:pt x="574037" y="354052"/>
                  <a:pt x="567086" y="374904"/>
                </a:cubicBezTo>
                <a:cubicBezTo>
                  <a:pt x="560990" y="393192"/>
                  <a:pt x="559491" y="413728"/>
                  <a:pt x="548798" y="429768"/>
                </a:cubicBezTo>
                <a:cubicBezTo>
                  <a:pt x="542702" y="438912"/>
                  <a:pt x="535425" y="447370"/>
                  <a:pt x="530510" y="457200"/>
                </a:cubicBezTo>
                <a:cubicBezTo>
                  <a:pt x="526199" y="465821"/>
                  <a:pt x="525677" y="476011"/>
                  <a:pt x="521366" y="484632"/>
                </a:cubicBezTo>
                <a:cubicBezTo>
                  <a:pt x="516451" y="494462"/>
                  <a:pt x="507541" y="502021"/>
                  <a:pt x="503078" y="512064"/>
                </a:cubicBezTo>
                <a:lnTo>
                  <a:pt x="475646" y="594360"/>
                </a:lnTo>
                <a:lnTo>
                  <a:pt x="466502" y="621792"/>
                </a:lnTo>
                <a:lnTo>
                  <a:pt x="457358" y="649224"/>
                </a:lnTo>
                <a:cubicBezTo>
                  <a:pt x="454310" y="670560"/>
                  <a:pt x="452069" y="692027"/>
                  <a:pt x="448214" y="713232"/>
                </a:cubicBezTo>
                <a:cubicBezTo>
                  <a:pt x="441068" y="752537"/>
                  <a:pt x="439719" y="742964"/>
                  <a:pt x="429926" y="777240"/>
                </a:cubicBezTo>
                <a:cubicBezTo>
                  <a:pt x="427141" y="786989"/>
                  <a:pt x="418086" y="829641"/>
                  <a:pt x="411638" y="841248"/>
                </a:cubicBezTo>
                <a:cubicBezTo>
                  <a:pt x="400964" y="860461"/>
                  <a:pt x="393350" y="883920"/>
                  <a:pt x="375062" y="896112"/>
                </a:cubicBezTo>
                <a:lnTo>
                  <a:pt x="320198" y="932688"/>
                </a:lnTo>
                <a:cubicBezTo>
                  <a:pt x="271430" y="1005840"/>
                  <a:pt x="335438" y="917448"/>
                  <a:pt x="274478" y="978408"/>
                </a:cubicBezTo>
                <a:cubicBezTo>
                  <a:pt x="233118" y="1019768"/>
                  <a:pt x="282162" y="997183"/>
                  <a:pt x="228758" y="1014984"/>
                </a:cubicBezTo>
                <a:cubicBezTo>
                  <a:pt x="210470" y="1033272"/>
                  <a:pt x="195413" y="1055502"/>
                  <a:pt x="173894" y="1069848"/>
                </a:cubicBezTo>
                <a:cubicBezTo>
                  <a:pt x="155606" y="1082040"/>
                  <a:pt x="134572" y="1090882"/>
                  <a:pt x="119030" y="1106424"/>
                </a:cubicBezTo>
                <a:cubicBezTo>
                  <a:pt x="95361" y="1130093"/>
                  <a:pt x="69546" y="1159495"/>
                  <a:pt x="36734" y="1170432"/>
                </a:cubicBezTo>
                <a:lnTo>
                  <a:pt x="9302" y="1179576"/>
                </a:lnTo>
                <a:cubicBezTo>
                  <a:pt x="-3139" y="1216898"/>
                  <a:pt x="-3063" y="1200307"/>
                  <a:pt x="9302" y="1243584"/>
                </a:cubicBezTo>
                <a:cubicBezTo>
                  <a:pt x="11950" y="1252852"/>
                  <a:pt x="11630" y="1264200"/>
                  <a:pt x="18446" y="1271016"/>
                </a:cubicBezTo>
                <a:cubicBezTo>
                  <a:pt x="25262" y="1277832"/>
                  <a:pt x="37257" y="1275849"/>
                  <a:pt x="45878" y="1280160"/>
                </a:cubicBezTo>
                <a:cubicBezTo>
                  <a:pt x="55708" y="1285075"/>
                  <a:pt x="63267" y="1293985"/>
                  <a:pt x="73310" y="1298448"/>
                </a:cubicBezTo>
                <a:cubicBezTo>
                  <a:pt x="90926" y="1306277"/>
                  <a:pt x="128174" y="1316736"/>
                  <a:pt x="128174" y="1316736"/>
                </a:cubicBezTo>
                <a:cubicBezTo>
                  <a:pt x="167798" y="1313688"/>
                  <a:pt x="207791" y="1313790"/>
                  <a:pt x="247046" y="1307592"/>
                </a:cubicBezTo>
                <a:cubicBezTo>
                  <a:pt x="266087" y="1304585"/>
                  <a:pt x="301910" y="1289304"/>
                  <a:pt x="301910" y="1289304"/>
                </a:cubicBezTo>
                <a:cubicBezTo>
                  <a:pt x="342810" y="1227953"/>
                  <a:pt x="294629" y="1288062"/>
                  <a:pt x="347630" y="1252728"/>
                </a:cubicBezTo>
                <a:cubicBezTo>
                  <a:pt x="358390" y="1245555"/>
                  <a:pt x="364854" y="1233235"/>
                  <a:pt x="375062" y="1225296"/>
                </a:cubicBezTo>
                <a:cubicBezTo>
                  <a:pt x="392412" y="1211802"/>
                  <a:pt x="411638" y="1200912"/>
                  <a:pt x="429926" y="1188720"/>
                </a:cubicBezTo>
                <a:lnTo>
                  <a:pt x="457358" y="1170432"/>
                </a:lnTo>
                <a:cubicBezTo>
                  <a:pt x="463454" y="1161288"/>
                  <a:pt x="467375" y="1150237"/>
                  <a:pt x="475646" y="1143000"/>
                </a:cubicBezTo>
                <a:cubicBezTo>
                  <a:pt x="492187" y="1128526"/>
                  <a:pt x="530510" y="1106424"/>
                  <a:pt x="530510" y="1106424"/>
                </a:cubicBezTo>
                <a:cubicBezTo>
                  <a:pt x="542702" y="1088136"/>
                  <a:pt x="548798" y="1063752"/>
                  <a:pt x="567086" y="1051560"/>
                </a:cubicBezTo>
                <a:lnTo>
                  <a:pt x="621950" y="1014984"/>
                </a:lnTo>
                <a:cubicBezTo>
                  <a:pt x="631094" y="1008888"/>
                  <a:pt x="641611" y="1004467"/>
                  <a:pt x="649382" y="996696"/>
                </a:cubicBezTo>
                <a:cubicBezTo>
                  <a:pt x="658526" y="987552"/>
                  <a:pt x="666606" y="977203"/>
                  <a:pt x="676814" y="969264"/>
                </a:cubicBezTo>
                <a:lnTo>
                  <a:pt x="759110" y="914400"/>
                </a:lnTo>
                <a:lnTo>
                  <a:pt x="786542" y="896112"/>
                </a:lnTo>
                <a:cubicBezTo>
                  <a:pt x="795686" y="890016"/>
                  <a:pt x="806203" y="885595"/>
                  <a:pt x="813974" y="877824"/>
                </a:cubicBezTo>
                <a:cubicBezTo>
                  <a:pt x="894117" y="797681"/>
                  <a:pt x="792455" y="895757"/>
                  <a:pt x="868838" y="832104"/>
                </a:cubicBezTo>
                <a:cubicBezTo>
                  <a:pt x="912552" y="795675"/>
                  <a:pt x="881864" y="816473"/>
                  <a:pt x="914558" y="777240"/>
                </a:cubicBezTo>
                <a:cubicBezTo>
                  <a:pt x="922837" y="767306"/>
                  <a:pt x="933711" y="759742"/>
                  <a:pt x="941990" y="749808"/>
                </a:cubicBezTo>
                <a:cubicBezTo>
                  <a:pt x="949025" y="741365"/>
                  <a:pt x="953243" y="730819"/>
                  <a:pt x="960278" y="722376"/>
                </a:cubicBezTo>
                <a:cubicBezTo>
                  <a:pt x="968557" y="712442"/>
                  <a:pt x="979771" y="705152"/>
                  <a:pt x="987710" y="694944"/>
                </a:cubicBezTo>
                <a:cubicBezTo>
                  <a:pt x="1045153" y="621089"/>
                  <a:pt x="998612" y="657196"/>
                  <a:pt x="1051718" y="621792"/>
                </a:cubicBezTo>
                <a:cubicBezTo>
                  <a:pt x="1057814" y="612648"/>
                  <a:pt x="1061424" y="601225"/>
                  <a:pt x="1070006" y="594360"/>
                </a:cubicBezTo>
                <a:cubicBezTo>
                  <a:pt x="1077532" y="588339"/>
                  <a:pt x="1088817" y="589527"/>
                  <a:pt x="1097438" y="585216"/>
                </a:cubicBezTo>
                <a:cubicBezTo>
                  <a:pt x="1172407" y="547731"/>
                  <a:pt x="1052475" y="574168"/>
                  <a:pt x="1216310" y="557784"/>
                </a:cubicBezTo>
                <a:lnTo>
                  <a:pt x="1252886" y="548640"/>
                </a:lnTo>
              </a:path>
            </a:pathLst>
          </a:custGeom>
          <a:solidFill>
            <a:srgbClr val="f79646">
              <a:alpha val="49000"/>
            </a:srgbClr>
          </a:solidFill>
          <a:ln w="25560">
            <a:solidFill>
              <a:srgbClr val="f7964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Picture 8" descr="IRIS_TMlogo.png"/>
          <p:cNvPicPr/>
          <p:nvPr/>
        </p:nvPicPr>
        <p:blipFill>
          <a:blip r:embed="rId2"/>
          <a:stretch/>
        </p:blipFill>
        <p:spPr>
          <a:xfrm>
            <a:off x="239760" y="76320"/>
            <a:ext cx="903240" cy="927000"/>
          </a:xfrm>
          <a:prstGeom prst="rect">
            <a:avLst/>
          </a:prstGeom>
          <a:ln w="0">
            <a:noFill/>
          </a:ln>
        </p:spPr>
      </p:pic>
      <p:sp>
        <p:nvSpPr>
          <p:cNvPr id="587" name="TextBox 18"/>
          <p:cNvSpPr/>
          <p:nvPr/>
        </p:nvSpPr>
        <p:spPr>
          <a:xfrm>
            <a:off x="228600" y="1828800"/>
            <a:ext cx="4422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9"/>
          <p:cNvSpPr/>
          <p:nvPr/>
        </p:nvSpPr>
        <p:spPr>
          <a:xfrm>
            <a:off x="239760" y="880920"/>
            <a:ext cx="87660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iguiente mapa muestra la ubicación de los últimos 2.767 terremotos de magnitud&gt; 5,0 en la región. Las escalas de magnitud y profundidad se muestran a la derecha. El epicentro del terremoto del 17 de julio de 2017 está etiquetado cerca del extremo occidental de la Fosa Aleutiana. Los terremotos de más de 100 km se encuentran dentro de la subducción de la Placa del Pacífico. Según el Servicio Geológico de los EE.UU, seis grandes (M&gt; 8) terremotos se han producido en el límite de la placa de mega empuje superficial desde 1.906. La zona de ruptura del terremoto de Alaska de 1.964 se muestra en naranja. Con una magnitud de 9.2, este fue el segundo mayor terremoto registrado por los sismómetros modernos.</a:t>
            </a:r>
            <a:endParaRPr b="0" lang="en-US" sz="1400" spc="-1" strike="noStrike">
              <a:solidFill>
                <a:srgbClr val="000000"/>
              </a:solidFill>
              <a:latin typeface="Arial"/>
            </a:endParaRPr>
          </a:p>
        </p:txBody>
      </p:sp>
      <p:pic>
        <p:nvPicPr>
          <p:cNvPr id="589" name="Picture 1" descr=""/>
          <p:cNvPicPr/>
          <p:nvPr/>
        </p:nvPicPr>
        <p:blipFill>
          <a:blip r:embed="rId3"/>
          <a:srcRect l="5556" t="1882" r="7022" b="1364"/>
          <a:stretch/>
        </p:blipFill>
        <p:spPr>
          <a:xfrm>
            <a:off x="8221680" y="3532320"/>
            <a:ext cx="506520" cy="2931840"/>
          </a:xfrm>
          <a:prstGeom prst="rect">
            <a:avLst/>
          </a:prstGeom>
          <a:ln w="0">
            <a:noFill/>
          </a:ln>
        </p:spPr>
      </p:pic>
      <p:pic>
        <p:nvPicPr>
          <p:cNvPr id="590" name="Picture 1" descr=""/>
          <p:cNvPicPr/>
          <p:nvPr/>
        </p:nvPicPr>
        <p:blipFill>
          <a:blip r:embed="rId4"/>
          <a:srcRect l="2854" t="16030" r="36914" b="16621"/>
          <a:stretch/>
        </p:blipFill>
        <p:spPr>
          <a:xfrm>
            <a:off x="7980480" y="2695680"/>
            <a:ext cx="1062000" cy="549000"/>
          </a:xfrm>
          <a:prstGeom prst="rect">
            <a:avLst/>
          </a:prstGeom>
          <a:ln w="0">
            <a:noFill/>
          </a:ln>
        </p:spPr>
      </p:pic>
      <p:sp>
        <p:nvSpPr>
          <p:cNvPr id="591" name="TextBox 4"/>
          <p:cNvSpPr/>
          <p:nvPr/>
        </p:nvSpPr>
        <p:spPr>
          <a:xfrm>
            <a:off x="4503960" y="6278400"/>
            <a:ext cx="194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Placa de Pacífico</a:t>
            </a:r>
            <a:endParaRPr b="0" lang="en-US" sz="1800" spc="-1" strike="noStrike">
              <a:solidFill>
                <a:srgbClr val="000000"/>
              </a:solidFill>
              <a:latin typeface="Arial"/>
            </a:endParaRPr>
          </a:p>
        </p:txBody>
      </p:sp>
      <p:sp>
        <p:nvSpPr>
          <p:cNvPr id="592" name="TextBox 16"/>
          <p:cNvSpPr/>
          <p:nvPr/>
        </p:nvSpPr>
        <p:spPr>
          <a:xfrm>
            <a:off x="2489040" y="3311640"/>
            <a:ext cx="250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ea typeface="Arial"/>
              </a:rPr>
              <a:t>Placa de Norteamérica</a:t>
            </a:r>
            <a:endParaRPr b="0" lang="en-US" sz="1800" spc="-1" strike="noStrike">
              <a:solidFill>
                <a:srgbClr val="000000"/>
              </a:solidFill>
              <a:latin typeface="Arial"/>
            </a:endParaRPr>
          </a:p>
        </p:txBody>
      </p:sp>
      <p:sp>
        <p:nvSpPr>
          <p:cNvPr id="593" name="TextBox 19"/>
          <p:cNvSpPr/>
          <p:nvPr/>
        </p:nvSpPr>
        <p:spPr>
          <a:xfrm>
            <a:off x="1145160" y="4691160"/>
            <a:ext cx="128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uly 17, 2017</a:t>
            </a:r>
            <a:endParaRPr b="0" lang="en-US" sz="1400" spc="-1" strike="noStrike">
              <a:solidFill>
                <a:srgbClr val="000000"/>
              </a:solidFill>
              <a:latin typeface="Arial"/>
            </a:endParaRPr>
          </a:p>
        </p:txBody>
      </p:sp>
      <p:cxnSp>
        <p:nvCxnSpPr>
          <p:cNvPr id="594" name="Straight Arrow Connector 7"/>
          <p:cNvCxnSpPr/>
          <p:nvPr/>
        </p:nvCxnSpPr>
        <p:spPr>
          <a:xfrm flipH="1">
            <a:off x="1447200" y="4998960"/>
            <a:ext cx="229320" cy="364320"/>
          </a:xfrm>
          <a:prstGeom prst="straightConnector1">
            <a:avLst/>
          </a:prstGeom>
          <a:ln w="25560">
            <a:solidFill>
              <a:srgbClr val="ffffff"/>
            </a:solidFill>
            <a:miter/>
            <a:tailEnd len="med" type="arrow" w="med"/>
          </a:ln>
        </p:spPr>
      </p:cxnSp>
      <p:sp>
        <p:nvSpPr>
          <p:cNvPr id="595" name="TextBox 10"/>
          <p:cNvSpPr/>
          <p:nvPr/>
        </p:nvSpPr>
        <p:spPr>
          <a:xfrm rot="18797400">
            <a:off x="6446880" y="405756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964 M9.2</a:t>
            </a:r>
            <a:endParaRPr b="0" lang="en-US" sz="1800" spc="-1" strike="noStrike">
              <a:solidFill>
                <a:srgbClr val="000000"/>
              </a:solidFill>
              <a:latin typeface="Arial"/>
            </a:endParaRPr>
          </a:p>
        </p:txBody>
      </p:sp>
      <p:sp>
        <p:nvSpPr>
          <p:cNvPr id="5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KOMANDORSKIYE OSTROVA, RUSIA</a:t>
            </a:r>
            <a:br>
              <a:rPr sz="3500"/>
            </a:br>
            <a:r>
              <a:rPr b="1" lang="es-VE" sz="1500" spc="-1" strike="noStrike">
                <a:solidFill>
                  <a:srgbClr val="11488b"/>
                </a:solidFill>
                <a:latin typeface="Arial"/>
                <a:ea typeface="Arial"/>
              </a:rPr>
              <a:t>Lunes,  17 de Julio, 2017 a las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1" descr=""/>
          <p:cNvPicPr/>
          <p:nvPr/>
        </p:nvPicPr>
        <p:blipFill>
          <a:blip r:embed="rId1"/>
          <a:srcRect l="986" t="0" r="0" b="0"/>
          <a:stretch/>
        </p:blipFill>
        <p:spPr>
          <a:xfrm>
            <a:off x="1157400" y="1312920"/>
            <a:ext cx="7503840" cy="5486400"/>
          </a:xfrm>
          <a:prstGeom prst="rect">
            <a:avLst/>
          </a:prstGeom>
          <a:ln w="0">
            <a:noFill/>
          </a:ln>
        </p:spPr>
      </p:pic>
      <p:sp>
        <p:nvSpPr>
          <p:cNvPr id="5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Picture 18" descr="IRIS_TMlogo.png"/>
          <p:cNvPicPr/>
          <p:nvPr/>
        </p:nvPicPr>
        <p:blipFill>
          <a:blip r:embed="rId2"/>
          <a:stretch/>
        </p:blipFill>
        <p:spPr>
          <a:xfrm>
            <a:off x="239760" y="76320"/>
            <a:ext cx="903240" cy="927000"/>
          </a:xfrm>
          <a:prstGeom prst="rect">
            <a:avLst/>
          </a:prstGeom>
          <a:ln w="0">
            <a:noFill/>
          </a:ln>
        </p:spPr>
      </p:pic>
      <p:sp>
        <p:nvSpPr>
          <p:cNvPr id="600" name="TextBox 4"/>
          <p:cNvSpPr/>
          <p:nvPr/>
        </p:nvSpPr>
        <p:spPr>
          <a:xfrm>
            <a:off x="1941480" y="3484440"/>
            <a:ext cx="6764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Después del terremoto, tomó 8 minutos y 11 segundos para que las ondas P compresionales viajaran una trayectoria curva a través del manto hasta Bend, Oregón.</a:t>
            </a:r>
            <a:endParaRPr b="0" lang="en-US" sz="1400" spc="-1" strike="noStrike">
              <a:solidFill>
                <a:srgbClr val="000000"/>
              </a:solidFill>
              <a:latin typeface="Arial"/>
            </a:endParaRPr>
          </a:p>
        </p:txBody>
      </p:sp>
      <p:sp>
        <p:nvSpPr>
          <p:cNvPr id="601" name="TextBox 7"/>
          <p:cNvSpPr/>
          <p:nvPr/>
        </p:nvSpPr>
        <p:spPr>
          <a:xfrm>
            <a:off x="1744560" y="828720"/>
            <a:ext cx="66373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El registro del terremoto en Bend, Oregón (BNOR) se ilustra a continuación. Bend se encuentra a 4.982 km (3.096 millas, 44.9 °) desde la ubicación de este terremoto.</a:t>
            </a:r>
            <a:endParaRPr b="0" lang="en-US" sz="1400" spc="-1" strike="noStrike">
              <a:solidFill>
                <a:srgbClr val="000000"/>
              </a:solidFill>
              <a:latin typeface="Arial"/>
            </a:endParaRPr>
          </a:p>
        </p:txBody>
      </p:sp>
      <p:sp>
        <p:nvSpPr>
          <p:cNvPr id="602" name="TextBox 6"/>
          <p:cNvSpPr/>
          <p:nvPr/>
        </p:nvSpPr>
        <p:spPr>
          <a:xfrm>
            <a:off x="1628640" y="4998960"/>
            <a:ext cx="7391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s ondas de superficie recorrieron los 4982 km (3096 millas) a lo largo del perímetro de la Tierra desde el terremoto hasta la estación de registro. Las ondas superficiales comenzaron a llegar a Bend aproximadamente 26 minutos después del terremoto.</a:t>
            </a:r>
            <a:endParaRPr b="0" lang="en-US" sz="1400" spc="-1" strike="noStrike">
              <a:solidFill>
                <a:srgbClr val="000000"/>
              </a:solidFill>
              <a:latin typeface="Arial"/>
            </a:endParaRPr>
          </a:p>
        </p:txBody>
      </p:sp>
      <p:sp>
        <p:nvSpPr>
          <p:cNvPr id="603" name="TextBox 9"/>
          <p:cNvSpPr/>
          <p:nvPr/>
        </p:nvSpPr>
        <p:spPr>
          <a:xfrm>
            <a:off x="1895400" y="4240080"/>
            <a:ext cx="6858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ＭＳ Ｐゴシック"/>
              </a:rPr>
              <a:t>Las ondas S son ondas cortantes que siguen la misma trayectoria a través del mando que las ondas P. Ondas S se tomaron 14 minutos y 46 segundos para viajar desde el terremoto hasta Bend.</a:t>
            </a:r>
            <a:endParaRPr b="0" lang="en-US" sz="1400" spc="-1" strike="noStrike">
              <a:solidFill>
                <a:srgbClr val="000000"/>
              </a:solidFill>
              <a:latin typeface="Arial"/>
            </a:endParaRPr>
          </a:p>
        </p:txBody>
      </p:sp>
      <p:sp>
        <p:nvSpPr>
          <p:cNvPr id="604" name="TextBox 4"/>
          <p:cNvSpPr/>
          <p:nvPr/>
        </p:nvSpPr>
        <p:spPr>
          <a:xfrm>
            <a:off x="2971800" y="202248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ＭＳ Ｐゴシック"/>
              </a:rPr>
              <a:t>P</a:t>
            </a:r>
            <a:endParaRPr b="0" lang="en-US" sz="1800" spc="-1" strike="noStrike">
              <a:solidFill>
                <a:srgbClr val="000000"/>
              </a:solidFill>
              <a:latin typeface="Arial"/>
            </a:endParaRPr>
          </a:p>
        </p:txBody>
      </p:sp>
      <p:sp>
        <p:nvSpPr>
          <p:cNvPr id="605" name="TextBox 11"/>
          <p:cNvSpPr/>
          <p:nvPr/>
        </p:nvSpPr>
        <p:spPr>
          <a:xfrm>
            <a:off x="4269600" y="2130480"/>
            <a:ext cx="333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ＭＳ Ｐゴシック"/>
              </a:rPr>
              <a:t>S</a:t>
            </a:r>
            <a:endParaRPr b="0" lang="en-US" sz="1800" spc="-1" strike="noStrike">
              <a:solidFill>
                <a:srgbClr val="000000"/>
              </a:solidFill>
              <a:latin typeface="Arial"/>
            </a:endParaRPr>
          </a:p>
        </p:txBody>
      </p:sp>
      <p:sp>
        <p:nvSpPr>
          <p:cNvPr id="606" name="TextBox 11"/>
          <p:cNvSpPr/>
          <p:nvPr/>
        </p:nvSpPr>
        <p:spPr>
          <a:xfrm>
            <a:off x="6253200" y="1940040"/>
            <a:ext cx="2766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7030a0"/>
                </a:solidFill>
                <a:latin typeface="Arial"/>
              </a:rPr>
              <a:t>Ondas de Superficie</a:t>
            </a:r>
            <a:endParaRPr b="0" lang="en-US" sz="1800" spc="-1" strike="noStrike">
              <a:solidFill>
                <a:srgbClr val="000000"/>
              </a:solidFill>
              <a:latin typeface="Arial"/>
            </a:endParaRPr>
          </a:p>
        </p:txBody>
      </p:sp>
      <p:sp>
        <p:nvSpPr>
          <p:cNvPr id="607" name="Rectangle 2"/>
          <p:cNvSpPr/>
          <p:nvPr/>
        </p:nvSpPr>
        <p:spPr>
          <a:xfrm>
            <a:off x="6553080" y="5715000"/>
            <a:ext cx="2108160" cy="6858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7 KOMANDORSKIYE OSTROVA, RUSIA</a:t>
            </a:r>
            <a:br>
              <a:rPr sz="3500"/>
            </a:br>
            <a:r>
              <a:rPr b="1" lang="es-VE" sz="1500" spc="-1" strike="noStrike">
                <a:solidFill>
                  <a:srgbClr val="11488b"/>
                </a:solidFill>
                <a:latin typeface="Arial"/>
                <a:ea typeface="Arial"/>
              </a:rPr>
              <a:t>Lunes,  17 de Julio, 2017 a las 23:34:14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0" name="Picture 1" descr=""/>
          <p:cNvPicPr/>
          <p:nvPr/>
        </p:nvPicPr>
        <p:blipFill>
          <a:blip r:embed="rId1"/>
          <a:stretch/>
        </p:blipFill>
        <p:spPr>
          <a:xfrm>
            <a:off x="6400800" y="5262480"/>
            <a:ext cx="2413080" cy="1281240"/>
          </a:xfrm>
          <a:prstGeom prst="rect">
            <a:avLst/>
          </a:prstGeom>
          <a:ln w="0">
            <a:noFill/>
          </a:ln>
        </p:spPr>
      </p:pic>
      <p:pic>
        <p:nvPicPr>
          <p:cNvPr id="611" name="Picture 1" descr=""/>
          <p:cNvPicPr/>
          <p:nvPr/>
        </p:nvPicPr>
        <p:blipFill>
          <a:blip r:embed="rId2"/>
          <a:stretch/>
        </p:blipFill>
        <p:spPr>
          <a:xfrm>
            <a:off x="709560" y="5337000"/>
            <a:ext cx="1200240" cy="1206720"/>
          </a:xfrm>
          <a:prstGeom prst="rect">
            <a:avLst/>
          </a:prstGeom>
          <a:ln w="0">
            <a:noFill/>
          </a:ln>
        </p:spPr>
      </p:pic>
      <p:sp>
        <p:nvSpPr>
          <p:cNvPr id="612"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613" name="IRIS Logo _For TMs.mp4" descr=""/>
          <p:cNvPicPr/>
          <p:nvPr/>
        </p:nvPicPr>
        <p:blipFill>
          <a:blip r:embed="rId3"/>
          <a:stretch/>
        </p:blipFill>
        <p:spPr>
          <a:xfrm>
            <a:off x="3693960" y="4754520"/>
            <a:ext cx="1828800" cy="1731960"/>
          </a:xfrm>
          <a:prstGeom prst="rect">
            <a:avLst/>
          </a:prstGeom>
          <a:ln w="0">
            <a:noFill/>
          </a:ln>
        </p:spPr>
      </p:pic>
      <p:sp>
        <p:nvSpPr>
          <p:cNvPr id="614"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ＭＳ Ｐゴシック"/>
              </a:rPr>
              <a:t>Momentos de Enseñanzas son un servicio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s-VE" sz="1800" spc="-1" strike="noStrike">
                <a:solidFill>
                  <a:srgbClr val="000000"/>
                </a:solidFill>
                <a:latin typeface="Arial"/>
                <a:ea typeface="ＭＳ Ｐゴシック"/>
              </a:rPr>
              <a:t>Educación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La Universidad de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Por favor enviar comentarios a </a:t>
            </a:r>
            <a:r>
              <a:rPr b="0" lang="es-VE" sz="1800" spc="-1" strike="noStrike" u="sng">
                <a:solidFill>
                  <a:srgbClr val="0000ff"/>
                </a:solidFill>
                <a:uFillTx/>
                <a:latin typeface="Arial"/>
                <a:ea typeface="ＭＳ Ｐゴシック"/>
                <a:hlinkClick r:id="rId4"/>
              </a:rPr>
              <a:t>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ＭＳ Ｐゴシック"/>
              </a:rPr>
              <a:t>Para recibir notificaciones automáticas de nuevos Momentos de enseñanzas suscribirse en </a:t>
            </a:r>
            <a:r>
              <a:rPr b="0" lang="es-VE" sz="1800" spc="-1" strike="noStrike" u="sng">
                <a:solidFill>
                  <a:srgbClr val="0000ff"/>
                </a:solidFill>
                <a:uFillTx/>
                <a:latin typeface="Arial"/>
                <a:ea typeface="ＭＳ Ｐゴシック"/>
                <a:hlinkClick r:id="rId5"/>
              </a:rPr>
              <a:t>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0199" fill="hold"/>
                                        <p:tgtEl>
                                          <p:spTgt spid="61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13"/>
                    </p:tgtEl>
                  </p:cond>
                </p:stCondLst>
                <p:childTnLst>
                  <p:par>
                    <p:cTn id="8" nodeType="clickEffect" fill="hold">
                      <p:stCondLst>
                        <p:cond evt="onClick">
                          <p:tgtEl>
                            <p:spTgt spid="613"/>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6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7-07-18T23:26:14Z</dcterms:modified>
  <cp:revision>769</cp:revision>
  <dc:subject/>
  <dc:title>Slide 1</dc:title>
</cp:coreProperties>
</file>