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jpeg" ContentType="image/jpeg"/>
  <Override PartName="/ppt/media/image14.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7D69B-1CBA-4A5E-AA78-1248426F83C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257480" y="720720"/>
            <a:ext cx="4800600" cy="3600360"/>
          </a:xfrm>
          <a:prstGeom prst="rect">
            <a:avLst/>
          </a:prstGeom>
          <a:ln w="0">
            <a:noFill/>
          </a:ln>
        </p:spPr>
      </p:sp>
      <p:sp>
        <p:nvSpPr>
          <p:cNvPr id="6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DA4E-7F2C-4754-936B-A7958443FE6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257480" y="720720"/>
            <a:ext cx="4800600" cy="3600360"/>
          </a:xfrm>
          <a:prstGeom prst="rect">
            <a:avLst/>
          </a:prstGeom>
          <a:ln w="0">
            <a:noFill/>
          </a:ln>
        </p:spPr>
      </p:sp>
      <p:sp>
        <p:nvSpPr>
          <p:cNvPr id="65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8169-C277-4C6C-BB0A-C398365F4E6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257480" y="720720"/>
            <a:ext cx="4800600" cy="3600360"/>
          </a:xfrm>
          <a:prstGeom prst="rect">
            <a:avLst/>
          </a:prstGeom>
          <a:ln w="0">
            <a:noFill/>
          </a:ln>
        </p:spPr>
      </p:sp>
      <p:sp>
        <p:nvSpPr>
          <p:cNvPr id="6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AC62-4726-45E6-A21F-474ECA3242C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257480" y="720720"/>
            <a:ext cx="4800600" cy="3600360"/>
          </a:xfrm>
          <a:prstGeom prst="rect">
            <a:avLst/>
          </a:prstGeom>
          <a:ln w="0">
            <a:noFill/>
          </a:ln>
        </p:spPr>
      </p:sp>
      <p:sp>
        <p:nvSpPr>
          <p:cNvPr id="6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 Kendrick, et al., (2003) The Nazca–South America Euler vector and its rate of change, Journal of South American Earth Sciences, v. 16, p. 125–131.</a:t>
            </a:r>
            <a:endParaRPr b="0" lang="en-US" sz="1200" spc="-1" strike="noStrike">
              <a:solidFill>
                <a:srgbClr val="000000"/>
              </a:solidFill>
              <a:latin typeface="Calibri"/>
            </a:endParaRPr>
          </a:p>
        </p:txBody>
      </p:sp>
      <p:sp>
        <p:nvSpPr>
          <p:cNvPr id="6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100B-829F-4CF4-9F91-FED32A9E242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257480" y="720720"/>
            <a:ext cx="4800600" cy="3600360"/>
          </a:xfrm>
          <a:prstGeom prst="rect">
            <a:avLst/>
          </a:prstGeom>
          <a:ln w="0">
            <a:noFill/>
          </a:ln>
        </p:spPr>
      </p:sp>
      <p:sp>
        <p:nvSpPr>
          <p:cNvPr id="66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3996"/>
                </a:solidFill>
                <a:latin typeface="Calibri"/>
              </a:rPr>
              <a:t>Explore the Seismicit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RIS Earthquake Browser:  http://ds.iris.edu/ieb/</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9C84-6BCF-4191-8428-7103D8DBA6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257480" y="720720"/>
            <a:ext cx="4800600" cy="3600360"/>
          </a:xfrm>
          <a:prstGeom prst="rect">
            <a:avLst/>
          </a:prstGeom>
          <a:ln w="0">
            <a:noFill/>
          </a:ln>
        </p:spPr>
      </p:sp>
      <p:sp>
        <p:nvSpPr>
          <p:cNvPr id="6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merica – Earthquakes and Tectonics:  http://www.iris.edu/hq/inclass/animation/peruchile_subduction_zone_earthquakes__tectonics </a:t>
            </a:r>
            <a:endParaRPr b="0" lang="en-US" sz="1200" spc="-1" strike="noStrike">
              <a:solidFill>
                <a:srgbClr val="000000"/>
              </a:solidFill>
              <a:latin typeface="Calibri"/>
            </a:endParaRPr>
          </a:p>
        </p:txBody>
      </p:sp>
      <p:sp>
        <p:nvSpPr>
          <p:cNvPr id="6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4CC0-C07D-4EA9-A25B-6F00A3DA37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257480" y="720720"/>
            <a:ext cx="4800600" cy="3600360"/>
          </a:xfrm>
          <a:prstGeom prst="rect">
            <a:avLst/>
          </a:prstGeom>
          <a:ln w="0">
            <a:noFill/>
          </a:ln>
        </p:spPr>
      </p:sp>
      <p:sp>
        <p:nvSpPr>
          <p:cNvPr id="6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3996"/>
                </a:solidFill>
                <a:latin typeface="Arial"/>
              </a:rPr>
              <a:t>Relevant Animation:</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ing focal mechanisms http://www.iris.edu/hq/programs/education_and_outreach/animations/25</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6F0A-CEEF-4A67-90F6-FE5902E5B6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257480" y="720720"/>
            <a:ext cx="4800600" cy="3600360"/>
          </a:xfrm>
          <a:prstGeom prst="rect">
            <a:avLst/>
          </a:prstGeom>
          <a:ln w="0">
            <a:noFill/>
          </a:ln>
        </p:spPr>
      </p:sp>
      <p:sp>
        <p:nvSpPr>
          <p:cNvPr id="6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6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5365-A087-4C9F-B5F3-960C9CA7F07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257480" y="720720"/>
            <a:ext cx="4800600" cy="3600360"/>
          </a:xfrm>
          <a:prstGeom prst="rect">
            <a:avLst/>
          </a:prstGeom>
          <a:ln w="0">
            <a:noFill/>
          </a:ln>
        </p:spPr>
      </p:sp>
      <p:sp>
        <p:nvSpPr>
          <p:cNvPr id="6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13F0-2699-4A7B-97A9-6391A2F8E86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B168C-62B4-4B8D-BE3A-AFC3FFB06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AFD3A-43F8-4E81-AAF4-25F8F740F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99A06F-DCC6-498B-9F99-B4732E3202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85D654-0507-4010-B0B3-451D508307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23712C-B69E-4CC8-8159-29776C804D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F47B5E-DA90-4F27-A3B3-19E468DAAA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7E45E1-0B8A-4871-A141-4DEC7728E4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DE8ECF-4401-4009-B0ED-27103EA53D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F280A3-A0A8-4582-9B2D-0F7A63510F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7BED1C-3CF2-4659-B80A-77D3EF3FD9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BBE74B-567F-4D18-814C-8DB2A7F817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D3EA7D-7CF5-4232-A8E5-B19D7E02B7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EBB7D-41DC-4896-A2DC-540DD9A55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1DDE69-4284-4409-BAFD-1710186409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B37CF8-5C83-4ADC-96BD-273922493C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19DE0B-0E2F-4A9E-BF0C-F3350691D9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7BDC04-0E25-4B05-92B0-3CCF3F67F0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2866AB-324B-4223-AF79-20C9FB176D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42A55F-624C-4BDC-9B3E-BC02C33AB5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E1A680-1695-4615-9A8B-E0AF594552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8B306F-D63B-4E33-A4D6-A2E7A6F20B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2C9C04-3EAD-4E7B-BF55-6DBE758E1E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D6E13D2-4C62-4E31-9AD4-632D387768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2DE78-B38B-42F7-BD3A-4A3672EA9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16E58F-24DB-4474-AC15-19AB9A74C7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1C46E5-6B7F-4070-B780-6C26D88C1F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8BE438-79B7-43BE-B4BB-19DD724C10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5AE9D9-0261-475F-8E95-A0C433DB8F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6E6A05-FB1B-4DA5-9335-B01B259BD0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76C8A3-F2F7-4D08-BF43-B65D022FDF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AC0B23-FD17-402D-9C1C-575701B44E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2017DA-212A-4F63-BFB7-30840877DF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106ED5-34D2-465B-B4D6-F2A591109A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AC9F96-351E-4CFC-BF75-F12B716D5B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399AF-B69D-4B58-A9C9-A086053EE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F73677-8ED6-4D91-84F8-0A30941C28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973A4A4-6D76-481E-8AE4-DF1F68D956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CF2A24-EACF-43A3-BAB7-A55DBB51068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E479DAF-285C-4F7B-8755-222DFD678B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097F91-FFAA-4CA7-A738-58CAEB693B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9CE719-A852-4898-B5B4-937BC49CD9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49D404-9858-4F5E-AA06-9E6D90B56F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401C2B-5F61-4A24-8D07-B476FF7770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AA0905-8C9B-458B-B616-DEFAD9AE0D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4ABC79-F660-403F-B9D6-D41C04F258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09E27-9FA8-40B3-A679-9FDA2B3E5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307B5E-2027-48E9-AD27-736A468346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EF3FA5-1E9A-427A-985C-00B7ACFB4E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7701E1-9C4F-45EC-849A-2669351689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9D9A90-98F4-4C96-BBC9-098805ECCE6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AC403D8-AAE6-4CB2-A6E0-D5DC152D48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F028188-7614-4A9F-BCDD-29BD33065AF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A535D1-0AF3-490B-BB33-C91C91C778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E0EFFA-283C-452D-8A5E-7E91B3D920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641A2F-6B9B-402A-83C7-9312EBB8E9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737670-B1D3-4E7C-B244-B9D5602BF5F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D9E1C-8148-47F8-8C88-FDED92798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8B6B18-3E49-40A8-8ED4-71509C3ADE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D5BCA2-B847-4746-9DB3-DBD75C4434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C35822-BBDF-4C54-976B-9884B2D155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2D00E0-6A87-4F10-8756-DD22A66F56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FA48A2-38E2-42AB-8555-7480A651AF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F1BE548-258E-479B-AFFD-3AB22048B96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0EB0A56-FB6F-4B5E-89F2-F803E63A541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6D66D-C4B0-4679-A4C5-218A3ECD6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A5B16-0CA5-4280-8A70-7294219D0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13463-733A-4F7F-9B98-E877CBB5B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4AC55-7114-45E0-B0E7-4CEC57C62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32ED7-A62C-4AED-AE2A-6EEF627EE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F81E3-9503-4B57-A22A-1B348F5AD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D6DA7-61D0-4009-B958-9E66DFDFA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4D57A-0D89-4FF2-92FA-465AFD668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3FBD1-EAD9-4F9B-BB92-6483EF989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B0CC3-212B-4861-8F02-C038A8411C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764D50-C24E-49D8-B83A-610109D939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2F2BF7-14ED-4BD0-A8CC-A79F895DCE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576947-0B93-40AC-A52C-26D759FF6C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B0D97F-4695-4EB6-972C-50CDD8343F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F97BAD-F2FB-471C-868F-C8B7EF50E9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605C6-4E50-46EB-9015-10B981FEB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CE0662-2BBD-4C84-96F2-50E28C1352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F2F77-DF60-406E-9922-F91D352DB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51ABFD-7F2A-4C82-A311-17812ECAD8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1D68E5-2B27-4ED5-AC7D-B2099364D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24604F-0741-4F53-BC36-161C74AF61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68C548-3070-402E-91F4-71772A179F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C0B17F-715F-4ABA-BDD9-42449F0216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133010-1C04-4B07-B6F0-8345E00123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9D764B-58D6-441E-BD69-5BC0163B5A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2BCB80-0B92-40B7-A86A-57B194223B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2FAE3-A6F7-49B6-B247-208E41183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0EBF55-9CED-4846-BFC5-B0FCCEA1C8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65C8A6-F53E-436B-B0B4-3C82228EE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981976-E318-4241-9261-A1D76E479F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43E1E-8CD0-40C9-8442-049AD8DFC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6FD415-AA47-4104-8089-237C0AB59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6117A7-854D-41BB-9914-D037347E1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3E03F7-B4AA-45D8-ADC2-55711AC6E1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1BF249-AC6D-4477-99A6-40D3C999CD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5EB652-1E59-40CB-86CA-72EAECAE9E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1C562D-E3BC-47D5-9228-83675455B5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B5E0E-AA85-4055-A091-08EAA14F4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9188A2-57B8-4335-9791-4CF7135786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8B48BA-77CB-41CE-8399-01BF227774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81EEB9-CFCF-40BE-81CE-5A4BB972D1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462AD6-3B57-4DAD-91C4-56DE01079A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EF6466-A869-4992-B243-E753345CB6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F400C6-9C59-425C-8379-ECA529E1A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5730E8-8437-4561-A856-56D054BB2A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0FE1F0-910D-4B4F-A1F7-9A716CD71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F68509-E211-469E-B695-95585BFEFC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387D6B-3BFD-46DB-947C-82A5DEDB2D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2A5E1-E7B9-4F2B-9212-5D623B7C2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89E1D8-0ED0-45B3-A9CD-7BA80ED4EF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A2CE1D-90F3-43DA-867C-3A0B4AC64B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3AE6A9-EB24-4FED-81C7-4519367981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4DE43F-3DB9-4BB3-9815-E54627EE9F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A2DF55-71EE-450B-B74E-6DE5072504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150602-61F6-4B62-9379-80A8799DF4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6877DE-0C22-4CAF-B9CC-588E2AD780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649387-E2DE-4055-A255-5C7A0605C9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7693EE-F1FD-4855-91D4-1C007CC84A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171E09-012D-4E82-8206-A2854BFD6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4BC17-578A-49A8-B5F9-D8F578F1D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AF4D9E-9F72-4463-937D-770EE9E0DB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FBD923-E6B3-4BDF-9C53-4EA1A839C0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4EBFB3-EEEE-48F9-8796-07CD44B59A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0A0B2C-78A8-47CD-856F-F535EAF602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7615B7-549F-41AD-9706-818D6C382B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70DBB2-30BD-4B1F-95A1-812FEC1965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AC8367-1F00-4992-A7BF-61F72AFE48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EABFBB-7C4D-4FBF-B96E-3DA0A0D3DA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756224-B8E7-4D27-9BB0-866A51BAAF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AF59C4-1658-44CE-A318-661A78BB15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A7009-5660-4409-A6F2-5A5ED7780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5DEB7F-E9A8-4C64-8D7F-F8557E3783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3D67D5-5E68-413E-A3A0-5A221D8EFC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A389C2-7C8C-4BAF-9E6C-8921BD49CD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A2C171-0CDA-499B-860E-7A7BDB5EF1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5B0DA0-CA99-4F8E-92F6-98F74C1185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1CBBE0-E4A6-4DD8-9DCA-C93A9DDCCB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009E7B-759B-4611-9C5B-786C2CE5E2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DAC1D3-034F-4061-AA2D-AAC2CE550F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231FCF-B094-4584-90B5-5D31C49CF0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1ED658-5974-4BD1-AB0A-A73DB4B8FE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347A7-0CCF-4EC5-8367-E7ADC5727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458B30-0233-4A07-B745-146CDF46BC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35D522-D89E-4DC4-8B9E-17DD02DC8E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1AB8E5-AA93-417D-9B86-F63C11C940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7324DE-B9BB-47CA-A898-B40B399DB9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98F72A-C668-4E9E-B78A-2A14BED17D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EB3BE2-213E-42CE-8168-BDA5872920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11C810-8173-4EB7-8ECA-4D1B8B53BE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3A50CD-C9B7-43B1-85FC-36E275AE58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70F139-670F-4B7E-9ED5-219459F0B1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4A42CB-360E-4FF8-A608-C149EBA6B0B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FAE6-9B43-432A-844B-BCDD54EFEE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9F5E-CBA5-46F5-8171-6A24460440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0DBBF-17D6-4276-9A05-AE39E97F79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23B2-26EA-4098-A3C4-2C8B8806FA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8517-5CA7-47B0-83EE-4232F209D1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D86081-1B07-46EB-8BE4-6BD0598949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014D-EC14-441F-8FB7-66300A996B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B0ED-4F74-4591-A923-A2AF1F0A72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74B0-401C-493E-BEED-C00F07BC74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0FA8-06B6-4C77-AFF3-7B2476CE4F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796FD-46E8-4BD6-9E98-334F3B0901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F6D4-009E-4D8C-A782-51221DE113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D0EB-EE0D-4081-85EC-71D7E8DC86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2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tkb@iris.edu" TargetMode="External"/><Relationship Id="rId2" Type="http://schemas.openxmlformats.org/officeDocument/2006/relationships/hyperlink" Target="http://www.iris.edu/hq/retm" TargetMode="External"/><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extBox 14"/>
          <p:cNvSpPr/>
          <p:nvPr/>
        </p:nvSpPr>
        <p:spPr>
          <a:xfrm>
            <a:off x="341280" y="1085760"/>
            <a:ext cx="4383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gnitude 7.1 earthquake has occurred offshore Peru. The earthquake struck just after 4 a.m. local time and was centered near the coast of Peru, 40 km (25 miles) south-southwest of Acari, Peru at a depth of 36.3 km (22.5 mi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early reports of homes and roads collapsed leaving one dead and several dozen inju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 Pacific Tsunami Warning Center initially warned of possible tsunami waves for areas of Peru's southern coast. The center later issued a bulletin saying no such waves were detected and the threat had passed.</a:t>
            </a:r>
            <a:endParaRPr b="0" lang="en-US" sz="1800" spc="-1" strike="noStrike">
              <a:solidFill>
                <a:srgbClr val="000000"/>
              </a:solidFill>
              <a:latin typeface="Arial"/>
            </a:endParaRPr>
          </a:p>
        </p:txBody>
      </p:sp>
      <p:sp>
        <p:nvSpPr>
          <p:cNvPr id="54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ERU</a:t>
            </a:r>
            <a:br>
              <a:rPr sz="3500"/>
            </a:br>
            <a:r>
              <a:rPr b="1" lang="en-US" sz="1500" spc="-1" strike="noStrike">
                <a:solidFill>
                  <a:srgbClr val="11488b"/>
                </a:solidFill>
                <a:latin typeface="Arial"/>
                <a:ea typeface="Arial"/>
              </a:rPr>
              <a:t>Sunday,  January 14, 2018 at 09:18:45 UTC </a:t>
            </a:r>
            <a:endParaRPr b="0" lang="en-US" sz="1500" spc="-1" strike="noStrike">
              <a:solidFill>
                <a:srgbClr val="000000"/>
              </a:solidFill>
              <a:latin typeface="Arial"/>
            </a:endParaRPr>
          </a:p>
        </p:txBody>
      </p:sp>
      <p:pic>
        <p:nvPicPr>
          <p:cNvPr id="544" name="Picture 1" descr=""/>
          <p:cNvPicPr/>
          <p:nvPr/>
        </p:nvPicPr>
        <p:blipFill>
          <a:blip r:embed="rId2"/>
          <a:stretch/>
        </p:blipFill>
        <p:spPr>
          <a:xfrm>
            <a:off x="4952880" y="1122480"/>
            <a:ext cx="3948120" cy="5072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12" descr="scale.jpg"/>
          <p:cNvPicPr/>
          <p:nvPr/>
        </p:nvPicPr>
        <p:blipFill>
          <a:blip r:embed="rId1"/>
          <a:stretch/>
        </p:blipFill>
        <p:spPr>
          <a:xfrm>
            <a:off x="380880" y="3984480"/>
            <a:ext cx="2127240" cy="2319480"/>
          </a:xfrm>
          <a:prstGeom prst="rect">
            <a:avLst/>
          </a:prstGeom>
          <a:ln w="0">
            <a:noFill/>
          </a:ln>
        </p:spPr>
      </p:pic>
      <p:sp>
        <p:nvSpPr>
          <p:cNvPr id="547" name="TextBox 13"/>
          <p:cNvSpPr/>
          <p:nvPr/>
        </p:nvSpPr>
        <p:spPr>
          <a:xfrm>
            <a:off x="271440" y="363384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odified Mercalli Intensity</a:t>
            </a:r>
            <a:endParaRPr b="0" lang="en-US" sz="1400" spc="-1" strike="noStrike">
              <a:solidFill>
                <a:srgbClr val="000000"/>
              </a:solidFill>
              <a:latin typeface="Arial"/>
            </a:endParaRPr>
          </a:p>
        </p:txBody>
      </p:sp>
      <p:sp>
        <p:nvSpPr>
          <p:cNvPr id="548" name="TextBox 14"/>
          <p:cNvSpPr/>
          <p:nvPr/>
        </p:nvSpPr>
        <p:spPr>
          <a:xfrm>
            <a:off x="2541600" y="341964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ＭＳ Ｐゴシック"/>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ＭＳ Ｐゴシック"/>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ＭＳ Ｐゴシック"/>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ＭＳ Ｐゴシック"/>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ＭＳ Ｐゴシック"/>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TextBox 15"/>
          <p:cNvSpPr/>
          <p:nvPr/>
        </p:nvSpPr>
        <p:spPr>
          <a:xfrm>
            <a:off x="4336920" y="630864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USGS Estimated shaking intensity from M 7.1 Earthquake</a:t>
            </a:r>
            <a:endParaRPr b="0" lang="en-US" sz="1400" spc="-1" strike="noStrike">
              <a:solidFill>
                <a:srgbClr val="000000"/>
              </a:solidFill>
              <a:latin typeface="Arial"/>
            </a:endParaRPr>
          </a:p>
        </p:txBody>
      </p:sp>
      <p:sp>
        <p:nvSpPr>
          <p:cNvPr id="550" name="TextBox 15"/>
          <p:cNvSpPr/>
          <p:nvPr/>
        </p:nvSpPr>
        <p:spPr>
          <a:xfrm>
            <a:off x="272880" y="1143000"/>
            <a:ext cx="3488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cale is a twelve-stage scale, from I to XII, that indicates the 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area nearest the earthquake experienced very strong shaking.</a:t>
            </a:r>
            <a:endParaRPr b="0" lang="en-US" sz="1800" spc="-1" strike="noStrike">
              <a:solidFill>
                <a:srgbClr val="000000"/>
              </a:solidFill>
              <a:latin typeface="Arial"/>
            </a:endParaRPr>
          </a:p>
        </p:txBody>
      </p:sp>
      <p:pic>
        <p:nvPicPr>
          <p:cNvPr id="551" name="Picture 8" descr="IRIS_TMlogo.png"/>
          <p:cNvPicPr/>
          <p:nvPr/>
        </p:nvPicPr>
        <p:blipFill>
          <a:blip r:embed="rId2"/>
          <a:stretch/>
        </p:blipFill>
        <p:spPr>
          <a:xfrm>
            <a:off x="239760" y="76320"/>
            <a:ext cx="903240" cy="927000"/>
          </a:xfrm>
          <a:prstGeom prst="rect">
            <a:avLst/>
          </a:prstGeom>
          <a:ln w="0">
            <a:noFill/>
          </a:ln>
        </p:spPr>
      </p:pic>
      <p:sp>
        <p:nvSpPr>
          <p:cNvPr id="552" name="TextBox 15"/>
          <p:cNvSpPr/>
          <p:nvPr/>
        </p:nvSpPr>
        <p:spPr>
          <a:xfrm>
            <a:off x="152280" y="639756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mage courtesy of the US Geological Survey</a:t>
            </a:r>
            <a:endParaRPr b="0" lang="en-US" sz="1400" spc="-1" strike="noStrike">
              <a:solidFill>
                <a:srgbClr val="000000"/>
              </a:solidFill>
              <a:latin typeface="Arial"/>
            </a:endParaRPr>
          </a:p>
        </p:txBody>
      </p:sp>
      <p:pic>
        <p:nvPicPr>
          <p:cNvPr id="553" name="Picture 1" descr=""/>
          <p:cNvPicPr/>
          <p:nvPr/>
        </p:nvPicPr>
        <p:blipFill>
          <a:blip r:embed="rId3"/>
          <a:stretch/>
        </p:blipFill>
        <p:spPr>
          <a:xfrm>
            <a:off x="3728880" y="1143000"/>
            <a:ext cx="5322960" cy="5119560"/>
          </a:xfrm>
          <a:prstGeom prst="rect">
            <a:avLst/>
          </a:prstGeom>
          <a:ln w="0">
            <a:noFill/>
          </a:ln>
        </p:spPr>
      </p:pic>
      <p:sp>
        <p:nvSpPr>
          <p:cNvPr id="55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ERU</a:t>
            </a:r>
            <a:br>
              <a:rPr sz="3500"/>
            </a:br>
            <a:r>
              <a:rPr b="1" lang="en-US" sz="1500" spc="-1" strike="noStrike">
                <a:solidFill>
                  <a:srgbClr val="11488b"/>
                </a:solidFill>
                <a:latin typeface="Arial"/>
                <a:ea typeface="Arial"/>
              </a:rPr>
              <a:t>Sunday,  January 14, 2018 at 09:18:4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Box 15"/>
          <p:cNvSpPr/>
          <p:nvPr/>
        </p:nvSpPr>
        <p:spPr>
          <a:xfrm>
            <a:off x="5143680" y="736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Population Exposed to Earthquake Shaking</a:t>
            </a:r>
            <a:endParaRPr b="0" lang="en-US" sz="1400" spc="-1" strike="noStrike">
              <a:solidFill>
                <a:srgbClr val="000000"/>
              </a:solidFill>
              <a:latin typeface="Arial"/>
            </a:endParaRPr>
          </a:p>
        </p:txBody>
      </p:sp>
      <p:pic>
        <p:nvPicPr>
          <p:cNvPr id="557" name="Picture 8" descr="IRIS_TMlogo.png"/>
          <p:cNvPicPr/>
          <p:nvPr/>
        </p:nvPicPr>
        <p:blipFill>
          <a:blip r:embed="rId1"/>
          <a:stretch/>
        </p:blipFill>
        <p:spPr>
          <a:xfrm>
            <a:off x="239760" y="76320"/>
            <a:ext cx="903240" cy="927000"/>
          </a:xfrm>
          <a:prstGeom prst="rect">
            <a:avLst/>
          </a:prstGeom>
          <a:ln w="0">
            <a:noFill/>
          </a:ln>
        </p:spPr>
      </p:pic>
      <p:sp>
        <p:nvSpPr>
          <p:cNvPr id="558" name="TextBox 18"/>
          <p:cNvSpPr/>
          <p:nvPr/>
        </p:nvSpPr>
        <p:spPr>
          <a:xfrm>
            <a:off x="304920" y="1123920"/>
            <a:ext cx="426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SGS estimates that over six thousand people felt very strong shaking from this earthquake.</a:t>
            </a:r>
            <a:endParaRPr b="0" lang="en-US" sz="1800" spc="-1" strike="noStrike">
              <a:solidFill>
                <a:srgbClr val="000000"/>
              </a:solidFill>
              <a:latin typeface="Arial"/>
            </a:endParaRPr>
          </a:p>
        </p:txBody>
      </p:sp>
      <p:sp>
        <p:nvSpPr>
          <p:cNvPr id="559"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mage courtesy of the US Geological Survey</a:t>
            </a:r>
            <a:endParaRPr b="0" lang="en-US" sz="1400" spc="-1" strike="noStrike">
              <a:solidFill>
                <a:srgbClr val="000000"/>
              </a:solidFill>
              <a:latin typeface="Arial"/>
            </a:endParaRPr>
          </a:p>
        </p:txBody>
      </p:sp>
      <p:sp>
        <p:nvSpPr>
          <p:cNvPr id="560"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pic>
        <p:nvPicPr>
          <p:cNvPr id="561" name="Picture 1" descr=""/>
          <p:cNvPicPr/>
          <p:nvPr/>
        </p:nvPicPr>
        <p:blipFill>
          <a:blip r:embed="rId2"/>
          <a:stretch/>
        </p:blipFill>
        <p:spPr>
          <a:xfrm>
            <a:off x="4689360" y="1260360"/>
            <a:ext cx="4265640" cy="4259520"/>
          </a:xfrm>
          <a:prstGeom prst="rect">
            <a:avLst/>
          </a:prstGeom>
          <a:ln w="0">
            <a:noFill/>
          </a:ln>
        </p:spPr>
      </p:pic>
      <p:pic>
        <p:nvPicPr>
          <p:cNvPr id="562" name="Picture 2" descr=""/>
          <p:cNvPicPr/>
          <p:nvPr/>
        </p:nvPicPr>
        <p:blipFill>
          <a:blip r:embed="rId3"/>
          <a:stretch/>
        </p:blipFill>
        <p:spPr>
          <a:xfrm>
            <a:off x="390600" y="3273480"/>
            <a:ext cx="3190680" cy="3511440"/>
          </a:xfrm>
          <a:prstGeom prst="rect">
            <a:avLst/>
          </a:prstGeom>
          <a:ln w="0">
            <a:noFill/>
          </a:ln>
        </p:spPr>
      </p:pic>
      <p:sp>
        <p:nvSpPr>
          <p:cNvPr id="5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ERU</a:t>
            </a:r>
            <a:br>
              <a:rPr sz="3500"/>
            </a:br>
            <a:r>
              <a:rPr b="1" lang="en-US" sz="1500" spc="-1" strike="noStrike">
                <a:solidFill>
                  <a:srgbClr val="11488b"/>
                </a:solidFill>
                <a:latin typeface="Arial"/>
                <a:ea typeface="Arial"/>
              </a:rPr>
              <a:t>Sunday,  January 14, 2018 at 09:18:4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Box 37"/>
          <p:cNvSpPr/>
          <p:nvPr/>
        </p:nvSpPr>
        <p:spPr>
          <a:xfrm>
            <a:off x="246240" y="1149480"/>
            <a:ext cx="4524120" cy="52714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Lithospheric plates are actually spherical shells on Earth’s surface so relative plate motions are best described as relative plate rotations.  This means that rates of relative plate motion change with location on a long plate boundary such as the Nazca – South America Plate boundary.  The map on the right illustrates how the convergence rate of the Nazca Plate toward the South American Plate ranges from 5.6 cm/yr to 6.3 cm/yr. </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se rates have recently been updated using Global Positioning System (GPS) observations from islands on the Nazca Plate and numerous GPS stations in South America.  At the location of this earthquake, the rate of convergence is about 6.2 cm/yr.</a:t>
            </a:r>
            <a:endParaRPr b="0" lang="en-US" sz="1600" spc="-1" strike="noStrike">
              <a:solidFill>
                <a:srgbClr val="000000"/>
              </a:solidFill>
              <a:latin typeface="Arial"/>
            </a:endParaRPr>
          </a:p>
        </p:txBody>
      </p:sp>
      <p:sp>
        <p:nvSpPr>
          <p:cNvPr id="565" name="Rectangle 19"/>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6" name="Picture 8" descr="IRIS_TMlogo.png"/>
          <p:cNvPicPr/>
          <p:nvPr/>
        </p:nvPicPr>
        <p:blipFill>
          <a:blip r:embed="rId1"/>
          <a:stretch/>
        </p:blipFill>
        <p:spPr>
          <a:xfrm>
            <a:off x="239760" y="76320"/>
            <a:ext cx="903240" cy="927000"/>
          </a:xfrm>
          <a:prstGeom prst="rect">
            <a:avLst/>
          </a:prstGeom>
          <a:ln w="0">
            <a:noFill/>
          </a:ln>
        </p:spPr>
      </p:pic>
      <p:grpSp>
        <p:nvGrpSpPr>
          <p:cNvPr id="567" name="Group 3"/>
          <p:cNvGrpSpPr/>
          <p:nvPr/>
        </p:nvGrpSpPr>
        <p:grpSpPr>
          <a:xfrm>
            <a:off x="4902120" y="919080"/>
            <a:ext cx="4240440" cy="5810400"/>
            <a:chOff x="4902120" y="919080"/>
            <a:chExt cx="4240440" cy="5810400"/>
          </a:xfrm>
        </p:grpSpPr>
        <p:grpSp>
          <p:nvGrpSpPr>
            <p:cNvPr id="568" name="Group 1"/>
            <p:cNvGrpSpPr/>
            <p:nvPr/>
          </p:nvGrpSpPr>
          <p:grpSpPr>
            <a:xfrm>
              <a:off x="4902120" y="919080"/>
              <a:ext cx="4240440" cy="5810400"/>
              <a:chOff x="4902120" y="919080"/>
              <a:chExt cx="4240440" cy="5810400"/>
            </a:xfrm>
          </p:grpSpPr>
          <p:grpSp>
            <p:nvGrpSpPr>
              <p:cNvPr id="569" name="Group 2"/>
              <p:cNvGrpSpPr/>
              <p:nvPr/>
            </p:nvGrpSpPr>
            <p:grpSpPr>
              <a:xfrm>
                <a:off x="4994640" y="919080"/>
                <a:ext cx="4018320" cy="5810400"/>
                <a:chOff x="4994640" y="919080"/>
                <a:chExt cx="4018320" cy="5810400"/>
              </a:xfrm>
            </p:grpSpPr>
            <p:pic>
              <p:nvPicPr>
                <p:cNvPr id="570" name="Picture 4" descr="N - S Amer Google.tiff"/>
                <p:cNvPicPr/>
                <p:nvPr/>
              </p:nvPicPr>
              <p:blipFill>
                <a:blip r:embed="rId2"/>
                <a:stretch/>
              </p:blipFill>
              <p:spPr>
                <a:xfrm>
                  <a:off x="4994640" y="919080"/>
                  <a:ext cx="4018320" cy="5810400"/>
                </a:xfrm>
                <a:prstGeom prst="rect">
                  <a:avLst/>
                </a:prstGeom>
                <a:ln w="0">
                  <a:noFill/>
                </a:ln>
              </p:spPr>
            </p:pic>
            <p:cxnSp>
              <p:nvCxnSpPr>
                <p:cNvPr id="571" name="Straight Arrow Connector 26"/>
                <p:cNvCxnSpPr/>
                <p:nvPr/>
              </p:nvCxnSpPr>
              <p:spPr>
                <a:xfrm flipV="1">
                  <a:off x="5349240" y="1996560"/>
                  <a:ext cx="862560" cy="72000"/>
                </a:xfrm>
                <a:prstGeom prst="straightConnector1">
                  <a:avLst/>
                </a:prstGeom>
                <a:ln w="57240">
                  <a:solidFill>
                    <a:srgbClr val="ffffff"/>
                  </a:solidFill>
                  <a:miter/>
                  <a:tailEnd len="med" type="arrow" w="med"/>
                </a:ln>
              </p:spPr>
            </p:cxnSp>
            <p:sp>
              <p:nvSpPr>
                <p:cNvPr id="572" name="TextBox 33"/>
                <p:cNvSpPr/>
                <p:nvPr/>
              </p:nvSpPr>
              <p:spPr>
                <a:xfrm rot="21277200">
                  <a:off x="5929200" y="324756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6.2 cm/yr</a:t>
                  </a:r>
                  <a:endParaRPr b="0" lang="en-US" sz="1800" spc="-1" strike="noStrike">
                    <a:solidFill>
                      <a:srgbClr val="000000"/>
                    </a:solidFill>
                    <a:latin typeface="Arial"/>
                  </a:endParaRPr>
                </a:p>
              </p:txBody>
            </p:sp>
            <p:cxnSp>
              <p:nvCxnSpPr>
                <p:cNvPr id="573" name="Straight Arrow Connector 15"/>
                <p:cNvCxnSpPr/>
                <p:nvPr/>
              </p:nvCxnSpPr>
              <p:spPr>
                <a:xfrm flipV="1">
                  <a:off x="6217560" y="3880800"/>
                  <a:ext cx="973800" cy="83160"/>
                </a:xfrm>
                <a:prstGeom prst="straightConnector1">
                  <a:avLst/>
                </a:prstGeom>
                <a:ln w="57240">
                  <a:solidFill>
                    <a:srgbClr val="ffffff"/>
                  </a:solidFill>
                  <a:miter/>
                  <a:tailEnd len="med" type="arrow" w="med"/>
                </a:ln>
              </p:spPr>
            </p:cxnSp>
            <p:cxnSp>
              <p:nvCxnSpPr>
                <p:cNvPr id="574" name="Straight Arrow Connector 29"/>
                <p:cNvCxnSpPr/>
                <p:nvPr/>
              </p:nvCxnSpPr>
              <p:spPr>
                <a:xfrm flipV="1">
                  <a:off x="6030360" y="3201480"/>
                  <a:ext cx="954720" cy="86400"/>
                </a:xfrm>
                <a:prstGeom prst="straightConnector1">
                  <a:avLst/>
                </a:prstGeom>
                <a:ln w="57240">
                  <a:solidFill>
                    <a:srgbClr val="ffffff"/>
                  </a:solidFill>
                  <a:miter/>
                  <a:tailEnd len="med" type="arrow" w="med"/>
                </a:ln>
              </p:spPr>
            </p:cxnSp>
            <p:sp>
              <p:nvSpPr>
                <p:cNvPr id="575" name="TextBox 34"/>
                <p:cNvSpPr/>
                <p:nvPr/>
              </p:nvSpPr>
              <p:spPr>
                <a:xfrm rot="21322200">
                  <a:off x="6106680" y="394128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6.3 cm/yr</a:t>
                  </a:r>
                  <a:endParaRPr b="0" lang="en-US" sz="1800" spc="-1" strike="noStrike">
                    <a:solidFill>
                      <a:srgbClr val="000000"/>
                    </a:solidFill>
                    <a:latin typeface="Arial"/>
                  </a:endParaRPr>
                </a:p>
              </p:txBody>
            </p:sp>
            <p:sp>
              <p:nvSpPr>
                <p:cNvPr id="576" name="TextBox 50"/>
                <p:cNvSpPr/>
                <p:nvPr/>
              </p:nvSpPr>
              <p:spPr>
                <a:xfrm rot="21357600">
                  <a:off x="5055120" y="200844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5.6 cm/yr</a:t>
                  </a:r>
                  <a:endParaRPr b="0" lang="en-US" sz="1800" spc="-1" strike="noStrike">
                    <a:solidFill>
                      <a:srgbClr val="000000"/>
                    </a:solidFill>
                    <a:latin typeface="Arial"/>
                  </a:endParaRPr>
                </a:p>
              </p:txBody>
            </p:sp>
            <p:cxnSp>
              <p:nvCxnSpPr>
                <p:cNvPr id="577" name="Straight Arrow Connector 56"/>
                <p:cNvCxnSpPr/>
                <p:nvPr/>
              </p:nvCxnSpPr>
              <p:spPr>
                <a:xfrm flipV="1">
                  <a:off x="6133680" y="4633560"/>
                  <a:ext cx="975600" cy="81360"/>
                </a:xfrm>
                <a:prstGeom prst="straightConnector1">
                  <a:avLst/>
                </a:prstGeom>
                <a:ln w="57240">
                  <a:solidFill>
                    <a:srgbClr val="ffffff"/>
                  </a:solidFill>
                  <a:miter/>
                  <a:tailEnd len="med" type="arrow" w="med"/>
                </a:ln>
              </p:spPr>
            </p:cxnSp>
            <p:sp>
              <p:nvSpPr>
                <p:cNvPr id="578" name="TextBox 57"/>
                <p:cNvSpPr/>
                <p:nvPr/>
              </p:nvSpPr>
              <p:spPr>
                <a:xfrm rot="21322200">
                  <a:off x="6023520" y="469260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6.3 cm/yr</a:t>
                  </a:r>
                  <a:endParaRPr b="0" lang="en-US" sz="1800" spc="-1" strike="noStrike">
                    <a:solidFill>
                      <a:srgbClr val="000000"/>
                    </a:solidFill>
                    <a:latin typeface="Arial"/>
                  </a:endParaRPr>
                </a:p>
              </p:txBody>
            </p:sp>
            <p:sp>
              <p:nvSpPr>
                <p:cNvPr id="579" name="TextBox 58"/>
                <p:cNvSpPr/>
                <p:nvPr/>
              </p:nvSpPr>
              <p:spPr>
                <a:xfrm rot="21277200">
                  <a:off x="5905800" y="541512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6.2 cm/yr</a:t>
                  </a:r>
                  <a:endParaRPr b="0" lang="en-US" sz="1800" spc="-1" strike="noStrike">
                    <a:solidFill>
                      <a:srgbClr val="000000"/>
                    </a:solidFill>
                    <a:latin typeface="Arial"/>
                  </a:endParaRPr>
                </a:p>
              </p:txBody>
            </p:sp>
            <p:cxnSp>
              <p:nvCxnSpPr>
                <p:cNvPr id="580" name="Straight Arrow Connector 59"/>
                <p:cNvCxnSpPr/>
                <p:nvPr/>
              </p:nvCxnSpPr>
              <p:spPr>
                <a:xfrm flipV="1">
                  <a:off x="6006600" y="5368680"/>
                  <a:ext cx="954720" cy="86400"/>
                </a:xfrm>
                <a:prstGeom prst="straightConnector1">
                  <a:avLst/>
                </a:prstGeom>
                <a:ln w="57240">
                  <a:solidFill>
                    <a:srgbClr val="ffffff"/>
                  </a:solidFill>
                  <a:miter/>
                  <a:tailEnd len="med" type="arrow" w="med"/>
                </a:ln>
              </p:spPr>
            </p:cxnSp>
            <p:cxnSp>
              <p:nvCxnSpPr>
                <p:cNvPr id="581" name="Straight Arrow Connector 65"/>
                <p:cNvCxnSpPr/>
                <p:nvPr/>
              </p:nvCxnSpPr>
              <p:spPr>
                <a:xfrm flipV="1">
                  <a:off x="5638320" y="2696760"/>
                  <a:ext cx="862560" cy="73440"/>
                </a:xfrm>
                <a:prstGeom prst="straightConnector1">
                  <a:avLst/>
                </a:prstGeom>
                <a:ln w="57240">
                  <a:solidFill>
                    <a:srgbClr val="ffffff"/>
                  </a:solidFill>
                  <a:miter/>
                  <a:tailEnd len="med" type="arrow" w="med"/>
                </a:ln>
              </p:spPr>
            </p:cxnSp>
            <p:sp>
              <p:nvSpPr>
                <p:cNvPr id="582" name="TextBox 66"/>
                <p:cNvSpPr/>
                <p:nvPr/>
              </p:nvSpPr>
              <p:spPr>
                <a:xfrm rot="21357600">
                  <a:off x="5344200" y="270972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6.0 cm/yr</a:t>
                  </a:r>
                  <a:endParaRPr b="0" lang="en-US" sz="1800" spc="-1" strike="noStrike">
                    <a:solidFill>
                      <a:srgbClr val="000000"/>
                    </a:solidFill>
                    <a:latin typeface="Arial"/>
                  </a:endParaRPr>
                </a:p>
              </p:txBody>
            </p:sp>
          </p:grpSp>
          <p:sp>
            <p:nvSpPr>
              <p:cNvPr id="583" name="TextBox 5"/>
              <p:cNvSpPr/>
              <p:nvPr/>
            </p:nvSpPr>
            <p:spPr>
              <a:xfrm>
                <a:off x="4902120" y="3404880"/>
                <a:ext cx="1329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Nazca Plate</a:t>
                </a:r>
                <a:endParaRPr b="0" lang="en-US" sz="2400" spc="-1" strike="noStrike">
                  <a:solidFill>
                    <a:srgbClr val="000000"/>
                  </a:solidFill>
                  <a:latin typeface="Arial"/>
                </a:endParaRPr>
              </a:p>
            </p:txBody>
          </p:sp>
          <p:sp>
            <p:nvSpPr>
              <p:cNvPr id="584" name="TextBox 22"/>
              <p:cNvSpPr/>
              <p:nvPr/>
            </p:nvSpPr>
            <p:spPr>
              <a:xfrm>
                <a:off x="7237440" y="331848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South American Plate</a:t>
                </a:r>
                <a:endParaRPr b="0" lang="en-US" sz="2400" spc="-1" strike="noStrike">
                  <a:solidFill>
                    <a:srgbClr val="000000"/>
                  </a:solidFill>
                  <a:latin typeface="Arial"/>
                </a:endParaRPr>
              </a:p>
            </p:txBody>
          </p:sp>
        </p:grpSp>
        <p:sp>
          <p:nvSpPr>
            <p:cNvPr id="585" name="5-Point Star 10"/>
            <p:cNvSpPr/>
            <p:nvPr/>
          </p:nvSpPr>
          <p:spPr>
            <a:xfrm>
              <a:off x="6873840" y="2922480"/>
              <a:ext cx="233280" cy="233280"/>
            </a:xfrm>
            <a:custGeom>
              <a:avLst/>
              <a:gdLst/>
              <a:ahLst/>
              <a:rect l="l" t="t" r="r" b="b"/>
              <a:pathLst>
                <a:path w="247532" h="247528">
                  <a:moveTo>
                    <a:pt x="0" y="94547"/>
                  </a:moveTo>
                  <a:lnTo>
                    <a:pt x="94549" y="94548"/>
                  </a:lnTo>
                  <a:lnTo>
                    <a:pt x="123766" y="0"/>
                  </a:lnTo>
                  <a:lnTo>
                    <a:pt x="152983" y="94548"/>
                  </a:lnTo>
                  <a:lnTo>
                    <a:pt x="247532" y="94547"/>
                  </a:lnTo>
                  <a:lnTo>
                    <a:pt x="171040" y="152980"/>
                  </a:lnTo>
                  <a:lnTo>
                    <a:pt x="200257" y="247527"/>
                  </a:lnTo>
                  <a:lnTo>
                    <a:pt x="123766" y="189093"/>
                  </a:lnTo>
                  <a:lnTo>
                    <a:pt x="47275" y="247527"/>
                  </a:lnTo>
                  <a:lnTo>
                    <a:pt x="76492" y="152980"/>
                  </a:lnTo>
                  <a:lnTo>
                    <a:pt x="0" y="94547"/>
                  </a:lnTo>
                  <a:close/>
                </a:path>
              </a:pathLst>
            </a:custGeom>
            <a:solidFill>
              <a:srgbClr val="ff00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TextBox 3"/>
            <p:cNvSpPr/>
            <p:nvPr/>
          </p:nvSpPr>
          <p:spPr>
            <a:xfrm>
              <a:off x="7147800" y="2866320"/>
              <a:ext cx="904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018 M7.1</a:t>
              </a:r>
              <a:endParaRPr b="0" lang="en-US" sz="1200" spc="-1" strike="noStrike">
                <a:solidFill>
                  <a:srgbClr val="000000"/>
                </a:solidFill>
                <a:latin typeface="Arial"/>
              </a:endParaRPr>
            </a:p>
          </p:txBody>
        </p:sp>
      </p:grpSp>
      <p:sp>
        <p:nvSpPr>
          <p:cNvPr id="5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ERU</a:t>
            </a:r>
            <a:br>
              <a:rPr sz="3500"/>
            </a:br>
            <a:r>
              <a:rPr b="1" lang="en-US" sz="1500" spc="-1" strike="noStrike">
                <a:solidFill>
                  <a:srgbClr val="11488b"/>
                </a:solidFill>
                <a:latin typeface="Arial"/>
                <a:ea typeface="Arial"/>
              </a:rPr>
              <a:t>Sunday,  January 14, 2018 at 09:18:4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8" name="Group 5"/>
          <p:cNvGrpSpPr/>
          <p:nvPr/>
        </p:nvGrpSpPr>
        <p:grpSpPr>
          <a:xfrm>
            <a:off x="3568680" y="1174680"/>
            <a:ext cx="5322960" cy="4938840"/>
            <a:chOff x="3568680" y="1174680"/>
            <a:chExt cx="5322960" cy="4938840"/>
          </a:xfrm>
        </p:grpSpPr>
        <p:pic>
          <p:nvPicPr>
            <p:cNvPr id="589" name="Picture 1" descr=""/>
            <p:cNvPicPr/>
            <p:nvPr/>
          </p:nvPicPr>
          <p:blipFill>
            <a:blip r:embed="rId1"/>
            <a:srcRect l="2513" t="1473" r="3157" b="1945"/>
            <a:stretch/>
          </p:blipFill>
          <p:spPr>
            <a:xfrm>
              <a:off x="3568680" y="1174680"/>
              <a:ext cx="5322960" cy="4938840"/>
            </a:xfrm>
            <a:prstGeom prst="rect">
              <a:avLst/>
            </a:prstGeom>
            <a:ln w="28440">
              <a:solidFill>
                <a:srgbClr val="7030a0"/>
              </a:solidFill>
              <a:miter/>
            </a:ln>
            <a:effectLst>
              <a:outerShdw dist="38183" dir="2700000" blurRad="0" rotWithShape="0">
                <a:srgbClr val="808080">
                  <a:alpha val="40000"/>
                </a:srgbClr>
              </a:outerShdw>
            </a:effectLst>
          </p:spPr>
        </p:pic>
        <p:sp>
          <p:nvSpPr>
            <p:cNvPr id="590" name="Rectangle 4"/>
            <p:cNvSpPr/>
            <p:nvPr/>
          </p:nvSpPr>
          <p:spPr>
            <a:xfrm>
              <a:off x="3663720" y="3362400"/>
              <a:ext cx="453960" cy="380880"/>
            </a:xfrm>
            <a:prstGeom prst="rect">
              <a:avLst/>
            </a:prstGeom>
            <a:solidFill>
              <a:srgbClr val="27335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1" name="TextBox 7"/>
          <p:cNvSpPr/>
          <p:nvPr/>
        </p:nvSpPr>
        <p:spPr>
          <a:xfrm>
            <a:off x="239760" y="1176480"/>
            <a:ext cx="3278160" cy="5423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is map shows the 3000 most recent earthquakes of magnitude 5 or larger along the west coast of northern South America.  The epicenter of this earthquake is labeled. Earthquakes are color-coded by depth as shown by the legend in the lower left corner.  </a:t>
            </a:r>
            <a:endParaRPr b="0" lang="en-US" sz="16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 cross section of earthquakes within the dashed rectangle on the map is shown in the upper right corner.  The outline of the Nazca Plate is shown in light dashed lines on the cross section.  Depths of earthquakes increase from west to east across the Nazca – South America subduction zone.  Earthquakes deeper than 100 km occur within the subducting Nazca Plate.  </a:t>
            </a:r>
            <a:endParaRPr b="0" lang="en-US" sz="1600" spc="-1" strike="noStrike">
              <a:solidFill>
                <a:srgbClr val="000000"/>
              </a:solidFill>
              <a:latin typeface="Arial"/>
            </a:endParaRPr>
          </a:p>
        </p:txBody>
      </p:sp>
      <p:sp>
        <p:nvSpPr>
          <p:cNvPr id="592"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3" name="Picture 8" descr="IRIS_TMlogo.png"/>
          <p:cNvPicPr/>
          <p:nvPr/>
        </p:nvPicPr>
        <p:blipFill>
          <a:blip r:embed="rId2"/>
          <a:stretch/>
        </p:blipFill>
        <p:spPr>
          <a:xfrm>
            <a:off x="239760" y="76320"/>
            <a:ext cx="903240" cy="927000"/>
          </a:xfrm>
          <a:prstGeom prst="rect">
            <a:avLst/>
          </a:prstGeom>
          <a:ln w="0">
            <a:noFill/>
          </a:ln>
        </p:spPr>
      </p:pic>
      <p:sp>
        <p:nvSpPr>
          <p:cNvPr id="594" name="TextBox 8"/>
          <p:cNvSpPr/>
          <p:nvPr/>
        </p:nvSpPr>
        <p:spPr>
          <a:xfrm>
            <a:off x="4022640" y="6168960"/>
            <a:ext cx="471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Map created using the IRIS Earthquake Browser (IEB).</a:t>
            </a:r>
            <a:endParaRPr b="0" lang="en-US" sz="1400" spc="-1" strike="noStrike">
              <a:solidFill>
                <a:srgbClr val="000000"/>
              </a:solidFill>
              <a:latin typeface="Arial"/>
            </a:endParaRPr>
          </a:p>
        </p:txBody>
      </p:sp>
      <p:pic>
        <p:nvPicPr>
          <p:cNvPr id="595" name="Picture 7" descr="DepthLegend.tiff"/>
          <p:cNvPicPr/>
          <p:nvPr/>
        </p:nvPicPr>
        <p:blipFill>
          <a:blip r:embed="rId3"/>
          <a:srcRect l="7149" t="0" r="8135" b="0"/>
          <a:stretch/>
        </p:blipFill>
        <p:spPr>
          <a:xfrm>
            <a:off x="3743280" y="3962520"/>
            <a:ext cx="344520" cy="1993680"/>
          </a:xfrm>
          <a:prstGeom prst="rect">
            <a:avLst/>
          </a:prstGeom>
          <a:ln w="12600">
            <a:solidFill>
              <a:srgbClr val="660066"/>
            </a:solidFill>
            <a:miter/>
          </a:ln>
        </p:spPr>
      </p:pic>
      <p:cxnSp>
        <p:nvCxnSpPr>
          <p:cNvPr id="596" name="Straight Arrow Connector 17"/>
          <p:cNvCxnSpPr/>
          <p:nvPr/>
        </p:nvCxnSpPr>
        <p:spPr>
          <a:xfrm flipV="1">
            <a:off x="4757760" y="4160880"/>
            <a:ext cx="348480" cy="536760"/>
          </a:xfrm>
          <a:prstGeom prst="straightConnector1">
            <a:avLst/>
          </a:prstGeom>
          <a:ln w="25560">
            <a:solidFill>
              <a:srgbClr val="ff0000"/>
            </a:solidFill>
            <a:miter/>
            <a:tailEnd len="med" type="triangle" w="med"/>
          </a:ln>
        </p:spPr>
      </p:cxnSp>
      <p:sp>
        <p:nvSpPr>
          <p:cNvPr id="597" name="Rectangle 6"/>
          <p:cNvSpPr/>
          <p:nvPr/>
        </p:nvSpPr>
        <p:spPr>
          <a:xfrm rot="19774800">
            <a:off x="4295520" y="3043080"/>
            <a:ext cx="2682720" cy="2057400"/>
          </a:xfrm>
          <a:prstGeom prst="rect">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8" name="Group 10"/>
          <p:cNvGrpSpPr/>
          <p:nvPr/>
        </p:nvGrpSpPr>
        <p:grpSpPr>
          <a:xfrm>
            <a:off x="6243480" y="1393920"/>
            <a:ext cx="2592720" cy="1828800"/>
            <a:chOff x="6243480" y="1393920"/>
            <a:chExt cx="2592720" cy="1828800"/>
          </a:xfrm>
        </p:grpSpPr>
        <p:grpSp>
          <p:nvGrpSpPr>
            <p:cNvPr id="599" name="Group 8"/>
            <p:cNvGrpSpPr/>
            <p:nvPr/>
          </p:nvGrpSpPr>
          <p:grpSpPr>
            <a:xfrm>
              <a:off x="6243480" y="1393920"/>
              <a:ext cx="2592720" cy="1828800"/>
              <a:chOff x="6243480" y="1393920"/>
              <a:chExt cx="2592720" cy="1828800"/>
            </a:xfrm>
          </p:grpSpPr>
          <p:pic>
            <p:nvPicPr>
              <p:cNvPr id="600" name="Picture 20" descr=""/>
              <p:cNvPicPr/>
              <p:nvPr/>
            </p:nvPicPr>
            <p:blipFill>
              <a:blip r:embed="rId4"/>
              <a:srcRect l="21872" t="16389" r="13060" b="11136"/>
              <a:stretch/>
            </p:blipFill>
            <p:spPr>
              <a:xfrm>
                <a:off x="6243480" y="1393920"/>
                <a:ext cx="2592720" cy="1828800"/>
              </a:xfrm>
              <a:prstGeom prst="rect">
                <a:avLst/>
              </a:prstGeom>
              <a:ln w="12600">
                <a:solidFill>
                  <a:srgbClr val="ffffff"/>
                </a:solidFill>
                <a:prstDash val="dash"/>
                <a:miter/>
              </a:ln>
            </p:spPr>
          </p:pic>
          <p:pic>
            <p:nvPicPr>
              <p:cNvPr id="601" name="Picture 22" descr=""/>
              <p:cNvPicPr/>
              <p:nvPr/>
            </p:nvPicPr>
            <p:blipFill>
              <a:blip r:embed="rId5"/>
              <a:srcRect l="2943" t="25123" r="91511" b="64882"/>
              <a:stretch/>
            </p:blipFill>
            <p:spPr>
              <a:xfrm>
                <a:off x="6274800" y="1633680"/>
                <a:ext cx="200160" cy="228600"/>
              </a:xfrm>
              <a:prstGeom prst="rect">
                <a:avLst/>
              </a:prstGeom>
              <a:ln w="12600">
                <a:solidFill>
                  <a:srgbClr val="000000"/>
                </a:solidFill>
                <a:miter/>
              </a:ln>
            </p:spPr>
          </p:pic>
        </p:grpSp>
        <p:pic>
          <p:nvPicPr>
            <p:cNvPr id="602" name="Picture 24" descr=""/>
            <p:cNvPicPr/>
            <p:nvPr/>
          </p:nvPicPr>
          <p:blipFill>
            <a:blip r:embed="rId6"/>
            <a:srcRect l="93974" t="25702" r="49" b="65971"/>
            <a:stretch/>
          </p:blipFill>
          <p:spPr>
            <a:xfrm>
              <a:off x="8543520" y="1622520"/>
              <a:ext cx="259200" cy="228600"/>
            </a:xfrm>
            <a:prstGeom prst="rect">
              <a:avLst/>
            </a:prstGeom>
            <a:ln w="12600">
              <a:solidFill>
                <a:srgbClr val="000000"/>
              </a:solidFill>
              <a:miter/>
            </a:ln>
          </p:spPr>
        </p:pic>
      </p:grpSp>
      <p:sp>
        <p:nvSpPr>
          <p:cNvPr id="603" name="Straight Connector 15"/>
          <p:cNvSpPr/>
          <p:nvPr/>
        </p:nvSpPr>
        <p:spPr>
          <a:xfrm>
            <a:off x="7278840" y="2662200"/>
            <a:ext cx="75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Box 16"/>
          <p:cNvSpPr/>
          <p:nvPr/>
        </p:nvSpPr>
        <p:spPr>
          <a:xfrm>
            <a:off x="6783120" y="2548080"/>
            <a:ext cx="557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Arial"/>
                <a:ea typeface="ＭＳ Ｐゴシック"/>
              </a:rPr>
              <a:t>500 km</a:t>
            </a:r>
            <a:endParaRPr b="0" lang="en-US" sz="900" spc="-1" strike="noStrike">
              <a:solidFill>
                <a:srgbClr val="000000"/>
              </a:solidFill>
              <a:latin typeface="Arial"/>
            </a:endParaRPr>
          </a:p>
        </p:txBody>
      </p:sp>
      <p:sp>
        <p:nvSpPr>
          <p:cNvPr id="605" name="Freeform 25"/>
          <p:cNvSpPr/>
          <p:nvPr/>
        </p:nvSpPr>
        <p:spPr>
          <a:xfrm>
            <a:off x="6713640" y="1724040"/>
            <a:ext cx="1982520" cy="1400040"/>
          </a:xfrm>
          <a:custGeom>
            <a:avLst/>
            <a:gdLst/>
            <a:ahLst/>
            <a:rect l="l" t="t" r="r" b="b"/>
            <a:pathLst>
              <a:path w="1982666" h="1248508">
                <a:moveTo>
                  <a:pt x="0" y="4396"/>
                </a:moveTo>
                <a:cubicBezTo>
                  <a:pt x="45427" y="2931"/>
                  <a:pt x="90830" y="0"/>
                  <a:pt x="136281" y="0"/>
                </a:cubicBezTo>
                <a:cubicBezTo>
                  <a:pt x="172945" y="0"/>
                  <a:pt x="209567" y="2565"/>
                  <a:pt x="246185" y="4396"/>
                </a:cubicBezTo>
                <a:cubicBezTo>
                  <a:pt x="278526" y="6013"/>
                  <a:pt x="335839" y="10617"/>
                  <a:pt x="369277" y="13189"/>
                </a:cubicBezTo>
                <a:lnTo>
                  <a:pt x="422031" y="26377"/>
                </a:lnTo>
                <a:cubicBezTo>
                  <a:pt x="427893" y="27842"/>
                  <a:pt x="433884" y="28862"/>
                  <a:pt x="439616" y="30773"/>
                </a:cubicBezTo>
                <a:lnTo>
                  <a:pt x="465993" y="39566"/>
                </a:lnTo>
                <a:cubicBezTo>
                  <a:pt x="470389" y="42497"/>
                  <a:pt x="474325" y="46277"/>
                  <a:pt x="479181" y="48358"/>
                </a:cubicBezTo>
                <a:cubicBezTo>
                  <a:pt x="484735" y="50738"/>
                  <a:pt x="490979" y="51018"/>
                  <a:pt x="496766" y="52754"/>
                </a:cubicBezTo>
                <a:cubicBezTo>
                  <a:pt x="496868" y="52784"/>
                  <a:pt x="529687" y="63728"/>
                  <a:pt x="536331" y="65943"/>
                </a:cubicBezTo>
                <a:lnTo>
                  <a:pt x="562708" y="74735"/>
                </a:lnTo>
                <a:lnTo>
                  <a:pt x="575897" y="79131"/>
                </a:lnTo>
                <a:cubicBezTo>
                  <a:pt x="613687" y="104324"/>
                  <a:pt x="565877" y="74121"/>
                  <a:pt x="602273" y="92320"/>
                </a:cubicBezTo>
                <a:cubicBezTo>
                  <a:pt x="606999" y="94683"/>
                  <a:pt x="610634" y="98966"/>
                  <a:pt x="615462" y="101112"/>
                </a:cubicBezTo>
                <a:cubicBezTo>
                  <a:pt x="623931" y="104876"/>
                  <a:pt x="633047" y="106973"/>
                  <a:pt x="641839" y="109904"/>
                </a:cubicBezTo>
                <a:lnTo>
                  <a:pt x="655027" y="114300"/>
                </a:lnTo>
                <a:cubicBezTo>
                  <a:pt x="657958" y="117231"/>
                  <a:pt x="660113" y="121239"/>
                  <a:pt x="663820" y="123093"/>
                </a:cubicBezTo>
                <a:cubicBezTo>
                  <a:pt x="672109" y="127238"/>
                  <a:pt x="681405" y="128954"/>
                  <a:pt x="690197" y="131885"/>
                </a:cubicBezTo>
                <a:cubicBezTo>
                  <a:pt x="694593" y="133350"/>
                  <a:pt x="699529" y="133711"/>
                  <a:pt x="703385" y="136281"/>
                </a:cubicBezTo>
                <a:cubicBezTo>
                  <a:pt x="741178" y="161476"/>
                  <a:pt x="693361" y="131269"/>
                  <a:pt x="729762" y="149470"/>
                </a:cubicBezTo>
                <a:cubicBezTo>
                  <a:pt x="763843" y="166511"/>
                  <a:pt x="722994" y="151610"/>
                  <a:pt x="756139" y="162658"/>
                </a:cubicBezTo>
                <a:cubicBezTo>
                  <a:pt x="796727" y="189717"/>
                  <a:pt x="746800" y="155187"/>
                  <a:pt x="778120" y="180243"/>
                </a:cubicBezTo>
                <a:cubicBezTo>
                  <a:pt x="782246" y="183543"/>
                  <a:pt x="786912" y="186104"/>
                  <a:pt x="791308" y="189035"/>
                </a:cubicBezTo>
                <a:cubicBezTo>
                  <a:pt x="794239" y="193431"/>
                  <a:pt x="796364" y="198487"/>
                  <a:pt x="800100" y="202223"/>
                </a:cubicBezTo>
                <a:cubicBezTo>
                  <a:pt x="808623" y="210746"/>
                  <a:pt x="815750" y="211836"/>
                  <a:pt x="826477" y="215412"/>
                </a:cubicBezTo>
                <a:cubicBezTo>
                  <a:pt x="829408" y="218343"/>
                  <a:pt x="831563" y="222350"/>
                  <a:pt x="835270" y="224204"/>
                </a:cubicBezTo>
                <a:cubicBezTo>
                  <a:pt x="843560" y="228349"/>
                  <a:pt x="861647" y="232996"/>
                  <a:pt x="861647" y="232996"/>
                </a:cubicBezTo>
                <a:cubicBezTo>
                  <a:pt x="870439" y="238858"/>
                  <a:pt x="880551" y="243109"/>
                  <a:pt x="888023" y="250581"/>
                </a:cubicBezTo>
                <a:cubicBezTo>
                  <a:pt x="908885" y="271443"/>
                  <a:pt x="897744" y="265545"/>
                  <a:pt x="918797" y="272562"/>
                </a:cubicBezTo>
                <a:cubicBezTo>
                  <a:pt x="923193" y="275493"/>
                  <a:pt x="928249" y="277618"/>
                  <a:pt x="931985" y="281354"/>
                </a:cubicBezTo>
                <a:cubicBezTo>
                  <a:pt x="935721" y="285090"/>
                  <a:pt x="937476" y="290417"/>
                  <a:pt x="940777" y="294543"/>
                </a:cubicBezTo>
                <a:cubicBezTo>
                  <a:pt x="945816" y="300841"/>
                  <a:pt x="955669" y="308976"/>
                  <a:pt x="962758" y="312127"/>
                </a:cubicBezTo>
                <a:cubicBezTo>
                  <a:pt x="971227" y="315891"/>
                  <a:pt x="981424" y="315779"/>
                  <a:pt x="989135" y="320920"/>
                </a:cubicBezTo>
                <a:cubicBezTo>
                  <a:pt x="993531" y="323851"/>
                  <a:pt x="998197" y="326412"/>
                  <a:pt x="1002323" y="329712"/>
                </a:cubicBezTo>
                <a:cubicBezTo>
                  <a:pt x="1015952" y="340614"/>
                  <a:pt x="1006266" y="338276"/>
                  <a:pt x="1024304" y="347296"/>
                </a:cubicBezTo>
                <a:cubicBezTo>
                  <a:pt x="1028449" y="349369"/>
                  <a:pt x="1033442" y="349442"/>
                  <a:pt x="1037493" y="351693"/>
                </a:cubicBezTo>
                <a:cubicBezTo>
                  <a:pt x="1046730" y="356825"/>
                  <a:pt x="1053845" y="365935"/>
                  <a:pt x="1063870" y="369277"/>
                </a:cubicBezTo>
                <a:cubicBezTo>
                  <a:pt x="1072662" y="372208"/>
                  <a:pt x="1082536" y="372929"/>
                  <a:pt x="1090247" y="378070"/>
                </a:cubicBezTo>
                <a:cubicBezTo>
                  <a:pt x="1094643" y="381001"/>
                  <a:pt x="1099376" y="383480"/>
                  <a:pt x="1103435" y="386862"/>
                </a:cubicBezTo>
                <a:cubicBezTo>
                  <a:pt x="1108211" y="390842"/>
                  <a:pt x="1111450" y="396602"/>
                  <a:pt x="1116623" y="400050"/>
                </a:cubicBezTo>
                <a:cubicBezTo>
                  <a:pt x="1120479" y="402620"/>
                  <a:pt x="1125416" y="402981"/>
                  <a:pt x="1129812" y="404446"/>
                </a:cubicBezTo>
                <a:cubicBezTo>
                  <a:pt x="1150674" y="425308"/>
                  <a:pt x="1139533" y="419410"/>
                  <a:pt x="1160585" y="426427"/>
                </a:cubicBezTo>
                <a:cubicBezTo>
                  <a:pt x="1177757" y="443601"/>
                  <a:pt x="1159739" y="428203"/>
                  <a:pt x="1182566" y="439616"/>
                </a:cubicBezTo>
                <a:cubicBezTo>
                  <a:pt x="1187292" y="441979"/>
                  <a:pt x="1191628" y="445108"/>
                  <a:pt x="1195754" y="448408"/>
                </a:cubicBezTo>
                <a:cubicBezTo>
                  <a:pt x="1198991" y="450997"/>
                  <a:pt x="1200993" y="455068"/>
                  <a:pt x="1204547" y="457200"/>
                </a:cubicBezTo>
                <a:cubicBezTo>
                  <a:pt x="1208520" y="459584"/>
                  <a:pt x="1213339" y="460131"/>
                  <a:pt x="1217735" y="461596"/>
                </a:cubicBezTo>
                <a:cubicBezTo>
                  <a:pt x="1220666" y="464527"/>
                  <a:pt x="1222973" y="468256"/>
                  <a:pt x="1226527" y="470389"/>
                </a:cubicBezTo>
                <a:cubicBezTo>
                  <a:pt x="1230501" y="472773"/>
                  <a:pt x="1236097" y="471890"/>
                  <a:pt x="1239716" y="474785"/>
                </a:cubicBezTo>
                <a:cubicBezTo>
                  <a:pt x="1243842" y="478085"/>
                  <a:pt x="1245070" y="483962"/>
                  <a:pt x="1248508" y="487973"/>
                </a:cubicBezTo>
                <a:lnTo>
                  <a:pt x="1279281" y="518746"/>
                </a:lnTo>
                <a:lnTo>
                  <a:pt x="1288073" y="527539"/>
                </a:lnTo>
                <a:cubicBezTo>
                  <a:pt x="1291004" y="530470"/>
                  <a:pt x="1294567" y="532882"/>
                  <a:pt x="1296866" y="536331"/>
                </a:cubicBezTo>
                <a:cubicBezTo>
                  <a:pt x="1308589" y="553916"/>
                  <a:pt x="1301262" y="546589"/>
                  <a:pt x="1318847" y="558312"/>
                </a:cubicBezTo>
                <a:cubicBezTo>
                  <a:pt x="1325373" y="568101"/>
                  <a:pt x="1327485" y="573136"/>
                  <a:pt x="1336431" y="580293"/>
                </a:cubicBezTo>
                <a:cubicBezTo>
                  <a:pt x="1340557" y="583594"/>
                  <a:pt x="1345224" y="586154"/>
                  <a:pt x="1349620" y="589085"/>
                </a:cubicBezTo>
                <a:cubicBezTo>
                  <a:pt x="1352551" y="593481"/>
                  <a:pt x="1354974" y="598262"/>
                  <a:pt x="1358412" y="602273"/>
                </a:cubicBezTo>
                <a:cubicBezTo>
                  <a:pt x="1363807" y="608567"/>
                  <a:pt x="1371399" y="612961"/>
                  <a:pt x="1375997" y="619858"/>
                </a:cubicBezTo>
                <a:cubicBezTo>
                  <a:pt x="1378928" y="624254"/>
                  <a:pt x="1381310" y="629070"/>
                  <a:pt x="1384789" y="633046"/>
                </a:cubicBezTo>
                <a:cubicBezTo>
                  <a:pt x="1391612" y="640844"/>
                  <a:pt x="1406770" y="655027"/>
                  <a:pt x="1406770" y="655027"/>
                </a:cubicBezTo>
                <a:cubicBezTo>
                  <a:pt x="1408235" y="659423"/>
                  <a:pt x="1408271" y="664597"/>
                  <a:pt x="1411166" y="668216"/>
                </a:cubicBezTo>
                <a:cubicBezTo>
                  <a:pt x="1414466" y="672342"/>
                  <a:pt x="1420343" y="673570"/>
                  <a:pt x="1424354" y="677008"/>
                </a:cubicBezTo>
                <a:cubicBezTo>
                  <a:pt x="1430648" y="682403"/>
                  <a:pt x="1435042" y="689995"/>
                  <a:pt x="1441939" y="694593"/>
                </a:cubicBezTo>
                <a:cubicBezTo>
                  <a:pt x="1446335" y="697524"/>
                  <a:pt x="1451116" y="699947"/>
                  <a:pt x="1455127" y="703385"/>
                </a:cubicBezTo>
                <a:cubicBezTo>
                  <a:pt x="1481678" y="726143"/>
                  <a:pt x="1461668" y="717289"/>
                  <a:pt x="1485900" y="725366"/>
                </a:cubicBezTo>
                <a:cubicBezTo>
                  <a:pt x="1488831" y="728297"/>
                  <a:pt x="1491456" y="731569"/>
                  <a:pt x="1494693" y="734158"/>
                </a:cubicBezTo>
                <a:cubicBezTo>
                  <a:pt x="1508897" y="745521"/>
                  <a:pt x="1513373" y="742395"/>
                  <a:pt x="1525466" y="760535"/>
                </a:cubicBezTo>
                <a:cubicBezTo>
                  <a:pt x="1528397" y="764931"/>
                  <a:pt x="1530958" y="769597"/>
                  <a:pt x="1534258" y="773723"/>
                </a:cubicBezTo>
                <a:cubicBezTo>
                  <a:pt x="1536847" y="776960"/>
                  <a:pt x="1540563" y="779200"/>
                  <a:pt x="1543050" y="782516"/>
                </a:cubicBezTo>
                <a:cubicBezTo>
                  <a:pt x="1549390" y="790970"/>
                  <a:pt x="1551843" y="803031"/>
                  <a:pt x="1560635" y="808893"/>
                </a:cubicBezTo>
                <a:cubicBezTo>
                  <a:pt x="1580722" y="822284"/>
                  <a:pt x="1570085" y="813948"/>
                  <a:pt x="1591408" y="835270"/>
                </a:cubicBezTo>
                <a:cubicBezTo>
                  <a:pt x="1622744" y="866605"/>
                  <a:pt x="1587178" y="832763"/>
                  <a:pt x="1617785" y="857250"/>
                </a:cubicBezTo>
                <a:cubicBezTo>
                  <a:pt x="1621021" y="859839"/>
                  <a:pt x="1623023" y="863910"/>
                  <a:pt x="1626577" y="866043"/>
                </a:cubicBezTo>
                <a:cubicBezTo>
                  <a:pt x="1630551" y="868427"/>
                  <a:pt x="1635370" y="868974"/>
                  <a:pt x="1639766" y="870439"/>
                </a:cubicBezTo>
                <a:cubicBezTo>
                  <a:pt x="1638301" y="866043"/>
                  <a:pt x="1632093" y="860527"/>
                  <a:pt x="1635370" y="857250"/>
                </a:cubicBezTo>
                <a:cubicBezTo>
                  <a:pt x="1638301" y="854319"/>
                  <a:pt x="1640846" y="863556"/>
                  <a:pt x="1644162" y="866043"/>
                </a:cubicBezTo>
                <a:cubicBezTo>
                  <a:pt x="1652616" y="872383"/>
                  <a:pt x="1663067" y="876155"/>
                  <a:pt x="1670539" y="883627"/>
                </a:cubicBezTo>
                <a:cubicBezTo>
                  <a:pt x="1673470" y="886558"/>
                  <a:pt x="1676015" y="889933"/>
                  <a:pt x="1679331" y="892420"/>
                </a:cubicBezTo>
                <a:cubicBezTo>
                  <a:pt x="1687785" y="898760"/>
                  <a:pt x="1705708" y="910004"/>
                  <a:pt x="1705708" y="910004"/>
                </a:cubicBezTo>
                <a:cubicBezTo>
                  <a:pt x="1708639" y="914400"/>
                  <a:pt x="1711199" y="919067"/>
                  <a:pt x="1714500" y="923193"/>
                </a:cubicBezTo>
                <a:cubicBezTo>
                  <a:pt x="1721657" y="932139"/>
                  <a:pt x="1726692" y="934251"/>
                  <a:pt x="1736481" y="940777"/>
                </a:cubicBezTo>
                <a:cubicBezTo>
                  <a:pt x="1763535" y="981361"/>
                  <a:pt x="1729015" y="931445"/>
                  <a:pt x="1754066" y="962758"/>
                </a:cubicBezTo>
                <a:cubicBezTo>
                  <a:pt x="1757367" y="966883"/>
                  <a:pt x="1759558" y="971820"/>
                  <a:pt x="1762858" y="975946"/>
                </a:cubicBezTo>
                <a:cubicBezTo>
                  <a:pt x="1765447" y="979183"/>
                  <a:pt x="1769061" y="981502"/>
                  <a:pt x="1771650" y="984739"/>
                </a:cubicBezTo>
                <a:cubicBezTo>
                  <a:pt x="1774951" y="988865"/>
                  <a:pt x="1777142" y="993801"/>
                  <a:pt x="1780443" y="997927"/>
                </a:cubicBezTo>
                <a:cubicBezTo>
                  <a:pt x="1783032" y="1001164"/>
                  <a:pt x="1786646" y="1003483"/>
                  <a:pt x="1789235" y="1006720"/>
                </a:cubicBezTo>
                <a:cubicBezTo>
                  <a:pt x="1792535" y="1010846"/>
                  <a:pt x="1794726" y="1015783"/>
                  <a:pt x="1798027" y="1019908"/>
                </a:cubicBezTo>
                <a:cubicBezTo>
                  <a:pt x="1800616" y="1023144"/>
                  <a:pt x="1804231" y="1025463"/>
                  <a:pt x="1806820" y="1028700"/>
                </a:cubicBezTo>
                <a:cubicBezTo>
                  <a:pt x="1810121" y="1032826"/>
                  <a:pt x="1811876" y="1038153"/>
                  <a:pt x="1815612" y="1041889"/>
                </a:cubicBezTo>
                <a:cubicBezTo>
                  <a:pt x="1835501" y="1061779"/>
                  <a:pt x="1825373" y="1036747"/>
                  <a:pt x="1846385" y="1068266"/>
                </a:cubicBezTo>
                <a:cubicBezTo>
                  <a:pt x="1849316" y="1072662"/>
                  <a:pt x="1851876" y="1077329"/>
                  <a:pt x="1855177" y="1081454"/>
                </a:cubicBezTo>
                <a:cubicBezTo>
                  <a:pt x="1857766" y="1084690"/>
                  <a:pt x="1861483" y="1086930"/>
                  <a:pt x="1863970" y="1090246"/>
                </a:cubicBezTo>
                <a:cubicBezTo>
                  <a:pt x="1870310" y="1098700"/>
                  <a:pt x="1875693" y="1107831"/>
                  <a:pt x="1881554" y="1116623"/>
                </a:cubicBezTo>
                <a:lnTo>
                  <a:pt x="1890347" y="1129812"/>
                </a:lnTo>
                <a:cubicBezTo>
                  <a:pt x="1902800" y="1167170"/>
                  <a:pt x="1885432" y="1121621"/>
                  <a:pt x="1903535" y="1151793"/>
                </a:cubicBezTo>
                <a:cubicBezTo>
                  <a:pt x="1918246" y="1176312"/>
                  <a:pt x="1895504" y="1153920"/>
                  <a:pt x="1916723" y="1178170"/>
                </a:cubicBezTo>
                <a:cubicBezTo>
                  <a:pt x="1923546" y="1185968"/>
                  <a:pt x="1931377" y="1192823"/>
                  <a:pt x="1938704" y="1200150"/>
                </a:cubicBezTo>
                <a:lnTo>
                  <a:pt x="1947497" y="1208943"/>
                </a:lnTo>
                <a:cubicBezTo>
                  <a:pt x="1951893" y="1213339"/>
                  <a:pt x="1957237" y="1216958"/>
                  <a:pt x="1960685" y="1222131"/>
                </a:cubicBezTo>
                <a:cubicBezTo>
                  <a:pt x="1963616" y="1226527"/>
                  <a:pt x="1966176" y="1231194"/>
                  <a:pt x="1969477" y="1235320"/>
                </a:cubicBezTo>
                <a:cubicBezTo>
                  <a:pt x="1972066" y="1238557"/>
                  <a:pt x="1975339" y="1241181"/>
                  <a:pt x="1978270" y="1244112"/>
                </a:cubicBezTo>
                <a:lnTo>
                  <a:pt x="1982666" y="1248508"/>
                </a:lnTo>
              </a:path>
            </a:pathLst>
          </a:custGeom>
          <a:noFill/>
          <a:ln w="12600">
            <a:solidFill>
              <a:srgbClr val="ffffff"/>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Freeform 26"/>
          <p:cNvSpPr/>
          <p:nvPr/>
        </p:nvSpPr>
        <p:spPr>
          <a:xfrm>
            <a:off x="6264360" y="2035080"/>
            <a:ext cx="1868400" cy="1098720"/>
          </a:xfrm>
          <a:custGeom>
            <a:avLst/>
            <a:gdLst/>
            <a:ahLst/>
            <a:rect l="l" t="t" r="r" b="b"/>
            <a:pathLst>
              <a:path w="1868366" h="1099039">
                <a:moveTo>
                  <a:pt x="0" y="8793"/>
                </a:moveTo>
                <a:cubicBezTo>
                  <a:pt x="5862" y="10258"/>
                  <a:pt x="11543" y="13189"/>
                  <a:pt x="17585" y="13189"/>
                </a:cubicBezTo>
                <a:cubicBezTo>
                  <a:pt x="22219" y="13189"/>
                  <a:pt x="26278" y="9917"/>
                  <a:pt x="30773" y="8793"/>
                </a:cubicBezTo>
                <a:cubicBezTo>
                  <a:pt x="38022" y="6981"/>
                  <a:pt x="45285" y="4616"/>
                  <a:pt x="52754" y="4396"/>
                </a:cubicBezTo>
                <a:cubicBezTo>
                  <a:pt x="145045" y="1681"/>
                  <a:pt x="237393" y="1465"/>
                  <a:pt x="329712" y="0"/>
                </a:cubicBezTo>
                <a:cubicBezTo>
                  <a:pt x="363416" y="1465"/>
                  <a:pt x="397157" y="2224"/>
                  <a:pt x="430823" y="4396"/>
                </a:cubicBezTo>
                <a:cubicBezTo>
                  <a:pt x="442613" y="5157"/>
                  <a:pt x="454243" y="7556"/>
                  <a:pt x="465993" y="8793"/>
                </a:cubicBezTo>
                <a:cubicBezTo>
                  <a:pt x="536057" y="16169"/>
                  <a:pt x="491033" y="9787"/>
                  <a:pt x="549519" y="17585"/>
                </a:cubicBezTo>
                <a:cubicBezTo>
                  <a:pt x="559790" y="18954"/>
                  <a:pt x="570072" y="20278"/>
                  <a:pt x="580293" y="21981"/>
                </a:cubicBezTo>
                <a:cubicBezTo>
                  <a:pt x="662620" y="35702"/>
                  <a:pt x="533338" y="16110"/>
                  <a:pt x="628650" y="30773"/>
                </a:cubicBezTo>
                <a:cubicBezTo>
                  <a:pt x="638891" y="32349"/>
                  <a:pt x="649262" y="33137"/>
                  <a:pt x="659423" y="35169"/>
                </a:cubicBezTo>
                <a:cubicBezTo>
                  <a:pt x="671272" y="37539"/>
                  <a:pt x="682870" y="41031"/>
                  <a:pt x="694593" y="43962"/>
                </a:cubicBezTo>
                <a:cubicBezTo>
                  <a:pt x="700454" y="45427"/>
                  <a:pt x="706253" y="47173"/>
                  <a:pt x="712177" y="48358"/>
                </a:cubicBezTo>
                <a:cubicBezTo>
                  <a:pt x="726831" y="51289"/>
                  <a:pt x="741962" y="52424"/>
                  <a:pt x="756139" y="57150"/>
                </a:cubicBezTo>
                <a:lnTo>
                  <a:pt x="808893" y="74735"/>
                </a:lnTo>
                <a:cubicBezTo>
                  <a:pt x="813289" y="76200"/>
                  <a:pt x="818225" y="76561"/>
                  <a:pt x="822081" y="79131"/>
                </a:cubicBezTo>
                <a:cubicBezTo>
                  <a:pt x="826477" y="82062"/>
                  <a:pt x="831143" y="84623"/>
                  <a:pt x="835269" y="87923"/>
                </a:cubicBezTo>
                <a:cubicBezTo>
                  <a:pt x="838506" y="90512"/>
                  <a:pt x="840508" y="94583"/>
                  <a:pt x="844062" y="96716"/>
                </a:cubicBezTo>
                <a:cubicBezTo>
                  <a:pt x="848035" y="99100"/>
                  <a:pt x="853105" y="99040"/>
                  <a:pt x="857250" y="101112"/>
                </a:cubicBezTo>
                <a:cubicBezTo>
                  <a:pt x="891338" y="118155"/>
                  <a:pt x="850479" y="103251"/>
                  <a:pt x="883627" y="114300"/>
                </a:cubicBezTo>
                <a:cubicBezTo>
                  <a:pt x="903350" y="134025"/>
                  <a:pt x="879929" y="113224"/>
                  <a:pt x="905608" y="127489"/>
                </a:cubicBezTo>
                <a:cubicBezTo>
                  <a:pt x="914845" y="132621"/>
                  <a:pt x="924513" y="137601"/>
                  <a:pt x="931985" y="145073"/>
                </a:cubicBezTo>
                <a:cubicBezTo>
                  <a:pt x="934916" y="148004"/>
                  <a:pt x="937223" y="151733"/>
                  <a:pt x="940777" y="153866"/>
                </a:cubicBezTo>
                <a:cubicBezTo>
                  <a:pt x="944751" y="156250"/>
                  <a:pt x="949570" y="156797"/>
                  <a:pt x="953966" y="158262"/>
                </a:cubicBezTo>
                <a:cubicBezTo>
                  <a:pt x="987505" y="191801"/>
                  <a:pt x="948529" y="156757"/>
                  <a:pt x="980343" y="175846"/>
                </a:cubicBezTo>
                <a:cubicBezTo>
                  <a:pt x="983897" y="177979"/>
                  <a:pt x="985581" y="182506"/>
                  <a:pt x="989135" y="184639"/>
                </a:cubicBezTo>
                <a:cubicBezTo>
                  <a:pt x="993108" y="187023"/>
                  <a:pt x="998178" y="186963"/>
                  <a:pt x="1002323" y="189035"/>
                </a:cubicBezTo>
                <a:cubicBezTo>
                  <a:pt x="1036411" y="206078"/>
                  <a:pt x="995552" y="191174"/>
                  <a:pt x="1028700" y="202223"/>
                </a:cubicBezTo>
                <a:cubicBezTo>
                  <a:pt x="1033096" y="205154"/>
                  <a:pt x="1037163" y="208653"/>
                  <a:pt x="1041889" y="211016"/>
                </a:cubicBezTo>
                <a:cubicBezTo>
                  <a:pt x="1046034" y="213088"/>
                  <a:pt x="1051026" y="213162"/>
                  <a:pt x="1055077" y="215412"/>
                </a:cubicBezTo>
                <a:cubicBezTo>
                  <a:pt x="1080034" y="229277"/>
                  <a:pt x="1080507" y="232049"/>
                  <a:pt x="1099039" y="250581"/>
                </a:cubicBezTo>
                <a:lnTo>
                  <a:pt x="1099039" y="250581"/>
                </a:lnTo>
                <a:cubicBezTo>
                  <a:pt x="1103435" y="253512"/>
                  <a:pt x="1108216" y="255935"/>
                  <a:pt x="1112227" y="259373"/>
                </a:cubicBezTo>
                <a:lnTo>
                  <a:pt x="1143000" y="290146"/>
                </a:lnTo>
                <a:cubicBezTo>
                  <a:pt x="1151178" y="298324"/>
                  <a:pt x="1153890" y="302185"/>
                  <a:pt x="1164981" y="307731"/>
                </a:cubicBezTo>
                <a:cubicBezTo>
                  <a:pt x="1169126" y="309803"/>
                  <a:pt x="1173773" y="310662"/>
                  <a:pt x="1178169" y="312127"/>
                </a:cubicBezTo>
                <a:cubicBezTo>
                  <a:pt x="1184031" y="317989"/>
                  <a:pt x="1188856" y="325114"/>
                  <a:pt x="1195754" y="329712"/>
                </a:cubicBezTo>
                <a:cubicBezTo>
                  <a:pt x="1200150" y="332643"/>
                  <a:pt x="1204994" y="334994"/>
                  <a:pt x="1208943" y="338504"/>
                </a:cubicBezTo>
                <a:cubicBezTo>
                  <a:pt x="1218236" y="346765"/>
                  <a:pt x="1226527" y="356089"/>
                  <a:pt x="1235319" y="364881"/>
                </a:cubicBezTo>
                <a:lnTo>
                  <a:pt x="1252904" y="382466"/>
                </a:lnTo>
                <a:cubicBezTo>
                  <a:pt x="1257300" y="386862"/>
                  <a:pt x="1260920" y="392205"/>
                  <a:pt x="1266093" y="395654"/>
                </a:cubicBezTo>
                <a:cubicBezTo>
                  <a:pt x="1270489" y="398585"/>
                  <a:pt x="1275270" y="401008"/>
                  <a:pt x="1279281" y="404446"/>
                </a:cubicBezTo>
                <a:cubicBezTo>
                  <a:pt x="1313388" y="433681"/>
                  <a:pt x="1284118" y="410090"/>
                  <a:pt x="1305658" y="435219"/>
                </a:cubicBezTo>
                <a:cubicBezTo>
                  <a:pt x="1311053" y="441513"/>
                  <a:pt x="1318645" y="445906"/>
                  <a:pt x="1323243" y="452804"/>
                </a:cubicBezTo>
                <a:cubicBezTo>
                  <a:pt x="1334966" y="470389"/>
                  <a:pt x="1327639" y="463062"/>
                  <a:pt x="1345223" y="474785"/>
                </a:cubicBezTo>
                <a:cubicBezTo>
                  <a:pt x="1352857" y="497688"/>
                  <a:pt x="1344618" y="479524"/>
                  <a:pt x="1358412" y="496766"/>
                </a:cubicBezTo>
                <a:cubicBezTo>
                  <a:pt x="1361712" y="500892"/>
                  <a:pt x="1363468" y="506218"/>
                  <a:pt x="1367204" y="509954"/>
                </a:cubicBezTo>
                <a:cubicBezTo>
                  <a:pt x="1390057" y="532806"/>
                  <a:pt x="1371781" y="505784"/>
                  <a:pt x="1389185" y="527539"/>
                </a:cubicBezTo>
                <a:cubicBezTo>
                  <a:pt x="1392485" y="531665"/>
                  <a:pt x="1394467" y="536778"/>
                  <a:pt x="1397977" y="540727"/>
                </a:cubicBezTo>
                <a:cubicBezTo>
                  <a:pt x="1406238" y="550020"/>
                  <a:pt x="1415562" y="558312"/>
                  <a:pt x="1424354" y="567104"/>
                </a:cubicBezTo>
                <a:lnTo>
                  <a:pt x="1437543" y="580293"/>
                </a:lnTo>
                <a:cubicBezTo>
                  <a:pt x="1441939" y="584689"/>
                  <a:pt x="1447282" y="588308"/>
                  <a:pt x="1450731" y="593481"/>
                </a:cubicBezTo>
                <a:cubicBezTo>
                  <a:pt x="1453662" y="597877"/>
                  <a:pt x="1456044" y="602693"/>
                  <a:pt x="1459523" y="606669"/>
                </a:cubicBezTo>
                <a:cubicBezTo>
                  <a:pt x="1466346" y="614467"/>
                  <a:pt x="1474177" y="621323"/>
                  <a:pt x="1481504" y="628650"/>
                </a:cubicBezTo>
                <a:cubicBezTo>
                  <a:pt x="1484435" y="631581"/>
                  <a:pt x="1487997" y="633994"/>
                  <a:pt x="1490296" y="637443"/>
                </a:cubicBezTo>
                <a:cubicBezTo>
                  <a:pt x="1496158" y="646235"/>
                  <a:pt x="1500409" y="656347"/>
                  <a:pt x="1507881" y="663819"/>
                </a:cubicBezTo>
                <a:cubicBezTo>
                  <a:pt x="1513743" y="669681"/>
                  <a:pt x="1520868" y="674506"/>
                  <a:pt x="1525466" y="681404"/>
                </a:cubicBezTo>
                <a:cubicBezTo>
                  <a:pt x="1537189" y="698989"/>
                  <a:pt x="1529862" y="691662"/>
                  <a:pt x="1547446" y="703385"/>
                </a:cubicBezTo>
                <a:cubicBezTo>
                  <a:pt x="1550377" y="707781"/>
                  <a:pt x="1552938" y="712447"/>
                  <a:pt x="1556239" y="716573"/>
                </a:cubicBezTo>
                <a:cubicBezTo>
                  <a:pt x="1558828" y="719810"/>
                  <a:pt x="1562899" y="721812"/>
                  <a:pt x="1565031" y="725366"/>
                </a:cubicBezTo>
                <a:cubicBezTo>
                  <a:pt x="1579185" y="748958"/>
                  <a:pt x="1556350" y="729836"/>
                  <a:pt x="1582616" y="747346"/>
                </a:cubicBezTo>
                <a:cubicBezTo>
                  <a:pt x="1588477" y="756138"/>
                  <a:pt x="1592728" y="766251"/>
                  <a:pt x="1600200" y="773723"/>
                </a:cubicBezTo>
                <a:cubicBezTo>
                  <a:pt x="1603131" y="776654"/>
                  <a:pt x="1606506" y="779200"/>
                  <a:pt x="1608993" y="782516"/>
                </a:cubicBezTo>
                <a:cubicBezTo>
                  <a:pt x="1615333" y="790970"/>
                  <a:pt x="1619105" y="801421"/>
                  <a:pt x="1626577" y="808893"/>
                </a:cubicBezTo>
                <a:cubicBezTo>
                  <a:pt x="1630973" y="813289"/>
                  <a:pt x="1635949" y="817174"/>
                  <a:pt x="1639766" y="822081"/>
                </a:cubicBezTo>
                <a:cubicBezTo>
                  <a:pt x="1646254" y="830422"/>
                  <a:pt x="1651488" y="839666"/>
                  <a:pt x="1657350" y="848458"/>
                </a:cubicBezTo>
                <a:cubicBezTo>
                  <a:pt x="1660281" y="852854"/>
                  <a:pt x="1662407" y="857910"/>
                  <a:pt x="1666143" y="861646"/>
                </a:cubicBezTo>
                <a:lnTo>
                  <a:pt x="1674935" y="870439"/>
                </a:lnTo>
                <a:cubicBezTo>
                  <a:pt x="1676400" y="874835"/>
                  <a:pt x="1677259" y="879482"/>
                  <a:pt x="1679331" y="883627"/>
                </a:cubicBezTo>
                <a:cubicBezTo>
                  <a:pt x="1684878" y="894721"/>
                  <a:pt x="1688736" y="897429"/>
                  <a:pt x="1696916" y="905608"/>
                </a:cubicBezTo>
                <a:cubicBezTo>
                  <a:pt x="1704550" y="928509"/>
                  <a:pt x="1696312" y="910348"/>
                  <a:pt x="1710104" y="927589"/>
                </a:cubicBezTo>
                <a:cubicBezTo>
                  <a:pt x="1713404" y="931715"/>
                  <a:pt x="1715458" y="936766"/>
                  <a:pt x="1718896" y="940777"/>
                </a:cubicBezTo>
                <a:cubicBezTo>
                  <a:pt x="1724291" y="947071"/>
                  <a:pt x="1731883" y="951465"/>
                  <a:pt x="1736481" y="958362"/>
                </a:cubicBezTo>
                <a:cubicBezTo>
                  <a:pt x="1739412" y="962758"/>
                  <a:pt x="1741973" y="967424"/>
                  <a:pt x="1745273" y="971550"/>
                </a:cubicBezTo>
                <a:cubicBezTo>
                  <a:pt x="1747862" y="974787"/>
                  <a:pt x="1751579" y="977027"/>
                  <a:pt x="1754066" y="980343"/>
                </a:cubicBezTo>
                <a:cubicBezTo>
                  <a:pt x="1760406" y="988796"/>
                  <a:pt x="1764178" y="999247"/>
                  <a:pt x="1771650" y="1006719"/>
                </a:cubicBezTo>
                <a:cubicBezTo>
                  <a:pt x="1792877" y="1027946"/>
                  <a:pt x="1767058" y="1000977"/>
                  <a:pt x="1789235" y="1028700"/>
                </a:cubicBezTo>
                <a:cubicBezTo>
                  <a:pt x="1800666" y="1042989"/>
                  <a:pt x="1795977" y="1032950"/>
                  <a:pt x="1811216" y="1046285"/>
                </a:cubicBezTo>
                <a:cubicBezTo>
                  <a:pt x="1819014" y="1053108"/>
                  <a:pt x="1825869" y="1060939"/>
                  <a:pt x="1833196" y="1068266"/>
                </a:cubicBezTo>
                <a:cubicBezTo>
                  <a:pt x="1836127" y="1071197"/>
                  <a:pt x="1839690" y="1073609"/>
                  <a:pt x="1841989" y="1077058"/>
                </a:cubicBezTo>
                <a:cubicBezTo>
                  <a:pt x="1844920" y="1081454"/>
                  <a:pt x="1846656" y="1086945"/>
                  <a:pt x="1850781" y="1090246"/>
                </a:cubicBezTo>
                <a:cubicBezTo>
                  <a:pt x="1854399" y="1093141"/>
                  <a:pt x="1859824" y="1092571"/>
                  <a:pt x="1863969" y="1094643"/>
                </a:cubicBezTo>
                <a:cubicBezTo>
                  <a:pt x="1865823" y="1095570"/>
                  <a:pt x="1866900" y="1097574"/>
                  <a:pt x="1868366" y="1099039"/>
                </a:cubicBezTo>
              </a:path>
            </a:pathLst>
          </a:custGeom>
          <a:noFill/>
          <a:ln w="12600">
            <a:solidFill>
              <a:srgbClr val="ffffff"/>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TextBox 27"/>
          <p:cNvSpPr/>
          <p:nvPr/>
        </p:nvSpPr>
        <p:spPr>
          <a:xfrm rot="2735400">
            <a:off x="7270920" y="2266560"/>
            <a:ext cx="973080" cy="261360"/>
          </a:xfrm>
          <a:prstGeom prst="rect">
            <a:avLst/>
          </a:prstGeom>
          <a:solidFill>
            <a:srgbClr val="000000">
              <a:alpha val="4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ＭＳ Ｐゴシック"/>
              </a:rPr>
              <a:t>Nazca Plate</a:t>
            </a:r>
            <a:endParaRPr b="0" lang="en-US" sz="1100" spc="-1" strike="noStrike">
              <a:solidFill>
                <a:srgbClr val="000000"/>
              </a:solidFill>
              <a:latin typeface="Arial"/>
            </a:endParaRPr>
          </a:p>
        </p:txBody>
      </p:sp>
      <p:sp>
        <p:nvSpPr>
          <p:cNvPr id="608" name="TextBox 11"/>
          <p:cNvSpPr/>
          <p:nvPr/>
        </p:nvSpPr>
        <p:spPr>
          <a:xfrm>
            <a:off x="7227000" y="1403280"/>
            <a:ext cx="1473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M7.1 January 14, 2018</a:t>
            </a:r>
            <a:endParaRPr b="0" lang="en-US" sz="1000" spc="-1" strike="noStrike">
              <a:solidFill>
                <a:srgbClr val="000000"/>
              </a:solidFill>
              <a:latin typeface="Arial"/>
            </a:endParaRPr>
          </a:p>
        </p:txBody>
      </p:sp>
      <p:cxnSp>
        <p:nvCxnSpPr>
          <p:cNvPr id="609" name="Straight Arrow Connector 36"/>
          <p:cNvCxnSpPr/>
          <p:nvPr/>
        </p:nvCxnSpPr>
        <p:spPr>
          <a:xfrm flipH="1">
            <a:off x="7011360" y="1525680"/>
            <a:ext cx="214920" cy="149760"/>
          </a:xfrm>
          <a:prstGeom prst="straightConnector1">
            <a:avLst/>
          </a:prstGeom>
          <a:ln w="25560">
            <a:solidFill>
              <a:srgbClr val="ffffff"/>
            </a:solidFill>
            <a:miter/>
            <a:tailEnd len="med" type="triangle" w="med"/>
          </a:ln>
        </p:spPr>
      </p:cxnSp>
      <p:sp>
        <p:nvSpPr>
          <p:cNvPr id="610" name="TextBox 11"/>
          <p:cNvSpPr/>
          <p:nvPr/>
        </p:nvSpPr>
        <p:spPr>
          <a:xfrm>
            <a:off x="4277880" y="4697280"/>
            <a:ext cx="1064520" cy="520200"/>
          </a:xfrm>
          <a:prstGeom prst="rect">
            <a:avLst/>
          </a:prstGeom>
          <a:solidFill>
            <a:srgbClr val="ffffff">
              <a:alpha val="80000"/>
            </a:srgbClr>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7.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January 14</a:t>
            </a:r>
            <a:endParaRPr b="0" lang="en-US" sz="1400" spc="-1" strike="noStrike">
              <a:solidFill>
                <a:srgbClr val="000000"/>
              </a:solidFill>
              <a:latin typeface="Arial"/>
            </a:endParaRPr>
          </a:p>
        </p:txBody>
      </p:sp>
      <p:sp>
        <p:nvSpPr>
          <p:cNvPr id="61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ERU</a:t>
            </a:r>
            <a:br>
              <a:rPr sz="3500"/>
            </a:br>
            <a:r>
              <a:rPr b="1" lang="en-US" sz="1500" spc="-1" strike="noStrike">
                <a:solidFill>
                  <a:srgbClr val="11488b"/>
                </a:solidFill>
                <a:latin typeface="Arial"/>
                <a:ea typeface="Arial"/>
              </a:rPr>
              <a:t>Sunday,  January 14, 2018 at 09:18:4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Box 7"/>
          <p:cNvSpPr/>
          <p:nvPr/>
        </p:nvSpPr>
        <p:spPr>
          <a:xfrm>
            <a:off x="274680" y="1143000"/>
            <a:ext cx="867564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is magnitude 7.1 earthquake is typical of subduction zone earthquakes on the shallow portion of the Nazca – South America Plate boundary.  Earthquakes also occur within the shallow portions of both plates near the boundary.  Normal-faulting earthquakes often occur within the top portion of the Nazca Plate as it bends to descend beneath South America.  Earthquakes at depths greater than 100 km are within the subducting Nazca Plate.  </a:t>
            </a:r>
            <a:endParaRPr b="0" lang="en-US" sz="1600" spc="-1" strike="noStrike">
              <a:solidFill>
                <a:srgbClr val="000000"/>
              </a:solidFill>
              <a:latin typeface="Arial"/>
            </a:endParaRPr>
          </a:p>
        </p:txBody>
      </p:sp>
      <p:sp>
        <p:nvSpPr>
          <p:cNvPr id="613"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8" descr="IRIS_TMlogo.png"/>
          <p:cNvPicPr/>
          <p:nvPr/>
        </p:nvPicPr>
        <p:blipFill>
          <a:blip r:embed="rId1"/>
          <a:stretch/>
        </p:blipFill>
        <p:spPr>
          <a:xfrm>
            <a:off x="239760" y="76320"/>
            <a:ext cx="903240" cy="927000"/>
          </a:xfrm>
          <a:prstGeom prst="rect">
            <a:avLst/>
          </a:prstGeom>
          <a:ln w="0">
            <a:noFill/>
          </a:ln>
        </p:spPr>
      </p:pic>
      <p:sp>
        <p:nvSpPr>
          <p:cNvPr id="615" name="TextBox 2"/>
          <p:cNvSpPr/>
          <p:nvPr/>
        </p:nvSpPr>
        <p:spPr>
          <a:xfrm>
            <a:off x="6845400" y="4830840"/>
            <a:ext cx="19177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nimation exploring plate tectonics and earthquakes of the Nazca – South America plate boundary region.</a:t>
            </a:r>
            <a:endParaRPr b="0" lang="en-US" sz="1400" spc="-1" strike="noStrike">
              <a:solidFill>
                <a:srgbClr val="000000"/>
              </a:solidFill>
              <a:latin typeface="Arial"/>
            </a:endParaRPr>
          </a:p>
        </p:txBody>
      </p:sp>
      <p:sp>
        <p:nvSpPr>
          <p:cNvPr id="61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ERU</a:t>
            </a:r>
            <a:br>
              <a:rPr sz="3500"/>
            </a:br>
            <a:r>
              <a:rPr b="1" lang="en-US" sz="1500" spc="-1" strike="noStrike">
                <a:solidFill>
                  <a:srgbClr val="11488b"/>
                </a:solidFill>
                <a:latin typeface="Arial"/>
                <a:ea typeface="Arial"/>
              </a:rPr>
              <a:t>Sunday,  January 14, 2018 at 09:18:45 UTC </a:t>
            </a:r>
            <a:endParaRPr b="0" lang="en-US" sz="1500" spc="-1" strike="noStrike">
              <a:solidFill>
                <a:srgbClr val="000000"/>
              </a:solidFill>
              <a:latin typeface="Arial"/>
            </a:endParaRPr>
          </a:p>
        </p:txBody>
      </p:sp>
      <p:pic>
        <p:nvPicPr>
          <p:cNvPr id="617" name="PeruChile_140824" descr=""/>
          <p:cNvPicPr/>
          <p:nvPr/>
        </p:nvPicPr>
        <p:blipFill>
          <a:blip r:embed="rId2"/>
          <a:stretch/>
        </p:blipFill>
        <p:spPr>
          <a:xfrm>
            <a:off x="378000" y="2743200"/>
            <a:ext cx="6400800" cy="3692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17"/>
                    </p:tgtEl>
                  </p:cond>
                </p:stCondLst>
                <p:childTnLst>
                  <p:par>
                    <p:cTn id="3" fill="hold">
                      <p:stCondLst>
                        <p:cond evt="onClick">
                          <p:tgtEl>
                            <p:spTgt spid="61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9" name="Picture 18" descr="IRIS_TMlogo.png"/>
          <p:cNvPicPr/>
          <p:nvPr/>
        </p:nvPicPr>
        <p:blipFill>
          <a:blip r:embed="rId1"/>
          <a:stretch/>
        </p:blipFill>
        <p:spPr>
          <a:xfrm>
            <a:off x="239760" y="76320"/>
            <a:ext cx="903240" cy="927000"/>
          </a:xfrm>
          <a:prstGeom prst="rect">
            <a:avLst/>
          </a:prstGeom>
          <a:ln w="0">
            <a:noFill/>
          </a:ln>
        </p:spPr>
      </p:pic>
      <p:sp>
        <p:nvSpPr>
          <p:cNvPr id="620" name="TextBox 7"/>
          <p:cNvSpPr/>
          <p:nvPr/>
        </p:nvSpPr>
        <p:spPr>
          <a:xfrm>
            <a:off x="252360" y="1066680"/>
            <a:ext cx="8434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focal mechanism is how seismologists plot the 3-D stress orientations of an earthquake.  Because an earthquake occurs as slip on a fault, it generates primary (P) waves in quadrants where the first pulse is compressional (shaded) and quadrants where the first pulse is extensional (white). The orientation of these quadrants determined from recorded seismic waves determines the type of fault that produced the earthquake. </a:t>
            </a:r>
            <a:endParaRPr b="0" lang="en-US" sz="1600" spc="-1" strike="noStrike">
              <a:solidFill>
                <a:srgbClr val="000000"/>
              </a:solidFill>
              <a:latin typeface="Arial"/>
            </a:endParaRPr>
          </a:p>
        </p:txBody>
      </p:sp>
      <p:sp>
        <p:nvSpPr>
          <p:cNvPr id="621" name="TextBox 11"/>
          <p:cNvSpPr/>
          <p:nvPr/>
        </p:nvSpPr>
        <p:spPr>
          <a:xfrm>
            <a:off x="4114800" y="5486400"/>
            <a:ext cx="4267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 this case, the focal mechanism indicates this earthquake occurred as the result of thrust faulting.</a:t>
            </a:r>
            <a:endParaRPr b="0" lang="en-US" sz="1600" spc="-1" strike="noStrike">
              <a:solidFill>
                <a:srgbClr val="000000"/>
              </a:solidFill>
              <a:latin typeface="Arial"/>
            </a:endParaRPr>
          </a:p>
        </p:txBody>
      </p:sp>
      <p:sp>
        <p:nvSpPr>
          <p:cNvPr id="622" name="TextBox 8"/>
          <p:cNvSpPr/>
          <p:nvPr/>
        </p:nvSpPr>
        <p:spPr>
          <a:xfrm>
            <a:off x="430200" y="5351400"/>
            <a:ext cx="2693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tension axis (T) reflects the minimum compressive stress direction.  The pressure axis (P) reflects the maximum compressive stress direction. </a:t>
            </a:r>
            <a:endParaRPr b="0" lang="en-US" sz="1400" spc="-1" strike="noStrike">
              <a:solidFill>
                <a:srgbClr val="000000"/>
              </a:solidFill>
              <a:latin typeface="Arial"/>
            </a:endParaRPr>
          </a:p>
        </p:txBody>
      </p:sp>
      <p:sp>
        <p:nvSpPr>
          <p:cNvPr id="623" name="TextBox 11"/>
          <p:cNvSpPr/>
          <p:nvPr/>
        </p:nvSpPr>
        <p:spPr>
          <a:xfrm>
            <a:off x="239760" y="4981680"/>
            <a:ext cx="30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USGS W-phase Moment Tensor Solution</a:t>
            </a:r>
            <a:endParaRPr b="0" lang="en-US" sz="1200" spc="-1" strike="noStrike">
              <a:solidFill>
                <a:srgbClr val="000000"/>
              </a:solidFill>
              <a:latin typeface="Arial"/>
            </a:endParaRPr>
          </a:p>
        </p:txBody>
      </p:sp>
      <p:sp>
        <p:nvSpPr>
          <p:cNvPr id="62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ERU</a:t>
            </a:r>
            <a:br>
              <a:rPr sz="3500"/>
            </a:br>
            <a:r>
              <a:rPr b="1" lang="en-US" sz="1500" spc="-1" strike="noStrike">
                <a:solidFill>
                  <a:srgbClr val="11488b"/>
                </a:solidFill>
                <a:latin typeface="Arial"/>
                <a:ea typeface="Arial"/>
              </a:rPr>
              <a:t>Sunday,  January 14, 2018 at 09:18:45 UTC </a:t>
            </a:r>
            <a:endParaRPr b="0" lang="en-US" sz="1500" spc="-1" strike="noStrike">
              <a:solidFill>
                <a:srgbClr val="000000"/>
              </a:solidFill>
              <a:latin typeface="Arial"/>
            </a:endParaRPr>
          </a:p>
        </p:txBody>
      </p:sp>
      <p:pic>
        <p:nvPicPr>
          <p:cNvPr id="625" name="Picture 4" descr=""/>
          <p:cNvPicPr/>
          <p:nvPr/>
        </p:nvPicPr>
        <p:blipFill>
          <a:blip r:embed="rId2"/>
          <a:stretch/>
        </p:blipFill>
        <p:spPr>
          <a:xfrm>
            <a:off x="3610080" y="2770200"/>
            <a:ext cx="4379760" cy="1865160"/>
          </a:xfrm>
          <a:prstGeom prst="rect">
            <a:avLst/>
          </a:prstGeom>
          <a:ln w="0">
            <a:noFill/>
          </a:ln>
        </p:spPr>
      </p:pic>
      <p:pic>
        <p:nvPicPr>
          <p:cNvPr id="626" name="Picture 4" descr=""/>
          <p:cNvPicPr/>
          <p:nvPr/>
        </p:nvPicPr>
        <p:blipFill>
          <a:blip r:embed="rId3"/>
          <a:stretch/>
        </p:blipFill>
        <p:spPr>
          <a:xfrm>
            <a:off x="3746520" y="4735440"/>
            <a:ext cx="4167000" cy="506520"/>
          </a:xfrm>
          <a:prstGeom prst="rect">
            <a:avLst/>
          </a:prstGeom>
          <a:ln w="0">
            <a:noFill/>
          </a:ln>
        </p:spPr>
      </p:pic>
      <p:pic>
        <p:nvPicPr>
          <p:cNvPr id="627" name="Picture 2" descr=""/>
          <p:cNvPicPr/>
          <p:nvPr/>
        </p:nvPicPr>
        <p:blipFill>
          <a:blip r:embed="rId4"/>
          <a:stretch/>
        </p:blipFill>
        <p:spPr>
          <a:xfrm>
            <a:off x="388800" y="2517840"/>
            <a:ext cx="29638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Group 4"/>
          <p:cNvGrpSpPr/>
          <p:nvPr/>
        </p:nvGrpSpPr>
        <p:grpSpPr>
          <a:xfrm>
            <a:off x="865080" y="1371600"/>
            <a:ext cx="7516800" cy="5486400"/>
            <a:chOff x="865080" y="1371600"/>
            <a:chExt cx="7516800" cy="5486400"/>
          </a:xfrm>
        </p:grpSpPr>
        <p:pic>
          <p:nvPicPr>
            <p:cNvPr id="629" name="Picture 1" descr=""/>
            <p:cNvPicPr/>
            <p:nvPr/>
          </p:nvPicPr>
          <p:blipFill>
            <a:blip r:embed="rId1"/>
            <a:stretch/>
          </p:blipFill>
          <p:spPr>
            <a:xfrm>
              <a:off x="865080" y="1371600"/>
              <a:ext cx="7516800" cy="5486400"/>
            </a:xfrm>
            <a:prstGeom prst="rect">
              <a:avLst/>
            </a:prstGeom>
            <a:ln w="0">
              <a:noFill/>
            </a:ln>
          </p:spPr>
        </p:pic>
        <p:sp>
          <p:nvSpPr>
            <p:cNvPr id="630" name="Rectangle 2"/>
            <p:cNvSpPr/>
            <p:nvPr/>
          </p:nvSpPr>
          <p:spPr>
            <a:xfrm>
              <a:off x="6297480" y="5810400"/>
              <a:ext cx="2057400" cy="628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2" name="Picture 18" descr="IRIS_TMlogo.png"/>
          <p:cNvPicPr/>
          <p:nvPr/>
        </p:nvPicPr>
        <p:blipFill>
          <a:blip r:embed="rId2"/>
          <a:stretch/>
        </p:blipFill>
        <p:spPr>
          <a:xfrm>
            <a:off x="239760" y="76320"/>
            <a:ext cx="903240" cy="927000"/>
          </a:xfrm>
          <a:prstGeom prst="rect">
            <a:avLst/>
          </a:prstGeom>
          <a:ln w="0">
            <a:noFill/>
          </a:ln>
        </p:spPr>
      </p:pic>
      <p:sp>
        <p:nvSpPr>
          <p:cNvPr id="633" name="TextBox 4"/>
          <p:cNvSpPr/>
          <p:nvPr/>
        </p:nvSpPr>
        <p:spPr>
          <a:xfrm>
            <a:off x="1862280" y="3228840"/>
            <a:ext cx="67053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he earthquake, </a:t>
            </a:r>
            <a:r>
              <a:rPr b="0" lang="en-US" sz="1400" spc="-1" strike="noStrike">
                <a:solidFill>
                  <a:srgbClr val="000000"/>
                </a:solidFill>
                <a:latin typeface="Arial"/>
                <a:ea typeface="ＭＳ Ｐゴシック"/>
              </a:rPr>
              <a:t>it took 11 minutes and 30 seconds for </a:t>
            </a:r>
            <a:r>
              <a:rPr b="0" lang="en-US" sz="1400" spc="-1" strike="noStrike">
                <a:solidFill>
                  <a:srgbClr val="000000"/>
                </a:solidFill>
                <a:latin typeface="Arial"/>
                <a:ea typeface="ＭＳ Ｐゴシック"/>
              </a:rPr>
              <a:t>the compressional P waves to travel a curved path through the mantle to Bend, Oregon.</a:t>
            </a:r>
            <a:endParaRPr b="0" lang="en-US" sz="1400" spc="-1" strike="noStrike">
              <a:solidFill>
                <a:srgbClr val="000000"/>
              </a:solidFill>
              <a:latin typeface="Arial"/>
            </a:endParaRPr>
          </a:p>
        </p:txBody>
      </p:sp>
      <p:sp>
        <p:nvSpPr>
          <p:cNvPr id="634" name="TextBox 7"/>
          <p:cNvSpPr/>
          <p:nvPr/>
        </p:nvSpPr>
        <p:spPr>
          <a:xfrm>
            <a:off x="2049480" y="903240"/>
            <a:ext cx="6332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record of the earthquake in Bend, Oregon (BNOR) is illustrated below. Bend is 8155 km (5068 miles, 73.5°) from the location of this earthquake. </a:t>
            </a:r>
            <a:endParaRPr b="0" lang="en-US" sz="1400" spc="-1" strike="noStrike">
              <a:solidFill>
                <a:srgbClr val="000000"/>
              </a:solidFill>
              <a:latin typeface="Arial"/>
            </a:endParaRPr>
          </a:p>
        </p:txBody>
      </p:sp>
      <p:sp>
        <p:nvSpPr>
          <p:cNvPr id="635" name="TextBox 6"/>
          <p:cNvSpPr/>
          <p:nvPr/>
        </p:nvSpPr>
        <p:spPr>
          <a:xfrm>
            <a:off x="1693800" y="5106960"/>
            <a:ext cx="67820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traveled the 8155 km (5068 miles) along the perimeter of the Earth from the earthquake to the recording station. The surface waves began to arrive in </a:t>
            </a:r>
            <a:r>
              <a:rPr b="0" lang="en-US" sz="1400" spc="-1" strike="noStrike">
                <a:solidFill>
                  <a:srgbClr val="000000"/>
                </a:solidFill>
                <a:latin typeface="Arial"/>
                <a:ea typeface="ＭＳ Ｐゴシック"/>
              </a:rPr>
              <a:t>Bend 40 minutes </a:t>
            </a:r>
            <a:r>
              <a:rPr b="0" lang="en-US" sz="1400" spc="-1" strike="noStrike">
                <a:solidFill>
                  <a:srgbClr val="000000"/>
                </a:solidFill>
                <a:latin typeface="Arial"/>
                <a:ea typeface="ＭＳ Ｐゴシック"/>
              </a:rPr>
              <a:t>after the earthquake occurred off the coast of Peru.  </a:t>
            </a:r>
            <a:endParaRPr b="0" lang="en-US" sz="1400" spc="-1" strike="noStrike">
              <a:solidFill>
                <a:srgbClr val="000000"/>
              </a:solidFill>
              <a:latin typeface="Arial"/>
            </a:endParaRPr>
          </a:p>
        </p:txBody>
      </p:sp>
      <p:sp>
        <p:nvSpPr>
          <p:cNvPr id="636" name="TextBox 9"/>
          <p:cNvSpPr/>
          <p:nvPr/>
        </p:nvSpPr>
        <p:spPr>
          <a:xfrm>
            <a:off x="1733400" y="4137120"/>
            <a:ext cx="68551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waves are shear waves that follow the same path through the mantle as P waves.  S waves </a:t>
            </a:r>
            <a:r>
              <a:rPr b="0" lang="en-US" sz="1400" spc="-1" strike="noStrike">
                <a:solidFill>
                  <a:srgbClr val="000000"/>
                </a:solidFill>
                <a:latin typeface="Arial"/>
                <a:ea typeface="ＭＳ Ｐゴシック"/>
              </a:rPr>
              <a:t>took 20 minutes and 58 seconds to </a:t>
            </a:r>
            <a:r>
              <a:rPr b="0" lang="en-US" sz="1400" spc="-1" strike="noStrike">
                <a:solidFill>
                  <a:srgbClr val="000000"/>
                </a:solidFill>
                <a:latin typeface="Arial"/>
                <a:ea typeface="ＭＳ Ｐゴシック"/>
              </a:rPr>
              <a:t>travel from the earthquake to Bend.</a:t>
            </a:r>
            <a:endParaRPr b="0" lang="en-US" sz="1400" spc="-1" strike="noStrike">
              <a:solidFill>
                <a:srgbClr val="000000"/>
              </a:solidFill>
              <a:latin typeface="Arial"/>
            </a:endParaRPr>
          </a:p>
        </p:txBody>
      </p:sp>
      <p:sp>
        <p:nvSpPr>
          <p:cNvPr id="637" name="TextBox 4"/>
          <p:cNvSpPr/>
          <p:nvPr/>
        </p:nvSpPr>
        <p:spPr>
          <a:xfrm>
            <a:off x="2579760" y="160668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638" name="TextBox 11"/>
          <p:cNvSpPr/>
          <p:nvPr/>
        </p:nvSpPr>
        <p:spPr>
          <a:xfrm>
            <a:off x="3812400" y="191772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a:t>
            </a:r>
            <a:endParaRPr b="0" lang="en-US" sz="1800" spc="-1" strike="noStrike">
              <a:solidFill>
                <a:srgbClr val="000000"/>
              </a:solidFill>
              <a:latin typeface="Arial"/>
            </a:endParaRPr>
          </a:p>
        </p:txBody>
      </p:sp>
      <p:sp>
        <p:nvSpPr>
          <p:cNvPr id="639" name="TextBox 11"/>
          <p:cNvSpPr/>
          <p:nvPr/>
        </p:nvSpPr>
        <p:spPr>
          <a:xfrm>
            <a:off x="6153120" y="1887480"/>
            <a:ext cx="215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rface Waves</a:t>
            </a:r>
            <a:endParaRPr b="0" lang="en-US" sz="1800" spc="-1" strike="noStrike">
              <a:solidFill>
                <a:srgbClr val="000000"/>
              </a:solidFill>
              <a:latin typeface="Arial"/>
            </a:endParaRPr>
          </a:p>
        </p:txBody>
      </p:sp>
      <p:sp>
        <p:nvSpPr>
          <p:cNvPr id="64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ERU</a:t>
            </a:r>
            <a:br>
              <a:rPr sz="3500"/>
            </a:br>
            <a:r>
              <a:rPr b="1" lang="en-US" sz="1500" spc="-1" strike="noStrike">
                <a:solidFill>
                  <a:srgbClr val="11488b"/>
                </a:solidFill>
                <a:latin typeface="Arial"/>
                <a:ea typeface="Arial"/>
              </a:rPr>
              <a:t>Sunday,  January 14, 2018 at 09:18:4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lease send feedback to </a:t>
            </a:r>
            <a:r>
              <a:rPr b="0" lang="en-US" sz="1800" spc="-1" strike="noStrike" u="sng">
                <a:solidFill>
                  <a:srgbClr val="0000ff"/>
                </a:solidFill>
                <a:uFillTx/>
                <a:latin typeface="Arial"/>
                <a:ea typeface="ＭＳ Ｐゴシック"/>
                <a:hlinkClick r:id="rId1"/>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ubscribe at </a:t>
            </a:r>
            <a:r>
              <a:rPr b="0" lang="en-US" sz="1800" spc="-1" strike="noStrike" u="sng">
                <a:solidFill>
                  <a:srgbClr val="0000ff"/>
                </a:solidFill>
                <a:uFillTx/>
                <a:latin typeface="Arial"/>
                <a:ea typeface="ＭＳ Ｐゴシック"/>
                <a:hlinkClick r:id="rId2"/>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3" name="Picture 1" descr=""/>
          <p:cNvPicPr/>
          <p:nvPr/>
        </p:nvPicPr>
        <p:blipFill>
          <a:blip r:embed="rId3"/>
          <a:stretch/>
        </p:blipFill>
        <p:spPr>
          <a:xfrm>
            <a:off x="6400800" y="5262480"/>
            <a:ext cx="2413080" cy="1281240"/>
          </a:xfrm>
          <a:prstGeom prst="rect">
            <a:avLst/>
          </a:prstGeom>
          <a:ln w="0">
            <a:noFill/>
          </a:ln>
        </p:spPr>
      </p:pic>
      <p:pic>
        <p:nvPicPr>
          <p:cNvPr id="644" name="Picture 1" descr=""/>
          <p:cNvPicPr/>
          <p:nvPr/>
        </p:nvPicPr>
        <p:blipFill>
          <a:blip r:embed="rId4"/>
          <a:stretch/>
        </p:blipFill>
        <p:spPr>
          <a:xfrm>
            <a:off x="709560" y="5337000"/>
            <a:ext cx="1200240" cy="1206720"/>
          </a:xfrm>
          <a:prstGeom prst="rect">
            <a:avLst/>
          </a:prstGeom>
          <a:ln w="0">
            <a:noFill/>
          </a:ln>
        </p:spPr>
      </p:pic>
      <p:sp>
        <p:nvSpPr>
          <p:cNvPr id="645"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ＭＳ Ｐゴシック"/>
              </a:rPr>
              <a:t>www.iris.edu/earthquake</a:t>
            </a:r>
            <a:endParaRPr b="0" lang="en-US" sz="1400" spc="-1" strike="noStrike">
              <a:solidFill>
                <a:srgbClr val="000000"/>
              </a:solidFill>
              <a:latin typeface="Arial"/>
            </a:endParaRPr>
          </a:p>
        </p:txBody>
      </p:sp>
      <p:pic>
        <p:nvPicPr>
          <p:cNvPr id="646" name="Picture 1" descr=""/>
          <p:cNvPicPr/>
          <p:nvPr/>
        </p:nvPicPr>
        <p:blipFill>
          <a:blip r:embed="rId5"/>
          <a:stretch/>
        </p:blipFill>
        <p:spPr>
          <a:xfrm>
            <a:off x="3672000" y="4971960"/>
            <a:ext cx="1935000" cy="150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8-01-14T20:30:02Z</dcterms:modified>
  <cp:revision>827</cp:revision>
  <dc:subject/>
  <dc:title>Slide 1</dc:title>
</cp:coreProperties>
</file>