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490B-1562-479D-9057-E13240438B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9F42-5B37-4951-B517-23698DCC663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257480" y="720720"/>
            <a:ext cx="4800600" cy="3600360"/>
          </a:xfrm>
          <a:prstGeom prst="rect">
            <a:avLst/>
          </a:prstGeom>
          <a:ln w="0">
            <a:noFill/>
          </a:ln>
        </p:spPr>
      </p:sp>
      <p:sp>
        <p:nvSpPr>
          <p:cNvPr id="6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E610-BC5A-43D5-8844-1AA7AE0B530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4485-6107-4246-89BC-B40E75CE1E6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257480" y="720720"/>
            <a:ext cx="4800600" cy="3600360"/>
          </a:xfrm>
          <a:prstGeom prst="rect">
            <a:avLst/>
          </a:prstGeom>
          <a:ln w="0">
            <a:noFill/>
          </a:ln>
        </p:spPr>
      </p:sp>
      <p:sp>
        <p:nvSpPr>
          <p:cNvPr id="6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Ref .: Kendrick, et al., (2003) El vector Euler Nazca-América del Sur y su tasa de cambio, Revista de Ciencias de la Tierra de América del Sur, v. 16, p. 125-131.</a:t>
            </a:r>
            <a:endParaRPr b="0" lang="en-US" sz="1200" spc="-1" strike="noStrike">
              <a:solidFill>
                <a:srgbClr val="000000"/>
              </a:solidFill>
              <a:latin typeface="Calibri"/>
            </a:endParaRPr>
          </a:p>
        </p:txBody>
      </p:sp>
      <p:sp>
        <p:nvSpPr>
          <p:cNvPr id="6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703C-6422-4559-B7B9-DA26CB2C23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20720"/>
            <a:ext cx="4800600" cy="360036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Calibri"/>
              </a:rPr>
              <a:t>Explorando la Sismicida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Calibri"/>
              </a:rPr>
              <a:t>Navegador de Terremotos de IRIS: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9511-50D7-44F2-BE94-AD5DCE3C4E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ones Relev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Sur América – Terremotos y Tectónica:  http://www.iris.edu/hq/inclass/animation/peruchile_subduction_zone_earthquakes__tectonics </a:t>
            </a:r>
            <a:endParaRPr b="0" lang="en-US" sz="1200" spc="-1" strike="noStrike">
              <a:solidFill>
                <a:srgbClr val="000000"/>
              </a:solidFill>
              <a:latin typeface="Calibri"/>
            </a:endParaRPr>
          </a:p>
        </p:txBody>
      </p:sp>
      <p:sp>
        <p:nvSpPr>
          <p:cNvPr id="6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1161-0F62-4D06-85CA-50C2A3DC40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20720"/>
            <a:ext cx="4800600" cy="3600360"/>
          </a:xfrm>
          <a:prstGeom prst="rect">
            <a:avLst/>
          </a:prstGeom>
          <a:ln w="0">
            <a:noFill/>
          </a:ln>
        </p:spPr>
      </p:sp>
      <p:sp>
        <p:nvSpPr>
          <p:cNvPr id="6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Calibri"/>
              </a:rPr>
              <a:t>Animación Relevan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Calibri"/>
              </a:rPr>
              <a:t>Entendiendo los Mecanismos Focales http://www.iris.edu/hq/programs/education_and_outreach/animations/25</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6E79-FAA0-4096-8320-DEA3B7BBC1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6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B17F-32BE-4286-9914-86CBEFA7EA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20720"/>
            <a:ext cx="4800600" cy="3600360"/>
          </a:xfrm>
          <a:prstGeom prst="rect">
            <a:avLst/>
          </a:prstGeom>
          <a:ln w="0">
            <a:noFill/>
          </a:ln>
        </p:spPr>
      </p:sp>
      <p:sp>
        <p:nvSpPr>
          <p:cNvPr id="6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007F-D857-4538-A3C6-944E03EBEB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B532C-7412-42ED-8324-81CD86779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56FC7-A866-4AB9-8439-EBA01A913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F118C3-32B9-4EA4-B5C6-DCD98EDA4D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26A0C9-519B-4354-BBB7-E6FDC13D7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93138F-C729-4E44-9239-AA72223212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99BBD-242F-4AEF-A096-151424DE44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64A6A-25FC-4C08-BA6D-2070142BE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DDF40E-A5DA-4915-B57E-4EA9288EA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82DBB3-C528-4463-A9B3-68877D8AB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CC5009-AABA-4928-B4F8-47F47046A1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695053-E63B-47AA-84B7-3AE1A7908E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5AC2B7-501E-4106-82FD-0B1E6BC12C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54DA5-CEAA-44DF-94D0-0D1DA2CC8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78CBFB-E75C-40C5-A089-D0FE2564FF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9D5A92-0184-480E-BA50-32061B42D6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2049A7-8ECA-485E-962B-6D46D2A6EA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588384-133B-4B81-93FB-6C20440A28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079CE0-73C2-4D26-A2DB-8CD0FCAA40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A06ACD-FDD3-47EE-8B24-471B8BA2A6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F585E3-E4CE-463B-B311-399FBC1D58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B889D7-49AB-4E3E-85C1-9265DC5BBA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3D5D68-B543-417D-99E0-D4678808C6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55AFF7-BF26-42B1-8AC7-6711B1BC2D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B217E-4294-413E-A255-4BC7F7118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7E1867-25AC-4A99-9025-59F892C4B8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2A5E6C-8070-4A2D-892A-1C2EC54B72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CE80F2-A604-4778-9271-885F3988F5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A24C25-4C7F-4667-AFA0-D31F298CEB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72480A-16EC-47A6-868D-A8AEC40AAE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5A2572-BB6D-43D4-A9FD-2D6C89D70A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161A86-B945-4B49-9915-2D8B053384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257715-E7BB-43A6-8EBC-943811582A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2298BD-4418-4E77-8722-3E5FAB67F0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983F2E-7C3C-4B29-9370-41A6199840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5ACD3-D3BC-42FD-95E6-4EF036D7A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B58300-D492-4938-BF01-E456DE2113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099404-6B5C-42A2-805B-40284C3C35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D9DA18-5962-41C7-9F48-3F695D4EDE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57A631-49BC-47F4-9AAF-29BB6CA229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E81D22-13C9-44AE-913F-24D3B5BFCD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39DC90-EF44-403A-919C-495E30D5C4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D1E1BC-B517-4609-AB6C-BBF76DE947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25ECB5-31D3-4DFA-817C-4565386BF5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0ED9CE-7DF5-49C1-9FAB-7EA3A38049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F229CC-6CF5-4FE6-863D-DE832E7876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AA445-858A-42CE-829A-9A0BEC10A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754202-9BD1-4F43-BF31-927F39247B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7C7DF7-40A8-48A2-B12F-10FC943C20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CB71B2-4AA3-4E71-AF7B-71C3E789EB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C4FE19-10DE-4CD9-9CA8-0735419B90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BBCB5E-B5CE-4649-B564-10A5D60AD8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CDCDE3-3C76-478D-A6C5-3732E592DF7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F3AF25-BB1F-4AB0-AFB7-4A7B703181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9A4BF6-A1E1-496A-94F5-AE07252EEB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A14E7A-3871-4C04-9D4E-48AFADA78A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05A01A-C87E-47D0-8DE3-7E42133664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E95CC-B551-4F1B-ADA0-CB9722FC3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B06B3B-7EB2-4ABF-8848-1521D358F3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3236BB-7050-43B3-9656-8F75F3D1F9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A04629-CA9C-47F6-8F3C-B37D5F94EE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DFFD74-4EE8-4E21-8554-F609EB1DB7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2C3B6D-E311-480A-B765-B9A9FA81E2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CCFD0D-517F-4F7C-B582-CE4A5E8575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A4F47DD-17DB-49C5-8DE9-FC9FB67FCB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5939A-845D-433D-B73B-F514C9155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7E0F8-CC45-4657-8E41-CB42A648B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2EC5D-18F0-4D65-A6D7-FCBC4BE1C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BCE72-63F4-48ED-8C18-DBC8FB604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C9171-0362-46B9-8A90-652E0226D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7F03D-B9C0-4D4B-AC27-7CADFAEFF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8EB07-7EDB-485A-88F3-7B3CA1417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0E1BD-5A12-4E58-8034-B7EE61DFA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B4CD5-A5DC-4417-ABB2-DA3A2BA90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999DA-4178-4C77-AC69-BFB687C73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481480-6C2B-4B58-9D25-92C9CF5B85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7AC14-1902-4393-B58D-5FB87E899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05A06-39D6-45EB-B611-56FD7C065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B8B6D-5D9A-4952-85AA-72A1A92D5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FDB88-3DA2-42AE-9F6E-3C5CAF80B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0FEDE-1329-432E-9C5E-BA9483D82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FB0AE-6DAC-4794-B662-B0EC50727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2DF4D-2F0B-42D9-89AC-B86ECCCCFD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C50EE-C7FE-4551-9EA8-037E4F229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9340E-A73F-4F5B-BFBE-34C602EE1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F6AA5F-AD23-4C92-8BC5-AACC19C9D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6A544-76B4-48DF-8BA2-65C6FB424F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FBBD54-EC4A-4BB2-8B91-7469D016DF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C229A0-434D-4C16-892B-AF4539543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617BA-1E02-4E5B-9A62-A4E2437EA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70861-C1AD-4D9F-883C-985034BFA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A092E-AFC9-4F92-B336-30276115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67764-4281-4C57-8731-00625AE01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F1FCA-BA63-4CF9-B467-81952BD87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8C82C3-8132-4E34-9D81-B406FFEDC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D6F08-CD79-4474-A209-AF9F1827A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E213C-0176-4763-818B-3D3E0AA2D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B1448-994A-46BB-A41D-BABEA2FB3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04014-9A37-498E-B7CF-EA882E2D4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509316-C5E8-417C-BDA0-21C64A652E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FD9469-F391-4E34-A4D9-91955AA9DC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E429A9-554A-4579-A6DB-F4030B3CBD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174BC-4D83-4A0B-B3E0-D40C6AD61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67DAD-1C9D-4573-A453-052A909A1C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51BF2A-E6F4-4AF9-A4C3-1337189084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22EE1F-7467-439E-9EF4-FA1F1C4BA4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80693B-F9E8-4646-B508-9B65D3192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F2F04E-6B1E-45D7-B79D-425252E05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8F014-774B-4C4E-B156-80C696EB2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E3947-1341-44A0-B798-51186FA6D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27979-CB1F-4EE8-89D2-B021D35B1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8DD49-CD90-43E0-BE2D-A1F3F5CD6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19609E-E08B-487F-BD5B-54D6C8B924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16DC6-4982-4CB0-850B-9C8F77F1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85A6F1-A603-4450-A85D-63EB7E2151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11B48F-4275-4DAA-8B8E-76F9393B79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23BCDC-19E1-46DF-BC21-F0585A424A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0BF4C-13D1-4531-A13D-D9EF4FE54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B098E-C89D-4936-B0C8-015B93C5AF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D327C-8FC0-4016-AE1C-6BA4F6AC4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1D7974-514F-4EEF-AEFA-3264F2935C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D76C0-79AC-47C2-985C-0E1926F4C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E24CC2-2920-4E00-A526-D701112BA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B2F45-DA34-4153-9AA3-C3B1AB5A0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C094-AD86-493F-B15F-5699B069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21DFBA-BE8D-4ACE-AF57-01B53AA4A4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CAE5C6-CD91-4794-9FA6-CCD316D253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9A117F-F933-4D7F-8668-83F02825CF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5F3C3-C100-49C1-AA82-D42BA36069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EFBD35-8C2A-480E-81C6-132D86B1F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665F3F-E3A7-47C6-BA94-4AAA69EEDC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E68816-9346-4E5C-994E-9249DB2FF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8707EF-87B2-40D8-828B-2CEA91C79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25748-4FE5-4629-95D7-5E6FD9B63A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44DAE-9C5B-4511-B3F2-B35D11DF6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168E8-1CFA-4E5C-8244-370F8B74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CDC88-773E-433D-949D-182ADCA3D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E89B2-606D-4AD1-AFF3-315C51AB5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F3530-681A-440C-B17F-20BA62C84D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077101-53CD-4F8B-8650-C6A58A1DCC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2C4905-5A10-4439-952B-DB5DA7DEFE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50F879-8C3E-452E-9471-5BC5FF3DAE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118248-A824-4E24-B5EA-0977D9223A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DF7B4D-2B65-4530-8059-29745FFA7D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443DE2-F0C8-4185-A2E5-E6995D847F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49A6A-617B-4C09-9A23-4C77743A88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4120-5168-41A4-8ADC-5AC8F1301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4C4E6E-366E-4C72-8BC2-D716D070B0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6EB81-4ADE-4B78-893E-0CA555BC5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90B86-5238-4276-BEEF-520131EF7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D84D4-C1DC-4DC3-B987-68D8D789E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15672F-1203-427A-87AC-C3CD37EFF4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B84F1A-C085-48F3-AACC-26CC3AD462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81D236-1489-424D-88EB-F4DA2F7A9C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5683F8-FC91-4B20-9C3B-97F05226AD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99FC12-16B4-4283-857D-7B71F09902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456009-D956-4180-9632-1F01E958F3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BB02-EC16-4761-8417-F6E3406D16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42C1-4CEE-4AFA-A3D5-C55E61A46D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88AB-C731-4418-A6F0-4D85659586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F3BA-9776-4868-B6F3-7A01EEB1D3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AC2D-133E-474A-840A-63819C95B4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48FEE-7C5C-430A-A01B-ABC2F7515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C80C-1BE8-4B29-997D-0B38DD2E64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F161-0505-4FD7-B2BA-36A9EBAA9C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3A04-97D7-45DB-9E92-14B9D85066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9A80-5637-4D65-A5D3-4D37C82BB6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8022-9866-41C9-88B8-95A10441FD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8467-435B-4E85-A384-788C982DEE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3C19-6209-4E15-96AF-F7865CD4DF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hyperlink" Target="mailto:tkb@iris.edu" TargetMode="External"/><Relationship Id="rId5" Type="http://schemas.openxmlformats.org/officeDocument/2006/relationships/hyperlink" Target="http://www.iris.edu/hq/retm" TargetMode="External"/><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341280" y="1085760"/>
            <a:ext cx="4383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terremoto de magnitud 7,1 ha ocurrido cerca de la costa de Perú. El terremoto ocurrió poco después de las 4 a.m. hora local y se centró cerca de la costa del Perú, a 40 km (25 millas) al sur-suroeste de Acarí, Perú, a una profundidad de 36,3 km (22,5 mil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es iniciales reportan el colapso de casas y carreteras que dejaron un saldo de un muerto y varias docenas de heri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entro de Alerta de Tsunamis del Pacífico de los EE. UU. Inicialmente advirtió sobre posibles olas de tsunami en áreas de la costa sur de Perú. El centro luego publicó un boletín diciendo que no se detectaron tales olas y que la amenaza había pasado.</a:t>
            </a:r>
            <a:endParaRPr b="0" lang="en-US" sz="1800" spc="-1" strike="noStrike">
              <a:solidFill>
                <a:srgbClr val="000000"/>
              </a:solidFill>
              <a:latin typeface="Arial"/>
            </a:endParaRPr>
          </a:p>
        </p:txBody>
      </p:sp>
      <p:sp>
        <p:nvSpPr>
          <p:cNvPr id="5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pic>
        <p:nvPicPr>
          <p:cNvPr id="544" name="Picture 1" descr=""/>
          <p:cNvPicPr/>
          <p:nvPr/>
        </p:nvPicPr>
        <p:blipFill>
          <a:blip r:embed="rId2"/>
          <a:stretch/>
        </p:blipFill>
        <p:spPr>
          <a:xfrm>
            <a:off x="4952880" y="1122480"/>
            <a:ext cx="3948120" cy="507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12" descr="scale.jpg"/>
          <p:cNvPicPr/>
          <p:nvPr/>
        </p:nvPicPr>
        <p:blipFill>
          <a:blip r:embed="rId1"/>
          <a:stretch/>
        </p:blipFill>
        <p:spPr>
          <a:xfrm>
            <a:off x="380880" y="3984480"/>
            <a:ext cx="2127240" cy="2319480"/>
          </a:xfrm>
          <a:prstGeom prst="rect">
            <a:avLst/>
          </a:prstGeom>
          <a:ln w="0">
            <a:noFill/>
          </a:ln>
        </p:spPr>
      </p:pic>
      <p:sp>
        <p:nvSpPr>
          <p:cNvPr id="547" name="TextBox 15"/>
          <p:cNvSpPr/>
          <p:nvPr/>
        </p:nvSpPr>
        <p:spPr>
          <a:xfrm>
            <a:off x="272880" y="1143000"/>
            <a:ext cx="34880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La modificación de la escala de intensidad de Marcelli es una escala de doce niveles numeradas del  I al XII, que indican la severidad de los movimientos telú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área más cercana al terremoto experimentó temblores muy fuertes.</a:t>
            </a:r>
            <a:endParaRPr b="0" lang="en-US" sz="1600" spc="-1" strike="noStrike">
              <a:solidFill>
                <a:srgbClr val="000000"/>
              </a:solidFill>
              <a:latin typeface="Arial"/>
            </a:endParaRPr>
          </a:p>
        </p:txBody>
      </p:sp>
      <p:pic>
        <p:nvPicPr>
          <p:cNvPr id="548" name="Picture 8" descr="IRIS_TMlogo.png"/>
          <p:cNvPicPr/>
          <p:nvPr/>
        </p:nvPicPr>
        <p:blipFill>
          <a:blip r:embed="rId2"/>
          <a:stretch/>
        </p:blipFill>
        <p:spPr>
          <a:xfrm>
            <a:off x="239760" y="76320"/>
            <a:ext cx="903240" cy="927000"/>
          </a:xfrm>
          <a:prstGeom prst="rect">
            <a:avLst/>
          </a:prstGeom>
          <a:ln w="0">
            <a:noFill/>
          </a:ln>
        </p:spPr>
      </p:pic>
      <p:pic>
        <p:nvPicPr>
          <p:cNvPr id="549" name="Picture 1" descr=""/>
          <p:cNvPicPr/>
          <p:nvPr/>
        </p:nvPicPr>
        <p:blipFill>
          <a:blip r:embed="rId3"/>
          <a:stretch/>
        </p:blipFill>
        <p:spPr>
          <a:xfrm>
            <a:off x="3728880" y="1143000"/>
            <a:ext cx="5322960" cy="5119560"/>
          </a:xfrm>
          <a:prstGeom prst="rect">
            <a:avLst/>
          </a:prstGeom>
          <a:ln w="0">
            <a:noFill/>
          </a:ln>
        </p:spPr>
      </p:pic>
      <p:sp>
        <p:nvSpPr>
          <p:cNvPr id="5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sp>
        <p:nvSpPr>
          <p:cNvPr id="551" name="TextBox 15"/>
          <p:cNvSpPr/>
          <p:nvPr/>
        </p:nvSpPr>
        <p:spPr>
          <a:xfrm>
            <a:off x="4224240" y="6276960"/>
            <a:ext cx="4800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USGS</a:t>
            </a:r>
            <a:r>
              <a:rPr b="0" i="1" lang="es-ES" sz="1200" spc="-1" strike="noStrike">
                <a:solidFill>
                  <a:srgbClr val="000000"/>
                </a:solidFill>
                <a:latin typeface="Arial"/>
                <a:ea typeface="ＭＳ Ｐゴシック"/>
              </a:rPr>
              <a:t> Intensidad de Movimiento Estimada del terremoto M7,1</a:t>
            </a:r>
            <a:endParaRPr b="0" lang="en-US" sz="1200" spc="-1" strike="noStrike">
              <a:solidFill>
                <a:srgbClr val="000000"/>
              </a:solidFill>
              <a:latin typeface="Arial"/>
            </a:endParaRPr>
          </a:p>
        </p:txBody>
      </p:sp>
      <p:sp>
        <p:nvSpPr>
          <p:cNvPr id="552" name="TextBox 14"/>
          <p:cNvSpPr/>
          <p:nvPr/>
        </p:nvSpPr>
        <p:spPr>
          <a:xfrm>
            <a:off x="2728800" y="360504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
        <p:nvSpPr>
          <p:cNvPr id="553" name="TextBox 16"/>
          <p:cNvSpPr/>
          <p:nvPr/>
        </p:nvSpPr>
        <p:spPr>
          <a:xfrm>
            <a:off x="271440" y="365760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554"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8" descr="IRIS_TMlogo.png"/>
          <p:cNvPicPr/>
          <p:nvPr/>
        </p:nvPicPr>
        <p:blipFill>
          <a:blip r:embed="rId1"/>
          <a:stretch/>
        </p:blipFill>
        <p:spPr>
          <a:xfrm>
            <a:off x="239760" y="76320"/>
            <a:ext cx="903240" cy="927000"/>
          </a:xfrm>
          <a:prstGeom prst="rect">
            <a:avLst/>
          </a:prstGeom>
          <a:ln w="0">
            <a:noFill/>
          </a:ln>
        </p:spPr>
      </p:pic>
      <p:sp>
        <p:nvSpPr>
          <p:cNvPr id="557" name="TextBox 18"/>
          <p:cNvSpPr/>
          <p:nvPr/>
        </p:nvSpPr>
        <p:spPr>
          <a:xfrm>
            <a:off x="304920" y="1123920"/>
            <a:ext cx="4267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mapa USGS PAGER muestra la población expuesta a diferentes niveles de intensidad de Mercalli Modificada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Servicio Geológico de los EEUU (USGS) estima que seis mil personas sintieron fuertes movimientos telúricos como consecuencia de este terremoto</a:t>
            </a:r>
            <a:endParaRPr b="0" lang="en-US" sz="1600" spc="-1" strike="noStrike">
              <a:solidFill>
                <a:srgbClr val="000000"/>
              </a:solidFill>
              <a:latin typeface="Arial"/>
            </a:endParaRPr>
          </a:p>
        </p:txBody>
      </p:sp>
      <p:pic>
        <p:nvPicPr>
          <p:cNvPr id="558" name="Picture 1" descr=""/>
          <p:cNvPicPr/>
          <p:nvPr/>
        </p:nvPicPr>
        <p:blipFill>
          <a:blip r:embed="rId2"/>
          <a:stretch/>
        </p:blipFill>
        <p:spPr>
          <a:xfrm>
            <a:off x="4689360" y="1260360"/>
            <a:ext cx="4265640" cy="4259520"/>
          </a:xfrm>
          <a:prstGeom prst="rect">
            <a:avLst/>
          </a:prstGeom>
          <a:ln w="0">
            <a:noFill/>
          </a:ln>
        </p:spPr>
      </p:pic>
      <p:pic>
        <p:nvPicPr>
          <p:cNvPr id="559" name="Picture 2" descr=""/>
          <p:cNvPicPr/>
          <p:nvPr/>
        </p:nvPicPr>
        <p:blipFill>
          <a:blip r:embed="rId3"/>
          <a:stretch/>
        </p:blipFill>
        <p:spPr>
          <a:xfrm>
            <a:off x="390600" y="3273480"/>
            <a:ext cx="3190680" cy="3511440"/>
          </a:xfrm>
          <a:prstGeom prst="rect">
            <a:avLst/>
          </a:prstGeom>
          <a:ln w="0">
            <a:noFill/>
          </a:ln>
        </p:spPr>
      </p:pic>
      <p:sp>
        <p:nvSpPr>
          <p:cNvPr id="5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sp>
        <p:nvSpPr>
          <p:cNvPr id="561" name="TextBox 20"/>
          <p:cNvSpPr/>
          <p:nvPr/>
        </p:nvSpPr>
        <p:spPr>
          <a:xfrm>
            <a:off x="3333600" y="5521320"/>
            <a:ext cx="5767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ＭＳ Ｐゴシック"/>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200" spc="-1" strike="noStrike">
              <a:solidFill>
                <a:srgbClr val="000000"/>
              </a:solidFill>
              <a:latin typeface="Arial"/>
            </a:endParaRPr>
          </a:p>
        </p:txBody>
      </p:sp>
      <p:sp>
        <p:nvSpPr>
          <p:cNvPr id="562" name="TextBox 15"/>
          <p:cNvSpPr/>
          <p:nvPr/>
        </p:nvSpPr>
        <p:spPr>
          <a:xfrm>
            <a:off x="4572000" y="6473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
        <p:nvSpPr>
          <p:cNvPr id="563" name="TextBox 15"/>
          <p:cNvSpPr/>
          <p:nvPr/>
        </p:nvSpPr>
        <p:spPr>
          <a:xfrm>
            <a:off x="4724280" y="736560"/>
            <a:ext cx="43056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ＭＳ Ｐゴシック"/>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Box 37"/>
          <p:cNvSpPr/>
          <p:nvPr/>
        </p:nvSpPr>
        <p:spPr>
          <a:xfrm>
            <a:off x="246240" y="917640"/>
            <a:ext cx="4524120" cy="58806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placas litosféricas son en realidad carcasas esféricas sobre la superficie de la Tierra, por lo que los movimientos relativos de las placas se describen mejor como rotaciones relativas de las placas. Esto significa que las velocidades de movimiento relativo de la placa cambian con la ubicación en un límite de placa larga, como el límite de la Placa de Nazca - Sudamérica. El mapa de la derecha ilustra cómo la velocidad de convergencia de la Placa de Nazca hacia la Placa de América del Sur oscila entre 5,6 cm / año y 6,3 cm / año.</a:t>
            </a: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s velocidades se han actualizado recientemente utilizando observaciones de Sistema de Posicionamiento Global (GPS) en las islas localizadas sobre la Placa de Nazca y numerosas estaciones de GPS en América del Sur. En la ubicación de este terremoto, la velocidad de convergencia es de aproximadamente 6,2 cm / año.</a:t>
            </a:r>
            <a:endParaRPr b="0" lang="en-US" sz="1400" spc="-1" strike="noStrike">
              <a:solidFill>
                <a:srgbClr val="000000"/>
              </a:solidFill>
              <a:latin typeface="Arial"/>
            </a:endParaRPr>
          </a:p>
        </p:txBody>
      </p:sp>
      <p:sp>
        <p:nvSpPr>
          <p:cNvPr id="565" name="Rectangle 1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Picture 8" descr="IRIS_TMlogo.png"/>
          <p:cNvPicPr/>
          <p:nvPr/>
        </p:nvPicPr>
        <p:blipFill>
          <a:blip r:embed="rId1"/>
          <a:stretch/>
        </p:blipFill>
        <p:spPr>
          <a:xfrm>
            <a:off x="239760" y="76320"/>
            <a:ext cx="903240" cy="927000"/>
          </a:xfrm>
          <a:prstGeom prst="rect">
            <a:avLst/>
          </a:prstGeom>
          <a:ln w="0">
            <a:noFill/>
          </a:ln>
        </p:spPr>
      </p:pic>
      <p:grpSp>
        <p:nvGrpSpPr>
          <p:cNvPr id="567" name="Group 3"/>
          <p:cNvGrpSpPr/>
          <p:nvPr/>
        </p:nvGrpSpPr>
        <p:grpSpPr>
          <a:xfrm>
            <a:off x="4902120" y="919080"/>
            <a:ext cx="4165560" cy="5810400"/>
            <a:chOff x="4902120" y="919080"/>
            <a:chExt cx="4165560" cy="5810400"/>
          </a:xfrm>
        </p:grpSpPr>
        <p:grpSp>
          <p:nvGrpSpPr>
            <p:cNvPr id="568" name="Group 1"/>
            <p:cNvGrpSpPr/>
            <p:nvPr/>
          </p:nvGrpSpPr>
          <p:grpSpPr>
            <a:xfrm>
              <a:off x="4902120" y="919080"/>
              <a:ext cx="4165560" cy="5810400"/>
              <a:chOff x="4902120" y="919080"/>
              <a:chExt cx="4165560" cy="5810400"/>
            </a:xfrm>
          </p:grpSpPr>
          <p:grpSp>
            <p:nvGrpSpPr>
              <p:cNvPr id="569" name="Group 2"/>
              <p:cNvGrpSpPr/>
              <p:nvPr/>
            </p:nvGrpSpPr>
            <p:grpSpPr>
              <a:xfrm>
                <a:off x="4915440" y="919080"/>
                <a:ext cx="4097160" cy="5810400"/>
                <a:chOff x="4915440" y="919080"/>
                <a:chExt cx="4097160" cy="5810400"/>
              </a:xfrm>
            </p:grpSpPr>
            <p:pic>
              <p:nvPicPr>
                <p:cNvPr id="570" name="Picture 4" descr="N - S Amer Google.tiff"/>
                <p:cNvPicPr/>
                <p:nvPr/>
              </p:nvPicPr>
              <p:blipFill>
                <a:blip r:embed="rId2"/>
                <a:stretch/>
              </p:blipFill>
              <p:spPr>
                <a:xfrm>
                  <a:off x="4994640" y="919080"/>
                  <a:ext cx="4017960" cy="5810400"/>
                </a:xfrm>
                <a:prstGeom prst="rect">
                  <a:avLst/>
                </a:prstGeom>
                <a:ln w="0">
                  <a:noFill/>
                </a:ln>
              </p:spPr>
            </p:pic>
            <p:cxnSp>
              <p:nvCxnSpPr>
                <p:cNvPr id="571" name="Straight Arrow Connector 26"/>
                <p:cNvCxnSpPr/>
                <p:nvPr/>
              </p:nvCxnSpPr>
              <p:spPr>
                <a:xfrm flipV="1">
                  <a:off x="5349240" y="1996560"/>
                  <a:ext cx="862560" cy="72000"/>
                </a:xfrm>
                <a:prstGeom prst="straightConnector1">
                  <a:avLst/>
                </a:prstGeom>
                <a:ln w="57240">
                  <a:solidFill>
                    <a:srgbClr val="ffffff"/>
                  </a:solidFill>
                  <a:miter/>
                  <a:tailEnd len="med" type="arrow" w="med"/>
                </a:ln>
              </p:spPr>
            </p:cxnSp>
            <p:sp>
              <p:nvSpPr>
                <p:cNvPr id="572" name="TextBox 33"/>
                <p:cNvSpPr/>
                <p:nvPr/>
              </p:nvSpPr>
              <p:spPr>
                <a:xfrm rot="21277200">
                  <a:off x="5918040" y="32997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2 cm/ </a:t>
                  </a:r>
                  <a:r>
                    <a:rPr b="0" lang="es-ES" sz="1800" spc="-1" strike="noStrike">
                      <a:solidFill>
                        <a:srgbClr val="ffffff"/>
                      </a:solidFill>
                      <a:latin typeface="Arial"/>
                      <a:ea typeface="ＭＳ Ｐゴシック"/>
                    </a:rPr>
                    <a:t>año</a:t>
                  </a:r>
                  <a:endParaRPr b="0" lang="en-US" sz="1800" spc="-1" strike="noStrike">
                    <a:solidFill>
                      <a:srgbClr val="000000"/>
                    </a:solidFill>
                    <a:latin typeface="Arial"/>
                  </a:endParaRPr>
                </a:p>
              </p:txBody>
            </p:sp>
            <p:cxnSp>
              <p:nvCxnSpPr>
                <p:cNvPr id="573" name="Straight Arrow Connector 15"/>
                <p:cNvCxnSpPr/>
                <p:nvPr/>
              </p:nvCxnSpPr>
              <p:spPr>
                <a:xfrm flipV="1">
                  <a:off x="6217560" y="3880800"/>
                  <a:ext cx="973800" cy="83160"/>
                </a:xfrm>
                <a:prstGeom prst="straightConnector1">
                  <a:avLst/>
                </a:prstGeom>
                <a:ln w="57240">
                  <a:solidFill>
                    <a:srgbClr val="ffffff"/>
                  </a:solidFill>
                  <a:miter/>
                  <a:tailEnd len="med" type="arrow" w="med"/>
                </a:ln>
              </p:spPr>
            </p:cxnSp>
            <p:cxnSp>
              <p:nvCxnSpPr>
                <p:cNvPr id="574" name="Straight Arrow Connector 29"/>
                <p:cNvCxnSpPr/>
                <p:nvPr/>
              </p:nvCxnSpPr>
              <p:spPr>
                <a:xfrm flipV="1">
                  <a:off x="6030360" y="3201480"/>
                  <a:ext cx="954720" cy="86400"/>
                </a:xfrm>
                <a:prstGeom prst="straightConnector1">
                  <a:avLst/>
                </a:prstGeom>
                <a:ln w="57240">
                  <a:solidFill>
                    <a:srgbClr val="ffffff"/>
                  </a:solidFill>
                  <a:miter/>
                  <a:tailEnd len="med" type="arrow" w="med"/>
                </a:ln>
              </p:spPr>
            </p:cxnSp>
            <p:sp>
              <p:nvSpPr>
                <p:cNvPr id="575" name="TextBox 34"/>
                <p:cNvSpPr/>
                <p:nvPr/>
              </p:nvSpPr>
              <p:spPr>
                <a:xfrm rot="21322200">
                  <a:off x="5977800" y="39945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3 cm/ </a:t>
                  </a:r>
                  <a:r>
                    <a:rPr b="0" lang="es-ES" sz="1800" spc="-1" strike="noStrike">
                      <a:solidFill>
                        <a:srgbClr val="ffffff"/>
                      </a:solidFill>
                      <a:latin typeface="Arial"/>
                      <a:ea typeface="ＭＳ Ｐゴシック"/>
                    </a:rPr>
                    <a:t>año</a:t>
                  </a:r>
                  <a:endParaRPr b="0" lang="en-US" sz="1800" spc="-1" strike="noStrike">
                    <a:solidFill>
                      <a:srgbClr val="000000"/>
                    </a:solidFill>
                    <a:latin typeface="Arial"/>
                  </a:endParaRPr>
                </a:p>
              </p:txBody>
            </p:sp>
            <p:sp>
              <p:nvSpPr>
                <p:cNvPr id="576" name="TextBox 50"/>
                <p:cNvSpPr/>
                <p:nvPr/>
              </p:nvSpPr>
              <p:spPr>
                <a:xfrm rot="21357600">
                  <a:off x="4926600" y="20962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5,6 cm/ </a:t>
                  </a:r>
                  <a:r>
                    <a:rPr b="0" lang="es-ES" sz="1800" spc="-1" strike="noStrike">
                      <a:solidFill>
                        <a:srgbClr val="ffffff"/>
                      </a:solidFill>
                      <a:latin typeface="Arial"/>
                      <a:ea typeface="ＭＳ Ｐゴシック"/>
                    </a:rPr>
                    <a:t>año</a:t>
                  </a:r>
                  <a:endParaRPr b="0" lang="en-US" sz="1800" spc="-1" strike="noStrike">
                    <a:solidFill>
                      <a:srgbClr val="000000"/>
                    </a:solidFill>
                    <a:latin typeface="Arial"/>
                  </a:endParaRPr>
                </a:p>
              </p:txBody>
            </p:sp>
            <p:cxnSp>
              <p:nvCxnSpPr>
                <p:cNvPr id="577" name="Straight Arrow Connector 56"/>
                <p:cNvCxnSpPr/>
                <p:nvPr/>
              </p:nvCxnSpPr>
              <p:spPr>
                <a:xfrm flipV="1">
                  <a:off x="6133320" y="4633560"/>
                  <a:ext cx="975240" cy="81360"/>
                </a:xfrm>
                <a:prstGeom prst="straightConnector1">
                  <a:avLst/>
                </a:prstGeom>
                <a:ln w="57240">
                  <a:solidFill>
                    <a:srgbClr val="ffffff"/>
                  </a:solidFill>
                  <a:miter/>
                  <a:tailEnd len="med" type="arrow" w="med"/>
                </a:ln>
              </p:spPr>
            </p:cxnSp>
            <p:sp>
              <p:nvSpPr>
                <p:cNvPr id="578" name="TextBox 57"/>
                <p:cNvSpPr/>
                <p:nvPr/>
              </p:nvSpPr>
              <p:spPr>
                <a:xfrm rot="21322200">
                  <a:off x="5894640" y="47566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3 cm/ </a:t>
                  </a:r>
                  <a:r>
                    <a:rPr b="0" lang="es-ES" sz="1800" spc="-1" strike="noStrike">
                      <a:solidFill>
                        <a:srgbClr val="ffffff"/>
                      </a:solidFill>
                      <a:latin typeface="Arial"/>
                      <a:ea typeface="ＭＳ Ｐゴシック"/>
                    </a:rPr>
                    <a:t>año</a:t>
                  </a:r>
                  <a:endParaRPr b="0" lang="en-US" sz="1800" spc="-1" strike="noStrike">
                    <a:solidFill>
                      <a:srgbClr val="000000"/>
                    </a:solidFill>
                    <a:latin typeface="Arial"/>
                  </a:endParaRPr>
                </a:p>
              </p:txBody>
            </p:sp>
            <p:sp>
              <p:nvSpPr>
                <p:cNvPr id="579" name="TextBox 58"/>
                <p:cNvSpPr/>
                <p:nvPr/>
              </p:nvSpPr>
              <p:spPr>
                <a:xfrm rot="21277200">
                  <a:off x="5744520" y="550692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2 cm/ </a:t>
                  </a:r>
                  <a:r>
                    <a:rPr b="0" lang="es-ES" sz="1800" spc="-1" strike="noStrike">
                      <a:solidFill>
                        <a:srgbClr val="ffffff"/>
                      </a:solidFill>
                      <a:latin typeface="Arial"/>
                      <a:ea typeface="ＭＳ Ｐゴシック"/>
                    </a:rPr>
                    <a:t>año </a:t>
                  </a:r>
                  <a:endParaRPr b="0" lang="en-US" sz="1800" spc="-1" strike="noStrike">
                    <a:solidFill>
                      <a:srgbClr val="000000"/>
                    </a:solidFill>
                    <a:latin typeface="Arial"/>
                  </a:endParaRPr>
                </a:p>
              </p:txBody>
            </p:sp>
            <p:cxnSp>
              <p:nvCxnSpPr>
                <p:cNvPr id="580" name="Straight Arrow Connector 59"/>
                <p:cNvCxnSpPr/>
                <p:nvPr/>
              </p:nvCxnSpPr>
              <p:spPr>
                <a:xfrm flipV="1">
                  <a:off x="6006600" y="5368680"/>
                  <a:ext cx="954720" cy="86400"/>
                </a:xfrm>
                <a:prstGeom prst="straightConnector1">
                  <a:avLst/>
                </a:prstGeom>
                <a:ln w="57240">
                  <a:solidFill>
                    <a:srgbClr val="ffffff"/>
                  </a:solidFill>
                  <a:miter/>
                  <a:tailEnd len="med" type="arrow" w="med"/>
                </a:ln>
              </p:spPr>
            </p:cxnSp>
            <p:cxnSp>
              <p:nvCxnSpPr>
                <p:cNvPr id="581" name="Straight Arrow Connector 65"/>
                <p:cNvCxnSpPr/>
                <p:nvPr/>
              </p:nvCxnSpPr>
              <p:spPr>
                <a:xfrm flipV="1">
                  <a:off x="5638320" y="2696760"/>
                  <a:ext cx="862560" cy="73440"/>
                </a:xfrm>
                <a:prstGeom prst="straightConnector1">
                  <a:avLst/>
                </a:prstGeom>
                <a:ln w="57240">
                  <a:solidFill>
                    <a:srgbClr val="ffffff"/>
                  </a:solidFill>
                  <a:miter/>
                  <a:tailEnd len="med" type="arrow" w="med"/>
                </a:ln>
              </p:spPr>
            </p:cxnSp>
            <p:sp>
              <p:nvSpPr>
                <p:cNvPr id="582" name="TextBox 66"/>
                <p:cNvSpPr/>
                <p:nvPr/>
              </p:nvSpPr>
              <p:spPr>
                <a:xfrm rot="21357600">
                  <a:off x="5215320" y="285840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6,0 cm/</a:t>
                  </a:r>
                  <a:r>
                    <a:rPr b="0" lang="es-ES" sz="1800" spc="-1" strike="noStrike">
                      <a:solidFill>
                        <a:srgbClr val="ffffff"/>
                      </a:solidFill>
                      <a:latin typeface="Arial"/>
                      <a:ea typeface="ＭＳ Ｐゴシック"/>
                    </a:rPr>
                    <a:t> año</a:t>
                  </a:r>
                  <a:endParaRPr b="0" lang="en-US" sz="1800" spc="-1" strike="noStrike">
                    <a:solidFill>
                      <a:srgbClr val="000000"/>
                    </a:solidFill>
                    <a:latin typeface="Arial"/>
                  </a:endParaRPr>
                </a:p>
              </p:txBody>
            </p:sp>
          </p:grpSp>
          <p:sp>
            <p:nvSpPr>
              <p:cNvPr id="583" name="TextBox 5"/>
              <p:cNvSpPr/>
              <p:nvPr/>
            </p:nvSpPr>
            <p:spPr>
              <a:xfrm>
                <a:off x="4902120" y="3404880"/>
                <a:ext cx="1329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ea typeface="ＭＳ Ｐゴシック"/>
                  </a:rPr>
                  <a:t>Placa de Nazca</a:t>
                </a:r>
                <a:endParaRPr b="0" lang="en-US" sz="2400" spc="-1" strike="noStrike">
                  <a:solidFill>
                    <a:srgbClr val="000000"/>
                  </a:solidFill>
                  <a:latin typeface="Arial"/>
                </a:endParaRPr>
              </a:p>
            </p:txBody>
          </p:sp>
          <p:sp>
            <p:nvSpPr>
              <p:cNvPr id="584" name="TextBox 22"/>
              <p:cNvSpPr/>
              <p:nvPr/>
            </p:nvSpPr>
            <p:spPr>
              <a:xfrm>
                <a:off x="7162560" y="3318480"/>
                <a:ext cx="190512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Arial"/>
                    <a:ea typeface="ＭＳ Ｐゴシック"/>
                  </a:rPr>
                  <a:t>Placa Sudamericana</a:t>
                </a:r>
                <a:endParaRPr b="0" lang="en-US" sz="1900" spc="-1" strike="noStrike">
                  <a:solidFill>
                    <a:srgbClr val="000000"/>
                  </a:solidFill>
                  <a:latin typeface="Arial"/>
                </a:endParaRPr>
              </a:p>
            </p:txBody>
          </p:sp>
        </p:grpSp>
        <p:sp>
          <p:nvSpPr>
            <p:cNvPr id="585" name="5-Point Star 10"/>
            <p:cNvSpPr/>
            <p:nvPr/>
          </p:nvSpPr>
          <p:spPr>
            <a:xfrm>
              <a:off x="6873840" y="2922480"/>
              <a:ext cx="233280" cy="233280"/>
            </a:xfrm>
            <a:custGeom>
              <a:avLst/>
              <a:gdLst/>
              <a:ahLst/>
              <a:rect l="l" t="t" r="r" b="b"/>
              <a:pathLst>
                <a:path w="247532" h="247528">
                  <a:moveTo>
                    <a:pt x="0" y="94547"/>
                  </a:moveTo>
                  <a:lnTo>
                    <a:pt x="94549" y="94548"/>
                  </a:lnTo>
                  <a:lnTo>
                    <a:pt x="123766" y="0"/>
                  </a:lnTo>
                  <a:lnTo>
                    <a:pt x="152983" y="94548"/>
                  </a:lnTo>
                  <a:lnTo>
                    <a:pt x="247532" y="94547"/>
                  </a:lnTo>
                  <a:lnTo>
                    <a:pt x="171040" y="152980"/>
                  </a:lnTo>
                  <a:lnTo>
                    <a:pt x="200257" y="247527"/>
                  </a:lnTo>
                  <a:lnTo>
                    <a:pt x="123766" y="189093"/>
                  </a:lnTo>
                  <a:lnTo>
                    <a:pt x="47275" y="247527"/>
                  </a:lnTo>
                  <a:lnTo>
                    <a:pt x="76492" y="152980"/>
                  </a:lnTo>
                  <a:lnTo>
                    <a:pt x="0" y="9454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TextBox 3"/>
            <p:cNvSpPr/>
            <p:nvPr/>
          </p:nvSpPr>
          <p:spPr>
            <a:xfrm>
              <a:off x="7147800" y="2866320"/>
              <a:ext cx="904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018 M7,1</a:t>
              </a:r>
              <a:endParaRPr b="0" lang="en-US" sz="1200" spc="-1" strike="noStrike">
                <a:solidFill>
                  <a:srgbClr val="000000"/>
                </a:solidFill>
                <a:latin typeface="Arial"/>
              </a:endParaRPr>
            </a:p>
          </p:txBody>
        </p:sp>
      </p:grpSp>
      <p:sp>
        <p:nvSpPr>
          <p:cNvPr id="5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oup 5"/>
          <p:cNvGrpSpPr/>
          <p:nvPr/>
        </p:nvGrpSpPr>
        <p:grpSpPr>
          <a:xfrm>
            <a:off x="3568680" y="1174680"/>
            <a:ext cx="5322960" cy="4938840"/>
            <a:chOff x="3568680" y="1174680"/>
            <a:chExt cx="5322960" cy="4938840"/>
          </a:xfrm>
        </p:grpSpPr>
        <p:pic>
          <p:nvPicPr>
            <p:cNvPr id="589" name="Picture 1" descr=""/>
            <p:cNvPicPr/>
            <p:nvPr/>
          </p:nvPicPr>
          <p:blipFill>
            <a:blip r:embed="rId1"/>
            <a:srcRect l="2513" t="1473" r="3157" b="1945"/>
            <a:stretch/>
          </p:blipFill>
          <p:spPr>
            <a:xfrm>
              <a:off x="3568680" y="1174680"/>
              <a:ext cx="5322960" cy="4938840"/>
            </a:xfrm>
            <a:prstGeom prst="rect">
              <a:avLst/>
            </a:prstGeom>
            <a:ln w="28440">
              <a:solidFill>
                <a:srgbClr val="7030a0"/>
              </a:solidFill>
              <a:miter/>
            </a:ln>
            <a:effectLst>
              <a:outerShdw dist="38183" dir="2700000" blurRad="0" rotWithShape="0">
                <a:srgbClr val="808080">
                  <a:alpha val="40000"/>
                </a:srgbClr>
              </a:outerShdw>
            </a:effectLst>
          </p:spPr>
        </p:pic>
        <p:sp>
          <p:nvSpPr>
            <p:cNvPr id="590" name="Rectangle 4"/>
            <p:cNvSpPr/>
            <p:nvPr/>
          </p:nvSpPr>
          <p:spPr>
            <a:xfrm>
              <a:off x="3663720" y="3362400"/>
              <a:ext cx="453960" cy="380880"/>
            </a:xfrm>
            <a:prstGeom prst="rect">
              <a:avLst/>
            </a:prstGeom>
            <a:solidFill>
              <a:srgbClr val="27335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TextBox 7"/>
          <p:cNvSpPr/>
          <p:nvPr/>
        </p:nvSpPr>
        <p:spPr>
          <a:xfrm>
            <a:off x="239760" y="1066680"/>
            <a:ext cx="3278160" cy="59313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e mapa muestra los 3.000 terremotos más recientes de magnitud 5 o más a lo largo de la costa oeste del norte de América del Sur. El epicentro de este terremoto está marcado. Los terremotos tienen un código de color por profundidad, como lo muestra la leyenda en la esquina inferior izquierda.</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Un corte transversal de terremotos dentro del rectángulo punteado en el mapa se muestra en la esquina superior derecha. El contorno de la Placa de Nazca se muestra en líneas discontinuas claras en el corte transversal. Las profundidades de los terremotos aumentan de oeste a este a través de la zona de subducción Nazca - América del Sur. Los terremotos de más de 100 km ocurren dentro de la subducción de la Placa de Nazca.</a:t>
            </a:r>
            <a:endParaRPr b="0" lang="en-US" sz="1400" spc="-1" strike="noStrike">
              <a:solidFill>
                <a:srgbClr val="000000"/>
              </a:solidFill>
              <a:latin typeface="Arial"/>
            </a:endParaRPr>
          </a:p>
        </p:txBody>
      </p:sp>
      <p:sp>
        <p:nvSpPr>
          <p:cNvPr id="59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8" descr="IRIS_TMlogo.png"/>
          <p:cNvPicPr/>
          <p:nvPr/>
        </p:nvPicPr>
        <p:blipFill>
          <a:blip r:embed="rId2"/>
          <a:stretch/>
        </p:blipFill>
        <p:spPr>
          <a:xfrm>
            <a:off x="239760" y="76320"/>
            <a:ext cx="903240" cy="927000"/>
          </a:xfrm>
          <a:prstGeom prst="rect">
            <a:avLst/>
          </a:prstGeom>
          <a:ln w="0">
            <a:noFill/>
          </a:ln>
        </p:spPr>
      </p:pic>
      <p:sp>
        <p:nvSpPr>
          <p:cNvPr id="594" name="TextBox 8"/>
          <p:cNvSpPr/>
          <p:nvPr/>
        </p:nvSpPr>
        <p:spPr>
          <a:xfrm>
            <a:off x="3517920" y="6168960"/>
            <a:ext cx="561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Mapa creado </a:t>
            </a:r>
            <a:r>
              <a:rPr b="0" lang="es-VE" sz="1400" spc="-1" strike="noStrike">
                <a:solidFill>
                  <a:srgbClr val="000000"/>
                </a:solidFill>
                <a:latin typeface="Arial"/>
                <a:ea typeface="ＭＳ Ｐゴシック"/>
              </a:rPr>
              <a:t> usando el navegador de terremotos de IRIS </a:t>
            </a:r>
            <a:r>
              <a:rPr b="0" i="1" lang="en-US" sz="1400" spc="-1" strike="noStrike">
                <a:solidFill>
                  <a:srgbClr val="000000"/>
                </a:solidFill>
                <a:latin typeface="Arial"/>
                <a:ea typeface="ＭＳ Ｐゴシック"/>
              </a:rPr>
              <a:t>(IEB).</a:t>
            </a:r>
            <a:endParaRPr b="0" lang="en-US" sz="1400" spc="-1" strike="noStrike">
              <a:solidFill>
                <a:srgbClr val="000000"/>
              </a:solidFill>
              <a:latin typeface="Arial"/>
            </a:endParaRPr>
          </a:p>
        </p:txBody>
      </p:sp>
      <p:pic>
        <p:nvPicPr>
          <p:cNvPr id="595" name="Picture 7" descr="DepthLegend.tiff"/>
          <p:cNvPicPr/>
          <p:nvPr/>
        </p:nvPicPr>
        <p:blipFill>
          <a:blip r:embed="rId3"/>
          <a:srcRect l="7149" t="0" r="8135" b="0"/>
          <a:stretch/>
        </p:blipFill>
        <p:spPr>
          <a:xfrm>
            <a:off x="3743280" y="3962520"/>
            <a:ext cx="344520" cy="1993680"/>
          </a:xfrm>
          <a:prstGeom prst="rect">
            <a:avLst/>
          </a:prstGeom>
          <a:ln w="12600">
            <a:solidFill>
              <a:srgbClr val="660066"/>
            </a:solidFill>
            <a:miter/>
          </a:ln>
        </p:spPr>
      </p:pic>
      <p:cxnSp>
        <p:nvCxnSpPr>
          <p:cNvPr id="596" name="Straight Arrow Connector 17"/>
          <p:cNvCxnSpPr/>
          <p:nvPr/>
        </p:nvCxnSpPr>
        <p:spPr>
          <a:xfrm flipV="1">
            <a:off x="4757760" y="4160880"/>
            <a:ext cx="348480" cy="536760"/>
          </a:xfrm>
          <a:prstGeom prst="straightConnector1">
            <a:avLst/>
          </a:prstGeom>
          <a:ln w="25560">
            <a:solidFill>
              <a:srgbClr val="ff0000"/>
            </a:solidFill>
            <a:miter/>
            <a:tailEnd len="med" type="triangle" w="med"/>
          </a:ln>
        </p:spPr>
      </p:cxnSp>
      <p:sp>
        <p:nvSpPr>
          <p:cNvPr id="597" name="Rectangle 6"/>
          <p:cNvSpPr/>
          <p:nvPr/>
        </p:nvSpPr>
        <p:spPr>
          <a:xfrm rot="19774800">
            <a:off x="4295520" y="3043080"/>
            <a:ext cx="2682720" cy="2057400"/>
          </a:xfrm>
          <a:prstGeom prst="rect">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10"/>
          <p:cNvGrpSpPr/>
          <p:nvPr/>
        </p:nvGrpSpPr>
        <p:grpSpPr>
          <a:xfrm>
            <a:off x="6243480" y="1393920"/>
            <a:ext cx="2592720" cy="1828800"/>
            <a:chOff x="6243480" y="1393920"/>
            <a:chExt cx="2592720" cy="1828800"/>
          </a:xfrm>
        </p:grpSpPr>
        <p:grpSp>
          <p:nvGrpSpPr>
            <p:cNvPr id="599" name="Group 8"/>
            <p:cNvGrpSpPr/>
            <p:nvPr/>
          </p:nvGrpSpPr>
          <p:grpSpPr>
            <a:xfrm>
              <a:off x="6243480" y="1393920"/>
              <a:ext cx="2592720" cy="1828800"/>
              <a:chOff x="6243480" y="1393920"/>
              <a:chExt cx="2592720" cy="1828800"/>
            </a:xfrm>
          </p:grpSpPr>
          <p:pic>
            <p:nvPicPr>
              <p:cNvPr id="600" name="Picture 20" descr=""/>
              <p:cNvPicPr/>
              <p:nvPr/>
            </p:nvPicPr>
            <p:blipFill>
              <a:blip r:embed="rId4"/>
              <a:srcRect l="21872" t="16389" r="13060" b="11136"/>
              <a:stretch/>
            </p:blipFill>
            <p:spPr>
              <a:xfrm>
                <a:off x="6243480" y="1393920"/>
                <a:ext cx="2592720" cy="1828800"/>
              </a:xfrm>
              <a:prstGeom prst="rect">
                <a:avLst/>
              </a:prstGeom>
              <a:ln w="12600">
                <a:solidFill>
                  <a:srgbClr val="ffffff"/>
                </a:solidFill>
                <a:prstDash val="dash"/>
                <a:miter/>
              </a:ln>
            </p:spPr>
          </p:pic>
          <p:pic>
            <p:nvPicPr>
              <p:cNvPr id="601" name="Picture 22" descr=""/>
              <p:cNvPicPr/>
              <p:nvPr/>
            </p:nvPicPr>
            <p:blipFill>
              <a:blip r:embed="rId5"/>
              <a:srcRect l="2943" t="25123" r="91511" b="64882"/>
              <a:stretch/>
            </p:blipFill>
            <p:spPr>
              <a:xfrm>
                <a:off x="6274800" y="1633680"/>
                <a:ext cx="200160" cy="228600"/>
              </a:xfrm>
              <a:prstGeom prst="rect">
                <a:avLst/>
              </a:prstGeom>
              <a:ln w="12600">
                <a:solidFill>
                  <a:srgbClr val="000000"/>
                </a:solidFill>
                <a:miter/>
              </a:ln>
            </p:spPr>
          </p:pic>
        </p:grpSp>
        <p:pic>
          <p:nvPicPr>
            <p:cNvPr id="602" name="Picture 24" descr=""/>
            <p:cNvPicPr/>
            <p:nvPr/>
          </p:nvPicPr>
          <p:blipFill>
            <a:blip r:embed="rId6"/>
            <a:srcRect l="93974" t="25702" r="49" b="65971"/>
            <a:stretch/>
          </p:blipFill>
          <p:spPr>
            <a:xfrm>
              <a:off x="8543520" y="1622520"/>
              <a:ext cx="259200" cy="228600"/>
            </a:xfrm>
            <a:prstGeom prst="rect">
              <a:avLst/>
            </a:prstGeom>
            <a:ln w="12600">
              <a:solidFill>
                <a:srgbClr val="000000"/>
              </a:solidFill>
              <a:miter/>
            </a:ln>
          </p:spPr>
        </p:pic>
      </p:grpSp>
      <p:sp>
        <p:nvSpPr>
          <p:cNvPr id="603" name="Straight Connector 15"/>
          <p:cNvSpPr/>
          <p:nvPr/>
        </p:nvSpPr>
        <p:spPr>
          <a:xfrm>
            <a:off x="7278840" y="2662200"/>
            <a:ext cx="75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Box 16"/>
          <p:cNvSpPr/>
          <p:nvPr/>
        </p:nvSpPr>
        <p:spPr>
          <a:xfrm>
            <a:off x="6783120" y="2548080"/>
            <a:ext cx="557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Arial"/>
                <a:ea typeface="ＭＳ Ｐゴシック"/>
              </a:rPr>
              <a:t>500 km</a:t>
            </a:r>
            <a:endParaRPr b="0" lang="en-US" sz="900" spc="-1" strike="noStrike">
              <a:solidFill>
                <a:srgbClr val="000000"/>
              </a:solidFill>
              <a:latin typeface="Arial"/>
            </a:endParaRPr>
          </a:p>
        </p:txBody>
      </p:sp>
      <p:sp>
        <p:nvSpPr>
          <p:cNvPr id="605" name="Freeform 25"/>
          <p:cNvSpPr/>
          <p:nvPr/>
        </p:nvSpPr>
        <p:spPr>
          <a:xfrm>
            <a:off x="6713640" y="1724040"/>
            <a:ext cx="1982520" cy="1400040"/>
          </a:xfrm>
          <a:custGeom>
            <a:avLst/>
            <a:gdLst/>
            <a:ahLst/>
            <a:rect l="l" t="t" r="r" b="b"/>
            <a:pathLst>
              <a:path w="1982666" h="1248508">
                <a:moveTo>
                  <a:pt x="0" y="4396"/>
                </a:moveTo>
                <a:cubicBezTo>
                  <a:pt x="45427" y="2931"/>
                  <a:pt x="90830" y="0"/>
                  <a:pt x="136281" y="0"/>
                </a:cubicBezTo>
                <a:cubicBezTo>
                  <a:pt x="172945" y="0"/>
                  <a:pt x="209567" y="2565"/>
                  <a:pt x="246185" y="4396"/>
                </a:cubicBezTo>
                <a:cubicBezTo>
                  <a:pt x="278526" y="6013"/>
                  <a:pt x="335839" y="10617"/>
                  <a:pt x="369277" y="13189"/>
                </a:cubicBezTo>
                <a:lnTo>
                  <a:pt x="422031" y="26377"/>
                </a:lnTo>
                <a:cubicBezTo>
                  <a:pt x="427893" y="27842"/>
                  <a:pt x="433884" y="28862"/>
                  <a:pt x="439616" y="30773"/>
                </a:cubicBezTo>
                <a:lnTo>
                  <a:pt x="465993" y="39566"/>
                </a:lnTo>
                <a:cubicBezTo>
                  <a:pt x="470389" y="42497"/>
                  <a:pt x="474325" y="46277"/>
                  <a:pt x="479181" y="48358"/>
                </a:cubicBezTo>
                <a:cubicBezTo>
                  <a:pt x="484735" y="50738"/>
                  <a:pt x="490979" y="51018"/>
                  <a:pt x="496766" y="52754"/>
                </a:cubicBezTo>
                <a:cubicBezTo>
                  <a:pt x="496868" y="52784"/>
                  <a:pt x="529687" y="63728"/>
                  <a:pt x="536331" y="65943"/>
                </a:cubicBezTo>
                <a:lnTo>
                  <a:pt x="562708" y="74735"/>
                </a:lnTo>
                <a:lnTo>
                  <a:pt x="575897" y="79131"/>
                </a:lnTo>
                <a:cubicBezTo>
                  <a:pt x="613687" y="104324"/>
                  <a:pt x="565877" y="74121"/>
                  <a:pt x="602273" y="92320"/>
                </a:cubicBezTo>
                <a:cubicBezTo>
                  <a:pt x="606999" y="94683"/>
                  <a:pt x="610634" y="98966"/>
                  <a:pt x="615462" y="101112"/>
                </a:cubicBezTo>
                <a:cubicBezTo>
                  <a:pt x="623931" y="104876"/>
                  <a:pt x="633047" y="106973"/>
                  <a:pt x="641839" y="109904"/>
                </a:cubicBezTo>
                <a:lnTo>
                  <a:pt x="655027" y="114300"/>
                </a:lnTo>
                <a:cubicBezTo>
                  <a:pt x="657958" y="117231"/>
                  <a:pt x="660113" y="121239"/>
                  <a:pt x="663820" y="123093"/>
                </a:cubicBezTo>
                <a:cubicBezTo>
                  <a:pt x="672109" y="127238"/>
                  <a:pt x="681405" y="128954"/>
                  <a:pt x="690197" y="131885"/>
                </a:cubicBezTo>
                <a:cubicBezTo>
                  <a:pt x="694593" y="133350"/>
                  <a:pt x="699529" y="133711"/>
                  <a:pt x="703385" y="136281"/>
                </a:cubicBezTo>
                <a:cubicBezTo>
                  <a:pt x="741178" y="161476"/>
                  <a:pt x="693361" y="131269"/>
                  <a:pt x="729762" y="149470"/>
                </a:cubicBezTo>
                <a:cubicBezTo>
                  <a:pt x="763843" y="166511"/>
                  <a:pt x="722994" y="151610"/>
                  <a:pt x="756139" y="162658"/>
                </a:cubicBezTo>
                <a:cubicBezTo>
                  <a:pt x="796727" y="189717"/>
                  <a:pt x="746800" y="155187"/>
                  <a:pt x="778120" y="180243"/>
                </a:cubicBezTo>
                <a:cubicBezTo>
                  <a:pt x="782246" y="183543"/>
                  <a:pt x="786912" y="186104"/>
                  <a:pt x="791308" y="189035"/>
                </a:cubicBezTo>
                <a:cubicBezTo>
                  <a:pt x="794239" y="193431"/>
                  <a:pt x="796364" y="198487"/>
                  <a:pt x="800100" y="202223"/>
                </a:cubicBezTo>
                <a:cubicBezTo>
                  <a:pt x="808623" y="210746"/>
                  <a:pt x="815750" y="211836"/>
                  <a:pt x="826477" y="215412"/>
                </a:cubicBezTo>
                <a:cubicBezTo>
                  <a:pt x="829408" y="218343"/>
                  <a:pt x="831563" y="222350"/>
                  <a:pt x="835270" y="224204"/>
                </a:cubicBezTo>
                <a:cubicBezTo>
                  <a:pt x="843560" y="228349"/>
                  <a:pt x="861647" y="232996"/>
                  <a:pt x="861647" y="232996"/>
                </a:cubicBezTo>
                <a:cubicBezTo>
                  <a:pt x="870439" y="238858"/>
                  <a:pt x="880551" y="243109"/>
                  <a:pt x="888023" y="250581"/>
                </a:cubicBezTo>
                <a:cubicBezTo>
                  <a:pt x="908885" y="271443"/>
                  <a:pt x="897744" y="265545"/>
                  <a:pt x="918797" y="272562"/>
                </a:cubicBezTo>
                <a:cubicBezTo>
                  <a:pt x="923193" y="275493"/>
                  <a:pt x="928249" y="277618"/>
                  <a:pt x="931985" y="281354"/>
                </a:cubicBezTo>
                <a:cubicBezTo>
                  <a:pt x="935721" y="285090"/>
                  <a:pt x="937476" y="290417"/>
                  <a:pt x="940777" y="294543"/>
                </a:cubicBezTo>
                <a:cubicBezTo>
                  <a:pt x="945816" y="300841"/>
                  <a:pt x="955669" y="308976"/>
                  <a:pt x="962758" y="312127"/>
                </a:cubicBezTo>
                <a:cubicBezTo>
                  <a:pt x="971227" y="315891"/>
                  <a:pt x="981424" y="315779"/>
                  <a:pt x="989135" y="320920"/>
                </a:cubicBezTo>
                <a:cubicBezTo>
                  <a:pt x="993531" y="323851"/>
                  <a:pt x="998197" y="326412"/>
                  <a:pt x="1002323" y="329712"/>
                </a:cubicBezTo>
                <a:cubicBezTo>
                  <a:pt x="1015952" y="340614"/>
                  <a:pt x="1006266" y="338276"/>
                  <a:pt x="1024304" y="347296"/>
                </a:cubicBezTo>
                <a:cubicBezTo>
                  <a:pt x="1028449" y="349369"/>
                  <a:pt x="1033442" y="349442"/>
                  <a:pt x="1037493" y="351693"/>
                </a:cubicBezTo>
                <a:cubicBezTo>
                  <a:pt x="1046730" y="356825"/>
                  <a:pt x="1053845" y="365935"/>
                  <a:pt x="1063870" y="369277"/>
                </a:cubicBezTo>
                <a:cubicBezTo>
                  <a:pt x="1072662" y="372208"/>
                  <a:pt x="1082536" y="372929"/>
                  <a:pt x="1090247" y="378070"/>
                </a:cubicBezTo>
                <a:cubicBezTo>
                  <a:pt x="1094643" y="381001"/>
                  <a:pt x="1099376" y="383480"/>
                  <a:pt x="1103435" y="386862"/>
                </a:cubicBezTo>
                <a:cubicBezTo>
                  <a:pt x="1108211" y="390842"/>
                  <a:pt x="1111450" y="396602"/>
                  <a:pt x="1116623" y="400050"/>
                </a:cubicBezTo>
                <a:cubicBezTo>
                  <a:pt x="1120479" y="402620"/>
                  <a:pt x="1125416" y="402981"/>
                  <a:pt x="1129812" y="404446"/>
                </a:cubicBezTo>
                <a:cubicBezTo>
                  <a:pt x="1150674" y="425308"/>
                  <a:pt x="1139533" y="419410"/>
                  <a:pt x="1160585" y="426427"/>
                </a:cubicBezTo>
                <a:cubicBezTo>
                  <a:pt x="1177757" y="443601"/>
                  <a:pt x="1159739" y="428203"/>
                  <a:pt x="1182566" y="439616"/>
                </a:cubicBezTo>
                <a:cubicBezTo>
                  <a:pt x="1187292" y="441979"/>
                  <a:pt x="1191628" y="445108"/>
                  <a:pt x="1195754" y="448408"/>
                </a:cubicBezTo>
                <a:cubicBezTo>
                  <a:pt x="1198991" y="450997"/>
                  <a:pt x="1200993" y="455068"/>
                  <a:pt x="1204547" y="457200"/>
                </a:cubicBezTo>
                <a:cubicBezTo>
                  <a:pt x="1208520" y="459584"/>
                  <a:pt x="1213339" y="460131"/>
                  <a:pt x="1217735" y="461596"/>
                </a:cubicBezTo>
                <a:cubicBezTo>
                  <a:pt x="1220666" y="464527"/>
                  <a:pt x="1222973" y="468256"/>
                  <a:pt x="1226527" y="470389"/>
                </a:cubicBezTo>
                <a:cubicBezTo>
                  <a:pt x="1230501" y="472773"/>
                  <a:pt x="1236097" y="471890"/>
                  <a:pt x="1239716" y="474785"/>
                </a:cubicBezTo>
                <a:cubicBezTo>
                  <a:pt x="1243842" y="478085"/>
                  <a:pt x="1245070" y="483962"/>
                  <a:pt x="1248508" y="487973"/>
                </a:cubicBezTo>
                <a:lnTo>
                  <a:pt x="1279281" y="518746"/>
                </a:lnTo>
                <a:lnTo>
                  <a:pt x="1288073" y="527539"/>
                </a:lnTo>
                <a:cubicBezTo>
                  <a:pt x="1291004" y="530470"/>
                  <a:pt x="1294567" y="532882"/>
                  <a:pt x="1296866" y="536331"/>
                </a:cubicBezTo>
                <a:cubicBezTo>
                  <a:pt x="1308589" y="553916"/>
                  <a:pt x="1301262" y="546589"/>
                  <a:pt x="1318847" y="558312"/>
                </a:cubicBezTo>
                <a:cubicBezTo>
                  <a:pt x="1325373" y="568101"/>
                  <a:pt x="1327485" y="573136"/>
                  <a:pt x="1336431" y="580293"/>
                </a:cubicBezTo>
                <a:cubicBezTo>
                  <a:pt x="1340557" y="583594"/>
                  <a:pt x="1345224" y="586154"/>
                  <a:pt x="1349620" y="589085"/>
                </a:cubicBezTo>
                <a:cubicBezTo>
                  <a:pt x="1352551" y="593481"/>
                  <a:pt x="1354974" y="598262"/>
                  <a:pt x="1358412" y="602273"/>
                </a:cubicBezTo>
                <a:cubicBezTo>
                  <a:pt x="1363807" y="608567"/>
                  <a:pt x="1371399" y="612961"/>
                  <a:pt x="1375997" y="619858"/>
                </a:cubicBezTo>
                <a:cubicBezTo>
                  <a:pt x="1378928" y="624254"/>
                  <a:pt x="1381310" y="629070"/>
                  <a:pt x="1384789" y="633046"/>
                </a:cubicBezTo>
                <a:cubicBezTo>
                  <a:pt x="1391612" y="640844"/>
                  <a:pt x="1406770" y="655027"/>
                  <a:pt x="1406770" y="655027"/>
                </a:cubicBezTo>
                <a:cubicBezTo>
                  <a:pt x="1408235" y="659423"/>
                  <a:pt x="1408271" y="664597"/>
                  <a:pt x="1411166" y="668216"/>
                </a:cubicBezTo>
                <a:cubicBezTo>
                  <a:pt x="1414466" y="672342"/>
                  <a:pt x="1420343" y="673570"/>
                  <a:pt x="1424354" y="677008"/>
                </a:cubicBezTo>
                <a:cubicBezTo>
                  <a:pt x="1430648" y="682403"/>
                  <a:pt x="1435042" y="689995"/>
                  <a:pt x="1441939" y="694593"/>
                </a:cubicBezTo>
                <a:cubicBezTo>
                  <a:pt x="1446335" y="697524"/>
                  <a:pt x="1451116" y="699947"/>
                  <a:pt x="1455127" y="703385"/>
                </a:cubicBezTo>
                <a:cubicBezTo>
                  <a:pt x="1481678" y="726143"/>
                  <a:pt x="1461668" y="717289"/>
                  <a:pt x="1485900" y="725366"/>
                </a:cubicBezTo>
                <a:cubicBezTo>
                  <a:pt x="1488831" y="728297"/>
                  <a:pt x="1491456" y="731569"/>
                  <a:pt x="1494693" y="734158"/>
                </a:cubicBezTo>
                <a:cubicBezTo>
                  <a:pt x="1508897" y="745521"/>
                  <a:pt x="1513373" y="742395"/>
                  <a:pt x="1525466" y="760535"/>
                </a:cubicBezTo>
                <a:cubicBezTo>
                  <a:pt x="1528397" y="764931"/>
                  <a:pt x="1530958" y="769597"/>
                  <a:pt x="1534258" y="773723"/>
                </a:cubicBezTo>
                <a:cubicBezTo>
                  <a:pt x="1536847" y="776960"/>
                  <a:pt x="1540563" y="779200"/>
                  <a:pt x="1543050" y="782516"/>
                </a:cubicBezTo>
                <a:cubicBezTo>
                  <a:pt x="1549390" y="790970"/>
                  <a:pt x="1551843" y="803031"/>
                  <a:pt x="1560635" y="808893"/>
                </a:cubicBezTo>
                <a:cubicBezTo>
                  <a:pt x="1580722" y="822284"/>
                  <a:pt x="1570085" y="813948"/>
                  <a:pt x="1591408" y="835270"/>
                </a:cubicBezTo>
                <a:cubicBezTo>
                  <a:pt x="1622744" y="866605"/>
                  <a:pt x="1587178" y="832763"/>
                  <a:pt x="1617785" y="857250"/>
                </a:cubicBezTo>
                <a:cubicBezTo>
                  <a:pt x="1621021" y="859839"/>
                  <a:pt x="1623023" y="863910"/>
                  <a:pt x="1626577" y="866043"/>
                </a:cubicBezTo>
                <a:cubicBezTo>
                  <a:pt x="1630551" y="868427"/>
                  <a:pt x="1635370" y="868974"/>
                  <a:pt x="1639766" y="870439"/>
                </a:cubicBezTo>
                <a:cubicBezTo>
                  <a:pt x="1638301" y="866043"/>
                  <a:pt x="1632093" y="860527"/>
                  <a:pt x="1635370" y="857250"/>
                </a:cubicBezTo>
                <a:cubicBezTo>
                  <a:pt x="1638301" y="854319"/>
                  <a:pt x="1640846" y="863556"/>
                  <a:pt x="1644162" y="866043"/>
                </a:cubicBezTo>
                <a:cubicBezTo>
                  <a:pt x="1652616" y="872383"/>
                  <a:pt x="1663067" y="876155"/>
                  <a:pt x="1670539" y="883627"/>
                </a:cubicBezTo>
                <a:cubicBezTo>
                  <a:pt x="1673470" y="886558"/>
                  <a:pt x="1676015" y="889933"/>
                  <a:pt x="1679331" y="892420"/>
                </a:cubicBezTo>
                <a:cubicBezTo>
                  <a:pt x="1687785" y="898760"/>
                  <a:pt x="1705708" y="910004"/>
                  <a:pt x="1705708" y="910004"/>
                </a:cubicBezTo>
                <a:cubicBezTo>
                  <a:pt x="1708639" y="914400"/>
                  <a:pt x="1711199" y="919067"/>
                  <a:pt x="1714500" y="923193"/>
                </a:cubicBezTo>
                <a:cubicBezTo>
                  <a:pt x="1721657" y="932139"/>
                  <a:pt x="1726692" y="934251"/>
                  <a:pt x="1736481" y="940777"/>
                </a:cubicBezTo>
                <a:cubicBezTo>
                  <a:pt x="1763535" y="981361"/>
                  <a:pt x="1729015" y="931445"/>
                  <a:pt x="1754066" y="962758"/>
                </a:cubicBezTo>
                <a:cubicBezTo>
                  <a:pt x="1757367" y="966883"/>
                  <a:pt x="1759558" y="971820"/>
                  <a:pt x="1762858" y="975946"/>
                </a:cubicBezTo>
                <a:cubicBezTo>
                  <a:pt x="1765447" y="979183"/>
                  <a:pt x="1769061" y="981502"/>
                  <a:pt x="1771650" y="984739"/>
                </a:cubicBezTo>
                <a:cubicBezTo>
                  <a:pt x="1774951" y="988865"/>
                  <a:pt x="1777142" y="993801"/>
                  <a:pt x="1780443" y="997927"/>
                </a:cubicBezTo>
                <a:cubicBezTo>
                  <a:pt x="1783032" y="1001164"/>
                  <a:pt x="1786646" y="1003483"/>
                  <a:pt x="1789235" y="1006720"/>
                </a:cubicBezTo>
                <a:cubicBezTo>
                  <a:pt x="1792535" y="1010846"/>
                  <a:pt x="1794726" y="1015783"/>
                  <a:pt x="1798027" y="1019908"/>
                </a:cubicBezTo>
                <a:cubicBezTo>
                  <a:pt x="1800616" y="1023144"/>
                  <a:pt x="1804231" y="1025463"/>
                  <a:pt x="1806820" y="1028700"/>
                </a:cubicBezTo>
                <a:cubicBezTo>
                  <a:pt x="1810121" y="1032826"/>
                  <a:pt x="1811876" y="1038153"/>
                  <a:pt x="1815612" y="1041889"/>
                </a:cubicBezTo>
                <a:cubicBezTo>
                  <a:pt x="1835501" y="1061779"/>
                  <a:pt x="1825373" y="1036747"/>
                  <a:pt x="1846385" y="1068266"/>
                </a:cubicBezTo>
                <a:cubicBezTo>
                  <a:pt x="1849316" y="1072662"/>
                  <a:pt x="1851876" y="1077329"/>
                  <a:pt x="1855177" y="1081454"/>
                </a:cubicBezTo>
                <a:cubicBezTo>
                  <a:pt x="1857766" y="1084690"/>
                  <a:pt x="1861483" y="1086930"/>
                  <a:pt x="1863970" y="1090246"/>
                </a:cubicBezTo>
                <a:cubicBezTo>
                  <a:pt x="1870310" y="1098700"/>
                  <a:pt x="1875693" y="1107831"/>
                  <a:pt x="1881554" y="1116623"/>
                </a:cubicBezTo>
                <a:lnTo>
                  <a:pt x="1890347" y="1129812"/>
                </a:lnTo>
                <a:cubicBezTo>
                  <a:pt x="1902800" y="1167170"/>
                  <a:pt x="1885432" y="1121621"/>
                  <a:pt x="1903535" y="1151793"/>
                </a:cubicBezTo>
                <a:cubicBezTo>
                  <a:pt x="1918246" y="1176312"/>
                  <a:pt x="1895504" y="1153920"/>
                  <a:pt x="1916723" y="1178170"/>
                </a:cubicBezTo>
                <a:cubicBezTo>
                  <a:pt x="1923546" y="1185968"/>
                  <a:pt x="1931377" y="1192823"/>
                  <a:pt x="1938704" y="1200150"/>
                </a:cubicBezTo>
                <a:lnTo>
                  <a:pt x="1947497" y="1208943"/>
                </a:lnTo>
                <a:cubicBezTo>
                  <a:pt x="1951893" y="1213339"/>
                  <a:pt x="1957237" y="1216958"/>
                  <a:pt x="1960685" y="1222131"/>
                </a:cubicBezTo>
                <a:cubicBezTo>
                  <a:pt x="1963616" y="1226527"/>
                  <a:pt x="1966176" y="1231194"/>
                  <a:pt x="1969477" y="1235320"/>
                </a:cubicBezTo>
                <a:cubicBezTo>
                  <a:pt x="1972066" y="1238557"/>
                  <a:pt x="1975339" y="1241181"/>
                  <a:pt x="1978270" y="1244112"/>
                </a:cubicBezTo>
                <a:lnTo>
                  <a:pt x="1982666" y="1248508"/>
                </a:ln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Freeform 26"/>
          <p:cNvSpPr/>
          <p:nvPr/>
        </p:nvSpPr>
        <p:spPr>
          <a:xfrm>
            <a:off x="6264360" y="2035080"/>
            <a:ext cx="1868400" cy="1098720"/>
          </a:xfrm>
          <a:custGeom>
            <a:avLst/>
            <a:gdLst/>
            <a:ahLst/>
            <a:rect l="l" t="t" r="r" b="b"/>
            <a:pathLst>
              <a:path w="1868366" h="1099039">
                <a:moveTo>
                  <a:pt x="0" y="8793"/>
                </a:moveTo>
                <a:cubicBezTo>
                  <a:pt x="5862" y="10258"/>
                  <a:pt x="11543" y="13189"/>
                  <a:pt x="17585" y="13189"/>
                </a:cubicBezTo>
                <a:cubicBezTo>
                  <a:pt x="22219" y="13189"/>
                  <a:pt x="26278" y="9917"/>
                  <a:pt x="30773" y="8793"/>
                </a:cubicBezTo>
                <a:cubicBezTo>
                  <a:pt x="38022" y="6981"/>
                  <a:pt x="45285" y="4616"/>
                  <a:pt x="52754" y="4396"/>
                </a:cubicBezTo>
                <a:cubicBezTo>
                  <a:pt x="145045" y="1681"/>
                  <a:pt x="237393" y="1465"/>
                  <a:pt x="329712" y="0"/>
                </a:cubicBezTo>
                <a:cubicBezTo>
                  <a:pt x="363416" y="1465"/>
                  <a:pt x="397157" y="2224"/>
                  <a:pt x="430823" y="4396"/>
                </a:cubicBezTo>
                <a:cubicBezTo>
                  <a:pt x="442613" y="5157"/>
                  <a:pt x="454243" y="7556"/>
                  <a:pt x="465993" y="8793"/>
                </a:cubicBezTo>
                <a:cubicBezTo>
                  <a:pt x="536057" y="16169"/>
                  <a:pt x="491033" y="9787"/>
                  <a:pt x="549519" y="17585"/>
                </a:cubicBezTo>
                <a:cubicBezTo>
                  <a:pt x="559790" y="18954"/>
                  <a:pt x="570072" y="20278"/>
                  <a:pt x="580293" y="21981"/>
                </a:cubicBezTo>
                <a:cubicBezTo>
                  <a:pt x="662620" y="35702"/>
                  <a:pt x="533338" y="16110"/>
                  <a:pt x="628650" y="30773"/>
                </a:cubicBezTo>
                <a:cubicBezTo>
                  <a:pt x="638891" y="32349"/>
                  <a:pt x="649262" y="33137"/>
                  <a:pt x="659423" y="35169"/>
                </a:cubicBezTo>
                <a:cubicBezTo>
                  <a:pt x="671272" y="37539"/>
                  <a:pt x="682870" y="41031"/>
                  <a:pt x="694593" y="43962"/>
                </a:cubicBezTo>
                <a:cubicBezTo>
                  <a:pt x="700454" y="45427"/>
                  <a:pt x="706253" y="47173"/>
                  <a:pt x="712177" y="48358"/>
                </a:cubicBezTo>
                <a:cubicBezTo>
                  <a:pt x="726831" y="51289"/>
                  <a:pt x="741962" y="52424"/>
                  <a:pt x="756139" y="57150"/>
                </a:cubicBezTo>
                <a:lnTo>
                  <a:pt x="808893" y="74735"/>
                </a:lnTo>
                <a:cubicBezTo>
                  <a:pt x="813289" y="76200"/>
                  <a:pt x="818225" y="76561"/>
                  <a:pt x="822081" y="79131"/>
                </a:cubicBezTo>
                <a:cubicBezTo>
                  <a:pt x="826477" y="82062"/>
                  <a:pt x="831143" y="84623"/>
                  <a:pt x="835269" y="87923"/>
                </a:cubicBezTo>
                <a:cubicBezTo>
                  <a:pt x="838506" y="90512"/>
                  <a:pt x="840508" y="94583"/>
                  <a:pt x="844062" y="96716"/>
                </a:cubicBezTo>
                <a:cubicBezTo>
                  <a:pt x="848035" y="99100"/>
                  <a:pt x="853105" y="99040"/>
                  <a:pt x="857250" y="101112"/>
                </a:cubicBezTo>
                <a:cubicBezTo>
                  <a:pt x="891338" y="118155"/>
                  <a:pt x="850479" y="103251"/>
                  <a:pt x="883627" y="114300"/>
                </a:cubicBezTo>
                <a:cubicBezTo>
                  <a:pt x="903350" y="134025"/>
                  <a:pt x="879929" y="113224"/>
                  <a:pt x="905608" y="127489"/>
                </a:cubicBezTo>
                <a:cubicBezTo>
                  <a:pt x="914845" y="132621"/>
                  <a:pt x="924513" y="137601"/>
                  <a:pt x="931985" y="145073"/>
                </a:cubicBezTo>
                <a:cubicBezTo>
                  <a:pt x="934916" y="148004"/>
                  <a:pt x="937223" y="151733"/>
                  <a:pt x="940777" y="153866"/>
                </a:cubicBezTo>
                <a:cubicBezTo>
                  <a:pt x="944751" y="156250"/>
                  <a:pt x="949570" y="156797"/>
                  <a:pt x="953966" y="158262"/>
                </a:cubicBezTo>
                <a:cubicBezTo>
                  <a:pt x="987505" y="191801"/>
                  <a:pt x="948529" y="156757"/>
                  <a:pt x="980343" y="175846"/>
                </a:cubicBezTo>
                <a:cubicBezTo>
                  <a:pt x="983897" y="177979"/>
                  <a:pt x="985581" y="182506"/>
                  <a:pt x="989135" y="184639"/>
                </a:cubicBezTo>
                <a:cubicBezTo>
                  <a:pt x="993108" y="187023"/>
                  <a:pt x="998178" y="186963"/>
                  <a:pt x="1002323" y="189035"/>
                </a:cubicBezTo>
                <a:cubicBezTo>
                  <a:pt x="1036411" y="206078"/>
                  <a:pt x="995552" y="191174"/>
                  <a:pt x="1028700" y="202223"/>
                </a:cubicBezTo>
                <a:cubicBezTo>
                  <a:pt x="1033096" y="205154"/>
                  <a:pt x="1037163" y="208653"/>
                  <a:pt x="1041889" y="211016"/>
                </a:cubicBezTo>
                <a:cubicBezTo>
                  <a:pt x="1046034" y="213088"/>
                  <a:pt x="1051026" y="213162"/>
                  <a:pt x="1055077" y="215412"/>
                </a:cubicBezTo>
                <a:cubicBezTo>
                  <a:pt x="1080034" y="229277"/>
                  <a:pt x="1080507" y="232049"/>
                  <a:pt x="1099039" y="250581"/>
                </a:cubicBezTo>
                <a:lnTo>
                  <a:pt x="1099039" y="250581"/>
                </a:lnTo>
                <a:cubicBezTo>
                  <a:pt x="1103435" y="253512"/>
                  <a:pt x="1108216" y="255935"/>
                  <a:pt x="1112227" y="259373"/>
                </a:cubicBezTo>
                <a:lnTo>
                  <a:pt x="1143000" y="290146"/>
                </a:lnTo>
                <a:cubicBezTo>
                  <a:pt x="1151178" y="298324"/>
                  <a:pt x="1153890" y="302185"/>
                  <a:pt x="1164981" y="307731"/>
                </a:cubicBezTo>
                <a:cubicBezTo>
                  <a:pt x="1169126" y="309803"/>
                  <a:pt x="1173773" y="310662"/>
                  <a:pt x="1178169" y="312127"/>
                </a:cubicBezTo>
                <a:cubicBezTo>
                  <a:pt x="1184031" y="317989"/>
                  <a:pt x="1188856" y="325114"/>
                  <a:pt x="1195754" y="329712"/>
                </a:cubicBezTo>
                <a:cubicBezTo>
                  <a:pt x="1200150" y="332643"/>
                  <a:pt x="1204994" y="334994"/>
                  <a:pt x="1208943" y="338504"/>
                </a:cubicBezTo>
                <a:cubicBezTo>
                  <a:pt x="1218236" y="346765"/>
                  <a:pt x="1226527" y="356089"/>
                  <a:pt x="1235319" y="364881"/>
                </a:cubicBezTo>
                <a:lnTo>
                  <a:pt x="1252904" y="382466"/>
                </a:lnTo>
                <a:cubicBezTo>
                  <a:pt x="1257300" y="386862"/>
                  <a:pt x="1260920" y="392205"/>
                  <a:pt x="1266093" y="395654"/>
                </a:cubicBezTo>
                <a:cubicBezTo>
                  <a:pt x="1270489" y="398585"/>
                  <a:pt x="1275270" y="401008"/>
                  <a:pt x="1279281" y="404446"/>
                </a:cubicBezTo>
                <a:cubicBezTo>
                  <a:pt x="1313388" y="433681"/>
                  <a:pt x="1284118" y="410090"/>
                  <a:pt x="1305658" y="435219"/>
                </a:cubicBezTo>
                <a:cubicBezTo>
                  <a:pt x="1311053" y="441513"/>
                  <a:pt x="1318645" y="445906"/>
                  <a:pt x="1323243" y="452804"/>
                </a:cubicBezTo>
                <a:cubicBezTo>
                  <a:pt x="1334966" y="470389"/>
                  <a:pt x="1327639" y="463062"/>
                  <a:pt x="1345223" y="474785"/>
                </a:cubicBezTo>
                <a:cubicBezTo>
                  <a:pt x="1352857" y="497688"/>
                  <a:pt x="1344618" y="479524"/>
                  <a:pt x="1358412" y="496766"/>
                </a:cubicBezTo>
                <a:cubicBezTo>
                  <a:pt x="1361712" y="500892"/>
                  <a:pt x="1363468" y="506218"/>
                  <a:pt x="1367204" y="509954"/>
                </a:cubicBezTo>
                <a:cubicBezTo>
                  <a:pt x="1390057" y="532806"/>
                  <a:pt x="1371781" y="505784"/>
                  <a:pt x="1389185" y="527539"/>
                </a:cubicBezTo>
                <a:cubicBezTo>
                  <a:pt x="1392485" y="531665"/>
                  <a:pt x="1394467" y="536778"/>
                  <a:pt x="1397977" y="540727"/>
                </a:cubicBezTo>
                <a:cubicBezTo>
                  <a:pt x="1406238" y="550020"/>
                  <a:pt x="1415562" y="558312"/>
                  <a:pt x="1424354" y="567104"/>
                </a:cubicBezTo>
                <a:lnTo>
                  <a:pt x="1437543" y="580293"/>
                </a:lnTo>
                <a:cubicBezTo>
                  <a:pt x="1441939" y="584689"/>
                  <a:pt x="1447282" y="588308"/>
                  <a:pt x="1450731" y="593481"/>
                </a:cubicBezTo>
                <a:cubicBezTo>
                  <a:pt x="1453662" y="597877"/>
                  <a:pt x="1456044" y="602693"/>
                  <a:pt x="1459523" y="606669"/>
                </a:cubicBezTo>
                <a:cubicBezTo>
                  <a:pt x="1466346" y="614467"/>
                  <a:pt x="1474177" y="621323"/>
                  <a:pt x="1481504" y="628650"/>
                </a:cubicBezTo>
                <a:cubicBezTo>
                  <a:pt x="1484435" y="631581"/>
                  <a:pt x="1487997" y="633994"/>
                  <a:pt x="1490296" y="637443"/>
                </a:cubicBezTo>
                <a:cubicBezTo>
                  <a:pt x="1496158" y="646235"/>
                  <a:pt x="1500409" y="656347"/>
                  <a:pt x="1507881" y="663819"/>
                </a:cubicBezTo>
                <a:cubicBezTo>
                  <a:pt x="1513743" y="669681"/>
                  <a:pt x="1520868" y="674506"/>
                  <a:pt x="1525466" y="681404"/>
                </a:cubicBezTo>
                <a:cubicBezTo>
                  <a:pt x="1537189" y="698989"/>
                  <a:pt x="1529862" y="691662"/>
                  <a:pt x="1547446" y="703385"/>
                </a:cubicBezTo>
                <a:cubicBezTo>
                  <a:pt x="1550377" y="707781"/>
                  <a:pt x="1552938" y="712447"/>
                  <a:pt x="1556239" y="716573"/>
                </a:cubicBezTo>
                <a:cubicBezTo>
                  <a:pt x="1558828" y="719810"/>
                  <a:pt x="1562899" y="721812"/>
                  <a:pt x="1565031" y="725366"/>
                </a:cubicBezTo>
                <a:cubicBezTo>
                  <a:pt x="1579185" y="748958"/>
                  <a:pt x="1556350" y="729836"/>
                  <a:pt x="1582616" y="747346"/>
                </a:cubicBezTo>
                <a:cubicBezTo>
                  <a:pt x="1588477" y="756138"/>
                  <a:pt x="1592728" y="766251"/>
                  <a:pt x="1600200" y="773723"/>
                </a:cubicBezTo>
                <a:cubicBezTo>
                  <a:pt x="1603131" y="776654"/>
                  <a:pt x="1606506" y="779200"/>
                  <a:pt x="1608993" y="782516"/>
                </a:cubicBezTo>
                <a:cubicBezTo>
                  <a:pt x="1615333" y="790970"/>
                  <a:pt x="1619105" y="801421"/>
                  <a:pt x="1626577" y="808893"/>
                </a:cubicBezTo>
                <a:cubicBezTo>
                  <a:pt x="1630973" y="813289"/>
                  <a:pt x="1635949" y="817174"/>
                  <a:pt x="1639766" y="822081"/>
                </a:cubicBezTo>
                <a:cubicBezTo>
                  <a:pt x="1646254" y="830422"/>
                  <a:pt x="1651488" y="839666"/>
                  <a:pt x="1657350" y="848458"/>
                </a:cubicBezTo>
                <a:cubicBezTo>
                  <a:pt x="1660281" y="852854"/>
                  <a:pt x="1662407" y="857910"/>
                  <a:pt x="1666143" y="861646"/>
                </a:cubicBezTo>
                <a:lnTo>
                  <a:pt x="1674935" y="870439"/>
                </a:lnTo>
                <a:cubicBezTo>
                  <a:pt x="1676400" y="874835"/>
                  <a:pt x="1677259" y="879482"/>
                  <a:pt x="1679331" y="883627"/>
                </a:cubicBezTo>
                <a:cubicBezTo>
                  <a:pt x="1684878" y="894721"/>
                  <a:pt x="1688736" y="897429"/>
                  <a:pt x="1696916" y="905608"/>
                </a:cubicBezTo>
                <a:cubicBezTo>
                  <a:pt x="1704550" y="928509"/>
                  <a:pt x="1696312" y="910348"/>
                  <a:pt x="1710104" y="927589"/>
                </a:cubicBezTo>
                <a:cubicBezTo>
                  <a:pt x="1713404" y="931715"/>
                  <a:pt x="1715458" y="936766"/>
                  <a:pt x="1718896" y="940777"/>
                </a:cubicBezTo>
                <a:cubicBezTo>
                  <a:pt x="1724291" y="947071"/>
                  <a:pt x="1731883" y="951465"/>
                  <a:pt x="1736481" y="958362"/>
                </a:cubicBezTo>
                <a:cubicBezTo>
                  <a:pt x="1739412" y="962758"/>
                  <a:pt x="1741973" y="967424"/>
                  <a:pt x="1745273" y="971550"/>
                </a:cubicBezTo>
                <a:cubicBezTo>
                  <a:pt x="1747862" y="974787"/>
                  <a:pt x="1751579" y="977027"/>
                  <a:pt x="1754066" y="980343"/>
                </a:cubicBezTo>
                <a:cubicBezTo>
                  <a:pt x="1760406" y="988796"/>
                  <a:pt x="1764178" y="999247"/>
                  <a:pt x="1771650" y="1006719"/>
                </a:cubicBezTo>
                <a:cubicBezTo>
                  <a:pt x="1792877" y="1027946"/>
                  <a:pt x="1767058" y="1000977"/>
                  <a:pt x="1789235" y="1028700"/>
                </a:cubicBezTo>
                <a:cubicBezTo>
                  <a:pt x="1800666" y="1042989"/>
                  <a:pt x="1795977" y="1032950"/>
                  <a:pt x="1811216" y="1046285"/>
                </a:cubicBezTo>
                <a:cubicBezTo>
                  <a:pt x="1819014" y="1053108"/>
                  <a:pt x="1825869" y="1060939"/>
                  <a:pt x="1833196" y="1068266"/>
                </a:cubicBezTo>
                <a:cubicBezTo>
                  <a:pt x="1836127" y="1071197"/>
                  <a:pt x="1839690" y="1073609"/>
                  <a:pt x="1841989" y="1077058"/>
                </a:cubicBezTo>
                <a:cubicBezTo>
                  <a:pt x="1844920" y="1081454"/>
                  <a:pt x="1846656" y="1086945"/>
                  <a:pt x="1850781" y="1090246"/>
                </a:cubicBezTo>
                <a:cubicBezTo>
                  <a:pt x="1854399" y="1093141"/>
                  <a:pt x="1859824" y="1092571"/>
                  <a:pt x="1863969" y="1094643"/>
                </a:cubicBezTo>
                <a:cubicBezTo>
                  <a:pt x="1865823" y="1095570"/>
                  <a:pt x="1866900" y="1097574"/>
                  <a:pt x="1868366" y="1099039"/>
                </a:cubicBezTo>
              </a:path>
            </a:pathLst>
          </a:custGeom>
          <a:noFill/>
          <a:ln w="12600">
            <a:solidFill>
              <a:srgbClr val="ffffff"/>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TextBox 27"/>
          <p:cNvSpPr/>
          <p:nvPr/>
        </p:nvSpPr>
        <p:spPr>
          <a:xfrm rot="2735400">
            <a:off x="7218720" y="2392200"/>
            <a:ext cx="1325520" cy="26136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ffffff"/>
                </a:solidFill>
                <a:latin typeface="Arial"/>
                <a:ea typeface="ＭＳ Ｐゴシック"/>
              </a:rPr>
              <a:t>Placa de Nazca</a:t>
            </a:r>
            <a:endParaRPr b="0" lang="en-US" sz="1100" spc="-1" strike="noStrike">
              <a:solidFill>
                <a:srgbClr val="000000"/>
              </a:solidFill>
              <a:latin typeface="Arial"/>
            </a:endParaRPr>
          </a:p>
        </p:txBody>
      </p:sp>
      <p:sp>
        <p:nvSpPr>
          <p:cNvPr id="608" name="TextBox 11"/>
          <p:cNvSpPr/>
          <p:nvPr/>
        </p:nvSpPr>
        <p:spPr>
          <a:xfrm>
            <a:off x="7284240" y="1403280"/>
            <a:ext cx="1358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Arial"/>
                <a:ea typeface="ＭＳ Ｐゴシック"/>
              </a:rPr>
              <a:t>M7,1 Enero 14, 2018</a:t>
            </a:r>
            <a:endParaRPr b="0" lang="en-US" sz="1000" spc="-1" strike="noStrike">
              <a:solidFill>
                <a:srgbClr val="000000"/>
              </a:solidFill>
              <a:latin typeface="Arial"/>
            </a:endParaRPr>
          </a:p>
        </p:txBody>
      </p:sp>
      <p:cxnSp>
        <p:nvCxnSpPr>
          <p:cNvPr id="609" name="Straight Arrow Connector 36"/>
          <p:cNvCxnSpPr/>
          <p:nvPr/>
        </p:nvCxnSpPr>
        <p:spPr>
          <a:xfrm flipH="1">
            <a:off x="7011360" y="1525680"/>
            <a:ext cx="214920" cy="149760"/>
          </a:xfrm>
          <a:prstGeom prst="straightConnector1">
            <a:avLst/>
          </a:prstGeom>
          <a:ln w="25560">
            <a:solidFill>
              <a:srgbClr val="ffffff"/>
            </a:solidFill>
            <a:miter/>
            <a:tailEnd len="med" type="triangle" w="med"/>
          </a:ln>
        </p:spPr>
      </p:cxnSp>
      <p:sp>
        <p:nvSpPr>
          <p:cNvPr id="610" name="TextBox 11"/>
          <p:cNvSpPr/>
          <p:nvPr/>
        </p:nvSpPr>
        <p:spPr>
          <a:xfrm>
            <a:off x="4357800" y="4697280"/>
            <a:ext cx="904680" cy="520200"/>
          </a:xfrm>
          <a:prstGeom prst="rect">
            <a:avLst/>
          </a:prstGeom>
          <a:solidFill>
            <a:srgbClr val="ffffff">
              <a:alpha val="80000"/>
            </a:srgbClr>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7,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Enero 14</a:t>
            </a:r>
            <a:endParaRPr b="0" lang="en-US" sz="1400" spc="-1" strike="noStrike">
              <a:solidFill>
                <a:srgbClr val="000000"/>
              </a:solidFill>
              <a:latin typeface="Arial"/>
            </a:endParaRPr>
          </a:p>
        </p:txBody>
      </p:sp>
      <p:sp>
        <p:nvSpPr>
          <p:cNvPr id="6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Box 7"/>
          <p:cNvSpPr/>
          <p:nvPr/>
        </p:nvSpPr>
        <p:spPr>
          <a:xfrm>
            <a:off x="274680" y="1066680"/>
            <a:ext cx="8675640" cy="1616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ＭＳ Ｐゴシック"/>
              </a:rPr>
              <a:t>Este terremoto de magnitud 7,1 es típico de los terremotos de la zona de subducción en la porción superficial del límite de la Placa de Nazca – Sur América. Los terremotos también ocurren dentro de las porciones poco profundas de ambas placas cerca del límite. Los terremotos de fallas normales a menudo se producen dentro de la parte superior de la Placa de Nazca, ya que se dobla para descender por debajo de América del Sur. Los terremotos a profundidades mayores a 100 km se encuentran dentro de la subducción de la Placa de Nazca.</a:t>
            </a:r>
            <a:endParaRPr b="0" lang="en-US" sz="1500" spc="-1" strike="noStrike">
              <a:solidFill>
                <a:srgbClr val="000000"/>
              </a:solidFill>
              <a:latin typeface="Arial"/>
            </a:endParaRPr>
          </a:p>
        </p:txBody>
      </p:sp>
      <p:sp>
        <p:nvSpPr>
          <p:cNvPr id="61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8" descr="IRIS_TMlogo.png"/>
          <p:cNvPicPr/>
          <p:nvPr/>
        </p:nvPicPr>
        <p:blipFill>
          <a:blip r:embed="rId1"/>
          <a:stretch/>
        </p:blipFill>
        <p:spPr>
          <a:xfrm>
            <a:off x="239760" y="76320"/>
            <a:ext cx="903240" cy="927000"/>
          </a:xfrm>
          <a:prstGeom prst="rect">
            <a:avLst/>
          </a:prstGeom>
          <a:ln w="0">
            <a:noFill/>
          </a:ln>
        </p:spPr>
      </p:pic>
      <p:sp>
        <p:nvSpPr>
          <p:cNvPr id="615" name="TextBox 2"/>
          <p:cNvSpPr/>
          <p:nvPr/>
        </p:nvSpPr>
        <p:spPr>
          <a:xfrm>
            <a:off x="6845400" y="4830840"/>
            <a:ext cx="2104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nimación explorando tectónica de placas y terremotos en la región del límite de placa Nazca- América del Sur</a:t>
            </a:r>
            <a:endParaRPr b="0" lang="en-US" sz="1400" spc="-1" strike="noStrike">
              <a:solidFill>
                <a:srgbClr val="000000"/>
              </a:solidFill>
              <a:latin typeface="Arial"/>
            </a:endParaRPr>
          </a:p>
        </p:txBody>
      </p:sp>
      <p:pic>
        <p:nvPicPr>
          <p:cNvPr id="616" name="PeruChile_140824.mp4" descr=""/>
          <p:cNvPicPr/>
          <p:nvPr/>
        </p:nvPicPr>
        <p:blipFill>
          <a:blip r:embed="rId2"/>
          <a:stretch/>
        </p:blipFill>
        <p:spPr>
          <a:xfrm>
            <a:off x="378000" y="2743200"/>
            <a:ext cx="6400800" cy="3692520"/>
          </a:xfrm>
          <a:prstGeom prst="rect">
            <a:avLst/>
          </a:prstGeom>
          <a:ln w="0">
            <a:noFill/>
          </a:ln>
        </p:spPr>
      </p:pic>
      <p:sp>
        <p:nvSpPr>
          <p:cNvPr id="6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6"/>
                    </p:tgtEl>
                  </p:cond>
                </p:stCondLst>
                <p:childTnLst>
                  <p:par>
                    <p:cTn id="3" nodeType="clickEffect" fill="hold">
                      <p:stCondLst>
                        <p:cond evt="onClick">
                          <p:tgtEl>
                            <p:spTgt spid="6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18" descr="IRIS_TMlogo.png"/>
          <p:cNvPicPr/>
          <p:nvPr/>
        </p:nvPicPr>
        <p:blipFill>
          <a:blip r:embed="rId1"/>
          <a:stretch/>
        </p:blipFill>
        <p:spPr>
          <a:xfrm>
            <a:off x="239760" y="76320"/>
            <a:ext cx="903240" cy="927000"/>
          </a:xfrm>
          <a:prstGeom prst="rect">
            <a:avLst/>
          </a:prstGeom>
          <a:ln w="0">
            <a:noFill/>
          </a:ln>
        </p:spPr>
      </p:pic>
      <p:sp>
        <p:nvSpPr>
          <p:cNvPr id="620" name="TextBox 7"/>
          <p:cNvSpPr/>
          <p:nvPr/>
        </p:nvSpPr>
        <p:spPr>
          <a:xfrm>
            <a:off x="252360" y="106668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mecanismo focal es la forma en que los sismólogos trazan las orientaciones tridimensionales del estrés de un terremoto. Dado que un terremoto se produce como deslizamiento en una falla, genera ondas primarias (P) en cuadrantes de compresión (sombreado) y extensión (blanco). La orientación de estos cuadrantes determinada a partir de ondas sísmicas registradas determina el tipo de falla que produjo el terremoto.</a:t>
            </a:r>
            <a:endParaRPr b="0" lang="en-US" sz="1600" spc="-1" strike="noStrike">
              <a:solidFill>
                <a:srgbClr val="000000"/>
              </a:solidFill>
              <a:latin typeface="Arial"/>
            </a:endParaRPr>
          </a:p>
        </p:txBody>
      </p:sp>
      <p:pic>
        <p:nvPicPr>
          <p:cNvPr id="621" name="Picture 4" descr=""/>
          <p:cNvPicPr/>
          <p:nvPr/>
        </p:nvPicPr>
        <p:blipFill>
          <a:blip r:embed="rId2"/>
          <a:stretch/>
        </p:blipFill>
        <p:spPr>
          <a:xfrm>
            <a:off x="3610080" y="2770200"/>
            <a:ext cx="4379760" cy="1865160"/>
          </a:xfrm>
          <a:prstGeom prst="rect">
            <a:avLst/>
          </a:prstGeom>
          <a:ln w="0">
            <a:noFill/>
          </a:ln>
        </p:spPr>
      </p:pic>
      <p:pic>
        <p:nvPicPr>
          <p:cNvPr id="622" name="Picture 4" descr=""/>
          <p:cNvPicPr/>
          <p:nvPr/>
        </p:nvPicPr>
        <p:blipFill>
          <a:blip r:embed="rId3"/>
          <a:stretch/>
        </p:blipFill>
        <p:spPr>
          <a:xfrm>
            <a:off x="3746520" y="4735440"/>
            <a:ext cx="4167000" cy="506520"/>
          </a:xfrm>
          <a:prstGeom prst="rect">
            <a:avLst/>
          </a:prstGeom>
          <a:ln w="0">
            <a:noFill/>
          </a:ln>
        </p:spPr>
      </p:pic>
      <p:pic>
        <p:nvPicPr>
          <p:cNvPr id="623" name="Picture 2" descr=""/>
          <p:cNvPicPr/>
          <p:nvPr/>
        </p:nvPicPr>
        <p:blipFill>
          <a:blip r:embed="rId4"/>
          <a:stretch/>
        </p:blipFill>
        <p:spPr>
          <a:xfrm>
            <a:off x="388800" y="2517840"/>
            <a:ext cx="2963880" cy="2370240"/>
          </a:xfrm>
          <a:prstGeom prst="rect">
            <a:avLst/>
          </a:prstGeom>
          <a:ln w="0">
            <a:noFill/>
          </a:ln>
        </p:spPr>
      </p:pic>
      <p:sp>
        <p:nvSpPr>
          <p:cNvPr id="6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sp>
        <p:nvSpPr>
          <p:cNvPr id="625" name="TextBox 8"/>
          <p:cNvSpPr/>
          <p:nvPr/>
        </p:nvSpPr>
        <p:spPr>
          <a:xfrm>
            <a:off x="430200" y="5397480"/>
            <a:ext cx="2797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El eje de tensión (T) refleja la dirección mínima del esfuerzo de compresión. El eje de presión (P) refleja la dirección máxima del esfuerzo de compresión.</a:t>
            </a:r>
            <a:endParaRPr b="0" lang="en-US" sz="1400" spc="-1" strike="noStrike">
              <a:solidFill>
                <a:srgbClr val="000000"/>
              </a:solidFill>
              <a:latin typeface="Arial"/>
            </a:endParaRPr>
          </a:p>
        </p:txBody>
      </p:sp>
      <p:sp>
        <p:nvSpPr>
          <p:cNvPr id="626" name="TextBox 11"/>
          <p:cNvSpPr/>
          <p:nvPr/>
        </p:nvSpPr>
        <p:spPr>
          <a:xfrm>
            <a:off x="239760" y="4981680"/>
            <a:ext cx="3119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ＭＳ Ｐゴシック"/>
              </a:rPr>
              <a:t>Fase W Solución Tensor  Momento Sísmico, USGS</a:t>
            </a:r>
            <a:endParaRPr b="0" lang="en-US" sz="1200" spc="-1" strike="noStrike">
              <a:solidFill>
                <a:srgbClr val="000000"/>
              </a:solidFill>
              <a:latin typeface="Arial"/>
            </a:endParaRPr>
          </a:p>
        </p:txBody>
      </p:sp>
      <p:sp>
        <p:nvSpPr>
          <p:cNvPr id="627" name="TextBox 11"/>
          <p:cNvSpPr/>
          <p:nvPr/>
        </p:nvSpPr>
        <p:spPr>
          <a:xfrm>
            <a:off x="4038480" y="5486400"/>
            <a:ext cx="5240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En este caso, el mecanismo focal indica que este terremoto ocurrió como resultado de una falla later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4"/>
          <p:cNvGrpSpPr/>
          <p:nvPr/>
        </p:nvGrpSpPr>
        <p:grpSpPr>
          <a:xfrm>
            <a:off x="865080" y="1371600"/>
            <a:ext cx="7516800" cy="5486400"/>
            <a:chOff x="865080" y="1371600"/>
            <a:chExt cx="7516800" cy="5486400"/>
          </a:xfrm>
        </p:grpSpPr>
        <p:pic>
          <p:nvPicPr>
            <p:cNvPr id="629" name="Picture 1" descr=""/>
            <p:cNvPicPr/>
            <p:nvPr/>
          </p:nvPicPr>
          <p:blipFill>
            <a:blip r:embed="rId1"/>
            <a:stretch/>
          </p:blipFill>
          <p:spPr>
            <a:xfrm>
              <a:off x="865080" y="1371600"/>
              <a:ext cx="7516800" cy="5486400"/>
            </a:xfrm>
            <a:prstGeom prst="rect">
              <a:avLst/>
            </a:prstGeom>
            <a:ln w="0">
              <a:noFill/>
            </a:ln>
          </p:spPr>
        </p:pic>
        <p:sp>
          <p:nvSpPr>
            <p:cNvPr id="630" name="Rectangle 2"/>
            <p:cNvSpPr/>
            <p:nvPr/>
          </p:nvSpPr>
          <p:spPr>
            <a:xfrm>
              <a:off x="6297480" y="5810400"/>
              <a:ext cx="2057400" cy="62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Picture 18" descr="IRIS_TMlogo.png"/>
          <p:cNvPicPr/>
          <p:nvPr/>
        </p:nvPicPr>
        <p:blipFill>
          <a:blip r:embed="rId2"/>
          <a:stretch/>
        </p:blipFill>
        <p:spPr>
          <a:xfrm>
            <a:off x="239760" y="76320"/>
            <a:ext cx="903240" cy="927000"/>
          </a:xfrm>
          <a:prstGeom prst="rect">
            <a:avLst/>
          </a:prstGeom>
          <a:ln w="0">
            <a:noFill/>
          </a:ln>
        </p:spPr>
      </p:pic>
      <p:sp>
        <p:nvSpPr>
          <p:cNvPr id="633" name="TextBox 7"/>
          <p:cNvSpPr/>
          <p:nvPr/>
        </p:nvSpPr>
        <p:spPr>
          <a:xfrm>
            <a:off x="2049480" y="903240"/>
            <a:ext cx="633240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l registro del terremoto en Bend, Oregón (BNOR) es ilustrado en la parte inferior. Bend se encuentra a </a:t>
            </a:r>
            <a:r>
              <a:rPr b="0" lang="en-US" sz="1400" spc="-1" strike="noStrike">
                <a:solidFill>
                  <a:srgbClr val="000000"/>
                </a:solidFill>
                <a:latin typeface="Arial"/>
                <a:ea typeface="ＭＳ Ｐゴシック"/>
              </a:rPr>
              <a:t>8.155</a:t>
            </a:r>
            <a:r>
              <a:rPr b="0" lang="es-ES" sz="1400" spc="-1" strike="noStrike">
                <a:solidFill>
                  <a:srgbClr val="000000"/>
                </a:solidFill>
                <a:latin typeface="Arial"/>
                <a:ea typeface="ＭＳ Ｐゴシック"/>
              </a:rPr>
              <a:t> km (5.068 millas, 97.3°) de la ubicación del terremoto. </a:t>
            </a:r>
            <a:endParaRPr b="0" lang="en-US" sz="1400" spc="-1" strike="noStrike">
              <a:solidFill>
                <a:srgbClr val="000000"/>
              </a:solidFill>
              <a:latin typeface="Arial"/>
            </a:endParaRPr>
          </a:p>
        </p:txBody>
      </p:sp>
      <p:sp>
        <p:nvSpPr>
          <p:cNvPr id="634" name="TextBox 4"/>
          <p:cNvSpPr/>
          <p:nvPr/>
        </p:nvSpPr>
        <p:spPr>
          <a:xfrm>
            <a:off x="2579760" y="16066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635" name="TextBox 11"/>
          <p:cNvSpPr/>
          <p:nvPr/>
        </p:nvSpPr>
        <p:spPr>
          <a:xfrm>
            <a:off x="3812400" y="191772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636" name="TextBox 11"/>
          <p:cNvSpPr/>
          <p:nvPr/>
        </p:nvSpPr>
        <p:spPr>
          <a:xfrm>
            <a:off x="5410080" y="188748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Ondas Superficiales</a:t>
            </a:r>
            <a:endParaRPr b="0" lang="en-US" sz="1800" spc="-1" strike="noStrike">
              <a:solidFill>
                <a:srgbClr val="000000"/>
              </a:solidFill>
              <a:latin typeface="Arial"/>
            </a:endParaRPr>
          </a:p>
        </p:txBody>
      </p:sp>
      <p:sp>
        <p:nvSpPr>
          <p:cNvPr id="6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PERÚ</a:t>
            </a:r>
            <a:br>
              <a:rPr sz="3500"/>
            </a:br>
            <a:r>
              <a:rPr b="1" lang="es-VE" sz="1500" spc="-1" strike="noStrike">
                <a:solidFill>
                  <a:srgbClr val="11488b"/>
                </a:solidFill>
                <a:latin typeface="Arial"/>
                <a:ea typeface="Arial"/>
              </a:rPr>
              <a:t>Domingo, 14 de Enero, 2018 a las 09:18:45 UTC </a:t>
            </a:r>
            <a:endParaRPr b="0" lang="en-US" sz="1500" spc="-1" strike="noStrike">
              <a:solidFill>
                <a:srgbClr val="000000"/>
              </a:solidFill>
              <a:latin typeface="Arial"/>
            </a:endParaRPr>
          </a:p>
        </p:txBody>
      </p:sp>
      <p:sp>
        <p:nvSpPr>
          <p:cNvPr id="638" name="TextBox 4"/>
          <p:cNvSpPr/>
          <p:nvPr/>
        </p:nvSpPr>
        <p:spPr>
          <a:xfrm>
            <a:off x="1676520" y="3290760"/>
            <a:ext cx="701028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ＭＳ Ｐゴシック"/>
              </a:rPr>
              <a:t>Después del terremoto, las ondas P de compresión se tardaron 11 minutos y 30 segundos en recorrer una trayectoria curva a través del manto hasta Bend, Oregón.</a:t>
            </a:r>
            <a:endParaRPr b="0" lang="en-US" sz="1300" spc="-1" strike="noStrike">
              <a:solidFill>
                <a:srgbClr val="000000"/>
              </a:solidFill>
              <a:latin typeface="Arial"/>
            </a:endParaRPr>
          </a:p>
        </p:txBody>
      </p:sp>
      <p:sp>
        <p:nvSpPr>
          <p:cNvPr id="639" name="TextBox 9"/>
          <p:cNvSpPr/>
          <p:nvPr/>
        </p:nvSpPr>
        <p:spPr>
          <a:xfrm>
            <a:off x="1676520" y="4191120"/>
            <a:ext cx="594828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ＭＳ Ｐゴシック"/>
              </a:rPr>
              <a:t>Las ondas S son ondas de corte que siguen el mismo camino a través del manto que las ondas P. Las ondas S se tardaron 20 minutos y 58 segundos en viajar del terremoto a Bend.</a:t>
            </a:r>
            <a:endParaRPr b="0" lang="en-US" sz="1300" spc="-1" strike="noStrike">
              <a:solidFill>
                <a:srgbClr val="000000"/>
              </a:solidFill>
              <a:latin typeface="Arial"/>
            </a:endParaRPr>
          </a:p>
        </p:txBody>
      </p:sp>
      <p:sp>
        <p:nvSpPr>
          <p:cNvPr id="640" name="TextBox 6"/>
          <p:cNvSpPr/>
          <p:nvPr/>
        </p:nvSpPr>
        <p:spPr>
          <a:xfrm>
            <a:off x="1706400" y="5029200"/>
            <a:ext cx="720900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ＭＳ Ｐゴシック"/>
              </a:rPr>
              <a:t>Las ondas de superficie  recorrieron  8.155 km (5.068 millas) a lo largo del perímetro de la Tierra desde el terremoto hasta la estación de registro. Las ondas de superficie comenzaron  llegar a Bend 40 minutos después de que el terremoto ocurriera frente a la costa de Perú.</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1" descr=""/>
          <p:cNvPicPr/>
          <p:nvPr/>
        </p:nvPicPr>
        <p:blipFill>
          <a:blip r:embed="rId1"/>
          <a:stretch/>
        </p:blipFill>
        <p:spPr>
          <a:xfrm>
            <a:off x="6400800" y="5262480"/>
            <a:ext cx="2413080" cy="1281240"/>
          </a:xfrm>
          <a:prstGeom prst="rect">
            <a:avLst/>
          </a:prstGeom>
          <a:ln w="0">
            <a:noFill/>
          </a:ln>
        </p:spPr>
      </p:pic>
      <p:pic>
        <p:nvPicPr>
          <p:cNvPr id="643" name="Picture 1" descr=""/>
          <p:cNvPicPr/>
          <p:nvPr/>
        </p:nvPicPr>
        <p:blipFill>
          <a:blip r:embed="rId2"/>
          <a:stretch/>
        </p:blipFill>
        <p:spPr>
          <a:xfrm>
            <a:off x="709560" y="5337000"/>
            <a:ext cx="1200240" cy="1206720"/>
          </a:xfrm>
          <a:prstGeom prst="rect">
            <a:avLst/>
          </a:prstGeom>
          <a:ln w="0">
            <a:noFill/>
          </a:ln>
        </p:spPr>
      </p:pic>
      <p:sp>
        <p:nvSpPr>
          <p:cNvPr id="644"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45" name="Picture 1" descr=""/>
          <p:cNvPicPr/>
          <p:nvPr/>
        </p:nvPicPr>
        <p:blipFill>
          <a:blip r:embed="rId3"/>
          <a:stretch/>
        </p:blipFill>
        <p:spPr>
          <a:xfrm>
            <a:off x="3672000" y="4971960"/>
            <a:ext cx="1935000" cy="1501920"/>
          </a:xfrm>
          <a:prstGeom prst="rect">
            <a:avLst/>
          </a:prstGeom>
          <a:ln w="0">
            <a:noFill/>
          </a:ln>
        </p:spPr>
      </p:pic>
      <p:sp>
        <p:nvSpPr>
          <p:cNvPr id="646" name="TextBox 9"/>
          <p:cNvSpPr/>
          <p:nvPr/>
        </p:nvSpPr>
        <p:spPr>
          <a:xfrm>
            <a:off x="709560" y="773280"/>
            <a:ext cx="7977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s-VE" sz="1800" spc="-1" strike="noStrike">
                <a:solidFill>
                  <a:srgbClr val="000000"/>
                </a:solidFill>
                <a:latin typeface="Arial"/>
                <a:ea typeface="ＭＳ Ｐゴシック"/>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or favor enviar comentarios a </a:t>
            </a:r>
            <a:r>
              <a:rPr b="0" lang="es-VE" sz="1800" spc="-1" strike="noStrike" u="sng">
                <a:solidFill>
                  <a:srgbClr val="0000ff"/>
                </a:solidFill>
                <a:uFillTx/>
                <a:latin typeface="Arial"/>
                <a:ea typeface="ＭＳ Ｐゴシック"/>
                <a:hlinkClick r:id="rId4"/>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ara recibir notificaciones automáticas de nuevos Momentos de enseñanzas suscribirse en </a:t>
            </a:r>
            <a:r>
              <a:rPr b="0" lang="es-VE" sz="1800" spc="-1" strike="noStrike" u="sng">
                <a:solidFill>
                  <a:srgbClr val="0000ff"/>
                </a:solidFill>
                <a:uFillTx/>
                <a:latin typeface="Arial"/>
                <a:ea typeface="ＭＳ Ｐゴシック"/>
                <a:hlinkClick r:id="rId5"/>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8-01-15T19:24:37Z</dcterms:modified>
  <cp:revision>847</cp:revision>
  <dc:subject/>
  <dc:title>Slide 1</dc:title>
</cp:coreProperties>
</file>