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69C7-3B0D-40C6-AEAB-C67D044E6EB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iris.edu/ieb" TargetMode="External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B433-E1D7-4571-8745-DC1D49407A7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calas de intensidad de movimiento fueron desarrolladas para estandarizar las mediciones y facilitar la comparación de diferentes terremotos. La modificación de la escala de intensidad de  Marcelli es una escala de doce niveles, numeradas del  I al XII. Los números bajos representan los niveles de movimientos imperceptibles, XII representa destrucción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3806-36F4-4493-BB17-FAF4EC0D518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El  mapa localizador del Servicio Geológico de los EE.UU. muestra la población expuesta a diferentes niveles de intensidad modificada Mercalli (MMI).  MMI describe la severidad de un terremoto en términos de sus efectos en estructuras humanas y es una vasta medida de la cantidad de movimientos telúricos en un lugar d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081A-D6ED-437F-AFD0-E271C225137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AF9B-C603-477A-828D-CC880333AC4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393996"/>
                </a:solidFill>
                <a:latin typeface="Calibri"/>
              </a:rPr>
              <a:t>Explorando Sismicida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Navegador de Terremotos Interactivo—Mapa Mundial o visualizador tridimensional </a:t>
            </a:r>
            <a:r>
              <a:rPr b="0" lang="es-VE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ris.edu/ieb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25A5-A73E-4B27-ACDB-9499150CC20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http://www.iris.edu/hq/inclass/animation/solomon__vanuatu_islands_earthquakes__tecton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E3B1-F1E1-4879-835E-CAFB3B75C75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393996"/>
                </a:solidFill>
                <a:latin typeface="Arial"/>
                <a:ea typeface="Arial"/>
              </a:rPr>
              <a:t>Animación relevan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Entendiendo Mecanismos Focales http://www.iris.edu/hq/programs/education_and_outreach/animations/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3574-6539-4FCC-BD4F-F455BD36ED5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393996"/>
                </a:solidFill>
                <a:latin typeface="Arial"/>
                <a:ea typeface="Arial"/>
              </a:rPr>
              <a:t>Animación relevan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¿De donde provienen las curvas tiempo de viaje? </a:t>
            </a: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http://www.iris.edu/hq/programs/education_and_outreach/animations#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62E9-6192-4FEC-8EFC-7ABE3E43FE0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9181-9964-4C20-A2EE-89756413DFB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1F59-9D62-4626-A3B8-DA09FBC6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07F-D9F5-44E2-894B-2569EE65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3BE-FC68-45F1-979A-730B9297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CFD-F8C8-4D32-8127-4DCF79AC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2F4-9928-4F9C-824A-9DF4597F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BBB-2AD9-41E2-A8E5-378C1F49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261-7EA1-4C5E-A219-6AC06BD6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3B13-62BA-4E8B-B34F-17A43E01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31E8-1629-4E08-A539-4BAD2773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1856-CA95-4D55-8E01-4C344649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77E-603A-4E84-AECB-40C6B53C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988-FC6A-4E0B-807D-895C931C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158D-1A06-437B-A632-3B8F0F41A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youtu.be/GUIPv1vUvlc" TargetMode="External"/><Relationship Id="rId3" Type="http://schemas.openxmlformats.org/officeDocument/2006/relationships/video" Target="file:///C:/Users/Tammy/Desktop/SolomonVanuatu_short.mp4" TargetMode="External"/><Relationship Id="rId4" Type="http://schemas.microsoft.com/office/2007/relationships/media" Target="file:///C:/Users/Tammy/Desktop/SolomonVanuatu_short.mp4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9"/>
          <p:cNvSpPr/>
          <p:nvPr/>
        </p:nvSpPr>
        <p:spPr>
          <a:xfrm>
            <a:off x="5813280" y="1185840"/>
            <a:ext cx="3048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n terremoto de magnitud 7,1 ha ocurrido 231,2 km (143,7 mi) ESE de Tadine, Nueva Caledonia a una profundidad de 26,7 km (16,6 mill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hay informes de daños ni amenazas de un tsun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1 NUEVA CALED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Miércoles, 29 de Agosto, 2018 a las 03:51:56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52520" y="1185840"/>
            <a:ext cx="51148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scale.jpg"/>
          <p:cNvPicPr/>
          <p:nvPr/>
        </p:nvPicPr>
        <p:blipFill>
          <a:blip r:embed="rId1"/>
          <a:stretch/>
        </p:blipFill>
        <p:spPr>
          <a:xfrm>
            <a:off x="380880" y="4137120"/>
            <a:ext cx="2127240" cy="23191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5"/>
          <p:cNvSpPr/>
          <p:nvPr/>
        </p:nvSpPr>
        <p:spPr>
          <a:xfrm>
            <a:off x="243000" y="1079640"/>
            <a:ext cx="35179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La modificación de la escala de intensidad de  Marcelli es una escala de doce niveles, numeradas del  I al XII, que indica la severidad de los movimientos telúr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La isla Maré, con una población cercana a los 6.000, experimentó sacudidas ligeras durante el terremo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3"/>
          <a:stretch/>
        </p:blipFill>
        <p:spPr>
          <a:xfrm>
            <a:off x="3638520" y="1219320"/>
            <a:ext cx="5376960" cy="5181480"/>
          </a:xfrm>
          <a:prstGeom prst="rect">
            <a:avLst/>
          </a:prstGeom>
          <a:ln w="0">
            <a:noFill/>
          </a:ln>
        </p:spPr>
      </p:pic>
      <p:sp>
        <p:nvSpPr>
          <p:cNvPr id="58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1 NUEVA CALED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Miércoles, 29 de Agosto, 2018 a las 03:51:56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4191120" y="6413400"/>
            <a:ext cx="4876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300" spc="-1" strike="noStrike">
                <a:solidFill>
                  <a:srgbClr val="000000"/>
                </a:solidFill>
                <a:latin typeface="Arial"/>
              </a:rPr>
              <a:t>USGS Intensidad de Movimiento Estimada del Terremoto M 7,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152280" y="655020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Imagen Cortesía del Servicio Geológico de los EE.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271440" y="368604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000000"/>
                </a:solidFill>
                <a:latin typeface="Arial"/>
              </a:rPr>
              <a:t>Intensidad de Mercalli modific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2576520" y="3527280"/>
            <a:ext cx="153828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Percibi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Temb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c00000"/>
                </a:solidFill>
                <a:latin typeface="Arial"/>
              </a:rPr>
              <a:t>Extre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Arial"/>
              </a:rPr>
              <a:t>Viol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</a:rPr>
              <a:t>Sev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</a:rPr>
              <a:t>Muy 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00"/>
                </a:solidFill>
                <a:latin typeface="Arial"/>
              </a:rPr>
              <a:t>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Mode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Lig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Déb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Imper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18"/>
          <p:cNvSpPr/>
          <p:nvPr/>
        </p:nvSpPr>
        <p:spPr>
          <a:xfrm>
            <a:off x="228600" y="1149480"/>
            <a:ext cx="45147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El mapa USGS PAGER muestra la población expuesta a diferentes niveles de intensidad de Mercalli Modificada (MM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El Servicio Geológico de los EE.UU estima que más de 6.000 personas sintieron temblores débiles como consecuencia de este terremo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726080" y="1284120"/>
            <a:ext cx="4243320" cy="4237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730080" y="3200400"/>
            <a:ext cx="2513160" cy="3616200"/>
          </a:xfrm>
          <a:prstGeom prst="rect">
            <a:avLst/>
          </a:prstGeom>
          <a:ln w="0">
            <a:noFill/>
          </a:ln>
        </p:spPr>
      </p:pic>
      <p:sp>
        <p:nvSpPr>
          <p:cNvPr id="68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1 NUEVA CALED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Miércoles, 29 de Agosto, 2018 a las 03:51:56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3333600" y="5521320"/>
            <a:ext cx="5767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El código de colores de las líneas de contorno marca las regiones de intensidad MMI. La población total expuesta a un valor MMI dado es obtenida sumando la población entre las líneas de contorno. La estimación de la población expuesta a cada intensidad  MMI es mostrada en la tabl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4495680" y="647388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Imagen Cortesía del Servicio Geológico de los EE.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4952880" y="655560"/>
            <a:ext cx="4119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600" spc="-1" strike="noStrike">
                <a:solidFill>
                  <a:srgbClr val="000000"/>
                </a:solidFill>
                <a:latin typeface="Arial"/>
              </a:rPr>
              <a:t>USGS PAG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Población Expuesta a los Movimientos Telúr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39760" y="1035000"/>
            <a:ext cx="854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e mapa regional muestra la complejidad de las principales placas tectónicas y microplacas debido a la convergencia entre las placas de Australia y el Pacífico. La estrella roja indica el epicentro de este terremo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N.Guinea2Tonga copy.jpg"/>
          <p:cNvPicPr/>
          <p:nvPr/>
        </p:nvPicPr>
        <p:blipFill>
          <a:blip r:embed="rId2"/>
          <a:stretch/>
        </p:blipFill>
        <p:spPr>
          <a:xfrm>
            <a:off x="838080" y="1967040"/>
            <a:ext cx="7620120" cy="4859280"/>
          </a:xfrm>
          <a:prstGeom prst="rect">
            <a:avLst/>
          </a:prstGeom>
          <a:ln w="0">
            <a:noFill/>
          </a:ln>
        </p:spPr>
      </p:pic>
      <p:sp>
        <p:nvSpPr>
          <p:cNvPr id="76" name="5-Point Star 1"/>
          <p:cNvSpPr/>
          <p:nvPr/>
        </p:nvSpPr>
        <p:spPr>
          <a:xfrm>
            <a:off x="5524560" y="5502240"/>
            <a:ext cx="304920" cy="30492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lnTo>
                  <a:pt x="0" y="11642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1 NUEVA CALED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Miércoles, 29 de Agosto, 2018 a las 03:51:56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4"/>
          <p:cNvSpPr/>
          <p:nvPr/>
        </p:nvSpPr>
        <p:spPr>
          <a:xfrm>
            <a:off x="282600" y="1214280"/>
            <a:ext cx="295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epicentro de este terremoto está marcado sobre el mapa de sismicidad la cual muestra los 3.000 terremotos regionales mas reci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otro lado de la fosa sur de Nueva Hébridas, las profundidades del terremoto aumentan de oeste a este donde la Placa Australiana se subduce debajo de la Placa del Pacíf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profundidades del terremoto aumentan de este a oeste a través de la Fosa de Tonga, donde la Placa del Pacífico se subduce debajo de la Placa Australi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3591000" y="806400"/>
            <a:ext cx="5210280" cy="4102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8" descr=""/>
          <p:cNvPicPr/>
          <p:nvPr/>
        </p:nvPicPr>
        <p:blipFill>
          <a:blip r:embed="rId3"/>
          <a:srcRect l="2742" t="2984" r="68849" b="20885"/>
          <a:stretch/>
        </p:blipFill>
        <p:spPr>
          <a:xfrm>
            <a:off x="8423280" y="1225440"/>
            <a:ext cx="366840" cy="2075040"/>
          </a:xfrm>
          <a:prstGeom prst="rect">
            <a:avLst/>
          </a:prstGeom>
          <a:ln w="0">
            <a:noFill/>
          </a:ln>
        </p:spPr>
      </p:pic>
      <p:sp>
        <p:nvSpPr>
          <p:cNvPr id="83" name="TextBox 16"/>
          <p:cNvSpPr/>
          <p:nvPr/>
        </p:nvSpPr>
        <p:spPr>
          <a:xfrm>
            <a:off x="7620120" y="36115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Placa del Pac</a:t>
            </a:r>
            <a:r>
              <a:rPr b="0" lang="es-VE" sz="1600" spc="-1" strike="noStrike">
                <a:solidFill>
                  <a:srgbClr val="ffffff"/>
                </a:solidFill>
                <a:latin typeface="Calibri"/>
              </a:rPr>
              <a:t>í</a:t>
            </a: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0"/>
          <p:cNvSpPr/>
          <p:nvPr/>
        </p:nvSpPr>
        <p:spPr>
          <a:xfrm>
            <a:off x="3506760" y="5692680"/>
            <a:ext cx="13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stralianP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6382080" y="4991040"/>
            <a:ext cx="264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300" spc="-1" strike="noStrike">
                <a:solidFill>
                  <a:srgbClr val="000000"/>
                </a:solidFill>
                <a:latin typeface="Arial"/>
              </a:rPr>
              <a:t>Mapas creados con 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300" spc="-1" strike="noStrike">
                <a:solidFill>
                  <a:srgbClr val="000000"/>
                </a:solidFill>
                <a:latin typeface="Arial"/>
              </a:rPr>
              <a:t>Navegador de terremotos de IR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4"/>
          <a:srcRect l="0" t="0" r="1418" b="14391"/>
          <a:stretch/>
        </p:blipFill>
        <p:spPr>
          <a:xfrm>
            <a:off x="8021520" y="785880"/>
            <a:ext cx="801720" cy="264960"/>
          </a:xfrm>
          <a:prstGeom prst="rect">
            <a:avLst/>
          </a:prstGeom>
          <a:ln w="0">
            <a:noFill/>
          </a:ln>
        </p:spPr>
      </p:pic>
      <p:sp>
        <p:nvSpPr>
          <p:cNvPr id="87" name="TextBox 33"/>
          <p:cNvSpPr/>
          <p:nvPr/>
        </p:nvSpPr>
        <p:spPr>
          <a:xfrm>
            <a:off x="4718160" y="1225440"/>
            <a:ext cx="24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th New Hebrides Tre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22"/>
          <p:cNvCxnSpPr/>
          <p:nvPr/>
        </p:nvCxnSpPr>
        <p:spPr>
          <a:xfrm flipH="1">
            <a:off x="4919040" y="1626840"/>
            <a:ext cx="811800" cy="15994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9" name="TextBox 9"/>
          <p:cNvSpPr/>
          <p:nvPr/>
        </p:nvSpPr>
        <p:spPr>
          <a:xfrm rot="1617000">
            <a:off x="4367520" y="49208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3"/>
          <p:cNvSpPr/>
          <p:nvPr/>
        </p:nvSpPr>
        <p:spPr>
          <a:xfrm rot="17459400">
            <a:off x="7268040" y="2804400"/>
            <a:ext cx="14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nga Tre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3567240" y="3495600"/>
            <a:ext cx="126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Placa Australi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718160" y="3224160"/>
            <a:ext cx="396720" cy="308160"/>
          </a:xfrm>
          <a:prstGeom prst="rect">
            <a:avLst/>
          </a:prstGeom>
          <a:noFill/>
          <a:ln w="190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8" descr=""/>
          <p:cNvPicPr/>
          <p:nvPr/>
        </p:nvPicPr>
        <p:blipFill>
          <a:blip r:embed="rId5"/>
          <a:stretch/>
        </p:blipFill>
        <p:spPr>
          <a:xfrm>
            <a:off x="3463920" y="4300560"/>
            <a:ext cx="2978280" cy="2548080"/>
          </a:xfrm>
          <a:prstGeom prst="rect">
            <a:avLst/>
          </a:prstGeom>
          <a:ln w="0">
            <a:noFill/>
          </a:ln>
        </p:spPr>
      </p:pic>
      <p:sp>
        <p:nvSpPr>
          <p:cNvPr id="94" name="Straight Connector 8"/>
          <p:cNvSpPr/>
          <p:nvPr/>
        </p:nvSpPr>
        <p:spPr>
          <a:xfrm flipH="1">
            <a:off x="3483000" y="3224160"/>
            <a:ext cx="1257120" cy="1100160"/>
          </a:xfrm>
          <a:prstGeom prst="line">
            <a:avLst/>
          </a:prstGeom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1"/>
          <p:cNvSpPr/>
          <p:nvPr/>
        </p:nvSpPr>
        <p:spPr>
          <a:xfrm>
            <a:off x="5089680" y="3224160"/>
            <a:ext cx="1352520" cy="1076400"/>
          </a:xfrm>
          <a:prstGeom prst="line">
            <a:avLst/>
          </a:prstGeom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12"/>
          <p:cNvCxnSpPr/>
          <p:nvPr/>
        </p:nvCxnSpPr>
        <p:spPr>
          <a:xfrm flipH="1">
            <a:off x="5009400" y="5241960"/>
            <a:ext cx="337320" cy="311760"/>
          </a:xfrm>
          <a:prstGeom prst="straightConnector1">
            <a:avLst/>
          </a:prstGeom>
          <a:ln w="9360">
            <a:solidFill>
              <a:srgbClr val="eeece1"/>
            </a:solidFill>
            <a:miter/>
            <a:tailEnd len="med" type="triangle" w="med"/>
          </a:ln>
        </p:spPr>
      </p:cxnSp>
      <p:sp>
        <p:nvSpPr>
          <p:cNvPr id="97" name="TextBox 16"/>
          <p:cNvSpPr/>
          <p:nvPr/>
        </p:nvSpPr>
        <p:spPr>
          <a:xfrm>
            <a:off x="5010120" y="4916520"/>
            <a:ext cx="12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ffff"/>
                </a:solidFill>
                <a:latin typeface="Arial"/>
              </a:rPr>
              <a:t>Terremo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1 NUEVA CALED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Miércoles, 29 de Agosto, 2018 a las 03:51:56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257040" y="1219320"/>
            <a:ext cx="3079800" cy="50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sta breve animación es parte de una animación más larga perteneciente a IRIS que analiza la sismicidad y tectónica de esta regió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a animación completa muestra  tres áreas en corte transversal para revelar un cambio d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1) Subducción escarpada a lo largo de la Fosa de las Nuevas Hébrid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2) Movimiento de deslizamiento de lateral a lo largo de las Islas Salomó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3) Zona de subducción poco profunda hacia el oest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252360" y="6019920"/>
            <a:ext cx="830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Animación completa:  </a:t>
            </a:r>
            <a:r>
              <a:rPr b="0" lang="es-VE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youtu.be/GUIPv1vUv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O descarga:  www.iris.edu/hq/inclass/search#type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441600" y="1219320"/>
            <a:ext cx="5464440" cy="4038480"/>
          </a:xfrm>
          <a:prstGeom prst="rect">
            <a:avLst/>
          </a:prstGeom>
          <a:ln w="0">
            <a:noFill/>
          </a:ln>
        </p:spPr>
      </p:pic>
      <p:sp>
        <p:nvSpPr>
          <p:cNvPr id="104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1 NUEVA CALED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Miércoles, 29 de Agosto, 2018 a las 03:51:56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/>
                <p:tgtEl>
                  <p:spTgt spid="103"/>
                </p:tgtEl>
              </p:cMediaNode>
            </p:vide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3986280" y="3755880"/>
            <a:ext cx="3862440" cy="16462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1"/>
          <p:cNvSpPr/>
          <p:nvPr/>
        </p:nvSpPr>
        <p:spPr>
          <a:xfrm>
            <a:off x="304920" y="647712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lución de Tensor de Momento Centroide  Fase W US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44440" y="1066680"/>
            <a:ext cx="836604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ecanismo focal es cómo los sismólogos grafican las orientaciones de estrés en tres dimensiones de un terremoto. Debido a que un terremoto ocurre como deslizamiento en una falla, genera ondas primarias (P) en cuadrantes donde el primer pulso es compresional (sombreado) y cuadrantes donde el primer pulso es extensional (blanco). La orientación de estos cuadrantes determinada a partir de ondas sísmicas registradas identifica el tipo de falla que produjo el terremo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terremoto se produjo como resultado de fallas de empuje en o cerca de la interfaz del límite de placa entre las placas de Australia y el Pacíf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3986280" y="5440320"/>
            <a:ext cx="4051080" cy="50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4"/>
          <a:stretch/>
        </p:blipFill>
        <p:spPr>
          <a:xfrm>
            <a:off x="517680" y="3970440"/>
            <a:ext cx="2857320" cy="2216160"/>
          </a:xfrm>
          <a:prstGeom prst="rect">
            <a:avLst/>
          </a:prstGeom>
          <a:ln w="0">
            <a:noFill/>
          </a:ln>
        </p:spPr>
      </p:pic>
      <p:sp>
        <p:nvSpPr>
          <p:cNvPr id="112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1 NUEVA CALED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Miércoles, 29 de Agosto, 2018 a las 03:51:56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108080" y="1219320"/>
            <a:ext cx="7149960" cy="54864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1654200" y="3124080"/>
            <a:ext cx="661176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Después del terremoto, las ondas de compresión P se tomaron 13minutos y 2 segundos en viajaran una trayectoria curva a través del manto hasta Bend, Oregón.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1865160" y="957240"/>
            <a:ext cx="64868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l registro del terremoto en Bend, Oregón (BNOR) es ilustrado en la parte inferior. Bend se encuentra 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0121 km (6289 millas 91.2°)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de la ubicación del terremoto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1569960" y="5510160"/>
            <a:ext cx="678204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ondas superficiales viajaron los 10121 km (6289 millas) a lo largo del perímetro de la Tierra desde el terremoto hasta la estación de registro. La onda de superficie comenzó a llegar a Bend 45 minutos después del terremoto en Nueva Caledo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1531800" y="4354560"/>
            <a:ext cx="6858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ondas S son ondas de corte que siguen el mismo camino a través del manto que las ondas P. Las ondas S tardaron 24 minutos en viajar desde el terremoto a B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2716200" y="1638360"/>
            <a:ext cx="376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3861720" y="1839960"/>
            <a:ext cx="33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6170760" y="1643040"/>
            <a:ext cx="2152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rface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2392200" y="3776760"/>
            <a:ext cx="51357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P es una onda de compresión que rebotó en la superficie a mitad de camino entre el terremoto y la estación de regis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3183120" y="1655640"/>
            <a:ext cx="48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4541760" y="1824120"/>
            <a:ext cx="48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2716200" y="4830840"/>
            <a:ext cx="6012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 una onda de corte que rebotó en la superficie a mitad de camino entre el terremoto y la estación de regis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1 NUEVA CALED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Miércoles, 29 de Agosto, 2018 a las 03:51:56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6400800" y="5262480"/>
            <a:ext cx="2413080" cy="1281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709560" y="5337000"/>
            <a:ext cx="1200240" cy="12067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"/>
          <p:cNvSpPr/>
          <p:nvPr/>
        </p:nvSpPr>
        <p:spPr>
          <a:xfrm>
            <a:off x="3432240" y="646272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44ab"/>
                </a:solidFill>
                <a:latin typeface="Arial"/>
              </a:rPr>
              <a:t>www.iris.edu/earthqu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3"/>
          <a:stretch/>
        </p:blipFill>
        <p:spPr>
          <a:xfrm>
            <a:off x="3672000" y="4807080"/>
            <a:ext cx="2057400" cy="15951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9"/>
          <p:cNvSpPr/>
          <p:nvPr/>
        </p:nvSpPr>
        <p:spPr>
          <a:xfrm>
            <a:off x="709560" y="773280"/>
            <a:ext cx="785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93996"/>
                </a:solidFill>
                <a:latin typeface="Arial"/>
              </a:rPr>
              <a:t>Momentos de Enseñanzas son un servici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corporated Research Institutions for Seism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ducación &amp; Alcance Públ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La Universidad de Port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or favor enviar comentarios a tkb@iri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ara recibir notificaciones automáticas de nuevos Momentos de enseñanzas suscribirse en www.iris.edu/hq/re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0:07:40Z</dcterms:created>
  <dc:creator>tkb</dc:creator>
  <dc:description/>
  <dc:language>en-US</dc:language>
  <cp:lastModifiedBy>Bravo, Douglas A CIV (US)</cp:lastModifiedBy>
  <dcterms:modified xsi:type="dcterms:W3CDTF">2018-08-30T20:02:28Z</dcterms:modified>
  <cp:revision>767</cp:revision>
  <dc:subject/>
  <dc:title>Slide 1</dc:title>
</cp:coreProperties>
</file>