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0.png" ContentType="image/png"/>
  <Override PartName="/ppt/media/image18.jpeg" ContentType="image/jpeg"/>
  <Override PartName="/ppt/media/image17.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4.jpeg" ContentType="image/jpeg"/>
  <Override PartName="/ppt/media/image2.png" ContentType="image/png"/>
  <Override PartName="/ppt/media/image6.png" ContentType="image/png"/>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0E83B-D9CC-4ECB-A4C2-93E2159B558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iris.edu/hq/programs/education_and_outreach/animations"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8F64-2BE8-4156-AAA4-47A7B44A724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93996"/>
                </a:solidFill>
                <a:latin typeface="Calibri"/>
              </a:rPr>
              <a:t>Animación releva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93996"/>
                </a:solidFill>
                <a:latin typeface="Calibri"/>
              </a:rPr>
              <a:t>Intensidad del terremoto: </a:t>
            </a:r>
            <a:r>
              <a:rPr b="0" lang="es-ES_tradnl" sz="1200" spc="-1" strike="noStrike">
                <a:solidFill>
                  <a:srgbClr val="000000"/>
                </a:solidFill>
                <a:latin typeface="Calibri"/>
              </a:rPr>
              <a:t>https://www.iris.edu/hq/inclass/animation/earthquake_intensity</a:t>
            </a:r>
            <a:endParaRPr b="0" lang="en-US" sz="1200" spc="-1" strike="noStrike">
              <a:solidFill>
                <a:srgbClr val="000000"/>
              </a:solidFill>
              <a:latin typeface="Calibri"/>
            </a:endParaRPr>
          </a:p>
        </p:txBody>
      </p:sp>
      <p:sp>
        <p:nvSpPr>
          <p:cNvPr id="1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CD37B-7666-4AB9-A0FD-C6D664EF83D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mapa localizador del Servicio Geológico de los EE.UU. muestra la población expuesta a diferentes niveles de intensidad modificada Mercalli (MMI).  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CB25A-59EB-4E13-A3C4-1BF67082E2CC}"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Ref .: Kendrick, et al., (2003) El vector Euler Nazca-América del Sur y su tasa de cambio, Revista de Ciencias de la Tierra de América del Sur, v. 16, p. 125-131.</a:t>
            </a:r>
            <a:endParaRPr b="0" lang="en-US" sz="1200" spc="-1" strike="noStrike">
              <a:solidFill>
                <a:srgbClr val="000000"/>
              </a:solidFill>
              <a:latin typeface="Calibri"/>
            </a:endParaRPr>
          </a:p>
        </p:txBody>
      </p:sp>
      <p:sp>
        <p:nvSpPr>
          <p:cNvPr id="1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A8C29-CC2F-4AE7-9699-DA8D1231FFA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393996"/>
                </a:solidFill>
                <a:latin typeface="Calibri"/>
              </a:rPr>
              <a:t>Explorando la Sismicida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000000"/>
                </a:solidFill>
                <a:latin typeface="Calibri"/>
              </a:rPr>
              <a:t>Navegador de Terremotos de IRIS:  http://ds.iris.edu/ieb/</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6E4D-505E-4E1B-91A3-B790D1C3E5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ones Relev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Sur América – Terremotos y Tectónica:  http://www.iris.edu/hq/inclass/animation/peruchile_subduction_zone_earthquakes__tectonics </a:t>
            </a: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ED5B4-2566-4760-9AFA-66DE4F3418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393996"/>
                </a:solidFill>
                <a:latin typeface="Calibri"/>
              </a:rPr>
              <a:t>Animación Relevant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000000"/>
                </a:solidFill>
                <a:latin typeface="Calibri"/>
              </a:rPr>
              <a:t>Entendiendo los Mecanismos Focales http://www.iris.edu/hq/programs/education_and_outreach/animations/25</a:t>
            </a:r>
            <a:endParaRPr b="0" lang="en-US" sz="10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E7DB-EA0A-45E9-B3C5-751B8275D9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De donde provienen las curvas de tiempo de viaje?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366D-FA4A-495F-80F4-FDC1226CD81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4A9F5-D713-42AF-B010-6E34DE77315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F3DF2-9D67-490E-8BA3-17578ACE4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E154C-A976-452E-A94E-05797E289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F3A74-5AF0-45C2-A357-DA42ABC2E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6D7A5-CB7F-471E-84DA-821B8EA93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5E4BB-57D6-42AC-B637-68263A15C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6AC67-8739-4383-8397-861FE7141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72B88-45A9-45B9-92CD-8B2AF837D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A5012-185A-4051-A22F-A6A7C4C47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0C34C-6B35-4F1E-8084-0A813374D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6645B-E4E7-4D71-A6BA-5AC123CCA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B0A4E-EE0C-421D-9B7C-36309E6F1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48426-CD8C-4D86-B736-BB8385C01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1C6A-9628-410F-BEA2-E972A7FCA8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video" Target="file:///C:/Users/Kate/Desktop/PeruChile_140824.mp4" TargetMode="External"/><Relationship Id="rId3" Type="http://schemas.microsoft.com/office/2007/relationships/media" Target="file:///C:/Users/Kate/Desktop/PeruChile_140824.mp4" TargetMode="External"/><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hyperlink" Target="mailto:tkb@iris.edu" TargetMode="External"/><Relationship Id="rId5" Type="http://schemas.openxmlformats.org/officeDocument/2006/relationships/hyperlink" Target="http://www.iris.edu/hq/retm" TargetMode="Externa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28600" y="1085760"/>
            <a:ext cx="3809880" cy="269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Un terremoto de magnitud 7,5 golpeó el viernes cerca de la frontera de Ecuador y Perú, a 115 km al ESE de Palora, Ecuador. La sacudida se sintió tan lejos como la capital ecuatoriana de Quito y la ciudad costera de Guayaquil, Ecuador.</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El terremoto ocurrió a una profundidad de 132,4 km. No hubo informes inmediatos de víctimas o daños.</a:t>
            </a:r>
            <a:r>
              <a:rPr b="0" lang="en-US" sz="1500" spc="-1" strike="noStrike">
                <a:solidFill>
                  <a:srgbClr val="000000"/>
                </a:solidFill>
                <a:latin typeface="Arial"/>
                <a:ea typeface="Arial"/>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5 REGIÓN FRONTERIZA PERU-ECUADOR</a:t>
            </a:r>
            <a:br>
              <a:rPr sz="3500"/>
            </a:br>
            <a:r>
              <a:rPr b="1" lang="es-ES_tradnl" sz="1500" spc="-1" strike="noStrike">
                <a:solidFill>
                  <a:srgbClr val="11488b"/>
                </a:solidFill>
                <a:latin typeface="Arial"/>
                <a:ea typeface="Arial"/>
              </a:rPr>
              <a:t>Viernes, 22 de Febrero, 2019 a las 10:17:22 UTC </a:t>
            </a:r>
            <a:endParaRPr b="0" lang="en-US" sz="1500" spc="-1" strike="noStrike">
              <a:solidFill>
                <a:srgbClr val="000000"/>
              </a:solidFill>
              <a:latin typeface="Arial"/>
            </a:endParaRPr>
          </a:p>
        </p:txBody>
      </p:sp>
      <p:pic>
        <p:nvPicPr>
          <p:cNvPr id="52" name="Picture 5" descr=""/>
          <p:cNvPicPr/>
          <p:nvPr/>
        </p:nvPicPr>
        <p:blipFill>
          <a:blip r:embed="rId2"/>
          <a:stretch/>
        </p:blipFill>
        <p:spPr>
          <a:xfrm>
            <a:off x="4179960" y="1057320"/>
            <a:ext cx="4676760" cy="5648400"/>
          </a:xfrm>
          <a:prstGeom prst="rect">
            <a:avLst/>
          </a:prstGeom>
          <a:ln w="0">
            <a:noFill/>
          </a:ln>
        </p:spPr>
      </p:pic>
      <p:pic>
        <p:nvPicPr>
          <p:cNvPr id="53" name="Picture 8" descr=""/>
          <p:cNvPicPr/>
          <p:nvPr/>
        </p:nvPicPr>
        <p:blipFill>
          <a:blip r:embed="rId3"/>
          <a:stretch/>
        </p:blipFill>
        <p:spPr>
          <a:xfrm>
            <a:off x="293760" y="3733920"/>
            <a:ext cx="4421160" cy="2762280"/>
          </a:xfrm>
          <a:prstGeom prst="rect">
            <a:avLst/>
          </a:prstGeom>
          <a:ln w="0">
            <a:noFill/>
          </a:ln>
        </p:spPr>
      </p:pic>
      <p:sp>
        <p:nvSpPr>
          <p:cNvPr id="54" name="TextBox 15"/>
          <p:cNvSpPr/>
          <p:nvPr/>
        </p:nvSpPr>
        <p:spPr>
          <a:xfrm>
            <a:off x="214200" y="6532560"/>
            <a:ext cx="51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uente Sobre Río Pastaza, Palora, Ecuad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2" descr="scale.jpg"/>
          <p:cNvPicPr/>
          <p:nvPr/>
        </p:nvPicPr>
        <p:blipFill>
          <a:blip r:embed="rId1"/>
          <a:stretch/>
        </p:blipFill>
        <p:spPr>
          <a:xfrm>
            <a:off x="380880" y="3813120"/>
            <a:ext cx="2127240" cy="2319480"/>
          </a:xfrm>
          <a:prstGeom prst="rect">
            <a:avLst/>
          </a:prstGeom>
          <a:ln w="0">
            <a:noFill/>
          </a:ln>
        </p:spPr>
      </p:pic>
      <p:sp>
        <p:nvSpPr>
          <p:cNvPr id="57" name="TextBox 15"/>
          <p:cNvSpPr/>
          <p:nvPr/>
        </p:nvSpPr>
        <p:spPr>
          <a:xfrm>
            <a:off x="293760" y="1139760"/>
            <a:ext cx="3406680" cy="248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modificación de la escala de intensidad de Marcelli es una escala de doce niveles numeradas del  I al XII, que indican la severidad de los movimientos telúric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área más cercana al terremoto experimentó fuertes movimientos telúricos como consecuencia de este terremo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8" name="Picture 8" descr="IRIS_TMlogo.png"/>
          <p:cNvPicPr/>
          <p:nvPr/>
        </p:nvPicPr>
        <p:blipFill>
          <a:blip r:embed="rId2"/>
          <a:stretch/>
        </p:blipFill>
        <p:spPr>
          <a:xfrm>
            <a:off x="239760" y="76320"/>
            <a:ext cx="903240" cy="927000"/>
          </a:xfrm>
          <a:prstGeom prst="rect">
            <a:avLst/>
          </a:prstGeom>
          <a:ln w="0">
            <a:noFill/>
          </a:ln>
        </p:spPr>
      </p:pic>
      <p:pic>
        <p:nvPicPr>
          <p:cNvPr id="59" name="Picture 2" descr=""/>
          <p:cNvPicPr/>
          <p:nvPr/>
        </p:nvPicPr>
        <p:blipFill>
          <a:blip r:embed="rId3"/>
          <a:stretch/>
        </p:blipFill>
        <p:spPr>
          <a:xfrm>
            <a:off x="3632040" y="1177920"/>
            <a:ext cx="5274000" cy="5143680"/>
          </a:xfrm>
          <a:prstGeom prst="rect">
            <a:avLst/>
          </a:prstGeom>
          <a:ln w="0">
            <a:noFill/>
          </a:ln>
        </p:spPr>
      </p:pic>
      <p:sp>
        <p:nvSpPr>
          <p:cNvPr id="6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5 REGIÓN FRONTERIZA PERU-ECUADOR</a:t>
            </a:r>
            <a:br>
              <a:rPr sz="3500"/>
            </a:br>
            <a:r>
              <a:rPr b="1" lang="es-ES_tradnl" sz="1500" spc="-1" strike="noStrike">
                <a:solidFill>
                  <a:srgbClr val="11488b"/>
                </a:solidFill>
                <a:latin typeface="Arial"/>
                <a:ea typeface="Arial"/>
              </a:rPr>
              <a:t>Viernes, 22 de Febrero, 2019 a las 10:17:22 UTC </a:t>
            </a:r>
            <a:endParaRPr b="0" lang="en-US" sz="1500" spc="-1" strike="noStrike">
              <a:solidFill>
                <a:srgbClr val="000000"/>
              </a:solidFill>
              <a:latin typeface="Arial"/>
            </a:endParaRPr>
          </a:p>
        </p:txBody>
      </p:sp>
      <p:sp>
        <p:nvSpPr>
          <p:cNvPr id="61" name="TextBox 15"/>
          <p:cNvSpPr/>
          <p:nvPr/>
        </p:nvSpPr>
        <p:spPr>
          <a:xfrm>
            <a:off x="4224240" y="6276960"/>
            <a:ext cx="4800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a:t>
            </a:r>
            <a:r>
              <a:rPr b="0" i="1" lang="es-ES" sz="1200" spc="-1" strike="noStrike">
                <a:solidFill>
                  <a:srgbClr val="000000"/>
                </a:solidFill>
                <a:latin typeface="Arial"/>
              </a:rPr>
              <a:t> Intensidad de Movimiento Estimada del terremoto M7,5</a:t>
            </a:r>
            <a:endParaRPr b="0" lang="en-US" sz="1200" spc="-1" strike="noStrike">
              <a:solidFill>
                <a:srgbClr val="000000"/>
              </a:solidFill>
              <a:latin typeface="Arial"/>
            </a:endParaRPr>
          </a:p>
        </p:txBody>
      </p:sp>
      <p:sp>
        <p:nvSpPr>
          <p:cNvPr id="62" name="TextBox 14"/>
          <p:cNvSpPr/>
          <p:nvPr/>
        </p:nvSpPr>
        <p:spPr>
          <a:xfrm>
            <a:off x="2500200" y="3605040"/>
            <a:ext cx="1538280" cy="28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Temblor Percibi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63" name="TextBox 16"/>
          <p:cNvSpPr/>
          <p:nvPr/>
        </p:nvSpPr>
        <p:spPr>
          <a:xfrm>
            <a:off x="271440" y="3505320"/>
            <a:ext cx="323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64" name="TextBox 15"/>
          <p:cNvSpPr/>
          <p:nvPr/>
        </p:nvSpPr>
        <p:spPr>
          <a:xfrm>
            <a:off x="152280" y="655020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5"/>
          <p:cNvSpPr/>
          <p:nvPr/>
        </p:nvSpPr>
        <p:spPr>
          <a:xfrm>
            <a:off x="4724280" y="736560"/>
            <a:ext cx="43056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pic>
        <p:nvPicPr>
          <p:cNvPr id="67" name="Picture 8" descr="IRIS_TMlogo.png"/>
          <p:cNvPicPr/>
          <p:nvPr/>
        </p:nvPicPr>
        <p:blipFill>
          <a:blip r:embed="rId1"/>
          <a:stretch/>
        </p:blipFill>
        <p:spPr>
          <a:xfrm>
            <a:off x="239760" y="76320"/>
            <a:ext cx="903240" cy="927000"/>
          </a:xfrm>
          <a:prstGeom prst="rect">
            <a:avLst/>
          </a:prstGeom>
          <a:ln w="0">
            <a:noFill/>
          </a:ln>
        </p:spPr>
      </p:pic>
      <p:sp>
        <p:nvSpPr>
          <p:cNvPr id="68" name="TextBox 18"/>
          <p:cNvSpPr/>
          <p:nvPr/>
        </p:nvSpPr>
        <p:spPr>
          <a:xfrm>
            <a:off x="304920" y="1066680"/>
            <a:ext cx="40384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mapa USGS PAGER muestra la población expuesta a diferentes niveles de intensidad de Mercalli Modificada (MM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Servicio Geológico de los EEUU (USGS) estima que 26.000 personas sintieron fuertes movimientos telúricos como consecuencia de este terremoto</a:t>
            </a:r>
            <a:endParaRPr b="0" lang="en-US" sz="1600" spc="-1" strike="noStrike">
              <a:solidFill>
                <a:srgbClr val="000000"/>
              </a:solidFill>
              <a:latin typeface="Arial"/>
            </a:endParaRPr>
          </a:p>
        </p:txBody>
      </p:sp>
      <p:sp>
        <p:nvSpPr>
          <p:cNvPr id="69" name="TextBox 20"/>
          <p:cNvSpPr/>
          <p:nvPr/>
        </p:nvSpPr>
        <p:spPr>
          <a:xfrm>
            <a:off x="2819520" y="5521320"/>
            <a:ext cx="628164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código de colores de las líneas de contorno marca las regiones de intensidad MMI. La población total expuesta a un valor MMI dado es obtenida sumando la población entre las líneas de contorno. La estimación de la población expuesta a cada intensidad  MMI es mostrada en la tabla.</a:t>
            </a:r>
            <a:endParaRPr b="0" lang="en-US" sz="1400" spc="-1" strike="noStrike">
              <a:solidFill>
                <a:srgbClr val="000000"/>
              </a:solidFill>
              <a:latin typeface="Arial"/>
            </a:endParaRPr>
          </a:p>
        </p:txBody>
      </p:sp>
      <p:pic>
        <p:nvPicPr>
          <p:cNvPr id="70" name="Picture 2" descr=""/>
          <p:cNvPicPr/>
          <p:nvPr/>
        </p:nvPicPr>
        <p:blipFill>
          <a:blip r:embed="rId2"/>
          <a:stretch/>
        </p:blipFill>
        <p:spPr>
          <a:xfrm>
            <a:off x="4724280" y="1279440"/>
            <a:ext cx="4179960" cy="4179960"/>
          </a:xfrm>
          <a:prstGeom prst="rect">
            <a:avLst/>
          </a:prstGeom>
          <a:ln w="0">
            <a:noFill/>
          </a:ln>
        </p:spPr>
      </p:pic>
      <p:pic>
        <p:nvPicPr>
          <p:cNvPr id="71" name="Picture 5" descr=""/>
          <p:cNvPicPr/>
          <p:nvPr/>
        </p:nvPicPr>
        <p:blipFill>
          <a:blip r:embed="rId3"/>
          <a:stretch/>
        </p:blipFill>
        <p:spPr>
          <a:xfrm>
            <a:off x="762120" y="3054240"/>
            <a:ext cx="2290680" cy="3803760"/>
          </a:xfrm>
          <a:prstGeom prst="rect">
            <a:avLst/>
          </a:prstGeom>
          <a:ln w="0">
            <a:noFill/>
          </a:ln>
        </p:spPr>
      </p:pic>
      <p:sp>
        <p:nvSpPr>
          <p:cNvPr id="7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5 REGIÓN FRONTERIZA PERU-ECUADOR</a:t>
            </a:r>
            <a:br>
              <a:rPr sz="3500"/>
            </a:br>
            <a:r>
              <a:rPr b="1" lang="es-ES_tradnl" sz="1500" spc="-1" strike="noStrike">
                <a:solidFill>
                  <a:srgbClr val="11488b"/>
                </a:solidFill>
                <a:latin typeface="Arial"/>
                <a:ea typeface="Arial"/>
              </a:rPr>
              <a:t>Viernes, 22 de Febrero, 2019 a las 10:17:22 UTC </a:t>
            </a:r>
            <a:endParaRPr b="0" lang="en-US" sz="1500" spc="-1" strike="noStrike">
              <a:solidFill>
                <a:srgbClr val="000000"/>
              </a:solidFill>
              <a:latin typeface="Arial"/>
            </a:endParaRPr>
          </a:p>
        </p:txBody>
      </p:sp>
      <p:sp>
        <p:nvSpPr>
          <p:cNvPr id="73" name="TextBox 15"/>
          <p:cNvSpPr/>
          <p:nvPr/>
        </p:nvSpPr>
        <p:spPr>
          <a:xfrm>
            <a:off x="4876920" y="6475320"/>
            <a:ext cx="426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37"/>
          <p:cNvSpPr/>
          <p:nvPr/>
        </p:nvSpPr>
        <p:spPr>
          <a:xfrm>
            <a:off x="246240" y="838080"/>
            <a:ext cx="4524120" cy="588060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placas litosféricas son en realidad carcasas esféricas sobre la superficie de la Tierra, por lo que los movimientos relativos de las placas se describen mejor como rotaciones relativas de las placas. Esto significa que las velocidades de movimiento relativo de la placa cambian con la ubicación en un límite de placa larga, como el límite de la Placa de Nazca - Sudamérica. El mapa de la derecha ilustra cómo la velocidad de convergencia de la Placa de Nazca hacia la Placa de América del Sur oscila entre 5,6 cm / año y 6,3 cm / año.</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s velocidades se han actualizado recientemente utilizando observaciones de Sistema de Posicionamiento Global (GPS) en las islas localizadas sobre la Placa de Nazca y numerosas estaciones de GPS en América del Sur. En la ubicación de este terremoto, la velocidad de convergencia es de aproximadamente 5,6 cm / año.</a:t>
            </a:r>
            <a:endParaRPr b="0" lang="en-US" sz="1400" spc="-1" strike="noStrike">
              <a:solidFill>
                <a:srgbClr val="000000"/>
              </a:solidFill>
              <a:latin typeface="Arial"/>
            </a:endParaRPr>
          </a:p>
        </p:txBody>
      </p:sp>
      <p:sp>
        <p:nvSpPr>
          <p:cNvPr id="75" name="Rectangle 19"/>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8" descr="IRIS_TMlogo.png"/>
          <p:cNvPicPr/>
          <p:nvPr/>
        </p:nvPicPr>
        <p:blipFill>
          <a:blip r:embed="rId1"/>
          <a:stretch/>
        </p:blipFill>
        <p:spPr>
          <a:xfrm>
            <a:off x="239760" y="76320"/>
            <a:ext cx="903240" cy="927000"/>
          </a:xfrm>
          <a:prstGeom prst="rect">
            <a:avLst/>
          </a:prstGeom>
          <a:ln w="0">
            <a:noFill/>
          </a:ln>
        </p:spPr>
      </p:pic>
      <p:sp>
        <p:nvSpPr>
          <p:cNvPr id="7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5 REGIÓN FRONTERIZA PERU-ECUADOR</a:t>
            </a:r>
            <a:br>
              <a:rPr sz="3500"/>
            </a:br>
            <a:r>
              <a:rPr b="1" lang="es-ES_tradnl" sz="1500" spc="-1" strike="noStrike">
                <a:solidFill>
                  <a:srgbClr val="11488b"/>
                </a:solidFill>
                <a:latin typeface="Arial"/>
                <a:ea typeface="Arial"/>
              </a:rPr>
              <a:t>Viernes, 22 de Febrero, 2019 a las 10:17:22 UTC </a:t>
            </a:r>
            <a:endParaRPr b="0" lang="en-US" sz="1500" spc="-1" strike="noStrike">
              <a:solidFill>
                <a:srgbClr val="000000"/>
              </a:solidFill>
              <a:latin typeface="Arial"/>
            </a:endParaRPr>
          </a:p>
        </p:txBody>
      </p:sp>
      <p:grpSp>
        <p:nvGrpSpPr>
          <p:cNvPr id="78" name="Group 3"/>
          <p:cNvGrpSpPr/>
          <p:nvPr/>
        </p:nvGrpSpPr>
        <p:grpSpPr>
          <a:xfrm>
            <a:off x="4770360" y="849240"/>
            <a:ext cx="4165560" cy="5810400"/>
            <a:chOff x="4770360" y="849240"/>
            <a:chExt cx="4165560" cy="5810400"/>
          </a:xfrm>
        </p:grpSpPr>
        <p:grpSp>
          <p:nvGrpSpPr>
            <p:cNvPr id="79" name="Group 1"/>
            <p:cNvGrpSpPr/>
            <p:nvPr/>
          </p:nvGrpSpPr>
          <p:grpSpPr>
            <a:xfrm>
              <a:off x="4770360" y="849240"/>
              <a:ext cx="4165560" cy="5810400"/>
              <a:chOff x="4770360" y="849240"/>
              <a:chExt cx="4165560" cy="5810400"/>
            </a:xfrm>
          </p:grpSpPr>
          <p:grpSp>
            <p:nvGrpSpPr>
              <p:cNvPr id="80" name="Group 2"/>
              <p:cNvGrpSpPr/>
              <p:nvPr/>
            </p:nvGrpSpPr>
            <p:grpSpPr>
              <a:xfrm>
                <a:off x="4783680" y="849240"/>
                <a:ext cx="4097160" cy="5810400"/>
                <a:chOff x="4783680" y="849240"/>
                <a:chExt cx="4097160" cy="5810400"/>
              </a:xfrm>
            </p:grpSpPr>
            <p:pic>
              <p:nvPicPr>
                <p:cNvPr id="81" name="Picture 4" descr="N - S Amer Google.tiff"/>
                <p:cNvPicPr/>
                <p:nvPr/>
              </p:nvPicPr>
              <p:blipFill>
                <a:blip r:embed="rId2"/>
                <a:stretch/>
              </p:blipFill>
              <p:spPr>
                <a:xfrm>
                  <a:off x="4862880" y="849240"/>
                  <a:ext cx="4017960" cy="5810400"/>
                </a:xfrm>
                <a:prstGeom prst="rect">
                  <a:avLst/>
                </a:prstGeom>
                <a:ln w="0">
                  <a:noFill/>
                </a:ln>
              </p:spPr>
            </p:pic>
            <p:cxnSp>
              <p:nvCxnSpPr>
                <p:cNvPr id="82" name="Straight Arrow Connector 36"/>
                <p:cNvCxnSpPr/>
                <p:nvPr/>
              </p:nvCxnSpPr>
              <p:spPr>
                <a:xfrm flipV="1">
                  <a:off x="5217480" y="1926720"/>
                  <a:ext cx="862560" cy="72000"/>
                </a:xfrm>
                <a:prstGeom prst="straightConnector1">
                  <a:avLst/>
                </a:prstGeom>
                <a:ln w="57240">
                  <a:solidFill>
                    <a:srgbClr val="ffffff"/>
                  </a:solidFill>
                  <a:miter/>
                  <a:tailEnd len="med" type="arrow" w="med"/>
                </a:ln>
              </p:spPr>
            </p:cxnSp>
            <p:sp>
              <p:nvSpPr>
                <p:cNvPr id="83" name="TextBox 33"/>
                <p:cNvSpPr/>
                <p:nvPr/>
              </p:nvSpPr>
              <p:spPr>
                <a:xfrm rot="21277200">
                  <a:off x="5786280" y="322992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2 cm/ </a:t>
                  </a:r>
                  <a:r>
                    <a:rPr b="0" lang="es-ES" sz="1800" spc="-1" strike="noStrike">
                      <a:solidFill>
                        <a:srgbClr val="ffffff"/>
                      </a:solidFill>
                      <a:latin typeface="Arial"/>
                    </a:rPr>
                    <a:t>año</a:t>
                  </a:r>
                  <a:endParaRPr b="0" lang="en-US" sz="1800" spc="-1" strike="noStrike">
                    <a:solidFill>
                      <a:srgbClr val="000000"/>
                    </a:solidFill>
                    <a:latin typeface="Arial"/>
                  </a:endParaRPr>
                </a:p>
              </p:txBody>
            </p:sp>
            <p:cxnSp>
              <p:nvCxnSpPr>
                <p:cNvPr id="84" name="Straight Arrow Connector 38"/>
                <p:cNvCxnSpPr/>
                <p:nvPr/>
              </p:nvCxnSpPr>
              <p:spPr>
                <a:xfrm flipV="1">
                  <a:off x="6085800" y="3810960"/>
                  <a:ext cx="973800" cy="83160"/>
                </a:xfrm>
                <a:prstGeom prst="straightConnector1">
                  <a:avLst/>
                </a:prstGeom>
                <a:ln w="57240">
                  <a:solidFill>
                    <a:srgbClr val="ffffff"/>
                  </a:solidFill>
                  <a:miter/>
                  <a:tailEnd len="med" type="arrow" w="med"/>
                </a:ln>
              </p:spPr>
            </p:cxnSp>
            <p:cxnSp>
              <p:nvCxnSpPr>
                <p:cNvPr id="85" name="Straight Arrow Connector 39"/>
                <p:cNvCxnSpPr/>
                <p:nvPr/>
              </p:nvCxnSpPr>
              <p:spPr>
                <a:xfrm flipV="1">
                  <a:off x="5898600" y="3131640"/>
                  <a:ext cx="954720" cy="86400"/>
                </a:xfrm>
                <a:prstGeom prst="straightConnector1">
                  <a:avLst/>
                </a:prstGeom>
                <a:ln w="57240">
                  <a:solidFill>
                    <a:srgbClr val="ffffff"/>
                  </a:solidFill>
                  <a:miter/>
                  <a:tailEnd len="med" type="arrow" w="med"/>
                </a:ln>
              </p:spPr>
            </p:cxnSp>
            <p:sp>
              <p:nvSpPr>
                <p:cNvPr id="86" name="TextBox 34"/>
                <p:cNvSpPr/>
                <p:nvPr/>
              </p:nvSpPr>
              <p:spPr>
                <a:xfrm rot="21322200">
                  <a:off x="5846040" y="392472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3 cm/ </a:t>
                  </a:r>
                  <a:r>
                    <a:rPr b="0" lang="es-ES" sz="1800" spc="-1" strike="noStrike">
                      <a:solidFill>
                        <a:srgbClr val="ffffff"/>
                      </a:solidFill>
                      <a:latin typeface="Arial"/>
                    </a:rPr>
                    <a:t>año</a:t>
                  </a:r>
                  <a:endParaRPr b="0" lang="en-US" sz="1800" spc="-1" strike="noStrike">
                    <a:solidFill>
                      <a:srgbClr val="000000"/>
                    </a:solidFill>
                    <a:latin typeface="Arial"/>
                  </a:endParaRPr>
                </a:p>
              </p:txBody>
            </p:sp>
            <p:sp>
              <p:nvSpPr>
                <p:cNvPr id="87" name="TextBox 50"/>
                <p:cNvSpPr/>
                <p:nvPr/>
              </p:nvSpPr>
              <p:spPr>
                <a:xfrm rot="21357600">
                  <a:off x="4794840" y="202644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6 cm/ </a:t>
                  </a:r>
                  <a:r>
                    <a:rPr b="0" lang="es-ES" sz="1800" spc="-1" strike="noStrike">
                      <a:solidFill>
                        <a:srgbClr val="ffffff"/>
                      </a:solidFill>
                      <a:latin typeface="Arial"/>
                    </a:rPr>
                    <a:t>año</a:t>
                  </a:r>
                  <a:endParaRPr b="0" lang="en-US" sz="1800" spc="-1" strike="noStrike">
                    <a:solidFill>
                      <a:srgbClr val="000000"/>
                    </a:solidFill>
                    <a:latin typeface="Arial"/>
                  </a:endParaRPr>
                </a:p>
              </p:txBody>
            </p:sp>
            <p:cxnSp>
              <p:nvCxnSpPr>
                <p:cNvPr id="88" name="Straight Arrow Connector 42"/>
                <p:cNvCxnSpPr/>
                <p:nvPr/>
              </p:nvCxnSpPr>
              <p:spPr>
                <a:xfrm flipV="1">
                  <a:off x="6001560" y="4563720"/>
                  <a:ext cx="975240" cy="81360"/>
                </a:xfrm>
                <a:prstGeom prst="straightConnector1">
                  <a:avLst/>
                </a:prstGeom>
                <a:ln w="57240">
                  <a:solidFill>
                    <a:srgbClr val="ffffff"/>
                  </a:solidFill>
                  <a:miter/>
                  <a:tailEnd len="med" type="arrow" w="med"/>
                </a:ln>
              </p:spPr>
            </p:cxnSp>
            <p:sp>
              <p:nvSpPr>
                <p:cNvPr id="89" name="TextBox 57"/>
                <p:cNvSpPr/>
                <p:nvPr/>
              </p:nvSpPr>
              <p:spPr>
                <a:xfrm rot="21322200">
                  <a:off x="5762880" y="468684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3 cm/ </a:t>
                  </a:r>
                  <a:r>
                    <a:rPr b="0" lang="es-ES" sz="1800" spc="-1" strike="noStrike">
                      <a:solidFill>
                        <a:srgbClr val="ffffff"/>
                      </a:solidFill>
                      <a:latin typeface="Arial"/>
                    </a:rPr>
                    <a:t>año</a:t>
                  </a:r>
                  <a:endParaRPr b="0" lang="en-US" sz="1800" spc="-1" strike="noStrike">
                    <a:solidFill>
                      <a:srgbClr val="000000"/>
                    </a:solidFill>
                    <a:latin typeface="Arial"/>
                  </a:endParaRPr>
                </a:p>
              </p:txBody>
            </p:sp>
            <p:sp>
              <p:nvSpPr>
                <p:cNvPr id="90" name="TextBox 58"/>
                <p:cNvSpPr/>
                <p:nvPr/>
              </p:nvSpPr>
              <p:spPr>
                <a:xfrm rot="21277200">
                  <a:off x="5612760" y="543708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2 cm/ </a:t>
                  </a:r>
                  <a:r>
                    <a:rPr b="0" lang="es-ES" sz="1800" spc="-1" strike="noStrike">
                      <a:solidFill>
                        <a:srgbClr val="ffffff"/>
                      </a:solidFill>
                      <a:latin typeface="Arial"/>
                    </a:rPr>
                    <a:t>año </a:t>
                  </a:r>
                  <a:endParaRPr b="0" lang="en-US" sz="1800" spc="-1" strike="noStrike">
                    <a:solidFill>
                      <a:srgbClr val="000000"/>
                    </a:solidFill>
                    <a:latin typeface="Arial"/>
                  </a:endParaRPr>
                </a:p>
              </p:txBody>
            </p:sp>
            <p:cxnSp>
              <p:nvCxnSpPr>
                <p:cNvPr id="91" name="Straight Arrow Connector 45"/>
                <p:cNvCxnSpPr/>
                <p:nvPr/>
              </p:nvCxnSpPr>
              <p:spPr>
                <a:xfrm flipV="1">
                  <a:off x="5874840" y="5298840"/>
                  <a:ext cx="954720" cy="86400"/>
                </a:xfrm>
                <a:prstGeom prst="straightConnector1">
                  <a:avLst/>
                </a:prstGeom>
                <a:ln w="57240">
                  <a:solidFill>
                    <a:srgbClr val="ffffff"/>
                  </a:solidFill>
                  <a:miter/>
                  <a:tailEnd len="med" type="arrow" w="med"/>
                </a:ln>
              </p:spPr>
            </p:cxnSp>
            <p:cxnSp>
              <p:nvCxnSpPr>
                <p:cNvPr id="92" name="Straight Arrow Connector 46"/>
                <p:cNvCxnSpPr/>
                <p:nvPr/>
              </p:nvCxnSpPr>
              <p:spPr>
                <a:xfrm flipV="1">
                  <a:off x="5506560" y="2626920"/>
                  <a:ext cx="862560" cy="73440"/>
                </a:xfrm>
                <a:prstGeom prst="straightConnector1">
                  <a:avLst/>
                </a:prstGeom>
                <a:ln w="57240">
                  <a:solidFill>
                    <a:srgbClr val="ffffff"/>
                  </a:solidFill>
                  <a:miter/>
                  <a:tailEnd len="med" type="arrow" w="med"/>
                </a:ln>
              </p:spPr>
            </p:cxnSp>
            <p:sp>
              <p:nvSpPr>
                <p:cNvPr id="93" name="TextBox 66"/>
                <p:cNvSpPr/>
                <p:nvPr/>
              </p:nvSpPr>
              <p:spPr>
                <a:xfrm rot="21357600">
                  <a:off x="5083560" y="278856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 cm/</a:t>
                  </a:r>
                  <a:r>
                    <a:rPr b="0" lang="es-ES" sz="1800" spc="-1" strike="noStrike">
                      <a:solidFill>
                        <a:srgbClr val="ffffff"/>
                      </a:solidFill>
                      <a:latin typeface="Arial"/>
                    </a:rPr>
                    <a:t> año</a:t>
                  </a:r>
                  <a:endParaRPr b="0" lang="en-US" sz="1800" spc="-1" strike="noStrike">
                    <a:solidFill>
                      <a:srgbClr val="000000"/>
                    </a:solidFill>
                    <a:latin typeface="Arial"/>
                  </a:endParaRPr>
                </a:p>
              </p:txBody>
            </p:sp>
          </p:grpSp>
          <p:sp>
            <p:nvSpPr>
              <p:cNvPr id="94" name="TextBox 5"/>
              <p:cNvSpPr/>
              <p:nvPr/>
            </p:nvSpPr>
            <p:spPr>
              <a:xfrm>
                <a:off x="4770360" y="3335040"/>
                <a:ext cx="1329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Arial"/>
                  </a:rPr>
                  <a:t>Placa de Nazca</a:t>
                </a:r>
                <a:endParaRPr b="0" lang="en-US" sz="2400" spc="-1" strike="noStrike">
                  <a:solidFill>
                    <a:srgbClr val="000000"/>
                  </a:solidFill>
                  <a:latin typeface="Arial"/>
                </a:endParaRPr>
              </a:p>
            </p:txBody>
          </p:sp>
          <p:sp>
            <p:nvSpPr>
              <p:cNvPr id="95" name="TextBox 22"/>
              <p:cNvSpPr/>
              <p:nvPr/>
            </p:nvSpPr>
            <p:spPr>
              <a:xfrm>
                <a:off x="7030800" y="3247920"/>
                <a:ext cx="190512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ffffff"/>
                    </a:solidFill>
                    <a:latin typeface="Arial"/>
                  </a:rPr>
                  <a:t>Placa Sudamericana</a:t>
                </a:r>
                <a:endParaRPr b="0" lang="en-US" sz="1900" spc="-1" strike="noStrike">
                  <a:solidFill>
                    <a:srgbClr val="000000"/>
                  </a:solidFill>
                  <a:latin typeface="Arial"/>
                </a:endParaRPr>
              </a:p>
            </p:txBody>
          </p:sp>
        </p:grpSp>
        <p:sp>
          <p:nvSpPr>
            <p:cNvPr id="96" name="5-Point Star 10"/>
            <p:cNvSpPr/>
            <p:nvPr/>
          </p:nvSpPr>
          <p:spPr>
            <a:xfrm>
              <a:off x="6324480" y="1884240"/>
              <a:ext cx="233280" cy="233280"/>
            </a:xfrm>
            <a:custGeom>
              <a:avLst/>
              <a:gdLst/>
              <a:ahLst/>
              <a:rect l="l" t="t" r="r" b="b"/>
              <a:pathLst>
                <a:path w="247532" h="247528">
                  <a:moveTo>
                    <a:pt x="0" y="94547"/>
                  </a:moveTo>
                  <a:lnTo>
                    <a:pt x="94549" y="94548"/>
                  </a:lnTo>
                  <a:lnTo>
                    <a:pt x="123766" y="0"/>
                  </a:lnTo>
                  <a:lnTo>
                    <a:pt x="152983" y="94548"/>
                  </a:lnTo>
                  <a:lnTo>
                    <a:pt x="247532" y="94547"/>
                  </a:lnTo>
                  <a:lnTo>
                    <a:pt x="171040" y="152980"/>
                  </a:lnTo>
                  <a:lnTo>
                    <a:pt x="200257" y="247527"/>
                  </a:lnTo>
                  <a:lnTo>
                    <a:pt x="123766" y="189093"/>
                  </a:lnTo>
                  <a:lnTo>
                    <a:pt x="47275" y="247527"/>
                  </a:lnTo>
                  <a:lnTo>
                    <a:pt x="76492" y="152980"/>
                  </a:lnTo>
                  <a:lnTo>
                    <a:pt x="0" y="94547"/>
                  </a:lnTo>
                  <a:close/>
                </a:path>
              </a:pathLst>
            </a:custGeom>
            <a:solidFill>
              <a:srgbClr val="ff00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TextBox 3"/>
            <p:cNvSpPr/>
            <p:nvPr/>
          </p:nvSpPr>
          <p:spPr>
            <a:xfrm>
              <a:off x="6598440" y="1828080"/>
              <a:ext cx="9046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8 M7,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
          <p:cNvPicPr/>
          <p:nvPr/>
        </p:nvPicPr>
        <p:blipFill>
          <a:blip r:embed="rId1"/>
          <a:stretch/>
        </p:blipFill>
        <p:spPr>
          <a:xfrm>
            <a:off x="3679920" y="1003320"/>
            <a:ext cx="3011400" cy="5118120"/>
          </a:xfrm>
          <a:prstGeom prst="rect">
            <a:avLst/>
          </a:prstGeom>
          <a:ln w="0">
            <a:noFill/>
          </a:ln>
        </p:spPr>
      </p:pic>
      <p:sp>
        <p:nvSpPr>
          <p:cNvPr id="99"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8" descr="IRIS_TMlogo.png"/>
          <p:cNvPicPr/>
          <p:nvPr/>
        </p:nvPicPr>
        <p:blipFill>
          <a:blip r:embed="rId2"/>
          <a:stretch/>
        </p:blipFill>
        <p:spPr>
          <a:xfrm>
            <a:off x="239760" y="76320"/>
            <a:ext cx="903240" cy="927000"/>
          </a:xfrm>
          <a:prstGeom prst="rect">
            <a:avLst/>
          </a:prstGeom>
          <a:ln w="0">
            <a:noFill/>
          </a:ln>
        </p:spPr>
      </p:pic>
      <p:pic>
        <p:nvPicPr>
          <p:cNvPr id="101" name="Picture 7" descr="DepthLegend.tiff"/>
          <p:cNvPicPr/>
          <p:nvPr/>
        </p:nvPicPr>
        <p:blipFill>
          <a:blip r:embed="rId3"/>
          <a:srcRect l="7149" t="0" r="8135" b="0"/>
          <a:stretch/>
        </p:blipFill>
        <p:spPr>
          <a:xfrm>
            <a:off x="3774960" y="4002120"/>
            <a:ext cx="344520" cy="1994040"/>
          </a:xfrm>
          <a:prstGeom prst="rect">
            <a:avLst/>
          </a:prstGeom>
          <a:ln w="12600">
            <a:solidFill>
              <a:srgbClr val="660066"/>
            </a:solidFill>
            <a:miter/>
          </a:ln>
        </p:spPr>
      </p:pic>
      <p:cxnSp>
        <p:nvCxnSpPr>
          <p:cNvPr id="102" name="Straight Arrow Connector 17"/>
          <p:cNvCxnSpPr/>
          <p:nvPr/>
        </p:nvCxnSpPr>
        <p:spPr>
          <a:xfrm flipH="1">
            <a:off x="5006160" y="1797120"/>
            <a:ext cx="454680" cy="504000"/>
          </a:xfrm>
          <a:prstGeom prst="straightConnector1">
            <a:avLst/>
          </a:prstGeom>
          <a:ln w="25560">
            <a:solidFill>
              <a:srgbClr val="ff0000"/>
            </a:solidFill>
            <a:miter/>
            <a:tailEnd len="med" type="triangle" w="med"/>
          </a:ln>
        </p:spPr>
      </p:cxnSp>
      <p:sp>
        <p:nvSpPr>
          <p:cNvPr id="103" name="Rectangle 6"/>
          <p:cNvSpPr/>
          <p:nvPr/>
        </p:nvSpPr>
        <p:spPr>
          <a:xfrm>
            <a:off x="3759120" y="1989000"/>
            <a:ext cx="2449440" cy="990720"/>
          </a:xfrm>
          <a:prstGeom prst="rect">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11"/>
          <p:cNvSpPr/>
          <p:nvPr/>
        </p:nvSpPr>
        <p:spPr>
          <a:xfrm>
            <a:off x="5466960" y="1782720"/>
            <a:ext cx="577080" cy="307080"/>
          </a:xfrm>
          <a:prstGeom prst="rect">
            <a:avLst/>
          </a:prstGeom>
          <a:solidFill>
            <a:srgbClr val="ffffff">
              <a:alpha val="80000"/>
            </a:srgbClr>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7,5</a:t>
            </a:r>
            <a:endParaRPr b="0" lang="en-US" sz="1400" spc="-1" strike="noStrike">
              <a:solidFill>
                <a:srgbClr val="000000"/>
              </a:solidFill>
              <a:latin typeface="Arial"/>
            </a:endParaRPr>
          </a:p>
        </p:txBody>
      </p:sp>
      <p:pic>
        <p:nvPicPr>
          <p:cNvPr id="105" name="Picture 12" descr=""/>
          <p:cNvPicPr/>
          <p:nvPr/>
        </p:nvPicPr>
        <p:blipFill>
          <a:blip r:embed="rId4"/>
          <a:stretch/>
        </p:blipFill>
        <p:spPr>
          <a:xfrm>
            <a:off x="5830920" y="3298680"/>
            <a:ext cx="3278160" cy="1743120"/>
          </a:xfrm>
          <a:prstGeom prst="rect">
            <a:avLst/>
          </a:prstGeom>
          <a:ln w="0">
            <a:noFill/>
          </a:ln>
        </p:spPr>
      </p:pic>
      <p:grpSp>
        <p:nvGrpSpPr>
          <p:cNvPr id="106" name="Group 13"/>
          <p:cNvGrpSpPr/>
          <p:nvPr/>
        </p:nvGrpSpPr>
        <p:grpSpPr>
          <a:xfrm>
            <a:off x="6502320" y="3562200"/>
            <a:ext cx="2432160" cy="1409760"/>
            <a:chOff x="6502320" y="3562200"/>
            <a:chExt cx="2432160" cy="1409760"/>
          </a:xfrm>
        </p:grpSpPr>
        <p:sp>
          <p:nvSpPr>
            <p:cNvPr id="107" name="Freeform 25"/>
            <p:cNvSpPr/>
            <p:nvPr/>
          </p:nvSpPr>
          <p:spPr>
            <a:xfrm>
              <a:off x="6951600" y="3562200"/>
              <a:ext cx="1982880" cy="1400400"/>
            </a:xfrm>
            <a:custGeom>
              <a:avLst/>
              <a:gdLst/>
              <a:ahLst/>
              <a:rect l="l" t="t" r="r" b="b"/>
              <a:pathLst>
                <a:path w="1982666" h="1248508">
                  <a:moveTo>
                    <a:pt x="0" y="4396"/>
                  </a:moveTo>
                  <a:cubicBezTo>
                    <a:pt x="45427" y="2931"/>
                    <a:pt x="90830" y="0"/>
                    <a:pt x="136281" y="0"/>
                  </a:cubicBezTo>
                  <a:cubicBezTo>
                    <a:pt x="172945" y="0"/>
                    <a:pt x="209567" y="2565"/>
                    <a:pt x="246185" y="4396"/>
                  </a:cubicBezTo>
                  <a:cubicBezTo>
                    <a:pt x="278526" y="6013"/>
                    <a:pt x="335839" y="10617"/>
                    <a:pt x="369277" y="13189"/>
                  </a:cubicBezTo>
                  <a:lnTo>
                    <a:pt x="422031" y="26377"/>
                  </a:lnTo>
                  <a:cubicBezTo>
                    <a:pt x="427893" y="27842"/>
                    <a:pt x="433884" y="28862"/>
                    <a:pt x="439616" y="30773"/>
                  </a:cubicBezTo>
                  <a:lnTo>
                    <a:pt x="465993" y="39566"/>
                  </a:lnTo>
                  <a:cubicBezTo>
                    <a:pt x="470389" y="42497"/>
                    <a:pt x="474325" y="46277"/>
                    <a:pt x="479181" y="48358"/>
                  </a:cubicBezTo>
                  <a:cubicBezTo>
                    <a:pt x="484735" y="50738"/>
                    <a:pt x="490979" y="51018"/>
                    <a:pt x="496766" y="52754"/>
                  </a:cubicBezTo>
                  <a:cubicBezTo>
                    <a:pt x="496868" y="52784"/>
                    <a:pt x="529687" y="63728"/>
                    <a:pt x="536331" y="65943"/>
                  </a:cubicBezTo>
                  <a:lnTo>
                    <a:pt x="562708" y="74735"/>
                  </a:lnTo>
                  <a:lnTo>
                    <a:pt x="575897" y="79131"/>
                  </a:lnTo>
                  <a:cubicBezTo>
                    <a:pt x="613687" y="104324"/>
                    <a:pt x="565877" y="74121"/>
                    <a:pt x="602273" y="92320"/>
                  </a:cubicBezTo>
                  <a:cubicBezTo>
                    <a:pt x="606999" y="94683"/>
                    <a:pt x="610634" y="98966"/>
                    <a:pt x="615462" y="101112"/>
                  </a:cubicBezTo>
                  <a:cubicBezTo>
                    <a:pt x="623931" y="104876"/>
                    <a:pt x="633047" y="106973"/>
                    <a:pt x="641839" y="109904"/>
                  </a:cubicBezTo>
                  <a:lnTo>
                    <a:pt x="655027" y="114300"/>
                  </a:lnTo>
                  <a:cubicBezTo>
                    <a:pt x="657958" y="117231"/>
                    <a:pt x="660113" y="121239"/>
                    <a:pt x="663820" y="123093"/>
                  </a:cubicBezTo>
                  <a:cubicBezTo>
                    <a:pt x="672109" y="127238"/>
                    <a:pt x="681405" y="128954"/>
                    <a:pt x="690197" y="131885"/>
                  </a:cubicBezTo>
                  <a:cubicBezTo>
                    <a:pt x="694593" y="133350"/>
                    <a:pt x="699529" y="133711"/>
                    <a:pt x="703385" y="136281"/>
                  </a:cubicBezTo>
                  <a:cubicBezTo>
                    <a:pt x="741178" y="161476"/>
                    <a:pt x="693361" y="131269"/>
                    <a:pt x="729762" y="149470"/>
                  </a:cubicBezTo>
                  <a:cubicBezTo>
                    <a:pt x="763843" y="166511"/>
                    <a:pt x="722994" y="151610"/>
                    <a:pt x="756139" y="162658"/>
                  </a:cubicBezTo>
                  <a:cubicBezTo>
                    <a:pt x="796727" y="189717"/>
                    <a:pt x="746800" y="155187"/>
                    <a:pt x="778120" y="180243"/>
                  </a:cubicBezTo>
                  <a:cubicBezTo>
                    <a:pt x="782246" y="183543"/>
                    <a:pt x="786912" y="186104"/>
                    <a:pt x="791308" y="189035"/>
                  </a:cubicBezTo>
                  <a:cubicBezTo>
                    <a:pt x="794239" y="193431"/>
                    <a:pt x="796364" y="198487"/>
                    <a:pt x="800100" y="202223"/>
                  </a:cubicBezTo>
                  <a:cubicBezTo>
                    <a:pt x="808623" y="210746"/>
                    <a:pt x="815750" y="211836"/>
                    <a:pt x="826477" y="215412"/>
                  </a:cubicBezTo>
                  <a:cubicBezTo>
                    <a:pt x="829408" y="218343"/>
                    <a:pt x="831563" y="222350"/>
                    <a:pt x="835270" y="224204"/>
                  </a:cubicBezTo>
                  <a:cubicBezTo>
                    <a:pt x="843560" y="228349"/>
                    <a:pt x="861647" y="232996"/>
                    <a:pt x="861647" y="232996"/>
                  </a:cubicBezTo>
                  <a:cubicBezTo>
                    <a:pt x="870439" y="238858"/>
                    <a:pt x="880551" y="243109"/>
                    <a:pt x="888023" y="250581"/>
                  </a:cubicBezTo>
                  <a:cubicBezTo>
                    <a:pt x="908885" y="271443"/>
                    <a:pt x="897744" y="265545"/>
                    <a:pt x="918797" y="272562"/>
                  </a:cubicBezTo>
                  <a:cubicBezTo>
                    <a:pt x="923193" y="275493"/>
                    <a:pt x="928249" y="277618"/>
                    <a:pt x="931985" y="281354"/>
                  </a:cubicBezTo>
                  <a:cubicBezTo>
                    <a:pt x="935721" y="285090"/>
                    <a:pt x="937476" y="290417"/>
                    <a:pt x="940777" y="294543"/>
                  </a:cubicBezTo>
                  <a:cubicBezTo>
                    <a:pt x="945816" y="300841"/>
                    <a:pt x="955669" y="308976"/>
                    <a:pt x="962758" y="312127"/>
                  </a:cubicBezTo>
                  <a:cubicBezTo>
                    <a:pt x="971227" y="315891"/>
                    <a:pt x="981424" y="315779"/>
                    <a:pt x="989135" y="320920"/>
                  </a:cubicBezTo>
                  <a:cubicBezTo>
                    <a:pt x="993531" y="323851"/>
                    <a:pt x="998197" y="326412"/>
                    <a:pt x="1002323" y="329712"/>
                  </a:cubicBezTo>
                  <a:cubicBezTo>
                    <a:pt x="1015952" y="340614"/>
                    <a:pt x="1006266" y="338276"/>
                    <a:pt x="1024304" y="347296"/>
                  </a:cubicBezTo>
                  <a:cubicBezTo>
                    <a:pt x="1028449" y="349369"/>
                    <a:pt x="1033442" y="349442"/>
                    <a:pt x="1037493" y="351693"/>
                  </a:cubicBezTo>
                  <a:cubicBezTo>
                    <a:pt x="1046730" y="356825"/>
                    <a:pt x="1053845" y="365935"/>
                    <a:pt x="1063870" y="369277"/>
                  </a:cubicBezTo>
                  <a:cubicBezTo>
                    <a:pt x="1072662" y="372208"/>
                    <a:pt x="1082536" y="372929"/>
                    <a:pt x="1090247" y="378070"/>
                  </a:cubicBezTo>
                  <a:cubicBezTo>
                    <a:pt x="1094643" y="381001"/>
                    <a:pt x="1099376" y="383480"/>
                    <a:pt x="1103435" y="386862"/>
                  </a:cubicBezTo>
                  <a:cubicBezTo>
                    <a:pt x="1108211" y="390842"/>
                    <a:pt x="1111450" y="396602"/>
                    <a:pt x="1116623" y="400050"/>
                  </a:cubicBezTo>
                  <a:cubicBezTo>
                    <a:pt x="1120479" y="402620"/>
                    <a:pt x="1125416" y="402981"/>
                    <a:pt x="1129812" y="404446"/>
                  </a:cubicBezTo>
                  <a:cubicBezTo>
                    <a:pt x="1150674" y="425308"/>
                    <a:pt x="1139533" y="419410"/>
                    <a:pt x="1160585" y="426427"/>
                  </a:cubicBezTo>
                  <a:cubicBezTo>
                    <a:pt x="1177757" y="443601"/>
                    <a:pt x="1159739" y="428203"/>
                    <a:pt x="1182566" y="439616"/>
                  </a:cubicBezTo>
                  <a:cubicBezTo>
                    <a:pt x="1187292" y="441979"/>
                    <a:pt x="1191628" y="445108"/>
                    <a:pt x="1195754" y="448408"/>
                  </a:cubicBezTo>
                  <a:cubicBezTo>
                    <a:pt x="1198991" y="450997"/>
                    <a:pt x="1200993" y="455068"/>
                    <a:pt x="1204547" y="457200"/>
                  </a:cubicBezTo>
                  <a:cubicBezTo>
                    <a:pt x="1208520" y="459584"/>
                    <a:pt x="1213339" y="460131"/>
                    <a:pt x="1217735" y="461596"/>
                  </a:cubicBezTo>
                  <a:cubicBezTo>
                    <a:pt x="1220666" y="464527"/>
                    <a:pt x="1222973" y="468256"/>
                    <a:pt x="1226527" y="470389"/>
                  </a:cubicBezTo>
                  <a:cubicBezTo>
                    <a:pt x="1230501" y="472773"/>
                    <a:pt x="1236097" y="471890"/>
                    <a:pt x="1239716" y="474785"/>
                  </a:cubicBezTo>
                  <a:cubicBezTo>
                    <a:pt x="1243842" y="478085"/>
                    <a:pt x="1245070" y="483962"/>
                    <a:pt x="1248508" y="487973"/>
                  </a:cubicBezTo>
                  <a:lnTo>
                    <a:pt x="1279281" y="518746"/>
                  </a:lnTo>
                  <a:lnTo>
                    <a:pt x="1288073" y="527539"/>
                  </a:lnTo>
                  <a:cubicBezTo>
                    <a:pt x="1291004" y="530470"/>
                    <a:pt x="1294567" y="532882"/>
                    <a:pt x="1296866" y="536331"/>
                  </a:cubicBezTo>
                  <a:cubicBezTo>
                    <a:pt x="1308589" y="553916"/>
                    <a:pt x="1301262" y="546589"/>
                    <a:pt x="1318847" y="558312"/>
                  </a:cubicBezTo>
                  <a:cubicBezTo>
                    <a:pt x="1325373" y="568101"/>
                    <a:pt x="1327485" y="573136"/>
                    <a:pt x="1336431" y="580293"/>
                  </a:cubicBezTo>
                  <a:cubicBezTo>
                    <a:pt x="1340557" y="583594"/>
                    <a:pt x="1345224" y="586154"/>
                    <a:pt x="1349620" y="589085"/>
                  </a:cubicBezTo>
                  <a:cubicBezTo>
                    <a:pt x="1352551" y="593481"/>
                    <a:pt x="1354974" y="598262"/>
                    <a:pt x="1358412" y="602273"/>
                  </a:cubicBezTo>
                  <a:cubicBezTo>
                    <a:pt x="1363807" y="608567"/>
                    <a:pt x="1371399" y="612961"/>
                    <a:pt x="1375997" y="619858"/>
                  </a:cubicBezTo>
                  <a:cubicBezTo>
                    <a:pt x="1378928" y="624254"/>
                    <a:pt x="1381310" y="629070"/>
                    <a:pt x="1384789" y="633046"/>
                  </a:cubicBezTo>
                  <a:cubicBezTo>
                    <a:pt x="1391612" y="640844"/>
                    <a:pt x="1406770" y="655027"/>
                    <a:pt x="1406770" y="655027"/>
                  </a:cubicBezTo>
                  <a:cubicBezTo>
                    <a:pt x="1408235" y="659423"/>
                    <a:pt x="1408271" y="664597"/>
                    <a:pt x="1411166" y="668216"/>
                  </a:cubicBezTo>
                  <a:cubicBezTo>
                    <a:pt x="1414466" y="672342"/>
                    <a:pt x="1420343" y="673570"/>
                    <a:pt x="1424354" y="677008"/>
                  </a:cubicBezTo>
                  <a:cubicBezTo>
                    <a:pt x="1430648" y="682403"/>
                    <a:pt x="1435042" y="689995"/>
                    <a:pt x="1441939" y="694593"/>
                  </a:cubicBezTo>
                  <a:cubicBezTo>
                    <a:pt x="1446335" y="697524"/>
                    <a:pt x="1451116" y="699947"/>
                    <a:pt x="1455127" y="703385"/>
                  </a:cubicBezTo>
                  <a:cubicBezTo>
                    <a:pt x="1481678" y="726143"/>
                    <a:pt x="1461668" y="717289"/>
                    <a:pt x="1485900" y="725366"/>
                  </a:cubicBezTo>
                  <a:cubicBezTo>
                    <a:pt x="1488831" y="728297"/>
                    <a:pt x="1491456" y="731569"/>
                    <a:pt x="1494693" y="734158"/>
                  </a:cubicBezTo>
                  <a:cubicBezTo>
                    <a:pt x="1508897" y="745521"/>
                    <a:pt x="1513373" y="742395"/>
                    <a:pt x="1525466" y="760535"/>
                  </a:cubicBezTo>
                  <a:cubicBezTo>
                    <a:pt x="1528397" y="764931"/>
                    <a:pt x="1530958" y="769597"/>
                    <a:pt x="1534258" y="773723"/>
                  </a:cubicBezTo>
                  <a:cubicBezTo>
                    <a:pt x="1536847" y="776960"/>
                    <a:pt x="1540563" y="779200"/>
                    <a:pt x="1543050" y="782516"/>
                  </a:cubicBezTo>
                  <a:cubicBezTo>
                    <a:pt x="1549390" y="790970"/>
                    <a:pt x="1551843" y="803031"/>
                    <a:pt x="1560635" y="808893"/>
                  </a:cubicBezTo>
                  <a:cubicBezTo>
                    <a:pt x="1580722" y="822284"/>
                    <a:pt x="1570085" y="813948"/>
                    <a:pt x="1591408" y="835270"/>
                  </a:cubicBezTo>
                  <a:cubicBezTo>
                    <a:pt x="1622744" y="866605"/>
                    <a:pt x="1587178" y="832763"/>
                    <a:pt x="1617785" y="857250"/>
                  </a:cubicBezTo>
                  <a:cubicBezTo>
                    <a:pt x="1621021" y="859839"/>
                    <a:pt x="1623023" y="863910"/>
                    <a:pt x="1626577" y="866043"/>
                  </a:cubicBezTo>
                  <a:cubicBezTo>
                    <a:pt x="1630551" y="868427"/>
                    <a:pt x="1635370" y="868974"/>
                    <a:pt x="1639766" y="870439"/>
                  </a:cubicBezTo>
                  <a:cubicBezTo>
                    <a:pt x="1638301" y="866043"/>
                    <a:pt x="1632093" y="860527"/>
                    <a:pt x="1635370" y="857250"/>
                  </a:cubicBezTo>
                  <a:cubicBezTo>
                    <a:pt x="1638301" y="854319"/>
                    <a:pt x="1640846" y="863556"/>
                    <a:pt x="1644162" y="866043"/>
                  </a:cubicBezTo>
                  <a:cubicBezTo>
                    <a:pt x="1652616" y="872383"/>
                    <a:pt x="1663067" y="876155"/>
                    <a:pt x="1670539" y="883627"/>
                  </a:cubicBezTo>
                  <a:cubicBezTo>
                    <a:pt x="1673470" y="886558"/>
                    <a:pt x="1676015" y="889933"/>
                    <a:pt x="1679331" y="892420"/>
                  </a:cubicBezTo>
                  <a:cubicBezTo>
                    <a:pt x="1687785" y="898760"/>
                    <a:pt x="1705708" y="910004"/>
                    <a:pt x="1705708" y="910004"/>
                  </a:cubicBezTo>
                  <a:cubicBezTo>
                    <a:pt x="1708639" y="914400"/>
                    <a:pt x="1711199" y="919067"/>
                    <a:pt x="1714500" y="923193"/>
                  </a:cubicBezTo>
                  <a:cubicBezTo>
                    <a:pt x="1721657" y="932139"/>
                    <a:pt x="1726692" y="934251"/>
                    <a:pt x="1736481" y="940777"/>
                  </a:cubicBezTo>
                  <a:cubicBezTo>
                    <a:pt x="1763535" y="981361"/>
                    <a:pt x="1729015" y="931445"/>
                    <a:pt x="1754066" y="962758"/>
                  </a:cubicBezTo>
                  <a:cubicBezTo>
                    <a:pt x="1757367" y="966883"/>
                    <a:pt x="1759558" y="971820"/>
                    <a:pt x="1762858" y="975946"/>
                  </a:cubicBezTo>
                  <a:cubicBezTo>
                    <a:pt x="1765447" y="979183"/>
                    <a:pt x="1769061" y="981502"/>
                    <a:pt x="1771650" y="984739"/>
                  </a:cubicBezTo>
                  <a:cubicBezTo>
                    <a:pt x="1774951" y="988865"/>
                    <a:pt x="1777142" y="993801"/>
                    <a:pt x="1780443" y="997927"/>
                  </a:cubicBezTo>
                  <a:cubicBezTo>
                    <a:pt x="1783032" y="1001164"/>
                    <a:pt x="1786646" y="1003483"/>
                    <a:pt x="1789235" y="1006720"/>
                  </a:cubicBezTo>
                  <a:cubicBezTo>
                    <a:pt x="1792535" y="1010846"/>
                    <a:pt x="1794726" y="1015783"/>
                    <a:pt x="1798027" y="1019908"/>
                  </a:cubicBezTo>
                  <a:cubicBezTo>
                    <a:pt x="1800616" y="1023144"/>
                    <a:pt x="1804231" y="1025463"/>
                    <a:pt x="1806820" y="1028700"/>
                  </a:cubicBezTo>
                  <a:cubicBezTo>
                    <a:pt x="1810121" y="1032826"/>
                    <a:pt x="1811876" y="1038153"/>
                    <a:pt x="1815612" y="1041889"/>
                  </a:cubicBezTo>
                  <a:cubicBezTo>
                    <a:pt x="1835501" y="1061779"/>
                    <a:pt x="1825373" y="1036747"/>
                    <a:pt x="1846385" y="1068266"/>
                  </a:cubicBezTo>
                  <a:cubicBezTo>
                    <a:pt x="1849316" y="1072662"/>
                    <a:pt x="1851876" y="1077329"/>
                    <a:pt x="1855177" y="1081454"/>
                  </a:cubicBezTo>
                  <a:cubicBezTo>
                    <a:pt x="1857766" y="1084690"/>
                    <a:pt x="1861483" y="1086930"/>
                    <a:pt x="1863970" y="1090246"/>
                  </a:cubicBezTo>
                  <a:cubicBezTo>
                    <a:pt x="1870310" y="1098700"/>
                    <a:pt x="1875693" y="1107831"/>
                    <a:pt x="1881554" y="1116623"/>
                  </a:cubicBezTo>
                  <a:lnTo>
                    <a:pt x="1890347" y="1129812"/>
                  </a:lnTo>
                  <a:cubicBezTo>
                    <a:pt x="1902800" y="1167170"/>
                    <a:pt x="1885432" y="1121621"/>
                    <a:pt x="1903535" y="1151793"/>
                  </a:cubicBezTo>
                  <a:cubicBezTo>
                    <a:pt x="1918246" y="1176312"/>
                    <a:pt x="1895504" y="1153920"/>
                    <a:pt x="1916723" y="1178170"/>
                  </a:cubicBezTo>
                  <a:cubicBezTo>
                    <a:pt x="1923546" y="1185968"/>
                    <a:pt x="1931377" y="1192823"/>
                    <a:pt x="1938704" y="1200150"/>
                  </a:cubicBezTo>
                  <a:lnTo>
                    <a:pt x="1947497" y="1208943"/>
                  </a:lnTo>
                  <a:cubicBezTo>
                    <a:pt x="1951893" y="1213339"/>
                    <a:pt x="1957237" y="1216958"/>
                    <a:pt x="1960685" y="1222131"/>
                  </a:cubicBezTo>
                  <a:cubicBezTo>
                    <a:pt x="1963616" y="1226527"/>
                    <a:pt x="1966176" y="1231194"/>
                    <a:pt x="1969477" y="1235320"/>
                  </a:cubicBezTo>
                  <a:cubicBezTo>
                    <a:pt x="1972066" y="1238557"/>
                    <a:pt x="1975339" y="1241181"/>
                    <a:pt x="1978270" y="1244112"/>
                  </a:cubicBezTo>
                  <a:lnTo>
                    <a:pt x="1982666" y="1248508"/>
                  </a:lnTo>
                </a:path>
              </a:pathLst>
            </a:custGeom>
            <a:noFill/>
            <a:ln w="12600">
              <a:solidFill>
                <a:srgbClr val="ffffff"/>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Freeform 26"/>
            <p:cNvSpPr/>
            <p:nvPr/>
          </p:nvSpPr>
          <p:spPr>
            <a:xfrm>
              <a:off x="6502320" y="3873240"/>
              <a:ext cx="1868760" cy="1098720"/>
            </a:xfrm>
            <a:custGeom>
              <a:avLst/>
              <a:gdLst/>
              <a:ahLst/>
              <a:rect l="l" t="t" r="r" b="b"/>
              <a:pathLst>
                <a:path w="1868366" h="1099039">
                  <a:moveTo>
                    <a:pt x="0" y="8793"/>
                  </a:moveTo>
                  <a:cubicBezTo>
                    <a:pt x="5862" y="10258"/>
                    <a:pt x="11543" y="13189"/>
                    <a:pt x="17585" y="13189"/>
                  </a:cubicBezTo>
                  <a:cubicBezTo>
                    <a:pt x="22219" y="13189"/>
                    <a:pt x="26278" y="9917"/>
                    <a:pt x="30773" y="8793"/>
                  </a:cubicBezTo>
                  <a:cubicBezTo>
                    <a:pt x="38022" y="6981"/>
                    <a:pt x="45285" y="4616"/>
                    <a:pt x="52754" y="4396"/>
                  </a:cubicBezTo>
                  <a:cubicBezTo>
                    <a:pt x="145045" y="1681"/>
                    <a:pt x="237393" y="1465"/>
                    <a:pt x="329712" y="0"/>
                  </a:cubicBezTo>
                  <a:cubicBezTo>
                    <a:pt x="363416" y="1465"/>
                    <a:pt x="397157" y="2224"/>
                    <a:pt x="430823" y="4396"/>
                  </a:cubicBezTo>
                  <a:cubicBezTo>
                    <a:pt x="442613" y="5157"/>
                    <a:pt x="454243" y="7556"/>
                    <a:pt x="465993" y="8793"/>
                  </a:cubicBezTo>
                  <a:cubicBezTo>
                    <a:pt x="536057" y="16169"/>
                    <a:pt x="491033" y="9787"/>
                    <a:pt x="549519" y="17585"/>
                  </a:cubicBezTo>
                  <a:cubicBezTo>
                    <a:pt x="559790" y="18954"/>
                    <a:pt x="570072" y="20278"/>
                    <a:pt x="580293" y="21981"/>
                  </a:cubicBezTo>
                  <a:cubicBezTo>
                    <a:pt x="662620" y="35702"/>
                    <a:pt x="533338" y="16110"/>
                    <a:pt x="628650" y="30773"/>
                  </a:cubicBezTo>
                  <a:cubicBezTo>
                    <a:pt x="638891" y="32349"/>
                    <a:pt x="649262" y="33137"/>
                    <a:pt x="659423" y="35169"/>
                  </a:cubicBezTo>
                  <a:cubicBezTo>
                    <a:pt x="671272" y="37539"/>
                    <a:pt x="682870" y="41031"/>
                    <a:pt x="694593" y="43962"/>
                  </a:cubicBezTo>
                  <a:cubicBezTo>
                    <a:pt x="700454" y="45427"/>
                    <a:pt x="706253" y="47173"/>
                    <a:pt x="712177" y="48358"/>
                  </a:cubicBezTo>
                  <a:cubicBezTo>
                    <a:pt x="726831" y="51289"/>
                    <a:pt x="741962" y="52424"/>
                    <a:pt x="756139" y="57150"/>
                  </a:cubicBezTo>
                  <a:lnTo>
                    <a:pt x="808893" y="74735"/>
                  </a:lnTo>
                  <a:cubicBezTo>
                    <a:pt x="813289" y="76200"/>
                    <a:pt x="818225" y="76561"/>
                    <a:pt x="822081" y="79131"/>
                  </a:cubicBezTo>
                  <a:cubicBezTo>
                    <a:pt x="826477" y="82062"/>
                    <a:pt x="831143" y="84623"/>
                    <a:pt x="835269" y="87923"/>
                  </a:cubicBezTo>
                  <a:cubicBezTo>
                    <a:pt x="838506" y="90512"/>
                    <a:pt x="840508" y="94583"/>
                    <a:pt x="844062" y="96716"/>
                  </a:cubicBezTo>
                  <a:cubicBezTo>
                    <a:pt x="848035" y="99100"/>
                    <a:pt x="853105" y="99040"/>
                    <a:pt x="857250" y="101112"/>
                  </a:cubicBezTo>
                  <a:cubicBezTo>
                    <a:pt x="891338" y="118155"/>
                    <a:pt x="850479" y="103251"/>
                    <a:pt x="883627" y="114300"/>
                  </a:cubicBezTo>
                  <a:cubicBezTo>
                    <a:pt x="903350" y="134025"/>
                    <a:pt x="879929" y="113224"/>
                    <a:pt x="905608" y="127489"/>
                  </a:cubicBezTo>
                  <a:cubicBezTo>
                    <a:pt x="914845" y="132621"/>
                    <a:pt x="924513" y="137601"/>
                    <a:pt x="931985" y="145073"/>
                  </a:cubicBezTo>
                  <a:cubicBezTo>
                    <a:pt x="934916" y="148004"/>
                    <a:pt x="937223" y="151733"/>
                    <a:pt x="940777" y="153866"/>
                  </a:cubicBezTo>
                  <a:cubicBezTo>
                    <a:pt x="944751" y="156250"/>
                    <a:pt x="949570" y="156797"/>
                    <a:pt x="953966" y="158262"/>
                  </a:cubicBezTo>
                  <a:cubicBezTo>
                    <a:pt x="987505" y="191801"/>
                    <a:pt x="948529" y="156757"/>
                    <a:pt x="980343" y="175846"/>
                  </a:cubicBezTo>
                  <a:cubicBezTo>
                    <a:pt x="983897" y="177979"/>
                    <a:pt x="985581" y="182506"/>
                    <a:pt x="989135" y="184639"/>
                  </a:cubicBezTo>
                  <a:cubicBezTo>
                    <a:pt x="993108" y="187023"/>
                    <a:pt x="998178" y="186963"/>
                    <a:pt x="1002323" y="189035"/>
                  </a:cubicBezTo>
                  <a:cubicBezTo>
                    <a:pt x="1036411" y="206078"/>
                    <a:pt x="995552" y="191174"/>
                    <a:pt x="1028700" y="202223"/>
                  </a:cubicBezTo>
                  <a:cubicBezTo>
                    <a:pt x="1033096" y="205154"/>
                    <a:pt x="1037163" y="208653"/>
                    <a:pt x="1041889" y="211016"/>
                  </a:cubicBezTo>
                  <a:cubicBezTo>
                    <a:pt x="1046034" y="213088"/>
                    <a:pt x="1051026" y="213162"/>
                    <a:pt x="1055077" y="215412"/>
                  </a:cubicBezTo>
                  <a:cubicBezTo>
                    <a:pt x="1080034" y="229277"/>
                    <a:pt x="1080507" y="232049"/>
                    <a:pt x="1099039" y="250581"/>
                  </a:cubicBezTo>
                  <a:lnTo>
                    <a:pt x="1099039" y="250581"/>
                  </a:lnTo>
                  <a:cubicBezTo>
                    <a:pt x="1103435" y="253512"/>
                    <a:pt x="1108216" y="255935"/>
                    <a:pt x="1112227" y="259373"/>
                  </a:cubicBezTo>
                  <a:lnTo>
                    <a:pt x="1143000" y="290146"/>
                  </a:lnTo>
                  <a:cubicBezTo>
                    <a:pt x="1151178" y="298324"/>
                    <a:pt x="1153890" y="302185"/>
                    <a:pt x="1164981" y="307731"/>
                  </a:cubicBezTo>
                  <a:cubicBezTo>
                    <a:pt x="1169126" y="309803"/>
                    <a:pt x="1173773" y="310662"/>
                    <a:pt x="1178169" y="312127"/>
                  </a:cubicBezTo>
                  <a:cubicBezTo>
                    <a:pt x="1184031" y="317989"/>
                    <a:pt x="1188856" y="325114"/>
                    <a:pt x="1195754" y="329712"/>
                  </a:cubicBezTo>
                  <a:cubicBezTo>
                    <a:pt x="1200150" y="332643"/>
                    <a:pt x="1204994" y="334994"/>
                    <a:pt x="1208943" y="338504"/>
                  </a:cubicBezTo>
                  <a:cubicBezTo>
                    <a:pt x="1218236" y="346765"/>
                    <a:pt x="1226527" y="356089"/>
                    <a:pt x="1235319" y="364881"/>
                  </a:cubicBezTo>
                  <a:lnTo>
                    <a:pt x="1252904" y="382466"/>
                  </a:lnTo>
                  <a:cubicBezTo>
                    <a:pt x="1257300" y="386862"/>
                    <a:pt x="1260920" y="392205"/>
                    <a:pt x="1266093" y="395654"/>
                  </a:cubicBezTo>
                  <a:cubicBezTo>
                    <a:pt x="1270489" y="398585"/>
                    <a:pt x="1275270" y="401008"/>
                    <a:pt x="1279281" y="404446"/>
                  </a:cubicBezTo>
                  <a:cubicBezTo>
                    <a:pt x="1313388" y="433681"/>
                    <a:pt x="1284118" y="410090"/>
                    <a:pt x="1305658" y="435219"/>
                  </a:cubicBezTo>
                  <a:cubicBezTo>
                    <a:pt x="1311053" y="441513"/>
                    <a:pt x="1318645" y="445906"/>
                    <a:pt x="1323243" y="452804"/>
                  </a:cubicBezTo>
                  <a:cubicBezTo>
                    <a:pt x="1334966" y="470389"/>
                    <a:pt x="1327639" y="463062"/>
                    <a:pt x="1345223" y="474785"/>
                  </a:cubicBezTo>
                  <a:cubicBezTo>
                    <a:pt x="1352857" y="497688"/>
                    <a:pt x="1344618" y="479524"/>
                    <a:pt x="1358412" y="496766"/>
                  </a:cubicBezTo>
                  <a:cubicBezTo>
                    <a:pt x="1361712" y="500892"/>
                    <a:pt x="1363468" y="506218"/>
                    <a:pt x="1367204" y="509954"/>
                  </a:cubicBezTo>
                  <a:cubicBezTo>
                    <a:pt x="1390057" y="532806"/>
                    <a:pt x="1371781" y="505784"/>
                    <a:pt x="1389185" y="527539"/>
                  </a:cubicBezTo>
                  <a:cubicBezTo>
                    <a:pt x="1392485" y="531665"/>
                    <a:pt x="1394467" y="536778"/>
                    <a:pt x="1397977" y="540727"/>
                  </a:cubicBezTo>
                  <a:cubicBezTo>
                    <a:pt x="1406238" y="550020"/>
                    <a:pt x="1415562" y="558312"/>
                    <a:pt x="1424354" y="567104"/>
                  </a:cubicBezTo>
                  <a:lnTo>
                    <a:pt x="1437543" y="580293"/>
                  </a:lnTo>
                  <a:cubicBezTo>
                    <a:pt x="1441939" y="584689"/>
                    <a:pt x="1447282" y="588308"/>
                    <a:pt x="1450731" y="593481"/>
                  </a:cubicBezTo>
                  <a:cubicBezTo>
                    <a:pt x="1453662" y="597877"/>
                    <a:pt x="1456044" y="602693"/>
                    <a:pt x="1459523" y="606669"/>
                  </a:cubicBezTo>
                  <a:cubicBezTo>
                    <a:pt x="1466346" y="614467"/>
                    <a:pt x="1474177" y="621323"/>
                    <a:pt x="1481504" y="628650"/>
                  </a:cubicBezTo>
                  <a:cubicBezTo>
                    <a:pt x="1484435" y="631581"/>
                    <a:pt x="1487997" y="633994"/>
                    <a:pt x="1490296" y="637443"/>
                  </a:cubicBezTo>
                  <a:cubicBezTo>
                    <a:pt x="1496158" y="646235"/>
                    <a:pt x="1500409" y="656347"/>
                    <a:pt x="1507881" y="663819"/>
                  </a:cubicBezTo>
                  <a:cubicBezTo>
                    <a:pt x="1513743" y="669681"/>
                    <a:pt x="1520868" y="674506"/>
                    <a:pt x="1525466" y="681404"/>
                  </a:cubicBezTo>
                  <a:cubicBezTo>
                    <a:pt x="1537189" y="698989"/>
                    <a:pt x="1529862" y="691662"/>
                    <a:pt x="1547446" y="703385"/>
                  </a:cubicBezTo>
                  <a:cubicBezTo>
                    <a:pt x="1550377" y="707781"/>
                    <a:pt x="1552938" y="712447"/>
                    <a:pt x="1556239" y="716573"/>
                  </a:cubicBezTo>
                  <a:cubicBezTo>
                    <a:pt x="1558828" y="719810"/>
                    <a:pt x="1562899" y="721812"/>
                    <a:pt x="1565031" y="725366"/>
                  </a:cubicBezTo>
                  <a:cubicBezTo>
                    <a:pt x="1579185" y="748958"/>
                    <a:pt x="1556350" y="729836"/>
                    <a:pt x="1582616" y="747346"/>
                  </a:cubicBezTo>
                  <a:cubicBezTo>
                    <a:pt x="1588477" y="756138"/>
                    <a:pt x="1592728" y="766251"/>
                    <a:pt x="1600200" y="773723"/>
                  </a:cubicBezTo>
                  <a:cubicBezTo>
                    <a:pt x="1603131" y="776654"/>
                    <a:pt x="1606506" y="779200"/>
                    <a:pt x="1608993" y="782516"/>
                  </a:cubicBezTo>
                  <a:cubicBezTo>
                    <a:pt x="1615333" y="790970"/>
                    <a:pt x="1619105" y="801421"/>
                    <a:pt x="1626577" y="808893"/>
                  </a:cubicBezTo>
                  <a:cubicBezTo>
                    <a:pt x="1630973" y="813289"/>
                    <a:pt x="1635949" y="817174"/>
                    <a:pt x="1639766" y="822081"/>
                  </a:cubicBezTo>
                  <a:cubicBezTo>
                    <a:pt x="1646254" y="830422"/>
                    <a:pt x="1651488" y="839666"/>
                    <a:pt x="1657350" y="848458"/>
                  </a:cubicBezTo>
                  <a:cubicBezTo>
                    <a:pt x="1660281" y="852854"/>
                    <a:pt x="1662407" y="857910"/>
                    <a:pt x="1666143" y="861646"/>
                  </a:cubicBezTo>
                  <a:lnTo>
                    <a:pt x="1674935" y="870439"/>
                  </a:lnTo>
                  <a:cubicBezTo>
                    <a:pt x="1676400" y="874835"/>
                    <a:pt x="1677259" y="879482"/>
                    <a:pt x="1679331" y="883627"/>
                  </a:cubicBezTo>
                  <a:cubicBezTo>
                    <a:pt x="1684878" y="894721"/>
                    <a:pt x="1688736" y="897429"/>
                    <a:pt x="1696916" y="905608"/>
                  </a:cubicBezTo>
                  <a:cubicBezTo>
                    <a:pt x="1704550" y="928509"/>
                    <a:pt x="1696312" y="910348"/>
                    <a:pt x="1710104" y="927589"/>
                  </a:cubicBezTo>
                  <a:cubicBezTo>
                    <a:pt x="1713404" y="931715"/>
                    <a:pt x="1715458" y="936766"/>
                    <a:pt x="1718896" y="940777"/>
                  </a:cubicBezTo>
                  <a:cubicBezTo>
                    <a:pt x="1724291" y="947071"/>
                    <a:pt x="1731883" y="951465"/>
                    <a:pt x="1736481" y="958362"/>
                  </a:cubicBezTo>
                  <a:cubicBezTo>
                    <a:pt x="1739412" y="962758"/>
                    <a:pt x="1741973" y="967424"/>
                    <a:pt x="1745273" y="971550"/>
                  </a:cubicBezTo>
                  <a:cubicBezTo>
                    <a:pt x="1747862" y="974787"/>
                    <a:pt x="1751579" y="977027"/>
                    <a:pt x="1754066" y="980343"/>
                  </a:cubicBezTo>
                  <a:cubicBezTo>
                    <a:pt x="1760406" y="988796"/>
                    <a:pt x="1764178" y="999247"/>
                    <a:pt x="1771650" y="1006719"/>
                  </a:cubicBezTo>
                  <a:cubicBezTo>
                    <a:pt x="1792877" y="1027946"/>
                    <a:pt x="1767058" y="1000977"/>
                    <a:pt x="1789235" y="1028700"/>
                  </a:cubicBezTo>
                  <a:cubicBezTo>
                    <a:pt x="1800666" y="1042989"/>
                    <a:pt x="1795977" y="1032950"/>
                    <a:pt x="1811216" y="1046285"/>
                  </a:cubicBezTo>
                  <a:cubicBezTo>
                    <a:pt x="1819014" y="1053108"/>
                    <a:pt x="1825869" y="1060939"/>
                    <a:pt x="1833196" y="1068266"/>
                  </a:cubicBezTo>
                  <a:cubicBezTo>
                    <a:pt x="1836127" y="1071197"/>
                    <a:pt x="1839690" y="1073609"/>
                    <a:pt x="1841989" y="1077058"/>
                  </a:cubicBezTo>
                  <a:cubicBezTo>
                    <a:pt x="1844920" y="1081454"/>
                    <a:pt x="1846656" y="1086945"/>
                    <a:pt x="1850781" y="1090246"/>
                  </a:cubicBezTo>
                  <a:cubicBezTo>
                    <a:pt x="1854399" y="1093141"/>
                    <a:pt x="1859824" y="1092571"/>
                    <a:pt x="1863969" y="1094643"/>
                  </a:cubicBezTo>
                  <a:cubicBezTo>
                    <a:pt x="1865823" y="1095570"/>
                    <a:pt x="1866900" y="1097574"/>
                    <a:pt x="1868366" y="1099039"/>
                  </a:cubicBezTo>
                </a:path>
              </a:pathLst>
            </a:custGeom>
            <a:noFill/>
            <a:ln w="12600">
              <a:solidFill>
                <a:srgbClr val="ffffff"/>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9" name="TextBox 11"/>
          <p:cNvSpPr/>
          <p:nvPr/>
        </p:nvSpPr>
        <p:spPr>
          <a:xfrm>
            <a:off x="7691760" y="3581280"/>
            <a:ext cx="461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7,5</a:t>
            </a:r>
            <a:endParaRPr b="0" lang="en-US" sz="1000" spc="-1" strike="noStrike">
              <a:solidFill>
                <a:srgbClr val="000000"/>
              </a:solidFill>
              <a:latin typeface="Arial"/>
            </a:endParaRPr>
          </a:p>
        </p:txBody>
      </p:sp>
      <p:cxnSp>
        <p:nvCxnSpPr>
          <p:cNvPr id="110" name="Straight Arrow Connector 36"/>
          <p:cNvCxnSpPr/>
          <p:nvPr/>
        </p:nvCxnSpPr>
        <p:spPr>
          <a:xfrm flipH="1">
            <a:off x="7529040" y="3611160"/>
            <a:ext cx="215280" cy="150120"/>
          </a:xfrm>
          <a:prstGeom prst="straightConnector1">
            <a:avLst/>
          </a:prstGeom>
          <a:ln w="25560">
            <a:solidFill>
              <a:srgbClr val="ffffff"/>
            </a:solidFill>
            <a:miter/>
            <a:tailEnd len="med" type="triangle" w="med"/>
          </a:ln>
        </p:spPr>
      </p:cxnSp>
      <p:sp>
        <p:nvSpPr>
          <p:cNvPr id="11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5 REGIÓN FRONTERIZA PERU-ECUADOR</a:t>
            </a:r>
            <a:br>
              <a:rPr sz="3500"/>
            </a:br>
            <a:r>
              <a:rPr b="1" lang="es-ES_tradnl" sz="1500" spc="-1" strike="noStrike">
                <a:solidFill>
                  <a:srgbClr val="11488b"/>
                </a:solidFill>
                <a:latin typeface="Arial"/>
                <a:ea typeface="Arial"/>
              </a:rPr>
              <a:t>Viernes, 22 de Febrero, 2019 a las 10:17:22 UTC </a:t>
            </a:r>
            <a:endParaRPr b="0" lang="en-US" sz="1500" spc="-1" strike="noStrike">
              <a:solidFill>
                <a:srgbClr val="000000"/>
              </a:solidFill>
              <a:latin typeface="Arial"/>
            </a:endParaRPr>
          </a:p>
        </p:txBody>
      </p:sp>
      <p:sp>
        <p:nvSpPr>
          <p:cNvPr id="112" name="TextBox 7"/>
          <p:cNvSpPr/>
          <p:nvPr/>
        </p:nvSpPr>
        <p:spPr>
          <a:xfrm>
            <a:off x="239760" y="1066680"/>
            <a:ext cx="3278160" cy="59313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mapa muestra los 3.000 terremotos más recientes de magnitud 5 o más a lo largo de la costa oeste del norte de América del Sur. El epicentro de este terremoto está marcado. Los terremotos tienen un código de color por profundidad, como lo muestra la leyenda en la esquina inferior izquierda.</a:t>
            </a:r>
            <a:endParaRPr b="0" lang="en-US" sz="14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 corte transversal de terremotos dentro del rectángulo punteado en el mapa se muestra en la esquina superior derecha. El contorno de la Placa de Nazca se muestra en líneas discontinuas claras en el corte transversal. Las profundidades de los terremotos aumentan de oeste a este a través de la zona de subducción Nazca - América del Sur. Los terremotos de más de 100 km ocurren dentro de la subducción de la Placa de Nazca.</a:t>
            </a:r>
            <a:endParaRPr b="0" lang="en-US" sz="1400" spc="-1" strike="noStrike">
              <a:solidFill>
                <a:srgbClr val="000000"/>
              </a:solidFill>
              <a:latin typeface="Arial"/>
            </a:endParaRPr>
          </a:p>
        </p:txBody>
      </p:sp>
      <p:sp>
        <p:nvSpPr>
          <p:cNvPr id="113" name="TextBox 8"/>
          <p:cNvSpPr/>
          <p:nvPr/>
        </p:nvSpPr>
        <p:spPr>
          <a:xfrm>
            <a:off x="3517920" y="6168960"/>
            <a:ext cx="561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Mapa creado </a:t>
            </a:r>
            <a:r>
              <a:rPr b="0" lang="es-VE" sz="1400" spc="-1" strike="noStrike">
                <a:solidFill>
                  <a:srgbClr val="000000"/>
                </a:solidFill>
                <a:latin typeface="Arial"/>
                <a:ea typeface="Arial"/>
              </a:rPr>
              <a:t> usando el navegador de terremotos de IRIS </a:t>
            </a:r>
            <a:r>
              <a:rPr b="0" i="1" lang="en-US" sz="1400" spc="-1" strike="noStrike">
                <a:solidFill>
                  <a:srgbClr val="000000"/>
                </a:solidFill>
                <a:latin typeface="Arial"/>
                <a:ea typeface="Arial"/>
              </a:rPr>
              <a:t>(IEB).</a:t>
            </a:r>
            <a:endParaRPr b="0" lang="en-US" sz="1400" spc="-1" strike="noStrike">
              <a:solidFill>
                <a:srgbClr val="000000"/>
              </a:solidFill>
              <a:latin typeface="Arial"/>
            </a:endParaRPr>
          </a:p>
        </p:txBody>
      </p:sp>
      <p:sp>
        <p:nvSpPr>
          <p:cNvPr id="114" name="TextBox 27"/>
          <p:cNvSpPr/>
          <p:nvPr/>
        </p:nvSpPr>
        <p:spPr>
          <a:xfrm rot="2735400">
            <a:off x="7466400" y="4257720"/>
            <a:ext cx="1325520" cy="261360"/>
          </a:xfrm>
          <a:prstGeom prst="rect">
            <a:avLst/>
          </a:prstGeom>
          <a:solidFill>
            <a:srgbClr val="000000">
              <a:alpha val="4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ffffff"/>
                </a:solidFill>
                <a:latin typeface="Arial"/>
              </a:rPr>
              <a:t>Placa de Nazc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7"/>
          <p:cNvSpPr/>
          <p:nvPr/>
        </p:nvSpPr>
        <p:spPr>
          <a:xfrm>
            <a:off x="274680" y="1143000"/>
            <a:ext cx="8675640" cy="1616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En el lugar del terremoto del 22 de febrero, la Placa oceánica de Nazca se mueve hacia el este en relación a la Placa Sudamericana, esta se subduce en la fosa Perú-Chile al oeste de la costa ecuatoriana y se hunde en el manto debajo de América del Sur. Este terremoto se produjo a una profundidad intermedia, donde se produce una deformación dentro de la losa de subducción en lugar de en la interfaz de la placa poco profunda entre las placas tectónicas en subducción y superiores.</a:t>
            </a:r>
            <a:r>
              <a:rPr b="0" lang="en-US" sz="1500" spc="-1" strike="noStrike">
                <a:solidFill>
                  <a:srgbClr val="000000"/>
                </a:solidFill>
                <a:latin typeface="Arial"/>
                <a:ea typeface="Arial"/>
              </a:rPr>
              <a:t> </a:t>
            </a:r>
            <a:endParaRPr b="0" lang="en-US" sz="1500" spc="-1" strike="noStrike">
              <a:solidFill>
                <a:srgbClr val="000000"/>
              </a:solidFill>
              <a:latin typeface="Arial"/>
            </a:endParaRPr>
          </a:p>
        </p:txBody>
      </p:sp>
      <p:sp>
        <p:nvSpPr>
          <p:cNvPr id="116"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8" descr="IRIS_TMlogo.png"/>
          <p:cNvPicPr/>
          <p:nvPr/>
        </p:nvPicPr>
        <p:blipFill>
          <a:blip r:embed="rId1"/>
          <a:stretch/>
        </p:blipFill>
        <p:spPr>
          <a:xfrm>
            <a:off x="239760" y="76320"/>
            <a:ext cx="903240" cy="927000"/>
          </a:xfrm>
          <a:prstGeom prst="rect">
            <a:avLst/>
          </a:prstGeom>
          <a:ln w="0">
            <a:noFill/>
          </a:ln>
        </p:spPr>
      </p:pic>
      <p:sp>
        <p:nvSpPr>
          <p:cNvPr id="118" name="TextBox 2"/>
          <p:cNvSpPr/>
          <p:nvPr/>
        </p:nvSpPr>
        <p:spPr>
          <a:xfrm>
            <a:off x="6845400" y="4830840"/>
            <a:ext cx="21049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imación explorando tectónica de placas y terremotos en la región del límite de placa Nazca- América del Sur</a:t>
            </a:r>
            <a:endParaRPr b="0" lang="en-US" sz="1400" spc="-1" strike="noStrike">
              <a:solidFill>
                <a:srgbClr val="000000"/>
              </a:solidFill>
              <a:latin typeface="Arial"/>
            </a:endParaRPr>
          </a:p>
        </p:txBody>
      </p:sp>
      <p:pic>
        <p:nvPicPr>
          <p:cNvPr id="119" name="" descr="">
            <a:hlinkClick r:id="" action="ppaction://media"/>
          </p:cNvPr>
          <p:cNvPicPr/>
          <p:nvPr>
            <a:videoFile r:link="rId2"/>
            <p:extLst>
              <p:ext uri="{DAA4B4D4-6D71-4841-9C94-3DE7FCFB9230}">
                <p14:media r:link="rId3"/>
              </p:ext>
            </p:extLst>
          </p:nvPr>
        </p:nvPicPr>
        <p:blipFill>
          <a:blip r:embed="rId4"/>
          <a:stretch>
            <a:fillRect/>
          </a:stretch>
        </p:blipFill>
        <p:spPr>
          <a:xfrm>
            <a:off x="378000" y="2743200"/>
            <a:ext cx="6400800" cy="3692520"/>
          </a:xfrm>
          <a:prstGeom prst="rect">
            <a:avLst/>
          </a:prstGeom>
          <a:ln w="0">
            <a:noFill/>
          </a:ln>
        </p:spPr>
      </p:pic>
      <p:sp>
        <p:nvSpPr>
          <p:cNvPr id="12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5 REGIÓN FRONTERIZA PERU-ECUADOR</a:t>
            </a:r>
            <a:br>
              <a:rPr sz="3500"/>
            </a:br>
            <a:r>
              <a:rPr b="1" lang="es-ES_tradnl" sz="1500" spc="-1" strike="noStrike">
                <a:solidFill>
                  <a:srgbClr val="11488b"/>
                </a:solidFill>
                <a:latin typeface="Arial"/>
                <a:ea typeface="Arial"/>
              </a:rPr>
              <a:t>Viernes, 22 de Febrero, 2019 a las 10:17: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9"/>
                    </p:tgtEl>
                  </p:cond>
                </p:stCondLst>
                <p:childTnLst>
                  <p:par>
                    <p:cTn id="3" nodeType="clickEffect" fill="hold">
                      <p:stCondLst>
                        <p:cond evt="onClick">
                          <p:tgtEl>
                            <p:spTgt spid="119"/>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video>
              <p:cMediaNode>
                <p:cTn/>
                <p:tgtEl>
                  <p:spTgt spid="119"/>
                </p:tgtEl>
              </p:cMediaNode>
            </p:video>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18" descr="IRIS_TMlogo.png"/>
          <p:cNvPicPr/>
          <p:nvPr/>
        </p:nvPicPr>
        <p:blipFill>
          <a:blip r:embed="rId1"/>
          <a:stretch/>
        </p:blipFill>
        <p:spPr>
          <a:xfrm>
            <a:off x="239760" y="76320"/>
            <a:ext cx="903240" cy="927000"/>
          </a:xfrm>
          <a:prstGeom prst="rect">
            <a:avLst/>
          </a:prstGeom>
          <a:ln w="0">
            <a:noFill/>
          </a:ln>
        </p:spPr>
      </p:pic>
      <p:sp>
        <p:nvSpPr>
          <p:cNvPr id="123" name="TextBox 7"/>
          <p:cNvSpPr/>
          <p:nvPr/>
        </p:nvSpPr>
        <p:spPr>
          <a:xfrm>
            <a:off x="380880" y="1114560"/>
            <a:ext cx="8434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mecanismo focal es la forma en que los sismólogos trazan las orientaciones tridimensionales del estrés de un terremoto. Dado que un terremoto se produce como deslizamiento en una falla, genera ondas primarias (P) en cuadrantes de compresión (sombreado) y extensión (blanco). La orientación de estos cuadrantes determinada a partir de ondas sísmicas registradas determina el tipo de falla que produjo el terremoto.</a:t>
            </a:r>
            <a:endParaRPr b="0" lang="en-US" sz="1600" spc="-1" strike="noStrike">
              <a:solidFill>
                <a:srgbClr val="000000"/>
              </a:solidFill>
              <a:latin typeface="Arial"/>
            </a:endParaRPr>
          </a:p>
        </p:txBody>
      </p:sp>
      <p:sp>
        <p:nvSpPr>
          <p:cNvPr id="124" name="TextBox 11"/>
          <p:cNvSpPr/>
          <p:nvPr/>
        </p:nvSpPr>
        <p:spPr>
          <a:xfrm>
            <a:off x="4038480" y="5381640"/>
            <a:ext cx="480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n este caso, el mecanismo focal indica que este terremoto ocurrió como consecuencia de fallas normales debajo del área occidental de Ecuador dentro de la subducción de la litosfera de la Placa de Nazca.</a:t>
            </a:r>
            <a:endParaRPr b="0" lang="en-US" sz="1600" spc="-1" strike="noStrike">
              <a:solidFill>
                <a:srgbClr val="000000"/>
              </a:solidFill>
              <a:latin typeface="Arial"/>
            </a:endParaRPr>
          </a:p>
        </p:txBody>
      </p:sp>
      <p:pic>
        <p:nvPicPr>
          <p:cNvPr id="125" name="Picture 4" descr=""/>
          <p:cNvPicPr/>
          <p:nvPr/>
        </p:nvPicPr>
        <p:blipFill>
          <a:blip r:embed="rId2"/>
          <a:stretch/>
        </p:blipFill>
        <p:spPr>
          <a:xfrm>
            <a:off x="3986280" y="4735440"/>
            <a:ext cx="4167000" cy="506520"/>
          </a:xfrm>
          <a:prstGeom prst="rect">
            <a:avLst/>
          </a:prstGeom>
          <a:ln w="0">
            <a:noFill/>
          </a:ln>
        </p:spPr>
      </p:pic>
      <p:pic>
        <p:nvPicPr>
          <p:cNvPr id="126" name="Picture 2" descr=""/>
          <p:cNvPicPr/>
          <p:nvPr/>
        </p:nvPicPr>
        <p:blipFill>
          <a:blip r:embed="rId3"/>
          <a:stretch/>
        </p:blipFill>
        <p:spPr>
          <a:xfrm>
            <a:off x="368280" y="2689200"/>
            <a:ext cx="2575080" cy="2244600"/>
          </a:xfrm>
          <a:prstGeom prst="rect">
            <a:avLst/>
          </a:prstGeom>
          <a:ln w="0">
            <a:noFill/>
          </a:ln>
        </p:spPr>
      </p:pic>
      <p:pic>
        <p:nvPicPr>
          <p:cNvPr id="127" name="Picture 2" descr=""/>
          <p:cNvPicPr/>
          <p:nvPr/>
        </p:nvPicPr>
        <p:blipFill>
          <a:blip r:embed="rId4"/>
          <a:stretch/>
        </p:blipFill>
        <p:spPr>
          <a:xfrm>
            <a:off x="3678120" y="2614680"/>
            <a:ext cx="4551480" cy="2050920"/>
          </a:xfrm>
          <a:prstGeom prst="rect">
            <a:avLst/>
          </a:prstGeom>
          <a:ln w="0">
            <a:noFill/>
          </a:ln>
        </p:spPr>
      </p:pic>
      <p:sp>
        <p:nvSpPr>
          <p:cNvPr id="12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5 REGIÓN FRONTERIZA PERU-ECUADOR</a:t>
            </a:r>
            <a:br>
              <a:rPr sz="3500"/>
            </a:br>
            <a:r>
              <a:rPr b="1" lang="es-ES_tradnl" sz="1500" spc="-1" strike="noStrike">
                <a:solidFill>
                  <a:srgbClr val="11488b"/>
                </a:solidFill>
                <a:latin typeface="Arial"/>
                <a:ea typeface="Arial"/>
              </a:rPr>
              <a:t>Viernes, 22 de Febrero, 2019 a las 10:17:22 UTC </a:t>
            </a:r>
            <a:endParaRPr b="0" lang="en-US" sz="1500" spc="-1" strike="noStrike">
              <a:solidFill>
                <a:srgbClr val="000000"/>
              </a:solidFill>
              <a:latin typeface="Arial"/>
            </a:endParaRPr>
          </a:p>
        </p:txBody>
      </p:sp>
      <p:sp>
        <p:nvSpPr>
          <p:cNvPr id="129" name="TextBox 8"/>
          <p:cNvSpPr/>
          <p:nvPr/>
        </p:nvSpPr>
        <p:spPr>
          <a:xfrm>
            <a:off x="430200" y="5397480"/>
            <a:ext cx="2797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El eje de tensión (T) refleja la dirección mínima del esfuerzo de compresión. El eje de presión (P) refleja la dirección máxima del esfuerzo de compresión.</a:t>
            </a:r>
            <a:endParaRPr b="0" lang="en-US" sz="1400" spc="-1" strike="noStrike">
              <a:solidFill>
                <a:srgbClr val="000000"/>
              </a:solidFill>
              <a:latin typeface="Arial"/>
            </a:endParaRPr>
          </a:p>
        </p:txBody>
      </p:sp>
      <p:sp>
        <p:nvSpPr>
          <p:cNvPr id="130" name="TextBox 11"/>
          <p:cNvSpPr/>
          <p:nvPr/>
        </p:nvSpPr>
        <p:spPr>
          <a:xfrm>
            <a:off x="239760" y="4981680"/>
            <a:ext cx="3119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Fase W Solución Tensor  Momento Sísmico, USG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536400" y="1371600"/>
            <a:ext cx="7959960" cy="5105520"/>
          </a:xfrm>
          <a:prstGeom prst="rect">
            <a:avLst/>
          </a:prstGeom>
          <a:ln w="0">
            <a:noFill/>
          </a:ln>
        </p:spPr>
      </p:pic>
      <p:sp>
        <p:nvSpPr>
          <p:cNvPr id="13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18" descr="IRIS_TMlogo.png"/>
          <p:cNvPicPr/>
          <p:nvPr/>
        </p:nvPicPr>
        <p:blipFill>
          <a:blip r:embed="rId2"/>
          <a:stretch/>
        </p:blipFill>
        <p:spPr>
          <a:xfrm>
            <a:off x="239760" y="76320"/>
            <a:ext cx="903240" cy="927000"/>
          </a:xfrm>
          <a:prstGeom prst="rect">
            <a:avLst/>
          </a:prstGeom>
          <a:ln w="0">
            <a:noFill/>
          </a:ln>
        </p:spPr>
      </p:pic>
      <p:sp>
        <p:nvSpPr>
          <p:cNvPr id="134" name="TextBox 4"/>
          <p:cNvSpPr/>
          <p:nvPr/>
        </p:nvSpPr>
        <p:spPr>
          <a:xfrm>
            <a:off x="3200400" y="2697120"/>
            <a:ext cx="48769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Después del terremoto, las ondas P de compresión se tardaron 10 minutos en recorrer una trayectoria curva a través del manto hasta Bend, Oregón.</a:t>
            </a:r>
            <a:endParaRPr b="0" lang="en-US" sz="1400" spc="-1" strike="noStrike">
              <a:solidFill>
                <a:srgbClr val="000000"/>
              </a:solidFill>
              <a:latin typeface="Arial"/>
            </a:endParaRPr>
          </a:p>
        </p:txBody>
      </p:sp>
      <p:sp>
        <p:nvSpPr>
          <p:cNvPr id="135" name="TextBox 7"/>
          <p:cNvSpPr/>
          <p:nvPr/>
        </p:nvSpPr>
        <p:spPr>
          <a:xfrm>
            <a:off x="1752480" y="903240"/>
            <a:ext cx="6629400" cy="77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registro del terremoto en Bend, Oregón (BNOR) es ilustrado en la parte inferior. Bend se encuentra a </a:t>
            </a:r>
            <a:r>
              <a:rPr b="0" lang="en-US" sz="1400" spc="-1" strike="noStrike">
                <a:solidFill>
                  <a:srgbClr val="000000"/>
                </a:solidFill>
                <a:latin typeface="Arial"/>
              </a:rPr>
              <a:t>6785</a:t>
            </a:r>
            <a:r>
              <a:rPr b="0" lang="es-ES" sz="1400" spc="-1" strike="noStrike">
                <a:solidFill>
                  <a:srgbClr val="000000"/>
                </a:solidFill>
                <a:latin typeface="Arial"/>
              </a:rPr>
              <a:t> km (4216 millas, 61.1°) de la ubicación del terremoto. </a:t>
            </a:r>
            <a:endParaRPr b="0" lang="en-US" sz="1400" spc="-1" strike="noStrike">
              <a:solidFill>
                <a:srgbClr val="000000"/>
              </a:solidFill>
              <a:latin typeface="Arial"/>
            </a:endParaRPr>
          </a:p>
        </p:txBody>
      </p:sp>
      <p:sp>
        <p:nvSpPr>
          <p:cNvPr id="136" name="TextBox 9"/>
          <p:cNvSpPr/>
          <p:nvPr/>
        </p:nvSpPr>
        <p:spPr>
          <a:xfrm>
            <a:off x="3403440" y="3714840"/>
            <a:ext cx="520416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as ondas S son ondas de corte que siguen el mismo camino a través del manto que las ondas P. Las ondas S se tardaron 18 minutos y 9 segundos en viajar del terremoto a Bend.</a:t>
            </a:r>
            <a:endParaRPr b="0" lang="en-US" sz="1400" spc="-1" strike="noStrike">
              <a:solidFill>
                <a:srgbClr val="000000"/>
              </a:solidFill>
              <a:latin typeface="Arial"/>
            </a:endParaRPr>
          </a:p>
        </p:txBody>
      </p:sp>
      <p:sp>
        <p:nvSpPr>
          <p:cNvPr id="137" name="TextBox 4"/>
          <p:cNvSpPr/>
          <p:nvPr/>
        </p:nvSpPr>
        <p:spPr>
          <a:xfrm>
            <a:off x="2666880" y="1717560"/>
            <a:ext cx="37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138" name="TextBox 11"/>
          <p:cNvSpPr/>
          <p:nvPr/>
        </p:nvSpPr>
        <p:spPr>
          <a:xfrm>
            <a:off x="4117320" y="17175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139" name="TextBox 9"/>
          <p:cNvSpPr/>
          <p:nvPr/>
        </p:nvSpPr>
        <p:spPr>
          <a:xfrm>
            <a:off x="3233880" y="4952880"/>
            <a:ext cx="373356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Usando el software jAmaSeis de IRIS,</a:t>
            </a:r>
            <a:r>
              <a:rPr b="0" lang="en-US" sz="1400" spc="-1" strike="noStrike">
                <a:solidFill>
                  <a:srgbClr val="000000"/>
                </a:solidFill>
                <a:latin typeface="Arial"/>
                <a:ea typeface="Arial"/>
              </a:rPr>
              <a:t> </a:t>
            </a:r>
            <a:r>
              <a:rPr b="0" lang="es-ES" sz="1400" spc="-1" strike="noStrike">
                <a:solidFill>
                  <a:srgbClr val="000000"/>
                </a:solidFill>
                <a:latin typeface="Arial"/>
                <a:ea typeface="Arial"/>
              </a:rPr>
              <a:t>los estudiantes pueden localizar rápidamente un terremoto</a:t>
            </a:r>
            <a:r>
              <a:rPr b="0" lang="en-US" sz="1400" spc="-1" strike="noStrike">
                <a:solidFill>
                  <a:srgbClr val="000000"/>
                </a:solidFill>
                <a:latin typeface="Arial"/>
                <a:ea typeface="Arial"/>
              </a:rPr>
              <a:t> </a:t>
            </a:r>
            <a:r>
              <a:rPr b="0" lang="es-ES" sz="1400" spc="-1" strike="noStrike">
                <a:solidFill>
                  <a:srgbClr val="000000"/>
                </a:solidFill>
                <a:latin typeface="Arial"/>
                <a:ea typeface="Arial"/>
              </a:rPr>
              <a:t>alineando la traza con una curva de tiempo de viaje.</a:t>
            </a:r>
            <a:endParaRPr b="0" lang="en-US" sz="1400" spc="-1" strike="noStrike">
              <a:solidFill>
                <a:srgbClr val="000000"/>
              </a:solidFill>
              <a:latin typeface="Arial"/>
            </a:endParaRPr>
          </a:p>
        </p:txBody>
      </p:sp>
      <p:sp>
        <p:nvSpPr>
          <p:cNvPr id="140" name="Rectangle 4"/>
          <p:cNvSpPr/>
          <p:nvPr/>
        </p:nvSpPr>
        <p:spPr>
          <a:xfrm>
            <a:off x="6781680" y="6116760"/>
            <a:ext cx="312840" cy="217440"/>
          </a:xfrm>
          <a:prstGeom prst="rect">
            <a:avLst/>
          </a:prstGeom>
          <a:solidFill>
            <a:srgbClr val="c8c8c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6" descr=""/>
          <p:cNvPicPr/>
          <p:nvPr/>
        </p:nvPicPr>
        <p:blipFill>
          <a:blip r:embed="rId3"/>
          <a:stretch/>
        </p:blipFill>
        <p:spPr>
          <a:xfrm>
            <a:off x="6954840" y="4521240"/>
            <a:ext cx="2049480" cy="2171520"/>
          </a:xfrm>
          <a:prstGeom prst="rect">
            <a:avLst/>
          </a:prstGeom>
          <a:ln w="0">
            <a:noFill/>
          </a:ln>
        </p:spPr>
      </p:pic>
      <p:sp>
        <p:nvSpPr>
          <p:cNvPr id="14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5 REGIÓN FRONTERIZA PERU-ECUADOR</a:t>
            </a:r>
            <a:br>
              <a:rPr sz="3500"/>
            </a:br>
            <a:r>
              <a:rPr b="1" lang="es-ES_tradnl" sz="1500" spc="-1" strike="noStrike">
                <a:solidFill>
                  <a:srgbClr val="11488b"/>
                </a:solidFill>
                <a:latin typeface="Arial"/>
                <a:ea typeface="Arial"/>
              </a:rPr>
              <a:t>Viernes, 22 de Febrero, 2019 a las 10:17: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1" descr=""/>
          <p:cNvPicPr/>
          <p:nvPr/>
        </p:nvPicPr>
        <p:blipFill>
          <a:blip r:embed="rId1"/>
          <a:stretch/>
        </p:blipFill>
        <p:spPr>
          <a:xfrm>
            <a:off x="6400800" y="5262480"/>
            <a:ext cx="2413080" cy="1281240"/>
          </a:xfrm>
          <a:prstGeom prst="rect">
            <a:avLst/>
          </a:prstGeom>
          <a:ln w="0">
            <a:noFill/>
          </a:ln>
        </p:spPr>
      </p:pic>
      <p:pic>
        <p:nvPicPr>
          <p:cNvPr id="145" name="Picture 1" descr=""/>
          <p:cNvPicPr/>
          <p:nvPr/>
        </p:nvPicPr>
        <p:blipFill>
          <a:blip r:embed="rId2"/>
          <a:stretch/>
        </p:blipFill>
        <p:spPr>
          <a:xfrm>
            <a:off x="709560" y="5337000"/>
            <a:ext cx="1200240" cy="1206720"/>
          </a:xfrm>
          <a:prstGeom prst="rect">
            <a:avLst/>
          </a:prstGeom>
          <a:ln w="0">
            <a:noFill/>
          </a:ln>
        </p:spPr>
      </p:pic>
      <p:sp>
        <p:nvSpPr>
          <p:cNvPr id="146"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rPr>
              <a:t>www.iris.edu/earthquake</a:t>
            </a:r>
            <a:endParaRPr b="0" lang="en-US" sz="1400" spc="-1" strike="noStrike">
              <a:solidFill>
                <a:srgbClr val="000000"/>
              </a:solidFill>
              <a:latin typeface="Arial"/>
            </a:endParaRPr>
          </a:p>
        </p:txBody>
      </p:sp>
      <p:pic>
        <p:nvPicPr>
          <p:cNvPr id="147" name="Picture 1" descr=""/>
          <p:cNvPicPr/>
          <p:nvPr/>
        </p:nvPicPr>
        <p:blipFill>
          <a:blip r:embed="rId3"/>
          <a:stretch/>
        </p:blipFill>
        <p:spPr>
          <a:xfrm>
            <a:off x="3672000" y="4971960"/>
            <a:ext cx="1935000" cy="1501920"/>
          </a:xfrm>
          <a:prstGeom prst="rect">
            <a:avLst/>
          </a:prstGeom>
          <a:ln w="0">
            <a:noFill/>
          </a:ln>
        </p:spPr>
      </p:pic>
      <p:sp>
        <p:nvSpPr>
          <p:cNvPr id="148" name="TextBox 9"/>
          <p:cNvSpPr/>
          <p:nvPr/>
        </p:nvSpPr>
        <p:spPr>
          <a:xfrm>
            <a:off x="709560" y="773280"/>
            <a:ext cx="797724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un servicio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s-VE" sz="1800" spc="-1" strike="noStrike">
                <a:solidFill>
                  <a:srgbClr val="000000"/>
                </a:solidFill>
                <a:latin typeface="Arial"/>
              </a:rPr>
              <a:t>Educación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or favor enviar comentarios a </a:t>
            </a:r>
            <a:r>
              <a:rPr b="0" lang="es-VE" sz="1800" spc="-1" strike="noStrike" u="sng">
                <a:solidFill>
                  <a:srgbClr val="0000ff"/>
                </a:solidFill>
                <a:uFillTx/>
                <a:latin typeface="Arial"/>
                <a:hlinkClick r:id="rId4"/>
              </a:rPr>
              <a:t>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ara recibir notificaciones automáticas de nuevos Momentos de enseñanzas suscribirse en </a:t>
            </a:r>
            <a:r>
              <a:rPr b="0" lang="es-VE" sz="1800" spc="-1" strike="noStrike" u="sng">
                <a:solidFill>
                  <a:srgbClr val="0000ff"/>
                </a:solidFill>
                <a:uFillTx/>
                <a:latin typeface="Arial"/>
                <a:hlinkClick r:id="rId5"/>
              </a:rPr>
              <a:t>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 Alfredo Bravo Bustamante</cp:lastModifiedBy>
  <cp:lastPrinted>2013-04-07T18:50:57Z</cp:lastPrinted>
  <dcterms:modified xsi:type="dcterms:W3CDTF">2019-02-24T05:28:16Z</dcterms:modified>
  <cp:revision>737</cp:revision>
  <dc:subject/>
  <dc:title>Slide 1</dc:title>
</cp:coreProperties>
</file>